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A019-145E-49CF-A095-CFD071E535F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3077-AB0F-4627-9685-2D429F5C92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C2FF-80F1-46E4-A5B1-A3CF49329A8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9788-0D72-467C-93BB-4FAD97C5CF1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3ECF-31A2-4EEC-B5EB-A3161E37638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F14D-4D78-47ED-9C61-01F295F4A61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864E-2CD0-4AC2-AF85-AF2439B27CD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F8FB-8B1E-43B8-A405-69E479EF39A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AC82-985D-4CE1-98B8-9071B40428D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3627-7D69-4B6D-B2D0-F3D2AB0574C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CFAD-822F-4F07-8B86-5E89E56DABE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4378-123C-4281-A5CF-AA67F6DC742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5436-C664-44E2-9C5A-791AC8521F6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71FF-6D4E-4C9B-8F18-3930C61F525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1717-AEAA-45D2-ADFA-33DC86B9121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CD23-B971-4986-A3F9-C474C9712CE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F9CD-A520-483F-9C12-202B6CB624B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D3C9-29E6-4E09-8EF1-2D9DC879453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EE3E-66A3-44DE-A736-8F0E60260D6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CC9E-336F-47D5-9BBF-047B0EFB6C2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8F66-424E-445F-9278-F33B8996E4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617E-4B4D-4A4D-9D26-10F4E880177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A8B3-4E35-4426-8114-FC9C68A6A06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8C77-A273-4B5D-981F-681EA8A2976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18B6-DBF3-4E48-890D-B96BB188414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2570-7D9F-417E-B7D8-A8D9053F571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998A-DDB5-4BA4-80D9-4BA3EE9C038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421D-1E10-4A08-832E-4F7CB38D3DB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E205-9234-41D6-882F-41D76199123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0E80-9FA3-4EDF-919E-F4D1DBAD167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2228-2D72-4583-BADC-290815F0A55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8E49-0347-4B4D-80A4-0F6174FAFA2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1CB9-F15E-4CE0-A833-7B6EB8FD486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76E6-B0A8-444B-A415-2A7552E7299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B66D-11CF-4DD2-BD54-EAE531071AF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322D-3145-456D-AFB1-5655696AA92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D07-3375-4B8A-8CCB-057F0022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BFD-5E01-4080-A3E3-F6C7F317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04B-FC36-4FE0-93FF-A67C513C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E8E2-C1F9-4587-9419-EE5E7779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76E2-E32D-4CE9-B1BF-3591B5BC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DF3E-E8F5-44AA-AB79-99C270BD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F089-7D2F-4807-B833-72F00B61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DF6E-C59E-493E-A760-D7A83980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0CBE-ECEF-42F7-ACB4-4A1F665D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71D6-92E4-4437-8E8E-0AB9252C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38FD-C0F8-49F9-BE1B-807E874A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234-CAD2-49D1-998C-FA2131EE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39AF-645A-4665-AA54-E973EC69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6C7C-FAC8-4C79-AE1D-EAF4F734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59A7-3A04-461E-9C30-BB368F51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B5A0-E359-471A-90E2-E6D32B5B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6D0C-A244-4957-8EDA-A867524D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BD0-4297-4A24-A80E-06741BD0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38C-B375-4CB8-9428-6E22B4E8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3DF-6174-4A67-A09C-CEF0DBF2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583-BD74-4907-AE77-4C7320BF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E31-987B-47F6-897B-91C4EC5B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0EB-43BF-4C52-A8C3-2FC4ECB8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9490-2772-429B-9E33-005A4CD7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3A20-C079-4A16-9472-1B33FFBB9C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5931-5A78-4D71-8145-C7917F9D27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Witamin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Kwas pantoteno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ierze udział w syntezie białek, węglowodanów oraz tłuszcz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brze wpływa na napięcie skóry oraz jej pigmentacj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j obecność reguluję pracę układu naczyniowego zapobiegając przemęczeni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stępuje w wątrobie, mleku, rybach, pestkach słonecznika, pomarańczach i Yerba 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MP900422363[1]"/>
          <p:cNvPicPr/>
          <p:nvPr/>
        </p:nvPicPr>
        <p:blipFill>
          <a:blip r:embed="rId1"/>
          <a:stretch/>
        </p:blipFill>
        <p:spPr>
          <a:xfrm>
            <a:off x="6227640" y="260280"/>
            <a:ext cx="262728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Pirydoksy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a wpływ na układ krążenia (reguluję racę serca, wpływa na ciśnienie krwi) oraz na wchłanianie magne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czestniczy w metabolizmie aminokwas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pływa łagodząco na zespół napięcia przedmiesiączkow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stotna dla przekazywania impulsów między komórkami nerwowy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j źródłem są ryby, jaja, warzywa skrobiowe, produkty pełnozbożowe i ban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MP900177942[1]"/>
          <p:cNvPicPr/>
          <p:nvPr/>
        </p:nvPicPr>
        <p:blipFill>
          <a:blip r:embed="rId1"/>
          <a:stretch/>
        </p:blipFill>
        <p:spPr>
          <a:xfrm>
            <a:off x="6227640" y="333360"/>
            <a:ext cx="25495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Kwas foliowy, witamina M, witamina B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yntetyzowany jest przez bakterie jelit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lecane jest jej przyjmowanie szczególnie kobietom spodziewającym się dziecka, aby zapobiec uszkodzeniu cewy nerwowej u noworod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guluje funkcjonowanie układu pokarmow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a działanie antykancerogenne oraz wpływa na dojrzewanie krwinek w szpiku kost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ażna w tworzeniu kwasów nukleinow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stępuje także z zielonych warzywach, żółtku jaj, drożdżach i morel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MP900144270[1]"/>
          <p:cNvPicPr/>
          <p:nvPr/>
        </p:nvPicPr>
        <p:blipFill>
          <a:blip r:embed="rId1"/>
          <a:stretch/>
        </p:blipFill>
        <p:spPr>
          <a:xfrm>
            <a:off x="7164360" y="0"/>
            <a:ext cx="16257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Kobalam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erze udział w procesach krwiotwórczych w szpiku kost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uje działanie układu nerwow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erze udział w metabolizmie tłuszczów, białek, węglowodanów, a także w syntezie kwasów nuklein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żna przy tworzeniu nowych komórek i przekazywaniu do nich informacji genetyczn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że syntetyzowana przez florę jelitową. Oprócz tego bogate w tę witaminę są nabiał, nerki, wątroba i mię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MP900424401[1]"/>
          <p:cNvPicPr/>
          <p:nvPr/>
        </p:nvPicPr>
        <p:blipFill>
          <a:blip r:embed="rId1"/>
          <a:stretch/>
        </p:blipFill>
        <p:spPr>
          <a:xfrm>
            <a:off x="6877080" y="0"/>
            <a:ext cx="1477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Kwas askorbino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 ma wpływu na ryzyko pojawienia się przeziębienia w zwykłych warunk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rzystnie wpływ na stan jamy ustnej, zębów i dziąse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spomaga proces gojenia się 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uje zdolność organizmu do przyswajania żela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j źródłem jest kiszona kapusta, cytrusy, porzeczka, natka pietruszki i truskaw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MP900387874[1]"/>
          <p:cNvPicPr/>
          <p:nvPr/>
        </p:nvPicPr>
        <p:blipFill>
          <a:blip r:embed="rId1"/>
          <a:stretch/>
        </p:blipFill>
        <p:spPr>
          <a:xfrm>
            <a:off x="6300720" y="333360"/>
            <a:ext cx="251928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Kalcyf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st wytwarzana w skórze pod wpływem promieniowania U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uje proces wchłaniania wapnia, potasu i fosf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powiedzialna za właściwy rozwój kości i zęb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j źródłem jest nabiał, ryby i wątrob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MP900424387[1]"/>
          <p:cNvPicPr/>
          <p:nvPr/>
        </p:nvPicPr>
        <p:blipFill>
          <a:blip r:embed="rId1"/>
          <a:stretch/>
        </p:blipFill>
        <p:spPr>
          <a:xfrm>
            <a:off x="6227640" y="333360"/>
            <a:ext cx="25560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ff"/>
                </a:solidFill>
                <a:latin typeface="Calibri"/>
              </a:rPr>
              <a:t>Tokof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zywana „witaminą młodości”, ponieważ ma silne właściwości przeciwutleniające oraz wpływa na właściwy stan błon komórk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pływa także na odpowiednie funkcjonowanie układu krąż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stępuje w nabiale, kiełkach pszenicy, zielonych warzywach i razowym pieczyw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MP900448293[1]"/>
          <p:cNvPicPr/>
          <p:nvPr/>
        </p:nvPicPr>
        <p:blipFill>
          <a:blip r:embed="rId1"/>
          <a:stretch/>
        </p:blipFill>
        <p:spPr>
          <a:xfrm>
            <a:off x="6877080" y="0"/>
            <a:ext cx="15159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iotyna, witamina B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czestniczy w wytwarzaniu kwasów tłuszcz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powiedzialna za właściwy stan włosów, skóry i pazno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warta w drożdżach, jajach, wątrobie, orzechach, czekoladzie i pomidor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MP900400597[1]"/>
          <p:cNvPicPr/>
          <p:nvPr/>
        </p:nvPicPr>
        <p:blipFill>
          <a:blip r:embed="rId1"/>
          <a:stretch/>
        </p:blipFill>
        <p:spPr>
          <a:xfrm>
            <a:off x="6804000" y="0"/>
            <a:ext cx="17049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ilochin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ytwarzana przez florę jelitow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j główna rola polega na regulowaniu procesów krzepnięcia krw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pływa także na budowę tkanki kostn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j źródłem są głównie zielone warzywa, wątroba zwierzęca i rośliny strączk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MP900448460[1]"/>
          <p:cNvPicPr/>
          <p:nvPr/>
        </p:nvPicPr>
        <p:blipFill>
          <a:blip r:embed="rId1"/>
          <a:stretch/>
        </p:blipFill>
        <p:spPr>
          <a:xfrm>
            <a:off x="6372360" y="333360"/>
            <a:ext cx="23875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Niacyna, kwas nikotynowy, witamin B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zbędna do prawidłowego działania mózg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wiązana z wytwarzaniem hormonów płci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maga utrzymać właściwy poziom cholesterolu, a także wspomaga spalanie węglowodanów i tłuszczów w organizm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żna dla naprawy uszkodzonych informacji genety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ystępuje w wątrobie zwierzęcej, nabiale, mięsie, zielonych warzywach i ziemniak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MP900426575[1]"/>
          <p:cNvPicPr/>
          <p:nvPr/>
        </p:nvPicPr>
        <p:blipFill>
          <a:blip r:embed="rId1"/>
          <a:stretch/>
        </p:blipFill>
        <p:spPr>
          <a:xfrm>
            <a:off x="6516720" y="189000"/>
            <a:ext cx="223200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zęść pierwsz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Co to są witamin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Podział wita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harakterystyka poszczegól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amin oraz ich wpływ 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m człowie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zęść drug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2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tki niedoboru wita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MP900448418[1]"/>
          <p:cNvPicPr/>
          <p:nvPr/>
        </p:nvPicPr>
        <p:blipFill>
          <a:blip r:embed="rId1"/>
          <a:stretch/>
        </p:blipFill>
        <p:spPr>
          <a:xfrm>
            <a:off x="5651640" y="1341360"/>
            <a:ext cx="2976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niec części pierwszej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zęść dru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tki niedoboru wita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zienne zapotrzebowanie na witaminę A to ok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 m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połowy surowej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rchew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ub ok. 30 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dobór tej witaminy powoduje tzw. kurzą ślepotę, a także łuszczenie się naskórka oraz powtarzające się infekc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zienne zapotrzebowanie na witaminę B1 to ok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,2 m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300 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łatków owsiany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ub 1 k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leb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Zapotrzebowanie wzrasta u kobiet karmiących piersią oraz przy wzmożonym wysiłku fizyczny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dobór tej witaminy powoduje osłabienie mięśni i degenerację stawów, a także zaburzenia krążenia. Brak tej witaminy może prowadzić również do zachorowań na chorobę beri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ri, której skutkiem jest porażenie i zanik mięśn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zienne zapotrzebowanie na witaminę B2 to ok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,5 m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ok. 50 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ub wypicie 1 litr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lek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dobór tej witaminy powoduje łojotokowe zapalenie skóry, powstawanie zajadów, a także nadwrażliwość na światło połączone z zapaleniem spojów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zienne zapotrzebowanie na witaminę B5 to ok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 m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350 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ąki sojowej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ub ok. 100 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dobór tej witaminy powoduje zaburzenia czucia, przedwczesne siwienie, problemy z koncentracją i zmęczenie. Brak tej witaminy może prowadzić do uszkodzenia nadnercz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enne zapotrzebowanie na witaminę B6 to ok.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1,6 mg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ok. 300 g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lub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krel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dobór tej witaminy powoduje zaburzenia układu nerwowego (np. drgawki), matowienie skóry, zmęczenie i rozdrażnienie, a także stany zapalne skóry i objawy anem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enne zapotrzebowanie na witaminę B11 to ok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0,3 mg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800 g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ielonych warzyw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lub ok. 200 g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dobór tej witaminy powoduje wrodzone wady płodu (np. rozszczep kręgosłupa), zwiększa ryzyko poronienia oraz chorób sercowo-naczyniowych, jest przyczyną zaburzeń w układzie pokarmowy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enne zapotrzebowanie na witaminę B12 to ok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µ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ok. 30 g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lub 50 g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yb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 Jest magazynowana w wątrobie, a na jej niedobory narażone są w zasadzie wyłącznie osoby ściśle stosujące się do zasad diety wegetariański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dobór tej witaminy powoduje anemię oraz uszkodzenia układu nerwowego, takie jak stwardnienie rozsia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zienne zapotrzebowanie na witaminę C to ok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 m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1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zerwonej papry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ub 20 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zarnej porzecz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dobór tej witaminy jest przyczyną zachorowania na szkorbut (choroby dziąseł), obniżenia odporności organizmu, pękania naczyń krwionośnych i niewłaściwego zrastania się kości w przypadku uraz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zęść pierws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enne zapotrzebowanie na witaminę D to ok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µ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dla dorosłego człowieka. Zapotrzebowanie to jest na tyle małe, że prawie w pełni zaspokaja je nasłonecznienie. Nagromadzona w organizmie witamina D jest wykorzystywana w okresach jej mniejszej produk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dobów tej witaminy powoduje krzywicę, a także wypadanie zębów, powiększenie stawów i osłabienie mięśn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enne zapotrzebowanie na witaminę E to ok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12 mg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m.in. 200 g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kiełków pszen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dobór tej witaminy wpływa na zwiększenie ryzyka poronienia, dystrofie mięśniowe i zaburzenia płodności. Może powodować także zaburzenia wzrostu oraz ogólne zmęczenie i osłabie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enne zapotrzebowanie na witaminę H to ok.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80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dla dorosłego człowieka.  Jest produkowana przez mikroflorę jelitow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dobór tej witaminy powoduje wypadanie włosów, rozdwajanie paznokci, przetłuszczanie skóry, a także wpływa na podwyższony poziom cholesterolu we krw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enne zapotrzebowanie na witaminę K to ok.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70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dla dorosłego człowieka. Jest ono na tyle małe, że pokrywane jest całkowicie podczas stosowania normalnej, zdrowej diety, w której obecne są warzywa ziel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dobór tej witaminy powoduje zaburzenia procesu krzepnięcia krwi oraz krwawi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zienne zapotrzebowanie na witaminę PP to ok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7 m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la dorosłego człowieka. Ilość tę zapewnia zjedzenie 0,5 k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ęs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ub ok. 100 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ątrób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dobór tej witaminy powoduje stany zapalne skóry, biegunki, zaburzenia psychiczne. Brak tej witaminy jest także przyczyną zachorowania na pelagr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o to są witam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zwa witamina pochodzi z języka łacińskiego. </a:t>
            </a:r>
            <a:r>
              <a:rPr b="0" i="1" lang="pl-PL" sz="2800" spc="-1" strike="noStrike">
                <a:solidFill>
                  <a:srgbClr val="00cc00"/>
                </a:solidFill>
                <a:latin typeface="Calibri"/>
              </a:rPr>
              <a:t>Vit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oznacza życie, natomiast </a:t>
            </a:r>
            <a:r>
              <a:rPr b="0" i="1" lang="pl-PL" sz="2800" spc="-1" strike="noStrike">
                <a:solidFill>
                  <a:srgbClr val="00cc00"/>
                </a:solidFill>
                <a:latin typeface="Calibri"/>
              </a:rPr>
              <a:t>amin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odnosi się do grupy aminowej, którą posiadała pierwsza odkryta witamina – B1. Dokonał tego polski uczony – Kazimierz Funk – na początku XX wie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itaminy są grupą organicznych związków chemicznych niezbędnych do prawidłowego funkcjonowania organizmów żyw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ełnią funkcje regulacyjne – uczestniczą w procesach metabolicznych jako koenzy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ganizm człowieka potrzebuje ich niewielką ilość, ale ponieważ nie potrafi ich sam wytworzyć, należy je dostarczać wraz z pożywieni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611280" y="333360"/>
            <a:ext cx="784836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Podział witam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aminy dzielimy na dwie grupy: rozpuszczalne w tłuszczach i rozpuszczalne w wodz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itaminy rozpuszczalne w tłuszcza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, D, E, 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itaminy te mogą być gromadzone w organizmach żywych, szczególnie w tkance tłuszczowej i wątrobie. Należy pamiętać, że nadmiar niektórych witamin także 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 jest zdrow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prowadzi do tzw. hiperwitaminoz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itaminy rozpuszczalne w wodzi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taminy grupy B, 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e witaminy są szybko wypłukiwane z organizmów żywych i aby zachować zdrowie należy ich ciągle dostarczać w niewielkich ilości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11280" y="333360"/>
            <a:ext cx="784836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 Charakterystyka poszczególnych witam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aminy dostarczane są do organizmów żywych w różny sposób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 pokarmem jako witaminy (mogą być składnikami pożywienia lub dostarczane jako syntetyczne suplementy die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ko prowitaminy, czyli związki, które w organizmach są przekształcane w witam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tezowane przez florę bakteryjną jel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11280" y="260280"/>
            <a:ext cx="7848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Retinol, akseroft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ażna dla odbierania bodźców wzrokowych, ponieważ jej pochodna wchodzi w skład rodopsyny, odpowiedzialnej za wrażliwość pręcików oka na światł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guluje i wspomaga właściwe funkcjonowanie tkanki nabłonkowej i skó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ełni funkcję regulacyjną w tkance kostn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Źródłem witaminy A jest wątroba zwierzęca, a także marchew, brokuł, dynia, nabia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MP900387875[1]"/>
          <p:cNvPicPr/>
          <p:nvPr/>
        </p:nvPicPr>
        <p:blipFill>
          <a:blip r:embed="rId1"/>
          <a:stretch/>
        </p:blipFill>
        <p:spPr>
          <a:xfrm>
            <a:off x="6156360" y="189000"/>
            <a:ext cx="27367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iam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uje przemianę węglowodanów w organizmie (a więc pozyskiwanie energ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pływa pozytywnie na gojenie się ran, a także ma właściwości przeciwból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żna jest dla prawidłowego wzrostu, karmienia piersią oraz płodnośc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ecna m.in. w otrębach zbożowych, roślinach strączkowych, orzechach i wątrobie zwierzęc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9" descr="MP900313734[1]"/>
          <p:cNvPicPr/>
          <p:nvPr/>
        </p:nvPicPr>
        <p:blipFill>
          <a:blip r:embed="rId1"/>
          <a:stretch/>
        </p:blipFill>
        <p:spPr>
          <a:xfrm>
            <a:off x="6084720" y="333360"/>
            <a:ext cx="28432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a B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Ryboflaw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pływa pozytywnie na działanie układu nerwow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rawia działanie błon śluzowych, a także współuczestniczy w tworzeniu hemoglob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zięki jej obecności dochodzi do szybszego gojenia się 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j źródłem są ryby, nabiał, a także zielone warzywa, grzyby i kaw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MP900407089[1]"/>
          <p:cNvPicPr/>
          <p:nvPr/>
        </p:nvPicPr>
        <p:blipFill>
          <a:blip r:embed="rId1"/>
          <a:stretch/>
        </p:blipFill>
        <p:spPr>
          <a:xfrm>
            <a:off x="6948360" y="260280"/>
            <a:ext cx="1555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8-24T14:40:15Z</dcterms:modified>
  <cp:revision>44</cp:revision>
  <dc:subject/>
  <dc:title>Slajd 1</dc:title>
</cp:coreProperties>
</file>