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01A3-9A4F-44E2-BCF0-104411A2D9D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2DDE-ABF6-45B9-8D79-8BE4A98B81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E494-8093-48EA-B417-DCCC23CC037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AD1-87B1-4DAE-863D-30C50AD7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31F-802D-4315-A528-3A292E26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D42-A961-4161-8524-4A249CFF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066-734C-4E1A-AAAC-F1EF9184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B6A3-FAAF-4DA4-9C3E-9CEEDA29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4D91-F422-4585-BDF5-73C78556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615D-7C65-4A7A-BF62-B283557E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22DB-F748-4947-AB13-0FBC2558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EA30-FD85-4633-9123-B7C1309F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BDEA-03C1-4AFC-8D61-64BC5A12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8FA0-40C8-494C-8043-9A54EF81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836-4845-4903-98A1-71F3D33D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E2FA-1AFD-4410-9998-42296E0E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A19D-3B90-48D8-B27E-A61ECCE3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1624-0BA4-4FEC-9E69-94771B1C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EFEA-9C37-40BB-9C27-824B5846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FBBB-C751-4AF5-8399-3C2D86B9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03E-5BA0-4119-BE2A-543A2728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470-AD5A-4415-ADB3-B30DC6FB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672-78CE-4DD8-A018-B75F6397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048-B845-474B-BDD7-54C43679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B96-1BAD-423C-A0B9-D7752652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498-AA33-4E12-AAE9-E87DA298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024-2AF2-4B3F-9B32-8BA7CA30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38FE-2E29-44D8-8F6B-4D5777E9A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1012-81B6-4E5D-9BCA-53B4871EB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Procesy chemiczne zachodzące podczas wysiłku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iecałkowite spal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dy ilość tlenu jest niewystarczająca, spalanie glukozy zaczyna przebiegać w formie niecałkowitej. Tworzony jest wówczas także kwas mlekowy, ale nie ulega on przekształceniu w kwas cytrynowy, tylko zaczyna odkładać się w mięśni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COO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5516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oraz wyższe stężenie kwasu mlekowego w mięśniach powoduje uczucie bólu. Dochodzi do tego w trakcie zbyt intensywnego wysił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ff"/>
                </a:solidFill>
                <a:latin typeface="Calibri"/>
              </a:rPr>
              <a:t>Co dzieje się z nagromadzonym w mięśniach kwasem mlekowy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was mlekowy jest stosunkowo szybko usuwany z mięśni za pośrednictwem układu krwionośnego. Po przetransportowaniu go do wątroby i nerek staje się substratem w procesi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lukogenez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czyli powstawania glukozy. Ta nowopowstała glukoza jest rozprowadzana po organizmie i powtórnie może służyć za źródło ener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ykl przemian metabolicznych kwasu mlekowego został odkryty przez małżeństwo Gretę i Carla Cori, którzy otrzymali nagrodę Nobla. Od ich nazwiska cykl tych przemian nosi nazwę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yklu Corich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was mlek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was mlekowy zostaje prawie całkowicie usunięty z mięśni po ok. 2 godzinach od zaprzestania wysiłku fizyczn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-352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st stosowany w przemyśle spożywcz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az chemicznym. To jemu zawdzięczam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yficzny smak kiszonych ogórkó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kapus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-352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was mlekowy oddziałuje pobudzająco na komary, z tego względu osoby w trakcie wysiłku fizycznego są bardziej narażone na ich ukąsze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2421000"/>
            <a:ext cx="1784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kwa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 należy łączyć ze sobą nagromadzenia kwasu mlekowego w mięśniach i tzw. zakwasów, czyli bólu mięśni występującego ok. 20 godzin po wzmożonym wysiłku fizycz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ól ten jest wynikiem drobnych zniszczeń w strukturze tkanki mięśniowej i nazywany jes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espołem opóźnionego bólu mięśnioweg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DOM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ysiłek fiz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 się dzieje w trakcie wysiłku fizy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kie są długofalowe skutki wysiłku fizy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miany zachodzące w mięśni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łkowite spalanie gluko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całkowite spalanie gluko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akw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Wysiłek fizy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iedzeni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„sport to zdrowi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ie jest pustym sloganem. Przypomnij sobie maratończyka podczas biegu, zapaśnika w walce lub pływaka kończącego swój dystans na basen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zy potrafisz wymienić zmiany, jakie zachodzą w ich organizmach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 czym można poznać, że ktoś jest w trakcie lub tuż po wzmożonym wysiłku fizyczny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404640"/>
            <a:ext cx="74901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 trakcie wysiłku fizyczn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zmożone wydzielane po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zyspieszony odd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mieńce na twar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zyspieszone tęt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43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utki długofal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ększy pobór tlenu dzięki zwiększeniu ilości krw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mniejszenie ilości skurczów ser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zrost masy mięśn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rawa przepływu krwi przez serce w wyniku zwiększenia jego objęto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utki długofal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zrost stężenia antyoksydant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ększa wentylacja pł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dek zmęcz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większenie liczby kapilar w mięśniach szkieletowych (lepsza wymiana gazowa i metabolicz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ększa odporność organiz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Symbol zastępczy tekstu 2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Zmiany zachodzące w mięśni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y móc wykonywać ruch, a więc być aktywnym fizycznie, człowiek używa siły mięś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ęśnie z kolei potrzebują energii, aby móc wykonywać prac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ia niezbędna mięśniom pochodzi z procesu spalania glukozy, czyli cukru prostego będącego podstawowym związkiem energetycznym dla większości organiz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04640"/>
            <a:ext cx="8064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l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 spalania zakłada obecność utleniacza. Najpopularniejszym z nich jest tlen zawarty w powietr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lanie glukozy jest procesem, dzięki któremu mięśnie zyskują energię, którą zamieniają w ru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przypadku, gdy do mięśni dostarczana jest wystarczająca ilość tlenu, spalanie glukozy zachodzi w sposób komplet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6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+ 6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ten sposób spalana jest glukoza przy wystarczającej ilości tlenu. Produktem pośrednim tych przemian jest kwas mlekowy, ale jest on szybko przekształcany w kwas cytrynowy, a dalej w wodę i dwutlenek węg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2421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4-29T20:03:27Z</dcterms:modified>
  <cp:revision>15</cp:revision>
  <dc:subject/>
  <dc:title>Slajd 1</dc:title>
</cp:coreProperties>
</file>