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2635-9CA1-4C0F-B084-BC6FBEC794D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3A45-8657-4A83-ABD6-1ED944140C0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FD3F-9CD0-4B5A-8C45-31FC2C5F060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9419-F406-4BE5-A2FF-C5E4C80F28C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979B-9085-47E4-8DCC-00A18DD0298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wnętrzna warstwa mózgu to pień mózgu. Pobudza najbardziej podstawowe czynności organizmu, jak oddychanie czy krążeni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Środkowa warstwa mózgu, to układ limbiczny. Odpowiada za to, co przeżywam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ewnętrzna, czyli kora, to nasze przemyślane działa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6DEB-44A5-4D5D-A23B-AFDAD62B16D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ło emocji skonstruował w 1980 roku amerykański psycholog Roberta Plutchik – schemat obejmuje 8 emocji podstawowych (gniew, strach, smutek, obrzydzenie, zaskoczenie, przewidywanie, zaufanie i radość). Emocje te pozwalają definiować emocje złoż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D2FE-BBCF-4917-AED6-B1A2154B2C3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kład limbiczny w całości uważany jest za zespół ośrodków, kontrolujących zachowania emocjonalne. Środkowa warstwa mózgu złożona jest z wielu elementów m.in.: wzgórza, przez które przechodzą wszystkie docierające do nas wrażenia, ciała migdałowatego, które uruchamia reakcję emocjonaln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odźce pochodzące z układu limbicznego powodują aktywizację innej części mózgu – podwzgórza, które zawiera ważne ośrodki kierujące reakcjami emocjonalnym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wne zespoły zachowania, charakterystyczne dla takich stanów jak lęk i gniew można wywołać drażniąc określone części podwzgórza. U zwierząt pozbawionych kory mózgu, z zachowanym podwzgórzem, występują, nawet pod wpływem minimalnych bodźców, zespoły zmian somatycznych i wegetatywnych, charakterystycznych dla gwałtownych stanów emocjonalnych. Napady te nie pojawiają się, jeśli wraz z korą mózgu zostanie usunięte podwzgórze. U chorych z zespołami podwzgórzowymi stwierdza się często zmienność nastroju i nadmierną drażliwość. Ponadto mogą występować napady przymusowego płaczu lub śmiechu jak również napady nieuzasadnionej wściekłośc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9B52-F39C-441F-93DD-DDA180CBE55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8C17-3E72-4A5A-B8BE-B514B2C2251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0399-B97F-4DBA-93A0-CC406C8B575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2349-82F1-47C6-9FC4-E1786398C4C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2029-B82F-453E-A961-FB1489E4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43F7-4C8E-447F-A124-9D5BC0A3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212-2476-405F-BAC5-FC429DDF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EBDC-8D85-48D3-B5C9-D93297B0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8C66-B285-4E21-98F0-8D4E9FE6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B018-23C6-4B4C-BEEA-7B25BD19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F150-C808-4B7E-95F2-B7FE5E20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2566-B45A-4B9D-BC74-7E87F3E2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7C1F-6EE2-469B-A041-09FC03EF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25F6-B880-40E8-ADB1-AEFB2B9F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7CE2-6F3A-49E1-B97F-334A296F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985B-179A-4AAE-BC8F-0608484F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053B-2E46-46CD-893A-A9B6B17F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9AF5-C235-4317-A4CD-E15A5364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6A76-26B4-4CAB-B9E4-DF66E66B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3F97-1BAB-423F-82AA-5E61C094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851C-A931-4E53-98CB-C95D7A1B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0E7-96FC-449F-AAA5-AD09341C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034-EEEA-4C74-A044-D21D9574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C2BE-885E-4F92-A7DD-16070BAB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ED3A-6949-48FF-A704-1144E525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E7A4-9C5B-43D9-B6B3-AA8BD229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37D-3C8A-45A8-A389-CA7D6562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020B-4215-4DE3-8BDA-64880A37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0D08-8ACF-4E1E-A402-685DE7F720B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F84F-0EBE-41C4-9CAE-6C731D9A2AF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zdrowymozg.pl/wp-content/uploads/2013/03/brain_by_kanasta1975-d4nus66.pn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ytuł 1"/>
          <p:cNvSpPr/>
          <p:nvPr/>
        </p:nvSpPr>
        <p:spPr>
          <a:xfrm>
            <a:off x="1187280" y="1125360"/>
            <a:ext cx="7345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c00000"/>
                </a:solidFill>
                <a:latin typeface="Calibri"/>
              </a:rPr>
              <a:t>Wyrażanie emocji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http://fc04.deviantart.net/fs71/i/2012/339/f/2/face_emotions_study_by_robedirobrob-d5n59lj.jpg"/>
          <p:cNvPicPr/>
          <p:nvPr/>
        </p:nvPicPr>
        <p:blipFill>
          <a:blip r:embed="rId1"/>
          <a:stretch/>
        </p:blipFill>
        <p:spPr>
          <a:xfrm>
            <a:off x="1116000" y="2133720"/>
            <a:ext cx="64944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000000"/>
                </a:solidFill>
                <a:latin typeface="Calibri"/>
              </a:rPr>
              <a:t>Dziękuję za uwagę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rostokąt 1"/>
          <p:cNvSpPr/>
          <p:nvPr/>
        </p:nvSpPr>
        <p:spPr>
          <a:xfrm>
            <a:off x="395280" y="333360"/>
            <a:ext cx="828036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66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▪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ózg człowie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▪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arstwy mózg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▪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ło emo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▪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ęści mózgu odpowiedzialne za emoc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▪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▪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ytuł 1"/>
          <p:cNvSpPr/>
          <p:nvPr/>
        </p:nvSpPr>
        <p:spPr>
          <a:xfrm>
            <a:off x="4716360" y="3908520"/>
            <a:ext cx="442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ytuł 1"/>
          <p:cNvSpPr/>
          <p:nvPr/>
        </p:nvSpPr>
        <p:spPr>
          <a:xfrm>
            <a:off x="0" y="404640"/>
            <a:ext cx="590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Calibri"/>
              </a:rPr>
              <a:t>Mózg człowiek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780000" y="1341360"/>
            <a:ext cx="5364000" cy="57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jbardziej złożony narzą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nacznie bardziej pofałdowan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  niż mózgi innych ssak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kłada się z 4 płat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ciągu 2 mln lat prawie potroił swoją masę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jlepiej chroniona i strzeżona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część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rganizmu –posiada zabezpieczenie z czaszk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średni mózg Homo sapiens został wyliczon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 na 1350 mililitr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ziała na zasadzie przekazywania sygnałów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 elektrycznych z szybkością błyskawi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4" descr="http://zdrowymozg.pl/wp-content/uploads/2013/03/brain_by_kanasta1975-d4nus66.png"/>
          <p:cNvPicPr/>
          <p:nvPr/>
        </p:nvPicPr>
        <p:blipFill>
          <a:blip r:embed="rId1"/>
          <a:stretch/>
        </p:blipFill>
        <p:spPr>
          <a:xfrm>
            <a:off x="0" y="2133720"/>
            <a:ext cx="3591000" cy="2708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9"/>
          <p:cNvSpPr/>
          <p:nvPr/>
        </p:nvSpPr>
        <p:spPr>
          <a:xfrm>
            <a:off x="324000" y="5373720"/>
            <a:ext cx="32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drowymozg.pl/wp-content/uploads/2013/03/brain_by_kanasta1975-d4nus66.png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ytuł 1"/>
          <p:cNvSpPr/>
          <p:nvPr/>
        </p:nvSpPr>
        <p:spPr>
          <a:xfrm>
            <a:off x="-181080" y="4046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c00000"/>
                </a:solidFill>
                <a:latin typeface="Calibri"/>
              </a:rPr>
              <a:t>Warstwy mózg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93236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http://www.historiasztuki.com.pl/ilustracje/film/Plutchik-wheel.jpg"/>
          <p:cNvPicPr/>
          <p:nvPr/>
        </p:nvPicPr>
        <p:blipFill>
          <a:blip r:embed="rId1"/>
          <a:stretch/>
        </p:blipFill>
        <p:spPr>
          <a:xfrm>
            <a:off x="3132000" y="83664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06" name="Prostokąt 1"/>
          <p:cNvSpPr/>
          <p:nvPr/>
        </p:nvSpPr>
        <p:spPr>
          <a:xfrm>
            <a:off x="324000" y="399960"/>
            <a:ext cx="48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10253f"/>
                </a:solidFill>
                <a:latin typeface="Calibri"/>
              </a:rPr>
              <a:t>Koło emocj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1979640" y="1230480"/>
            <a:ext cx="6192720" cy="5267160"/>
          </a:xfrm>
          <a:prstGeom prst="rect">
            <a:avLst/>
          </a:prstGeom>
          <a:ln w="0">
            <a:noFill/>
          </a:ln>
        </p:spPr>
      </p:pic>
      <p:sp>
        <p:nvSpPr>
          <p:cNvPr id="108" name="Tytuł 1"/>
          <p:cNvSpPr/>
          <p:nvPr/>
        </p:nvSpPr>
        <p:spPr>
          <a:xfrm>
            <a:off x="4716360" y="3908520"/>
            <a:ext cx="442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ytuł 1"/>
          <p:cNvSpPr/>
          <p:nvPr/>
        </p:nvSpPr>
        <p:spPr>
          <a:xfrm>
            <a:off x="441360" y="260280"/>
            <a:ext cx="788364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</a:rPr>
              <a:t>Części mózgu odpowiedzialn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</a:rPr>
              <a:t>za emocj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796000" y="6021360"/>
            <a:ext cx="3056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http://www.vismaya-maitreya.pl/ch40c2.jpg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ytuł 1"/>
          <p:cNvSpPr/>
          <p:nvPr/>
        </p:nvSpPr>
        <p:spPr>
          <a:xfrm>
            <a:off x="4716360" y="3908520"/>
            <a:ext cx="442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539640" y="39996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55640" y="1916280"/>
            <a:ext cx="712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azarus, R. S.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Emotion and Adaptation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New York, Oxford University Press, 199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asquera R., Manstead, A. S. R. i Fischer, A. H.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The role of honour in emotional reactions to bleoffences.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Cognition and Emotion, 16 (1), 143 – 163, 200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oleman D.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Inteligencja Emocjonalna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znań, 1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tradowski J.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Głowa nie od parad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Wprost 20/20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rzegorek J., Jerzmanowski A., Spalik K., Staroń K.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Biologi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WSiP, Warszawa, 20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ytuł 1"/>
          <p:cNvSpPr/>
          <p:nvPr/>
        </p:nvSpPr>
        <p:spPr>
          <a:xfrm>
            <a:off x="4716360" y="3908520"/>
            <a:ext cx="442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50920" y="189000"/>
            <a:ext cx="5976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Calibri"/>
              </a:rPr>
              <a:t>Materiały on-line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31720" y="1844640"/>
            <a:ext cx="770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ttp://1.bp.blogspot.com/_UNpL6gDn2rY/TNmWMu-FV2I/AAAAAAAAAKM/Rg2kIgiHk_U/s320/Reptilian+brain+-+1.gif  trzy warst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ttp://fc04.deviantart.net/fs71/i/2012/339/f/2/face_emotions_study_by_robedirobrob-d5n59lj.jpg zdjęcie emoc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ttp://www.historiasztuki.com.pl/strony/015-00-00-FILM-LID.html koło emocj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ytuł 1"/>
          <p:cNvSpPr/>
          <p:nvPr/>
        </p:nvSpPr>
        <p:spPr>
          <a:xfrm>
            <a:off x="4716360" y="3908520"/>
            <a:ext cx="442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ytuł 1"/>
          <p:cNvSpPr/>
          <p:nvPr/>
        </p:nvSpPr>
        <p:spPr>
          <a:xfrm>
            <a:off x="0" y="476280"/>
            <a:ext cx="66596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484360" y="1628640"/>
            <a:ext cx="3960720" cy="36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móz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emocj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ewoluc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Kotowicz Grzegorz</cp:lastModifiedBy>
  <dcterms:modified xsi:type="dcterms:W3CDTF">2013-08-11T09:46:20Z</dcterms:modified>
  <cp:revision>345</cp:revision>
  <dc:subject/>
  <dc:title>Slajd 1</dc:title>
</cp:coreProperties>
</file>