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867B-30C4-4681-8E17-3F3AE59EB14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C95F-1E98-41D4-871C-E5B58C1C141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A813-55EE-499D-8E7C-8B34C7590BF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30B7-8F79-4A55-8E93-E9D759C3D3B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0311-202C-4A41-AE85-6053F555FFF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9299-A547-4FC5-ADEE-29FB1352EC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7211-D4FA-429D-859D-B72E61C2E92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0028-DEE0-4BB4-95F9-1FF3DAC195F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C7F2-2F7B-42A2-B4C2-0E9EF058676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B371-0EC7-490B-8B43-502F2C03EF1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4C91-71FD-4BF5-9EE6-6A7F977CD0D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9515-8725-41BC-B927-37CFD93B3B9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4DA2-E292-407D-85AE-067DD4ED7A2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3DF-E3DC-4E24-ADE6-40C332FC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38C-86BF-44CE-B496-D67122D2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C7B3-5296-4BC7-B842-5A61DDCC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EE1-9049-4AB5-B20C-25CB82CD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937F-9723-4313-A547-3EE015EB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0E60-3DBC-41CE-859B-72A86C5E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932F-311B-4605-82F8-23AAE5A8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95F8-C999-4AA5-B7E0-3B41F55F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4759-47BB-4338-8590-1C60CFE4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5779-36C3-45DE-9631-87460C64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894C-3494-4E02-B791-794B55C0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730-55B2-4328-99F6-C8F51010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E1C0-89CE-436E-A08E-D329FE3D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8761-2DB8-4734-A0F8-072125E7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A445-C5CD-46AF-9E30-4ED76BED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9928-1899-42B4-817E-E632E8A7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4B8B-6223-47D8-9241-ECA2B623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E3A8-2375-4B6D-9849-7A78D0CA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2DD-D756-4523-A98E-1E02C361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F20-64F2-402F-A9E1-01E66AB8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B2B-3ABA-42C0-9DFB-320ED719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133-B87C-4E4C-82C9-EDF907A3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4E2-D9C7-4C08-B104-825570B8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F0E-0EB6-4FA1-826A-29AC2B96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F7C0-792B-4DA5-86EF-0E0380AD70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F552-AA27-4FFE-A91B-41281D8BE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Kanony piękna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Teoria doboru płc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 koniec XX wieku zaczęło się kształtować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biologiczn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podejście do wzorców pięk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latach 70-tych zaczęła rozwijać się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eoria doboru płcioweg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która jako teoria naukowa została zaakceptowana dopiero           w latach 80-t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iała ona dać odpowied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fakt wykształcan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z niektóre osobniki ce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niżających przystosowanie 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środowisk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np. jaskrawe barwy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tóre są prowokujące dla drapieżników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8" descr="MP900403200[1]"/>
          <p:cNvPicPr/>
          <p:nvPr/>
        </p:nvPicPr>
        <p:blipFill>
          <a:blip r:embed="rId1"/>
          <a:stretch/>
        </p:blipFill>
        <p:spPr>
          <a:xfrm>
            <a:off x="4643280" y="3068640"/>
            <a:ext cx="3959280" cy="26370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9"/>
          <p:cNvSpPr/>
          <p:nvPr/>
        </p:nvSpPr>
        <p:spPr>
          <a:xfrm>
            <a:off x="900000" y="404640"/>
            <a:ext cx="7489800" cy="79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roku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1982 Malte Andersson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udowodnił istnienie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boru płciowego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na przykładzie ptaków z rodziny wikłaczowatych. Okazuje się, że samice o wiele częściej wybierały samc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 długimi ogonami, co jest cechą drugorzędn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zięki wykształceniu charakterystycznych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rugo-        i trzeciorzędnych ce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osobniki mogą w ten sposób niejako „zareklamować” swoje walo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bór płciowy wskazuje na pewne preferencje poszczególnych osobników w obrębie gatunku. Można stwierdzić, że pewne cechy po prostu „bardziej się podobają”. Jest to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ealny wymiar piękn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który wpływa na dobór naturalny                     i podtrzymanie gatunk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godnie z teorią doboru naturalnego zostały także określone preferencje człowieka co do wyglądu. Preferowane s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etria ciał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ższy wzrost (u mężczyz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znaki młod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ska proporcja talii do bioder (u kobi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raźne cechy płci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ładka skó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 cechy świadczą o dobrym zdrowiu i tzw. „dobrych genach”, dają zatem szansę na zdrowe potomstwo. Cechy te zostały ukształtowane w wyniku ewolucji i postrzeganie ich przez człowieka jako atrakcyjnych, czyli po prostu pięknych, jest elementem doboru płciowego, z którego często nie zdajemy sobie spraw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MP900448532[1]"/>
          <p:cNvPicPr/>
          <p:nvPr/>
        </p:nvPicPr>
        <p:blipFill>
          <a:blip r:embed="rId1"/>
          <a:stretch/>
        </p:blipFill>
        <p:spPr>
          <a:xfrm>
            <a:off x="5796000" y="1484280"/>
            <a:ext cx="309564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cja pięk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ękno na przestrzeni wiek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nony pięk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oria doboru płciow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Definicja pięk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 bardzo dawna człowiek podświadomie dążył do piękna, które zawsze było kategorią estetyczną wywołującą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zytyw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kojarzenia. Można powiedzieć, że piękno jes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yrażeniem dobr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zczególnie w czasach starożytnych to stwierdzenie nabierało szerszego konteks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MC900036378[1]"/>
          <p:cNvPicPr/>
          <p:nvPr/>
        </p:nvPicPr>
        <p:blipFill>
          <a:blip r:embed="rId1"/>
          <a:stretch/>
        </p:blipFill>
        <p:spPr>
          <a:xfrm>
            <a:off x="6300720" y="1916280"/>
            <a:ext cx="2673360" cy="352872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826920" y="476280"/>
            <a:ext cx="749016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Piękno na przestrzeni dziej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 starożytności piękno było tożsame                z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skonałości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Dotyczyło nie tylko kategorii estetycznych, ale również moralny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agorejczycy uważali, że piękno wynika głównie z zachowani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rmonii i symetri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Było to podejście matematyczne do kwestii kanonów pięk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dług starożytnych uczonych piękno wyrażało się m.in. w zachowaniu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porcj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826920" y="476280"/>
            <a:ext cx="749016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Kanony pięk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ękno próbowano nazywać i systematyzować.        W ten sposób powstały tzw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no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które były zbiorem reguł i zasad tworzenia sztuki (w bardzo szerokim aspekci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dzie odczuwali potrzebę określenia doskonałości, chociaż nigdy nie udało się stworzyć jednej definicji pięk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achowało się sporo dzieł, których autorzy podejmowali problematykę określenia reguł rządzących sztuk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826920" y="476280"/>
            <a:ext cx="749016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XV wieku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Leonardo da Vinc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stworzył rysunek człowieka wpisany w okrąg i kwadrat. Obecnie znany jest on jako </a:t>
            </a: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Człowiek witruwiański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ponieważ miał być ilustracją do dzieł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truwiusza           „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O architekturze ksiąg dziesięcioro”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którym podnosił temat kanonów pięk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ysunek przedstawia idealną wg. Witruwiusza postać człowieka, którego wysokość równa jest rozstawowi jego ram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8" descr="schowek01zzzz"/>
          <p:cNvPicPr/>
          <p:nvPr/>
        </p:nvPicPr>
        <p:blipFill>
          <a:blip r:embed="rId1"/>
          <a:stretch/>
        </p:blipFill>
        <p:spPr>
          <a:xfrm>
            <a:off x="4500720" y="1268280"/>
            <a:ext cx="439236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la starożytnych bardzo ważne były 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proporcje ciał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g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liklet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głowa stanowi </a:t>
            </a: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1/8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całego ludzkiego cia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g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izyp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głowa stanowi </a:t>
            </a: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1/9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całego ludzkiego ciał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g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itruwiusz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głowa stanowi </a:t>
            </a: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1/10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całego ciała. Oprócz tego inne wymiary ciała ludzkiego także dają się opisać matematycznie, np. długość mierzona od nadgarstka do łokcia jest długością stopy człowie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ążenia do sformalizowania i ścisłego określenia tego, „co jest piękne, a co nie jest” były na tyle silne, że część reguł zostało spisan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ten sposób powstały tzw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dlinnik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czyli wytyczne opisujące reguły tworzenia ik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linniki zawierały wzornik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tóre były uznawane za kan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wróćcie uwagę, że wyobraż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ych samych postaci na ikon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do siebie bardzo podob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taka sama poza, strój i kolory)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ikona"/>
          <p:cNvPicPr/>
          <p:nvPr/>
        </p:nvPicPr>
        <p:blipFill>
          <a:blip r:embed="rId1"/>
          <a:stretch/>
        </p:blipFill>
        <p:spPr>
          <a:xfrm>
            <a:off x="5867280" y="2492280"/>
            <a:ext cx="2617920" cy="3529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579600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kona Matki Bożej z Dzieciątki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nony piękna obowiązywały do czasów współczesnych, chociaż zmieniały się               w różnych epokach i kręgach kultur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 czasach współczesnych artyści zarzucili tworzenie według kanonów, niejednokrotnie zupełnie się im sprzeciwiają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ękno przestało by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ożsamiane wyłącz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 jednym, oficjaln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owiązującym wzor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chuj"/>
          <p:cNvPicPr/>
          <p:nvPr/>
        </p:nvPicPr>
        <p:blipFill>
          <a:blip r:embed="rId1"/>
          <a:stretch/>
        </p:blipFill>
        <p:spPr>
          <a:xfrm>
            <a:off x="5867280" y="3068640"/>
            <a:ext cx="2544840" cy="3097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867280" y="616572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.Picasso „Kobieta płacząca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6-29T22:17:05Z</dcterms:modified>
  <cp:revision>76</cp:revision>
  <dc:subject/>
  <dc:title>Slajd 1</dc:title>
</cp:coreProperties>
</file>