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A205-FA23-4290-8530-C891F02CC1E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D2BE-16E4-42A4-985C-9EEEF2A5A2E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DFF7-D021-4C3B-B53B-3AD4FC20052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4062-4B77-44B7-AB98-1B0B53B35F9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E2A6-CA2E-4142-8547-022AD049448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C5B4-D226-4BCA-B505-93B25CFDB74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E634-A473-42D7-9E96-1AF06C38B05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9EFF-819F-4D38-92F8-83506CC8925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522E-BD02-4791-BC8C-F315309DAAB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2055-1B69-4EB2-A357-9A041E0F956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2818-71DE-4977-B350-876FA8914D2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E365-98F8-4FD1-AF39-AA0412EB099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4218-04CE-4542-A9A6-239DFEB6E43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0B12-D45A-4A70-ACDA-A7184027723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D403-9A9F-4D87-9884-54E48EA569F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470-43BD-4EC9-9E2F-DCD7CF26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299-09A7-46B0-9A3E-BBDB5F92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7D5-26AF-448A-ACDE-02B5350E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14F-D29D-4611-8212-68C3BE6C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5DBF-81D4-4077-9DEA-CC8F8986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4EAD-E1E8-4E61-85BA-B0B340EB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7FC4-C0DE-4A3F-9DA0-20008AD1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63A4-36A3-440A-9DDC-3FF6A5AF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AA72-0A11-487D-91A4-64AAFFF0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D753-2B5D-4C8C-A8B5-3974B010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ED77-A7DB-4EF5-8035-FFC772DE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E74-8BB1-459C-BEC8-454D1BA4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D7EE-A3D9-4B0F-9835-7141FA85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394A-D9F2-4A39-B308-EDBB3EED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977E-3359-4FB1-8F11-8547BA4B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714A-4DA2-4572-9F53-FBE2BD55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904E-63A2-4BFB-A93D-BE6A2F9A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723-C9C6-4260-8EBD-9EB94507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E68-06EE-481F-8CC8-EDA1A5AC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878-EB4B-4FCB-A244-2BC279D7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4EF-87A1-4AC4-B843-310B5B25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BC1-23B5-4EC1-B468-709469F6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E73-EDA6-46E2-A632-6C29CE7F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63D-4737-4874-8169-7DF54671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7D2A-42F6-46B9-B73E-53F254791F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709F-B481-4714-8F51-3E7C0AF194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Składniki kosmetyków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Humekta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ch zadaniem jest utrzymanie wilgotności całego kosmetyku. To właśnie dzięki nim krem ma cały czas przyjemną konsystencję, a pasta do zębów nie wysycha w tub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gęstni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trzymują odpowiednią konsystencję kosmetyku. To dzięki zagęstnikom szminka nie pływa w opakowaniu,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 sztyfty nie wylewają się z pojemników. Do tego typu substancji należą np. </a:t>
            </a:r>
            <a:r>
              <a:rPr b="0" i="1" lang="pl-PL" sz="2800" spc="-1" strike="noStrike">
                <a:solidFill>
                  <a:srgbClr val="33cc33"/>
                </a:solidFill>
                <a:latin typeface="Calibri"/>
              </a:rPr>
              <a:t>Xanthan Gum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czy </a:t>
            </a:r>
            <a:r>
              <a:rPr b="0" i="1" lang="pl-PL" sz="2800" spc="-1" strike="noStrike">
                <a:solidFill>
                  <a:srgbClr val="33cc33"/>
                </a:solidFill>
                <a:latin typeface="Calibri"/>
              </a:rPr>
              <a:t>Carbomer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nserwa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pełniają bardzo ważną rolę. Ponieważ kosmetyków używa się bardzo często, są zatem narażone na regularne kontakty z różnego rodzaju drobnoustrojami przenoszonymi przez nasze dłonie i ciało. Ab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kosmetyku nie zaczęły rozwijać się mikroorganizmy, stosowane są właśnie konserwan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najpopularniejszych należą: </a:t>
            </a:r>
            <a:r>
              <a:rPr b="0" i="1" lang="pl-PL" sz="2800" spc="-1" strike="noStrike">
                <a:solidFill>
                  <a:srgbClr val="33cc33"/>
                </a:solidFill>
                <a:latin typeface="Calibri"/>
              </a:rPr>
              <a:t>Imidazolidinyl urea, Ethylparaben, Methylparaben, Iodopropynyl Butylcarbamate, Methylisothiazolinone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ro kosmetyków posiada wyciągi roślinne w swoim składzie. Warto zaznaczyć, że to rośliny były od dawna używane do pielęgnacji skóry, w związku z czym ich obecność w kosmetykach powinna być naturalną koleją rzecz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 różnych części roślin tworzy się ekstrakty, używa się także olejków eterycznych czy wosków roślinnych. Wszystkie te substancje są naturalnego pochodzenia, w związku z czym nie trzeba ich sztucznie syntetyzowa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10" descr="MP900427717[1]"/>
          <p:cNvPicPr/>
          <p:nvPr/>
        </p:nvPicPr>
        <p:blipFill>
          <a:blip r:embed="rId1"/>
          <a:stretch/>
        </p:blipFill>
        <p:spPr>
          <a:xfrm>
            <a:off x="395280" y="360684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MP900448362[1]"/>
          <p:cNvPicPr/>
          <p:nvPr/>
        </p:nvPicPr>
        <p:blipFill>
          <a:blip r:embed="rId2"/>
          <a:stretch/>
        </p:blipFill>
        <p:spPr>
          <a:xfrm>
            <a:off x="3419640" y="3716280"/>
            <a:ext cx="2106360" cy="2648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MP900427834[1]"/>
          <p:cNvPicPr/>
          <p:nvPr/>
        </p:nvPicPr>
        <p:blipFill>
          <a:blip r:embed="rId3"/>
          <a:stretch/>
        </p:blipFill>
        <p:spPr>
          <a:xfrm>
            <a:off x="6300720" y="3141720"/>
            <a:ext cx="21304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 kosmetyki, które zawierają wyłącznie naturalne składniki, to tzw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osmetyki ekologicz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które są obecnie bardzo popularne. Nie zawierają one sztucznych substancji, takich jak konserwanty, barwniki czy substancje zapachowe. W ich skład wchodzą wyłącznie naturalne wyciągi z roślin. Nie ma jednak gwarancji, że taki kosmetyk nie będzie działał uczulająco na skór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najpopularniejszych składników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uralnych kosmetyków należ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wyciąg z aloe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wyciągi zioł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lgi morsk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glinka kosmetyc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2247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am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taminy są niezbędne do właściwego funkcjonowania organizmu. Jest on jednak pozbawiony możliwości ich syntetyzowania. Z tego względu muszą być dostarczane                 z zewnątrz, np. jako składnik kosmety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Przykłady zastosowania witamin w kosmety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. 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regeneracja skóry, poprawa jej elastycznoś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. B2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stosowana do cery trądzikow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. B5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pielęgnacja i regeneracja paznokci i włos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. B12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działanie antystres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. 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działanie przeciwzmarszczkowe, przeciwłojotokowe, regenerujące i odżywiające skór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. H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nawilżanie skóry, zmniejszanie zmarszczek                         i przebarwień, wzmacnianie włosów i paznok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które substancje zawarte w kosmetykach, aby zadziałać, muszą najpierw naruszyć strukturę tkan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ten sposób odbywa się np.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arbowanie włosów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Farby do włosów działają od wewnątrz. Aby pigment mógł zabarwić włosy, najpierw muszą zostać otworzone łuski włosa po to, aby barwnik wniknął do środka. Do tego celu stosuje się np.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moniak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Pigment jest transportowany do wnętrza włos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formie niewielkich cząstecze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tomiast w środku włos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worzy większ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upienia, uniemożliwiają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dostanie się na zewnątr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MP900382993[1]"/>
          <p:cNvPicPr/>
          <p:nvPr/>
        </p:nvPicPr>
        <p:blipFill>
          <a:blip r:embed="rId1"/>
          <a:stretch/>
        </p:blipFill>
        <p:spPr>
          <a:xfrm>
            <a:off x="4643280" y="3500280"/>
            <a:ext cx="341640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 to s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smety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sada bezpiecznej produkcji kosmetyk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 czego składają się kosmetyk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zaje substancji zawartych w kosmetyk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Kosmety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smetyki są powszechnie używanymi substancjami służącymi do pielęgnacji, oczyszczania i upiększania naszego ciał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smetyki mają bezpośredni kontakt z naszą skórą, dlatego składniki w nich zawarte powinny być bezpieczne i nie powodować podrażnie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smetyki mogą występować w różnej formie, np. żelu, kremu, sprayu, emulsji, sztyftu czy prosz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8" descr="MC900217156[1]"/>
          <p:cNvPicPr/>
          <p:nvPr/>
        </p:nvPicPr>
        <p:blipFill>
          <a:blip r:embed="rId1"/>
          <a:stretch/>
        </p:blipFill>
        <p:spPr>
          <a:xfrm>
            <a:off x="7236000" y="189000"/>
            <a:ext cx="1272960" cy="151272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9"/>
          <p:cNvSpPr/>
          <p:nvPr/>
        </p:nvSpPr>
        <p:spPr>
          <a:xfrm>
            <a:off x="611280" y="476280"/>
            <a:ext cx="619272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Bezpieczeństw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arówno dla konsumentów jak i dla producentów kosmetyków podstawową sprawą jest to, aby były one bezpieczne w użyci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zpieczeństwo kosmetyków regulowane jest rygorystycznie przepisami praw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jważniejszą zasadą stosowaną dla przy produkcji kosmetyków jest to, że żaden kosmetyk wprowadzony do obrotu nie może zagrażać zdrowiu i życiu ludzkiem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które kosmetyki posiadają certyfikaty ekologiczne, które świadczą o tym, że produkt spełnia rygorystyczne normy dotyczące jego produkcji i składni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demeter"/>
          <p:cNvPicPr/>
          <p:nvPr/>
        </p:nvPicPr>
        <p:blipFill>
          <a:blip r:embed="rId1"/>
          <a:stretch/>
        </p:blipFill>
        <p:spPr>
          <a:xfrm>
            <a:off x="2268360" y="5157720"/>
            <a:ext cx="2133720" cy="1244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Ecocert-archipelag-piękna-naturalne-kosmetyki"/>
          <p:cNvPicPr/>
          <p:nvPr/>
        </p:nvPicPr>
        <p:blipFill>
          <a:blip r:embed="rId2"/>
          <a:stretch/>
        </p:blipFill>
        <p:spPr>
          <a:xfrm>
            <a:off x="5724360" y="4869000"/>
            <a:ext cx="1444680" cy="14554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/>
          <p:cNvSpPr/>
          <p:nvPr/>
        </p:nvSpPr>
        <p:spPr>
          <a:xfrm>
            <a:off x="755640" y="476280"/>
            <a:ext cx="799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Z czego składają się kosmetyk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sadniczo kosmetyki składają się z dwóch rodzajów substan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bstancje czyn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bstancje bazow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 decydują o właściwy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 wpływają na formę i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ziałaniu kosmetyku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nsystencję kosmety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ierają do głębszy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nowią główną masę prepara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rstw skó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0" descr="MC900239905[1]"/>
          <p:cNvPicPr/>
          <p:nvPr/>
        </p:nvPicPr>
        <p:blipFill>
          <a:blip r:embed="rId1"/>
          <a:stretch/>
        </p:blipFill>
        <p:spPr>
          <a:xfrm>
            <a:off x="3708360" y="3141720"/>
            <a:ext cx="1652760" cy="2376360"/>
          </a:xfrm>
          <a:prstGeom prst="rect">
            <a:avLst/>
          </a:prstGeom>
          <a:ln w="0">
            <a:noFill/>
          </a:ln>
        </p:spPr>
      </p:pic>
      <p:sp>
        <p:nvSpPr>
          <p:cNvPr id="111" name="Line 11"/>
          <p:cNvSpPr/>
          <p:nvPr/>
        </p:nvSpPr>
        <p:spPr>
          <a:xfrm>
            <a:off x="2556000" y="494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13"/>
          <p:cNvSpPr/>
          <p:nvPr/>
        </p:nvSpPr>
        <p:spPr>
          <a:xfrm flipH="1">
            <a:off x="5148000" y="4941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611280" y="476280"/>
            <a:ext cx="813744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. Rodzaje substancji zawartych w kosmetyk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wa głównym składnikiem wielu kosmetyków. Woda w nich występująca podlega rygorystycznym normom określającym jej czyst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755640" y="260280"/>
            <a:ext cx="7993080" cy="115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urfakta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inaczej substancje powierzchniowo czynne. Charakteryzują się specyficzną budową, gdzie w jednej cząsteczce znajduje się zarówno część hydrofilowa, jak i lipofilowa. W związku z tym są bardzo dobrymi substancjami myjącymi, ponieważ mogą rozpuszczać zarówno składniki „wodolubne” jak i tłuszczow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które z nich w dużych dawkach mogą wywołać efekt podrażnienia, dlatego często stosuje się mieszankę różnych surfaktantów. Do najpospolitszych należą: </a:t>
            </a:r>
            <a:r>
              <a:rPr b="0" i="1" lang="pl-PL" sz="2800" spc="-1" strike="noStrike">
                <a:solidFill>
                  <a:srgbClr val="33cc33"/>
                </a:solidFill>
                <a:latin typeface="Calibri"/>
              </a:rPr>
              <a:t>Sodium Laureth Sulfate, Cocamidopropyl Betaine </a:t>
            </a:r>
            <a:r>
              <a:rPr b="0" i="1" lang="pl-PL" sz="2800" spc="-1" strike="noStrike">
                <a:solidFill>
                  <a:srgbClr val="33cc33"/>
                </a:solidFill>
                <a:latin typeface="Arial"/>
              </a:rPr>
              <a:t>         </a:t>
            </a:r>
            <a:r>
              <a:rPr b="0" i="1" lang="pl-PL" sz="2800" spc="-1" strike="noStrike">
                <a:solidFill>
                  <a:srgbClr val="33cc33"/>
                </a:solidFill>
                <a:latin typeface="Calibri"/>
              </a:rPr>
              <a:t>i Decyl Gluco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molie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ą substancjami lipofilowymi, czyli tłuszczowymi. Ich rola polega na zapobieganiu nadmiernemu parowaniu wody przez powierzchnię skóry, dzięki czemu jest ona bardziej nawilżon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elastyczna. Kosmetyk zawierający emolienty rozprowadzony na powierzchni skóry tworzy warstwę zabezpieczającą przed parowaniem w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o ciekawe, kosmetyk nie ulega wchłonięciu przez skórę, tylko zostaje na jej powierzchni, a powłoka zabezpieczająca przed parowaniem wody z głębszych warstw skóry powstaje poprzez odparowanie wody w kosmetyku, który staje się wówczas niewyczuwal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kładem często stosowanych emolientów są </a:t>
            </a:r>
            <a:r>
              <a:rPr b="0" i="1" lang="pl-PL" sz="2400" spc="-1" strike="noStrike">
                <a:solidFill>
                  <a:srgbClr val="33cc33"/>
                </a:solidFill>
                <a:latin typeface="Calibri"/>
              </a:rPr>
              <a:t>Octyldodecanol </a:t>
            </a:r>
            <a:r>
              <a:rPr b="0" i="1" lang="pl-PL" sz="24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0" i="1" lang="pl-PL" sz="2400" spc="-1" strike="noStrike">
                <a:solidFill>
                  <a:srgbClr val="33cc33"/>
                </a:solidFill>
                <a:latin typeface="Calibri"/>
              </a:rPr>
              <a:t>i Paraffinum Liquid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ubstancje hydrofil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substancje, które przyciągają wodę z otoczenia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zwiększają nawilżenie naskórka. Mogą być stosowane zarówno nisko- jak i wielkocząsteczkowe substancje hydrofilowe. Te pierwsze, dzięki niewielkim rozmiarom, są w stanie wniknąć w głąb skóry, drugie działają jedynie na jej powierzchn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tego rodzaju substancji należy np. gliceryna </a:t>
            </a:r>
            <a:r>
              <a:rPr b="0" i="1" lang="pl-PL" sz="2800" spc="-1" strike="noStrike">
                <a:solidFill>
                  <a:srgbClr val="33cc33"/>
                </a:solidFill>
                <a:latin typeface="Calibri"/>
              </a:rPr>
              <a:t>Glycerin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7-01T19:18:19Z</dcterms:modified>
  <cp:revision>88</cp:revision>
  <dc:subject/>
  <dc:title>Slajd 1</dc:title>
</cp:coreProperties>
</file>