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7FC-20B9-42C7-AABF-718BF5F3BDE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044-8445-4C41-B549-36E91FDA20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0F2-BDA3-4C2C-89A6-10ADDDB6EC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E9F-55F9-4200-8238-51B9EC94E3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B5B7-FF73-442A-A0B8-5481DA090F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wnętrzna warstwa mózgu to pień mózgu. Pobudza najbardziej podstawowe czynności organizmu, jak oddychanie czy krążen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Środkowa warstwa mózgu, to układ limbiczny. Odpowiada za to, co przeżywam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wnętrzna, czyli kora, to nasze przemyślane działan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5AE-DEB8-4FBE-ADD6-4311DF68DB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oło emocji skonstruował w 1980 roku amerykański psycholog Roberta Plutchik – schemat obejmuje 8 emocji podstawowych (gniew, strach, smutek, obrzydzenie, zaskoczenie, przewidywanie, zaufanie i radość). Emocje te pozwalają definiować emocje złoż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B69B-D57C-418E-B1DE-E95853F268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kład limbiczny w całości uważany jest za zespół ośrodków, kontrolujących zachowania emocjonalne. Środkowa warstwa mózgu złożona jest z wielu elementów m.in.: wzgórza, przez które przechodzą wszystkie docierające do nas wrażenia, ciała migdałowatego, które uruchamia reakcję emocjonaln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dźce pochodzące z układu limbicznego powodują aktywizację innej części mózgu – podwzgórza, które zawiera ważne ośrodki kierujące reakcjami emocjonaln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wne zespoły zachowania, charakterystyczne dla takich stanów jak lęk i gniew można wywołać drażniąc określone części podwzgórza. U zwierząt pozbawionych kory mózgu, z zachowanym podwzgórzem, występują, nawet pod wpływem minimalnych bodźców, zespoły zmian somatycznych i wegetatywnych, charakterystycznych dla gwałtownych stanów emocjonalnych. Napady te nie pojawiają się, jeśli wraz z korą mózgu zostanie usunięte podwzgórze. U chorych z zespołami podwzgórzowymi stwierdza się często zmienność nastroju i nadmierną drażliwość. Ponadto mogą występować napady przymusowego płaczu lub śmiechu jak również napady nieuzasadnionej wściekłoś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BB9-70EE-43B8-984C-708E26AEB8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9199-EFCF-4BB9-81C8-26C710DBAC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6492-1FAF-4EA8-AB2C-3787F6243A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204-EFB4-4049-91DC-C5E01E9320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E80-A71D-4B0A-82B9-799B8ED8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66B-4AC0-4CB3-9847-6F98225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3E2-FAF5-4E52-BB20-3407C5F8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A2-4265-4E9B-A1C7-2A67AD5E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F18D-BAE8-4626-8B8B-4F4F07AE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7E4-A6C7-4009-9E9D-9E1FF9A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14A-D2D3-4AD2-B872-3BC2E5D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6689-6A87-4330-B57D-88CF87F8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31A0-6F19-45FC-9942-78AC2D53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5FA-77AF-49DA-9005-F874F069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88FB-1FE5-4B77-9331-5C4C363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81A-2F48-4EEE-8A31-E346CA7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0D4-FD97-4C53-8FC5-37BEADC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4514-F055-410A-8731-33E1AD9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3E2-FC77-48EA-BFC7-71BFF1D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62D6-D282-4D2B-A5B1-69DEE708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100-3306-45AE-9E75-9DC61FB8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EAB-6786-410B-9AFE-7F86A25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360-EECA-4D77-BA78-477446F8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9B6-B553-45E0-BBBE-116C1739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2F5-4699-42A2-885E-F03553C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B6A-62AC-4F43-962C-2A8CEB2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82C-B813-44E6-9A0F-F2049C97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343-B703-4E9D-AB09-57DC8B7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837-DE2C-4293-870C-E3C71284613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DEC1-724C-42DE-9CF0-4A335168D8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zdrowymozg.pl/wp-content/uploads/2013/03/brain_by_kanasta1975-d4nus66.pn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ytuł 1"/>
          <p:cNvSpPr/>
          <p:nvPr/>
        </p:nvSpPr>
        <p:spPr>
          <a:xfrm>
            <a:off x="1187280" y="1125360"/>
            <a:ext cx="734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Wyrażanie emo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fc04.deviantart.net/fs71/i/2012/339/f/2/face_emotions_study_by_robedirobrob-d5n59lj.jpg"/>
          <p:cNvPicPr/>
          <p:nvPr/>
        </p:nvPicPr>
        <p:blipFill>
          <a:blip r:embed="rId1"/>
          <a:stretch/>
        </p:blipFill>
        <p:spPr>
          <a:xfrm>
            <a:off x="1116000" y="2133720"/>
            <a:ext cx="64944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rostokąt 1"/>
          <p:cNvSpPr/>
          <p:nvPr/>
        </p:nvSpPr>
        <p:spPr>
          <a:xfrm>
            <a:off x="395280" y="333360"/>
            <a:ext cx="828036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rstwy móz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ło emo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ęści mózgu odpowiedzialne za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▪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ytuł 1"/>
          <p:cNvSpPr/>
          <p:nvPr/>
        </p:nvSpPr>
        <p:spPr>
          <a:xfrm>
            <a:off x="0" y="404640"/>
            <a:ext cx="590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ózg człowiek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780000" y="1341360"/>
            <a:ext cx="536400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bardziej złożony narzą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bardziej pofałdowa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 niż mózgi innych ssa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łada się z 4 płat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ciągu 2 mln lat prawie potroił swoją mas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lepiej chroniona i strzeżon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zę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ganizmu –posiada zabezpieczenie z czaszk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 mózg Homo sapiens został wyliczo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na 1350 mililitr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 na zasadzie przekazywania sygnał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   elektrycznych z szybkością błyskawi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4" descr="http://zdrowymozg.pl/wp-content/uploads/2013/03/brain_by_kanasta1975-d4nus66.png"/>
          <p:cNvPicPr/>
          <p:nvPr/>
        </p:nvPicPr>
        <p:blipFill>
          <a:blip r:embed="rId1"/>
          <a:stretch/>
        </p:blipFill>
        <p:spPr>
          <a:xfrm>
            <a:off x="0" y="2133720"/>
            <a:ext cx="359100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324000" y="537372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drowymozg.pl/wp-content/uploads/2013/03/brain_by_kanasta1975-d4nus66.pn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ytuł 1"/>
          <p:cNvSpPr/>
          <p:nvPr/>
        </p:nvSpPr>
        <p:spPr>
          <a:xfrm>
            <a:off x="-1810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c00000"/>
                </a:solidFill>
                <a:latin typeface="Calibri"/>
              </a:rPr>
              <a:t>Warstwy mózg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32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ttp://www.historiasztuki.com.pl/ilustracje/film/Plutchik-wheel.jpg"/>
          <p:cNvPicPr/>
          <p:nvPr/>
        </p:nvPicPr>
        <p:blipFill>
          <a:blip r:embed="rId1"/>
          <a:stretch/>
        </p:blipFill>
        <p:spPr>
          <a:xfrm>
            <a:off x="3132000" y="83664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1"/>
          <p:cNvSpPr/>
          <p:nvPr/>
        </p:nvSpPr>
        <p:spPr>
          <a:xfrm>
            <a:off x="324000" y="39996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10253f"/>
                </a:solidFill>
                <a:latin typeface="Calibri"/>
              </a:rPr>
              <a:t>Koło emocj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1979640" y="1230480"/>
            <a:ext cx="6192720" cy="5267160"/>
          </a:xfrm>
          <a:prstGeom prst="rect">
            <a:avLst/>
          </a:prstGeom>
          <a:ln w="0">
            <a:noFill/>
          </a:ln>
        </p:spPr>
      </p:pic>
      <p:sp>
        <p:nvSpPr>
          <p:cNvPr id="108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ytuł 1"/>
          <p:cNvSpPr/>
          <p:nvPr/>
        </p:nvSpPr>
        <p:spPr>
          <a:xfrm>
            <a:off x="441360" y="260280"/>
            <a:ext cx="7883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Części mózgu odpowiedzialn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76092"/>
                </a:solidFill>
                <a:latin typeface="Calibri"/>
              </a:rPr>
              <a:t>za 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96000" y="6021360"/>
            <a:ext cx="305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http://www.vismaya-maitreya.pl/ch40c2.jpg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9640" y="3999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1916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zarus, R. S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motion and Adap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ew York, Oxford University Press, 199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squera R., Manstead, A. S. R. i Fischer, A. H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he role of honour in emotional reactions to bleoffences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ognition and Emotion, 16 (1), 143 – 163,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leman D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Inteligencja Emocjonalna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nań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radowski J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Głowa nie od parad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prost 20/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rzegorek J., Jerzmanowski A., Spalik K., Staroń K.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iolog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SiP, Warszawa,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189000"/>
            <a:ext cx="597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Calibri"/>
              </a:rPr>
              <a:t>Materiały on-line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31720" y="1844640"/>
            <a:ext cx="770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1.bp.blogspot.com/_UNpL6gDn2rY/TNmWMu-FV2I/AAAAAAAAAKM/Rg2kIgiHk_U/s320/Reptilian+brain+-+1.gif  trzy warst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fc04.deviantart.net/fs71/i/2012/339/f/2/face_emotions_study_by_robedirobrob-d5n59lj.jpg zdjęcie emo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ttp://www.historiasztuki.com.pl/strony/015-00-00-FILM-LID.html koło emocj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ytuł 1"/>
          <p:cNvSpPr/>
          <p:nvPr/>
        </p:nvSpPr>
        <p:spPr>
          <a:xfrm>
            <a:off x="4716360" y="3908520"/>
            <a:ext cx="442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ytuł 1"/>
          <p:cNvSpPr/>
          <p:nvPr/>
        </p:nvSpPr>
        <p:spPr>
          <a:xfrm>
            <a:off x="0" y="476280"/>
            <a:ext cx="6659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84360" y="1628640"/>
            <a:ext cx="3960720" cy="36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móz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mo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ewoluc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Kotowicz Grzegorz</cp:lastModifiedBy>
  <dcterms:modified xsi:type="dcterms:W3CDTF">2013-08-11T09:46:20Z</dcterms:modified>
  <cp:revision>345</cp:revision>
  <dc:subject/>
  <dc:title>Slajd 1</dc:title>
</cp:coreProperties>
</file>