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231B-4AAA-4648-932E-F83E1C50549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97DF-795A-4D02-B71E-BDD3147814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EFE0-4501-44E5-B127-D6AD2E8DA9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A244-B736-42A4-ADD3-BD54CC79492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ECD3-EAFD-41B6-AE8A-EF119BF4E6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E2C-BBCE-4B3C-9BD7-494313E52FB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123C-5CD0-4396-BC43-308CEF833C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DBBF-73DE-4C36-B85D-248DEC5DA63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CC28-203A-476B-99EE-E0BB93830F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71EE-2547-4603-9B3D-13264428B2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2761-3A40-4000-891C-2114C2ECE21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CCAF-E59B-4693-BF82-F57010B798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89B2-EACD-4F0B-9A73-A65C66CB5D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A0B-1725-490F-A10B-B7C0AF70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0A8-EE10-43DB-8ACD-71C7F662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BDB-36F5-489A-8725-A7B8E1F0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E01-3E78-46BA-961B-7DE0D51C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EA44-33D6-4347-B53B-DA00BE4C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CC07-FE99-470B-A332-FE688223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5510-180D-43D5-9137-A7A728A7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FE1C-6B9B-4625-84A7-2B7341C2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0A03-B0BF-4015-9FEF-E5EAE5BA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0A3C-0B28-4D90-B68A-9249E009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030B-4613-48A8-B6A7-4CAA4C36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34C-0974-4782-8D66-64DCE6D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FEA0-4B42-4A05-B436-68F963EC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3EC2-6784-4DA1-B937-1A1D3FB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A479-9A54-4206-B394-BAF969C8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E2D4-BE96-444C-A8C0-4057FBE3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887A-CC19-4D90-8C76-CAC0CFDF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592-6F92-451E-BC19-606887CC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0C8-6D49-4CE0-8F9D-7B925D74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0D1-0029-4433-92E2-5E656BA1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611-5499-4DE5-90C7-1C183878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491-2705-44BE-91C9-AC4C93FE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3E0-1D6A-43F8-967C-ADC2807E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B44-F6FD-4EB6-BC94-AF309D08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1207-FBF3-44B4-96F3-D72C0D8D9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E443-AC79-480A-A4AA-7F79FFD8F0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Kanony piękna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Teoria doboru płc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koniec XX wieku zaczęło się kształtować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iologicz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podejście do wzorców pięk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latach 70-tych zaczęła rozwijać si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eoria doboru płcioweg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która jako teoria naukowa została zaakceptowana dopiero           w latach 80-t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ała ona dać odpowied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fakt wykształcan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z niektóre osobniki ce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niżających przystosowanie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rodowisk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np. jaskrawe barw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tóre są prowokujące dla drapieżnikó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MP900403200[1]"/>
          <p:cNvPicPr/>
          <p:nvPr/>
        </p:nvPicPr>
        <p:blipFill>
          <a:blip r:embed="rId1"/>
          <a:stretch/>
        </p:blipFill>
        <p:spPr>
          <a:xfrm>
            <a:off x="4643280" y="3068640"/>
            <a:ext cx="3959280" cy="2637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9"/>
          <p:cNvSpPr/>
          <p:nvPr/>
        </p:nvSpPr>
        <p:spPr>
          <a:xfrm>
            <a:off x="900000" y="404640"/>
            <a:ext cx="7489800" cy="7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roku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982 Malte Andersso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udowodnił istnieni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boru płciowego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na przykładzie ptaków z rodziny wikłaczowatych. Okazuje się, że samice o wiele częściej wybierały samc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 długimi ogonami, co jest cechą drugorzędn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ęki wykształceniu charakterystycznych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rugo-        i trzeciorzędnych ce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osobniki mogą w ten sposób niejako „zareklamować” swoje wal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bór płciowy wskazuje na pewne preferencje poszczególnych osobników w obrębie gatunku. Można stwierdzić, że pewne cechy po prostu „bardziej się podobają”. Jest to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ealny wymiar pięk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który wpływa na dobór naturalny                     i podtrzymanie gatunk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godnie z teorią doboru naturalnego zostały także określone preferencje człowieka co do wyglądu. Preferowane s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etria ciał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ższy wzrost (u mężczyz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znaki młod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ska proporcja talii do bioder (u kobi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raźne cechy płci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ładka skó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 cechy świadczą o dobrym zdrowiu i tzw. „dobrych genach”, dają zatem szansę na zdrowe potomstwo. Cechy te zostały ukształtowane w wyniku ewolucji i postrzeganie ich przez człowieka jako atrakcyjnych, czyli po prostu pięknych, jest elementem doboru płciowego, z którego często nie zdajemy sobie spra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MP900448532[1]"/>
          <p:cNvPicPr/>
          <p:nvPr/>
        </p:nvPicPr>
        <p:blipFill>
          <a:blip r:embed="rId1"/>
          <a:stretch/>
        </p:blipFill>
        <p:spPr>
          <a:xfrm>
            <a:off x="5796000" y="1484280"/>
            <a:ext cx="30956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cja pięk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ękno na przestrzeni wie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ony pięk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oria doboru płciow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Definicja pięk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 bardzo dawna człowiek podświadomie dążył do piękna, które zawsze było kategorią estetyczną wywołującą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zytyw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kojarzenia. Można powiedzieć, że piękno jes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yrażeniem dob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zczególnie w czasach starożytnych to stwierdzenie nabierało szerszego konteks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MC900036378[1]"/>
          <p:cNvPicPr/>
          <p:nvPr/>
        </p:nvPicPr>
        <p:blipFill>
          <a:blip r:embed="rId1"/>
          <a:stretch/>
        </p:blipFill>
        <p:spPr>
          <a:xfrm>
            <a:off x="6300720" y="1916280"/>
            <a:ext cx="2673360" cy="35287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826920" y="476280"/>
            <a:ext cx="74901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Piękno na przestrzeni dziej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starożytności piękno było tożsame                z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skonałości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Dotyczyło nie tylko kategorii estetycznych, ale również moral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agorejczycy uważali, że piękno wynika głównie z zachowani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rmonii i symetr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Było to podejście matematyczne do kwestii kanonów pięk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ług starożytnych uczonych piękno wyrażało się m.in. w zachowaniu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orcj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826920" y="476280"/>
            <a:ext cx="74901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Kanony pięk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ękno próbowano nazywać i systematyzować.        W ten sposób powstały tzw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no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tóre były zbiorem reguł i zasad tworzenia sztuki (w bardzo szerokim aspekci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dzie odczuwali potrzebę określenia doskonałości, chociaż nigdy nie udało się stworzyć jednej definicji pięk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achowało się sporo dzieł, których autorzy podejmowali problematykę określenia reguł rządzących sztuk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26920" y="476280"/>
            <a:ext cx="74901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XV wieku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stworzył rysunek człowieka wpisany w okrąg i kwadrat. Obecnie znany jest on jako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Człowiek witruwiańsk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ponieważ miał być ilustracją do dzieł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ruwiusza           „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O architekturze ksiąg dziesięcioro”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tórym podnosił temat kanonów pięk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ysunek przedstawia idealną wg. Witruwiusza postać człowieka, którego wysokość równa jest rozstawowi jego ram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8" descr="schowek01zzzz"/>
          <p:cNvPicPr/>
          <p:nvPr/>
        </p:nvPicPr>
        <p:blipFill>
          <a:blip r:embed="rId1"/>
          <a:stretch/>
        </p:blipFill>
        <p:spPr>
          <a:xfrm>
            <a:off x="4500720" y="1268280"/>
            <a:ext cx="439236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la starożytnych bardzo ważne były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proporcje ciał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g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liklet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głowa stanowi </a:t>
            </a: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1/8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ałego ludzkiego cia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g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izyp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głowa stanowi </a:t>
            </a: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1/9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ałego ludzkiego ciał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g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itruwiusz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głowa stanowi </a:t>
            </a: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1/10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ałego ciała. Oprócz tego inne wymiary ciała ludzkiego także dają się opisać matematycznie, np. długość mierzona od nadgarstka do łokcia jest długością stopy człowie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ążenia do sformalizowania i ścisłego określenia tego, „co jest piękne, a co nie jest” były na tyle silne, że część reguł zostało spisan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ten sposób powstały tzw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dlinni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czyli wytyczne opisujące reguły tworzenia ik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linniki zawierały wzornik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tóre były uznawane za kan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wróćcie uwagę, że wyobraż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ch samych postaci na ikon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do siebie bardzo podob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taka sama poza, strój i kolory)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ikona"/>
          <p:cNvPicPr/>
          <p:nvPr/>
        </p:nvPicPr>
        <p:blipFill>
          <a:blip r:embed="rId1"/>
          <a:stretch/>
        </p:blipFill>
        <p:spPr>
          <a:xfrm>
            <a:off x="5867280" y="2492280"/>
            <a:ext cx="2617920" cy="3529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79600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kona Matki Bożej z Dzieciątki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ony piękna obowiązywały do czasów współczesnych, chociaż zmieniały się               w różnych epokach i kręgach kultur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czasach współczesnych artyści zarzucili tworzenie według kanonów, niejednokrotnie zupełnie się im sprzeciwiają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ękno przestało by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ożsamiane wyłącz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jednym, oficjaln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owiązującym wzo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chuj"/>
          <p:cNvPicPr/>
          <p:nvPr/>
        </p:nvPicPr>
        <p:blipFill>
          <a:blip r:embed="rId1"/>
          <a:stretch/>
        </p:blipFill>
        <p:spPr>
          <a:xfrm>
            <a:off x="5867280" y="3068640"/>
            <a:ext cx="2544840" cy="3097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867280" y="6165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.Picasso „Kobieta płacząca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6-29T22:17:05Z</dcterms:modified>
  <cp:revision>76</cp:revision>
  <dc:subject/>
  <dc:title>Slajd 1</dc:title>
</cp:coreProperties>
</file>