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D610-B5EB-4B64-94DE-F8CDC1648F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1E3-DF4A-4875-992B-93F223EDB5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94E-1B11-479A-8E68-930C141EBB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3C4D-EDCC-4CE9-B0B7-0135A40BCD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3CD-2C39-4115-A8E7-59D6FA7237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258-D0B8-4983-A59A-535FB2BB19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8440-F818-4A59-A9DE-AF1231CEAC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643-2E4F-488B-A21D-A10A2AA259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7E9-F579-4393-96AC-8A07FB51D4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6C5C-EFDF-408F-84C0-812C04D6DC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34C-F892-42C1-B525-9072D07C59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31A2-44A6-4208-8ACA-A522BAFF09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AAC-4D10-49E8-8C19-65616B5177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AAB-70A2-463A-A993-BBBF4FDFB7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0FB-6F56-4635-95C4-86BD34DB0D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B6A-232D-4010-8E17-A21EF4C3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A61-A9C0-4AB7-9ECA-45608F20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EEF-FC3A-4E44-88D9-D5CE9712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210-8F5A-4902-B32A-24D625CE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09A2-FCD1-447D-AA2A-63C8D90B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779-5188-45B4-BD0B-446B2773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021-6B31-4045-A4BD-C61DD20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950F-EEB3-4C0E-9B0D-C197D4A2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CECD-3871-4FD9-B853-F7761A7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06C7-F8FE-47EB-BB10-BDC5E57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DE59-089D-4E85-A812-5308161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EE3-AFED-4051-A3E9-97F20D6A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9CCF-20E4-4729-A9F3-AC75884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000-6B1F-4B07-8FBF-C77EC61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13B8-3762-438B-A12F-8C2C60B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25E-F653-4916-88FB-A1E24E22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817-FC1A-4492-91B2-5C7FF190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648-1658-441F-BDB6-1D8B4A6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94B-C179-4C0B-BCC1-BE7D6BA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153-58D5-4895-BD14-CF6E2FF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9B2-56A7-4376-AA17-905F6D9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990-1517-4B82-8167-CD3C1EA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987-05FE-4355-84E5-C8373B5D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0DD-73BD-4308-B75F-BAF0550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5244-42F5-4080-9137-7B6E7657E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A0D-2603-40A6-B57A-D36C93D91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Składniki kosmetyków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ume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zadaniem jest utrzymanie wilgotności całego kosmetyku. To właśnie dzięki nim krem ma cały czas przyjemną konsystencję, a pasta do zębów nie wysycha w tu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gęstn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trzymują odpowiednią konsystencję kosmetyku. To dzięki zagęstnikom szminka nie pływa w opakowaniu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 sztyfty nie wylewają się z pojemników. Do tego typu substancji należą np.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Xanthan Gum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zy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Carbome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nserw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ełniają bardzo ważną rolę. Ponieważ kosmetyków używa się bardzo często, są zatem narażone na regularne kontakty z różnego rodzaju drobnoustrojami przenoszonymi przez nasze dłonie i ciało. Ab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osmetyku nie zaczęły rozwijać się mikroorganizmy, stosowane są właśnie konserwa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najpopularniej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midazolidinyl urea, Ethylparaben, Methylparaben, Iodopropynyl Butylcarbamate, Methylisothiazolinone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o kosmetyków posiada wyciągi roślinne w swoim składzie. Warto zaznaczyć, że to rośliny były od dawna używane do pielęgnacji skóry, w związku z czym ich obecność w kosmetykach powinna być naturalną koleją rzec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 różnych części roślin tworzy się ekstrakty, używa się także olejków eterycznych czy wosków roślinnych. Wszystkie te substancje są naturalnego pochodzenia, w związku z czym nie trzeba ich sztucznie syntetyz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MP900427717[1]"/>
          <p:cNvPicPr/>
          <p:nvPr/>
        </p:nvPicPr>
        <p:blipFill>
          <a:blip r:embed="rId1"/>
          <a:stretch/>
        </p:blipFill>
        <p:spPr>
          <a:xfrm>
            <a:off x="395280" y="360684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MP900448362[1]"/>
          <p:cNvPicPr/>
          <p:nvPr/>
        </p:nvPicPr>
        <p:blipFill>
          <a:blip r:embed="rId2"/>
          <a:stretch/>
        </p:blipFill>
        <p:spPr>
          <a:xfrm>
            <a:off x="3419640" y="3716280"/>
            <a:ext cx="2106360" cy="264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MP900427834[1]"/>
          <p:cNvPicPr/>
          <p:nvPr/>
        </p:nvPicPr>
        <p:blipFill>
          <a:blip r:embed="rId3"/>
          <a:stretch/>
        </p:blipFill>
        <p:spPr>
          <a:xfrm>
            <a:off x="6300720" y="3141720"/>
            <a:ext cx="2130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kosmetyki, które zawierają wyłącznie naturalne składniki, to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smetyki ekologi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tóre są obecnie bardzo popularne. Nie zawierają one sztucznych substancji, takich jak konserwanty, barwniki czy substancje zapachowe. W ich skład wchodzą wyłącznie naturalne wyciągi z roślin. Nie ma jednak gwarancji, że taki kosmetyk nie będzie działał uczulająco na skór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ajpopularniejszych składnikó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nych kosmetyków należ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 z alo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i zioł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lgi mo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linka kosmet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247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taminy są niezbędne do właściwego funkcjonowania organizmu. Jest on jednak pozbawiony możliwości ich syntetyzowania. Z tego względu muszą być dostarczane                 z zewnątrz, np. jako składnik kosmety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Przykłady zastosowania witamin w kosmety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egeneracja skóry, poprawa jej elastyczn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tosowana do cery trądzik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5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ielęgnacja i regeneracja paznokci i włos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1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antystres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przeciwzmarszczkowe, przeciwłojotokowe, regenerujące i odżywiające skór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nawilżanie skóry, zmniejszanie zmarszczek                         i przebarwień, wzmacnianie włosów i paznok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które substancje zawarte w kosmetykach, aby zadziałać, muszą najpierw naruszyć strukturę tkan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ten sposób odbywa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rbowanie włos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Farby do włosów działają od wewnątrz. Aby pigment mógł zabarwić włosy, najpierw muszą zostać otworzone łuski włosa po to, aby barwnik wniknął do środka. Do tego celu stosuje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monia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Pigment jest transportowany do wnętrza włos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formie niewielkich cząstecze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tomiast w środku wło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 większ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upienia, uniemożliwiają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ostanie się na zewnątr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MP900382993[1]"/>
          <p:cNvPicPr/>
          <p:nvPr/>
        </p:nvPicPr>
        <p:blipFill>
          <a:blip r:embed="rId1"/>
          <a:stretch/>
        </p:blipFill>
        <p:spPr>
          <a:xfrm>
            <a:off x="4643280" y="3500280"/>
            <a:ext cx="34164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to s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mety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a bezpiecznej produkcji kosmety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czego składają się kosmety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zaje substancji zawartych w kosmety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Kosmety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są powszechnie używanymi substancjami służącymi do pielęgnacji, oczyszczania i upiększania naszego cia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ają bezpośredni kontakt z naszą skórą, dlatego składniki w nich zawarte powinny być bezpieczne i nie powodować podrażnie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ogą występować w różnej formie, np. żelu, kremu, sprayu, emulsji, sztyftu czy prosz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MC900217156[1]"/>
          <p:cNvPicPr/>
          <p:nvPr/>
        </p:nvPicPr>
        <p:blipFill>
          <a:blip r:embed="rId1"/>
          <a:stretch/>
        </p:blipFill>
        <p:spPr>
          <a:xfrm>
            <a:off x="7236000" y="189000"/>
            <a:ext cx="127296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611280" y="476280"/>
            <a:ext cx="619272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Bezpieczeńst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równo dla konsumentów jak i dla producentów kosmetyków podstawową sprawą jest to, aby były one bezpieczne w użyci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zpieczeństwo kosmetyków regulowane jest rygorystycznie przepisami praw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ważniejszą zasadą stosowaną dla przy produkcji kosmetyków jest to, że żaden kosmetyk wprowadzony do obrotu nie może zagrażać zdrowiu i życiu ludzkiem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które kosmetyki posiadają certyfikaty ekologiczne, które świadczą o tym, że produkt spełnia rygorystyczne normy dotyczące jego produkcji i skła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emeter"/>
          <p:cNvPicPr/>
          <p:nvPr/>
        </p:nvPicPr>
        <p:blipFill>
          <a:blip r:embed="rId1"/>
          <a:stretch/>
        </p:blipFill>
        <p:spPr>
          <a:xfrm>
            <a:off x="2268360" y="5157720"/>
            <a:ext cx="2133720" cy="124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cocert-archipelag-piękna-naturalne-kosmetyki"/>
          <p:cNvPicPr/>
          <p:nvPr/>
        </p:nvPicPr>
        <p:blipFill>
          <a:blip r:embed="rId2"/>
          <a:stretch/>
        </p:blipFill>
        <p:spPr>
          <a:xfrm>
            <a:off x="5724360" y="4869000"/>
            <a:ext cx="1444680" cy="1455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755640" y="476280"/>
            <a:ext cx="799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Z czego składają się kosmety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niczo kosmetyki składają się z dwóch rodzajów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czyn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bazow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decydują o właściwy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wpływają na formę i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ziałaniu kosmetyku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ystencję kosmety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ierają do głębsz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owią główną masę prepara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stw skó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MC900239905[1]"/>
          <p:cNvPicPr/>
          <p:nvPr/>
        </p:nvPicPr>
        <p:blipFill>
          <a:blip r:embed="rId1"/>
          <a:stretch/>
        </p:blipFill>
        <p:spPr>
          <a:xfrm>
            <a:off x="3708360" y="3141720"/>
            <a:ext cx="165276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Line 11"/>
          <p:cNvSpPr/>
          <p:nvPr/>
        </p:nvSpPr>
        <p:spPr>
          <a:xfrm>
            <a:off x="2556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5148000" y="49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11280" y="476280"/>
            <a:ext cx="813744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Rodzaje substancji zawartych w kosmetyk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wa głównym składnikiem wielu kosmetyków. Woda w nich występująca podlega rygorystycznym normom określającym jej czyst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55640" y="260280"/>
            <a:ext cx="7993080" cy="115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rfa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inaczej substancje powierzchniowo czynne. Charakteryzują się specyficzną budową, gdzie w jednej cząsteczce znajduje się zarówno część hydrofilowa, jak i lipofilowa. W związku z tym są bardzo dobrymi substancjami myjącymi, ponieważ mogą rozpuszczać zarówno składniki „wodolubne” jak i tłuszczow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które z nich w dużych dawkach mogą wywołać efekt podrażnienia, dlatego często stosuje się mieszankę różnych surfaktantów. Do najpospolit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Sodium Laureth Sulfate, Cocamidopropyl Betaine </a:t>
            </a:r>
            <a:r>
              <a:rPr b="0" i="1" lang="pl-PL" sz="2800" spc="-1" strike="noStrike">
                <a:solidFill>
                  <a:srgbClr val="33cc33"/>
                </a:solidFill>
                <a:latin typeface="Arial"/>
              </a:rPr>
              <a:t>        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 Decyl Gluco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molie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ą substancjami lipofilowymi, czyli tłuszczowymi. Ich rola polega na zapobieganiu nadmiernemu parowaniu wody przez powierzchnię skóry, dzięki czemu jest ona bardziej nawilżo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elastyczna. Kosmetyk zawierający emolienty rozprowadzony na powierzchni skóry tworzy warstwę zabezpieczającą przed parowaniem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 ciekawe, kosmetyk nie ulega wchłonięciu przez skórę, tylko zostaje na jej powierzchni, a powłoka zabezpieczająca przed parowaniem wody z głębszych warstw skóry powstaje poprzez odparowanie wody w kosmetyku, który staje się wówczas niewyczuwal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em często stosowanych emolientów są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Octyldodecanol </a:t>
            </a:r>
            <a:r>
              <a:rPr b="0" i="1" lang="pl-PL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i Paraffinum Liqui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e hydrofi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substancje, które przyciągają wodę z otoczeni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zwiększają nawilżenie naskórka. Mogą być stosowane zarówno nisko- jak i wielkocząsteczkowe substancje hydrofilowe. Te pierwsze, dzięki niewielkim rozmiarom, są w stanie wniknąć w głąb skóry, drugie działają jedynie na jej powierzch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tego rodzaju substancji należy np. gliceryna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Glycer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7-01T19:18:19Z</dcterms:modified>
  <cp:revision>88</cp:revision>
  <dc:subject/>
  <dc:title>Slajd 1</dc:title>
</cp:coreProperties>
</file>