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0AFF-3E6E-4EBA-B13B-8C4080E06F8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F8D5-E2C5-40DD-A9FE-C6AED41FC2B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9CA0-F4DC-48F6-943F-2F454CDC5C8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91AF-81E2-4E0D-956D-83FE8BD728F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FA5D-237F-4812-9711-E7C97E8DE9B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A2AB-EA9F-480F-A4DF-86400F331EB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8D24-B27A-44EF-ADBD-7538CF8810D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B6E9-8EA3-48AB-95BA-9C720E1BABA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DB74-7180-4B7F-9550-666DB6FAE4C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CEF1-4A50-4ACC-8BD8-BC4F512F09C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57CD-7D75-4DB6-8554-E80E10AFF86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19B3-82C4-4447-B880-5AA291BEF63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2184-900C-49CD-ABCA-4C84A5D5C23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9748-B27A-42DE-8063-8A17B4D7070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7FD0-DC4D-4344-8711-69F9D171323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2350-8726-4CA0-A8C5-EC911D21C4D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F6B7-5EBC-4AA4-A126-DBD2BCC01EC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C10B-1C53-4137-BF43-44735898A9A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B28A-807C-4399-92A9-24AE1F6B2F1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43DD-F80B-43B4-BEFA-2B0253003C2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D0B3-645F-4DA6-BE64-F8B59BBADA9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FBF8-16B1-4E6A-9CCD-B1C9F4EC36B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9C19-076B-4FEA-AE02-E7078C8D71E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0809-CC6C-433D-BC76-9AE70FE60F2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9FE7-CAA7-4840-9D3B-3024E3583F2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5B67-AA28-42B7-A166-92C2B5D8DA1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D3F6-BBC6-4686-815D-FEDE097A8C8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B42-3D12-41EE-AD32-9F2529A0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03EC-16D7-48C0-BF1F-9E122E46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5EF-AC2B-43EA-B356-FD34EC66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1C4-953F-45D7-A6BF-23C29193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D2C9-0DE0-482B-8A9A-8C2C36B7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5B79-D356-46E5-AFCC-E0654653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7C86-D0D8-4F08-ADC1-3BF6599A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AA58-7808-426C-BDBE-1E571DC6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BA16-D514-4118-8ECD-B4E833DA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C233-C411-4455-8855-3A2E0C95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94F3-2321-47F9-8187-DF3DCACD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649-5F6C-4814-8790-ECC917B0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EA4E-DCA3-41C9-98DF-30DE61CF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A6B0-0917-4AA7-8EE8-6C0BDBFD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203F-A2A0-43CC-8C5E-4B4AED39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D5BD-F008-44E2-9604-639E5BC3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174E-536B-4203-BB5E-D89DD255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C5E2-5141-4E06-ACB1-CBF8428D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D1D-5ED1-425A-8897-0FACD1CF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751-26F0-49C0-9535-075C9976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0058-C9C1-4F2C-981C-1F31C1AE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C48D-0B33-489F-B5F7-93AAE123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83E-CB72-4C85-9420-5278E20B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C745-13E3-4727-932E-BE0CDEAE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E626-F06E-4A84-AF7E-2DA3127559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5845-2FAC-4592-BE94-45F361CF25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Budowa i właściwości wod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dstawowe rodzaje wiązań chemiczny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iązanie kowalencyjne niespolaryzow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wstają w wyniku połączenia się atomów, których różnica elektroujemności jest niewielka (max. 0,4). Wspólna para elektronów znajduje się w równej odległości między dwoma atomam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iązanie kowalencyjne spolaryzow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wstaje w wyniku połączenia się atomów, których różnica elektroujemności wynosi od 0,5 do 1,7. W tym przypadku wspólna para elektronowa przesunięta jest w stronę atomu o wyższej elektroujemnośc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iązanie jon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wstaje wówczas, gdy różnica elektroujemności między poszczególnymi atomami jest bardzo duża (powyżej  1,7). Wówczas elektrony się nie uwspólniają, tylko część z nich dołącza się do drugiego atomu, który staje się anionem (naładowany ujemnie). Drugi jest kationem (naładowany dodatnio) i tworzą wspólny związek jonowy na zasadzie wzajemnego przyciągania elektrostatyczne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Na podstawie tych informacji zastanów się, jakie wiązanie występuje w cząsteczce w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może Ci w tym układ okresowy pierwiastków w podaną elektroujemnością każdego z ni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808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3008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ązania w cząsteczce wody są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ązaniami kowalencyjnymi spolaryzowany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Ponieważ tlen posiada wyższą od wodoru elektroujemność, zatem elektrony tworzące wiązanie są przesunięte w jego kierunku. Wokół atomu tlenu gromadzi się ładunek ujemny (tak wpływa bliska obecność elektronów), zaś wokół atomów wodoru ładunek dodatn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 związku z tym cząsteczka wody posiada moment dipolowy i jes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pol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udowa cząsteczki wody jest nieliniowa, a kąt w wiązaniu wodór – tlen – wodór wynosi niecałe 105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Nad atomem tlenu gromadzi się ładunek ujemny, natomiast nad atomami wodoru – dodatni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Zastanów się jaki ma to wpływ na inne substancje, które znajdą się w wodzie jak i na samą wod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0" lang="pl-PL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40000" y="3322800"/>
            <a:ext cx="360036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yobraźcie sobie substancję, która zbudowana jest z jonów (dodatnich kationów i ujemnych anionów). Jej uproszczony schemat przedstawia poniższy rysun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W jaki sposób na taką substancję będzie wpływała woda? Czy będzie ona jej dobrym rozpuszczalniki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2714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nieważ woda jes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pol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jest zatem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brym rozpuszczalnikiem związków jonowych i polarny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Wynika to zarówno z nieliniowej struktury cząsteczki wody jak i z obecności trwałego momentu dipolowego. Wyjaśnia to poniższy schem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69166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da ulega także procesow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ocjacj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czyli wiązani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ząsteczek wody za pomocą wiązań wodorowych. Jest on następstwem ich specyficznej budow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6000" y="2473200"/>
            <a:ext cx="662472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oda ulega także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autodysocjacj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jednak jest to proces na tyle słaby, że stężenie formy zdysocjowanej jest pomijalne. Reakcja ta przebiega w następujący sposób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 + H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             H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+ OH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jon hydroniowy        jon oksonio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chemicznie czystej wodzie stężenie jonów hydroniowego i oksoniowego wynoszą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-7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mol/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ecność tych jonów jednak decyduje                             o właściwościach wody związanych z rozpuszczaniem innych substancji polarnych i jonow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067280" y="2205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5"/>
          <p:cNvSpPr/>
          <p:nvPr/>
        </p:nvSpPr>
        <p:spPr>
          <a:xfrm flipH="1">
            <a:off x="4066920" y="234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da jest jedną z najbardziej rozpowszechnionych substancji na świecie. Ciało człowieka składa się           z około 70 % wody. Jest ona siedliskiem życia wielu organizmów, a także substratem w wielu reakcjach. Jest niezbędna do tego, aby na Ziemi mogło istnieć życ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złowiek dziennie powinien wypijać około 2 litrów wody. W związku z tym cała populacja ludzka, zamieszkująca naszą planetę powinna każdego dnia spożywać łącznie około 14 miliardów litrów wody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Właściwości w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Weźcie teraz do ręki naczynie z wodą i przyjrzyjcie jej się uważnie. Co możecie o niej powiedzieć na pierwszy rzut ok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zbarw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z zapach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zejrzy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łynny stan skupi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 jest lep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ubstancja, która występuje w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zech stanach skupien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ciało stałe (lód), ciecz (woda) i gaz (para wod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MC900441750[1]"/>
          <p:cNvPicPr/>
          <p:nvPr/>
        </p:nvPicPr>
        <p:blipFill>
          <a:blip r:embed="rId1"/>
          <a:stretch/>
        </p:blipFill>
        <p:spPr>
          <a:xfrm>
            <a:off x="4788000" y="177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da jako źródło ży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da jako substancja chemicz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łaściwości w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MP900427792[1]"/>
          <p:cNvPicPr/>
          <p:nvPr/>
        </p:nvPicPr>
        <p:blipFill>
          <a:blip r:embed="rId1"/>
          <a:stretch/>
        </p:blipFill>
        <p:spPr>
          <a:xfrm>
            <a:off x="5219640" y="3429000"/>
            <a:ext cx="28767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da cechuje się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omalną rozszerzalnością temperaturow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Większość substancji wraz ze wzrostem temperatury zwiększa swoją objętość,           a zmniejsza ją, gdy temperatura sp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da natomiast zmniejsza swoją objętość ze spadkiem temperatury, jednak tylko do osiągnięcia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 Od tej wartości jej objętość zaczyna rosnąć. W podanej temperaturze gęstość wody jest najwięks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Jak myślisz, w jaki sposób jest wykorzystywana ta specyficzna właściwość wod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Łatwo możemy zaobserwować tę właściwość wystawiając pełną wody i zakręconą butelkę na mró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wniej ludzie wykorzystywali fakt, że woda poniżej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zwiększa swoją objętość do rozłupywania skał. W szczeliny wlewano wodę, która zamarzając na mrozie odrywała od siebie poszczególne skalne blo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6" descr="MC900241311[1]"/>
          <p:cNvPicPr/>
          <p:nvPr/>
        </p:nvPicPr>
        <p:blipFill>
          <a:blip r:embed="rId1"/>
          <a:stretch/>
        </p:blipFill>
        <p:spPr>
          <a:xfrm>
            <a:off x="6659640" y="5013360"/>
            <a:ext cx="1817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da posiada także największ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pięcie powierzchniow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Jest ono wynikiem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ohezj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zyli wewnętrznych oddziaływań między cząsteczkami wody, stanowiącymi o spójności tych cząstecz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Jak możemy to zaobserwować i do czego ta właściwość wody może być przydatn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lewając powoli wody do szklanki zauważymy, że część wody wystaje poza górną krawędź naczynia, tworząc tzw. menisk wypukły. Wynika to właśnie z siły wzajemnego przyciągania cząsteczek wody, które są w stanie utrzymać pewną jej ilość ponad szklank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łaściwość ta przydaje się między innymi drobnemu owadowi – nartnikowi – który potrafi poruszać się po powierzchni wody odbijając się od niej cały czas utrzymując się nad wod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da potrafi wytworzyć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lbrzymie ciśnieni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 porach i naczyniach rośl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zemu może ono służyć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 kiełkującym nasieniu ciśnienie może wynosić kilkaset atmosfer. Tak olbrzymie ciśnienie powoduje, że młoda siewka bez problemu potrafi przebić się przez asfal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za tym ciśnienie wody wykorzystywane jest chociażby w procesach cięcia. Stosowana jest technologia cięcia różnych materiałów za pomocą strumienia wody, który pod wysokim ciśnieniem jest w stanie zastąpić narzędzia tną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MC900383120[1]"/>
          <p:cNvPicPr/>
          <p:nvPr/>
        </p:nvPicPr>
        <p:blipFill>
          <a:blip r:embed="rId1"/>
          <a:stretch/>
        </p:blipFill>
        <p:spPr>
          <a:xfrm>
            <a:off x="7731000" y="5300640"/>
            <a:ext cx="12304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d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e j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ściśliw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Oznacza to, że pod wpływem wywieranego na nią ciśnienia nie zmienia swojej objętoś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Do czego może być wykorzystywana ta właściwość wod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łaśnie ta cecha wody wykorzystywana jest chociażby w przypadku hamulców hydraulicznych. Woda znajdująca się w przewodach hamulcowych pod wpływem ucisku nie zmienia swojej objętości, tzn. nie można jej ścisnąć. Dzięki temu dociska i powoduje przesunięcie elementów hamując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MC900439791[1]"/>
          <p:cNvPicPr/>
          <p:nvPr/>
        </p:nvPicPr>
        <p:blipFill>
          <a:blip r:embed="rId1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oda ma wyjątkowo wysoką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jemność cieplną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Oznacza to, że aby zmienić jej temperaturę o jeden stopień, potrzeba bardzo wiele ciepł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W jaki sposób wykorzystywana jest ta właściwość wod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pewno każdy miał okazję dotknąć w zimie gorącego kaloryfera. Wykorzystuje on właśnie tę właściwość wody,            o której mówimy. W jego wnętrzu znajduje się woda, która podgrzana do wysokiej temperatury dzięki wysokiej pojemności cieplnej potrafi ją także długo zachowa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orza i oceany są naturalnymi rezerwuara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iepła, które łagodzą klimat. Wynika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aśnie z opisanej powyżej właściwości w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6" descr="MC900078783[1]"/>
          <p:cNvPicPr/>
          <p:nvPr/>
        </p:nvPicPr>
        <p:blipFill>
          <a:blip r:embed="rId1"/>
          <a:stretch/>
        </p:blipFill>
        <p:spPr>
          <a:xfrm>
            <a:off x="6659640" y="4076640"/>
            <a:ext cx="205272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Woda jako źródło ży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iemia nazywana jest często Błękitną Planet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laczego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MP900430849[1]"/>
          <p:cNvPicPr/>
          <p:nvPr/>
        </p:nvPicPr>
        <p:blipFill>
          <a:blip r:embed="rId1"/>
          <a:stretch/>
        </p:blipFill>
        <p:spPr>
          <a:xfrm>
            <a:off x="2340000" y="2781360"/>
            <a:ext cx="4608360" cy="338148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5"/>
          <p:cNvSpPr/>
          <p:nvPr/>
        </p:nvSpPr>
        <p:spPr>
          <a:xfrm>
            <a:off x="755640" y="333360"/>
            <a:ext cx="7777080" cy="100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zeczywiście, nasza planeta widziana z Kosmosu wyróżnia się swoim błękitnym kolorem. Pochodzi on od wody, która pochłania światło widzialne w zakresie barwy czerwonej stukrotnie silniej niż błękitn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oda zajmuje około 71 % powierzchni Ziemi. Gdyby zamknąć ją całą w kuli, to miałaby ona średnicę 1385 k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Calibri"/>
              </a:rPr>
              <a:t>Czy to dużo, czy mał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obraźcie sobie, że średnica Ziemi wynosi 12 748 k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Wykonajcie z gazet jej model, a następnie model „kuli wody” w skali 1:100 000 000 i porównajcie je ze sob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ala 1:100 000 000 oznacza, że 1 cm w modelu odpowiada 100 000 000 cm w rzeczywisto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 m = 100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 km = 100 000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 km = 1000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nika z tego, że 1 cm w modelu odpowiada 1000 km                 w rzeczywisto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tem 12 748 km w modelu będzie mierzyło okoł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2,7 cm, a 1385 km – ok. 1,4 c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Calibri"/>
              </a:rPr>
              <a:t>Odpowiedzcie teraz na pytanie, czy zasoby wody na naszej planecie się duże, czy mał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3132000" y="1413000"/>
            <a:ext cx="719280" cy="1439640"/>
          </a:xfrm>
          <a:custGeom>
            <a:avLst/>
            <a:gdLst>
              <a:gd name="textAreaLeft" fmla="*/ 0 w 719280"/>
              <a:gd name="textAreaRight" fmla="*/ 259560 w 719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zego szukają naukowcy na innych planetach rozważając możliwość istnienia na nich życ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zywiście szukają WODY! W 2008 roku odkryto wodę na Marsie, a w następnym roku na Księżyc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MP900401287[1]"/>
          <p:cNvPicPr/>
          <p:nvPr/>
        </p:nvPicPr>
        <p:blipFill>
          <a:blip r:embed="rId1"/>
          <a:stretch/>
        </p:blipFill>
        <p:spPr>
          <a:xfrm>
            <a:off x="2124000" y="1413000"/>
            <a:ext cx="46800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Ziemi pierwsze żywe organizmy powstały      w wodzie. Wskazuje to, jak ważne dla rozwoju życia jest środowisko wod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ym z pierwszych czworonogów była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Ichtiosteg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 Była to forma przejściowa między rybami a płazami. Jako jeden z pierwszych gatunków zwierząt opuściła siedlisko wodne        i „wyszła na ląd”. Miało to miejsce około 380 mln lat te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Woda jako substancja chemicz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ększość z Was na pewno wie, jaki wzór chemiczny ma woda.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rzypomnijmy go zat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wa atomy wodoru, jeden atom tlen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684360" y="333360"/>
            <a:ext cx="7848360" cy="100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tomy w związkach chemicznych połączone są za pomocą wiązań chemicznych. Polegają  one na połączeniu się niesparowanych elektronów leżących na ostatniej powłoce każdego atomu w ten sposób, że tworzą one wspólne pary elektronow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ązania chemiczne różnią się między sobą pod względem lokalizacji w cząsteczce uwspólnionej już pary elektronów, tworzących to wiąz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10-21T18:49:46Z</dcterms:modified>
  <cp:revision>92</cp:revision>
  <dc:subject/>
  <dc:title>Slajd 1</dc:title>
</cp:coreProperties>
</file>