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0C8-393C-4589-8DA3-884ACAE71B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BDA-0B41-4E8E-A399-38B9C019B2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CA8-7586-412E-9AF7-A782586C02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732D-191D-478C-9EF7-819DBADD8D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929-3CBE-4A4A-AA05-8EF7C52E49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1486-AA2D-4A32-BA33-553AC513A9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87B-77A4-4D3C-8600-6C1B7CA535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B95-3C59-48A3-AF95-A787368708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C496-3CD0-44B1-8EC6-8210180826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580-5E9F-413D-9D64-704C570D7E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2F9-CA90-4095-BBC2-56897D31AA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432-6489-4AED-9752-BF27B36FEC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E2F8-CF87-4B5E-9FEC-503A87C565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28BA-84B7-4FED-8438-7FD1912216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E0C-41DA-4193-B129-671FB387CE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34F-6242-4905-8430-8A774210E4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E1F-4EF9-43CC-8F81-9F67B22F7F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C17C-A692-47BE-8FE1-B15B8FDB54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611F-2A05-4091-808A-D66D794A87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0931-92A0-463F-A199-30279453B1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68C6-1AF9-46B4-822F-1471A115B6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5A6-5282-45D1-8033-E30FB784AB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C7CF-E202-4E8F-A8B0-D38B0153BF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2368-5273-44CA-8E2E-F05657D6F1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368-EC2F-4F39-AE07-57E02A09EB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298-DE2C-46F1-87D4-D653238DA6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065-B07D-44E9-B939-2C256A1706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A10B-D0F3-4AB6-A70A-4F6BD7939B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B3D3-0F76-49E7-AAFA-2ACCDF1AE8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E97-95A3-48EF-84E3-6C591E4F6F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705-3D29-4DC4-8A90-42ADFA8E7E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BA73-2DE8-48F5-83BB-770051387C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707-2DCB-4C7E-87E3-8DDB7E50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F9E-C41A-4F0D-84BB-C5BB46C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46D-BC1E-4C85-83C0-A77FF59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50F-36BC-433E-906E-C0D0DA84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563-7C4C-4E9A-ABCC-DC694926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D42-B5CC-4EB3-852B-050FF63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B1C9-0949-49C8-82EA-1E4FC72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8460-0E16-422C-9F6D-8A27509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7BDA-1F9A-4119-8419-982AFF2C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AFA4-CCEF-408A-8C59-641B29B6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02B0-C99B-4F0F-A2A9-B430849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111-65E8-4331-93BB-4D62C8F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F97E-5783-4B5A-9D99-B195A57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466F-4E86-4D22-ACA0-7B82B8A9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B45-3116-4DA5-9E28-F0519D5C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879D-9D37-4A93-8D56-C5AB439A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4A4-2420-4ECB-8E5F-0DA4C177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C0A-4DFB-4387-B108-6EBD4CA6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FBE-444C-42FC-A41D-F330998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60B-8453-4884-8736-0560275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853-BFAB-47BD-B0A2-EBA9E014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47F-F0FA-4842-81ED-E11A81F1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64A-8F92-4DCC-9CB3-55C4365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DC5-F4CB-4B53-ACE1-AEC04A9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9F85-15C9-475A-8686-12585E8F9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2BBF-C8E3-4264-A267-333FD8A2F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oztwory wodn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odzaje roztwor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tw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zywamy mieszaninę dwóch lub więcej substan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częściej jedną z substancji w roztworze nazywam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puszczalniki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dyspersyjna), a drug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stancją rozpuszczon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zdyspergowa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MP900402696[1]"/>
          <p:cNvPicPr/>
          <p:nvPr/>
        </p:nvPicPr>
        <p:blipFill>
          <a:blip r:embed="rId1"/>
          <a:stretch/>
        </p:blipFill>
        <p:spPr>
          <a:xfrm>
            <a:off x="5148360" y="2060640"/>
            <a:ext cx="35290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ztwory dzielimy 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rzeczywis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o roztwory jednorodne, których rozmiary cząsteczek substancji rozproszonej mają rozmiary mniejsze od 1 n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niewłaści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nie są całkowicie jednorodne. Wśród nich wyróżniamy m.in. Roztwory koloidalne i zawies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3816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twory koloidal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ozornie sprawiają wrażenie roztworów właściwych, jednak substancje tworzące roztwó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są zmieszane na poziomie pojedynczych cząsteczek. Rozmiary cząsteczek substancji rozproszonej wynoszą od 1 nm do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752720" cy="46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awiesin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ieszaniny niejednorodne, w których zazwyczaj cząsteczki substancji rozpuszczonej są znacznie większe od cząsteczek rozpuszczalnika i są większe niż 100 nm. Z tego powodu substancja rozpuszczona (jako cięższa) ma tendencję do opadania na dno, tj. sedymentacji. Zazwyczaj gołym można dostrzec niejednorodność zawies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Zada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klasyfikuj podane roztwory na roztwory właściwe, koloidalne i zawiesin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g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ł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wietr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a z sol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kr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gip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drożdży spożywc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enzy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arba malar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ysocjacja elektr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twory wodne substancji chemicznych możemy podzielić na dwa rodza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przewodzące prąd elektr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ie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nie przewodzące prądu elektr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go rozróżnienia dokonał w XIX wieku szwedzki chemik Svante Arrhenius, który stworzył teorię dysocjacji elektrolitycz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teorii Arrheniu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to rozpad elektrolitów na naładowane elektrycznie jony – dodatnio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kat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i ujemnie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an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twór jest elektrycznie obojętny, ponieważ suma ładunków kationów i anionów zawsze jest równa z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elektrolity nie ulegają dysocjacji elektroli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ztworach wodnych w przypadku słabych elektrolitów dysocjacja jest zawsz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cesem odwracalny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pomiędzy formą zdyscocjowaną a niezdysocjowaną zachowana jest wówczas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ównowa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ysocjacji w wodzie ulega większość kwasów i zasad, a także prawie wszystkie rozpuszczalne w wodzie s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ulega samorzutnej reakcji dysocjacji zgodnie z równani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        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czym formy zdysocjowanej jest w wodzie bardzo niewiele (zaledwie 1 zdysocjowana cząsteczka na każde 10 000 000 niezdysocjowanych!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211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421128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uszczalność substancji chemicznych w w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dzaje roztwo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 dysocjacji elektrolity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Cl                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OH                Na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2K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2A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3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851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851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851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851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c elektrolitów określ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stopień dysocjacji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y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finiuje się jako stosunek liczby cząstek, które uległy dysocjacji do całkowitej liczby cząstek wprowadzonych do roztwo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cnych elektrolit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ależą niektóre kwasy, np. HCl , HBr, HI, H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,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także zasady: wodorotlenki litowców i berylowców (z wyjątkiem wodorotlenku berylu i magnez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ównowagę reakcji dysocjacji elektrolitycznej opisuje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ła dysocjacji 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Dla substancji, których dysocjacja przebiega zgodnie z reakcj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B        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ta ma posta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[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851280" y="59500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21164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4140000" y="429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dwóch probówek wlej po 2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CuC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. Ma on niebieską barwę. Następnie do pierwszej probówki wlej ac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raz do obu probówek dolej czystej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 jest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probówki wlej 2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CoCl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Roztwór ten ma barwę czerwoną. Następnie dolej do probówki stężony kwas H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eraz dodaj to probówki w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się stał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laczego nastąpił powrót do pierwotnej bar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4. Skala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jawisk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 wod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służyło do stworzenia skali kwasowości i zasadowości roztwor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yn roztworu określa się za pomocą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ężenia jonów oksoniow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nim zawart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H = -log [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emicznie czysta woda jest pod względem odczynu neutralna. Stężenie jonów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nosi w niej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 Z powyższego wzoru wynika zatem, że jej pH wynosi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jęcie pH wprowadził duński naukowiec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sen, określając w ten sposób ujemny logarytm ze stężenia kationów wodorowych w roztw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azało się jednak, że wolne atomy wodoru nie występują w roztworach, ponieważ ulegają solwatowaniu tworząc jon oksoniowy 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zawiera wartości od 0 do 14, gdzie 0 oznacza silny odczyn kwasowy, a 14 zasa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owe wartośc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k żołądkowy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pochwy: 4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ślina: 7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ew: 7,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trzustki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żółć (wydzielina wątroby)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was akumulatorowy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ca-Cola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t: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eko: 6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dło: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68360" y="4005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8" descr="MC900433628[1]"/>
          <p:cNvPicPr/>
          <p:nvPr/>
        </p:nvPicPr>
        <p:blipFill>
          <a:blip r:embed="rId1"/>
          <a:stretch/>
        </p:blipFill>
        <p:spPr>
          <a:xfrm>
            <a:off x="5364000" y="1484280"/>
            <a:ext cx="261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hemiczn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oznaczania pH służą wskaźniki kwasowości. Są to substancje, które w zależności od odczynu roztworu w którym się znajdują, przyjmują różne barwy. Pokazuje to poniższa tab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7345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mow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rócz substancji chemicznych, dostępnych w zasadzie wyłącznie w laboratorium, rolę wskaźników kwasowości mogą z powodzeniem pełnić ogólnie dostępne substancje, takie j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par z czarnej herbat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odczynie kwaśnym ma barwę słomkową, w zasadowym – ciemnobrąz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e bura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silnie zasadowy zmienia ich kolor z czerwonego na niebie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eżyny i czarne porzecz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kwaśnym kolor niebieski, w zasadowym fiolet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urr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 pH ok. 7,4 – kolor żółty. Powyżej 8,6 – czerw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łatki pelargoni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kwaśny – kolor czerwony, roztwór zasadowy – niebie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a kapust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zasadowym zmienia barwę na zielo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Zaparz w około 0,5 litra mocnej, czarnej herbaty. Następnie rozlej napar w równych ilościach do dwóch naczyń. Do pierwszego z nich dodaj łyżeczkę kwasu cytrynowego, do drugiego sody oczyszczo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Rozpuszczalność substancji chemicznych w wodz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symalną ilość substancji, jaką można rozpuścić w danej temperaturze i pod stałym ciśnieniem w 100 g rozpuszczalnika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puszczaln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twór, który osiągnął swoją maksymalną rozpuszczalność,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em nasyco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derwij w główki czerwonej kapusty 5 liści i posiekaj je na drobne paski. Następnie włóż je do garnka i zalej wodą tak, by przykryła liście. Całość gotuj przez około 15 minut, a następnie odstaw do ostygnięcia. Po przecedzeniu otrzymasz roztwór, który należy rozlać w równej ilości do dwóch naczy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pierwszego z nich dodaj łyżeczkę sody oczyszczonej, do drugiego łyżeczkę oc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puszczalność substancji zależy od jej rodzaju i tempera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la różnych substancji wyznaczono tzw. krzywe rozpuszczalności, czyli wykresy obrazujące zależność pomiędzy rozpuszczalnością danej substancji w wodzie a temperatur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zwyczaj rozpuszczalność ciał stałych i cieczy wzrasta wraz ze wzrostem temperatury, natomiast rozpuszczalność gazów male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 dwóch naczyń wlej po 200 ml wody gazowanej. Jedno naczynie postaw na palniku i zacznij je podgrzewać, drugie pozostaw w normalnych warun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Z którego naczynia szybciej ulatnia się gaz zawarty w wodz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elu określenia, czy dana substancja jest łatwo- czy trudnorozpuszczalna w wodzie stworzon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abele rozpuszczalnośc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Zawierają one informacje dotyczące soli i wodorotle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odczytać z tabeli informację dotyczącą rozpuszczalności danej substancji w wodzie, należy odnaleźć na skrzyżowaniu wiersza i kolumny właściwych jonów symbol, wskazujący na jej rozpuszczalnoś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orzystając ze szkolnej tabeli rozpuszczalności wymień 5 substancji, które łatwo rozpuszczają się w wodzie, oraz 5 trudnorozpuszczalnych. Czy stosujesz te substancje w życiu codzien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788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celu identyfikacji składników nieznanych mieszanin substancji chemicznych przeprowadza się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izę jakościową jonó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ega ona na wykonaniu w odpowiedniej kolejności szeregu reakcji chemicznych, w wyniku których powstają barwne roztwory, wydzielają się gazy lub wytrącają się osady umożliwiające identyfikację poszczególnych j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jony usystematyzowane są w grupy, dla których opisane s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kcje charakterysty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możliwiające ich wykry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MP900426563[1]"/>
          <p:cNvPicPr/>
          <p:nvPr/>
        </p:nvPicPr>
        <p:blipFill>
          <a:blip r:embed="rId1"/>
          <a:stretch/>
        </p:blipFill>
        <p:spPr>
          <a:xfrm>
            <a:off x="4932360" y="134136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y umiejętnie korzystać z tablicy rozpuszczalności wykonaj reakcje charakterystyczne dla I grupy katio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I grupie znajdują się kationy: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Hg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Pb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czynnikiem grupowym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o stężeniu 2 mol/d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w próbce obecne są kationy I grupy, strącany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ały osad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ntyfikacji poszczególnych kationów dokonuje się w reakcji z wodnym roztworem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33:46Z</dcterms:modified>
  <cp:revision>55</cp:revision>
  <dc:subject/>
  <dc:title>Slajd 1</dc:title>
</cp:coreProperties>
</file>