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D5B2-067B-4B7C-9A1A-A6BD0AE75B51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52E5-8B1A-4AEF-8EA2-B9DE0B6117A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786B-7246-4639-AD31-EB877DF8DA6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C894-8E7C-45FA-BD69-0BE5F1112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7158-C78C-4F4C-A805-D1B4A39D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0518-73F3-4F29-BF76-8231C9117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EE5F-8916-49C7-8CE6-E30F6C093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A888-20F2-4A2A-8557-56BCC95F1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79E9-AE94-451C-9B2F-575AFFF6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AC03-E278-45B5-9B5D-3A79FAA8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D50D-A85F-4D06-8802-011EA0DD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4383-3BD7-49F5-9E40-C3C6EA2E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46C4-110E-4D11-917E-08562C5B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711E8-C431-4CEA-8D6C-50535F93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AF63-51D3-41C6-8CE4-4C578A6F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0D42-E2A2-4B0A-8AF1-49FBC129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49C9-7CFA-4601-900D-84E77595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B552-7A8B-48CD-8C21-7F3C0EFD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A093A-2F99-44DB-9034-A2B9D6739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2D48-0C8C-437F-B57B-B4E56DD48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B3D6-605F-4000-B363-2A9DA418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052B-8055-4C0B-A611-92BCC46B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3748-BBC0-4C4C-B741-77F1B049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11EC-EBEC-4C31-B430-F2C7FA2B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559C-C334-4106-8B53-D8AD72A0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EFCF-C0D4-4009-AD85-75B173B8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4928-0BCC-44A2-9D58-11351FC9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9F14-2E4C-4988-AC01-374F4EA25A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49EF-4870-477F-AD6D-D10C954B4D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alibri"/>
              </a:rPr>
              <a:t>Punkt potrójny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gr inż. Magdalena Ku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 prezentacji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ny skupienia mater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zym się różnią od siebie poszczególne stany skupieni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 wynika ze sposobu ułożenia atomów w poszczególnych stanach skupieni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nkt potrójny – definicja i znaczen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inic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yk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zejścia fazow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k to możliw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Stany skupienia mater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an skupienia materi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forma, w jakiej dana substancja występuje, określająca jej właściwości fizyczne.  Między poszczególnymi stanami skupienia występują skokowe zmiany tych właściwośc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yróżniamy trzy podstawowe stany skupienia: gazowy, ciekły i stał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900000" y="404640"/>
            <a:ext cx="7417080" cy="936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zym się różnią od siebie poszczególne stany skupieni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 poszczególnych stanach skupienia inne jest wzajemne ułożenie tworzących daną substancję cząstecz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iało stał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posiada uporządkowaną strukturę, poszczególne atomy ułożone są blisko siebie i nie mają wystarczająco dużo energii, aby pokonać siły przyciągania istniejące między nimi i oddalić się od pozostałych atom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iecz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atomy są w stałym kontakcie ze sobą, jednak nie jest to tak ścisłe ułożenie, jak w przypadku ciała stałego. Posiadają one więcej energii i poruszają się swobodnie względem siebie, choć wciąż nie mogą pokonać siły wzajemnego przyciągan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az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atomy poruszają się swobodnie między sobą, nie mają uporządkowanej struktury. Posiadają natomiast tyle energii, że całkowicie pokonują siły wzajemnego przyciągania i poruszając się wypełniają całą dostępną przestrzeń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Co wynika z takiego ułożenia atomów w poszczególnych stanach skupieni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Ciało stałe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zachowuje swój kształt, ponieważ atomy są położone bardzo blisko siebie. Z tego samego względu trudno zmniejszyć jego objętość – po prostu nie ma na to miejsc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Ciecz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przyjmuje kształt naczyń, w których się znajduje, jednak nie dąży do całkowitego zapełnienia tej przestrzeni. Z tego samego powodu, co w ciele stałym, trudno jest zmienić jej objętość. Dlatego mówimy o cieczach, że są trudnościśliw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Gaz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dąży do wypełnienia całej przestrzeni, w której się znajduje. Łatwo zmienić zarówno jego kształt jak i objętość, ponieważ atomy się są ze sobą sztywno połączon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. Punkt potrójny – definicja i znaczeni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unkt potrójn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stan, w którym dana substancja może znajdować się w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trzech stanach skupienia materi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które znajdują się między sobą w równowadz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kreślają go dw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metry: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iśnieni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mperatu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067280" y="3933720"/>
            <a:ext cx="1693800" cy="2374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084720" y="4078440"/>
            <a:ext cx="2087640" cy="2087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00000" y="260280"/>
            <a:ext cx="7417080" cy="1224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ykres obrazujący punkt potrój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IŚNIEN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UNKT POTRÓJN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EMPERATU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257800" cy="40370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flipH="1">
            <a:off x="3779640" y="2852640"/>
            <a:ext cx="33130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zczególne stany skupienia w zależności od warunków mogą się nawzajem w siebie przemieniać. Te przemiany nazywamy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zejściami fazowym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niższa tabela podaje nazwy procesów związanych z przejściami fazowym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24000" y="3284640"/>
            <a:ext cx="848196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ak to możliw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jłatwiej opisywane zjawisko zauważyć zimą. Woda podczas mrozów może występować na raz w trzech stanach skupienia. Swój punkt potrójny osiąga w temperaturz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0,0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 ciśnieniu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11,73 P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Gaz (para woda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Ciało stałe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(ló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Ciecz (wod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484360" y="3357720"/>
            <a:ext cx="3960720" cy="2970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547640" y="4076640"/>
            <a:ext cx="2448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932360" y="3500280"/>
            <a:ext cx="1944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5580000" y="4797000"/>
            <a:ext cx="1224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Madzia</cp:lastModifiedBy>
  <dcterms:modified xsi:type="dcterms:W3CDTF">2013-06-09T10:02:58Z</dcterms:modified>
  <cp:revision>32</cp:revision>
  <dc:subject/>
  <dc:title>Slajd 1</dc:title>
</cp:coreProperties>
</file>