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B287-CBDC-4E3E-A8CB-1526B3ACCED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FDE-86B8-4C21-AEBA-C290C6CA2E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A45A-6D9F-4E1C-AD13-6FAF0DF245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A52-27EB-45E5-ACCC-92637088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AED-F3F3-4427-AE9D-A7E9842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C9E-66EB-4F90-A134-6F9847EB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DB7-561A-4E64-98E6-473B2F7A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88E2-A2B3-4637-A354-102BAC16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5E19-10DD-4D3A-8A7D-E362350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72DE-FE9F-48B0-84C5-99301439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85E-206A-4226-8785-74E7638A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40C8-7CBF-412D-BAAA-24127EED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73FE-020E-4395-9B9C-3F5A71F9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D5B-0C0F-468A-9639-BB064AF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A67-0433-4A62-AD3D-EADB64DB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C44-5961-4B8F-B9B3-2DE5C527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B1AE-995A-4F17-8BE7-85BBBE6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D59C-26C1-47F4-B8F0-7D97063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FF5-7463-4881-9556-D169473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AD0E-5053-42B6-A849-C81B6376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9A5-2A29-4001-93BD-F981742C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9D8-9206-420F-8ADE-F5A68C9A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736-1F7D-4574-BF40-DDF9897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17F-A742-43AA-8FCC-D1BFA7E8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B83-95CE-403B-BD39-828657A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3E9-DEED-48F8-A756-D108C1F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1CB-74F4-4DF9-AF8A-B277363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B9B-FCFF-4809-99F9-681D7C80B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D7F-3FB4-4025-AEF8-CA462862E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zeźbotwórcza działalność rzek i morz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ral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budowane są przez koralowce tworzą tzw. rafy koralowe. Z tego względu występują jedynie w ciepłych i płytkich wodach (dostęp światła). Rafy koralowe zatrzymują fale morskie, które kierują się w stronę brzegu. Rafy koralowe należą do najbogatszych pod względem bioróżnorodności ekosystemów świata! Występują np. wzdłuż wschodniego wybrzeża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morzyn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ystępują w strefie tropikalnej i tworzone są przez tzw. lasy namorzynowe, które są przystosowane do życia w strefie pływów morskich. Podczas przypływu korzenie drzew tworzących te lasy są zatopione w wodzie, natomiast podczas odpływu korzenie są odsłonięte tworząc plątaninę, która chroni brzeg przed kolejną falą przypływ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zeźbotwórcza działalność r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, podobnie jak morza, są czynnikiem kształtującym rzeźbę terenu. Ich zakres oddziaływania jest jednak inny, ponieważ przepływają przez lądy żłobiąc w nich stosunkowo wąskie „wstęg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 na całej swojej długości zmieniają swój charakter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ór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najbliżej źródła) dolina rzeczna jest zazwyczaj najwęższa i woda płynie tam najszybciej. Z tego powodu przeważającym rodzajem działalności jest t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oz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środkow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lina rzeczna się poszerza, by w dolnym biegu całkowicie spowolnić, niejednokrotnie tworząc tzw. rozlewiska. Dominującym typem działalności rzek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l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e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kumulac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górnym biegu rzeki koryto jest stosunkowo wąskie a prąd na tyle silny, że niesiony przez wody materiał skalny nie zdąży się osadzić na dnie. Przeciwnie – siła spadku wody i jej uderzenie o brzeg jest na tyle mocne, że powoduje jego podmywanie. Również tarcie wody o dno jest przyczyną pogłębiania koryta rze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ymbol zastępczy tekstu 2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głęb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najsilniejsza jest tam, gdzie rzeka ma największy spadek. Długotrwałym efektem erozji wgłębnej jest powstawanie głębokich dolin V-kształtnych i kanionów. Jednym z najbardziej znanych przykładów tej działalności jest Wielki Kanion Colorado w U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bo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ystępuje najczęściej w środkowym lub dolnym biegu rzeki. Polega na podcinaniu jednego z brzegów rzeki, wskutek czego tworzą się meandry (zakola rzeczne). Gdy zostaną odcięte od głównego nurtu rzeki, wówczas powstają tzw. starorzecza. Ten typ erozji można obserwować np. nad Biebrz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ste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ciekawy tym erozji występuje najczęściej w dwóch przypadkach: przy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ch rze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wodospada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 miejscu, w którym woda wypływa na powierzchnię ziemi tworzy się zagłębienie, które jest podcinane pod wpływem ciśnienia wypływającej wody. W efekcie źródło „cofa się” w stronę działu wodnego, co może doprowadzić do zjawiska kaptażu, czyli przejęcia wód wypływających w danego źródła przez inne znajdujące się po przeciwnej stronie wododziału. Takie zjawisko zachodzi m.in. w Bieszczadach (rzeka Udava po słowackiej stronie podcina główny wododział karpacki, by „przejąć” wody Solink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odospa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woda spadająca z progu tworzącego wodospad tworzy u jego podstawy niszę, która wraz z upływem czasu poszerza się w głąb skały, prowadząc w efekcie do oberwania progu i „cofnięcia się” wodos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Symbol zastępczy tekstu 2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łomy rzeczn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niezwykle malownicze formy ukształtowania terenu występujące w miejscach, gdzie rzeka pokonuje przeszkodę terenową (np. pasmo górskie). W tym miejscu jest ona najczęściej bardzo wąska, a jej nurt jest rwący. Przełomy charakteryzują się stromymi zboczami dolin, którymi rzeka „przedziera się” przez dany teren. Przykładem jest przełom Dunajca w Pienin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środkowym i dolnym biegu rzek, gdzie spadek jest mniejszy, a nurt zwalnia, pojawiają się dobre warunki do tego, by niesiony przez wody materiał osadził się na dnie lub brzegach. W ten sposób realizowana jest działalność akumulacyjna rzek, a naniesiony przez wody materiał nazywany je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uwia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tekstu 2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el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powstają przy ujściu rzek, które posiadają  wysoką zdolność transportową (rzeki górskie) do rzek o mniejszej zdolności (nizinnych) lub do morza. Osady niesione przez rzekę odkładają się w formi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tożka napływ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który staje się przeszkodą dla płynącej wody i powoduje dalsze odkładanie się aluwiów.  Delta ma kształt trójkątny, zwężający się w kierunku rzeki nanoszącej osady. Przykładem tej formy akumulacji jest np. Delta Ni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asy zalew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e formy powstają wskutek naniesienia materiału na tereny nadrzeczne po powodziach. Występują powszechnie w dolinach rzecznych, tworząc płaskie przestrzenie wzdłuż głównego koryta rzeki. Ponieważ proces powstawania terasy jest cykliczny, może występować kilka jej poziomów oddzielonych od siebie prog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sy zalewowe to najczęściej tereny podmokłe lub zabagnione. Spotyka się na nich także torfowi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Rzeźbotwórcza działalność mór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y morskie mogą oddziaływać na rzeźbę terenu wówczas, gdy stykają się z lądem. Ma to miejsce w wąskim pasie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ybrzeż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y wody uderzające o wybrzeża kształtują jego rzeźbę w dwojaki sposób. Mogą swoją siłą niszczyć i wyżłabiać ląd, ale mogą również nanosić materiał budujący nowe for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niszcząca nosi nazwę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roz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dującą zaś nazywam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kumulacj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wysok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Fale morskie uderzając o brzeg niszczą go i podmywają tworząc jednocześnie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iszę abrazyjn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Brzeg cofa się tworząc urozmaiconą linię brzegową, w której nie brakuje zatok i półwysp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Symbol zastępczy tekstu 2" descr=""/>
          <p:cNvPicPr/>
          <p:nvPr/>
        </p:nvPicPr>
        <p:blipFill>
          <a:blip r:embed="rId1"/>
          <a:stretch/>
        </p:blipFill>
        <p:spPr>
          <a:xfrm>
            <a:off x="4572000" y="238140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wyso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lmatyńsk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wykształca się wówczas, gdy wody morskie zalewają łańcuchy górskie ułożone równolegle do wybrzeża. Występuje ono np. w Chorw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ias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powstaje także poprzez zalanie wodami morskimi łańcuchów górskich, jednak ustawionych do wybrzeża prostopadle. Przykładem jest południowo – zachodnie wybrzeże Irland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man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nazwa pochodzi od zatok zamykanych przez piaszczyste wały, które nazywane są limanami. Powstają one wówczas, gdy ujścia rzek są zatapiane i odcinane półkolistymi piaszczystymi zakosami. Takie wybrzeża występują np. nad Morzem Czar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iord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wykształcają się wskutek zalania przez wody morskie U-kształtnych górskich dolin. Fiordy wcinają się głęboko w ląd tworząc sieć wąskich i krętych zatok. Typowym przykładem reprezentującym ten typ wybrzeża jest np. Norweg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kierow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ten typ wybrzeża tworzą liczne niewielkie wysepki rozsiane na styku lądu z morzem. Jest to wynik zalania terenu, na którym powszechne są formy polodowcowe. Takie wybrzeża występują np. w Szwe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Odnajdź na mapie wymienione miejsca i przyjrzyj się uważnie linii brzegowej. Została ona ukształtowana poprzez działalność erozyjną mor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niskich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e uderzające o brzeg tracą swoją prędkość, a co za tym idzie także siłę, w wyniku tarcie o płytkie dno morskie. Dzięki temu materiał niesiony przez wody morskie osiada i wybrzeże jest „nadbudowywane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Symbol zastępczy tekstu 2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nis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rzej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worzone jest wówczas, gdy fale morskie uderzają o ląd ukośnie. Niesiony przez wody morskie materiał akumuluje się  w postaci piaszczystego wału (tzw. mierzei) powoli odcinając przybrzeżny fragment wód od otwartego morza. Przykładem jest np. Mierzeja Wiślana w Pols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gun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jest efektem nanoszenia piasku blisko brzegu, w wyniku czego powstają liczne wysepki odcinające płytkie zatoki (tzw. laguny) od otwartego morza. Ten typ wybrzeża występuje np. w Wene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7:04Z</dcterms:modified>
  <cp:revision>32</cp:revision>
  <dc:subject/>
  <dc:title>Slajd 1</dc:title>
</cp:coreProperties>
</file>