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FFD-AD7B-4267-8A28-A5DCEF938C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6D50-5CFF-46CF-9C34-A1B99C3C38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85ED-72A4-489D-B761-AC70C473A7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2F1C-5402-4481-98C7-FB19F42C4B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93DA-DDFD-44B8-8B3F-B8EED318F9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D447-0E6B-481F-B2C6-18131C308F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9F63-6207-4C6E-B4B8-6975E48CFD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B82B-77EB-4A64-9492-991F0F2BDE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1750-5B72-45F7-BD62-ACCA84451F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6B2-8843-478A-9E14-85A91434EB3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6C04-443F-4A72-9EA7-D2674884B8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89A7-349D-4811-96B5-D73D2C9050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F55F-1E9B-4192-9D39-8EF0C311FC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E424-FCBD-4DDD-9092-53E25D9E1F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F9E9-764D-470D-87A0-F3B242784E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3D3D-710E-4B98-AABD-2EBCFF0DB7E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AAA6-A087-45CD-BF82-8A67EE8C52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566E-B6EF-434D-AACC-243DD20B2C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4968-2269-4BA0-BC77-8B2C52B34CF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B53A-DA0C-47F7-AA2A-358BF0231F3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4C15-3188-40F5-8844-4D0A669A34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8037-9747-4EFD-9F90-6D90D227BE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EC0-C59B-432A-94A1-70F78718FB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C8D9-A961-4406-B3CF-F8891A07FA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4524-4A5E-4BEF-81B3-9B2A3B77E7F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3D4-D211-4643-A24E-43FA2B5333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05C6-66F4-4192-A871-8599A864DE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CA4-7D19-4276-8074-33955A8FC2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0037-63B1-406F-9439-79F11084C2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21EB-0FC7-4405-A580-B71FCF0C01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063-F398-4E9E-B747-340AC889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B0F-CABB-4995-955E-56D809A6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53F-D1E4-42B2-9777-98FAFEC1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1F5-D836-43D1-AEAE-54632F2D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1C0-0F14-4ACA-A59A-561BD41B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42A-6887-4A60-A43B-FFE793EB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942-F7F5-4A45-BF36-F078D6B8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485-4AA7-4697-BBBD-08B4C12C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270-09EB-4C88-9F2C-F1430EC4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A64-A5BF-4B85-AF88-82C9C17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5E0-AEF3-4A3F-A842-F12161D9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E40-E432-41DF-848C-4482DB3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B607-CDB4-45F7-8B92-2CA20E7537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560" y="1285920"/>
            <a:ext cx="65516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6000" spc="-1" strike="noStrike">
                <a:solidFill>
                  <a:srgbClr val="4a452a"/>
                </a:solidFill>
                <a:latin typeface="Calibri"/>
              </a:rPr>
              <a:t>Rachuba czasu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a452a"/>
                </a:solidFill>
                <a:latin typeface="Calibri"/>
              </a:rPr>
              <a:t>przeliczanie czasów: czas słoneczny, strefowy, urzęd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AiG\Desktop\Ula\zdjęcia\zegar słoneczny.jpg"/>
          <p:cNvPicPr/>
          <p:nvPr/>
        </p:nvPicPr>
        <p:blipFill>
          <a:blip r:embed="rId3"/>
          <a:stretch/>
        </p:blipFill>
        <p:spPr>
          <a:xfrm>
            <a:off x="5572080" y="3429000"/>
            <a:ext cx="3000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Międzynarodowa linia zmiany da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38" name="Tytuł 1"/>
          <p:cNvSpPr/>
          <p:nvPr/>
        </p:nvSpPr>
        <p:spPr>
          <a:xfrm>
            <a:off x="642960" y="2071800"/>
            <a:ext cx="77151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Biegnie częściowo wzdłuż południka 18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a częściowo w jego sąsiedzt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rzekaraczający tę linię mają obowiązek zmienić datę o jeden dzień w swoich rachunk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dróżując z zachodu na wschód przez dwa dni pozostają przy tej samej dac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dróżując ze wschodu na zachód muszą wyrwać jedną extra kartkę z kalendarza.</a:t>
            </a: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77151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y na obliczenie różnicy czasu słonecznego na podstawie różnicy długości geograficznej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4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43" name="Tytuł 1"/>
          <p:cNvSpPr/>
          <p:nvPr/>
        </p:nvSpPr>
        <p:spPr>
          <a:xfrm>
            <a:off x="785880" y="2857680"/>
            <a:ext cx="77151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ązywania zad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Narysowanie schematu i wpisanie d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2. Obliczenie różnicy długości geograficz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4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dwóch różnych półkulach dodajesz stopni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2071440" y="1143000"/>
            <a:ext cx="6715440" cy="3572280"/>
            <a:chOff x="2071440" y="1143000"/>
            <a:chExt cx="6715440" cy="3572280"/>
          </a:xfrm>
        </p:grpSpPr>
        <p:sp>
          <p:nvSpPr>
            <p:cNvPr id="149" name="Text Box 3"/>
            <p:cNvSpPr/>
            <p:nvPr/>
          </p:nvSpPr>
          <p:spPr>
            <a:xfrm>
              <a:off x="6508440" y="2797920"/>
              <a:ext cx="227844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+ 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4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AutoShape 4"/>
            <p:cNvCxnSpPr/>
            <p:nvPr/>
          </p:nvCxnSpPr>
          <p:spPr>
            <a:xfrm>
              <a:off x="2071440" y="4703040"/>
              <a:ext cx="4336920" cy="12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51" name="AutoShape 5"/>
            <p:cNvCxnSpPr/>
            <p:nvPr/>
          </p:nvCxnSpPr>
          <p:spPr>
            <a:xfrm>
              <a:off x="3593160" y="1831320"/>
              <a:ext cx="25200" cy="288432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cxnSp>
          <p:nvCxnSpPr>
            <p:cNvPr id="152" name="AutoShape 6"/>
            <p:cNvCxnSpPr/>
            <p:nvPr/>
          </p:nvCxnSpPr>
          <p:spPr>
            <a:xfrm>
              <a:off x="2729160" y="1816200"/>
              <a:ext cx="25200" cy="28850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53" name="AutoShape 7"/>
            <p:cNvCxnSpPr/>
            <p:nvPr/>
          </p:nvCxnSpPr>
          <p:spPr>
            <a:xfrm>
              <a:off x="5337000" y="1831320"/>
              <a:ext cx="25200" cy="28843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54" name="Text Box 8"/>
            <p:cNvSpPr/>
            <p:nvPr/>
          </p:nvSpPr>
          <p:spPr>
            <a:xfrm>
              <a:off x="3382560" y="1143000"/>
              <a:ext cx="56700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>
              <a:off x="2336400" y="1143000"/>
              <a:ext cx="110376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5027400" y="1143000"/>
              <a:ext cx="1103040" cy="57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5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4857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tej samej półkuli odejmujesz stopni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22"/>
          <p:cNvGrpSpPr/>
          <p:nvPr/>
        </p:nvGrpSpPr>
        <p:grpSpPr>
          <a:xfrm>
            <a:off x="785520" y="1428840"/>
            <a:ext cx="2927520" cy="3365280"/>
            <a:chOff x="785520" y="1428840"/>
            <a:chExt cx="2927520" cy="3365280"/>
          </a:xfrm>
        </p:grpSpPr>
        <p:cxnSp>
          <p:nvCxnSpPr>
            <p:cNvPr id="162" name="AutoShape 23"/>
            <p:cNvCxnSpPr/>
            <p:nvPr/>
          </p:nvCxnSpPr>
          <p:spPr>
            <a:xfrm>
              <a:off x="785520" y="4134960"/>
              <a:ext cx="2927880" cy="93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63" name="AutoShape 24"/>
            <p:cNvCxnSpPr/>
            <p:nvPr/>
          </p:nvCxnSpPr>
          <p:spPr>
            <a:xfrm>
              <a:off x="1610640" y="1951560"/>
              <a:ext cx="19080" cy="21927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64" name="AutoShape 25"/>
            <p:cNvCxnSpPr/>
            <p:nvPr/>
          </p:nvCxnSpPr>
          <p:spPr>
            <a:xfrm>
              <a:off x="2252880" y="1940400"/>
              <a:ext cx="19080" cy="219312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65" name="AutoShape 26"/>
            <p:cNvCxnSpPr/>
            <p:nvPr/>
          </p:nvCxnSpPr>
          <p:spPr>
            <a:xfrm>
              <a:off x="2912760" y="1951560"/>
              <a:ext cx="19080" cy="219276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sp>
          <p:nvSpPr>
            <p:cNvPr id="166" name="Text Box 27"/>
            <p:cNvSpPr/>
            <p:nvPr/>
          </p:nvSpPr>
          <p:spPr>
            <a:xfrm>
              <a:off x="1509480" y="4354200"/>
              <a:ext cx="170172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-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8"/>
            <p:cNvSpPr/>
            <p:nvPr/>
          </p:nvSpPr>
          <p:spPr>
            <a:xfrm>
              <a:off x="1274400" y="1428840"/>
              <a:ext cx="76680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9"/>
            <p:cNvSpPr/>
            <p:nvPr/>
          </p:nvSpPr>
          <p:spPr>
            <a:xfrm>
              <a:off x="1987560" y="1428840"/>
              <a:ext cx="82440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0"/>
            <p:cNvSpPr/>
            <p:nvPr/>
          </p:nvSpPr>
          <p:spPr>
            <a:xfrm>
              <a:off x="2682000" y="1428840"/>
              <a:ext cx="82368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c0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c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4929120" y="1428840"/>
            <a:ext cx="2927880" cy="3309840"/>
            <a:chOff x="4929120" y="1428840"/>
            <a:chExt cx="2927880" cy="3309840"/>
          </a:xfrm>
        </p:grpSpPr>
        <p:grpSp>
          <p:nvGrpSpPr>
            <p:cNvPr id="171" name="Group 32"/>
            <p:cNvGrpSpPr/>
            <p:nvPr/>
          </p:nvGrpSpPr>
          <p:grpSpPr>
            <a:xfrm>
              <a:off x="4929120" y="1428840"/>
              <a:ext cx="2927880" cy="2714400"/>
              <a:chOff x="4929120" y="1428840"/>
              <a:chExt cx="2927880" cy="2714400"/>
            </a:xfrm>
          </p:grpSpPr>
          <p:cxnSp>
            <p:nvCxnSpPr>
              <p:cNvPr id="172" name="AutoShape 33"/>
              <p:cNvCxnSpPr/>
              <p:nvPr/>
            </p:nvCxnSpPr>
            <p:spPr>
              <a:xfrm>
                <a:off x="4929120" y="4134240"/>
                <a:ext cx="2928240" cy="936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lg" type="stealth" w="lg"/>
              </a:ln>
            </p:spPr>
          </p:cxnSp>
          <p:cxnSp>
            <p:nvCxnSpPr>
              <p:cNvPr id="173" name="AutoShape 34"/>
              <p:cNvCxnSpPr/>
              <p:nvPr/>
            </p:nvCxnSpPr>
            <p:spPr>
              <a:xfrm>
                <a:off x="5754600" y="1951200"/>
                <a:ext cx="18720" cy="2192040"/>
              </a:xfrm>
              <a:prstGeom prst="straightConnector1">
                <a:avLst/>
              </a:prstGeom>
              <a:ln w="22320">
                <a:solidFill>
                  <a:srgbClr val="c00000"/>
                </a:solidFill>
                <a:miter/>
              </a:ln>
            </p:spPr>
          </p:cxnSp>
          <p:cxnSp>
            <p:nvCxnSpPr>
              <p:cNvPr id="174" name="AutoShape 35"/>
              <p:cNvCxnSpPr/>
              <p:nvPr/>
            </p:nvCxnSpPr>
            <p:spPr>
              <a:xfrm>
                <a:off x="6396480" y="1940760"/>
                <a:ext cx="18720" cy="219240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AutoShape 36"/>
              <p:cNvCxnSpPr/>
              <p:nvPr/>
            </p:nvCxnSpPr>
            <p:spPr>
              <a:xfrm>
                <a:off x="7056360" y="1951200"/>
                <a:ext cx="19080" cy="219204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</a:ln>
            </p:spPr>
          </p:cxnSp>
          <p:sp>
            <p:nvSpPr>
              <p:cNvPr id="176" name="Text Box 37"/>
              <p:cNvSpPr/>
              <p:nvPr/>
            </p:nvSpPr>
            <p:spPr>
              <a:xfrm>
                <a:off x="5596560" y="1428840"/>
                <a:ext cx="42372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lang="pl-PL" sz="1800" spc="-1" strike="noStrike" baseline="30000">
                    <a:solidFill>
                      <a:srgbClr val="ff0000"/>
                    </a:solidFill>
                    <a:latin typeface="Calibri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38"/>
              <p:cNvSpPr/>
              <p:nvPr/>
            </p:nvSpPr>
            <p:spPr>
              <a:xfrm>
                <a:off x="6131160" y="1428840"/>
                <a:ext cx="82404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15</a:t>
                </a:r>
                <a:r>
                  <a:rPr b="1" lang="pl-PL" sz="1800" spc="-1" strike="noStrike" baseline="30000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9"/>
              <p:cNvSpPr/>
              <p:nvPr/>
            </p:nvSpPr>
            <p:spPr>
              <a:xfrm>
                <a:off x="6825240" y="1428840"/>
                <a:ext cx="824040" cy="439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30</a:t>
                </a:r>
                <a:r>
                  <a:rPr b="1" lang="pl-PL" sz="1800" spc="-1" strike="noStrike" baseline="30000">
                    <a:solidFill>
                      <a:srgbClr val="000000"/>
                    </a:solidFill>
                    <a:latin typeface="Calibri"/>
                  </a:rPr>
                  <a:t>o</a:t>
                </a:r>
                <a:r>
                  <a:rPr b="1" lang="pl-PL" sz="18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40"/>
            <p:cNvSpPr/>
            <p:nvPr/>
          </p:nvSpPr>
          <p:spPr>
            <a:xfrm>
              <a:off x="5596920" y="4298760"/>
              <a:ext cx="1701720" cy="439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-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= 15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ązywania zadania cd :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3.  Zamiana różnicy długości geograficznej na różnicę                                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ową (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= 4 min.; mnożenie otrzymanego wyniku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ez 4 min.)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4. Obliczenie godziny:</a:t>
            </a:r>
            <a:br>
              <a:rPr sz="24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określenie kierunku jednego miejsca względem      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drugiego. Jeśli miejsce, którego czas obliczasz leży na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wschód od miejsca z zaznaczonym czasem dodajesz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óżnicę czasu, jeśli leży na zachód odejmujesz różnicę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u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571680" y="1619280"/>
            <a:ext cx="89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I. Podaj godzinę czasu słonecznego panującego w Moskwie (37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E),  jeżeli w Tokio (14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E) jest godzina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785880" y="2857680"/>
            <a:ext cx="6786360" cy="3286080"/>
            <a:chOff x="785880" y="2857680"/>
            <a:chExt cx="6786360" cy="3286080"/>
          </a:xfrm>
        </p:grpSpPr>
        <p:cxnSp>
          <p:nvCxnSpPr>
            <p:cNvPr id="191" name="AutoShape 19"/>
            <p:cNvCxnSpPr/>
            <p:nvPr/>
          </p:nvCxnSpPr>
          <p:spPr>
            <a:xfrm>
              <a:off x="2461320" y="5569920"/>
              <a:ext cx="4869360" cy="12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192" name="AutoShape 18"/>
            <p:cNvCxnSpPr/>
            <p:nvPr/>
          </p:nvCxnSpPr>
          <p:spPr>
            <a:xfrm>
              <a:off x="4580640" y="3370680"/>
              <a:ext cx="19440" cy="2199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93" name="AutoShape 17"/>
            <p:cNvCxnSpPr/>
            <p:nvPr/>
          </p:nvCxnSpPr>
          <p:spPr>
            <a:xfrm>
              <a:off x="3363480" y="3370680"/>
              <a:ext cx="19440" cy="219996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cxnSp>
          <p:nvCxnSpPr>
            <p:cNvPr id="194" name="AutoShape 16"/>
            <p:cNvCxnSpPr/>
            <p:nvPr/>
          </p:nvCxnSpPr>
          <p:spPr>
            <a:xfrm>
              <a:off x="6354720" y="3370680"/>
              <a:ext cx="19080" cy="21992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95" name="Text Box 15"/>
            <p:cNvSpPr/>
            <p:nvPr/>
          </p:nvSpPr>
          <p:spPr>
            <a:xfrm>
              <a:off x="3214440" y="2857680"/>
              <a:ext cx="43056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4119480" y="2857680"/>
              <a:ext cx="83808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5986440" y="2868840"/>
              <a:ext cx="83736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4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4417200" y="5641200"/>
              <a:ext cx="42984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5857920" y="5643720"/>
              <a:ext cx="958680" cy="44136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6734160" y="5702400"/>
              <a:ext cx="838080" cy="441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CZA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785880" y="2868840"/>
              <a:ext cx="2253960" cy="513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DŁUGOŚĆ GEOGRAFICZNA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itle 24"/>
          <p:cNvSpPr/>
          <p:nvPr/>
        </p:nvSpPr>
        <p:spPr>
          <a:xfrm>
            <a:off x="214200" y="2571840"/>
            <a:ext cx="7048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262626"/>
                </a:solidFill>
                <a:latin typeface="Calibri"/>
              </a:rPr>
              <a:t>1.</a:t>
            </a:r>
            <a:br>
              <a:rPr sz="24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0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28760" y="161244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2. 14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– 37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= 10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3. 10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x 4 min. = 412 min. = 6 godz. 52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4.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– 6 godz. 52 min. =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dpowiedź: Jeżeli w Tokio jest godzina 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        to w Moskwie mamy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8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słone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1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2071800" y="2036880"/>
            <a:ext cx="5072040" cy="3814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58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62626"/>
                </a:solidFill>
                <a:latin typeface="Calibri"/>
              </a:rPr>
              <a:t>II.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Na zamieszczonej poniżej mapie Europy zaznaczono następujące stolice: Lizbona, Warszawa, Moskwa. W której z nich jest godzina </a:t>
            </a:r>
            <a:r>
              <a:rPr b="1" lang="pl-PL" sz="1600" spc="-1" strike="noStrike">
                <a:solidFill>
                  <a:srgbClr val="4a452a"/>
                </a:solidFill>
                <a:latin typeface="Calibri"/>
              </a:rPr>
              <a:t>13</a:t>
            </a:r>
            <a:r>
              <a:rPr b="1" lang="pl-PL" sz="1600" spc="-1" strike="noStrike" baseline="30000">
                <a:solidFill>
                  <a:srgbClr val="4a452a"/>
                </a:solidFill>
                <a:latin typeface="Calibri"/>
              </a:rPr>
              <a:t>04</a:t>
            </a:r>
            <a:r>
              <a:rPr b="1" lang="pl-PL" sz="1600" spc="-1" strike="noStrike">
                <a:solidFill>
                  <a:srgbClr val="4a452a"/>
                </a:solidFill>
                <a:latin typeface="Calibri"/>
              </a:rPr>
              <a:t> czasu miejscowego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w chwili górowania Słońca w Warszawi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"/>
          <p:cNvGrpSpPr/>
          <p:nvPr/>
        </p:nvGrpSpPr>
        <p:grpSpPr>
          <a:xfrm>
            <a:off x="357120" y="1571760"/>
            <a:ext cx="7215120" cy="3857040"/>
            <a:chOff x="357120" y="1571760"/>
            <a:chExt cx="7215120" cy="3857040"/>
          </a:xfrm>
        </p:grpSpPr>
        <p:sp>
          <p:nvSpPr>
            <p:cNvPr id="218" name="Text Box 3"/>
            <p:cNvSpPr/>
            <p:nvPr/>
          </p:nvSpPr>
          <p:spPr>
            <a:xfrm>
              <a:off x="2991240" y="4903560"/>
              <a:ext cx="85428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  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AutoShape 4"/>
            <p:cNvCxnSpPr/>
            <p:nvPr/>
          </p:nvCxnSpPr>
          <p:spPr>
            <a:xfrm flipV="1">
              <a:off x="2464560" y="4800960"/>
              <a:ext cx="4735440" cy="14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20" name="AutoShape 5"/>
            <p:cNvCxnSpPr/>
            <p:nvPr/>
          </p:nvCxnSpPr>
          <p:spPr>
            <a:xfrm>
              <a:off x="4066920" y="2183400"/>
              <a:ext cx="20880" cy="261936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cxnSp>
          <p:nvCxnSpPr>
            <p:cNvPr id="221" name="AutoShape 6"/>
            <p:cNvCxnSpPr/>
            <p:nvPr/>
          </p:nvCxnSpPr>
          <p:spPr>
            <a:xfrm>
              <a:off x="3318480" y="2183400"/>
              <a:ext cx="20880" cy="2620080"/>
            </a:xfrm>
            <a:prstGeom prst="straightConnector1">
              <a:avLst/>
            </a:prstGeom>
            <a:ln w="22320">
              <a:solidFill>
                <a:srgbClr val="00b0f0"/>
              </a:solidFill>
              <a:miter/>
            </a:ln>
          </p:spPr>
        </p:cxnSp>
        <p:cxnSp>
          <p:nvCxnSpPr>
            <p:cNvPr id="222" name="AutoShape 7"/>
            <p:cNvCxnSpPr/>
            <p:nvPr/>
          </p:nvCxnSpPr>
          <p:spPr>
            <a:xfrm>
              <a:off x="5275800" y="2182320"/>
              <a:ext cx="20880" cy="26193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223" name="Text Box 8"/>
            <p:cNvSpPr/>
            <p:nvPr/>
          </p:nvSpPr>
          <p:spPr>
            <a:xfrm>
              <a:off x="3904200" y="1587960"/>
              <a:ext cx="4766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pl-PL" sz="1800" spc="-1" strike="noStrike" baseline="30000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2868480" y="1587960"/>
              <a:ext cx="103572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8</a:t>
              </a:r>
              <a:r>
                <a:rPr b="1" lang="pl-PL" sz="1800" spc="-1" strike="noStrike" baseline="30000">
                  <a:solidFill>
                    <a:srgbClr val="00b0f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b0f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4574880" y="1587960"/>
              <a:ext cx="15062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4637160" y="4903560"/>
              <a:ext cx="113256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2"/>
            <p:cNvSpPr/>
            <p:nvPr/>
          </p:nvSpPr>
          <p:spPr>
            <a:xfrm>
              <a:off x="6659280" y="4903560"/>
              <a:ext cx="912960" cy="452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CZA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3"/>
            <p:cNvSpPr/>
            <p:nvPr/>
          </p:nvSpPr>
          <p:spPr>
            <a:xfrm>
              <a:off x="357120" y="1571760"/>
              <a:ext cx="2495880" cy="611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i="1" lang="pl-PL" sz="1200" spc="-1" strike="noStrike">
                  <a:solidFill>
                    <a:srgbClr val="000000"/>
                  </a:solidFill>
                  <a:latin typeface="Calibri"/>
                </a:rPr>
                <a:t>[DŁUGOŚĆ GEOGRAFICZNA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14"/>
            <p:cNvCxnSpPr/>
            <p:nvPr/>
          </p:nvCxnSpPr>
          <p:spPr>
            <a:xfrm>
              <a:off x="6350400" y="2182320"/>
              <a:ext cx="20880" cy="2619360"/>
            </a:xfrm>
            <a:prstGeom prst="straightConnector1">
              <a:avLst/>
            </a:prstGeom>
            <a:ln w="22320">
              <a:solidFill>
                <a:srgbClr val="92d050"/>
              </a:solidFill>
              <a:miter/>
            </a:ln>
          </p:spPr>
        </p:cxnSp>
        <p:sp>
          <p:nvSpPr>
            <p:cNvPr id="230" name="Text Box 15"/>
            <p:cNvSpPr/>
            <p:nvPr/>
          </p:nvSpPr>
          <p:spPr>
            <a:xfrm>
              <a:off x="5693040" y="1587960"/>
              <a:ext cx="1506240" cy="525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37</a:t>
              </a:r>
              <a:r>
                <a:rPr b="1" lang="pl-PL" sz="1800" spc="-1" strike="noStrike" baseline="30000">
                  <a:solidFill>
                    <a:srgbClr val="92d05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6"/>
            <p:cNvSpPr/>
            <p:nvPr/>
          </p:nvSpPr>
          <p:spPr>
            <a:xfrm>
              <a:off x="6025320" y="4903560"/>
              <a:ext cx="854640" cy="52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800" spc="-1" strike="noStrike">
                  <a:solidFill>
                    <a:srgbClr val="92d05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itle 24"/>
          <p:cNvSpPr/>
          <p:nvPr/>
        </p:nvSpPr>
        <p:spPr>
          <a:xfrm>
            <a:off x="0" y="1285920"/>
            <a:ext cx="7048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262626"/>
                </a:solidFill>
                <a:latin typeface="Calibri"/>
              </a:rPr>
              <a:t>1.</a:t>
            </a:r>
            <a:br>
              <a:rPr sz="24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3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929360" cy="37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2. Obliczenie różnicy długości geograficznej:</a:t>
            </a:r>
            <a:br>
              <a:rPr sz="2000"/>
            </a:b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   obliczenia dla Lizbo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obliczenia dla Moskw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  21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+ 8 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= 29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37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– 21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= 16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3. Zamiana różnicy długości geograficznej na różnicę czasową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  29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x 4 min. = 116 min.           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16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o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x 4 min. = 64 min</a:t>
            </a:r>
            <a:br>
              <a:rPr sz="2000"/>
            </a:b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          = 1 godz. 56 min.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                                = 1 godz. 4 min.</a:t>
            </a: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4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  <a:ea typeface="Calibri"/>
              </a:rPr>
              <a:t>.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bliczenie godziny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a.12</a:t>
            </a:r>
            <a:r>
              <a:rPr b="0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00</a:t>
            </a:r>
            <a:r>
              <a:rPr b="0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– 1 godz. 56min. = </a:t>
            </a:r>
            <a:r>
              <a:rPr b="1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10</a:t>
            </a:r>
            <a:r>
              <a:rPr b="1" lang="pl-PL" sz="2000" spc="-1" strike="noStrike" baseline="30000">
                <a:solidFill>
                  <a:srgbClr val="548dd4"/>
                </a:solidFill>
                <a:latin typeface="Calibri"/>
                <a:ea typeface="Calibri"/>
              </a:rPr>
              <a:t>04         </a:t>
            </a:r>
            <a:r>
              <a:rPr b="1" lang="pl-PL" sz="2000" spc="-1" strike="noStrike">
                <a:solidFill>
                  <a:srgbClr val="548dd4"/>
                </a:solidFill>
                <a:latin typeface="Calibri"/>
                <a:ea typeface="Calibri"/>
              </a:rPr>
              <a:t>      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b. 12</a:t>
            </a:r>
            <a:r>
              <a:rPr b="0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00</a:t>
            </a:r>
            <a:r>
              <a:rPr b="0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 + 1 godz. 4 min. = </a:t>
            </a:r>
            <a:r>
              <a:rPr b="1" lang="pl-PL" sz="2000" spc="-1" strike="noStrike">
                <a:solidFill>
                  <a:srgbClr val="9bbb59"/>
                </a:solidFill>
                <a:latin typeface="Calibri"/>
                <a:ea typeface="Calibri"/>
              </a:rPr>
              <a:t>13</a:t>
            </a:r>
            <a:r>
              <a:rPr b="1" lang="pl-PL" sz="2000" spc="-1" strike="noStrike" baseline="30000">
                <a:solidFill>
                  <a:srgbClr val="9bbb59"/>
                </a:solidFill>
                <a:latin typeface="Calibri"/>
                <a:ea typeface="Calibri"/>
              </a:rPr>
              <a:t>04</a:t>
            </a:r>
            <a:br>
              <a:rPr sz="2000"/>
            </a:br>
            <a:br>
              <a:rPr sz="2000"/>
            </a:b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Odpowiedź: W chwili górowania Słońca w Warszawie, godzina         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	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         13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  <a:ea typeface="Calibri"/>
              </a:rPr>
              <a:t>04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  <a:ea typeface="Calibri"/>
              </a:rPr>
              <a:t> czasu miejscowego  jest w Moskw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99760" y="1213920"/>
            <a:ext cx="65516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8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5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58" name="Tytuł 1"/>
          <p:cNvSpPr/>
          <p:nvPr/>
        </p:nvSpPr>
        <p:spPr>
          <a:xfrm>
            <a:off x="285840" y="1857240"/>
            <a:ext cx="835812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łonecz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tref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urzęd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międzynarodowa linia zmiany da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kłady na obliczenie różnicy czasu słonecznego                                      na podstawie różnicy długości geografi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przykłady na przeliczanie czasu słonecznego na urzędowy                        i odwrot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bibliograf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słowa klucz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3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57224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y na przeliczanie czasu słonecznego na urzędowy i odwrot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714240" y="2214720"/>
            <a:ext cx="75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azywania zad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Określenie w której strefie czasowej danego dnia   znajduje się miejscowość z podanym cz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2. Narysowanie schematu i wpisanie d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3. Obliczenie różnicy długości geograf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Jeżeli miasta leżą na dwóch różnych półkulach dodajesz         stopnie. Jeśli na tej samej półkuli odejmujesz stop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44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2"/>
          <p:cNvSpPr/>
          <p:nvPr/>
        </p:nvSpPr>
        <p:spPr>
          <a:xfrm>
            <a:off x="785880" y="1214280"/>
            <a:ext cx="7500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4a452a"/>
                </a:solidFill>
                <a:latin typeface="Calibri"/>
              </a:rPr>
              <a:t>Etapy rozwiazywania zadania cd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4. Zamiana różnicy długości geograficznej na różnicę       czasową (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= 4 min.; mnożenie otrzymanego wyniku przez 4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5. Obliczenie godz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-  określenie kierunku jednego miejsca względem             drugi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- jeśli miejsce, którego czas obliczasz leży na wschód od  miejsca ze zaznaczonym czasem dodajesz różnicę czasu, jeśli leży na zachód odejmujesz różnicę cza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4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714240" y="2487600"/>
            <a:ext cx="80726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. Oblicz, która godzina czasu słonecznego jest w Pekinie  (116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jeżeli w Warszawie (21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jest 14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czasu urzędowego w dniu 16 lip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1. Latem w Warszawie obowiązuje czas wschodnioeuropejski dlatego zadanie należy  policzyć względem południka 3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642960" y="100008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2.  Rysuję schemat i zapisuję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"/>
          <p:cNvGrpSpPr/>
          <p:nvPr/>
        </p:nvGrpSpPr>
        <p:grpSpPr>
          <a:xfrm>
            <a:off x="1571400" y="2071800"/>
            <a:ext cx="5715360" cy="4071600"/>
            <a:chOff x="1571400" y="2071800"/>
            <a:chExt cx="5715360" cy="4071600"/>
          </a:xfrm>
        </p:grpSpPr>
        <p:sp>
          <p:nvSpPr>
            <p:cNvPr id="260" name="Text Box 19"/>
            <p:cNvSpPr/>
            <p:nvPr/>
          </p:nvSpPr>
          <p:spPr>
            <a:xfrm>
              <a:off x="1571760" y="3904200"/>
              <a:ext cx="1514520" cy="16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Warszawa      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16 VI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            </a:t>
              </a: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czas letn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5698440" y="5508720"/>
              <a:ext cx="876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17"/>
            <p:cNvCxnSpPr/>
            <p:nvPr/>
          </p:nvCxnSpPr>
          <p:spPr>
            <a:xfrm flipV="1">
              <a:off x="1571400" y="5477760"/>
              <a:ext cx="5715720" cy="21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63" name="AutoShape 16"/>
            <p:cNvCxnSpPr/>
            <p:nvPr/>
          </p:nvCxnSpPr>
          <p:spPr>
            <a:xfrm>
              <a:off x="1910160" y="2704680"/>
              <a:ext cx="21960" cy="27759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264" name="AutoShape 15"/>
            <p:cNvCxnSpPr/>
            <p:nvPr/>
          </p:nvCxnSpPr>
          <p:spPr>
            <a:xfrm>
              <a:off x="2706120" y="2701080"/>
              <a:ext cx="219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265" name="AutoShape 14"/>
            <p:cNvCxnSpPr/>
            <p:nvPr/>
          </p:nvCxnSpPr>
          <p:spPr>
            <a:xfrm>
              <a:off x="5971320" y="2703240"/>
              <a:ext cx="21960" cy="27766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266" name="Text Box 13"/>
            <p:cNvSpPr/>
            <p:nvPr/>
          </p:nvSpPr>
          <p:spPr>
            <a:xfrm>
              <a:off x="1699920" y="2071800"/>
              <a:ext cx="48924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2266920" y="2071800"/>
              <a:ext cx="919080" cy="471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5221800" y="2071800"/>
              <a:ext cx="154548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6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2042640" y="5586480"/>
              <a:ext cx="116280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4: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AutoShape 9"/>
            <p:cNvCxnSpPr/>
            <p:nvPr/>
          </p:nvCxnSpPr>
          <p:spPr>
            <a:xfrm>
              <a:off x="3183840" y="2704320"/>
              <a:ext cx="21960" cy="2777400"/>
            </a:xfrm>
            <a:prstGeom prst="straightConnector1">
              <a:avLst/>
            </a:prstGeom>
            <a:ln w="22320">
              <a:solidFill>
                <a:srgbClr val="c00000"/>
              </a:solidFill>
              <a:miter/>
            </a:ln>
          </p:spPr>
        </p:cxnSp>
        <p:sp>
          <p:nvSpPr>
            <p:cNvPr id="271" name="Text Box 8"/>
            <p:cNvSpPr/>
            <p:nvPr/>
          </p:nvSpPr>
          <p:spPr>
            <a:xfrm>
              <a:off x="2857680" y="2071800"/>
              <a:ext cx="956520" cy="47196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c0000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c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c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2629440" y="5583960"/>
              <a:ext cx="108612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4: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5905440" y="3733920"/>
              <a:ext cx="15012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6126480" y="3603600"/>
              <a:ext cx="1092240" cy="55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Pek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"/>
            <p:cNvSpPr/>
            <p:nvPr/>
          </p:nvSpPr>
          <p:spPr>
            <a:xfrm>
              <a:off x="2629440" y="3733920"/>
              <a:ext cx="15012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3"/>
            <p:cNvSpPr/>
            <p:nvPr/>
          </p:nvSpPr>
          <p:spPr>
            <a:xfrm>
              <a:off x="2727720" y="3507120"/>
              <a:ext cx="548640" cy="228960"/>
            </a:xfrm>
            <a:custGeom>
              <a:avLst/>
              <a:gdLst>
                <a:gd name="textAreaLeft" fmla="*/ 95760 w 548640"/>
                <a:gd name="textAreaRight" fmla="*/ 397800 w 54864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2"/>
            <p:cNvSpPr/>
            <p:nvPr/>
          </p:nvSpPr>
          <p:spPr>
            <a:xfrm>
              <a:off x="2729880" y="5248800"/>
              <a:ext cx="546480" cy="228960"/>
            </a:xfrm>
            <a:custGeom>
              <a:avLst/>
              <a:gdLst>
                <a:gd name="textAreaLeft" fmla="*/ 95400 w 546480"/>
                <a:gd name="textAreaRight" fmla="*/ 396360 w 5464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961452"/>
                  <a:lnTo>
                    <a:pt x="21280" y="15385"/>
                  </a:lnTo>
                  <a:lnTo>
                    <a:pt x="17280" y="21600"/>
                  </a:lnTo>
                  <a:lnTo>
                    <a:pt x="12640" y="15385"/>
                  </a:lnTo>
                  <a:lnTo>
                    <a:pt x="14800" y="15385"/>
                  </a:lnTo>
                  <a:arcTo wR="7560" hR="21600" stAng="-2438548" swAng="-2604017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80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500040" y="1285920"/>
            <a:ext cx="835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3. Obliczam różnicę długości geograficzn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1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= 8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4. Zamieniam różnicę długości geograficznej na różnicę cz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86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x 4 min. = 344 min. = 5h 44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Różnica czasu wynosi 5 godzin 44 min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5. Obliczam czas w Pekinie i zapisuję wy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ekin leży na wschód od Warszawy więc jest tam późn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4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+ 5 godz. 44min. = 19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dpowiedź: Jeśli w Warszawie 16 lipca jest godzina 14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15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czasu urzędowego,                                   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       to w Pekinie jest godzina 19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59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czasu słonecznego 16 lip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8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642960" y="2000160"/>
            <a:ext cx="8072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II. W Krakowie (20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E) 20 sierpnia  jest godzina 12</a:t>
            </a:r>
            <a:r>
              <a:rPr b="0" lang="pl-PL" sz="2400" spc="-1" strike="noStrike" baseline="30000">
                <a:solidFill>
                  <a:srgbClr val="4a452a"/>
                </a:solidFill>
                <a:latin typeface="Calibri"/>
              </a:rPr>
              <a:t>00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czasu    słonecznego. Którą godzinę wskazuje   zegar wiszący               na ścian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Sformułowanie: zegar wiszący na ścianie wskazuje, że chodzi nam o czas urzędow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. Latem w Krakowie obowiązuje czas wschodnioeuropejski dlatego zadanie   należy policzyć względem południka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9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ykładowe zadanie: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0" y="171468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2. Rysuję schemat i zapisuję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2"/>
          <p:cNvGrpSpPr/>
          <p:nvPr/>
        </p:nvGrpSpPr>
        <p:grpSpPr>
          <a:xfrm>
            <a:off x="2428560" y="2286000"/>
            <a:ext cx="4715280" cy="3986280"/>
            <a:chOff x="2428560" y="2286000"/>
            <a:chExt cx="4715280" cy="3986280"/>
          </a:xfrm>
        </p:grpSpPr>
        <p:sp>
          <p:nvSpPr>
            <p:cNvPr id="303" name="Text Box 35"/>
            <p:cNvSpPr/>
            <p:nvPr/>
          </p:nvSpPr>
          <p:spPr>
            <a:xfrm>
              <a:off x="4715280" y="5715000"/>
              <a:ext cx="955080" cy="5572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4" name="AutoShape 34"/>
            <p:cNvCxnSpPr/>
            <p:nvPr/>
          </p:nvCxnSpPr>
          <p:spPr>
            <a:xfrm>
              <a:off x="2428560" y="5625360"/>
              <a:ext cx="4715640" cy="108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305" name="AutoShape 33"/>
            <p:cNvCxnSpPr/>
            <p:nvPr/>
          </p:nvCxnSpPr>
          <p:spPr>
            <a:xfrm>
              <a:off x="2797920" y="2846880"/>
              <a:ext cx="237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06" name="AutoShape 32"/>
            <p:cNvCxnSpPr/>
            <p:nvPr/>
          </p:nvCxnSpPr>
          <p:spPr>
            <a:xfrm>
              <a:off x="5057280" y="2844360"/>
              <a:ext cx="23760" cy="2777400"/>
            </a:xfrm>
            <a:prstGeom prst="straightConnector1">
              <a:avLst/>
            </a:prstGeom>
            <a:ln w="22320">
              <a:solidFill>
                <a:srgbClr val="00b050"/>
              </a:solidFill>
              <a:miter/>
            </a:ln>
          </p:spPr>
        </p:cxnSp>
        <p:sp>
          <p:nvSpPr>
            <p:cNvPr id="307" name="Text Box 31"/>
            <p:cNvSpPr/>
            <p:nvPr/>
          </p:nvSpPr>
          <p:spPr>
            <a:xfrm>
              <a:off x="2643120" y="2286000"/>
              <a:ext cx="533160" cy="42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0"/>
            <p:cNvSpPr/>
            <p:nvPr/>
          </p:nvSpPr>
          <p:spPr>
            <a:xfrm>
              <a:off x="3857400" y="2286000"/>
              <a:ext cx="100152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9"/>
            <p:cNvSpPr/>
            <p:nvPr/>
          </p:nvSpPr>
          <p:spPr>
            <a:xfrm>
              <a:off x="4501080" y="2286000"/>
              <a:ext cx="1684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b050"/>
                  </a:solidFill>
                  <a:latin typeface="Calibri"/>
                </a:rPr>
                <a:t>30</a:t>
              </a:r>
              <a:r>
                <a:rPr b="1" lang="pl-PL" sz="1800" spc="-1" strike="noStrike" baseline="30000">
                  <a:solidFill>
                    <a:srgbClr val="00b05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b05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8"/>
            <p:cNvSpPr/>
            <p:nvPr/>
          </p:nvSpPr>
          <p:spPr>
            <a:xfrm>
              <a:off x="3643200" y="5715000"/>
              <a:ext cx="1183680" cy="5572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7"/>
            <p:cNvSpPr/>
            <p:nvPr/>
          </p:nvSpPr>
          <p:spPr>
            <a:xfrm>
              <a:off x="4167360" y="3647520"/>
              <a:ext cx="163800" cy="120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26"/>
            <p:cNvSpPr/>
            <p:nvPr/>
          </p:nvSpPr>
          <p:spPr>
            <a:xfrm>
              <a:off x="3467880" y="3418200"/>
              <a:ext cx="774360" cy="69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Krakó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900" spc="-1" strike="noStrike">
                  <a:solidFill>
                    <a:srgbClr val="000000"/>
                  </a:solidFill>
                  <a:latin typeface="Calibri"/>
                </a:rPr>
                <a:t>20.VII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5"/>
            <p:cNvSpPr/>
            <p:nvPr/>
          </p:nvSpPr>
          <p:spPr>
            <a:xfrm>
              <a:off x="4265640" y="3418200"/>
              <a:ext cx="814680" cy="228960"/>
            </a:xfrm>
            <a:custGeom>
              <a:avLst/>
              <a:gdLst>
                <a:gd name="textAreaLeft" fmla="*/ 142560 w 814680"/>
                <a:gd name="textAreaRight" fmla="*/ 590760 w 8146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4"/>
            <p:cNvSpPr/>
            <p:nvPr/>
          </p:nvSpPr>
          <p:spPr>
            <a:xfrm>
              <a:off x="4265640" y="5392440"/>
              <a:ext cx="814680" cy="228960"/>
            </a:xfrm>
            <a:custGeom>
              <a:avLst/>
              <a:gdLst>
                <a:gd name="textAreaLeft" fmla="*/ 142560 w 814680"/>
                <a:gd name="textAreaRight" fmla="*/ 590760 w 814680"/>
                <a:gd name="textAreaTop" fmla="*/ 30600 h 228960"/>
                <a:gd name="textAreaBottom" fmla="*/ 198360 h 2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62309"/>
                  <a:lnTo>
                    <a:pt x="21158" y="14324"/>
                  </a:lnTo>
                  <a:lnTo>
                    <a:pt x="17280" y="21600"/>
                  </a:lnTo>
                  <a:lnTo>
                    <a:pt x="12518" y="14324"/>
                  </a:lnTo>
                  <a:lnTo>
                    <a:pt x="14678" y="14324"/>
                  </a:lnTo>
                  <a:arcTo wR="7560" hR="21600" stAng="-2737691" swAng="-2304874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AutoShape 23"/>
            <p:cNvCxnSpPr/>
            <p:nvPr/>
          </p:nvCxnSpPr>
          <p:spPr>
            <a:xfrm>
              <a:off x="4242600" y="2844360"/>
              <a:ext cx="23760" cy="2777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1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500040" y="1857240"/>
            <a:ext cx="8072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3. Obliczam różnicę długości geograficznej wynikającą z obowiązującego   czasu wschodnioeuropejskiego: 3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2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= 1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4. Zamieniam różnicę długości geograficznej na różnicę cza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10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x 4 min. =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5.Obliczam czas urzędowy: 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00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+ 40min. =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Odpowiedź:  Zegar wiszący na ścianie w Krakowie wskazuje godzinę 12</a:t>
            </a:r>
            <a:r>
              <a:rPr b="0" lang="pl-PL" sz="2000" spc="-1" strike="noStrike" baseline="30000">
                <a:solidFill>
                  <a:srgbClr val="4a452a"/>
                </a:solidFill>
                <a:latin typeface="Calibri"/>
              </a:rPr>
              <a:t>40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24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ytuł 1"/>
          <p:cNvSpPr/>
          <p:nvPr/>
        </p:nvSpPr>
        <p:spPr>
          <a:xfrm>
            <a:off x="285840" y="2214720"/>
            <a:ext cx="8858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a a technika atomowa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 43, zeszyt 1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czne obliczenia nie tylko dla geografów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UMK, Toruń, 19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Na co dzień i w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42, zeszyt 1,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Borkowski K. M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Zmierzyć nieuchwytne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[w:]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Postępy Astronom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t. 40, zeszyt 2, 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Mostowski J., Natorf W., Tomaszewska N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Fizyka i astronomia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WSiP, Warszawa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Opolski A. 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Astronomiczne podstawy geografii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PWN, Warszawa, 19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Piskorz S. , Zając S. </a:t>
            </a:r>
            <a:r>
              <a:rPr b="0" i="1" lang="pl-PL" sz="1600" spc="-1" strike="noStrike">
                <a:solidFill>
                  <a:srgbClr val="4a452a"/>
                </a:solidFill>
                <a:latin typeface="Calibri"/>
              </a:rPr>
              <a:t>Geografia Świata i Polski - podręcznik do szkoły średniej</a:t>
            </a: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, WSiP, Warszawa,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2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łowa kluczow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ytuł 1"/>
          <p:cNvSpPr/>
          <p:nvPr/>
        </p:nvSpPr>
        <p:spPr>
          <a:xfrm>
            <a:off x="285840" y="2214720"/>
            <a:ext cx="8858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rachuba czas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łonecz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stref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czas urzędow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4a452a"/>
                </a:solidFill>
                <a:latin typeface="Calibri"/>
              </a:rPr>
              <a:t>międzynarodowa linia zmiany d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85010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słoneczn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(mejscowy, lokalny)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80726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czas wynikający bezpośrednio z pozycji     Słońca na nieb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miejscowości położone na tym samym południku mają ten sam czas słonecz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63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77151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leżność między długością geograficzną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 czasem słonecznym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"/>
          <p:cNvGrpSpPr/>
          <p:nvPr/>
        </p:nvGrpSpPr>
        <p:grpSpPr>
          <a:xfrm>
            <a:off x="1928880" y="2071800"/>
            <a:ext cx="5338800" cy="3571560"/>
            <a:chOff x="1928880" y="2071800"/>
            <a:chExt cx="5338800" cy="3571560"/>
          </a:xfrm>
        </p:grpSpPr>
        <p:cxnSp>
          <p:nvCxnSpPr>
            <p:cNvPr id="69" name="AutoShape 3"/>
            <p:cNvCxnSpPr/>
            <p:nvPr/>
          </p:nvCxnSpPr>
          <p:spPr>
            <a:xfrm>
              <a:off x="253944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0" name="AutoShape 4"/>
            <p:cNvCxnSpPr/>
            <p:nvPr/>
          </p:nvCxnSpPr>
          <p:spPr>
            <a:xfrm>
              <a:off x="361872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1" name="AutoShape 5"/>
            <p:cNvCxnSpPr/>
            <p:nvPr/>
          </p:nvCxnSpPr>
          <p:spPr>
            <a:xfrm>
              <a:off x="468000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2" name="AutoShape 6"/>
            <p:cNvCxnSpPr/>
            <p:nvPr/>
          </p:nvCxnSpPr>
          <p:spPr>
            <a:xfrm>
              <a:off x="572400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73" name="AutoShape 7"/>
            <p:cNvCxnSpPr/>
            <p:nvPr/>
          </p:nvCxnSpPr>
          <p:spPr>
            <a:xfrm>
              <a:off x="6811920" y="2999880"/>
              <a:ext cx="19080" cy="2219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74" name="Text Box 8"/>
            <p:cNvSpPr/>
            <p:nvPr/>
          </p:nvSpPr>
          <p:spPr>
            <a:xfrm>
              <a:off x="200628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3084480" y="2543040"/>
              <a:ext cx="9666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1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411264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1"/>
            <p:cNvSpPr/>
            <p:nvPr/>
          </p:nvSpPr>
          <p:spPr>
            <a:xfrm>
              <a:off x="5153400" y="2543040"/>
              <a:ext cx="9666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3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6214680" y="2576520"/>
              <a:ext cx="96624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r>
                <a:rPr b="1" lang="pl-PL" sz="1800" spc="-1" strike="noStrike" baseline="30000">
                  <a:solidFill>
                    <a:srgbClr val="000000"/>
                  </a:solidFill>
                  <a:latin typeface="Calibri"/>
                </a:rPr>
                <a:t>o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1928880" y="527256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:5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3044520" y="5305680"/>
              <a:ext cx="100656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1:5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"/>
            <p:cNvSpPr/>
            <p:nvPr/>
          </p:nvSpPr>
          <p:spPr>
            <a:xfrm>
              <a:off x="4112640" y="530568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6"/>
            <p:cNvSpPr/>
            <p:nvPr/>
          </p:nvSpPr>
          <p:spPr>
            <a:xfrm>
              <a:off x="5153400" y="5305680"/>
              <a:ext cx="100656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7"/>
            <p:cNvSpPr/>
            <p:nvPr/>
          </p:nvSpPr>
          <p:spPr>
            <a:xfrm>
              <a:off x="6214680" y="5305680"/>
              <a:ext cx="1006200" cy="337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pl-PL" sz="1800" spc="-1" strike="noStrike">
                  <a:solidFill>
                    <a:srgbClr val="000000"/>
                  </a:solidFill>
                  <a:latin typeface="Calibri"/>
                </a:rPr>
                <a:t>12: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18"/>
            <p:cNvCxnSpPr/>
            <p:nvPr/>
          </p:nvCxnSpPr>
          <p:spPr>
            <a:xfrm flipH="1">
              <a:off x="1974600" y="2410560"/>
              <a:ext cx="5293440" cy="1080"/>
            </a:xfrm>
            <a:prstGeom prst="straightConnector1">
              <a:avLst/>
            </a:prstGeom>
            <a:ln w="22320">
              <a:solidFill>
                <a:srgbClr val="ffc000"/>
              </a:solidFill>
              <a:miter/>
              <a:tailEnd len="lg" type="stealth" w="lg"/>
            </a:ln>
          </p:spPr>
        </p:cxnSp>
        <p:sp>
          <p:nvSpPr>
            <p:cNvPr id="85" name="Text Box 19"/>
            <p:cNvSpPr/>
            <p:nvPr/>
          </p:nvSpPr>
          <p:spPr>
            <a:xfrm>
              <a:off x="3170880" y="2071800"/>
              <a:ext cx="3450600" cy="271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c000"/>
                  </a:solidFill>
                  <a:latin typeface="Calibri"/>
                </a:rPr>
                <a:t>                 </a:t>
              </a:r>
              <a:r>
                <a:rPr b="1" lang="pl-PL" sz="1400" spc="-1" strike="noStrike">
                  <a:solidFill>
                    <a:srgbClr val="ffc000"/>
                  </a:solidFill>
                  <a:latin typeface="Calibri"/>
                </a:rPr>
                <a:t>Pozorny ruch Słoń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35684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AMIĘTAJ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90" name="Tytuł 1"/>
          <p:cNvSpPr/>
          <p:nvPr/>
        </p:nvSpPr>
        <p:spPr>
          <a:xfrm>
            <a:off x="500040" y="2428920"/>
            <a:ext cx="7715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pełen obrót Ziemi to 360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= 24 godziny różnicy czas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obrót Ziemi o 15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dł. geogr. = 1 godzina różnicy czas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obrót Ziemi o 1</a:t>
            </a:r>
            <a:r>
              <a:rPr b="0" lang="pl-PL" sz="26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2600" spc="-1" strike="noStrike">
                <a:solidFill>
                  <a:srgbClr val="4a452a"/>
                </a:solidFill>
                <a:latin typeface="Calibri"/>
              </a:rPr>
              <a:t> dł. geogr. = 4 minuty różnicy czas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4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85010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strefow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71360" y="2143080"/>
            <a:ext cx="80722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0328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to czas dla każdej strefy obejmującej            15</a:t>
            </a:r>
            <a:r>
              <a:rPr b="0" lang="pl-PL" sz="32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 długości geograficznej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strefach bezpośrednio ze sobą    sąsiadujących czasy strefowe różnią się              o jedną godzin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3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9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77155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sięg trzech stref czasowych występujących         w Europi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99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0"/>
          <p:cNvGrpSpPr/>
          <p:nvPr/>
        </p:nvGrpSpPr>
        <p:grpSpPr>
          <a:xfrm>
            <a:off x="1857240" y="2286000"/>
            <a:ext cx="5978160" cy="3602160"/>
            <a:chOff x="1857240" y="2286000"/>
            <a:chExt cx="5978160" cy="3602160"/>
          </a:xfrm>
        </p:grpSpPr>
        <p:cxnSp>
          <p:nvCxnSpPr>
            <p:cNvPr id="101" name="AutoShape 51"/>
            <p:cNvCxnSpPr/>
            <p:nvPr/>
          </p:nvCxnSpPr>
          <p:spPr>
            <a:xfrm flipH="1">
              <a:off x="224820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2" name="AutoShape 52"/>
            <p:cNvCxnSpPr/>
            <p:nvPr/>
          </p:nvCxnSpPr>
          <p:spPr>
            <a:xfrm flipH="1">
              <a:off x="3074040" y="2682360"/>
              <a:ext cx="1116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" name="AutoShape 53"/>
            <p:cNvCxnSpPr/>
            <p:nvPr/>
          </p:nvCxnSpPr>
          <p:spPr>
            <a:xfrm flipH="1">
              <a:off x="384408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4" name="AutoShape 54"/>
            <p:cNvCxnSpPr/>
            <p:nvPr/>
          </p:nvCxnSpPr>
          <p:spPr>
            <a:xfrm flipH="1">
              <a:off x="4617720" y="2682360"/>
              <a:ext cx="1044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AutoShape 55"/>
            <p:cNvCxnSpPr/>
            <p:nvPr/>
          </p:nvCxnSpPr>
          <p:spPr>
            <a:xfrm flipH="1">
              <a:off x="543420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06" name="AutoShape 56"/>
            <p:cNvCxnSpPr/>
            <p:nvPr/>
          </p:nvCxnSpPr>
          <p:spPr>
            <a:xfrm flipH="1">
              <a:off x="6216840" y="2682360"/>
              <a:ext cx="10440" cy="2589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AutoShape 57"/>
            <p:cNvCxnSpPr/>
            <p:nvPr/>
          </p:nvCxnSpPr>
          <p:spPr>
            <a:xfrm flipV="1">
              <a:off x="2258640" y="3932280"/>
              <a:ext cx="1588320" cy="10080"/>
            </a:xfrm>
            <a:prstGeom prst="straightConnector1">
              <a:avLst/>
            </a:prstGeom>
            <a:ln w="1908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8" name="AutoShape 58"/>
            <p:cNvCxnSpPr/>
            <p:nvPr/>
          </p:nvCxnSpPr>
          <p:spPr>
            <a:xfrm>
              <a:off x="3856680" y="3934440"/>
              <a:ext cx="1588320" cy="7920"/>
            </a:xfrm>
            <a:prstGeom prst="straightConnector1">
              <a:avLst/>
            </a:prstGeom>
            <a:ln w="1584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9" name="AutoShape 59"/>
            <p:cNvCxnSpPr/>
            <p:nvPr/>
          </p:nvCxnSpPr>
          <p:spPr>
            <a:xfrm flipV="1">
              <a:off x="5434200" y="3924720"/>
              <a:ext cx="1588320" cy="10080"/>
            </a:xfrm>
            <a:prstGeom prst="straightConnector1">
              <a:avLst/>
            </a:prstGeom>
            <a:ln w="19080">
              <a:solidFill>
                <a:srgbClr val="0070c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0" name="Text Box 60"/>
            <p:cNvSpPr/>
            <p:nvPr/>
          </p:nvSpPr>
          <p:spPr>
            <a:xfrm>
              <a:off x="1999440" y="2286000"/>
              <a:ext cx="977040" cy="39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AutoShape 61"/>
            <p:cNvCxnSpPr/>
            <p:nvPr/>
          </p:nvCxnSpPr>
          <p:spPr>
            <a:xfrm flipH="1">
              <a:off x="7011360" y="2680200"/>
              <a:ext cx="10440" cy="25898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12" name="Text Box 62"/>
            <p:cNvSpPr/>
            <p:nvPr/>
          </p:nvSpPr>
          <p:spPr>
            <a:xfrm>
              <a:off x="2813400" y="2288160"/>
              <a:ext cx="11401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3"/>
            <p:cNvSpPr/>
            <p:nvPr/>
          </p:nvSpPr>
          <p:spPr>
            <a:xfrm>
              <a:off x="3431880" y="2288160"/>
              <a:ext cx="97704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4"/>
            <p:cNvSpPr/>
            <p:nvPr/>
          </p:nvSpPr>
          <p:spPr>
            <a:xfrm>
              <a:off x="4165920" y="22881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5"/>
            <p:cNvSpPr/>
            <p:nvPr/>
          </p:nvSpPr>
          <p:spPr>
            <a:xfrm>
              <a:off x="4954680" y="2286000"/>
              <a:ext cx="164664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6"/>
            <p:cNvSpPr/>
            <p:nvPr/>
          </p:nvSpPr>
          <p:spPr>
            <a:xfrm>
              <a:off x="5869440" y="228816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7"/>
            <p:cNvSpPr/>
            <p:nvPr/>
          </p:nvSpPr>
          <p:spPr>
            <a:xfrm>
              <a:off x="6601680" y="2288160"/>
              <a:ext cx="1233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r>
                <a:rPr b="1" lang="pl-PL" sz="1400" spc="-1" strike="noStrike" baseline="30000">
                  <a:solidFill>
                    <a:srgbClr val="000000"/>
                  </a:solidFill>
                  <a:latin typeface="Calibri"/>
                </a:rPr>
                <a:t>o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30’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68"/>
            <p:cNvSpPr/>
            <p:nvPr/>
          </p:nvSpPr>
          <p:spPr>
            <a:xfrm>
              <a:off x="263952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2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69"/>
            <p:cNvSpPr/>
            <p:nvPr/>
          </p:nvSpPr>
          <p:spPr>
            <a:xfrm>
              <a:off x="416592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3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0"/>
            <p:cNvSpPr/>
            <p:nvPr/>
          </p:nvSpPr>
          <p:spPr>
            <a:xfrm>
              <a:off x="5783040" y="3191400"/>
              <a:ext cx="97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pl-PL" sz="1400" spc="-1" strike="noStrike">
                  <a:solidFill>
                    <a:srgbClr val="0070c0"/>
                  </a:solidFill>
                  <a:latin typeface="Calibri"/>
                </a:rPr>
                <a:t>14: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1"/>
            <p:cNvSpPr/>
            <p:nvPr/>
          </p:nvSpPr>
          <p:spPr>
            <a:xfrm>
              <a:off x="1857240" y="5346000"/>
              <a:ext cx="255168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            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uniwersal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2"/>
            <p:cNvSpPr/>
            <p:nvPr/>
          </p:nvSpPr>
          <p:spPr>
            <a:xfrm>
              <a:off x="3431880" y="5346000"/>
              <a:ext cx="25520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środkowo -                 europejs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3"/>
            <p:cNvSpPr/>
            <p:nvPr/>
          </p:nvSpPr>
          <p:spPr>
            <a:xfrm>
              <a:off x="5051520" y="5346000"/>
              <a:ext cx="25520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czas wschodnio -                 europejs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as urzędowy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oficjalny, ustawowy, dekretowy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71360" y="2214720"/>
            <a:ext cx="80722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czas umowny stosowany na określonym obszarze na podstawie zarządzenia władz państwow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57200">
              <a:spcBef>
                <a:spcPts val="799"/>
              </a:spcBef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a452a"/>
                </a:solidFill>
                <a:latin typeface="Calibri"/>
              </a:rPr>
              <a:t>w przypadku tego czasu granicami stref czasowych są granice administracyj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2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AMIĘTAJ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32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33" name="Tytuł 1"/>
          <p:cNvSpPr/>
          <p:nvPr/>
        </p:nvSpPr>
        <p:spPr>
          <a:xfrm>
            <a:off x="928800" y="2428920"/>
            <a:ext cx="77151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Polska leży na dwóch strefach czasu: środkowoeuropejskiej                                      i wschodnioeuropejski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w Polsce i prawie całej Europie  obowiązuje czas urzędowy zwany    czasem letnim i zimowy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CZAS ZIMOWY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czas południka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15</a:t>
            </a:r>
            <a:r>
              <a:rPr b="1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E (środkowoeuropejski)         (UT + 1h)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następuje w ostatnią niedziele paździer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452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CZAS LETNI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 – czas południka 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30</a:t>
            </a:r>
            <a:r>
              <a:rPr b="1" lang="pl-PL" sz="2000" spc="-1" strike="noStrike" baseline="30000">
                <a:solidFill>
                  <a:srgbClr val="4a452a"/>
                </a:solidFill>
                <a:latin typeface="Calibri"/>
              </a:rPr>
              <a:t>o</a:t>
            </a:r>
            <a:r>
              <a:rPr b="1" lang="pl-PL" sz="2000" spc="-1" strike="noStrike">
                <a:solidFill>
                  <a:srgbClr val="4a452a"/>
                </a:solidFill>
                <a:latin typeface="Calibri"/>
              </a:rPr>
              <a:t>E (wschodnioeuropejski)                 (UT + 2h) </a:t>
            </a:r>
            <a:r>
              <a:rPr b="0" lang="pl-PL" sz="2000" spc="-1" strike="noStrike">
                <a:solidFill>
                  <a:srgbClr val="4a452a"/>
                </a:solidFill>
                <a:latin typeface="Calibri"/>
              </a:rPr>
              <a:t>następuje w ostatnią niedziele mar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iG</cp:lastModifiedBy>
  <dcterms:modified xsi:type="dcterms:W3CDTF">2013-09-03T16:54:47Z</dcterms:modified>
  <cp:revision>134</cp:revision>
  <dc:subject/>
  <dc:title>Slajd 1</dc:title>
</cp:coreProperties>
</file>