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7AB2-C25A-4CBB-A4C5-83A0FF973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855A-531A-4C8A-982C-0CECA67B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E349-1086-4456-B5DD-BB3AE4E7D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F479-914A-4F64-81A0-9BE5B77EA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B3DC-1834-4471-B6DF-218842174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8BB3-DB03-40D6-A012-4A0F1ED6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F734-5D13-42E9-8413-B1E2AE82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DE41-8CA7-440B-9CB7-9E568855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3DC8-0BFE-4E2A-BFFE-301FA54C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BB0D-826E-408B-9117-1DF65315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7D43-F731-46B3-9D40-CC5A3BE1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3357-A94D-46CB-ACBE-4968F2CA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0C89-CA24-4C99-8C18-C948182B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E8E9-F4F8-4CFA-BD85-F1806718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3198-4DFC-4C6F-8678-ECD45433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7F27-B5A5-4ACE-8F57-98DD2E29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8A0C-ADDA-4BE7-9087-C38BDA8BD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16D5-9BC2-4A92-A29D-46622D10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5A5E-B46F-473A-987C-880708D6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0043-9C2F-4697-AC8D-CCF44B29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7E24-5FD5-4E53-A3E4-B6150273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39D7-E6AA-4D41-9DE2-0CCA37C0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F777-6620-46F5-A781-22252E70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8FD4-E07A-4E93-A2CF-1EF0DC32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2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3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434F-DFEB-46AB-A42E-E7BAD84E01F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4E3B-08C6-4A64-9067-F02445099B5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anonet.pl/index.php/nanobiblioteka/nanodydaktyka/2364-fulereny-fullereny" TargetMode="External"/><Relationship Id="rId2" Type="http://schemas.openxmlformats.org/officeDocument/2006/relationships/hyperlink" Target="http://nanoall.blogspot.com/2013/01/nanotechnology-instruments.html" TargetMode="External"/><Relationship Id="rId3" Type="http://schemas.openxmlformats.org/officeDocument/2006/relationships/hyperlink" Target="http://www.youtube.com/watch?feature=player_embedded&amp;v=7hZ5hinf9vo" TargetMode="External"/><Relationship Id="rId4" Type="http://schemas.openxmlformats.org/officeDocument/2006/relationships/hyperlink" Target="http://www.youtube.com/watch?feature=player_embedded&amp;v=iXcfm10bvZo" TargetMode="External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1989000"/>
            <a:ext cx="834840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2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ulereny i nanorurki węglowe jako elementy konstrukcyjne nanotechnologii.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rzewodzenie prądu elektrycznego przez fulereny i nanorurki.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ykorzystanie polimerów przewodzących w nanotechnologii.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32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l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UST SEE!!! THIS IS HAPPENING NOW!! NANO TECHNOLOGY AND THE NWO BRAIN IMPLANTS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Obraz 2" descr="Obrazek3.jpg"/>
          <p:cNvPicPr/>
          <p:nvPr/>
        </p:nvPicPr>
        <p:blipFill>
          <a:blip r:embed="rId1"/>
          <a:stretch/>
        </p:blipFill>
        <p:spPr>
          <a:xfrm>
            <a:off x="2540160" y="1898640"/>
            <a:ext cx="406368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3640" y="1196640"/>
            <a:ext cx="83739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Podsumowan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notechnologia dostarczyła nam wiele nowych narzędzi do odkrywania systemów biologicznych w nanoskali. Sprowadzenie zjawisk zachodzących w pojedynczej komórce i pojedynczej cząsteczce na poziom badań eksperymentalnych jest ważnym krokiem w kierunku rozwoju zarówno konceptualnego, jak i „filozoficznego". Stwarza to także nadzieje na lepsze poznanie organizacji systemów biologicznych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stępność zminiaturyzowanych układów wykorzystywany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rozdzielaniu molekuł i ich analizie będzie nie tylko katalizować poznanie zjawisk na poziomie pojedynczej cząsteczki, ale także dostarczy nowych metod badawczych, w wyniku których genomowa rewolucja może ostateczne nabrać praktycznego znaczenia dzięki lepszemu zrozumieniu przyczyn wielu chorób oraz dzięki rozwojowi nowych procedur terapeutyczn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072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 drugiej strony, biologia komórki daje nanotechnologii niezwykłe przykłady urządzeń i maszyn w nanoskali. Mogą one być wykorzystane bezpośrednio w systemach hybrydowych lub służyć jako inspiracja do budowy urządzeń działających na tych samych zasadach fizycznyc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8000" y="1197000"/>
            <a:ext cx="8280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ykaz źródeł, które wykorzystano przy tworzeniu niniejszej prezentacji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NOTECHNOLOGIE” – redakcja naukowa Robert W. Kelsall, Ian W. Hamley i Mark Geoghegan - WYDAWNICTWO NAUKOWE PWN, WARSZAWA 2009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nanonet.pl/index.php/nanobiblioteka/nanodydaktyka/2364-fulereny-fullere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nanoall.blogspot.com/2013/01/nanotechnology-instrument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dresy URL filmów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technology Video -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youtube.com/watch?feature=player_embedded&amp;v=7hZ5hinf9v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SEE!!! THIS IS HAPPENING NOW!! NANO TECHNOLOGY AND THE NWO BRAIN IMPLANTS -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youtube.com/watch?feature=player_embedded&amp;v=iXcfm10bvZ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ve New Nano  Flexible phones &amp; graphene gadgets in RT's Technology Update - http://www.youtube.com/watch?feature=player_embedded&amp;v=IN6xNuhmIM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technology neverwet fabrics - http://www.youtube.com/watch?feature=player_embedded&amp;v=YqGkC5uJ0y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556000" y="1773360"/>
            <a:ext cx="60688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Fulere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to cząsteczki węgla C60, C70, C76 i C84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kształcie sferycznej klatki, z wysyconymi wiązaniami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-C. Dobrym przykładem jest fuleren C60. Fulereny są twardymi kryształami o żółtej barwie w formie warst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średnicy około 0,7 nm (nanometra). W strukturze fulerenu wszystkie cząsteczki węgla mają te same właściwości przyłączające. Długość wiązania podwójnego wynosi 0,14 nm, a wiązania pojedynczego 0,146 n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phoca_thumb_l_f_9_15"/>
          <p:cNvPicPr/>
          <p:nvPr/>
        </p:nvPicPr>
        <p:blipFill>
          <a:blip r:embed="rId1"/>
          <a:stretch/>
        </p:blipFill>
        <p:spPr>
          <a:xfrm>
            <a:off x="468360" y="1413000"/>
            <a:ext cx="1485720" cy="1485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c60-fulleren-kristallin"/>
          <p:cNvPicPr/>
          <p:nvPr/>
        </p:nvPicPr>
        <p:blipFill>
          <a:blip r:embed="rId2"/>
          <a:stretch/>
        </p:blipFill>
        <p:spPr>
          <a:xfrm>
            <a:off x="250920" y="3213000"/>
            <a:ext cx="20095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32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2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W 1991 roku Sumio Iijima odkrył - w „sadzy” powstałej przez przepuszczanie prądu między węglowymi elektrodami - nową </a:t>
            </a:r>
            <a:r>
              <a:rPr b="1" lang="pl-PL" sz="1800" spc="-1" strike="noStrike">
                <a:solidFill>
                  <a:srgbClr val="332925"/>
                </a:solidFill>
                <a:latin typeface="Arial"/>
              </a:rPr>
              <a:t>alotropową odmianę węgla</a:t>
            </a: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; koncentryczne </a:t>
            </a:r>
            <a:r>
              <a:rPr b="1" lang="pl-PL" sz="1800" spc="-1" strike="noStrike">
                <a:solidFill>
                  <a:srgbClr val="332925"/>
                </a:solidFill>
                <a:latin typeface="Arial"/>
              </a:rPr>
              <a:t>nanorurki węglowe</a:t>
            </a: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. Typowa średnice nanorurek to kilka nanometrów (10</a:t>
            </a:r>
            <a:r>
              <a:rPr b="0" lang="pl-PL" sz="1800" spc="-1" strike="noStrike" baseline="30000">
                <a:solidFill>
                  <a:srgbClr val="332925"/>
                </a:solidFill>
                <a:latin typeface="Arial"/>
              </a:rPr>
              <a:t>-9</a:t>
            </a: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m), zaś ich typowe długości kilka mikrometrów (10</a:t>
            </a:r>
            <a:r>
              <a:rPr b="0" lang="pl-PL" sz="1800" spc="-1" strike="noStrike" baseline="30000">
                <a:solidFill>
                  <a:srgbClr val="332925"/>
                </a:solidFill>
                <a:latin typeface="Arial"/>
              </a:rPr>
              <a:t>-6</a:t>
            </a: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m) wyjątkowo osiągają nawet kilka milimetró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07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2925"/>
                </a:solidFill>
                <a:latin typeface="Arial"/>
              </a:rPr>
              <a:t>Właściwości nanorurek</a:t>
            </a: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29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moduł Younga  (na rozciąganie) wynosi 37x10</a:t>
            </a:r>
            <a:r>
              <a:rPr b="0" lang="pl-PL" sz="1800" spc="-1" strike="noStrike" baseline="30000">
                <a:solidFill>
                  <a:srgbClr val="332925"/>
                </a:solidFill>
                <a:latin typeface="Arial"/>
              </a:rPr>
              <a:t>11 </a:t>
            </a: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Pa, gdy dla włókien węglowych maksymalnie sięga 8x10</a:t>
            </a:r>
            <a:r>
              <a:rPr b="0" lang="pl-PL" sz="1800" spc="-1" strike="noStrike" baseline="30000">
                <a:solidFill>
                  <a:srgbClr val="332925"/>
                </a:solidFill>
                <a:latin typeface="Arial"/>
              </a:rPr>
              <a:t>11 </a:t>
            </a: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Pa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29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rozerwanie nanorurek następuje gdy ich względne wydłużenie osiąga wartość 0,4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29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ulegają odkształceniom elastycznym(wydlużaniu, skręcaniu i zginaniu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29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wykazują odporność na wzrost temperatury do 700 </a:t>
            </a:r>
            <a:r>
              <a:rPr b="0" lang="pl-PL" sz="1800" spc="-1" strike="noStrike" baseline="30000">
                <a:solidFill>
                  <a:srgbClr val="332925"/>
                </a:solidFill>
                <a:latin typeface="Arial"/>
              </a:rPr>
              <a:t>o</a:t>
            </a: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C w powietrzu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29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dobrze przewodzą ciepło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29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mogą zatrzymywać we wnętrzu różne rodzaje atomów i cząsteczek; np. atomy srebra pozwalają wprowadzić do nanorurki dodatkowe elektrony </a:t>
            </a:r>
            <a:br>
              <a:rPr sz="1800"/>
            </a:b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i uzyskać nowe  właściwości przewodnictwa (nadprzewodnictwa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29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mogą przewodzić prądy o bardzo dużych  gęstościach sięgajacych nawet 10 </a:t>
            </a:r>
            <a:r>
              <a:rPr b="0" lang="pl-PL" sz="1800" spc="-1" strike="noStrike" baseline="30000">
                <a:solidFill>
                  <a:srgbClr val="332925"/>
                </a:solidFill>
                <a:latin typeface="Arial"/>
              </a:rPr>
              <a:t>9 </a:t>
            </a:r>
            <a:r>
              <a:rPr b="0" lang="pl-PL" sz="1800" spc="-1" strike="noStrike">
                <a:solidFill>
                  <a:srgbClr val="332925"/>
                </a:solidFill>
                <a:latin typeface="Arial"/>
                <a:ea typeface="Times New Roman"/>
              </a:rPr>
              <a:t>A/cm</a:t>
            </a:r>
            <a:r>
              <a:rPr b="0" lang="pl-PL" sz="1800" spc="-1" strike="noStrike" baseline="30000">
                <a:solidFill>
                  <a:srgbClr val="332925"/>
                </a:solidFill>
                <a:latin typeface="Arial"/>
                <a:ea typeface="Times New Roman"/>
              </a:rPr>
              <a:t>2</a:t>
            </a:r>
            <a:r>
              <a:rPr b="0" lang="pl-PL" sz="1800" spc="-1" strike="noStrike">
                <a:solidFill>
                  <a:srgbClr val="332925"/>
                </a:solidFill>
                <a:latin typeface="Arial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29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32925"/>
                </a:solidFill>
                <a:latin typeface="Arial"/>
                <a:ea typeface="Times New Roman"/>
              </a:rPr>
              <a:t>p</a:t>
            </a:r>
            <a:r>
              <a:rPr b="0" lang="pl-PL" sz="1800" spc="-1" strike="noStrike">
                <a:solidFill>
                  <a:srgbClr val="332925"/>
                </a:solidFill>
                <a:latin typeface="Arial"/>
              </a:rPr>
              <a:t>oniżej 20K  pojedyncze nanorurki stają się nadprzewodnikam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000" y="1196640"/>
            <a:ext cx="8280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Co to jest nanotechnologia?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anotechnologi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jest terminem obejmującym projektowanie, tworzenie oraz użytkowanie materiałów mających przynajmniej jeden wymiar, którego naturalną jednostką miary jest nanomet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ateriały o takiej strukturze można tak zaprojektować, aby wykazywały pożądane właściwości fizyczne, chemiczne czy biologiczne dzięki ograniczonej wielkości tworzących je cząstek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000" y="1196640"/>
            <a:ext cx="8280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Jeśli któryś z wymiarów struktury mieści się w zakresie od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1 do 100 nm, czyli znajduje się w przedziale, którego krańce z jednej strony wyznaczają odległości typowe dla pojedynczych atomów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1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m), z drugiej zaś te spotykane w ciele stałym (1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m), materiał może wykazywać właściwości znacznie odbiegające od właściwości pojedynczych atomów oraz typowych kryształów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o sprawia, że nanotechnologia jest obiecującym obszarem badań umożliwiającym tworzenie materiałów o niespotykanych wcześniej właściwościa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32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l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notechnology neverwet fabrics 1 skroco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Obraz 2" descr="Obrazek1.jpg"/>
          <p:cNvPicPr/>
          <p:nvPr/>
        </p:nvPicPr>
        <p:blipFill>
          <a:blip r:embed="rId1"/>
          <a:stretch/>
        </p:blipFill>
        <p:spPr>
          <a:xfrm>
            <a:off x="2522520" y="1898640"/>
            <a:ext cx="409896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32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il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notechnology Video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Obraz 3" descr="Obrazek2.jpg"/>
          <p:cNvPicPr/>
          <p:nvPr/>
        </p:nvPicPr>
        <p:blipFill>
          <a:blip r:embed="rId1"/>
          <a:srcRect l="11797" t="2916" r="11797" b="870"/>
          <a:stretch/>
        </p:blipFill>
        <p:spPr>
          <a:xfrm>
            <a:off x="2944800" y="1898640"/>
            <a:ext cx="325440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21:40:34Z</dcterms:created>
  <dc:creator>Ministerstwo Edukacji Narodowej i Sportu</dc:creator>
  <dc:description/>
  <dc:language>en-US</dc:language>
  <cp:lastModifiedBy>Andrzej</cp:lastModifiedBy>
  <dcterms:modified xsi:type="dcterms:W3CDTF">2013-08-25T07:34:00Z</dcterms:modified>
  <cp:revision>35</cp:revision>
  <dc:subject/>
  <dc:title>KORPUSKULARNO-FALOWA NATURA ŚWIATŁA</dc:title>
</cp:coreProperties>
</file>