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0404-4FAA-440E-B395-3A4CFD51651B}"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FE13-0580-4EC1-AB7F-2C25556DF16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C778-4E6D-4A77-B28F-276FB2727BE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1DEC-2648-4606-97F6-DD3A942D590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65F3C-F3FD-4AE6-B2BE-BD9AEA464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D7172-EF7F-4607-BE63-134B803E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2CED8-B74C-4278-9F63-C0F271BB4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30435-EE25-4F97-A03B-168E6C891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4B513-2C35-4696-91AB-98A43F41E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87334-64D5-4272-B236-EE9E7AECB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E3128-FADA-471E-82CD-AF9C556B3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9FF18-F33B-470E-86B6-C9DE94A0B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01208-AA48-4A24-ABFE-AE010D5C3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207CC-2D51-4BB5-9795-C46804DF6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8EEAD-BF05-4D6B-A535-B492E6F95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EFF2-2387-4124-9929-55D7BEDA4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97618-1A23-4ABE-9B8A-E62F904CC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92917-F6A8-4561-BF8B-454C1AB1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A518A-D000-41DB-BFAA-F34E98CA8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A4DFA-EAFD-45FC-ADC3-F6CB204E5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E7729-0669-40EE-84FF-25F326C11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F1264-336E-40B5-AFA5-4D14FC5B0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227D9-F984-4226-BC5E-96A159C7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7D860-95D1-4C75-BC59-328EE9031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23B4-BF23-459A-97D8-D28D67A11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C1D91-60EE-441D-9EEB-91D4E8D51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66DF-A2AC-47A7-8F8D-3F77231D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0D52B-E7DF-4691-A7D1-56AB23513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DB9A-1B03-4586-B004-4557413A1959}"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994B-153A-4B62-A372-19950DCB489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1844640"/>
            <a:ext cx="864216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000" spc="-1" strike="noStrike">
                <a:solidFill>
                  <a:srgbClr val="000000"/>
                </a:solidFill>
                <a:latin typeface="Calibri"/>
              </a:rPr>
              <a:t>Materiały,</a:t>
            </a:r>
            <a:br>
              <a:rPr sz="5000"/>
            </a:br>
            <a:r>
              <a:rPr b="1" lang="pl-PL" sz="5000" spc="-1" strike="noStrike">
                <a:solidFill>
                  <a:srgbClr val="000000"/>
                </a:solidFill>
                <a:latin typeface="Calibri"/>
              </a:rPr>
              <a:t>z których wykonuje się implanty</a:t>
            </a:r>
            <a:br>
              <a:rPr sz="4900"/>
            </a:br>
            <a:r>
              <a:rPr b="1" lang="pl-PL" sz="3900" spc="-1" strike="noStrike">
                <a:solidFill>
                  <a:srgbClr val="000000"/>
                </a:solidFill>
                <a:latin typeface="Calibri"/>
              </a:rPr>
              <a:t>materiał przygotowujący do wycieczki</a:t>
            </a:r>
            <a:endParaRPr b="0" lang="en-US" sz="3900" spc="-1" strike="noStrike">
              <a:solidFill>
                <a:srgbClr val="000000"/>
              </a:solidFill>
              <a:latin typeface="Calibri"/>
            </a:endParaRPr>
          </a:p>
        </p:txBody>
      </p:sp>
      <p:sp>
        <p:nvSpPr>
          <p:cNvPr id="96" name="Podtytuł 2"/>
          <p:cNvSpPr/>
          <p:nvPr/>
        </p:nvSpPr>
        <p:spPr>
          <a:xfrm>
            <a:off x="1371600" y="3836880"/>
            <a:ext cx="6400800" cy="600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ologia a biomateriały</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muszą być z materiałów tolerowanych przez tkanki je później okalające. Ważne jest także, by były porowate, co ułatwia zrośnięcie się ciała obcego z naturalną tkank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Diagram 2" descr=""/>
          <p:cNvPicPr/>
          <p:nvPr/>
        </p:nvPicPr>
        <p:blipFill>
          <a:blip r:embed="rId1"/>
          <a:stretch/>
        </p:blipFill>
        <p:spPr>
          <a:xfrm>
            <a:off x="1962000" y="2700360"/>
            <a:ext cx="5145120" cy="3328920"/>
          </a:xfrm>
          <a:prstGeom prst="rect">
            <a:avLst/>
          </a:prstGeom>
          <a:ln w="0">
            <a:noFill/>
          </a:ln>
        </p:spPr>
      </p:pic>
      <p:sp>
        <p:nvSpPr>
          <p:cNvPr id="112" name="pole tekstowe 3"/>
          <p:cNvSpPr/>
          <p:nvPr/>
        </p:nvSpPr>
        <p:spPr>
          <a:xfrm>
            <a:off x="539640" y="260280"/>
            <a:ext cx="7920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dział najważniejszych materiałów wykorzystywanych jako implant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ole tekstowe 1"/>
          <p:cNvSpPr/>
          <p:nvPr/>
        </p:nvSpPr>
        <p:spPr>
          <a:xfrm>
            <a:off x="685800" y="1628640"/>
            <a:ext cx="180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ole tekstowe 2"/>
          <p:cNvSpPr/>
          <p:nvPr/>
        </p:nvSpPr>
        <p:spPr>
          <a:xfrm>
            <a:off x="468360" y="1166760"/>
            <a:ext cx="7920000" cy="448092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szczepy metalowe, zazwyczaj wykonywane ze stopów kobaltu, molibdenu, chromu</a:t>
            </a:r>
            <a:br>
              <a:rPr sz="3200"/>
            </a:br>
            <a:r>
              <a:rPr b="0" lang="pl-PL" sz="3200" spc="-1" strike="noStrike">
                <a:solidFill>
                  <a:srgbClr val="000000"/>
                </a:solidFill>
                <a:latin typeface="Calibri"/>
              </a:rPr>
              <a:t>i tytanu, możemy z grubsza podzielić na wszczepy czasowe (znajduje w nich zastosowanie także stal nierdzewna), służące przede wszystkim nastawianiu złamanych kości, oraz wszczepy stałe, a więc elementy stomatologiczne, sztuczne stawy i zastawki ser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398600"/>
            <a:ext cx="8229600" cy="4060800"/>
          </a:xfrm>
          <a:prstGeom prst="rect">
            <a:avLst/>
          </a:prstGeom>
          <a:noFill/>
          <a:ln w="0">
            <a:noFill/>
          </a:ln>
        </p:spPr>
        <p:txBody>
          <a:bodyPr anchor="t">
            <a:normAutofit fontScale="99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ceramiczne, wykorzystywane głównie w stomatologii i ortopedii, najszerzej reprezentowane są przez implanty wykonane</a:t>
            </a:r>
            <a:br>
              <a:rPr sz="3200"/>
            </a:br>
            <a:r>
              <a:rPr b="0" lang="pl-PL" sz="3200" spc="-1" strike="noStrike">
                <a:solidFill>
                  <a:srgbClr val="000000"/>
                </a:solidFill>
                <a:latin typeface="Calibri"/>
              </a:rPr>
              <a:t>z korundu – niezwykle wytrzymałego, twardego</a:t>
            </a:r>
            <a:br>
              <a:rPr sz="3200"/>
            </a:br>
            <a:r>
              <a:rPr b="0" lang="pl-PL" sz="3200" spc="-1" strike="noStrike">
                <a:solidFill>
                  <a:srgbClr val="000000"/>
                </a:solidFill>
                <a:latin typeface="Calibri"/>
              </a:rPr>
              <a:t>i obojętnego chemicznie minerału glinu, dokładniej tlenku glinu(III) o wzorze sumarycznym Al</a:t>
            </a:r>
            <a:r>
              <a:rPr b="0" lang="pl-PL" sz="3200" spc="-1" strike="noStrike" baseline="-25000">
                <a:solidFill>
                  <a:srgbClr val="000000"/>
                </a:solidFill>
                <a:latin typeface="Calibri"/>
              </a:rPr>
              <a:t>2</a:t>
            </a:r>
            <a:r>
              <a:rPr b="0" lang="pl-PL" sz="3200" spc="-1" strike="noStrike">
                <a:solidFill>
                  <a:srgbClr val="000000"/>
                </a:solidFill>
                <a:latin typeface="Calibri"/>
              </a:rPr>
              <a:t>O</a:t>
            </a:r>
            <a:r>
              <a:rPr b="0" lang="pl-PL" sz="3200" spc="-1" strike="noStrike" baseline="-25000">
                <a:solidFill>
                  <a:srgbClr val="000000"/>
                </a:solidFill>
                <a:latin typeface="Calibri"/>
              </a:rPr>
              <a:t>3</a:t>
            </a:r>
            <a:r>
              <a:rPr b="0" lang="pl-PL" sz="3200" spc="-1" strike="noStrike">
                <a:solidFill>
                  <a:srgbClr val="000000"/>
                </a:solidFill>
                <a:latin typeface="Calibri"/>
              </a:rPr>
              <a:t>. Wykonuje się z niego, m.in., implanty stawów i uzupełnienia korzeni zęb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916280"/>
            <a:ext cx="8229600" cy="302544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osunkowo często stosowany jest także tlenek cyrkonu(IV) o wzorze sumarycznym ZrO</a:t>
            </a:r>
            <a:r>
              <a:rPr b="0" lang="pl-PL" sz="3200" spc="-1" strike="noStrike" baseline="-25000">
                <a:solidFill>
                  <a:srgbClr val="000000"/>
                </a:solidFill>
                <a:latin typeface="Calibri"/>
              </a:rPr>
              <a:t>2</a:t>
            </a:r>
            <a:r>
              <a:rPr b="0" lang="pl-PL" sz="3200" spc="-1" strike="noStrike">
                <a:solidFill>
                  <a:srgbClr val="000000"/>
                </a:solidFill>
                <a:latin typeface="Calibri"/>
              </a:rPr>
              <a:t>, substancja bardzo twarda, odporna chemicznie</a:t>
            </a:r>
            <a:br>
              <a:rPr sz="3200"/>
            </a:br>
            <a:r>
              <a:rPr b="0" lang="pl-PL" sz="3200" spc="-1" strike="noStrike">
                <a:solidFill>
                  <a:srgbClr val="000000"/>
                </a:solidFill>
                <a:latin typeface="Calibri"/>
              </a:rPr>
              <a:t>i trudnotopliwa. Często, oprócz implantologii, stosowany jest do imitowania diamentu z powodu zbliżonych do niego właściw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ole tekstowe 3"/>
          <p:cNvSpPr/>
          <p:nvPr/>
        </p:nvSpPr>
        <p:spPr>
          <a:xfrm>
            <a:off x="468360" y="2151000"/>
            <a:ext cx="8064360" cy="253116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węglowe cenione są ze względu na dobrą tolerancję przez tkanki organizmu oraz nieskończone wręcz możliwości formowania (włókna, płytki, pokrycia) i zmiany struktury (amorfizm, krystalicznoś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ole tekstowe 1"/>
          <p:cNvSpPr/>
          <p:nvPr/>
        </p:nvSpPr>
        <p:spPr>
          <a:xfrm>
            <a:off x="468360" y="1413000"/>
            <a:ext cx="82566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łytki węglowe doskonale zespalają kości.</a:t>
            </a:r>
            <a:br>
              <a:rPr sz="3200"/>
            </a:br>
            <a:r>
              <a:rPr b="0" lang="pl-PL" sz="3200" spc="-1" strike="noStrike">
                <a:solidFill>
                  <a:srgbClr val="000000"/>
                </a:solidFill>
                <a:latin typeface="Calibri"/>
              </a:rPr>
              <a:t>Węgiel amorficzny (a więc węgiel bezpostaciowy, zbliżony do ciała krystalicznego, jednak jego budowa nie jest uporządkowana) jest coraz powszechniej wykorzystywany do pokrywania powierzchni protez naczyniowych, zastawek serca, stomatologicznych wszczepów śródkostnych</a:t>
            </a:r>
            <a:r>
              <a:rPr b="0" lang="pl-PL"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słuchu</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słuchu możemy podzielić na dwie grup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ślimakowe, wspomagające zdefektowany słuch, jednak jeszcze nie całkowicie zniszczony (nerw słuchowy jest sprawn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pniowe, odtwarzające całkowicie słuch w przypadku uszkodzonego nerwu słuchow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552564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Implant ślimakowy.</a:t>
            </a:r>
            <a:endParaRPr b="0" lang="en-US" sz="2000" spc="-1" strike="noStrike">
              <a:solidFill>
                <a:srgbClr val="000000"/>
              </a:solidFill>
              <a:latin typeface="Calibri"/>
            </a:endParaRPr>
          </a:p>
        </p:txBody>
      </p:sp>
      <p:pic>
        <p:nvPicPr>
          <p:cNvPr id="122" name="Symbol zastępczy obrazu 4" descr="Rysunek11_T86_implant_slimakowy.jpg"/>
          <p:cNvPicPr/>
          <p:nvPr/>
        </p:nvPicPr>
        <p:blipFill>
          <a:blip r:embed="rId1"/>
          <a:srcRect l="499" t="0" r="499" b="0"/>
          <a:stretch/>
        </p:blipFill>
        <p:spPr>
          <a:xfrm>
            <a:off x="863640" y="189000"/>
            <a:ext cx="7416720" cy="5562360"/>
          </a:xfrm>
          <a:prstGeom prst="rect">
            <a:avLst/>
          </a:prstGeom>
          <a:ln w="0">
            <a:noFill/>
          </a:ln>
        </p:spPr>
      </p:pic>
      <p:sp>
        <p:nvSpPr>
          <p:cNvPr id="123" name="PlaceHolder 2"/>
          <p:cNvSpPr>
            <a:spLocks noGrp="1"/>
          </p:cNvSpPr>
          <p:nvPr>
            <p:ph/>
          </p:nvPr>
        </p:nvSpPr>
        <p:spPr>
          <a:xfrm>
            <a:off x="539640" y="6014880"/>
            <a:ext cx="67392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slyszymy.pl/data_images/11/uszy.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kręgosłupa</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śród implantów kręgosłupa wymienić możn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szyki, a więc protezy trzonów kręgosłupa wstawiane w miejsce usuniętego uszkodzonego trzonu,</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ztuczne dyski, zastępujące całkowicie usunięte dyski, wszczepiane między dwa sąsiednie kręgi, lub tylko jądra miażdżyste (część środkowa naturalnego dys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ologia</a:t>
            </a:r>
            <a:br>
              <a:rPr sz="4400"/>
            </a:br>
            <a:r>
              <a:rPr b="0" lang="pl-PL" sz="4400" spc="-1" strike="noStrike">
                <a:solidFill>
                  <a:srgbClr val="000000"/>
                </a:solidFill>
                <a:latin typeface="Calibri"/>
              </a:rPr>
              <a:t>– jak na nią spojrzeć?</a:t>
            </a:r>
            <a:endParaRPr b="0" lang="en-US" sz="4400" spc="-1" strike="noStrike">
              <a:solidFill>
                <a:srgbClr val="000000"/>
              </a:solidFill>
              <a:latin typeface="Calibri"/>
            </a:endParaRPr>
          </a:p>
        </p:txBody>
      </p:sp>
      <p:sp>
        <p:nvSpPr>
          <p:cNvPr id="98" name=""/>
          <p:cNvSpPr txBox="1"/>
          <p:nvPr/>
        </p:nvSpPr>
        <p:spPr>
          <a:xfrm>
            <a:off x="457200" y="2533680"/>
            <a:ext cx="8229600" cy="1790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 podstawowe informacj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ateriały na implan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które implanty, ich miejsca wszczep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opy międzytrzonowe, pozwalające stabilizować kręgosłup lędźwiowy, stosowane u osób dotkniętych bólami krzyż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ruby transpedikularne, wykonane ze stopów tytanowych, pozwalające na stabilizowanie dolnego odcinka kręgosłupa w przypadku nadmiernego ruchu między poszczególnymi segmentami, powodującego bó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ztuczny dysk – implant kręgosłupowy.</a:t>
            </a:r>
            <a:endParaRPr b="0" lang="en-US" sz="2000" spc="-1" strike="noStrike">
              <a:solidFill>
                <a:srgbClr val="000000"/>
              </a:solidFill>
              <a:latin typeface="Calibri"/>
            </a:endParaRPr>
          </a:p>
        </p:txBody>
      </p:sp>
      <p:pic>
        <p:nvPicPr>
          <p:cNvPr id="129" name="Symbol zastępczy obrazu 9" descr="Rysunek14_T86_sztuczny_dysk.jpg"/>
          <p:cNvPicPr/>
          <p:nvPr/>
        </p:nvPicPr>
        <p:blipFill>
          <a:blip r:embed="rId1"/>
          <a:srcRect l="0" t="3277" r="0" b="3277"/>
          <a:stretch/>
        </p:blipFill>
        <p:spPr>
          <a:xfrm>
            <a:off x="923760" y="260280"/>
            <a:ext cx="7296480" cy="5472360"/>
          </a:xfrm>
          <a:prstGeom prst="rect">
            <a:avLst/>
          </a:prstGeom>
          <a:ln w="0">
            <a:noFill/>
          </a:ln>
        </p:spPr>
      </p:pic>
      <p:sp>
        <p:nvSpPr>
          <p:cNvPr id="130" name="PlaceHolder 2"/>
          <p:cNvSpPr>
            <a:spLocks noGrp="1"/>
          </p:cNvSpPr>
          <p:nvPr>
            <p:ph/>
          </p:nvPr>
        </p:nvSpPr>
        <p:spPr>
          <a:xfrm>
            <a:off x="394920" y="6086520"/>
            <a:ext cx="6954840" cy="295200"/>
          </a:xfrm>
          <a:prstGeom prst="rect">
            <a:avLst/>
          </a:prstGeom>
          <a:noFill/>
          <a:ln w="0">
            <a:noFill/>
          </a:ln>
        </p:spPr>
        <p:txBody>
          <a:bodyPr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inzynieria-biomedyczna.com.pl/images/articles/sztuczny_dysk.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stomatologiczne</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 stomatologiczny to tytanowa śruba umieszczana w kości żuchwowej pod dziąsłem, która strukturą powierzchniową przypomina kolagenową tkankę łączną, by implant nie był postrzegany przez organizm jako ciało obce. Przy pomocy łącznika, z implantem połączona jest ceramiczna korona zębowa, imitująca naturalny zą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orównanie naturalnego zęba z implantem.</a:t>
            </a:r>
            <a:endParaRPr b="0" lang="en-US" sz="2000" spc="-1" strike="noStrike">
              <a:solidFill>
                <a:srgbClr val="000000"/>
              </a:solidFill>
              <a:latin typeface="Calibri"/>
            </a:endParaRPr>
          </a:p>
        </p:txBody>
      </p:sp>
      <p:sp>
        <p:nvSpPr>
          <p:cNvPr id="134" name="PlaceHolder 2"/>
          <p:cNvSpPr>
            <a:spLocks noGrp="1"/>
          </p:cNvSpPr>
          <p:nvPr>
            <p:ph/>
          </p:nvPr>
        </p:nvSpPr>
        <p:spPr>
          <a:xfrm>
            <a:off x="468360" y="6087960"/>
            <a:ext cx="54864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www.mj.info.pl/wp-content/uploads/2013/05/implant.jpg</a:t>
            </a:r>
            <a:endParaRPr b="0" lang="en-US" sz="1400" spc="-1" strike="noStrike">
              <a:solidFill>
                <a:srgbClr val="000000"/>
              </a:solidFill>
              <a:latin typeface="Calibri"/>
            </a:endParaRPr>
          </a:p>
        </p:txBody>
      </p:sp>
      <p:pic>
        <p:nvPicPr>
          <p:cNvPr id="135" name="Symbol zastępczy obrazu 8" descr="Rysunek15_T86_implant.jpg"/>
          <p:cNvPicPr/>
          <p:nvPr/>
        </p:nvPicPr>
        <p:blipFill>
          <a:blip r:embed="rId1"/>
          <a:srcRect l="591" t="0" r="591" b="0"/>
          <a:stretch/>
        </p:blipFill>
        <p:spPr>
          <a:xfrm>
            <a:off x="779400" y="189000"/>
            <a:ext cx="7585200" cy="568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Implanty piersi</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piersi stosuje się w celu ich powiększenia (tzw. augmentacja) w celach kosmetycznych, odtwarzania po zabiegach (mastektomia) lub wrodzonych wadach, a także przy zmianie płc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mplanty wykonywane są z żelu silikonowego otoczonego warstwą stałego silikonu, w celu nadania im odporności na rozrywanie,</a:t>
            </a:r>
            <a:br>
              <a:rPr sz="3200"/>
            </a:br>
            <a:r>
              <a:rPr b="0" lang="pl-PL" sz="3200" spc="-1" strike="noStrike">
                <a:solidFill>
                  <a:srgbClr val="000000"/>
                </a:solidFill>
                <a:latin typeface="Calibri"/>
              </a:rPr>
              <a:t>z jednoczesnym zachowaniem elastyczn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85880"/>
            <a:ext cx="8229600" cy="34862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abieg powiększania biustu przy wykorzystaniu implantów jest, zgodnie z danymi Amerykańskiego Towarzystwa Chirurgów, najczęściej wykonywanym zabiegiem kosmetycznym w USA. W samym tylko 2006 r.</a:t>
            </a:r>
            <a:br>
              <a:rPr sz="3200"/>
            </a:br>
            <a:r>
              <a:rPr b="0" lang="pl-PL" sz="3200" spc="-1" strike="noStrike">
                <a:solidFill>
                  <a:srgbClr val="000000"/>
                </a:solidFill>
                <a:latin typeface="Calibri"/>
              </a:rPr>
              <a:t>w Stanach Zjednoczonych wykonano ponad 300 tysięcy takich oper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960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Implanty piersi wykonane z żelu silikonowego.</a:t>
            </a:r>
            <a:endParaRPr b="0" lang="en-US" sz="2000" spc="-1" strike="noStrike">
              <a:solidFill>
                <a:srgbClr val="000000"/>
              </a:solidFill>
              <a:latin typeface="Calibri"/>
            </a:endParaRPr>
          </a:p>
        </p:txBody>
      </p:sp>
      <p:pic>
        <p:nvPicPr>
          <p:cNvPr id="140" name="Symbol zastępczy obrazu 6" descr="Rysunek15_T86_Silicone_gel-filled_breast_implants.jpeg"/>
          <p:cNvPicPr/>
          <p:nvPr/>
        </p:nvPicPr>
        <p:blipFill>
          <a:blip r:embed="rId1"/>
          <a:srcRect l="2403" t="0" r="2403" b="0"/>
          <a:stretch/>
        </p:blipFill>
        <p:spPr>
          <a:xfrm>
            <a:off x="923760" y="260280"/>
            <a:ext cx="7296480" cy="5473800"/>
          </a:xfrm>
          <a:prstGeom prst="rect">
            <a:avLst/>
          </a:prstGeom>
          <a:ln w="0">
            <a:noFill/>
          </a:ln>
        </p:spPr>
      </p:pic>
      <p:sp>
        <p:nvSpPr>
          <p:cNvPr id="141" name="PlaceHolder 2"/>
          <p:cNvSpPr>
            <a:spLocks noGrp="1"/>
          </p:cNvSpPr>
          <p:nvPr>
            <p:ph/>
          </p:nvPr>
        </p:nvSpPr>
        <p:spPr>
          <a:xfrm>
            <a:off x="323640" y="6086160"/>
            <a:ext cx="8280360" cy="366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3/32/Silicone_gel-filled_breast_implants.jpe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Endoprotezy</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jest wszczepianym w organizm implantem, którego zadaniem jest zastąpić funkcję uszkodzonego narządu. Endoprotezę często utożsamia się z implantami układu ruchu, a więc przede wszystkim endoprotezą stawu biodrowego oraz endoprotezą stawu kolanow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1667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składa się z trzpienia oraz panewki. Trzpień jest porowatym metalowym elementem, wykonanym najczęściej z tytanu lub stopów (chromowo-kobaltowych, tytanowo-molibdenowych), panewka dzieli się zaś na część metalową, zrastającą się z kością, oraz polietylenową (w nowocześniejszych protezach także metalową), w której następuje poruszanie się główki trzpien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866960"/>
            <a:ext cx="8229600" cy="3124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łówka trzpienia wykonywana jest z elementu metalowego lub ceramicznego (tlenek glinu(III) lub tlenek cyrkonu(IV)).</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rzpień ceramiczny odznacza się mniejszą ścieralnością, niż polietylenowy i dlatego stosowany jest coraz powszechni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166760"/>
            <a:ext cx="8229600" cy="4525920"/>
          </a:xfrm>
          <a:prstGeom prst="rect">
            <a:avLst/>
          </a:prstGeom>
          <a:noFill/>
          <a:ln w="0">
            <a:noFill/>
          </a:ln>
        </p:spPr>
        <p:txBody>
          <a:bodyPr anchor="t">
            <a:normAutofit fontScale="98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Calibri"/>
              </a:rPr>
              <a:t>Piękno ciała ludzkiego, od wieków ukazywane</a:t>
            </a:r>
            <a:br>
              <a:rPr sz="3200"/>
            </a:br>
            <a:r>
              <a:rPr b="0" lang="pl-PL" sz="3200" spc="-1" strike="noStrike">
                <a:solidFill>
                  <a:srgbClr val="000000"/>
                </a:solidFill>
                <a:latin typeface="Calibri"/>
                <a:ea typeface="Calibri"/>
              </a:rPr>
              <a:t>w proporcjach i harmoniach, zwłaszcza przez starożytnych i renesansowych artystów,</a:t>
            </a:r>
            <a:br>
              <a:rPr sz="3200"/>
            </a:br>
            <a:r>
              <a:rPr b="0" lang="pl-PL" sz="3200" spc="-1" strike="noStrike">
                <a:solidFill>
                  <a:srgbClr val="000000"/>
                </a:solidFill>
                <a:latin typeface="Calibri"/>
                <a:ea typeface="Calibri"/>
              </a:rPr>
              <a:t>a opiewane przez pisarzy i poetów, wymaga,</a:t>
            </a:r>
            <a:br>
              <a:rPr sz="3200"/>
            </a:br>
            <a:r>
              <a:rPr b="0" lang="pl-PL" sz="3200" spc="-1" strike="noStrike">
                <a:solidFill>
                  <a:srgbClr val="000000"/>
                </a:solidFill>
                <a:latin typeface="Calibri"/>
                <a:ea typeface="Calibri"/>
              </a:rPr>
              <a:t>z oczywistych powodów, troski i opieki.</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Calibri"/>
              </a:rPr>
              <a:t>Już cywilizacje starożytne rozumiały ten fakt</a:t>
            </a:r>
            <a:br>
              <a:rPr sz="3200"/>
            </a:br>
            <a:r>
              <a:rPr b="0" lang="pl-PL" sz="3200" spc="-1" strike="noStrike">
                <a:solidFill>
                  <a:srgbClr val="000000"/>
                </a:solidFill>
                <a:latin typeface="Calibri"/>
                <a:ea typeface="Calibri"/>
              </a:rPr>
              <a:t>i próbowały poprawiać to, co mogło ulec zniszczeniu na skutek wypadków czy upływu czas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88640"/>
            <a:ext cx="8229600" cy="583236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y mocowane są dwoma metodami:</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ementowo, stosowane głównie u osób starszych z osteoporozą; endoproteza taka jest gotowa na pełne obciążenie niemal natychmiast i wytrzymuje 20 la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ezcementowo, a więc wciskane lub wkręcane w kość, która potem zrasta się z implantem; metoda obecnie bardziej polecana, gdyż jest trwalsza, wymaga jednak przygotowania do korzystania z świeżo wszczepionej endoprotezy, która – przed zrośnięciem się</a:t>
            </a:r>
            <a:br>
              <a:rPr sz="3200"/>
            </a:br>
            <a:r>
              <a:rPr b="0" lang="pl-PL" sz="3200" spc="-1" strike="noStrike">
                <a:solidFill>
                  <a:srgbClr val="000000"/>
                </a:solidFill>
                <a:latin typeface="Calibri"/>
              </a:rPr>
              <a:t>z kością – jest osłabio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odzaje endoprote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kolanowa – zastępuje powierzchnie stawowe dalszej nasady kości udowej oraz bliższej części kości piszczelowe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teza biodrowa – zastępuje szyjkę</a:t>
            </a:r>
            <a:br>
              <a:rPr sz="3200"/>
            </a:br>
            <a:r>
              <a:rPr b="0" lang="pl-PL" sz="3200" spc="-1" strike="noStrike">
                <a:solidFill>
                  <a:srgbClr val="000000"/>
                </a:solidFill>
                <a:latin typeface="Calibri"/>
              </a:rPr>
              <a:t>i głowę kości udowej oraz powierzchnię panewki stawu biodrowe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endoproeza ramienna – zastępuje panewkę łopatki oraz główkę kości ramienn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5382720"/>
            <a:ext cx="548640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ndoprotezy stawu kolanowego.</a:t>
            </a:r>
            <a:endParaRPr b="0" lang="en-US" sz="2000" spc="-1" strike="noStrike">
              <a:solidFill>
                <a:srgbClr val="000000"/>
              </a:solidFill>
              <a:latin typeface="Calibri"/>
            </a:endParaRPr>
          </a:p>
        </p:txBody>
      </p:sp>
      <p:pic>
        <p:nvPicPr>
          <p:cNvPr id="150" name="Symbol zastępczy obrazu 4" descr="Rysunek08_T86_staw_kolanowy.jpg"/>
          <p:cNvPicPr/>
          <p:nvPr/>
        </p:nvPicPr>
        <p:blipFill>
          <a:blip r:embed="rId1"/>
          <a:stretch/>
        </p:blipFill>
        <p:spPr>
          <a:xfrm>
            <a:off x="495360" y="692280"/>
            <a:ext cx="8153280" cy="4321080"/>
          </a:xfrm>
          <a:prstGeom prst="rect">
            <a:avLst/>
          </a:prstGeom>
          <a:ln w="0">
            <a:noFill/>
          </a:ln>
        </p:spPr>
      </p:pic>
      <p:sp>
        <p:nvSpPr>
          <p:cNvPr id="151" name="PlaceHolder 2"/>
          <p:cNvSpPr>
            <a:spLocks noGrp="1"/>
          </p:cNvSpPr>
          <p:nvPr>
            <p:ph/>
          </p:nvPr>
        </p:nvSpPr>
        <p:spPr>
          <a:xfrm>
            <a:off x="394920" y="5877000"/>
            <a:ext cx="8209080" cy="295200"/>
          </a:xfrm>
          <a:prstGeom prst="rect">
            <a:avLst/>
          </a:prstGeom>
          <a:noFill/>
          <a:ln w="0">
            <a:noFill/>
          </a:ln>
        </p:spPr>
        <p:txBody>
          <a:bodyPr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braunoviny.bbraun.cz/cs/images/content/Hi-tech/2012/columbus-uc/columbus-uc-800.jpg</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830240"/>
            <a:ext cx="8229600" cy="31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ak dopiero XX wiek przyniósł niezwykle rozwiązania w medycynie, która stanęła do walki z niedoskonałościami ludzkiego ciała</a:t>
            </a:r>
            <a:br>
              <a:rPr sz="3200"/>
            </a:br>
            <a:r>
              <a:rPr b="0" lang="pl-PL" sz="3200" spc="-1" strike="noStrike">
                <a:solidFill>
                  <a:srgbClr val="000000"/>
                </a:solidFill>
                <a:latin typeface="Calibri"/>
              </a:rPr>
              <a:t>i eliminowaniem kalectw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a nowa dziedzina medycyny została nazwana </a:t>
            </a:r>
            <a:r>
              <a:rPr b="0" lang="pl-PL" sz="3200" spc="-1" strike="noStrike">
                <a:solidFill>
                  <a:srgbClr val="4f6228"/>
                </a:solidFill>
                <a:latin typeface="Calibri"/>
              </a:rPr>
              <a:t>implantologi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m jest implan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Implant</a:t>
            </a:r>
            <a:r>
              <a:rPr b="0" lang="pl-PL" sz="3200" spc="-1" strike="noStrike">
                <a:solidFill>
                  <a:srgbClr val="000000"/>
                </a:solidFill>
                <a:latin typeface="Calibri"/>
              </a:rPr>
              <a:t>, </a:t>
            </a:r>
            <a:r>
              <a:rPr b="1" lang="pl-PL" sz="3200" spc="-1" strike="noStrike">
                <a:solidFill>
                  <a:srgbClr val="000000"/>
                </a:solidFill>
                <a:latin typeface="Calibri"/>
              </a:rPr>
              <a:t>wszczep</a:t>
            </a:r>
            <a:r>
              <a:rPr b="0" lang="pl-PL" sz="3200" spc="-1" strike="noStrike">
                <a:solidFill>
                  <a:srgbClr val="000000"/>
                </a:solidFill>
                <a:latin typeface="Calibri"/>
              </a:rPr>
              <a:t> jest specjalnie przygotowanym elementem, który zostaje wszczepiany do organizmu celem odtworzenia naturalnej funkcji lub estetyki uszkodzonego organu. Najczęściej stosowane są implanty zastępujące tkanki twarde, ale istnieją także popularne implanty tkanek miękkich, np. silikonowe implanty piers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460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rofesor Per-Ingvar Brånemark</a:t>
            </a:r>
            <a:br>
              <a:rPr sz="4400"/>
            </a:br>
            <a:r>
              <a:rPr b="0" lang="pl-PL" sz="4400" spc="-1" strike="noStrike">
                <a:solidFill>
                  <a:srgbClr val="000000"/>
                </a:solidFill>
                <a:latin typeface="Calibri"/>
              </a:rPr>
              <a:t>twórca nowoczesnej implantologii </a:t>
            </a:r>
            <a:endParaRPr b="0" lang="en-US" sz="4400" spc="-1" strike="noStrike">
              <a:solidFill>
                <a:srgbClr val="000000"/>
              </a:solidFill>
              <a:latin typeface="Calibri"/>
            </a:endParaRPr>
          </a:p>
        </p:txBody>
      </p:sp>
      <p:pic>
        <p:nvPicPr>
          <p:cNvPr id="104" name="Obraz 6" descr="Rysunek01_T86_branemark.jpg"/>
          <p:cNvPicPr/>
          <p:nvPr/>
        </p:nvPicPr>
        <p:blipFill>
          <a:blip r:embed="rId1"/>
          <a:stretch/>
        </p:blipFill>
        <p:spPr>
          <a:xfrm>
            <a:off x="2946240" y="1557360"/>
            <a:ext cx="3251520" cy="4467240"/>
          </a:xfrm>
          <a:prstGeom prst="rect">
            <a:avLst/>
          </a:prstGeom>
          <a:ln w="0">
            <a:noFill/>
          </a:ln>
        </p:spPr>
      </p:pic>
      <p:sp>
        <p:nvSpPr>
          <p:cNvPr id="105" name="pole tekstowe 7"/>
          <p:cNvSpPr/>
          <p:nvPr/>
        </p:nvSpPr>
        <p:spPr>
          <a:xfrm>
            <a:off x="468360" y="5877000"/>
            <a:ext cx="8207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1.bp.blogspot.com/-OAAukfXvWTc/T6wbxw6uRoI/AAAAAAAAIb0/OnrD72Cu_ig/s1600/branemark+padre+de+la+implantologia.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639800"/>
            <a:ext cx="8229600" cy="3578400"/>
          </a:xfrm>
          <a:prstGeom prst="rect">
            <a:avLst/>
          </a:prstGeom>
          <a:noFill/>
          <a:ln w="0">
            <a:noFill/>
          </a:ln>
        </p:spPr>
        <p:txBody>
          <a:bodyPr anchor="t">
            <a:normAutofit fontScale="99000"/>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fesor Per-Ingvar Brånemark był lekarzem ortopedą, którego obszary zainteresowania stanowiły mikrokrążenie krwi w kościach,</a:t>
            </a:r>
            <a:br>
              <a:rPr sz="3200"/>
            </a:br>
            <a:r>
              <a:rPr b="0" lang="pl-PL" sz="3200" spc="-1" strike="noStrike">
                <a:solidFill>
                  <a:srgbClr val="000000"/>
                </a:solidFill>
                <a:latin typeface="Calibri"/>
              </a:rPr>
              <a:t>a także procesy gojenia się ran.</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jawiska te badał za pomocą mikroskopu optycznego chirurgicznie umieszczonego w kości król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ole tekstowe 2"/>
          <p:cNvSpPr/>
          <p:nvPr/>
        </p:nvSpPr>
        <p:spPr>
          <a:xfrm>
            <a:off x="468360" y="817560"/>
            <a:ext cx="8064360" cy="564948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darzało się podczas prowadzenia badań,</a:t>
            </a:r>
            <a:br>
              <a:rPr sz="3200"/>
            </a:br>
            <a:r>
              <a:rPr b="0" lang="pl-PL" sz="3200" spc="-1" strike="noStrike">
                <a:solidFill>
                  <a:srgbClr val="000000"/>
                </a:solidFill>
                <a:latin typeface="Calibri"/>
              </a:rPr>
              <a:t>że komora obserwacyjna mikroskopu, wykonana z tytanu, umieszczona w kości królika silnie przywierała do ścian kości, mocniej,</a:t>
            </a:r>
            <a:br>
              <a:rPr sz="3200"/>
            </a:br>
            <a:r>
              <a:rPr b="0" lang="pl-PL" sz="3200" spc="-1" strike="noStrike">
                <a:solidFill>
                  <a:srgbClr val="000000"/>
                </a:solidFill>
                <a:latin typeface="Calibri"/>
              </a:rPr>
              <a:t>niż uważano to dotychczas za możliwe.</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 zaobserwowano czegoś podobnego</a:t>
            </a:r>
            <a:br>
              <a:rPr sz="3200"/>
            </a:br>
            <a:r>
              <a:rPr b="0" lang="pl-PL" sz="3200" spc="-1" strike="noStrike">
                <a:solidFill>
                  <a:srgbClr val="000000"/>
                </a:solidFill>
                <a:latin typeface="Calibri"/>
              </a:rPr>
              <a:t>w zetknięciu się kości z innymi metalami.</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fesor nazwał ten niezwykły proces </a:t>
            </a:r>
            <a:r>
              <a:rPr b="0" lang="pl-PL" sz="3200" spc="-1" strike="noStrike">
                <a:solidFill>
                  <a:srgbClr val="4f6228"/>
                </a:solidFill>
                <a:latin typeface="Calibri"/>
              </a:rPr>
              <a:t>osteointegracją</a:t>
            </a:r>
            <a:r>
              <a:rPr b="0" lang="pl-PL" sz="3200" spc="-1" strike="noStrike">
                <a:solidFill>
                  <a:srgbClr val="000000"/>
                </a:solidFill>
                <a:latin typeface="Calibri"/>
              </a:rPr>
              <a:t> i przypisał mu ogromne znaczenie, poświęcając się dalszym badani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ole tekstowe 2"/>
          <p:cNvSpPr/>
          <p:nvPr/>
        </p:nvSpPr>
        <p:spPr>
          <a:xfrm>
            <a:off x="468360" y="1557360"/>
            <a:ext cx="8064360" cy="3602880"/>
          </a:xfrm>
          <a:prstGeom prst="rect">
            <a:avLst/>
          </a:prstGeom>
          <a:noFill/>
          <a:ln w="0">
            <a:noFill/>
          </a:ln>
        </p:spPr>
        <p:style>
          <a:lnRef idx="0"/>
          <a:fillRef idx="0"/>
          <a:effectRef idx="0"/>
          <a:fontRef idx="minor"/>
        </p:style>
        <p:txBody>
          <a:bodyPr lIns="90000" rIns="90000" tIns="46800" bIns="46800" anchor="t">
            <a:spAutoFit/>
          </a:bodyPr>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ierwsze implanty wykonane z czystego tytanu Brånemark wykorzystał w 1965 r. jako podbudowy pod dentystyczne uzupełnienia protetyczne.</a:t>
            </a:r>
            <a:endParaRPr b="0" lang="en-US" sz="3200" spc="-1" strike="noStrike">
              <a:solidFill>
                <a:srgbClr val="000000"/>
              </a:solidFill>
              <a:latin typeface="Calibri"/>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ało się to początkiem rozwoju nieznanej wcześniej dyscypliny medycznej, nazwanej później implantologi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8-14T20:17:34Z</dcterms:modified>
  <cp:revision>213</cp:revision>
  <dc:subject/>
  <dc:title>Slajd 1</dc:title>
</cp:coreProperties>
</file>