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737-B2B1-4D44-8370-C1A1F51F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F6B-F887-475E-B273-1BF76254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802-E1F1-4947-9542-BF1333C7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AA6-FC1A-4407-A7D9-72B45A4F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8FC5-4F46-4087-996E-47444113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606F-E89F-465F-8D49-D244CE14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34A6-0DE1-4FB6-B58A-73A211F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34C5-8317-4B80-B54B-FA241AF1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5918-BBAC-46B3-87D2-D158D9FD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4CDB-C450-4EC5-9D41-C1276972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E2F2-25C6-4461-81D2-6A78310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3D6-6250-49F0-9950-215FF0E4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0CA8-125D-4727-BBDA-B8F2845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6FA9-5770-4AC4-97EC-421DB3E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87A8-E3FF-4928-A4FD-F4A92CC1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8171-A629-48FE-AFC4-F07F5B93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6B7F-C787-43D9-AD51-4BBAD1B8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459-FF0F-4A02-B70D-4B5D1E2E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DCB-330B-4665-B144-102D56A7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67B-6E16-421F-BB8B-BE0BA3CD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7C5-3C57-4CC9-900D-39AE81E8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B67-BBB0-45E9-A181-18CA0BA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9C6-895F-43F7-914A-7B093BD0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0D5-5832-4263-AE26-7EC89EB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784B-1BF2-4436-B383-2594DBA595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96FE-C858-482D-B0E4-B4BDEFE4CF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nonet.pl/index.php/nanobiblioteka/nanodydaktyka/2364-fulereny-fullereny" TargetMode="External"/><Relationship Id="rId2" Type="http://schemas.openxmlformats.org/officeDocument/2006/relationships/hyperlink" Target="http://nanoall.blogspot.com/2013/01/nanotechnology-instruments.html" TargetMode="External"/><Relationship Id="rId3" Type="http://schemas.openxmlformats.org/officeDocument/2006/relationships/hyperlink" Target="http://www.youtube.com/watch?feature=player_embedded&amp;v=7hZ5hinf9vo" TargetMode="External"/><Relationship Id="rId4" Type="http://schemas.openxmlformats.org/officeDocument/2006/relationships/hyperlink" Target="http://www.youtube.com/watch?feature=player_embedded&amp;v=iXcfm10bvZo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3484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ulereny i nanorurki węglowe jako elementy konstrukcyjne nanotechnologii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wodzenie prądu elektrycznego przez fulereny i nanorurki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korzystanie polimerów przewodzących w nanotechnologii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 SEE!!! THIS IS HAPPENING NOW!! NANO TECHNOLOGY AND THE NWO BRAIN IMPLANTS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2" descr="Obrazek3.jpg"/>
          <p:cNvPicPr/>
          <p:nvPr/>
        </p:nvPicPr>
        <p:blipFill>
          <a:blip r:embed="rId1"/>
          <a:stretch/>
        </p:blipFill>
        <p:spPr>
          <a:xfrm>
            <a:off x="2540160" y="1898640"/>
            <a:ext cx="4063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373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Podsum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notechnologia dostarczyła nam wiele nowych narzędzi do odkrywania systemów biologicznych w nanoskali. Sprowadzenie zjawisk zachodzących w pojedynczej komórce i pojedynczej cząsteczce na poziom badań eksperymentalnych jest ważnym krokiem w kierunku rozwoju zarówno konceptualnego, jak i „filozoficznego". Stwarza to także nadzieje na lepsze poznanie organizacji systemów biologicz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ępność zminiaturyzowanych układów wykorzystywa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zdzielaniu molekuł i ich analizie będzie nie tylko katalizować poznanie zjawisk na poziomie pojedynczej cząsteczki, ale także dostarczy nowych metod badawczych, w wyniku których genomowa rewolucja może ostateczne nabrać praktycznego znaczenia dzięki lepszemu zrozumieniu przyczyn wielu chorób oraz dzięki rozwojowi nowych procedur terapeuty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drugiej strony, biologia komórki daje nanotechnologii niezwykłe przykłady urządzeń i maszyn w nanoskali. Mogą one być wykorzystane bezpośrednio w systemach hybrydowych lub służyć jako inspiracja do budowy urządzeń działających na tych samych zasadach fizyczn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az źródeł, które wykorzystano przy tworzeniu niniejszej prezentacji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NOTECHNOLOGIE” – redakcja naukowa Robert W. Kelsall, Ian W. Hamley i Mark Geoghegan - WYDAWNICTWO NAUKOWE PWN, WARSZAWA 2009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nanonet.pl/index.php/nanobiblioteka/nanodydaktyka/2364-fulereny-fullere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nanoall.blogspot.com/2013/01/nanotechnology-instru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dresy URL filmó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technology Video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outube.com/watch?feature=player_embedded&amp;v=7hZ5hinf9v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SEE!!! THIS IS HAPPENING NOW!! NANO TECHNOLOGY AND THE NWO BRAIN IMPLANTS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youtube.com/watch?feature=player_embedded&amp;v=iXcfm10bv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 New Nano  Flexible phones &amp; graphene gadgets in RT's Technology Update - http://www.youtube.com/watch?feature=player_embedded&amp;v=IN6xNuhmIM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technology neverwet fabrics - http://www.youtube.com/watch?feature=player_embedded&amp;v=YqGkC5uJ0y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56000" y="1773360"/>
            <a:ext cx="6068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ulere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to cząsteczki węgla C60, C70, C76 i C84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kształcie sferycznej klatki, z wysyconymi wiązani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-C. Dobrym przykładem jest fuleren C60. Fulereny są twardymi kryształami o żółtej barwie w formie warst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średnicy około 0,7 nm (nanometra). W strukturze fulerenu wszystkie cząsteczki węgla mają te same właściwości przyłączające. Długość wiązania podwójnego wynosi 0,14 nm, a wiązania pojedynczego 0,146 n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phoca_thumb_l_f_9_15"/>
          <p:cNvPicPr/>
          <p:nvPr/>
        </p:nvPicPr>
        <p:blipFill>
          <a:blip r:embed="rId1"/>
          <a:stretch/>
        </p:blipFill>
        <p:spPr>
          <a:xfrm>
            <a:off x="468360" y="141300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60-fulleren-kristallin"/>
          <p:cNvPicPr/>
          <p:nvPr/>
        </p:nvPicPr>
        <p:blipFill>
          <a:blip r:embed="rId2"/>
          <a:stretch/>
        </p:blipFill>
        <p:spPr>
          <a:xfrm>
            <a:off x="250920" y="3213000"/>
            <a:ext cx="20095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W 1991 roku Sumio Iijima odkrył - w „sadzy” powstałej przez przepuszczanie prądu między węglowymi elektrodami - nową </a:t>
            </a: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alotropową odmianę węgla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; koncentryczne </a:t>
            </a: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nanorurki węglowe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. Typowa średnice nanorurek to kilka nanometrów (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-9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), zaś ich typowe długości kilka mikrometrów (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-6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) wyjątkowo osiągają nawet kilka milimetr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Właściwości nanorurek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duł Younga  (na rozciąganie) wynosi 37x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11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Pa, gdy dla włókien węglowych maksymalnie sięga 8x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11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P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rozerwanie nanorurek następuje gdy ich względne wydłużenie osiąga wartość 0,4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ulegają odkształceniom elastycznym(wydlużaniu, skręcaniu i zginaniu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wykazują odporność na wzrost temperatury do 700 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o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C w powietrzu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dobrze przewodzą ciepł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gą zatrzymywać we wnętrzu różne rodzaje atomów i cząsteczek; np. atomy srebra pozwalają wprowadzić do nanorurki dodatkowe elektrony </a:t>
            </a:r>
            <a:br>
              <a:rPr sz="1800"/>
            </a:b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i uzyskać nowe  właściwości przewodnictwa (nadprzewodnictw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gą przewodzić prądy o bardzo dużych  gęstościach sięgajacych nawet 10 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9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A/cm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  <a:ea typeface="Times New Roman"/>
              </a:rPr>
              <a:t>2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p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oniżej 20K  pojedyncze nanorurki stają się nadprzewodnikam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Co to jest nanotechnologia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notechnolog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jest terminem obejmującym projektowanie, tworzenie oraz użytkowanie materiałów mających przynajmniej jeden wymiar, którego naturalną jednostką miary jest nanomet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teriały o takiej strukturze można tak zaprojektować, aby wykazywały pożądane właściwości fizyczne, chemiczne czy biologiczne dzięki ograniczonej wielkości tworzących je cząste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śli któryś z wymiarów struktury mieści się w zakresie od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do 100 nm, czyli znajduje się w przedziale, którego krańce z jednej strony wyznaczają odległości typowe dla pojedynczych atom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), z drugiej zaś te spotykane w ciele stałym (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), materiał może wykazywać właściwości znacznie odbiegające od właściwości pojedynczych atomów oraz typowych kryształ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 sprawia, że nanotechnologia jest obiecującym obszarem badań umożliwiającym tworzenie materiałów o niespotykanych wcześniej właściwości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notechnology neverwet fabrics 1 skroco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Obraz 2" descr="Obrazek1.jpg"/>
          <p:cNvPicPr/>
          <p:nvPr/>
        </p:nvPicPr>
        <p:blipFill>
          <a:blip r:embed="rId1"/>
          <a:stretch/>
        </p:blipFill>
        <p:spPr>
          <a:xfrm>
            <a:off x="2522520" y="1898640"/>
            <a:ext cx="40989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notechnology Video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Obraz 3" descr="Obrazek2.jpg"/>
          <p:cNvPicPr/>
          <p:nvPr/>
        </p:nvPicPr>
        <p:blipFill>
          <a:blip r:embed="rId1"/>
          <a:srcRect l="11797" t="2916" r="11797" b="870"/>
          <a:stretch/>
        </p:blipFill>
        <p:spPr>
          <a:xfrm>
            <a:off x="2944800" y="1898640"/>
            <a:ext cx="3254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ndrzej</cp:lastModifiedBy>
  <dcterms:modified xsi:type="dcterms:W3CDTF">2013-08-25T07:34:00Z</dcterms:modified>
  <cp:revision>35</cp:revision>
  <dc:subject/>
  <dc:title>KORPUSKULARNO-FALOWA NATURA ŚWIATŁA</dc:title>
</cp:coreProperties>
</file>