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12.jpeg" ContentType="image/jpeg"/>
  <Override PartName="/ppt/media/image7.wmf" ContentType="image/x-wmf"/>
  <Override PartName="/ppt/media/image11.jpeg" ContentType="image/jpeg"/>
  <Override PartName="/ppt/media/image8.wmf" ContentType="image/x-wmf"/>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B26A2F-490F-4F7D-A016-2B591914E4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BCA8A-F6B8-485B-98B2-33D07EA7B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8BCCB4-2CFE-4448-81C2-9782158B02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1DAA56-F9ED-4982-9742-CDFCF19133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CFBE7C-6800-4625-A20A-74EFBB2224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EDF21F-7D49-4F2E-8890-2B15AE3E62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242376-0FE6-4ED9-BF40-951493456C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1B5CB6-D643-483A-9B40-D4E1E88987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774D93-ABDE-419F-970C-480CFEFB5D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55280" y="274320"/>
            <a:ext cx="793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4EBA16-49C6-42F1-8987-E41E5F4626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5C056-8B48-4771-A442-E37DA835C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CFD80-C2A4-4DA2-A045-4FED67397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2AE786-1E33-42A8-99D3-4179D17EA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B35538-29FF-4A79-81AE-7A39851ECB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1481A1-4634-444C-A817-133485C90E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FBA12F-D230-4EB9-B90A-46F9D76B58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F7F98E-A7A9-4E05-B045-69F0CC9539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5127C3-F217-45A5-8D6B-A3C72E8F4A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5B6858-833C-47FE-9FF0-599E513BA1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64CA1E-A5E9-4E34-841F-A2833E92E9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50281D-15D2-4341-B4DC-55D3808F24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2459B6-2D84-4F0C-AECE-EBFC73A824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F5BF0-0596-41AD-B3CE-A6D2CC601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755280" y="274320"/>
            <a:ext cx="793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1F402E-692F-4D18-A24E-DDA5E61B8F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402327-2823-4E2E-8F1F-1E638FCB6B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85ACB6-353B-4F1C-B27D-37D787400D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5F9D36-C82D-42F4-BCCE-E4504A7F84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E1C9A9-B5BC-41AD-BF58-B4A7136ACB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DE09ED-9935-4AF0-A181-7514D5D7CD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BDECBA-3DCA-45EA-BE8D-3CFE3B57A3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C4C46-D6D5-409D-9F9C-54F21CC47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B8B0E-8CB0-49F1-84C3-06648ABE7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5280" y="274320"/>
            <a:ext cx="793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5CE23-DE35-4660-BCF5-DA15D7993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7CF3C-ADCB-4CA8-A06C-27306B73D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185D2-DC5F-4AF0-A243-98069714A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8794F-8D7E-4A18-8DC3-722FFCF8D4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91A95-3D9D-4E04-8AD7-87E2DEEF5A94}" type="slidenum">
              <a:rPr b="0" lang="pl-PL"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3" descr=""/>
          <p:cNvPicPr/>
          <p:nvPr/>
        </p:nvPicPr>
        <p:blipFill>
          <a:blip r:embed="rId2"/>
          <a:stretch/>
        </p:blipFill>
        <p:spPr>
          <a:xfrm>
            <a:off x="0" y="5761080"/>
            <a:ext cx="9144000" cy="1123920"/>
          </a:xfrm>
          <a:prstGeom prst="rect">
            <a:avLst/>
          </a:prstGeom>
          <a:ln w="0">
            <a:noFill/>
          </a:ln>
        </p:spPr>
      </p:pic>
      <p:pic>
        <p:nvPicPr>
          <p:cNvPr id="42" name="Picture 2" descr=""/>
          <p:cNvPicPr/>
          <p:nvPr/>
        </p:nvPicPr>
        <p:blipFill>
          <a:blip r:embed="rId3"/>
          <a:stretch/>
        </p:blipFill>
        <p:spPr>
          <a:xfrm>
            <a:off x="-4680" y="0"/>
            <a:ext cx="9144000" cy="1628640"/>
          </a:xfrm>
          <a:prstGeom prst="rect">
            <a:avLst/>
          </a:prstGeom>
          <a:ln w="0">
            <a:noFill/>
          </a:ln>
        </p:spPr>
      </p:pic>
      <p:sp>
        <p:nvSpPr>
          <p:cNvPr id="43"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91FF8-9612-4E1B-B829-13FD4B2685DA}"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3" descr=""/>
          <p:cNvPicPr/>
          <p:nvPr/>
        </p:nvPicPr>
        <p:blipFill>
          <a:blip r:embed="rId2"/>
          <a:stretch/>
        </p:blipFill>
        <p:spPr>
          <a:xfrm>
            <a:off x="0" y="5979960"/>
            <a:ext cx="9144000" cy="905040"/>
          </a:xfrm>
          <a:prstGeom prst="rect">
            <a:avLst/>
          </a:prstGeom>
          <a:ln w="0">
            <a:noFill/>
          </a:ln>
        </p:spPr>
      </p:pic>
      <p:pic>
        <p:nvPicPr>
          <p:cNvPr id="85" name="Picture 2" descr=""/>
          <p:cNvPicPr/>
          <p:nvPr/>
        </p:nvPicPr>
        <p:blipFill>
          <a:blip r:embed="rId3"/>
          <a:stretch/>
        </p:blipFill>
        <p:spPr>
          <a:xfrm>
            <a:off x="0" y="-27000"/>
            <a:ext cx="9144000" cy="1123920"/>
          </a:xfrm>
          <a:prstGeom prst="rect">
            <a:avLst/>
          </a:prstGeom>
          <a:ln w="0">
            <a:noFill/>
          </a:ln>
        </p:spPr>
      </p:pic>
      <p:pic>
        <p:nvPicPr>
          <p:cNvPr id="86" name="Obraz 2" descr="stopka_poz.gif"/>
          <p:cNvPicPr/>
          <p:nvPr/>
        </p:nvPicPr>
        <p:blipFill>
          <a:blip r:embed="rId4"/>
          <a:stretch/>
        </p:blipFill>
        <p:spPr>
          <a:xfrm>
            <a:off x="0" y="5951520"/>
            <a:ext cx="9144000" cy="906480"/>
          </a:xfrm>
          <a:prstGeom prst="rect">
            <a:avLst/>
          </a:prstGeom>
          <a:ln w="0">
            <a:noFill/>
          </a:ln>
        </p:spPr>
      </p:pic>
      <p:pic>
        <p:nvPicPr>
          <p:cNvPr id="87" name="Obraz 9" descr="nagłówek_poz.gif"/>
          <p:cNvPicPr/>
          <p:nvPr/>
        </p:nvPicPr>
        <p:blipFill>
          <a:blip r:embed="rId5"/>
          <a:stretch/>
        </p:blipFill>
        <p:spPr>
          <a:xfrm>
            <a:off x="0" y="0"/>
            <a:ext cx="9144000" cy="112536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66997-546C-48E1-8995-D4CD5FB8D91C}" type="slidenum">
              <a:rPr b="0" lang="pl-PL"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hyperlink" Target="http://www.youtube.com/watch?feature=player_detailpage&amp;v=Yjw66KYgylM" TargetMode="External"/><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hyperlink" Target="http://www.youtube.com/watch?feature=player_detailpage&amp;v=goKidpNazCQ" TargetMode="External"/><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hyperlink" Target="http://www.youtube.com/watch?feature=player_detailpage&amp;v=EtDX23WbaMw" TargetMode="External"/><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www.youtube.com/watch?feature=player_detailpage&amp;v=GXTxBd1AZYU"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hyperlink" Target="http://www.youtube.com/watch?feature=player_detailpage&amp;v=pDD53n0xxpY" TargetMode="External"/><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www.youtube.com/watch?feature=player_detailpage&amp;v=PjCh74EkD-M"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hyperlink" Target="http://www.youtube.com/watch?feature=player_detailpage&amp;v=ibA0_KKpZ1E" TargetMode="External"/><Relationship Id="rId2" Type="http://schemas.openxmlformats.org/officeDocument/2006/relationships/hyperlink" Target="http://www.youtube.com/watch?feature=player_detailpage&amp;v=ibA0_KKpZ1E" TargetMode="External"/><Relationship Id="rId3"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hyperlink" Target="http://www.instytucja.pan.pl/index.php?option=com_content&amp;view=article&amp;id=1892:metoda-pozy..&#160;" TargetMode="External"/><Relationship Id="rId2" Type="http://schemas.openxmlformats.org/officeDocument/2006/relationships/hyperlink" Target="http://www.wco.pl/pl/dla-pacjentow/co-i-jak-leczymy/brachyterapia/" TargetMode="External"/><Relationship Id="rId3" Type="http://schemas.openxmlformats.org/officeDocument/2006/relationships/hyperlink" Target="http://glejak.com/noz-gamma-knife/" TargetMode="External"/><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hyperlink" Target="http://www.youtube.com/watch?feature=player_detailpage&amp;v=Gf4cP954YpM" TargetMode="External"/><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79280" y="189000"/>
            <a:ext cx="8785440" cy="4992480"/>
          </a:xfrm>
          <a:prstGeom prst="rect">
            <a:avLst/>
          </a:prstGeom>
          <a:noFill/>
          <a:ln w="0">
            <a:noFill/>
          </a:ln>
        </p:spPr>
        <p:txBody>
          <a:bodyPr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ea typeface="Arial"/>
              </a:rPr>
              <a:t>Wirtualna wycieczka badawcza związana ze współczesną diagnostyką i terapią wykorzystującą promieniowanie X, radioizotopy oraz światło emitowane przez laser.</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99640" y="765000"/>
            <a:ext cx="7417080" cy="4392720"/>
          </a:xfrm>
          <a:prstGeom prst="rect">
            <a:avLst/>
          </a:prstGeom>
          <a:noFill/>
          <a:ln w="0">
            <a:noFill/>
          </a:ln>
        </p:spPr>
        <p:txBody>
          <a:bodyPr lIns="92160" rIns="92160" tIns="46080" bIns="46080" anchor="ctr">
            <a:noAutofit/>
          </a:bodyPr>
          <a:p>
            <a:pPr marL="343080" indent="-3430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ea typeface="Arial"/>
              </a:rPr>
              <a:t>WYCIECZKA NR 2 :</a:t>
            </a:r>
            <a:endParaRPr b="0" lang="en-US" sz="2800" spc="-1" strike="noStrike">
              <a:solidFill>
                <a:srgbClr val="000000"/>
              </a:solidFill>
              <a:latin typeface="Arial"/>
            </a:endParaRPr>
          </a:p>
          <a:p>
            <a:pPr marL="343080" indent="-3430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ea typeface="Arial"/>
              </a:rPr>
              <a:t>SZPITAL - PRACOWNIA RENTGENOWSKA – TOMOGRAFII KOMPUTEROWEJ </a:t>
            </a:r>
            <a:endParaRPr b="0" lang="en-US" sz="2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ele: Znalezienie odpowiedzi na pytani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ak tomograf komputerowy prześwietla nasze ciało „tnąc” go na cienkie plasterk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W czym tomograf komputerowy jest lepszy od zwykłego aparatu RTG?</a:t>
            </a:r>
            <a:endParaRPr b="0" lang="en-US" sz="2400" spc="-1" strike="noStrike">
              <a:solidFill>
                <a:srgbClr val="000000"/>
              </a:solidFill>
              <a:latin typeface="Arial"/>
            </a:endParaRPr>
          </a:p>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ubTitle"/>
          </p:nvPr>
        </p:nvSpPr>
        <p:spPr>
          <a:xfrm>
            <a:off x="324000" y="1484280"/>
            <a:ext cx="8424720" cy="1944720"/>
          </a:xfrm>
          <a:prstGeom prst="rect">
            <a:avLst/>
          </a:prstGeom>
          <a:noFill/>
          <a:ln w="0">
            <a:noFill/>
          </a:ln>
        </p:spPr>
        <p:txBody>
          <a:bodyPr lIns="92160" rIns="92160" tIns="46080" bIns="4608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Film prezentujący budowę i zasadę działania tomografu komputerowego.</a:t>
            </a:r>
            <a:endParaRPr b="0" lang="en-US" sz="3600" spc="-1" strike="noStrike">
              <a:solidFill>
                <a:srgbClr val="000000"/>
              </a:solidFill>
              <a:latin typeface="Arial"/>
            </a:endParaRPr>
          </a:p>
        </p:txBody>
      </p:sp>
      <p:sp>
        <p:nvSpPr>
          <p:cNvPr id="146" name="Prostokąt 3"/>
          <p:cNvSpPr/>
          <p:nvPr/>
        </p:nvSpPr>
        <p:spPr>
          <a:xfrm>
            <a:off x="395280" y="3716280"/>
            <a:ext cx="8424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ff"/>
                </a:solidFill>
                <a:uFillTx/>
                <a:latin typeface="Arial"/>
                <a:hlinkClick r:id="rId1"/>
              </a:rPr>
              <a:t>http://www.youtube.com/watch?feature=player_detailpage&amp;v=Yjw66KYgylM</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3"/>
          <p:cNvSpPr/>
          <p:nvPr/>
        </p:nvSpPr>
        <p:spPr>
          <a:xfrm>
            <a:off x="3276720" y="2924280"/>
            <a:ext cx="1942920" cy="36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148" name="Text Box 4"/>
          <p:cNvSpPr/>
          <p:nvPr/>
        </p:nvSpPr>
        <p:spPr>
          <a:xfrm>
            <a:off x="324000" y="1844640"/>
            <a:ext cx="8424720" cy="336888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Mammografia</a:t>
            </a:r>
            <a:r>
              <a:rPr b="0" lang="pl-PL" sz="2400" spc="-1" strike="noStrike">
                <a:solidFill>
                  <a:srgbClr val="000000"/>
                </a:solidFill>
                <a:latin typeface="Arial"/>
              </a:rPr>
              <a:t> to kolejny typ badania obrazowego, w którym wykorzystano promieniowanie X. Jest to badanie służące do obrazowania piersi kobiet, pozwalające stwierdzić występujące w tych gruczołach nieprawidłowości. Aparaty mammograficzne zastosowano po raz pierwszy w drugiej połowie XX wieku.</a:t>
            </a:r>
            <a:endParaRPr b="0" lang="en-US" sz="2400" spc="-1" strike="noStrike">
              <a:solidFill>
                <a:srgbClr val="ffff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755280" y="764640"/>
            <a:ext cx="7488360" cy="5256360"/>
          </a:xfrm>
          <a:prstGeom prst="rect">
            <a:avLst/>
          </a:prstGeom>
          <a:noFill/>
          <a:ln w="0">
            <a:noFill/>
          </a:ln>
        </p:spPr>
        <p:txBody>
          <a:bodyPr lIns="92160" rIns="92160" tIns="46080" bIns="46080" anchor="ctr">
            <a:noAutofit/>
          </a:bodyPr>
          <a:p>
            <a:pPr marL="343080" indent="-3430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ea typeface="Arial"/>
              </a:rPr>
              <a:t>WYCIECZKA NR  3:</a:t>
            </a:r>
            <a:endParaRPr b="0" lang="en-US" sz="2800" spc="-1" strike="noStrike">
              <a:solidFill>
                <a:srgbClr val="000000"/>
              </a:solidFill>
              <a:latin typeface="Arial"/>
            </a:endParaRPr>
          </a:p>
          <a:p>
            <a:pPr marL="343080" indent="-3430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ea typeface="Arial"/>
              </a:rPr>
              <a:t>SZPITAL - PRACOWNIA RENTGENOWSKA – MAMMOGRAFICZNA</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e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poznanie budowy i zasady działania mammograf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znalezienie odpowiedzi na pytanie czy mammograf jest jedyną dobrą metodą diagnostyczną w przypadku nowotworu piers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ole tekstowe 1"/>
          <p:cNvSpPr/>
          <p:nvPr/>
        </p:nvSpPr>
        <p:spPr>
          <a:xfrm>
            <a:off x="684360" y="1268280"/>
            <a:ext cx="720072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Film prezentujący budowę i zasadę działania aparatu mammograficznego.</a:t>
            </a:r>
            <a:endParaRPr b="0" lang="en-US" sz="3600" spc="-1" strike="noStrike">
              <a:solidFill>
                <a:srgbClr val="ffff00"/>
              </a:solidFill>
              <a:latin typeface="Arial"/>
            </a:endParaRPr>
          </a:p>
        </p:txBody>
      </p:sp>
      <p:sp>
        <p:nvSpPr>
          <p:cNvPr id="151" name="Prostokąt 3"/>
          <p:cNvSpPr/>
          <p:nvPr/>
        </p:nvSpPr>
        <p:spPr>
          <a:xfrm>
            <a:off x="324000" y="3500280"/>
            <a:ext cx="8569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ff"/>
                </a:solidFill>
                <a:uFillTx/>
                <a:latin typeface="Arial"/>
                <a:hlinkClick r:id="rId1"/>
              </a:rPr>
              <a:t>http://www.youtube.com/watch?feature=player_detailpage&amp;v=goKidpNazCQ</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ole tekstowe 1"/>
          <p:cNvSpPr/>
          <p:nvPr/>
        </p:nvSpPr>
        <p:spPr>
          <a:xfrm>
            <a:off x="684360" y="1413000"/>
            <a:ext cx="7559640" cy="2837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ea typeface="Arial"/>
              </a:rPr>
              <a:t>WSPÓŁCZESNA DIAGNOSTYKA WYKORZYSTUJĄCA PIERWIASTKI PROMIENIOTWÓRCZE                              I PROMIENIOWANIE   X</a:t>
            </a:r>
            <a:endParaRPr b="0"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ole tekstowe 2"/>
          <p:cNvSpPr/>
          <p:nvPr/>
        </p:nvSpPr>
        <p:spPr>
          <a:xfrm>
            <a:off x="395280" y="692280"/>
            <a:ext cx="8280360" cy="5641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PET – Pozytonowa Emisja Tomograficzna</a:t>
            </a:r>
            <a:endParaRPr b="0" lang="en-US" sz="2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st obok magnetycznego rezonansu jądrowego bardzo dokładną metodą diagnostyczną. Jej początek datuje się na lata pięćdziesiąte XX wieku. W swym działaniu PET wykorzystuje izotopy beta plus promieniotwórcze, którymi „znakuje się” związki chemiczne np. glukozę. Obecnie najczęściej stosowanym znacznikiem jest glukoza znakowana fluorem-18 deoxyglukozy (18FDG). Technika PET jest podstawową metodą pozwalającą na tzw. obrazowanie molekularne. Jej niewątpliwą zaletą jest możliwość podania śladowej dawki radiofarmaceutyku, celem uzyskania informacji o procesach molekularnych na poziomie komórkowym. Dawka ta jest tak mała, że znacznik nie wpływa na naturalnie przebiegające procesy biochemiczne. </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ole tekstowe 1"/>
          <p:cNvSpPr/>
          <p:nvPr/>
        </p:nvSpPr>
        <p:spPr>
          <a:xfrm>
            <a:off x="395280" y="476280"/>
            <a:ext cx="8569440" cy="594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Podstawy fizyczne metody PET</a:t>
            </a:r>
            <a:endParaRPr b="0" lang="en-US" sz="24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Metoda PET polega na zastosowaniu krótkożyjących pierwiastków promieniotwórczych emitujących pozytony. Pozytony są cząsteczkami o dodatnim ładunku elektrycznym. Pozyton, po emisji z jądra, przemieszcza się w środowisku na odległość nie większą niż kilka milimetrów, ulegając reakcji z elektronem napotkanego atomu. W wyniku reakcji z elektronem zachodzi zjawisko anihilacji, tzn. zamiany dwóch cząsteczek materii w dwie fale elektromagnetyczne (fale gamma). Charakteryzują się one dwiema szczególnymi właściwościami: ich energia jest ściśle określona i wynosi 511keV, biegną one w dwóch przeciwnych kierunkach (antyrównolegle). Pośrednim sposobem na pomiar promieniowania pozytonowego jest więc rejestracja tylko promieni gamma o określonej energii, które w tym samym czasie są rejestrowane przez układ detektorów. </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ole tekstowe 1"/>
          <p:cNvSpPr/>
          <p:nvPr/>
        </p:nvSpPr>
        <p:spPr>
          <a:xfrm>
            <a:off x="468360" y="620640"/>
            <a:ext cx="835164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o nowotworów diagnozowanych z użyciem PET należą: większość raków okolicy głowy i szyi, czerniaki, chłoniaki, raki płuc, jelita grubego, mięsaki, raki trzustki, jajników, niskozróżnicowane glejaki. Należy również wymienić nasieniaki, raki endometrium, żołądka i dróg żółciowych. Poniżej przedstawiono zdjęcia wykonane różnymi technikami: </a:t>
            </a:r>
            <a:endParaRPr b="0" lang="en-US" sz="24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a) PET,                   b) CT                  c) Fuzja PET/CT</a:t>
            </a:r>
            <a:endParaRPr b="0" lang="en-US" sz="2400" spc="-1" strike="noStrike">
              <a:solidFill>
                <a:srgbClr val="ffff00"/>
              </a:solidFill>
              <a:latin typeface="Arial"/>
            </a:endParaRPr>
          </a:p>
        </p:txBody>
      </p:sp>
      <p:pic>
        <p:nvPicPr>
          <p:cNvPr id="156" name="Obraz 2" descr="Ryc_1_A"/>
          <p:cNvPicPr/>
          <p:nvPr/>
        </p:nvPicPr>
        <p:blipFill>
          <a:blip r:embed="rId1"/>
          <a:stretch/>
        </p:blipFill>
        <p:spPr>
          <a:xfrm>
            <a:off x="611280" y="3716280"/>
            <a:ext cx="2476440" cy="2476440"/>
          </a:xfrm>
          <a:prstGeom prst="rect">
            <a:avLst/>
          </a:prstGeom>
          <a:ln w="0">
            <a:noFill/>
          </a:ln>
        </p:spPr>
      </p:pic>
      <p:pic>
        <p:nvPicPr>
          <p:cNvPr id="157" name="Obraz 3" descr="Ryc_1_B"/>
          <p:cNvPicPr/>
          <p:nvPr/>
        </p:nvPicPr>
        <p:blipFill>
          <a:blip r:embed="rId2"/>
          <a:stretch/>
        </p:blipFill>
        <p:spPr>
          <a:xfrm>
            <a:off x="3276720" y="3645000"/>
            <a:ext cx="2476440" cy="2476440"/>
          </a:xfrm>
          <a:prstGeom prst="rect">
            <a:avLst/>
          </a:prstGeom>
          <a:ln w="0">
            <a:noFill/>
          </a:ln>
        </p:spPr>
      </p:pic>
      <p:pic>
        <p:nvPicPr>
          <p:cNvPr id="158" name="Obraz 4" descr="Ryc_1_C"/>
          <p:cNvPicPr/>
          <p:nvPr/>
        </p:nvPicPr>
        <p:blipFill>
          <a:blip r:embed="rId3"/>
          <a:stretch/>
        </p:blipFill>
        <p:spPr>
          <a:xfrm>
            <a:off x="6300720" y="3645000"/>
            <a:ext cx="2476440" cy="2476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ole tekstowe 1"/>
          <p:cNvSpPr/>
          <p:nvPr/>
        </p:nvSpPr>
        <p:spPr>
          <a:xfrm>
            <a:off x="539640" y="692280"/>
            <a:ext cx="8064720" cy="3728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ea typeface="Arial"/>
              </a:rPr>
              <a:t>WYCIECZKA NR  4:</a:t>
            </a:r>
            <a:endParaRPr b="0" lang="en-US" sz="2800" spc="-1" strike="noStrike">
              <a:solidFill>
                <a:srgbClr val="ffff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ea typeface="Arial"/>
              </a:rPr>
              <a:t>SZPITAL - PRACOWNIA PET/CT</a:t>
            </a:r>
            <a:endParaRPr b="0" lang="en-US" sz="2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Cele:</a:t>
            </a:r>
            <a:endParaRPr b="0" lang="en-US" sz="2800" spc="-1" strike="noStrike">
              <a:solidFill>
                <a:srgbClr val="ffff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poznanie budowy i zasady działania aparatu PET/CT</a:t>
            </a:r>
            <a:endParaRPr b="0" lang="en-US" sz="2800" spc="-1" strike="noStrike">
              <a:solidFill>
                <a:srgbClr val="ffff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znalezienie odpowiedzi na pytanie: </a:t>
            </a:r>
            <a:endParaRPr b="0" lang="en-US" sz="2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Czy PET/CT jest obecnie najdokładniejszą metodą diagnostyczną nowotworów?</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3"/>
          <p:cNvSpPr/>
          <p:nvPr/>
        </p:nvSpPr>
        <p:spPr>
          <a:xfrm>
            <a:off x="395280" y="1773360"/>
            <a:ext cx="8497800" cy="37947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ea typeface="Arial"/>
              </a:rPr>
              <a:t>WSPÓŁCZESNA DIAGNOSTYKA WYKORZYSTUJĄCA PROMIENIOWANIE X</a:t>
            </a:r>
            <a:endParaRPr b="0" lang="en-US" sz="4400" spc="-1" strike="noStrike">
              <a:solidFill>
                <a:srgbClr val="ffff00"/>
              </a:solidFill>
              <a:latin typeface="Arial"/>
            </a:endParaRPr>
          </a:p>
          <a:p>
            <a:pPr algn="ctr">
              <a:spcBef>
                <a:spcPts val="27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ole tekstowe 1"/>
          <p:cNvSpPr/>
          <p:nvPr/>
        </p:nvSpPr>
        <p:spPr>
          <a:xfrm>
            <a:off x="468360" y="692280"/>
            <a:ext cx="8207280" cy="3751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Film prezentujący budowę i zasadę działania aparatu PET/CT.</a:t>
            </a:r>
            <a:endParaRPr b="0" lang="en-US" sz="36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ff"/>
                </a:solidFill>
                <a:uFillTx/>
                <a:latin typeface="Arial"/>
                <a:hlinkClick r:id="rId1"/>
              </a:rPr>
              <a:t>http://www.youtube.com/watch?feature=player_detailpage&amp;v=EtDX23WbaMw</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ole tekstowe 2"/>
          <p:cNvSpPr/>
          <p:nvPr/>
        </p:nvSpPr>
        <p:spPr>
          <a:xfrm>
            <a:off x="611280" y="1700280"/>
            <a:ext cx="799308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ea typeface="Arial"/>
              </a:rPr>
              <a:t>WSPÓŁCZESNA TERAPIA WYKORZYSTUJĄCA PIERWIASTKI PROMIENIOTWÓRCZE </a:t>
            </a:r>
            <a:endParaRPr b="0" lang="en-US" sz="36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ole tekstowe 1"/>
          <p:cNvSpPr/>
          <p:nvPr/>
        </p:nvSpPr>
        <p:spPr>
          <a:xfrm>
            <a:off x="395280" y="692280"/>
            <a:ext cx="8353440" cy="576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GAMMA KNIFE – NÓŻ GAMMA</a:t>
            </a:r>
            <a:endParaRPr b="0" lang="en-US" sz="36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Gamma Knife® konstrukcyjnie najlepiej wypełnia podstawową zasadę radioterapii, która mówi, że należy maksymalizować dawkę na tkankę chorą a minimalizować dawkę na tkankę zdrową. Budowa anatomiczna człowieka narzuca konieczność dostarczania dawki do tkanki chorej poprzez tkankę zdrową. Dlatego w tym urządzeniu odbywa się to przez zwiększanie liczby wiązek terapeutycznych. Dlatego Gamma Knife® realizuje jednoczasową terapię przy użyciu 192 wiązek zapewniając możliwość dostarczenia chirurgicznej dawki w obszarze objętym chorobą przy jednoczesnym minimalnym narażeniu tkanek zdrowych. Jest to jedyna technologia zapewniająca wykorzystanie promieniowania jonizującego w celu podania chirurgicznej  dawki.</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ole tekstowe 1"/>
          <p:cNvSpPr/>
          <p:nvPr/>
        </p:nvSpPr>
        <p:spPr>
          <a:xfrm>
            <a:off x="395280" y="620640"/>
            <a:ext cx="8497800" cy="521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Gamma Knife® używa źródeł stałych wykonanych z izotopu kobaltu - Co60, które są dostępne jednoczasowo i bezzwłocznie w każdej chwili. Jest to urządzenie przy użyciu którego można napromieniać nawet ciężarne kobiety. Konstrukcja Gamma Knife® czyni z niego specjalizowane urządzenie dla napromieniania zmian onkologicznych i nieonkologicznych mózgu oraz górnego odcinka kręgosłupa szyjnego, ale jednocześnie ogranicza jego stosowalność do tego obszaru. Ograniczeniem stosowania jest również wielkość zmiany chorobowej.</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ole tekstowe 1"/>
          <p:cNvSpPr/>
          <p:nvPr/>
        </p:nvSpPr>
        <p:spPr>
          <a:xfrm>
            <a:off x="684360" y="981000"/>
            <a:ext cx="7559640" cy="52232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ea typeface="Arial"/>
              </a:rPr>
              <a:t>WYCIECZKA NR  5:</a:t>
            </a:r>
            <a:endParaRPr b="0" lang="en-US" sz="3200" spc="-1" strike="noStrike">
              <a:solidFill>
                <a:srgbClr val="ffff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SZPITAL - PRACOWNIA GAMMA KNIFE</a:t>
            </a: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Cele:</a:t>
            </a:r>
            <a:endParaRPr b="0" lang="en-US" sz="2800" spc="-1" strike="noStrike">
              <a:solidFill>
                <a:srgbClr val="ffff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poznanie budowy i zasady działania aparatu Gamma Knife.</a:t>
            </a:r>
            <a:endParaRPr b="0" lang="en-US" sz="2800" spc="-1" strike="noStrike">
              <a:solidFill>
                <a:srgbClr val="ffff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znalezienie odpowiedzi na pytanie: </a:t>
            </a:r>
            <a:endParaRPr b="0" lang="en-US" sz="2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Czy Gamma Knife jest obecnie najlepszą metodą terapeutyczną stosowaną w leczeniu nowotworów mózgu?</a:t>
            </a:r>
            <a:endParaRPr b="0" lang="en-US" sz="2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ole tekstowe 1"/>
          <p:cNvSpPr/>
          <p:nvPr/>
        </p:nvSpPr>
        <p:spPr>
          <a:xfrm>
            <a:off x="468360" y="692280"/>
            <a:ext cx="83516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Film prezentujący budowę i zasadę działania noża gamma.</a:t>
            </a:r>
            <a:endParaRPr b="0" lang="en-US" sz="3600" spc="-1" strike="noStrike">
              <a:solidFill>
                <a:srgbClr val="ffff00"/>
              </a:solidFill>
              <a:latin typeface="Arial"/>
            </a:endParaRPr>
          </a:p>
        </p:txBody>
      </p:sp>
      <p:sp>
        <p:nvSpPr>
          <p:cNvPr id="166" name="Prostokąt 3"/>
          <p:cNvSpPr/>
          <p:nvPr/>
        </p:nvSpPr>
        <p:spPr>
          <a:xfrm>
            <a:off x="250920" y="3105000"/>
            <a:ext cx="8642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ff"/>
                </a:solidFill>
                <a:uFillTx/>
                <a:latin typeface="Arial"/>
                <a:hlinkClick r:id="rId1"/>
              </a:rPr>
              <a:t>http://www.youtube.com/watch?feature=player_detailpage&amp;v=GXTxBd1AZYU</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ole tekstowe 1"/>
          <p:cNvSpPr/>
          <p:nvPr/>
        </p:nvSpPr>
        <p:spPr>
          <a:xfrm>
            <a:off x="395280" y="333360"/>
            <a:ext cx="8353440" cy="6920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RACHYTERAPIA </a:t>
            </a:r>
            <a:endParaRPr b="0" lang="en-US" sz="32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o grecku brachy – z bliska)</a:t>
            </a:r>
            <a:endParaRPr b="0" lang="en-US" sz="32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st to metoda leczenia (rodzaj radioterapii) polegająca na napromienianiu tkanek nowotworowych przy użyciu energii promieniowania izotopu umieszczanego w guzie lub w jego bezpośrednim sąsiedztwie. Pierwszy raz zastosowano tę metodę pod koniec XIX w.</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00"/>
                </a:solidFill>
                <a:latin typeface="Arial"/>
              </a:rPr>
              <a:t> </a:t>
            </a:r>
            <a:r>
              <a:rPr b="1" lang="pl-PL" sz="2400" spc="-1" strike="noStrike">
                <a:solidFill>
                  <a:srgbClr val="000000"/>
                </a:solidFill>
                <a:latin typeface="Arial"/>
              </a:rPr>
              <a:t>Brachyterapia jest stosowana</a:t>
            </a:r>
            <a:r>
              <a:rPr b="0" lang="pl-PL" sz="2400" spc="-1" strike="noStrike">
                <a:solidFill>
                  <a:srgbClr val="000000"/>
                </a:solidFill>
                <a:latin typeface="Arial"/>
              </a:rPr>
              <a:t>: </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1/ jako samodzielne leczenie radykalne, </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2/ jako część skojarzonego leczenia radykalnego razem z chirurgią i/lub teleterapią, </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3/ jako samodzielne leczenie paliatywne, </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4/ jako część skojarzonego leczenia paliatywnego razem z chirurgią i/lub teleterapią, </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5/ jako brachyterapia ratunkowa</a:t>
            </a:r>
            <a:r>
              <a:rPr b="0" lang="pl-PL" sz="3200" spc="-1" strike="noStrike">
                <a:solidFill>
                  <a:srgbClr val="000000"/>
                </a:solidFill>
                <a:latin typeface="Arial"/>
              </a:rPr>
              <a:t>.</a:t>
            </a: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endParaRPr b="0" lang="en-US" sz="32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ole tekstowe 1"/>
          <p:cNvSpPr/>
          <p:nvPr/>
        </p:nvSpPr>
        <p:spPr>
          <a:xfrm>
            <a:off x="395280" y="692280"/>
            <a:ext cx="8209080" cy="4104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ea typeface="Arial"/>
              </a:rPr>
              <a:t>WYCIECZKA NR  6:</a:t>
            </a:r>
            <a:endParaRPr b="0" lang="en-US" sz="3200" spc="-1" strike="noStrike">
              <a:solidFill>
                <a:srgbClr val="ffff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SZPITAL - PRACOWNIA BRACHYTERAPII</a:t>
            </a:r>
            <a:endParaRPr b="0" lang="en-US" sz="3200" spc="-1" strike="noStrike">
              <a:solidFill>
                <a:srgbClr val="ffff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Cele:</a:t>
            </a:r>
            <a:endParaRPr b="0" lang="en-US" sz="2800" spc="-1" strike="noStrike">
              <a:solidFill>
                <a:srgbClr val="ffff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poznanie metody brachyterapii, jako metody radiacyjnej.</a:t>
            </a:r>
            <a:endParaRPr b="0" lang="en-US" sz="2800" spc="-1" strike="noStrike">
              <a:solidFill>
                <a:srgbClr val="ffff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znalezienie odpowiedzi na pytanie: Kiedy warto stosować brachyterapię?</a:t>
            </a:r>
            <a:endParaRPr b="0" lang="en-US" sz="2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ole tekstowe 2"/>
          <p:cNvSpPr/>
          <p:nvPr/>
        </p:nvSpPr>
        <p:spPr>
          <a:xfrm>
            <a:off x="395280" y="836640"/>
            <a:ext cx="842472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Film prezentujący zastosowanie brachyterapii.</a:t>
            </a:r>
            <a:endParaRPr b="0" lang="en-US" sz="36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70" name="Prostokąt 3"/>
          <p:cNvSpPr/>
          <p:nvPr/>
        </p:nvSpPr>
        <p:spPr>
          <a:xfrm>
            <a:off x="250920" y="3105000"/>
            <a:ext cx="8642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ff"/>
                </a:solidFill>
                <a:uFillTx/>
                <a:latin typeface="Arial"/>
                <a:hlinkClick r:id="rId1"/>
              </a:rPr>
              <a:t>http://www.youtube.com/watch?feature=player_detailpage&amp;v=pDD53n0xxpY</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ole tekstowe 1"/>
          <p:cNvSpPr/>
          <p:nvPr/>
        </p:nvSpPr>
        <p:spPr>
          <a:xfrm>
            <a:off x="324000" y="1268280"/>
            <a:ext cx="849600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RADIOTERAPIA  </a:t>
            </a:r>
            <a:endParaRPr b="0" lang="en-US" sz="36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ea typeface="msmincho"/>
              </a:rPr>
              <a:t>Jest to metoda leczenia polegającą na zniszczeniu nowotworu  za pomocą promieniowania jonizującego, czyli promieniowania, którego energia powoduje powstawanie zmian w strukturze atomu lub cząsteczki.</a:t>
            </a:r>
            <a:endParaRPr b="0"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ubTitle"/>
          </p:nvPr>
        </p:nvSpPr>
        <p:spPr>
          <a:xfrm>
            <a:off x="1258920" y="549360"/>
            <a:ext cx="6400800" cy="107928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RTG</a:t>
            </a:r>
            <a:endParaRPr b="0" lang="en-US" sz="3200" spc="-1" strike="noStrike">
              <a:solidFill>
                <a:srgbClr val="000000"/>
              </a:solidFill>
              <a:latin typeface="Arial"/>
            </a:endParaRPr>
          </a:p>
        </p:txBody>
      </p:sp>
      <p:sp>
        <p:nvSpPr>
          <p:cNvPr id="132" name="Prostokąt 3"/>
          <p:cNvSpPr/>
          <p:nvPr/>
        </p:nvSpPr>
        <p:spPr>
          <a:xfrm>
            <a:off x="395280" y="1916280"/>
            <a:ext cx="864072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 1895 roku niemiecki fizyk Wilhelm Roentgen zauważył, że promieniowanie emitowane przez lampę katodową powoduje na odległość naświetlanie papieru pokrytego związkiem baru. Roentgen nazwał je promieniami X. Jego odkrycie, zostało wyróżnione w 1901 roku Nagrodą Nobla i zrewolucjonizowało medycynę, umożliwiając po raz pierwszy w dziejach spojrzenie do wnętrza ludzkiego ciała w sposób, który obecnie nazywa się bezinwazyjnym. Obecnie promieniowanie to wykorzystuje się min. w aparatach zwanych od odkrywcy aparatami rentgenowskimi (RTG).</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ole tekstowe 1"/>
          <p:cNvSpPr/>
          <p:nvPr/>
        </p:nvSpPr>
        <p:spPr>
          <a:xfrm>
            <a:off x="468360" y="765000"/>
            <a:ext cx="799128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Radioizotop - promieniotwórczy izotop pewnego pierwiastka.</a:t>
            </a:r>
            <a:endParaRPr b="0" lang="en-US" sz="2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Izotopy najczęściej stosowane w radioterapii izotopowej to:</a:t>
            </a:r>
            <a:endParaRPr b="0" lang="en-US" sz="2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pic>
        <p:nvPicPr>
          <p:cNvPr id="173" name="Picture 3" descr=""/>
          <p:cNvPicPr/>
          <p:nvPr/>
        </p:nvPicPr>
        <p:blipFill>
          <a:blip r:embed="rId1"/>
          <a:stretch/>
        </p:blipFill>
        <p:spPr>
          <a:xfrm>
            <a:off x="539640" y="2852640"/>
            <a:ext cx="7885080" cy="3011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ole tekstowe 1"/>
          <p:cNvSpPr/>
          <p:nvPr/>
        </p:nvSpPr>
        <p:spPr>
          <a:xfrm>
            <a:off x="468360" y="692280"/>
            <a:ext cx="835164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ea typeface="msmincho"/>
              </a:rPr>
              <a:t>Przykładem radioterapii izotopowej stosowanym obecnie jest t</a:t>
            </a:r>
            <a:r>
              <a:rPr b="0" lang="pl-PL" sz="2800" spc="-1" strike="noStrike">
                <a:solidFill>
                  <a:srgbClr val="000000"/>
                </a:solidFill>
                <a:latin typeface="Arial"/>
              </a:rPr>
              <a:t>erapia jodem promieniotwórczym (radiojodem). </a:t>
            </a:r>
            <a:r>
              <a:rPr b="0" lang="pl-PL" sz="2800" spc="-1" strike="noStrike">
                <a:solidFill>
                  <a:srgbClr val="000000"/>
                </a:solidFill>
                <a:latin typeface="Arial"/>
                <a:ea typeface="msmincho"/>
              </a:rPr>
              <a:t>Polega ona na doustnym przyjęciu kapsułki zawierającej promieniotwórczy izotop jodu. Radiojod wychwytywany jest następnie tarczycę, gdzie emituje promieniowanie beta minus, które niszczy komórki tarczycy. Promieniowanie to ma zasięg ok. 2 mm, dlatego ogranicza się tylko do tarczycy i nie uszkadza sąsiednich narządów. Radiojod wydalany jest z moczem.</a:t>
            </a:r>
            <a:endParaRPr b="0" lang="en-US" sz="2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ole tekstowe 2"/>
          <p:cNvSpPr/>
          <p:nvPr/>
        </p:nvSpPr>
        <p:spPr>
          <a:xfrm>
            <a:off x="539640" y="765000"/>
            <a:ext cx="8136000" cy="51339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Arial"/>
                <a:ea typeface="Arial"/>
              </a:rPr>
              <a:t>WYCIECZKA NR  7:</a:t>
            </a:r>
            <a:endParaRPr b="0" lang="en-US" sz="3600" spc="-1" strike="noStrike">
              <a:solidFill>
                <a:srgbClr val="ffff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ea typeface="Arial"/>
              </a:rPr>
              <a:t>SZPITAL ONKOLOGICZNY - PRACOWNIA NAŚWIETLANIA LUB LECZENIA RADIOIZOTOPAMI</a:t>
            </a:r>
            <a:endParaRPr b="0" lang="en-US" sz="3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Cele:</a:t>
            </a:r>
            <a:endParaRPr b="0" lang="en-US" sz="2800" spc="-1" strike="noStrike">
              <a:solidFill>
                <a:srgbClr val="ffff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poznanie zasady naświetlania z użyciem akceleratorów.</a:t>
            </a:r>
            <a:endParaRPr b="0" lang="en-US" sz="2800" spc="-1" strike="noStrike">
              <a:solidFill>
                <a:srgbClr val="ffff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poznanie sposobu leczenia pacjenta z użyciem radioizotopu.</a:t>
            </a:r>
            <a:endParaRPr b="0" lang="en-US" sz="2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ole tekstowe 1"/>
          <p:cNvSpPr/>
          <p:nvPr/>
        </p:nvSpPr>
        <p:spPr>
          <a:xfrm>
            <a:off x="395280" y="765000"/>
            <a:ext cx="83534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Film prezentujący zastosowanie radioterapii.</a:t>
            </a:r>
            <a:endParaRPr b="0" lang="en-US" sz="36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77" name="Prostokąt 3"/>
          <p:cNvSpPr/>
          <p:nvPr/>
        </p:nvSpPr>
        <p:spPr>
          <a:xfrm>
            <a:off x="539640" y="3105000"/>
            <a:ext cx="8353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ff"/>
                </a:solidFill>
                <a:uFillTx/>
                <a:latin typeface="Arial"/>
                <a:hlinkClick r:id="rId1"/>
              </a:rPr>
              <a:t>http://www.youtube.com/watch?feature=player_detailpage&amp;v=PjCh74EkD-M</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ole tekstowe 1"/>
          <p:cNvSpPr/>
          <p:nvPr/>
        </p:nvSpPr>
        <p:spPr>
          <a:xfrm>
            <a:off x="684360" y="404640"/>
            <a:ext cx="7416720" cy="570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LASEROTERAPIA – METODA LECZENIA ŚWIATŁEM</a:t>
            </a:r>
            <a:endParaRPr b="0" lang="en-US" sz="36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W 1962 r. po raz pierwszy na świecie zastosowano lasery w dermatologii.</a:t>
            </a:r>
            <a:endParaRPr b="0" lang="en-US" sz="2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LASERÓW</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rubinowy,</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aleksandrytowy,</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neodymowy,</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holmowy,</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erbowy,</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argonowy,</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CO2,</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helowo-neonowy,</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półprzewodnikowy.</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ole tekstowe 1"/>
          <p:cNvSpPr/>
          <p:nvPr/>
        </p:nvSpPr>
        <p:spPr>
          <a:xfrm>
            <a:off x="395280" y="981000"/>
            <a:ext cx="842472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ZASTOSOWANIE LASERA W</a:t>
            </a:r>
            <a:endParaRPr b="0" lang="en-US" sz="36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KOSMETOLOGII:</a:t>
            </a:r>
            <a:endParaRPr b="0" lang="en-US" sz="36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 </a:t>
            </a:r>
            <a:r>
              <a:rPr b="0" lang="pl-PL" sz="3600" spc="-1" strike="noStrike">
                <a:solidFill>
                  <a:srgbClr val="000000"/>
                </a:solidFill>
                <a:latin typeface="Arial"/>
              </a:rPr>
              <a:t>ODMŁADZANIE</a:t>
            </a:r>
            <a:endParaRPr b="0" lang="en-US" sz="3600" spc="-1" strike="noStrike">
              <a:solidFill>
                <a:srgbClr val="ffff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 </a:t>
            </a:r>
            <a:r>
              <a:rPr b="0" lang="pl-PL" sz="3600" spc="-1" strike="noStrike">
                <a:solidFill>
                  <a:srgbClr val="000000"/>
                </a:solidFill>
                <a:latin typeface="Arial"/>
              </a:rPr>
              <a:t>ZAMYKANIE NACZYNEK</a:t>
            </a:r>
            <a:endParaRPr b="0" lang="en-US" sz="3600" spc="-1" strike="noStrike">
              <a:solidFill>
                <a:srgbClr val="ffff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 </a:t>
            </a:r>
            <a:r>
              <a:rPr b="0" lang="pl-PL" sz="3600" spc="-1" strike="noStrike">
                <a:solidFill>
                  <a:srgbClr val="000000"/>
                </a:solidFill>
                <a:latin typeface="Arial"/>
              </a:rPr>
              <a:t>USUWANIE PRZEBARWIEŃ</a:t>
            </a:r>
            <a:endParaRPr b="0" lang="en-US" sz="3600" spc="-1" strike="noStrike">
              <a:solidFill>
                <a:srgbClr val="ffff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 </a:t>
            </a:r>
            <a:r>
              <a:rPr b="0" lang="pl-PL" sz="3600" spc="-1" strike="noStrike">
                <a:solidFill>
                  <a:srgbClr val="000000"/>
                </a:solidFill>
                <a:latin typeface="Arial"/>
              </a:rPr>
              <a:t>DEPILACJA</a:t>
            </a:r>
            <a:endParaRPr b="0" lang="en-US" sz="3600" spc="-1" strike="noStrike">
              <a:solidFill>
                <a:srgbClr val="ffff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ole tekstowe 1"/>
          <p:cNvSpPr/>
          <p:nvPr/>
        </p:nvSpPr>
        <p:spPr>
          <a:xfrm>
            <a:off x="395280" y="765000"/>
            <a:ext cx="8137440" cy="521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PRZECIWWSKAZANIA DO WYKONYWANIA NAŚWIETLEŃ LASEROWYCH</a:t>
            </a:r>
            <a:endParaRPr b="0" lang="en-US" sz="2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choroba nowotworowa w wywiadzie</a:t>
            </a:r>
            <a:endParaRPr b="0" lang="en-US" sz="2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stosowanie leków światłouczulających (niektóre</a:t>
            </a:r>
            <a:endParaRPr b="0" lang="en-US" sz="2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niesteroidowe leki przeciwzapalne, antybiotyki, leki moczopędne, hipolipemizujące, uspokajające – dziurawiec, dziegcie itp.)</a:t>
            </a:r>
            <a:endParaRPr b="0" lang="en-US" sz="2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zakaźne zmiany skórne (krosty, opryszczka)</a:t>
            </a:r>
            <a:endParaRPr b="0" lang="en-US" sz="2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ciąża, miesiączka</a:t>
            </a:r>
            <a:endParaRPr b="0" lang="en-US" sz="2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a:t>
            </a:r>
            <a:r>
              <a:rPr b="0" lang="pl-PL" sz="2800" spc="-1" strike="noStrike">
                <a:solidFill>
                  <a:srgbClr val="000000"/>
                </a:solidFill>
                <a:latin typeface="Arial"/>
              </a:rPr>
              <a:t>opalenizna (możliwość przemijającego odbarwienia skóry)</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ole tekstowe 1"/>
          <p:cNvSpPr/>
          <p:nvPr/>
        </p:nvSpPr>
        <p:spPr>
          <a:xfrm>
            <a:off x="900000" y="836640"/>
            <a:ext cx="7775640" cy="40654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ea typeface="Arial"/>
              </a:rPr>
              <a:t>WYCIECZKA NR  8:</a:t>
            </a:r>
            <a:endParaRPr b="0" lang="en-US" sz="3200" spc="-1" strike="noStrike">
              <a:solidFill>
                <a:srgbClr val="ffff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ZAKŁAD KOSMETYCZNY STOSUJĄCY ZABIEGI Z UŻYCIEM LASERA</a:t>
            </a: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Cele:</a:t>
            </a:r>
            <a:endParaRPr b="0" lang="en-US" sz="2800" spc="-1" strike="noStrike">
              <a:solidFill>
                <a:srgbClr val="ffff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poznanie zasady działania konkretnego rodzaju lasera.</a:t>
            </a:r>
            <a:endParaRPr b="0" lang="en-US" sz="2800" spc="-1" strike="noStrike">
              <a:solidFill>
                <a:srgbClr val="ffff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poznanie zasad np. depilacji z użyciem lasera.</a:t>
            </a:r>
            <a:endParaRPr b="0" lang="en-US" sz="2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ole tekstowe 1"/>
          <p:cNvSpPr/>
          <p:nvPr/>
        </p:nvSpPr>
        <p:spPr>
          <a:xfrm>
            <a:off x="539640" y="907920"/>
            <a:ext cx="806472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Filmy prezentujące zastosowanie lasera w kosmetologii.</a:t>
            </a:r>
            <a:endParaRPr b="0" lang="en-US" sz="36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83" name="Prostokąt 4"/>
          <p:cNvSpPr/>
          <p:nvPr/>
        </p:nvSpPr>
        <p:spPr>
          <a:xfrm>
            <a:off x="395280" y="3105000"/>
            <a:ext cx="8424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ff"/>
                </a:solidFill>
                <a:uFillTx/>
                <a:latin typeface="Arial"/>
                <a:hlinkClick r:id="rId1"/>
              </a:rPr>
              <a:t>http://www.youtube.com/watch?feature=player_detailpage&amp;v=ibA0_KKpZ1E</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184" name="Prostokąt 5"/>
          <p:cNvSpPr/>
          <p:nvPr/>
        </p:nvSpPr>
        <p:spPr>
          <a:xfrm>
            <a:off x="468360" y="4149720"/>
            <a:ext cx="8207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ff"/>
                </a:solidFill>
                <a:uFillTx/>
                <a:latin typeface="Arial"/>
                <a:hlinkClick r:id="rId2"/>
              </a:rPr>
              <a:t>http://www.youtube.com/watch?feature=player_detailpage&amp;v=ibA0_KKpZ1E</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ole tekstowe 1"/>
          <p:cNvSpPr/>
          <p:nvPr/>
        </p:nvSpPr>
        <p:spPr>
          <a:xfrm>
            <a:off x="395280" y="765000"/>
            <a:ext cx="8353440" cy="5885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ŹRÓDŁA:</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ff"/>
                </a:solidFill>
                <a:uFillTx/>
                <a:latin typeface="Arial"/>
                <a:hlinkClick r:id="rId1"/>
              </a:rPr>
              <a:t>http://www.instytucja.pan.pl/index.php?option=com_content&amp;view=article&amp;id=1892:metoda-pozy..%C2%A0</a:t>
            </a:r>
            <a:r>
              <a:rPr b="0" lang="pl-PL" sz="1800" spc="-1" strike="noStrike">
                <a:solidFill>
                  <a:srgbClr val="000000"/>
                </a:solidFill>
                <a:latin typeface="Arial"/>
              </a:rPr>
              <a:t>)</a:t>
            </a:r>
            <a:br>
              <a:rPr sz="1800"/>
            </a:br>
            <a:r>
              <a:rPr b="0" lang="pl-PL" sz="1800" spc="-1" strike="noStrike" u="sng">
                <a:solidFill>
                  <a:srgbClr val="0000ff"/>
                </a:solidFill>
                <a:uFillTx/>
                <a:latin typeface="Times New Roman"/>
                <a:hlinkClick r:id="rId2"/>
              </a:rPr>
              <a:t>http://www.wco.pl/pl/dla-pacjentow/co-i-jak-leczymy/brachyterapia/</a:t>
            </a:r>
            <a:endParaRPr b="0"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ff"/>
                </a:solidFill>
                <a:uFillTx/>
                <a:latin typeface="Arial"/>
                <a:hlinkClick r:id="rId3"/>
              </a:rPr>
              <a:t>http://glejak.com/noz-gamma-knife/</a:t>
            </a:r>
            <a:endParaRPr b="0"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ttp://www.wprost.pl/ar/146635/Chirurgia-bez-skalpela/</a:t>
            </a:r>
            <a:endParaRPr b="0"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ttp://www.if.pw.edu.pl/~pluta/pl/dyd/mtj/zal1/pz03/malinowska/pliki_html/metody_izotop.html</a:t>
            </a:r>
            <a:endParaRPr b="0"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ttp://www.zwrotnikraka.pl/jak_dziala_radioterapia-118</a:t>
            </a:r>
            <a:endParaRPr b="0"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ttp://www.onkologia.neostrada.pl/radioterapia.htm</a:t>
            </a:r>
            <a:endParaRPr b="0"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ttp://www.nowotworowe.pl/wskazania_do_radioterapii.htm</a:t>
            </a:r>
            <a:endParaRPr b="0"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ttp://zdrowie.gazeta.pl/Zdrowie/1,127688,12263519,Terapia_izotopem_jodu.html</a:t>
            </a:r>
            <a:endParaRPr b="0"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00"/>
                </a:solidFill>
                <a:latin typeface="Arial"/>
              </a:rPr>
              <a:t>http://www.cami-antiaging.eu/STRONA%20W%20BUDOWIE/07%20-%20KOSMETOLOGIA/07.-PREZENTACJE%20STUDENTOW%20KOSMETOLOGII/MagPrezStud/2011_rok/2011_ME_Gniewek-LaserowWKosmetyce.pdf</a:t>
            </a:r>
            <a:endParaRPr b="0"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Arial"/>
              </a:rPr>
              <a:t>Inżynieria Biomedyczna- Księga współczesnej wiedzy tajemnej w wersji przystępnej i przyjemnej.</a:t>
            </a:r>
            <a:r>
              <a:rPr b="0" lang="pl-PL" sz="1800" spc="-1" strike="noStrike">
                <a:solidFill>
                  <a:srgbClr val="000000"/>
                </a:solidFill>
                <a:latin typeface="Arial"/>
              </a:rPr>
              <a:t> </a:t>
            </a:r>
            <a:endParaRPr b="0"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d redakcją naukową Ryszarda Tadeusiewicza</a:t>
            </a:r>
            <a:endParaRPr b="0"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ubTitle"/>
          </p:nvPr>
        </p:nvSpPr>
        <p:spPr>
          <a:xfrm>
            <a:off x="1042920" y="549360"/>
            <a:ext cx="6400800" cy="107928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Zastosowanie aparatury RTG</a:t>
            </a:r>
            <a:endParaRPr b="0" lang="en-US" sz="3200" spc="-1" strike="noStrike">
              <a:solidFill>
                <a:srgbClr val="000000"/>
              </a:solidFill>
              <a:latin typeface="Arial"/>
            </a:endParaRPr>
          </a:p>
        </p:txBody>
      </p:sp>
      <p:sp>
        <p:nvSpPr>
          <p:cNvPr id="134" name="pole tekstowe 3"/>
          <p:cNvSpPr/>
          <p:nvPr/>
        </p:nvSpPr>
        <p:spPr>
          <a:xfrm>
            <a:off x="468360" y="1484280"/>
            <a:ext cx="835164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Współczesne aparaty RTG sterowane są komputerowo, co pozwala automatycznie dobrać parametry badania dla danego pacjenta. Mogą one wykonywać zdjęcia rentgenowskie oraz prześwietlenia na bieżąco oceniane przez lekarzy. Występują także aparaty do badań specjalistycznych, takich jak:</a:t>
            </a:r>
            <a:endParaRPr b="0" lang="en-US" sz="2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mammografia,</a:t>
            </a:r>
            <a:endParaRPr b="0" lang="en-US" sz="2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zdjęcia stomatologiczne</a:t>
            </a:r>
            <a:endParaRPr b="0" lang="en-US" sz="2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diagnostyka klatki piersiowej i serca,</a:t>
            </a:r>
            <a:endParaRPr b="0" lang="en-US" sz="2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diagnostyki układu kostnego.</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395280" y="404640"/>
            <a:ext cx="8640720" cy="3764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ea typeface="Arial"/>
              </a:rPr>
              <a:t>WYCIECZKA NR 1 :</a:t>
            </a:r>
            <a:endParaRPr b="0" lang="en-US" sz="2800" spc="-1" strike="noStrike">
              <a:solidFill>
                <a:srgbClr val="ffff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ea typeface="Arial"/>
              </a:rPr>
              <a:t>SZPITAL - PRACOWNIA RENTGENOWSKA  </a:t>
            </a:r>
            <a:endParaRPr b="0" lang="en-US" sz="2800" spc="-1" strike="noStrike">
              <a:solidFill>
                <a:srgbClr val="ffff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ea typeface="Arial"/>
              </a:rPr>
              <a:t>I RENTGENOWSKA PRACOWNIA </a:t>
            </a:r>
            <a:endParaRPr b="0" lang="en-US" sz="2800" spc="-1" strike="noStrike">
              <a:solidFill>
                <a:srgbClr val="ffff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ea typeface="Arial"/>
              </a:rPr>
              <a:t>STOMATOLOGICZNA.</a:t>
            </a:r>
            <a:endParaRPr b="0" lang="en-US" sz="2800" spc="-1" strike="noStrike">
              <a:solidFill>
                <a:srgbClr val="ffff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36" name="pole tekstowe 2"/>
          <p:cNvSpPr/>
          <p:nvPr/>
        </p:nvSpPr>
        <p:spPr>
          <a:xfrm>
            <a:off x="755640" y="3789360"/>
            <a:ext cx="770400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ele:</a:t>
            </a:r>
            <a:endParaRPr b="0" lang="en-US" sz="2400" spc="-1" strike="noStrike">
              <a:solidFill>
                <a:srgbClr val="ffff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poznanie się z budową i zasadą działania aparatu rentgenowskiego, oraz różnicami wynikającymi </a:t>
            </a:r>
            <a:br>
              <a:rPr sz="2400"/>
            </a:br>
            <a:r>
              <a:rPr b="0" lang="pl-PL" sz="2400" spc="-1" strike="noStrike">
                <a:solidFill>
                  <a:srgbClr val="000000"/>
                </a:solidFill>
                <a:latin typeface="Arial"/>
              </a:rPr>
              <a:t>z zastosowania aparatury do określonych celów.</a:t>
            </a:r>
            <a:endParaRPr b="0" lang="en-US" sz="2400" spc="-1" strike="noStrike">
              <a:solidFill>
                <a:srgbClr val="ffff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chrona radiologiczna wynikająca z zastosowania jonizującego promieniowania X.</a:t>
            </a:r>
            <a:endParaRPr b="0" lang="en-US" sz="24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539280" y="549000"/>
            <a:ext cx="8209080" cy="2158920"/>
          </a:xfrm>
          <a:prstGeom prst="rect">
            <a:avLst/>
          </a:prstGeom>
          <a:noFill/>
          <a:ln w="0">
            <a:noFill/>
          </a:ln>
        </p:spPr>
        <p:txBody>
          <a:bodyPr lIns="92160" rIns="92160" tIns="46080" bIns="46080" anchor="ctr">
            <a:no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Film prezentujący budowę i zasadę działania aparatu rentgenowskiego.</a:t>
            </a:r>
            <a:endParaRPr b="0" lang="en-US" sz="3600" spc="-1" strike="noStrike">
              <a:solidFill>
                <a:srgbClr val="000000"/>
              </a:solidFill>
              <a:latin typeface="Arial"/>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8" name="Prostokąt 3"/>
          <p:cNvSpPr/>
          <p:nvPr/>
        </p:nvSpPr>
        <p:spPr>
          <a:xfrm>
            <a:off x="468360" y="2852640"/>
            <a:ext cx="8207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ff"/>
                </a:solidFill>
                <a:uFillTx/>
                <a:latin typeface="Arial"/>
                <a:hlinkClick r:id="rId1"/>
              </a:rPr>
              <a:t>http://www.youtube.com/watch?feature=player_detailpage&amp;v=Gf4cP954YpM</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85440" y="260280"/>
            <a:ext cx="8134200" cy="6408720"/>
          </a:xfrm>
          <a:prstGeom prst="rect">
            <a:avLst/>
          </a:prstGeom>
          <a:noFill/>
          <a:ln w="0">
            <a:noFill/>
          </a:ln>
        </p:spPr>
        <p:txBody>
          <a:bodyPr lIns="92160" rIns="92160" tIns="46080" bIns="46080" anchor="ctr">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TOMOGRAFIA KOMPUTEROWA JAKO ALTERNATYWNA METODA DIAGNOSTYCZNA WYKORZYSTUJĄCA PROMIENIOWANIE X.</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ubTitle"/>
          </p:nvPr>
        </p:nvSpPr>
        <p:spPr>
          <a:xfrm>
            <a:off x="539280" y="333360"/>
            <a:ext cx="8209080" cy="2232000"/>
          </a:xfrm>
          <a:prstGeom prst="rect">
            <a:avLst/>
          </a:prstGeom>
          <a:noFill/>
          <a:ln w="0">
            <a:noFill/>
          </a:ln>
        </p:spPr>
        <p:txBody>
          <a:bodyPr lIns="92160" rIns="92160" tIns="46080" bIns="46080" anchor="ctr">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omografia komputerowa (CT – Computed Tomography) – jedna z nieinwazyjnych metod stosowanych w diagnostyce medycznej. Badanie za jej pomocą polega na wielokrotnym prześwietlaniu pacjenta odpowiednio uformowaną wiązką promieni rentgenowskich. Wkład w powstanie tomografii miał Godrey Hounsfield. Pierwszy raz użyto tej techniki w 1971 roku.</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1" name="Obraz 1" descr=""/>
          <p:cNvPicPr/>
          <p:nvPr/>
        </p:nvPicPr>
        <p:blipFill>
          <a:blip r:embed="rId1"/>
          <a:stretch/>
        </p:blipFill>
        <p:spPr>
          <a:xfrm>
            <a:off x="1116000" y="2852640"/>
            <a:ext cx="6480360" cy="3059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404640"/>
            <a:ext cx="8496000" cy="1368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r>
              <a:rPr b="1" lang="pl-PL" sz="1800" spc="-1" strike="noStrike">
                <a:solidFill>
                  <a:srgbClr val="000000"/>
                </a:solidFill>
                <a:latin typeface="Arial"/>
              </a:rPr>
              <a:t>BUDOWA I ZASADA DZIAŁANIA CT:</a:t>
            </a:r>
            <a:br>
              <a:rPr sz="1800"/>
            </a:br>
            <a:r>
              <a:rPr b="0" lang="pl-PL" sz="1800" spc="-1" strike="noStrike">
                <a:solidFill>
                  <a:srgbClr val="000000"/>
                </a:solidFill>
                <a:latin typeface="Arial"/>
              </a:rPr>
              <a:t>Najważniejsze elementy współczesnego tomografu to: przesuwny stół, gantry (brama), czyli element w kształcie pierścienia zawierający lampy rentgenowskie i detektory (rejestratory) promieniowania, a także komputer i system wizualizacji odtwarzający obraz.</a:t>
            </a:r>
            <a:endParaRPr b="0" lang="en-US" sz="1800" spc="-1" strike="noStrike">
              <a:solidFill>
                <a:srgbClr val="000000"/>
              </a:solidFill>
              <a:latin typeface="Arial"/>
            </a:endParaRPr>
          </a:p>
        </p:txBody>
      </p:sp>
      <p:pic>
        <p:nvPicPr>
          <p:cNvPr id="143" name="Obraz 2" descr=""/>
          <p:cNvPicPr/>
          <p:nvPr/>
        </p:nvPicPr>
        <p:blipFill>
          <a:blip r:embed="rId1"/>
          <a:stretch/>
        </p:blipFill>
        <p:spPr>
          <a:xfrm>
            <a:off x="1042920" y="1773360"/>
            <a:ext cx="6193080" cy="4424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3T21:40:34Z</dcterms:created>
  <dc:creator>Ministerstwo Edukacji Narodowej i Sportu</dc:creator>
  <dc:description/>
  <dc:language>en-US</dc:language>
  <cp:lastModifiedBy>wic</cp:lastModifiedBy>
  <dcterms:modified xsi:type="dcterms:W3CDTF">2013-07-22T08:57:49Z</dcterms:modified>
  <cp:revision>152</cp:revision>
  <dc:subject/>
  <dc:title>KORPUSKULARNO-FALOWA NATURA ŚWIATŁA</dc:title>
</cp:coreProperties>
</file>