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0AB-8295-470F-8CA3-99E3C208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782-D73D-4BAE-AE52-C921E51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2EF-580B-479B-ACE4-A4C2C97C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932-DE20-4907-B66E-7E0457AE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5DA-9241-43D6-B76E-E6052E43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4546-7887-4A37-8F89-07880BE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A0D-04E3-4194-AB7D-3734999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DFE-BC04-49DF-9E80-C3B5D36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0CD-BDBC-4129-B990-A2774742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C51-E3C8-478E-97C7-3DAFE01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6781-382F-4AAB-AAC9-E521180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C36-2CFF-40E9-930D-9C223379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41AF-BDB6-43C0-B54E-6C8CC98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2D4E-4443-45D5-9FDE-01444B7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572-FB9E-4A96-A5A7-330F385E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C77D-EABE-4E44-BF19-0ABA2AB6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6966-68FE-4C0B-8B4E-0EB1A851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EDB-80D8-43DB-AE0F-19B1B59E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D00-B953-4F7F-B046-8375A85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1A6-7C92-44D8-ADD1-1D8CF1A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D97-14DF-4B70-B72B-5D0DFB7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ACE-6D1D-412D-8CE8-7ABED54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C46-3AB3-44B0-B109-CF33CA9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2DF-EF94-4C13-ABF3-1371E45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57CB-A267-49EE-BF29-BA488671BB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8D9-4C28-4D5D-98BF-DCB71D6962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nonet.pl/index.php/nanobiblioteka/nanodydaktyka/2364-fulereny-fullereny" TargetMode="External"/><Relationship Id="rId2" Type="http://schemas.openxmlformats.org/officeDocument/2006/relationships/hyperlink" Target="http://nanoall.blogspot.com/2013/01/nanotechnology-instruments.html" TargetMode="External"/><Relationship Id="rId3" Type="http://schemas.openxmlformats.org/officeDocument/2006/relationships/hyperlink" Target="http://www.youtube.com/watch?feature=player_embedded&amp;v=7hZ5hinf9vo" TargetMode="External"/><Relationship Id="rId4" Type="http://schemas.openxmlformats.org/officeDocument/2006/relationships/hyperlink" Target="http://www.youtube.com/watch?feature=player_embedded&amp;v=iXcfm10bvZo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3484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ulereny i nanorurki węglowe jako elementy konstrukcyjne nanotechnologi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wodzenie prądu elektrycznego przez fulereny i nanorurk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korzystanie polimerów przewodzących w nanotechnologii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SEE!!! THIS IS HAPPENING NOW!! NANO TECHNOLOGY AND THE NWO BRAIN IMPLANTS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2" descr="Obrazek3.jpg"/>
          <p:cNvPicPr/>
          <p:nvPr/>
        </p:nvPicPr>
        <p:blipFill>
          <a:blip r:embed="rId1"/>
          <a:stretch/>
        </p:blipFill>
        <p:spPr>
          <a:xfrm>
            <a:off x="2540160" y="1898640"/>
            <a:ext cx="4063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373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odsum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notechnologia dostarczyła nam wiele nowych narzędzi do odkrywania systemów biologicznych w nanoskali. Sprowadzenie zjawisk zachodzących w pojedynczej komórce i pojedynczej cząsteczce na poziom badań eksperymentalnych jest ważnym krokiem w kierunku rozwoju zarówno konceptualnego, jak i „filozoficznego". Stwarza to także nadzieje na lepsze poznanie organizacji systemów biologicz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zminiaturyzowanych układów wykorzysty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zdzielaniu molekuł i ich analizie będzie nie tylko katalizować poznanie zjawisk na poziomie pojedynczej cząsteczki, ale także dostarczy nowych metod badawczych, w wyniku których genomowa rewolucja może ostateczne nabrać praktycznego znaczenia dzięki lepszemu zrozumieniu przyczyn wielu chorób oraz dzięki rozwojowi nowych procedur terapeut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drugiej strony, biologia komórki daje nanotechnologii niezwykłe przykłady urządzeń i maszyn w nanoskali. Mogą one być wykorzystane bezpośrednio w systemach hybrydowych lub służyć jako inspiracja do budowy urządzeń działających na tych samych zasadach fizyczn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az źródeł, które wykorzystano przy tworzeniu niniejszej prezentacj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NOTECHNOLOGIE” – redakcja naukowa Robert W. Kelsall, Ian W. Hamley i Mark Geoghegan - WYDAWNICTWO NAUKOWE PWN, WARSZAWA 2009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nanonet.pl/index.php/nanobiblioteka/nanodydaktyka/2364-fulereny-fuller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anoall.blogspot.com/2013/01/nanotechnology-instru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dresy URL filmó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Video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outube.com/watch?feature=player_embedded&amp;v=7hZ5hinf9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SEE!!! THIS IS HAPPENING NOW!! NANO TECHNOLOGY AND THE NWO BRAIN IMPLANTS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youtube.com/watch?feature=player_embedded&amp;v=iXcfm10bv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 New Nano  Flexible phones &amp; graphene gadgets in RT's Technology Update - http://www.youtube.com/watch?feature=player_embedded&amp;v=IN6xNuhmIM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neverwet fabrics - http://www.youtube.com/watch?feature=player_embedded&amp;v=YqGkC5uJ0y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1773360"/>
            <a:ext cx="6068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ulere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to cząsteczki węgla C60, C70, C76 i C84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kształcie sferycznej klatki, z wysyconymi wiązani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-C. Dobrym przykładem jest fuleren C60. Fulereny są twardymi kryształami o żółtej barwie w formie warst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średnicy około 0,7 nm (nanometra). W strukturze fulerenu wszystkie cząsteczki węgla mają te same właściwości przyłączające. Długość wiązania podwójnego wynosi 0,14 nm, a wiązania pojedynczego 0,146 n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phoca_thumb_l_f_9_15"/>
          <p:cNvPicPr/>
          <p:nvPr/>
        </p:nvPicPr>
        <p:blipFill>
          <a:blip r:embed="rId1"/>
          <a:stretch/>
        </p:blipFill>
        <p:spPr>
          <a:xfrm>
            <a:off x="468360" y="141300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60-fulleren-kristallin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 1991 roku Sumio Iijima odkrył - w „sadzy” powstałej przez przepuszczanie prądu między węglowymi elektrodami - nową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alotropową odmianę węgla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; koncentryczne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nanorurki węglowe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. Typowa średnice nanorurek to kilka nan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9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, zaś ich typowe długości kilka mikr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6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 wyjątkowo osiągają nawet kilka milimetr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Właściwości nanorurek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duł Younga  (na rozciąganie) wynosi 37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 gdy dla włókien węglowych maksymalnie sięga 8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rozerwanie nanorurek następuje gdy ich względne wydłużenie osiąga wartość 0,4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ulegają odkształceniom elastycznym(wydlużaniu, skręcaniu i zginaniu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ykazują odporność na wzrost temperatury do 70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C w powietrz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dobrze przewodzą ciepł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zatrzymywać we wnętrzu różne rodzaje atomów i cząsteczek; np. atomy srebra pozwalają wprowadzić do nanorurki dodatkowe elektrony </a:t>
            </a:r>
            <a:br>
              <a:rPr sz="1800"/>
            </a:b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i uzyskać nowe  właściwości przewodnictwa (nadprzewodnictw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przewodzić prądy o bardzo dużych  gęstościach sięgajacych nawet 1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9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A/cm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p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oniżej 20K  pojedyncze nanorurki stają się nadprzewodnikam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Co to jest nanotechnologia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notechnolog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est terminem obejmującym projektowanie, tworzenie oraz użytkowanie materiałów mających przynajmniej jeden wymiar, którego naturalną jednostką miary jest nanomet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teriały o takiej strukturze można tak zaprojektować, aby wykazywały pożądane właściwości fizyczne, chemiczne czy biologiczne dzięki ograniczonej wielkości tworzących je cząste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śli któryś z wymiarów struktury mieści się w zakresie od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do 100 nm, czyli znajduje się w przedziale, którego krańce z jednej strony wyznaczają odległości typowe dla pojedynczych atom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z drugiej zaś te spotykane w ciele stałym 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materiał może wykazywać właściwości znacznie odbiegające od właściwości pojedynczych atomów oraz typowych kryształ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sprawia, że nanotechnologia jest obiecującym obszarem badań umożliwiającym tworzenie materiałów o niespotykanych wcześniej właściwości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notechnology neverwet fabrics 1 skroc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Obraz 2" descr="Obrazek1.jpg"/>
          <p:cNvPicPr/>
          <p:nvPr/>
        </p:nvPicPr>
        <p:blipFill>
          <a:blip r:embed="rId1"/>
          <a:stretch/>
        </p:blipFill>
        <p:spPr>
          <a:xfrm>
            <a:off x="2522520" y="1898640"/>
            <a:ext cx="40989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notechnology Video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Obraz 3" descr="Obrazek2.jpg"/>
          <p:cNvPicPr/>
          <p:nvPr/>
        </p:nvPicPr>
        <p:blipFill>
          <a:blip r:embed="rId1"/>
          <a:srcRect l="11797" t="2916" r="11797" b="870"/>
          <a:stretch/>
        </p:blipFill>
        <p:spPr>
          <a:xfrm>
            <a:off x="2944800" y="1898640"/>
            <a:ext cx="3254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ndrzej</cp:lastModifiedBy>
  <dcterms:modified xsi:type="dcterms:W3CDTF">2013-08-25T07:34:00Z</dcterms:modified>
  <cp:revision>35</cp:revision>
  <dc:subject/>
  <dc:title>KORPUSKULARNO-FALOWA NATURA ŚWIATŁA</dc:title>
</cp:coreProperties>
</file>