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736B-9EB4-4310-B821-DB44F6E63E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62EE-B913-49E8-B32B-53414A4F3C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2444-9ADA-49DF-BDCA-2467BA2217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658-062A-489A-8C30-BAF5D891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3E3-5BAF-4E09-8127-5CED954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57D-A5D2-4E5F-BC92-3E201C4E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5C3-A03E-482B-9B0C-987D13F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54C-E078-476D-BD5D-3DAFEC65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35E3-2BCB-4F2B-8B0C-55AC0F49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AD9-C8F3-4D75-B71F-0A011B2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8B1-FDF8-43A1-9128-D83CF324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483C-364C-4DDE-A775-7AED023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34F-A2FE-4936-B9E1-F40CAB5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E648-090E-402A-A827-31D1D1C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CCF-D44C-43BD-990B-609DB378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FCF-B5A0-4762-883C-D90A1B6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E67-D054-4F7B-97D1-44B8DB7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C66E-78B4-411F-BF94-8BF7A69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897-51FF-4BFF-BAA3-9F444FD0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A6F3-A90A-43A3-B833-69639255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A19-EF0C-4485-A0E9-4F73DE70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34F-9BB1-40B4-920E-00EE3EB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2D5-A3C8-4643-8379-AFC1B31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CD1-A247-40C5-AC94-0E2E8CD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23F-A76B-4648-9FE6-7980F28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8D4-0117-44EE-BBBF-4990207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4FE-F438-4EFA-A03D-4FED5E8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1429-A0DA-46F9-A947-56D7583FE4A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81BD-A11A-4FDE-A082-7E9776EC2F6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</a:t>
            </a:r>
            <a:br>
              <a:rPr sz="4900"/>
            </a:b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ezentacja – poziom I.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teriał bazowy do dalszych poziomów (II i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65300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otostarzenie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1628280"/>
            <a:ext cx="849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ńcu XIX wieku zauważono patologiczny wpływ promieniowania słonecznego na skór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grubienie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odzenie melanocy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grubienie i bezład włókien elastycznych (elastoza), zwyrodnienie włókien kolagen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niejszenie liczby komórek (Langerhan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jawy fotostarzenia się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zczenie się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orstkość naskórka (rogowacen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 o zróżnicowanej intensywności(plamy, pieg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wisłość i zmarszcz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ejscowo: zmniejszenie odporności (immunosupresj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udzie różnią się wrażliwością skóry na światło. Fotytypy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Fitzpatric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admin.depilconcept.pl/dir_upload/site/files/Ania/tabelka_fototypy.JPG"/>
          <p:cNvPicPr/>
          <p:nvPr/>
        </p:nvPicPr>
        <p:blipFill>
          <a:blip r:embed="rId1"/>
          <a:stretch/>
        </p:blipFill>
        <p:spPr>
          <a:xfrm>
            <a:off x="395280" y="2349360"/>
            <a:ext cx="8169120" cy="3527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3"/>
          <p:cNvSpPr/>
          <p:nvPr/>
        </p:nvSpPr>
        <p:spPr>
          <a:xfrm>
            <a:off x="46836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dmin.depilconcept.pl/dir_upload/site/files/Ania/tabelka_fototyp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3"/>
          <p:cNvSpPr/>
          <p:nvPr/>
        </p:nvSpPr>
        <p:spPr>
          <a:xfrm>
            <a:off x="539640" y="191628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to barwniki, występujące u grzybów, roślin i zwierząt. Powstają podczas utleniania związków fenolowych (najczęstszym jest aminokwas tyrozy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a melanin: od czarnobrązowej po żółtoczerwoną. Zabarwiają skórę, tęczówkę oka, włosy, sierść i pióra, brodawki sut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324000" y="213372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znajdują się w komórkach melanocyt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rakcie życia osobnika nie zmienia się ilość melanocytów, ale to nie ilość melanocytów, lecz stosunek  ilościowy melanin determinuje zabarwienie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wiązku z tym, wyróżniamy rasy ludzkie: celtycką, kaukaską i negroid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484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) Ochrona przed promieniowaniem UV (absorpcja i rozpraszanie UV, zamiana energii, którą niesie fala na ciepł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) Eliminacja wolnych rodników, które powstają podczas metabolizmu tlenowego w komó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p.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niesparowany elektron,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dający ogromną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tywność rodnikowi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ydroksylowe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ipsa 3"/>
          <p:cNvSpPr/>
          <p:nvPr/>
        </p:nvSpPr>
        <p:spPr>
          <a:xfrm>
            <a:off x="1332000" y="4653000"/>
            <a:ext cx="12204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ipsa 4"/>
          <p:cNvSpPr/>
          <p:nvPr/>
        </p:nvSpPr>
        <p:spPr>
          <a:xfrm>
            <a:off x="3059280" y="4653000"/>
            <a:ext cx="136440" cy="136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dy powstają wolne rodni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468360" y="1916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wiele źródeł pochodzenia wolnych rodników. Tworzą się w strukturach komórkowych (np. mitochondriach), ale ich źródłem pozakomórkowym jest np. promieniowanie ultrafioletowe, promieniowanie jonizują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olne rodniki w starzeniu się komórek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539640" y="21337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rodniki są bardzo reaktywne. Rodnik hydroksylowy i singletowy tlen w reakcja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wasami nukleinowymi, powodują uszkadzanie wiązań fosfodiest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ją różne struktury komórkowe: błony komórkowe, utleniają białka enzymatyczne, powodują peroksydację lipid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twarzanie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elaniny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st naturalną fotoprotek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2421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rócz melaniny, do naturalnej  fotoprotekcji należą komórki warstwy rogowej naskórka, które odbijają część promieni świet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taką rolę (odbijanie światła) ma warstwa lipidowa naskórka,  oraz niektóre składniki po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równo czynniki endogen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i egzogenne, uszkadzające DNA, odgrywają rolę w procesie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539640" y="357336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wodów na to dostarczają badania nad zespołami chorobowymi, w których występuje przedwczesne starzenie się, np. zespół Hutchinsona-Gilforda, zespół Wern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Symbol zastępczy zawartości 3" descr="starzenie.jpg"/>
          <p:cNvPicPr/>
          <p:nvPr/>
        </p:nvPicPr>
        <p:blipFill>
          <a:blip r:embed="rId1"/>
          <a:stretch/>
        </p:blipFill>
        <p:spPr>
          <a:xfrm>
            <a:off x="1816200" y="1676520"/>
            <a:ext cx="5675040" cy="399888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4"/>
          <p:cNvSpPr/>
          <p:nvPr/>
        </p:nvSpPr>
        <p:spPr>
          <a:xfrm>
            <a:off x="324000" y="5732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encryptedtbn2.gstatic.com/images?q=tbn:ANd9GcSGqcZ1SUDIq8d52fY5q4qIm8puZlqpiizxPpPn0jkz2yVvR9k4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spół Hutchinsona-Gilforda,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którym występuje przedwczesne starzenie(także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53564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Prostokąt 4"/>
          <p:cNvSpPr/>
          <p:nvPr/>
        </p:nvSpPr>
        <p:spPr>
          <a:xfrm>
            <a:off x="179280" y="5661000"/>
            <a:ext cx="871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google.pl/url?sa=t&amp;rct=j&amp;q=&amp;esrc=s&amp;source=web&amp;cd=1&amp;cad=rja&amp;ved=0CC8QFjAA&amp;url=http%3A%2F%2Fcdg.unimuenster.de%2FArtikel%2FSeminararbeit_Pues.pdf&amp;ei=22zYUdvSDMnKtQaz1ID4BQ&amp;usg=AFQjCNEc1HP0i8jJ8nFJ8ISnO60hPs1vw&amp;bvm=bv.48705608,d.Y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poptoza  w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7002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poptoza - (PWN) - śmierć komórki zachodzą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drowym organizmie w wyniku genetycznie zaprogramowanych proces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ą doniesienia literaturowe o wpływie wysokiego stężenia wolnych rodników na „nakierowywanie” komórek na drogę apoptozy, co w skórze prowadzi do szybszego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2"/>
          <p:cNvSpPr/>
          <p:nvPr/>
        </p:nvSpPr>
        <p:spPr>
          <a:xfrm>
            <a:off x="468360" y="213372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toprotekcja UV, czyli zmiejszanie  nasłonecznienia, poprzez stosowanie filtrów SPF (Sun Protection Factor), stosowane przeciw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zapobiegania odległej pigmentacji (PPD – Persistant Pigment arkening), jest stosowana wobec  promieniowania U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aty przeciwsłone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2"/>
          <p:cNvSpPr/>
          <p:nvPr/>
        </p:nvSpPr>
        <p:spPr>
          <a:xfrm>
            <a:off x="395280" y="134928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preparaty przeciwsłoneczne (ekrany słoneczne), były stosowane w 1928 roku. Preparat wówczas zastosowany zawierał: salicylan benzylu i cynamonian benzy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walk w czasie II wojny światowej, w działaniach na obszarach, szczególnie narażonych na promieniowanie ultrafioletowe, żołnierze zaopatrywani byli w protektory z PABA (kwasem p-aminobenzoes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try chemiczne (organiczne)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fizyczne (mineral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395280" y="1989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chemi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kają w naskórek. Związki chemiczne w nich stosowane, mają taką budowę, że pochłaniając energię fali (UVB), izomeryzując, zamieniają jej energię 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fizy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 nie wnikają w głąb skóry, tworząc na jej powierzchni warstwę odbijającą UVA i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jednak ”uciążliwe” w stosowaniu (poświata na skórze, ślady na ubrani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ole tekstowe 2"/>
          <p:cNvSpPr/>
          <p:nvPr/>
        </p:nvSpPr>
        <p:spPr>
          <a:xfrm>
            <a:off x="468360" y="90792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również podkreślić, że według doniesień literaturowych, metabolity PABA, związku stosowanego w filtrach chemicznych, mogą mieć znaczenie kancerogenne. Nie ma filtra, który w 100% zatrzymałby każdy rodzaj promieniowania U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stosowanie filtrów „usypia” czujność, mianowicie brak oparzeń wywołanych przez UVB, sprawia, że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czas ekspozycji na UVA, o wiele bardziej groźną falę, może być zwiększon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rójkąt równoramienny 3"/>
          <p:cNvSpPr/>
          <p:nvPr/>
        </p:nvSpPr>
        <p:spPr>
          <a:xfrm>
            <a:off x="755640" y="692280"/>
            <a:ext cx="7201080" cy="5473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istnieje bezpieczne  opal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jmowane leki + słońce = fotouczul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s://encrypted-tbn2.gstatic.com/images?q=tbn:ANd9GcS4-ZslCMqvjl4F1FLpy7f8FwcybcoMOy61roYVDrIPyo12c0Cz"/>
          <p:cNvPicPr/>
          <p:nvPr/>
        </p:nvPicPr>
        <p:blipFill>
          <a:blip r:embed="rId1"/>
          <a:srcRect l="31094" t="23543" r="31094" b="27913"/>
          <a:stretch/>
        </p:blipFill>
        <p:spPr>
          <a:xfrm>
            <a:off x="3348000" y="33336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6836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roteny, czyli prowitaminy witaminy A, Retinoidy, czyli pochodne witaminy A (naturalne albo syntetyczn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one od dawna dodatkami do kosmetyków (alfa-, beta-, gamma-karoten), ksantofile (tlenowe pochodne karotenoidów). W ludzkim organizmie i innych zwierząt, są enzymatycznie przekształcane w witaminę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ta-karoten jest antyoksydan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A w przeciwdziałaniu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68360" y="206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łaściwe i systematyczne stosowanie witaminy A w kosmetykach (kremy), działa stymulująco na komórki skóry właściwej, poprawia elastyczność, odżyw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, jeżeli dodatkowo, doustnie będzie dostarczana witamina A, w zbyt dużych dawkach, to istnieje możliwość hiperwitaminozy – co doprowadzić może do patologicznych zmian skór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E („mieszanina” tokoferol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395280" y="2060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tamina E jest antyoksydantem, czyli cząsteczką „przyjmującą na siebie” atak wolnych rodnik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roni komórki przed utlenianiem, niweluje plamy starcze, w odpowiednich dawkach jest współprotektorem 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rzenie się to proces fizjologiczny, nieodwracaln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ymbol zastępczy zawartości 5" descr=""/>
          <p:cNvPicPr/>
          <p:nvPr/>
        </p:nvPicPr>
        <p:blipFill>
          <a:blip r:embed="rId1"/>
          <a:stretch/>
        </p:blipFill>
        <p:spPr>
          <a:xfrm>
            <a:off x="822240" y="1901880"/>
            <a:ext cx="7871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ymbol zastępczy zawartości 4" descr=""/>
          <p:cNvPicPr/>
          <p:nvPr/>
        </p:nvPicPr>
        <p:blipFill>
          <a:blip r:embed="rId1"/>
          <a:stretch/>
        </p:blipFill>
        <p:spPr>
          <a:xfrm>
            <a:off x="682560" y="817560"/>
            <a:ext cx="808992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2"/>
          <p:cNvSpPr/>
          <p:nvPr/>
        </p:nvSpPr>
        <p:spPr>
          <a:xfrm>
            <a:off x="1117800" y="5732640"/>
            <a:ext cx="49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(*) –zostanie omówiona w prezentacji I (bazow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ymbol zastępczy zawartości 3" descr=""/>
          <p:cNvPicPr/>
          <p:nvPr/>
        </p:nvPicPr>
        <p:blipFill>
          <a:blip r:embed="rId1"/>
          <a:stretch/>
        </p:blipFill>
        <p:spPr>
          <a:xfrm>
            <a:off x="480960" y="689040"/>
            <a:ext cx="8224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to największy organ ludzkiego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kóra- Przekrój"/>
          <p:cNvPicPr/>
          <p:nvPr/>
        </p:nvPicPr>
        <p:blipFill>
          <a:blip r:embed="rId1"/>
          <a:srcRect l="0" t="0" r="22094" b="0"/>
          <a:stretch/>
        </p:blipFill>
        <p:spPr>
          <a:xfrm>
            <a:off x="826920" y="1700280"/>
            <a:ext cx="7058160" cy="46479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5"/>
          <p:cNvSpPr/>
          <p:nvPr/>
        </p:nvSpPr>
        <p:spPr>
          <a:xfrm>
            <a:off x="2264400" y="6021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osmetyczny.blox.pl/resource/skora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Prostokąt 15"/>
          <p:cNvGrpSpPr/>
          <p:nvPr/>
        </p:nvGrpSpPr>
        <p:grpSpPr>
          <a:xfrm>
            <a:off x="317520" y="1620720"/>
            <a:ext cx="8582040" cy="1238400"/>
            <a:chOff x="317520" y="1620720"/>
            <a:chExt cx="8582040" cy="1238400"/>
          </a:xfrm>
        </p:grpSpPr>
        <p:pic>
          <p:nvPicPr>
            <p:cNvPr id="109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162072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4000" y="162864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 jakich warstw skóry docier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kóra- Przekrój"/>
          <p:cNvPicPr/>
          <p:nvPr/>
        </p:nvPicPr>
        <p:blipFill>
          <a:blip r:embed="rId2"/>
          <a:srcRect l="0" t="0" r="22094" b="0"/>
          <a:stretch/>
        </p:blipFill>
        <p:spPr>
          <a:xfrm>
            <a:off x="250920" y="2997360"/>
            <a:ext cx="6121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280" y="6092640"/>
            <a:ext cx="18396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załka w dół 5"/>
          <p:cNvSpPr/>
          <p:nvPr/>
        </p:nvSpPr>
        <p:spPr>
          <a:xfrm>
            <a:off x="3132000" y="1557360"/>
            <a:ext cx="484200" cy="1655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6"/>
          <p:cNvSpPr/>
          <p:nvPr/>
        </p:nvSpPr>
        <p:spPr>
          <a:xfrm>
            <a:off x="3569760" y="19162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załka w dół 7"/>
          <p:cNvSpPr/>
          <p:nvPr/>
        </p:nvSpPr>
        <p:spPr>
          <a:xfrm>
            <a:off x="3276720" y="3284640"/>
            <a:ext cx="142920" cy="360360"/>
          </a:xfrm>
          <a:prstGeom prst="downArrow">
            <a:avLst>
              <a:gd name="adj1" fmla="val 50000"/>
              <a:gd name="adj2" fmla="val 5042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załka w dół 8"/>
          <p:cNvSpPr/>
          <p:nvPr/>
        </p:nvSpPr>
        <p:spPr>
          <a:xfrm>
            <a:off x="5580000" y="1557360"/>
            <a:ext cx="216000" cy="31669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9"/>
          <p:cNvSpPr/>
          <p:nvPr/>
        </p:nvSpPr>
        <p:spPr>
          <a:xfrm>
            <a:off x="5865840" y="206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Łącznik łamany 12"/>
          <p:cNvCxnSpPr/>
          <p:nvPr/>
        </p:nvCxnSpPr>
        <p:spPr>
          <a:xfrm flipV="1" rot="16200000">
            <a:off x="2302920" y="2601360"/>
            <a:ext cx="937440" cy="575640"/>
          </a:xfrm>
          <a:prstGeom prst="bentConnector3">
            <a:avLst>
              <a:gd name="adj1" fmla="val 49980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20" name="Strzałka w dół 13"/>
          <p:cNvSpPr/>
          <p:nvPr/>
        </p:nvSpPr>
        <p:spPr>
          <a:xfrm>
            <a:off x="7308720" y="1557360"/>
            <a:ext cx="792360" cy="10796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4"/>
          <p:cNvSpPr/>
          <p:nvPr/>
        </p:nvSpPr>
        <p:spPr>
          <a:xfrm>
            <a:off x="8105040" y="1916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16"/>
          <p:cNvSpPr/>
          <p:nvPr/>
        </p:nvSpPr>
        <p:spPr>
          <a:xfrm>
            <a:off x="396720" y="15573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Prostokąt 15"/>
          <p:cNvGrpSpPr/>
          <p:nvPr/>
        </p:nvGrpSpPr>
        <p:grpSpPr>
          <a:xfrm>
            <a:off x="317520" y="2127240"/>
            <a:ext cx="8582040" cy="1238400"/>
            <a:chOff x="317520" y="2127240"/>
            <a:chExt cx="8582040" cy="1238400"/>
          </a:xfrm>
        </p:grpSpPr>
        <p:pic>
          <p:nvPicPr>
            <p:cNvPr id="124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212724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213372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dział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4076640"/>
            <a:ext cx="21920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oduje  oparzenia słonecz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załka w dół 5"/>
          <p:cNvSpPr/>
          <p:nvPr/>
        </p:nvSpPr>
        <p:spPr>
          <a:xfrm>
            <a:off x="900000" y="1700280"/>
            <a:ext cx="339840" cy="2089080"/>
          </a:xfrm>
          <a:prstGeom prst="downArrow">
            <a:avLst>
              <a:gd name="adj1" fmla="val 50000"/>
              <a:gd name="adj2" fmla="val 5014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6"/>
          <p:cNvSpPr/>
          <p:nvPr/>
        </p:nvSpPr>
        <p:spPr>
          <a:xfrm>
            <a:off x="1193400" y="2852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załka w dół 8"/>
          <p:cNvSpPr/>
          <p:nvPr/>
        </p:nvSpPr>
        <p:spPr>
          <a:xfrm>
            <a:off x="3564000" y="1700280"/>
            <a:ext cx="216000" cy="25207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9"/>
          <p:cNvSpPr/>
          <p:nvPr/>
        </p:nvSpPr>
        <p:spPr>
          <a:xfrm>
            <a:off x="3778200" y="27813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załka w dół 13"/>
          <p:cNvSpPr/>
          <p:nvPr/>
        </p:nvSpPr>
        <p:spPr>
          <a:xfrm>
            <a:off x="6516720" y="1628640"/>
            <a:ext cx="792000" cy="1656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4"/>
          <p:cNvSpPr/>
          <p:nvPr/>
        </p:nvSpPr>
        <p:spPr>
          <a:xfrm>
            <a:off x="7528680" y="2708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6"/>
          <p:cNvSpPr/>
          <p:nvPr/>
        </p:nvSpPr>
        <p:spPr>
          <a:xfrm>
            <a:off x="1836000" y="21337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7"/>
          <p:cNvSpPr/>
          <p:nvPr/>
        </p:nvSpPr>
        <p:spPr>
          <a:xfrm>
            <a:off x="2556000" y="422100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 na głębsze warstwy skóry właściwej -fotostarz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18"/>
          <p:cNvSpPr/>
          <p:nvPr/>
        </p:nvSpPr>
        <p:spPr>
          <a:xfrm>
            <a:off x="5651640" y="3357720"/>
            <a:ext cx="37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wie  w całości pochłaniane przez warstwę ozo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łaściwości bakteriobójcze. Może uszkodzić rogówk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dmierna ekspozycja na promieniowanie ultrafioletowe jest w 80 % odpowiedzialna za starzenie się skó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3357720"/>
            <a:ext cx="8362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orzenie wolnych rodni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cje fotoaler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ni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rofia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nowotwor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01:38Z</dcterms:modified>
  <cp:revision>32</cp:revision>
  <dc:subject/>
  <dc:title>Slajd 1</dc:title>
</cp:coreProperties>
</file>