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A39C-ED09-41A7-9F4F-3180BE29FCF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9E3A-2647-438C-85CD-75E47FC604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BC3-4CEA-4F81-89C6-29331F53AA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7DD-E37F-4A63-A78F-3A53899B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5C8-97EE-434F-B1E2-4D3A495B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EA1-BDC8-4F4A-9E98-BBCDC703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527-319B-479E-835C-AF01A430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408C-E3B6-4FD7-9F49-5B9EC51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08D-1F1A-4BB8-B45B-86F65C3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918B-87B5-4209-A4EF-FCAAF18C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36CC-1DDB-447A-B2CC-2F70174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281-35E3-424B-8A4A-56E8183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4E6-1689-469B-8276-5A318C5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CAE8-3C29-4738-8478-6DBB4B4B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E19-C6EB-4372-82CE-11BD2CE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BCE-DB6C-405B-9DBD-9FC04EB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9DD-211D-4325-AB25-856E2FC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E1BC-0498-4E6D-85C1-1FA824A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9A81-C4C2-41CC-8E10-20DEA477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400-7158-49E8-AABF-DC85D446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A10-7853-4E3D-97B2-E4C2D5CD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2DD-25EA-4F48-BC6A-604E343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376-9055-4CD5-9C4C-02741DC2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34E-A397-4611-83A6-00233464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5BA-5F63-4014-8FF6-19D08D7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BD0-1195-4FBD-8425-C2B76DA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5BC-5AEF-454E-8B8B-7D4F8A9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42A-5B93-4802-B143-AB5444759BE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93EE-9B76-4FD8-BD63-5B9A1035BF6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49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6000" y="6021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 pod napięciem, wytwarza krótki impuls, według wyliczeń, przy średniej prędkości fal ultradźwiękowych  w tkankach i penetracji około 20 cm, echo wraca w czasie 0,25 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wyniku badania otrzymujemy na osi (poziomej) ekranu – czas powrotu echa, jest 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tak zwana metoda –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196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0 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upa 6"/>
          <p:cNvGrpSpPr/>
          <p:nvPr/>
        </p:nvGrpSpPr>
        <p:grpSpPr>
          <a:xfrm>
            <a:off x="1042920" y="2060640"/>
            <a:ext cx="7434000" cy="3170160"/>
            <a:chOff x="1042920" y="2060640"/>
            <a:chExt cx="7434000" cy="3170160"/>
          </a:xfrm>
        </p:grpSpPr>
        <p:pic>
          <p:nvPicPr>
            <p:cNvPr id="211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1042920" y="2060640"/>
              <a:ext cx="396108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2" name="Łącznik prosty ze strzałką 4"/>
            <p:cNvCxnSpPr/>
            <p:nvPr/>
          </p:nvCxnSpPr>
          <p:spPr>
            <a:xfrm flipH="1">
              <a:off x="2626560" y="3715560"/>
              <a:ext cx="302508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3" name="pole tekstowe 8"/>
            <p:cNvSpPr/>
            <p:nvPr/>
          </p:nvSpPr>
          <p:spPr>
            <a:xfrm>
              <a:off x="558648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385840" cy="5434200"/>
            <a:chOff x="395280" y="907920"/>
            <a:chExt cx="838584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720" cy="122400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7954200" cy="5434200"/>
              <a:chOff x="826920" y="907920"/>
              <a:chExt cx="795420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7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400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4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2000" y="1196640"/>
                <a:ext cx="216072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45640" y="5589720"/>
                <a:ext cx="25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-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04Z</dcterms:modified>
  <cp:revision>50</cp:revision>
  <dc:subject/>
  <dc:title>Slajd 1</dc:title>
</cp:coreProperties>
</file>