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A78-6A33-4354-AA0D-7F0EC41BFB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7AA-0D65-4BDE-9F2A-67E69272EB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765-C9D2-4B7A-BBFC-2F7C675AB0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604-56F0-4377-80B2-64B7B8EE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F28-B5C5-4044-AC2B-43C9154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3A8-0BD4-4AD8-9056-35D2BD52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BB3-6639-4CDD-9E86-2CDA8CAE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BCC5-2E1C-4A5C-974B-FEB65430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2A9-FD9F-4A65-A268-15B6947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7D13-460B-411D-9B5B-A2453E7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63D-A439-4847-9BF6-A5F5EEDF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BFE-7030-4B1E-B608-7A493BD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998-2B07-426A-810A-755CD9A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9E04-83FC-4CE9-B871-1975C92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E86-9FB2-49CB-B6EB-F48287E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99F-D832-4011-82EF-8C9E0BF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31C1-C701-4929-8CF1-62D55E2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B53A-C0D2-4B9E-8DC0-81125533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246E-24C6-4292-B342-BA5D5D39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6F39-29D7-4AF6-9456-4BC289C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5F2-AE40-4369-8E73-D72AA966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C84-F5BB-4A38-A299-176465F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591-5FC0-42F5-8D12-578EF19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051-DB1F-4FB6-BA6C-A07192E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B7A-8596-48D4-BA3C-042D7A4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A7D-8C75-4059-AC07-AE7C0AE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0A6-0BD5-4F68-84D5-0C7620E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8C9-95D1-4EB1-AB21-8F7AA4B8174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DF5-825B-498F-B6D5-BCC65CAE352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9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teriały przygotowujące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826920" y="4437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476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lokowanie przepływu krwi w naczyniach może byś spowodowane skrzepami, które kumulują się najczęściej w miejscach zwężenia tęt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ężenie tętnic postępuje z wiekiem. Palenie papierosów, stres, otyłość to czynniki podnoszące ryzyko. Brak ruchu, na przykład po dłuższym unieruchomieniu (hipokinezja), wpływa na zwolnienie przepływu krwi, a to jest jednym z czynników zwiększających ryzyko zakrzep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468360" y="98100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wnątrz żył znajdują się niewielkie „płatki”, pracujące w jednym kierunku zastawki, które –zamykając się – uniemożliwiają cofanie się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ściana żył traci elastyczność, to zastawki nieprawidłowo funkcjonują, nie są szczelne, krew cofa się, co powoduje obrzęki i powiększanie się żył, a nawet zgrub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1"/>
          <p:cNvSpPr/>
          <p:nvPr/>
        </p:nvSpPr>
        <p:spPr>
          <a:xfrm>
            <a:off x="468360" y="83664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zdrowia, a nawet życia groźne jest zablokowanie przepływu krwi, w wyniku czego powstaj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krwienny udar mózg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tętnicy płuc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naczyń wień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, duży skrzep usuwany jest chirurgicznie, zatem bardzo ważna jest lokalizacja skrzep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51280" y="404640"/>
            <a:ext cx="3097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. Prawidłowy przepływ krwi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. Nieprawidłowy  przepływ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artmed.net/data/uploads/page/usgdoppler02.jpg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36112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4"/>
          <p:cNvSpPr/>
          <p:nvPr/>
        </p:nvSpPr>
        <p:spPr>
          <a:xfrm>
            <a:off x="1837800" y="1341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638520" y="119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6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-7G8gdGXZ7A/T5EnFtsyKMI/AAAAAAAACvM/CYApri7GgVw/s1600/varices-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dopplerowsk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395280" y="1484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badanie, dające dodatkową informację o kierunku przepływu krwi, o funkcjonowaniu zastawek. W obrazie uzyskanym tą metodą widoczne jest, gdzie wolniej (w porównaniu do wzorca) płynie krew, widać także, gdzie się cof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e to pozwala na wykrywanie zwężeń naczyń krwionośnych, pozwala na śledzenie przekroju  naczyń, ich u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www.sonomedszczecin.pl/wp-content/gallery/glowna/17.jpg"/>
          <p:cNvPicPr/>
          <p:nvPr/>
        </p:nvPicPr>
        <p:blipFill>
          <a:blip r:embed="rId1"/>
          <a:stretch/>
        </p:blipFill>
        <p:spPr>
          <a:xfrm>
            <a:off x="1692360" y="1917720"/>
            <a:ext cx="548316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Prostokąt 3"/>
          <p:cNvSpPr/>
          <p:nvPr/>
        </p:nvSpPr>
        <p:spPr>
          <a:xfrm>
            <a:off x="1187280" y="5805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onomedszczecin.pl/wp-content/gallery/glowna/17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4762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badania USG opartego o zjawisko Dopp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539640" y="9079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u dopplerowskim, emitowane przez głowicę ultradźwięki odbijają się od poruszającej się „masy krwinek” w naczyniach, odbicie powraca do głowicy (sondy). Zbliżanie się przeszkody, od której odbija się fala, czyli krwinek – powoduje wzrost częstotliwości, oddalanie zaś – zmniejszenie częstotliwości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te są rejestrowane i wyrażane na monit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cja dopplerowska w badaniu USG – polega na uwidocznieniu widma przepływ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2708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chnicznie metoda ta nie różni się od metody USG, ale uzyskany w badaniu wykres, jest odwzorowaniem prędkości ruchu krwi w czasie, przez obszar wyznaczony (nazywany bramką dopplerowską – czyli wydzielony fragment światła naczynia krwionośnego, każdorazowo badan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onywanie badania dopple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3"/>
          <p:cNvSpPr/>
          <p:nvPr/>
        </p:nvSpPr>
        <p:spPr>
          <a:xfrm>
            <a:off x="61128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worldwidewounds.com/2001/march/Vowden/images/doppler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worldwidewounds.com/2001/march/Vowden/images/doppler4.jpg"/>
          <p:cNvPicPr/>
          <p:nvPr/>
        </p:nvPicPr>
        <p:blipFill>
          <a:blip r:embed="rId1"/>
          <a:stretch/>
        </p:blipFill>
        <p:spPr>
          <a:xfrm>
            <a:off x="1776240" y="1844640"/>
            <a:ext cx="5591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kończy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"/>
          <p:cNvSpPr/>
          <p:nvPr/>
        </p:nvSpPr>
        <p:spPr>
          <a:xfrm>
            <a:off x="468360" y="1989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nia kończyn, wokół ud, podudzi oraz kostek (na zdjęciu – poprzedni slajd), umieszcza się mankiety mierzące ciśnie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o, oprócz obrazu na monitorze, sygnał dźwiękowy wskazuje wartość ciśnienia krwi w odpowiednim czasie trwania bad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ie będziemy mówi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filatelisty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th.physik.uni-frankfurt.de/%7Ejr/gif/stamps/stamp_doppler.jpg"/>
          <p:cNvPicPr/>
          <p:nvPr/>
        </p:nvPicPr>
        <p:blipFill>
          <a:blip r:embed="rId1"/>
          <a:stretch/>
        </p:blipFill>
        <p:spPr>
          <a:xfrm>
            <a:off x="395280" y="191628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5"/>
          <p:cNvSpPr/>
          <p:nvPr/>
        </p:nvSpPr>
        <p:spPr>
          <a:xfrm>
            <a:off x="395280" y="59500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th.physik.uni-frankfurt.de/~jr/gif/stamps/stamp_dop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6"/>
          <p:cNvSpPr/>
          <p:nvPr/>
        </p:nvSpPr>
        <p:spPr>
          <a:xfrm>
            <a:off x="3708360" y="1844640"/>
            <a:ext cx="4824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zta Republiki Austrii upamiętniła 150 rocz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nia tak zwanego efektu Doppler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znaczek wydany w 1992 rok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468360" y="333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dopplerowskie w kontroli ciąż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395280" y="1916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ntroli przebiegu ciąży bardzo istotne jest prawidłowe krążenie maciczno – płodowe. Krążenie w tętnicach macicznych, tętn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żyle pępowinowej, naczyniach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prawidłowy przepływ krwi, wykazany w badaniach dopplerowskich jest ISTOTNYM wskazaniem do monitorowania przebiegu ciąży, gdyż może doprowadzić do zagrożenia życia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rostokąt 2"/>
          <p:cNvSpPr/>
          <p:nvPr/>
        </p:nvSpPr>
        <p:spPr>
          <a:xfrm>
            <a:off x="539640" y="1268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1803 – 1853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odzony w Salzburgu, profesor fizyki doświadczalnej Uniwersytetu Wiedeński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1842 opublikował pracę „O kolorowym świetle gwiazd podwójnych”, uzasadnił w niej obserwowane w optyce i akustyce zjawisko, polegające na zmianie częstotliwości fal, przy ruchu względnym obserwatora i źródła f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ciąg i grająca orkiest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2"/>
          <p:cNvSpPr/>
          <p:nvPr/>
        </p:nvSpPr>
        <p:spPr>
          <a:xfrm>
            <a:off x="53964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ś na drodze, pomiędzy Utrech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Amsterdamem, w czerwcu 1845 roku, Christoph Diederid Buys Balled potwierdza doświadczalnie, że zmienia się częstotliwość fal rejestrowanych przez odbiorcę, gdy źródło fal jest w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ym celu wykonuje doświadczenie na stacji kolejowej, a nie w laboratoriu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jiansma.com/wp-content/uploads/2013/05/efek-dopler.jpg"/>
          <p:cNvPicPr/>
          <p:nvPr/>
        </p:nvPicPr>
        <p:blipFill>
          <a:blip r:embed="rId1"/>
          <a:stretch/>
        </p:blipFill>
        <p:spPr>
          <a:xfrm>
            <a:off x="1258920" y="1682640"/>
            <a:ext cx="6553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3"/>
          <p:cNvSpPr/>
          <p:nvPr/>
        </p:nvSpPr>
        <p:spPr>
          <a:xfrm>
            <a:off x="611280" y="6012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jiansma.com/wp-content/uploads/2013/05/efek-do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lustracja doświadczenia potwierdzającego efekt Dopple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żdy z nas może doświadczyć efektu Dopple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daviddarling.info/images/Doppler_effect_diagram.jpg"/>
          <p:cNvPicPr/>
          <p:nvPr/>
        </p:nvPicPr>
        <p:blipFill>
          <a:blip r:embed="rId1"/>
          <a:stretch/>
        </p:blipFill>
        <p:spPr>
          <a:xfrm>
            <a:off x="2124000" y="2133720"/>
            <a:ext cx="4608720" cy="35240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3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daviddarling.info/images/Doppler_effect_dia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916280"/>
            <a:ext cx="21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oddala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ni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443640" y="191628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zbliża 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wy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elblogboyacense.com/wp-content/uploads/2008/09/doppler.gif"/>
          <p:cNvPicPr/>
          <p:nvPr/>
        </p:nvPicPr>
        <p:blipFill>
          <a:blip r:embed="rId1"/>
          <a:stretch/>
        </p:blipFill>
        <p:spPr>
          <a:xfrm>
            <a:off x="611280" y="1413000"/>
            <a:ext cx="7586640" cy="352872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2"/>
          <p:cNvSpPr/>
          <p:nvPr/>
        </p:nvSpPr>
        <p:spPr>
          <a:xfrm>
            <a:off x="611280" y="5229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elblogboyacense.com/wp-content/uploads/2008/09/doppler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o Dopplera i jego zastosowanie w badaniach med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2"/>
          <p:cNvSpPr/>
          <p:nvPr/>
        </p:nvSpPr>
        <p:spPr>
          <a:xfrm>
            <a:off x="324000" y="24922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jak ważne jest krążenie krwi, zapewniające między innymi dostęp do tlenu każdej komórce danej tkanki. Jeżeli w naczyniach krwionośnych ukształtują się przeszkody dla sprawnego przepływu krwi, pojawiają się objawy, na przykład w postaci opuchnięcia. Ale niektóre zatory mogą doprowadzić do śmierci (udar mózg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s://encrypted-tbn2.gstatic.com/images?q=tbn:ANd9GcQ1UFf8QiksX_vU69X51v03N5QLTq_OgL4Ki0r9pfZlzC4kF0no"/>
          <p:cNvPicPr/>
          <p:nvPr/>
        </p:nvPicPr>
        <p:blipFill>
          <a:blip r:embed="rId1"/>
          <a:stretch/>
        </p:blipFill>
        <p:spPr>
          <a:xfrm>
            <a:off x="539640" y="1052640"/>
            <a:ext cx="319572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2"/>
          <p:cNvSpPr/>
          <p:nvPr/>
        </p:nvSpPr>
        <p:spPr>
          <a:xfrm>
            <a:off x="468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zdrowemiasto.pl/cache/%5B1120%5Ddoppler_2009.jpg_25155_x180_y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24360" y="10065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chnięcia kończyn, które mogą być wynikiem upośledzenia  krą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22Z</dcterms:modified>
  <cp:revision>34</cp:revision>
  <dc:subject/>
  <dc:title>Slajd 1</dc:title>
</cp:coreProperties>
</file>