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0E9D-BEF1-44FA-A61F-6703E94A324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213E-27E4-404B-AB59-23BE14A4C3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DDA-4DC1-4B1A-8397-7B6F46E300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8FF-4D70-4D3D-B41D-B3E5798E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28C-A109-424B-983D-1B65590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4D0-C139-4344-A0BF-05F125E8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9C7-3540-4A96-87DC-810A5444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56E-C657-4F13-8AE7-C0AFA101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692-76F1-47C4-9537-3F8F8696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2A69-3150-4096-ACD3-C503B2AE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660-970B-4FEB-9DBE-55525BEC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9514-5B07-4FAF-AAB9-1A60153F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445B-7850-4B18-B028-087892BE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3AD2-2F37-4FF1-B8E4-D1D39A9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A66-EC00-4405-B0B9-16577213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AD7-5F57-49AA-B50A-A9FF19C1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514F-14C5-4EB3-B53E-3B6D7A5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6BA-DFAA-4695-8282-BA84E05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FE3-15E5-4D5A-8B60-617EE938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E05-FE9A-4419-95AA-B6A1A468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681-8511-4A61-91D3-9E67BC3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F27-4955-4132-AA47-EAA96264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014-2C89-4CD1-8ECE-3B051154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AA5-B429-4522-BCF4-ECA1149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A08-050A-48CB-9394-43799C7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141-576B-4AFE-B7A0-6851E4B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E56-B5F5-4CC0-89BC-CFA017D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F620-CCDA-4682-B4EE-957D72F8730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923-E573-4ED9-94ED-E7CA31AA46C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I (pakiet II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395280" y="1773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śród komórek budujących skórę właściwą (histiocyty, komórki tuczne), najwięcej jest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fibroblastów –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mórek odpowiedzialnych za syntezę składników macierzy: włókien kolagenowych, elastyny, proteoglikanów (PG), wiążących włókna oraz innych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04a7b"/>
                </a:solidFill>
                <a:latin typeface="Calibri"/>
              </a:rPr>
              <a:t>Kolagen włóknist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pośród tych substancji w największej obfit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"/>
          <p:cNvSpPr/>
          <p:nvPr/>
        </p:nvSpPr>
        <p:spPr>
          <a:xfrm>
            <a:off x="395280" y="1628640"/>
            <a:ext cx="820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ptydoglikany macierzy skóry właściwej są hydrofilne. Razem z kwasem hialuronowym zdolne są do wiązania wody. W powyższym połączeniu substancje te wpływają na uwodnienie skóry, co skutkuje widocznym zwiększeniem jej ujędrn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naukowe wykazały spadek ilości kwasu hialuronowego wraz z wiekiem badanych osobników, co niewątpliwie ma związek ze starzeniem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strogeny w kondycji i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395280" y="184464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Hormony produkowane przez gonady, wpływają na funkcje różnych organów, między innymi skór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wykazały obecność receptorów dla tych hormonów sterydowych w rozmaitych tkankach, w tym także w skór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ecność receptorów świadczy, że tkanka jest docelową dla hormonu, który po związaniu si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łaściwym dla niego receptorem, wywołuje reakcje, doprowadzające do zmian w org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jest estrogenozależnym organ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628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podczas menopauzy spada aktywność gonad, drastycznie spada produkcja estroge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prowadza to do zmian naskórkowych i zmian w obrębie skóry właściw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 naskórk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zanik (uwstecznianie) warstw naskórka. Zmniejszenie ilości podziałów w warstwie rozrodczej, naskórek staje się cienki. Pojawiają się przebarwienia/odbarwienia na skutek zaburzeń metabolizmu keratynocytów i melanocy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zmożenie starzenia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okresie menopauz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395280" y="170028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adek ilości estrogenów powoduje w skórze właściwej zaburzenie czynności fibroblastów, a przez to zmniejsza się ilość substancji przez nie produkowanych, miedzy innymi: PG,  kolagenu, kwasu hialuron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niej jest hydroksyproliny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***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o wpływa na zmianę właściwości fizycznych i chemicznych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powoduje: wysuszenie skóry, zwiotcz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lipsa 2"/>
          <p:cNvSpPr/>
          <p:nvPr/>
        </p:nvSpPr>
        <p:spPr>
          <a:xfrm>
            <a:off x="3995640" y="2997360"/>
            <a:ext cx="3024360" cy="2952720"/>
          </a:xfrm>
          <a:prstGeom prst="ellipse">
            <a:avLst/>
          </a:prstGeom>
          <a:solidFill>
            <a:srgbClr val="40404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ronologi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ipsa 3"/>
          <p:cNvSpPr/>
          <p:nvPr/>
        </p:nvSpPr>
        <p:spPr>
          <a:xfrm>
            <a:off x="2771640" y="2060640"/>
            <a:ext cx="2880000" cy="288108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no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ipsa 5"/>
          <p:cNvSpPr/>
          <p:nvPr/>
        </p:nvSpPr>
        <p:spPr>
          <a:xfrm>
            <a:off x="1332000" y="2997360"/>
            <a:ext cx="3024000" cy="2952720"/>
          </a:xfrm>
          <a:prstGeom prst="ellipse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to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6"/>
          <p:cNvSpPr/>
          <p:nvPr/>
        </p:nvSpPr>
        <p:spPr>
          <a:xfrm>
            <a:off x="900000" y="54936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tarzenie się skóry jest wynikiem nakładania się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wieczny proble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Obraz 5" descr="zmarchy.jpg"/>
          <p:cNvPicPr/>
          <p:nvPr/>
        </p:nvPicPr>
        <p:blipFill>
          <a:blip r:embed="rId1"/>
          <a:stretch/>
        </p:blipFill>
        <p:spPr>
          <a:xfrm>
            <a:off x="2771640" y="1268280"/>
            <a:ext cx="3313080" cy="448308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6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lh3.ggpht.com/_MsZb8mYFoCs/TQmQAN4dKiI/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AAAAAAAMp4/PSdc-2k8va0/s800/Anti-Wrinkle-Cre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 (BTX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2"/>
          <p:cNvSpPr/>
          <p:nvPr/>
        </p:nvSpPr>
        <p:spPr>
          <a:xfrm>
            <a:off x="32400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neurotoksyna, produkowana przez bakterie </a:t>
            </a:r>
            <a:r>
              <a:rPr b="0" i="1" lang="pl-PL" sz="3200" spc="-1" strike="noStrike">
                <a:solidFill>
                  <a:srgbClr val="948a54"/>
                </a:solidFill>
                <a:latin typeface="Calibri"/>
              </a:rPr>
              <a:t>Clostridium botulin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zechnie znana jako jad kiełbasiany, substancja śmiertelna dla człowieka w dawce 3000 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a w niewielkich dawkach (BTX A) około 60 j., stosowana jest nie tylko w medycynie estetycznej, ale także w neurologii, w leczeniu spastyczności. Używana jest od ponad 20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otulina obniża napięcie mięśni mimicznych – zmniejszenie zmarszc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2565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temu, że toksyna działa w obrębie płytki nerwowo – mięśniowej, hamuje pobudzenie mięśni przez ner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iotczenie mięśni daje rozluźnienie skó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marszczki zmniejszają się, skóra twarzy wygładz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stety, nie jest to działanie trwał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395280" y="83664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fekt po zastosowaniu toksyny botulinowej pojawia się i jest widoczny zazwyczaj po kilkunastu godzinach po iniekcjach. Przemija po 5, 6 miesiąc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 osób powyżej 60 roku życia stosowanie BTX nie przynosi spodziewanych efektów, gdyż botulina nie usuwa zmarszczek statycznych, ale tylko te, które pojawiają się dzięki mimicznym, dynamicznym grymas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692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Materiał obejm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rane teorie dotyczące mechanizmów starzenia się skó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Hayflicka (ograniczonej liczby podziałów komór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a właściwa w starzeniu się powłok cia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estrogenów na proces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 toksyny botulinowej w zabiegach odmładzających skó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iekcja BTX może wywołać także powikłan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sme.rybnik.pl/userfiles/http---www_derma-news_pl-pliki_pdf-nr_2006_11_pdf%20-%20Adobe%20Reader.bmp"/>
          <p:cNvPicPr/>
          <p:nvPr/>
        </p:nvPicPr>
        <p:blipFill>
          <a:blip r:embed="rId1"/>
          <a:stretch/>
        </p:blipFill>
        <p:spPr>
          <a:xfrm>
            <a:off x="468360" y="1844640"/>
            <a:ext cx="3305160" cy="374328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3"/>
          <p:cNvSpPr/>
          <p:nvPr/>
        </p:nvSpPr>
        <p:spPr>
          <a:xfrm>
            <a:off x="395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me.rybnik.pl/userfiles/http---www_derma-news_pl-pliki_pdf-nr_2006_11_pdf%20-%20Adobe%20Reader.b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3995640" y="177336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adnięcie, wywinięcie powiek, „twarz Mefisto” – uniesienie brwi, „nierówny” uśmi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granicy Hayflicka w starzeniu się komórek (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ojciechznamirowski.eu/wp-content/uploads/2012/06/wrozenie03.jpg"/>
          <p:cNvPicPr/>
          <p:nvPr/>
        </p:nvPicPr>
        <p:blipFill>
          <a:blip r:embed="rId1"/>
          <a:srcRect l="35236" t="0" r="20843" b="39750"/>
          <a:stretch/>
        </p:blipFill>
        <p:spPr>
          <a:xfrm>
            <a:off x="826920" y="1773360"/>
            <a:ext cx="3870360" cy="39592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25092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Łącznik prosty ze strzałką 5"/>
          <p:cNvCxnSpPr/>
          <p:nvPr/>
        </p:nvCxnSpPr>
        <p:spPr>
          <a:xfrm flipH="1">
            <a:off x="4427280" y="2133360"/>
            <a:ext cx="180072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Łącznik prosty ze strzałką 9"/>
          <p:cNvCxnSpPr/>
          <p:nvPr/>
        </p:nvCxnSpPr>
        <p:spPr>
          <a:xfrm flipH="1">
            <a:off x="3923640" y="2491920"/>
            <a:ext cx="2377080" cy="1585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4" name="pole tekstowe 12"/>
          <p:cNvSpPr/>
          <p:nvPr/>
        </p:nvSpPr>
        <p:spPr>
          <a:xfrm>
            <a:off x="6379920" y="198900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lom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2"/>
          <p:cNvSpPr/>
          <p:nvPr/>
        </p:nvSpPr>
        <p:spPr>
          <a:xfrm>
            <a:off x="250920" y="1628640"/>
            <a:ext cx="862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– „końcówki” chromosomów, składają się z tysięcy (podwójnych) powtórzeń sekwencji (TTAGGG). Nie zawierają żadnych genów (nie kodują białe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końce chromosomów przed egzonukleazami, mogącymi uszkodzić sekwencje kodują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przed translokacjami i delecja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mutacjami struktural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2"/>
          <p:cNvSpPr/>
          <p:nvPr/>
        </p:nvSpPr>
        <p:spPr>
          <a:xfrm>
            <a:off x="539640" y="198900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„pomagają” systemowi naprawczemu uszkodzeń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ócenie telomerów kieruje komórkę na drogę do spoczynku, wreszcie apoptozy, więc można skracanie tych struktur nazwać czynnikiem ograniczającym liczbę podziałów komórkowych, co w konsekwencji doprowadza do starzenia się, także organu, jakim jest skór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racanie telomerów w trakcie kolejnych podziałów komórki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ojciechznamirowski.eu/wp-content/uploads/2012/06/wrozenie03.jpg"/>
          <p:cNvPicPr/>
          <p:nvPr/>
        </p:nvPicPr>
        <p:blipFill>
          <a:blip r:embed="rId1"/>
          <a:srcRect l="37667" t="66634" r="17593" b="1669"/>
          <a:stretch/>
        </p:blipFill>
        <p:spPr>
          <a:xfrm>
            <a:off x="755640" y="2205000"/>
            <a:ext cx="7056360" cy="37306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3"/>
          <p:cNvSpPr/>
          <p:nvPr/>
        </p:nvSpPr>
        <p:spPr>
          <a:xfrm>
            <a:off x="32400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załka w dół 4"/>
          <p:cNvSpPr/>
          <p:nvPr/>
        </p:nvSpPr>
        <p:spPr>
          <a:xfrm rot="5400000">
            <a:off x="7344000" y="5049000"/>
            <a:ext cx="432000" cy="93492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3"/>
          <p:cNvSpPr/>
          <p:nvPr/>
        </p:nvSpPr>
        <p:spPr>
          <a:xfrm>
            <a:off x="395280" y="162864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brodaw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„zazębiona” jest z naskórkiem, stąd właśnie nazwa – brodawkowata – gdyż brodawki wnikają pod warstwę rozrodczą naskórka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widoczne dokładnie, następny slajd, I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Znajdują się w niej pętle naczyniowe oraz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. Pomiędzy tymi, jeszcze luźno w tej warstwie ułożonymi włóknami, są obecne naczynka włosowate, receptory, zakończenia nerw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unfarm.pl/media_library/2011/7/1309965417.png"/>
          <p:cNvPicPr/>
          <p:nvPr/>
        </p:nvPicPr>
        <p:blipFill>
          <a:blip r:embed="rId1"/>
          <a:srcRect l="0" t="0" r="7500" b="18944"/>
          <a:stretch/>
        </p:blipFill>
        <p:spPr>
          <a:xfrm>
            <a:off x="395280" y="692280"/>
            <a:ext cx="5329080" cy="509724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4"/>
          <p:cNvSpPr/>
          <p:nvPr/>
        </p:nvSpPr>
        <p:spPr>
          <a:xfrm>
            <a:off x="755640" y="5805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unfarm.pl/media_library/2011/7/1309965417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Łącznik prosty ze strzałką 6"/>
          <p:cNvCxnSpPr/>
          <p:nvPr/>
        </p:nvCxnSpPr>
        <p:spPr>
          <a:xfrm flipH="1">
            <a:off x="4355640" y="1483920"/>
            <a:ext cx="1656720" cy="57708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18" name="Łącznik prosty ze strzałką 9"/>
          <p:cNvCxnSpPr/>
          <p:nvPr/>
        </p:nvCxnSpPr>
        <p:spPr>
          <a:xfrm flipH="1" flipV="1">
            <a:off x="3563280" y="3067920"/>
            <a:ext cx="2377080" cy="129780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19" name="pole tekstowe 12"/>
          <p:cNvSpPr/>
          <p:nvPr/>
        </p:nvSpPr>
        <p:spPr>
          <a:xfrm>
            <a:off x="6012000" y="98100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. Brodawki skóry właściwej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arstwa brodaw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14"/>
          <p:cNvSpPr/>
          <p:nvPr/>
        </p:nvSpPr>
        <p:spPr>
          <a:xfrm>
            <a:off x="6012000" y="378936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I. Włókna kolagenow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elastynowe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.siatecz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9528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siatecz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jest zaopatrzona w grube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świetnie widoczne, II, poprzedni slajd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najdują się w niej nerwy, gruczoły potowe, mieszki włosowe. Sploty włókien zapewniają tej warstwie stosunkowo dużą wytrzymałość mechaniczną (ucis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44:36Z</dcterms:modified>
  <cp:revision>25</cp:revision>
  <dc:subject/>
  <dc:title>Slajd 1</dc:title>
</cp:coreProperties>
</file>