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4D65-528C-45AE-8259-7FF50C7ADF4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34F5-8A55-4F54-9F20-223C8AF6940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8A35-0D4A-40D4-8DC7-2C0F52B549D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340F-2B88-411F-B86A-A3C787CC9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5C53-C919-4E29-B8A7-F6A70890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499D-2178-4917-A4DF-6FAF7C542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FD36-5139-40E6-B871-D428A9789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2E14-B227-447D-88A5-17857EB2D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F8F6-1735-401A-B185-CB3DA483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FBC9-3B69-4A79-BFF3-BE512F1C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4B9D-F2D0-47C9-B906-2FF5B3E3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584E-C083-4469-88D5-B3D9D57C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EEAE-297E-41BD-AFE5-4D0619B3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C74D-D3B3-449B-BE50-5639F636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B1E7-8800-4216-BEEB-4BEBAD8A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6925-B290-4E55-8317-9F4E97C9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E70D-DBA0-4934-AF81-5429139A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C878-A36C-4360-A4D7-9923BA1D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8940-4A59-4088-A819-E7ABC2A33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13F7-A593-4B1B-9D0B-34E501CA5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39CC-643E-428D-ABF3-3FC40184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5DB4-091B-4078-8381-BD7EEC64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A1ED-42EB-44F0-A3C8-4A2478BB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1A8C-379D-4EE4-A722-32BD26A2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8DD2-99BA-4A4B-AF1A-5D89355A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CC72-79AF-4D5C-831F-2D66C63C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8A5B-3ADB-4FDC-9DFB-24B6661D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30A8-5C1E-4B3C-9E93-C25C3D52ECC0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C101-AD62-4030-8AB9-2C937A0FAE3A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141264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USG – materiał pomocniczy </a:t>
            </a:r>
            <a:br>
              <a:rPr sz="4900"/>
            </a:b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o wycieczki(*)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rostokąt 4"/>
          <p:cNvSpPr/>
          <p:nvPr/>
        </p:nvSpPr>
        <p:spPr>
          <a:xfrm>
            <a:off x="900000" y="3789360"/>
            <a:ext cx="77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ezentacja - poziom I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ole tekstowe 1"/>
          <p:cNvSpPr/>
          <p:nvPr/>
        </p:nvSpPr>
        <p:spPr>
          <a:xfrm>
            <a:off x="468360" y="1484280"/>
            <a:ext cx="8207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dczas badań USG następuje wzrost temperatury, najczęściej o około  1 stopień Celsjusza, czyli </a:t>
            </a: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jest wahaniem w dopuszczalnych granicach fizjologiczn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wet podniesienie temperatury ciała do ok. 39 stopni Celsjusza w tak krótkim czasie badania – nie jest niebezpiecz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ltradźwięki mogą doprowadzić do koagulacj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komórkach, ale nie w natężeniach stos. w US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ole tekstowe 2"/>
          <p:cNvSpPr/>
          <p:nvPr/>
        </p:nvSpPr>
        <p:spPr>
          <a:xfrm>
            <a:off x="1838520" y="476280"/>
            <a:ext cx="51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Calibri"/>
              </a:rPr>
              <a:t>Efekt cieplny w US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awitacja a badanie US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ole tekstowe 2"/>
          <p:cNvSpPr/>
          <p:nvPr/>
        </p:nvSpPr>
        <p:spPr>
          <a:xfrm>
            <a:off x="395280" y="1628640"/>
            <a:ext cx="84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witacja to powstawanie pęcherzyków gazu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cieczy. Powstają one, gdy obniża się ciśnienie cieczy, czyli w tak zwanej fazie podciśnienia akustycznego. Pęcherzyki te mogą się zderzać, przemieszczać, łączyć w większe. Najbardziej wrażliwe są na nie mitochondria komórek, które mogą zostać w ten sposób uszkodzone. Badania 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in vitro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ykazały występowanie kawitacji w zakresie natężeń diagnostycznych fal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pisane w literaturze, inne, bezpośrednie skutki energii ultradźwięków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ole tekstowe 3"/>
          <p:cNvSpPr/>
          <p:nvPr/>
        </p:nvSpPr>
        <p:spPr>
          <a:xfrm>
            <a:off x="395280" y="234936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yrkulacja cząstek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hemiczne: zmiany p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wstawanie nadtlenku wodor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Obecny stan wiedzy nie kwestionuje ewentualnego ryzyka, związanego ze stosowaniem fal ultradźwiękowych na organizm, jednak korzyści z przeprowadzenia takich badań są niewspółmier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ole tekstowe 1"/>
          <p:cNvSpPr/>
          <p:nvPr/>
        </p:nvSpPr>
        <p:spPr>
          <a:xfrm>
            <a:off x="395280" y="1197000"/>
            <a:ext cx="820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orzyści z badań przeprowadzanych nieinwazyjną metodą USG nie można kwestionować, dlatego </a:t>
            </a: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w kontroli przebiegu ciąży zalecane jest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przez Krajowego Konsultanta w Dziedzinie Ginekologii i Położnictwa w  Polsce, </a:t>
            </a: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dwukrotne badanie USG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etodą prezentacji typu 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0728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Terminy badań w kontroli ciąży: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między 18-22 tygodniem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i 28-32 tygodni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le tekstowe 2"/>
          <p:cNvSpPr/>
          <p:nvPr/>
        </p:nvSpPr>
        <p:spPr>
          <a:xfrm>
            <a:off x="468360" y="2781360"/>
            <a:ext cx="8351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ierwszy termin pozwala na uwidocznienie lub wykluczenie wad strukturalnych, takich ja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odogłowie, przepukliny rdzeniowe, mózgowe, rozszczep kręgosłupa, skrócenie kości, uogólniony obrzęk płod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http://img63.imageshack.us/img63/2007/img2010091842.jpg"/>
          <p:cNvPicPr/>
          <p:nvPr/>
        </p:nvPicPr>
        <p:blipFill>
          <a:blip r:embed="rId1"/>
          <a:stretch/>
        </p:blipFill>
        <p:spPr>
          <a:xfrm>
            <a:off x="1403280" y="549360"/>
            <a:ext cx="6193080" cy="4135320"/>
          </a:xfrm>
          <a:prstGeom prst="rect">
            <a:avLst/>
          </a:prstGeom>
          <a:ln w="0">
            <a:noFill/>
          </a:ln>
        </p:spPr>
      </p:pic>
      <p:sp>
        <p:nvSpPr>
          <p:cNvPr id="124" name="Prostokąt 3"/>
          <p:cNvSpPr/>
          <p:nvPr/>
        </p:nvSpPr>
        <p:spPr>
          <a:xfrm>
            <a:off x="468360" y="494172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img63.imageshack.us/img63/2007/img2010091842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ole tekstowe 4"/>
          <p:cNvSpPr/>
          <p:nvPr/>
        </p:nvSpPr>
        <p:spPr>
          <a:xfrm>
            <a:off x="468360" y="544500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okładny obraz mózgoczaszki płodu – badanie wyklucza wodogłow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ole tekstowe 1"/>
          <p:cNvSpPr/>
          <p:nvPr/>
        </p:nvSpPr>
        <p:spPr>
          <a:xfrm>
            <a:off x="395280" y="692280"/>
            <a:ext cx="820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rugi termin badania – pozwala na ocenę rozwoju płodu, wykrywanie zaburzeń wzrostu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 także umożliwia określenie czynników ryzyka okołoporodowe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http://c3397993.y.cdn.imgwykop.pl/link_y6bar3jnDEyGTBH3pbIPF5K5sFbq32bd,w300h223.jpg"/>
          <p:cNvPicPr/>
          <p:nvPr/>
        </p:nvPicPr>
        <p:blipFill>
          <a:blip r:embed="rId1"/>
          <a:stretch/>
        </p:blipFill>
        <p:spPr>
          <a:xfrm>
            <a:off x="2592360" y="2852640"/>
            <a:ext cx="3959280" cy="2944800"/>
          </a:xfrm>
          <a:prstGeom prst="rect">
            <a:avLst/>
          </a:prstGeom>
          <a:ln w="0">
            <a:noFill/>
          </a:ln>
        </p:spPr>
      </p:pic>
      <p:sp>
        <p:nvSpPr>
          <p:cNvPr id="128" name="Prostokąt 3"/>
          <p:cNvSpPr/>
          <p:nvPr/>
        </p:nvSpPr>
        <p:spPr>
          <a:xfrm>
            <a:off x="324000" y="587700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c3397993.y.cdn.imgwykop.pl/link_y6bar3jnDEyGTBH3pbIPF5K5sFbq32bd,w300h223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G umożliwia kontrolowanie wykonywanych zabiegó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ole tekstowe 2"/>
          <p:cNvSpPr/>
          <p:nvPr/>
        </p:nvSpPr>
        <p:spPr>
          <a:xfrm>
            <a:off x="324000" y="1916280"/>
            <a:ext cx="8351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zięki „wglądowi” poprzez tkanki miękkie, możliwe jest bezpieczne dotarcie do narządów i pobranie materiału zmienionego chorobowo – do wykonania badań cytologicznyc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ienką igłą pobrane zostają komórki, a lekarz diagnosta USG, uwidacznia miejsca zmienione chorobą, wyznacza najlepszą drogę do pobrania, bez naruszania naczyń krwionośnych i nerw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zykłady zabiegów wykonywanych pod kontrolą US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iopsja węzłów chłonny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iopsja tarczy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strzyknięcia do staw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strzyknięcia okołonerwow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nwazyjne metody badań prenatalnych – na przykład biopsja kosmówki, czyli jednej z błon płodow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jawiska wpływające na zafałszowanie obrazowania US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ole tekstowe 2"/>
          <p:cNvSpPr/>
          <p:nvPr/>
        </p:nvSpPr>
        <p:spPr>
          <a:xfrm>
            <a:off x="250920" y="1844640"/>
            <a:ext cx="8677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ak już wiemy, fala ultradźwiękowa uleg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pewnym zakresie odbiciu, może ulec też całkowitemu odbiciu, np. od kamieni w nerk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Rozpraszanie fal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aje natomiast nieprawdziwe echa, które mogą łatwo wprowadzić w błąd w interpretowaniu obraz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Echa, które nie obrazują rzeczywistych struktur anatomicznych, to artefak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ym jest rozpraszanie fali ultradźwiękowej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ole tekstowe 2"/>
          <p:cNvSpPr/>
          <p:nvPr/>
        </p:nvSpPr>
        <p:spPr>
          <a:xfrm>
            <a:off x="395280" y="1557360"/>
            <a:ext cx="8280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zpraszanie fali – ma miejsce wtedy, gdy część fali ultradźwiękowej zmienia kierunek, przy czym zmiana ta jest nieprzewidywal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Czy wpływa to na diagnostykę? </a:t>
            </a:r>
            <a:r>
              <a:rPr b="0" lang="pl-PL" sz="3200" spc="-1" strike="noStrike">
                <a:solidFill>
                  <a:srgbClr val="376092"/>
                </a:solidFill>
                <a:latin typeface="Calibri"/>
              </a:rPr>
              <a:t>Tak.</a:t>
            </a: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 Ponieważ dźwięki rozproszone nie wracają do głowicy.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zproszenie fali jednak może sprawić, </a:t>
            </a: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że echo odebrane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chodzi z powierzchni granicznej tkanek, nie ustawionych prostopadle w kierunku dźwięku, czyli z takich, które </a:t>
            </a: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nie powinny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ostać zobrazowa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ezultat rozproszenia fal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ole tekstowe 2"/>
          <p:cNvSpPr/>
          <p:nvPr/>
        </p:nvSpPr>
        <p:spPr>
          <a:xfrm>
            <a:off x="395280" y="1413000"/>
            <a:ext cx="8280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ltrasonograf wykrywa echa tam, gdzie nie ma odbi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tychczas opisano w literaturze wiele takich przykładów: złudzenie (artefakt), że są otolity (kamienie) w woreczku żółciowym, albo obecność guza, zamiast wodnistej torbiel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rezultacie odbicia i rozpraszania fali ultradźwiękowej, mniej energii dociera do tkanek, położonych niż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bsorpcja + rozproszenie fali =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= tłumienie energii fa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ole tekstowe 3"/>
          <p:cNvSpPr/>
          <p:nvPr/>
        </p:nvSpPr>
        <p:spPr>
          <a:xfrm>
            <a:off x="395280" y="2205000"/>
            <a:ext cx="83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zęść energii fal ultradźwiękowych zostaje w tkankach zamieniona w ciepł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jawisko to jest wykorzystywane w fizykoterapi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Echa wprowadzające w błą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ole tekstowe 2"/>
          <p:cNvSpPr/>
          <p:nvPr/>
        </p:nvSpPr>
        <p:spPr>
          <a:xfrm>
            <a:off x="468360" y="1341360"/>
            <a:ext cx="7775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umiejętne rozpoznawanie artefaktów, niestety, przekładać się może na nietrafną diagnoz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ardzo dużo zależy od techniki badania, od doświadczenia lekarza, przeprowadzającego badan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rtefakty mogą wprowadzić przekłamania, bo w obrazie „naśladują” struktury żyw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ynniki powodujące powstawanie artefaktów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ole tekstowe 2"/>
          <p:cNvSpPr/>
          <p:nvPr/>
        </p:nvSpPr>
        <p:spPr>
          <a:xfrm>
            <a:off x="395280" y="170028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posób przetwarzania danych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lgorytmy konstruowania obrazu (zależne od możliwości i ustawienia urządzenia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łożenie/poruszenie się pacjenta; przygotowanie do badania (np. nie wypełniony przewód pokarmowy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nżynier kliniczny dobiera parametry do badania, ustala kontrast, redukuje szum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dolność optymalnej percepcji (postrzegania) obrazu zależy od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ole tekstowe 3"/>
          <p:cNvSpPr/>
          <p:nvPr/>
        </p:nvSpPr>
        <p:spPr>
          <a:xfrm>
            <a:off x="395280" y="2205000"/>
            <a:ext cx="8280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ożliwości sprzętowych (jakości karty graficznej, monitora). Niewielkie monitory, często stosowane, mają ograniczony kontra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rozdzielczoś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ercepcja obrazu zależy też od warunków pracy specjalisty, ograniczeń czasowych oraz przemęcze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y ultradźwięki mogą  być szkodliwe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ole tekstowe 2"/>
          <p:cNvSpPr/>
          <p:nvPr/>
        </p:nvSpPr>
        <p:spPr>
          <a:xfrm>
            <a:off x="395280" y="1773360"/>
            <a:ext cx="8497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jednokrotnie można usłyszeć takie pytanie: skoro ultradźwięki mogą kruszyć, np. kamienie nerkowe, to czy ultradźwięki stosowa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badaniach USG są szkodliw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ltradźwięki stosowane w USG mają zbyt niską energię, aby „wybić” elektrony z atomów, więc nie zachodzi jonizacja atomów (jak np. podczas RTG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nny również jest charakter ultradźwięków – fala jest podłużna, a nie poprzecz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Andrzej</cp:lastModifiedBy>
  <dcterms:modified xsi:type="dcterms:W3CDTF">2013-08-25T16:26:43Z</dcterms:modified>
  <cp:revision>22</cp:revision>
  <dc:subject/>
  <dc:title>Slajd 1</dc:title>
</cp:coreProperties>
</file>