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811B-BD5F-473A-81D0-B99BEFB7ECD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AD74-A30A-4911-88D9-D6C3BFE7CF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2CC-1AD9-4A89-9CB9-C7A71CA6AF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646-335F-450F-8A18-BE27BD63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A7F-A519-4933-A87C-9B00D4A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156-6A69-4252-808E-C12BAC26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DEE-CA16-4A40-9306-A4DD25F9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DDB0-D50D-4E0E-83DB-8C6EE03E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22A-804C-408E-B9ED-7832259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78BD-1C9C-42A3-AB79-E4E4D4A5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C60B-1B41-4DD2-99D2-3EBA916F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31D2-9E20-4E60-8CA8-ABEDA4C6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8A8-D949-44DD-9626-7874451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F513-A9F8-4DE9-9342-28159D0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6EA-DDCC-4A6B-B84F-1058A93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863E-FA0B-4A53-8D3A-A6501E9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0AF0-BA73-43C8-9B7A-C68BECC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783C-E549-48CE-99B2-E34A768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FF4C-A4AB-4581-B07A-80D43523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5402-C3B0-4EBD-BEB4-A6733FA5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F81-A1F5-44FE-869D-820EB9B0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11B-0618-4D80-A4A9-BE063BB4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A7C-2283-4630-AAFF-6CE20F5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F4E-2507-4AB1-BEFC-25F32FE3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591-6754-4CA3-BDFF-CD61F476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F61-3092-4DB7-9755-D2DEC41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D66-C594-43A9-B4D8-9C884A9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6A3-64D8-4AB1-A690-704FC7E4078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719E-AEAE-448A-93D7-5F3AF85EC95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 – materiał pomocniczy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(*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1"/>
          <p:cNvSpPr/>
          <p:nvPr/>
        </p:nvSpPr>
        <p:spPr>
          <a:xfrm>
            <a:off x="468360" y="1484280"/>
            <a:ext cx="82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ń USG następuje wzrost temperatury, najczęściej o około  1 stopień Celsjusza, czyli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jest wahaniem w dopuszczalnych granicach fizjologi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wet podniesienie temperatury ciała do ok. 39 stopni Celsjusza w tak krótkim czasie badania – nie jest niebezpi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mogą doprowadzić do koagul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mórkach, ale nie w natężeniach stos. w US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2"/>
          <p:cNvSpPr/>
          <p:nvPr/>
        </p:nvSpPr>
        <p:spPr>
          <a:xfrm>
            <a:off x="1838520" y="47628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fekt cieplny w US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witacja a badan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2"/>
          <p:cNvSpPr/>
          <p:nvPr/>
        </p:nvSpPr>
        <p:spPr>
          <a:xfrm>
            <a:off x="395280" y="1628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witacja to powstawanie pęcherzyków gaz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ieczy. Powstają one, gdy obniża się ciśnienie cieczy, czyli w tak zwanej fazie podciśnienia akustycznego. Pęcherzyki te mogą się zderzać, przemieszczać, łączyć w większe. Najbardziej wrażliwe są na nie mitochondria komórek, które mogą zostać w ten sposób uszkodzone. Badani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kazały występowanie kawitacji w zakresie natężeń diagnostycznych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isane w literaturze, inne, bezpośrednie skutki energii ultradźwięk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5280" y="2349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yrkulacja cząstek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emiczne: zmiany 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wanie nadtlenku wod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Obecny stan wiedzy nie kwestionuje ewentualnego ryzyka, związanego ze stosowaniem fal ultradźwiękowych na organizm, jednak korzyści z przeprowadzenia takich badań są niewspółmier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119700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rzyści z badań przeprowadzanych nieinwazyjną metodą USG nie można kwestionować, dlatego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w kontroli przebiegu ciąży zalecane jes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przez Krajowego Konsultanta w Dziedzinie Ginekologii i Położnictwa w  Polsce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dwukrotne badanie USG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ą prezentacji typu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rminy badań w kontroli ciąży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między 18-22 tygodniem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28-32 tygodn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468360" y="2781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termin pozwala na uwidocznienie lub wykluczenie wad strukturalnych, takich ja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ogłowie, przepukliny rdzeniowe, mózgowe, rozszczep kręgosłupa, skrócenie kości, uogólniony obrzęk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img63.imageshack.us/img63/2007/img2010091842.jpg"/>
          <p:cNvPicPr/>
          <p:nvPr/>
        </p:nvPicPr>
        <p:blipFill>
          <a:blip r:embed="rId1"/>
          <a:stretch/>
        </p:blipFill>
        <p:spPr>
          <a:xfrm>
            <a:off x="1403280" y="549360"/>
            <a:ext cx="6193080" cy="413532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3"/>
          <p:cNvSpPr/>
          <p:nvPr/>
        </p:nvSpPr>
        <p:spPr>
          <a:xfrm>
            <a:off x="468360" y="494172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63.imageshack.us/img63/2007/img201009184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54450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kładny obraz mózgoczaszki płodu – badanie wyklucza wodogł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1"/>
          <p:cNvSpPr/>
          <p:nvPr/>
        </p:nvSpPr>
        <p:spPr>
          <a:xfrm>
            <a:off x="395280" y="692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ugi termin badania – pozwala na ocenę rozwoju płodu, wykrywanie zaburzeń wzrost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także umożliwia określenie czynników ryzyka okołoporod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c3397993.y.cdn.imgwykop.pl/link_y6bar3jnDEyGTBH3pbIPF5K5sFbq32bd,w300h223.jpg"/>
          <p:cNvPicPr/>
          <p:nvPr/>
        </p:nvPicPr>
        <p:blipFill>
          <a:blip r:embed="rId1"/>
          <a:stretch/>
        </p:blipFill>
        <p:spPr>
          <a:xfrm>
            <a:off x="2592360" y="2852640"/>
            <a:ext cx="3959280" cy="294480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3"/>
          <p:cNvSpPr/>
          <p:nvPr/>
        </p:nvSpPr>
        <p:spPr>
          <a:xfrm>
            <a:off x="324000" y="587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c3397993.y.cdn.imgwykop.pl/link_y6bar3jnDEyGTBH3pbIPF5K5sFbq32bd,w300h22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G umożliwia kontrolowanie wykonywanych zabieg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„wglądowi” poprzez tkanki miękkie, możliwe jest bezpieczne dotarcie do narządów i pobranie materiału zmienionego chorobowo – do wykonania badań cytologicz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ienką igłą pobrane zostają komórki, a lekarz diagnosta USG, uwidacznia miejsca zmienione chorobą, wyznacza najlepszą drogę do pobrania, bez naruszania naczyń krwionośnych i nerw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zabiegów wykonywanych pod kontrolą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węzłów chłon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tarczy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do staw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okołonerw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wazyjne metody badań prenatalnych – na przykład biopsja kosmówki, czyli jednej z błon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a wpływające na zafałszowanie obrazowania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250920" y="1844640"/>
            <a:ext cx="86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iemy, fala ultradźwiękowa ule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ewnym zakresie odbiciu, może ulec też całkowitemu odbiciu, np. od kamieni w ne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Rozpraszanie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je natomiast nieprawdziwe echa, które mogą łatwo wprowadzić w błąd w interpretowaniu obra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Echa, które nie obrazują rzeczywistych struktur anatomicznych, to artefak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m jest rozpraszanie fali ultradźwiękow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2"/>
          <p:cNvSpPr/>
          <p:nvPr/>
        </p:nvSpPr>
        <p:spPr>
          <a:xfrm>
            <a:off x="395280" y="1557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aszanie fali – ma miejsce wtedy, gdy część fali ultradźwiękowej zmienia kierunek, przy czym zmiana ta jest nieprzewidywal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Czy wpływa to na diagnostykę?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Tak.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 Ponieważ dźwięki rozproszone nie wracają do głowic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oszenie fali jednak może sprawić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że echo odebra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hodzi z powierzchni granicznej tkanek, nie ustawionych prostopadle w kierunku dźwięku, czyli z takich, któr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ie powinn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ć zobrazow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zultat rozproszenia fa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95280" y="141300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sonograf wykrywa echa tam, gdzie nie ma odbi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tychczas opisano w literaturze wiele takich przykładów: złudzenie (artefakt), że są otolity (kamienie) w woreczku żółciowym, albo obecność guza, zamiast wodnistej torbie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ezultacie odbicia i rozpraszania fali ultradźwiękowej, mniej energii dociera do tkanek, położonych niż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sorpcja + rozproszenie fali =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= tłumienie energi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3"/>
          <p:cNvSpPr/>
          <p:nvPr/>
        </p:nvSpPr>
        <p:spPr>
          <a:xfrm>
            <a:off x="395280" y="2205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fal ultradźwiękowych zostaje w tkankach zamieniona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jawisko to jest wykorzystywane w fizykoterap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cha wprowadzające w bł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2"/>
          <p:cNvSpPr/>
          <p:nvPr/>
        </p:nvSpPr>
        <p:spPr>
          <a:xfrm>
            <a:off x="468360" y="134136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rozpoznawanie artefaktów, niestety, przekładać się może na nietrafną diagnoz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dzo dużo zależy od techniki badania, od doświadczenia lekarza, przeprowadzającego bad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efakty mogą wprowadzić przekłamania, bo w obrazie „naśladują” struktury ży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powodujące powstawanie artefakt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2"/>
          <p:cNvSpPr/>
          <p:nvPr/>
        </p:nvSpPr>
        <p:spPr>
          <a:xfrm>
            <a:off x="395280" y="1700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sób przetwarzania dany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gorytmy konstruowania obrazu (zależne od możliwości i ustawienia urządzeni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łożenie/poruszenie się pacjenta; przygotowanie do badania (np. nie wypełniony przewód pokarmow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żynier kliniczny dobiera parametry do badania, ustala kontrast, redukuje szu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dolność optymalnej percepcji (postrzegania) obrazu zależy o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3"/>
          <p:cNvSpPr/>
          <p:nvPr/>
        </p:nvSpPr>
        <p:spPr>
          <a:xfrm>
            <a:off x="395280" y="220500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liwości sprzętowych (jakości karty graficznej, monitora). Niewielkie monitory, często stosowane, mają ograniczony kontr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rozdzielcz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rcepcja obrazu zależy też od warunków pracy specjalisty, ograniczeń czasowych oraz przemęcz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ultradźwięki mogą  być szkodliw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2"/>
          <p:cNvSpPr/>
          <p:nvPr/>
        </p:nvSpPr>
        <p:spPr>
          <a:xfrm>
            <a:off x="395280" y="177336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 można usłyszeć takie pytanie: skoro ultradźwięki mogą kruszyć, np. kamienie nerkowe, to czy ultradźwięki stosow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ach USG są szkodliw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tosowane w USG mają zbyt niską energię, aby „wybić” elektrony z atomów, więc nie zachodzi jonizacja atomów (jak np. podczas RT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y również jest charakter ultradźwięków – fala jest podłużna, a nie poprze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43Z</dcterms:modified>
  <cp:revision>22</cp:revision>
  <dc:subject/>
  <dc:title>Slajd 1</dc:title>
</cp:coreProperties>
</file>