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8CE-2586-4F8C-8D42-4DCD9A0F151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0D0-7190-4113-8842-E5F7CA57CA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FF83-FBCB-4651-BDC1-E3AEE0FA8F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79D-32A9-41E4-8162-B7A99A62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118-6D6B-4C57-A5DB-A2BCC27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979-B78E-4E57-8E5B-755323DF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43D-14C2-4DCB-AC04-F153E8A2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10D-1534-4427-A130-EEE9798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0150-0262-4275-929B-E4549A3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F957-A2B1-42D2-AF91-5EA721BB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06B-65F0-490F-97E1-8E51D16C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8DC-07BE-4189-8589-1312DCD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C7B2-EA49-40EC-B313-10113270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46B0-12CB-46AC-A60D-ECFC585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4FB-F735-425A-B198-FDE4CE32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6B13-5C26-490B-B1C6-E3D5B29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350-3931-4EBF-8E24-4E0105B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7CA-0691-477F-9169-EEA27BA6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0E31-464F-4B6B-8F11-42F9427E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198C-DCAB-4CDC-9E95-F7C4F22F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2D0-6A71-4CEE-81E2-FD126D73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E8C-65BE-4643-A0D6-E30B4205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F03-97FD-4FE7-8BEB-8B9A15A1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0B9-130A-4983-B81E-67E4946F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C7F-506B-4A55-80AE-ABF6D15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252-184F-4757-B929-104B3BC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5CF-4252-4FDA-BD49-CA5E616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BF7-80CC-4FD1-AF56-B0F096032E5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E82-1DED-4B3D-8ED2-9341FB312C2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I (pakiet II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395280" y="1773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śród komórek budujących skórę właściwą (histiocyty, komórki tuczne), najwięcej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fibroblastów –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mórek odpowiedzialnych za syntezę składników macierzy: włókien kolagenowych, elastyny, proteoglikanów (PG), wiążących włókna oraz innych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04a7b"/>
                </a:solidFill>
                <a:latin typeface="Calibri"/>
              </a:rPr>
              <a:t>Kolagen włóknist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pośród tych substancji w największej obfit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"/>
          <p:cNvSpPr/>
          <p:nvPr/>
        </p:nvSpPr>
        <p:spPr>
          <a:xfrm>
            <a:off x="395280" y="162864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ptydoglikany macierzy skóry właściwej są hydrofilne. Razem z kwasem hialuronowym zdolne są do wiązania wody. W powyższym połączeniu substancje te wpływają na uwodnienie skóry, co skutkuje widocznym zwiększeniem jej ujędr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naukowe wykazały spadek ilości kwasu hialuronowego wraz z wiekiem badanych osobników, co niewątpliwie ma związek ze starzeniem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strogeny w kondycji i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395280" y="184464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Hormony produkowane przez gonady, wpływają na funkcje różnych organów, między innymi skór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wykazały obecność receptorów dla tych hormonów sterydowych w rozmaitych tkankach, w tym także w skór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ecność receptorów świadczy, że tkanka jest docelową dla hormonu, który po związaniu si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łaściwym dla niego receptorem, wywołuje reakcje, doprowadzające do zmian w org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jest estrogenozależnym organ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628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podczas menopauzy spada aktywność gonad, drastycznie spada produkcja estroge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rowadza to do zmian naskórkowych i zmian w obrębie skóry właści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 naskórk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zanik (uwstecznianie) warstw naskórka. Zmniejszenie ilości podziałów w warstwie rozrodczej, naskórek staje się cienki. Pojawiają się przebarwienia/odbarwienia na skutek zaburzeń metabolizmu keratynocytów i melanocy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zmożenie starzenia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okresie menopauz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395280" y="170028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adek ilości estrogenów powoduje w skórze właściwej zaburzenie czynności fibroblastów, a przez to zmniejsza się ilość substancji przez nie produkowanych, miedzy innymi: PG,  kolagenu, kwasu hialuron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niej jest hydroksyproliny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***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o wpływa na zmianę właściwości fizycznych i chemicznych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powoduje: wysuszenie skóry, zwiotcz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lipsa 2"/>
          <p:cNvSpPr/>
          <p:nvPr/>
        </p:nvSpPr>
        <p:spPr>
          <a:xfrm>
            <a:off x="3995640" y="2997360"/>
            <a:ext cx="3024360" cy="2952720"/>
          </a:xfrm>
          <a:prstGeom prst="ellipse">
            <a:avLst/>
          </a:prstGeom>
          <a:solidFill>
            <a:srgbClr val="40404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ronologi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ipsa 3"/>
          <p:cNvSpPr/>
          <p:nvPr/>
        </p:nvSpPr>
        <p:spPr>
          <a:xfrm>
            <a:off x="2771640" y="2060640"/>
            <a:ext cx="2880000" cy="288108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no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ipsa 5"/>
          <p:cNvSpPr/>
          <p:nvPr/>
        </p:nvSpPr>
        <p:spPr>
          <a:xfrm>
            <a:off x="1332000" y="2997360"/>
            <a:ext cx="3024000" cy="2952720"/>
          </a:xfrm>
          <a:prstGeom prst="ellipse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to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6"/>
          <p:cNvSpPr/>
          <p:nvPr/>
        </p:nvSpPr>
        <p:spPr>
          <a:xfrm>
            <a:off x="900000" y="549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tarzenie się skóry jest wynikiem nakładania się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wieczny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5" descr="zmarchy.jpg"/>
          <p:cNvPicPr/>
          <p:nvPr/>
        </p:nvPicPr>
        <p:blipFill>
          <a:blip r:embed="rId1"/>
          <a:stretch/>
        </p:blipFill>
        <p:spPr>
          <a:xfrm>
            <a:off x="2771640" y="1268280"/>
            <a:ext cx="3313080" cy="448308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6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lh3.ggpht.com/_MsZb8mYFoCs/TQmQAN4dKiI/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AAAAAAAMp4/PSdc-2k8va0/s800/Anti-Wrinkle-Cre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 (BTX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32400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neurotoksyna, produkowana przez bakterie </a:t>
            </a:r>
            <a:r>
              <a:rPr b="0" i="1" lang="pl-PL" sz="3200" spc="-1" strike="noStrike">
                <a:solidFill>
                  <a:srgbClr val="948a54"/>
                </a:solidFill>
                <a:latin typeface="Calibri"/>
              </a:rPr>
              <a:t>Clostridium botulin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zechnie znana jako jad kiełbasiany, substancja śmiertelna dla człowieka w dawce 3000 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a w niewielkich dawkach (BTX A) około 60 j., stosowana jest nie tylko w medycynie estetycznej, ale także w neurologii, w leczeniu spastyczności. Używana jest od ponad 20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otulina obniża napięcie mięśni mimicznych – zmniejszenie zmarszc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2565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temu, że toksyna działa w obrębie płytki nerwowo – mięśniowej, hamuje pobudzenie mięśni przez ner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iotczenie mięśni daje rozluźnienie skó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marszczki zmniejszają się, skóra twarzy wygładz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stety, nie jest to działanie trwał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395280" y="83664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fekt po zastosowaniu toksyny botulinowej pojawia się i jest widoczny zazwyczaj po kilkunastu godzinach po iniekcjach. Przemija po 5, 6 miesiąc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 osób powyżej 60 roku życia stosowanie BTX nie przynosi spodziewanych efektów, gdyż botulina nie usuwa zmarszczek statycznych, ale tylko te, które pojawiają się dzięki mimicznym, dynamicznym grymas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692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ateriał obejm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rane teorie dotyczące mechanizmów starzenia się skó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Hayflicka (ograniczonej liczby podziałów komór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a właściwa w starzeniu się powłok ci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estrogenów na proces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 toksyny botulinowej w zabiegach odmładzających skó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iekcja BTX może wywołać także powikłan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sme.rybnik.pl/userfiles/http---www_derma-news_pl-pliki_pdf-nr_2006_11_pdf%20-%20Adobe%20Reader.bmp"/>
          <p:cNvPicPr/>
          <p:nvPr/>
        </p:nvPicPr>
        <p:blipFill>
          <a:blip r:embed="rId1"/>
          <a:stretch/>
        </p:blipFill>
        <p:spPr>
          <a:xfrm>
            <a:off x="468360" y="1844640"/>
            <a:ext cx="3305160" cy="374328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3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me.rybnik.pl/userfiles/http---www_derma-news_pl-pliki_pdf-nr_2006_11_pdf%20-%20Adobe%20Reader.b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3995640" y="177336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adnięcie, wywinięcie powiek, „twarz Mefisto” – uniesienie brwi, „nierówny” uśmi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granicy Hayflicka w starzeniu się komórek (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ojciechznamirowski.eu/wp-content/uploads/2012/06/wrozenie03.jpg"/>
          <p:cNvPicPr/>
          <p:nvPr/>
        </p:nvPicPr>
        <p:blipFill>
          <a:blip r:embed="rId1"/>
          <a:srcRect l="35236" t="0" r="20843" b="39750"/>
          <a:stretch/>
        </p:blipFill>
        <p:spPr>
          <a:xfrm>
            <a:off x="826920" y="1773360"/>
            <a:ext cx="387036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25092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Łącznik prosty ze strzałką 5"/>
          <p:cNvCxnSpPr/>
          <p:nvPr/>
        </p:nvCxnSpPr>
        <p:spPr>
          <a:xfrm flipH="1">
            <a:off x="4427280" y="2133360"/>
            <a:ext cx="180072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Łącznik prosty ze strzałką 9"/>
          <p:cNvCxnSpPr/>
          <p:nvPr/>
        </p:nvCxnSpPr>
        <p:spPr>
          <a:xfrm flipH="1">
            <a:off x="3923640" y="2491920"/>
            <a:ext cx="2377080" cy="1585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4" name="pole tekstowe 12"/>
          <p:cNvSpPr/>
          <p:nvPr/>
        </p:nvSpPr>
        <p:spPr>
          <a:xfrm>
            <a:off x="6379920" y="198900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lom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2"/>
          <p:cNvSpPr/>
          <p:nvPr/>
        </p:nvSpPr>
        <p:spPr>
          <a:xfrm>
            <a:off x="250920" y="1628640"/>
            <a:ext cx="862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– „końcówki” chromosomów, składają się z tysięcy (podwójnych) powtórzeń sekwencji (TTAGGG). Nie zawierają żadnych genów (nie kodują białe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końce chromosomów przed egzonukleazami, mogącymi uszkodzić sekwencje kodują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przed translokacjami i delecja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mutacjami struktural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2"/>
          <p:cNvSpPr/>
          <p:nvPr/>
        </p:nvSpPr>
        <p:spPr>
          <a:xfrm>
            <a:off x="539640" y="198900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„pomagają” systemowi naprawczemu uszkodzeń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ócenie telomerów kieruje komórkę na drogę do spoczynku, wreszcie apoptozy, więc można skracanie tych struktur nazwać czynnikiem ograniczającym liczbę podziałów komórkowych, co w konsekwencji doprowadza do starzenia się, także organu, jakim jest skór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racanie telomerów w trakcie kolejnych podziałów komórki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jciechznamirowski.eu/wp-content/uploads/2012/06/wrozenie03.jpg"/>
          <p:cNvPicPr/>
          <p:nvPr/>
        </p:nvPicPr>
        <p:blipFill>
          <a:blip r:embed="rId1"/>
          <a:srcRect l="37667" t="66634" r="17593" b="1669"/>
          <a:stretch/>
        </p:blipFill>
        <p:spPr>
          <a:xfrm>
            <a:off x="755640" y="2205000"/>
            <a:ext cx="7056360" cy="37306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3"/>
          <p:cNvSpPr/>
          <p:nvPr/>
        </p:nvSpPr>
        <p:spPr>
          <a:xfrm>
            <a:off x="32400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załka w dół 4"/>
          <p:cNvSpPr/>
          <p:nvPr/>
        </p:nvSpPr>
        <p:spPr>
          <a:xfrm rot="5400000">
            <a:off x="7344000" y="5049000"/>
            <a:ext cx="432000" cy="9349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39528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brodaw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„zazębiona” jest z naskórkiem, stąd właśnie nazwa – brodawkowata – gdyż brodawki wnikają pod warstwę rozrodczą naskórka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widoczne dokładnie, następny slajd, I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Znajdują się w niej pętle naczyniowe oraz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. Pomiędzy tymi, jeszcze luźno w tej warstwie ułożonymi włóknami, są obecne naczynka włosowate, receptory, zakończenia nerw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unfarm.pl/media_library/2011/7/1309965417.png"/>
          <p:cNvPicPr/>
          <p:nvPr/>
        </p:nvPicPr>
        <p:blipFill>
          <a:blip r:embed="rId1"/>
          <a:srcRect l="0" t="0" r="7500" b="18944"/>
          <a:stretch/>
        </p:blipFill>
        <p:spPr>
          <a:xfrm>
            <a:off x="395280" y="692280"/>
            <a:ext cx="5329080" cy="50972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4"/>
          <p:cNvSpPr/>
          <p:nvPr/>
        </p:nvSpPr>
        <p:spPr>
          <a:xfrm>
            <a:off x="755640" y="5805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unfarm.pl/media_library/2011/7/1309965417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Łącznik prosty ze strzałką 6"/>
          <p:cNvCxnSpPr/>
          <p:nvPr/>
        </p:nvCxnSpPr>
        <p:spPr>
          <a:xfrm flipH="1">
            <a:off x="4355640" y="1483920"/>
            <a:ext cx="1656720" cy="57708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18" name="Łącznik prosty ze strzałką 9"/>
          <p:cNvCxnSpPr/>
          <p:nvPr/>
        </p:nvCxnSpPr>
        <p:spPr>
          <a:xfrm flipH="1" flipV="1">
            <a:off x="3563280" y="3067920"/>
            <a:ext cx="2377080" cy="129780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9" name="pole tekstowe 12"/>
          <p:cNvSpPr/>
          <p:nvPr/>
        </p:nvSpPr>
        <p:spPr>
          <a:xfrm>
            <a:off x="6012000" y="98100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. Brodawki skóry właściwej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arstwa brodaw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14"/>
          <p:cNvSpPr/>
          <p:nvPr/>
        </p:nvSpPr>
        <p:spPr>
          <a:xfrm>
            <a:off x="6012000" y="378936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I. Włókna kolagenow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elastynowe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.siatecz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9528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siatecz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jest zaopatrzona w grube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świetnie widoczne, II, poprzedni slajd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najdują się w niej nerwy, gruczoły potowe, mieszki włosowe. Sploty włókien zapewniają tej warstwie stosunkowo dużą wytrzymałość mechaniczną (ucis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44:36Z</dcterms:modified>
  <cp:revision>25</cp:revision>
  <dc:subject/>
  <dc:title>Slajd 1</dc:title>
</cp:coreProperties>
</file>