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3653C-5356-4A76-84FC-C21E92BAA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6E228-6BC2-4385-90FD-4910176BC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D0C31-715D-40AE-8E3B-A5ADDC8EE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E8C07-929D-451A-9333-EDAB9A0A5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4C3F7-11BA-4436-93A3-73C779D0E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C65C9-56D1-49FA-AC17-9F0923DE1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19312-B999-4BBD-AD8C-992E9C059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8D3F0-54AF-4187-9619-A54C0F105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B0D46-3E9D-419E-ADD8-9FA950AD0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BF8E1-D35D-46FA-B1A7-02CD0EFC2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787E7-DAA2-43EC-A092-3FA7251A9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FA998-56BE-4BAF-9CC8-5A40489EC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AF780-D99E-4852-B33E-6D1C7C38B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77629-7E2B-4D02-A8F8-D4004B997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DFD16-EFAE-4052-9BF5-219537AAC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B1B8C-599A-401F-95C1-4A3D78111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2DCCB-445B-439D-A643-B06B53CF7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F3907A-1FD6-4FF1-AB6C-A8AD2D7546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DFA42-EACD-4AB1-8203-64F52D204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4C486-A82D-469C-9ECC-53919E2AA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4BA8E8-6641-4EB7-B75A-EF7009E3B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9B8DA-03CB-4168-A529-C6D6C57BD1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E79BC-F67F-4F8F-B4DB-B9F7DB1DC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372B9-0039-422B-9196-FD255AC92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EBDDA-244F-43C0-A80F-A7ACE662D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B0B25-9B01-407E-A8EA-53CD98B47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61E97-7EB5-4036-B1F7-E06E8BA3D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D16427-0552-4E57-9DAA-636639705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2657FA-CFF5-41F5-B224-1F4C4317F8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3EC7F4-29A9-44EC-AB2A-05844785A0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492A-AE79-4662-BF1D-AEB0A396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60AFD-94B9-4DC0-8385-8F09324C1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91BBF-ED15-4058-86D3-4A14D8C45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2E969-DB8F-4187-A04B-0439797A1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12A2-BFE5-40CF-8766-AC2D53B7F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E414-80C8-420E-BAD4-BC0D449F2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B1FA-2DF5-4E4C-A18C-93C25D22F0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68D9-E7E9-4A98-8E24-37AEC5B67E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D925-93D5-425C-9395-9ED068B532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spodnicy.ofeminin.pl/Tekst/Fitness/528590,1,Cwiczenia-izometryczne--proste-cwiczenia-izometryczne.html"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79280" y="1557360"/>
            <a:ext cx="8785440" cy="3240000"/>
          </a:xfrm>
          <a:prstGeom prst="rect">
            <a:avLst/>
          </a:prstGeom>
          <a:noFill/>
          <a:ln w="0">
            <a:noFill/>
          </a:ln>
        </p:spPr>
        <p:txBody>
          <a:bodyPr lIns="92160" rIns="92160" tIns="46080" bIns="46080" anchor="ctr">
            <a:noAutofit/>
          </a:bodyPr>
          <a:p>
            <a:pPr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en-US" sz="2800" spc="-1" strike="noStrike">
                <a:solidFill>
                  <a:srgbClr val="000000"/>
                </a:solidFill>
                <a:latin typeface="Arial"/>
                <a:ea typeface="Arial"/>
              </a:rPr>
              <a:t>FIZYKA KRĘGOSŁUPA” – wirtualna wycieczka badawcza do pracowni rehabilitacji.</a:t>
            </a:r>
            <a:br>
              <a:rPr sz="2800"/>
            </a:br>
            <a:r>
              <a:rPr b="1" lang="en-US" sz="2800" spc="-1" strike="noStrike">
                <a:solidFill>
                  <a:srgbClr val="000000"/>
                </a:solidFill>
                <a:latin typeface="Arial"/>
                <a:ea typeface="Arial"/>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000" y="1915920"/>
            <a:ext cx="8209080" cy="1655640"/>
          </a:xfrm>
          <a:prstGeom prst="rect">
            <a:avLst/>
          </a:prstGeom>
          <a:noFill/>
          <a:ln w="0">
            <a:noFill/>
          </a:ln>
        </p:spPr>
        <p:txBody>
          <a:bodyPr lIns="92160" rIns="92160" tIns="46080" bIns="46080" anchor="ctr">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ZAJE ZABIEGÓW STOSOWNYCH W GABINETACH REHABILITACYJNYCH </a:t>
            </a: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1052640"/>
            <a:ext cx="8569080" cy="4752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Arial"/>
              </a:rPr>
              <a:t>FIZYKOTERAPIA</a:t>
            </a:r>
            <a:br>
              <a:rPr sz="3200"/>
            </a:br>
            <a:br>
              <a:rPr sz="3200"/>
            </a:br>
            <a:r>
              <a:rPr b="1" lang="en-US" sz="2800" spc="-1" strike="noStrike">
                <a:solidFill>
                  <a:srgbClr val="000000"/>
                </a:solidFill>
                <a:latin typeface="Arial"/>
              </a:rPr>
              <a:t>Ogrzewanie</a:t>
            </a:r>
            <a:r>
              <a:rPr b="0" lang="en-US" sz="2800" spc="-1" strike="noStrike">
                <a:solidFill>
                  <a:srgbClr val="000000"/>
                </a:solidFill>
                <a:latin typeface="Arial"/>
              </a:rPr>
              <a:t> – powoduje rozluźnienie tkanek, przekrwienie. Im szybsze krążenie – tym szybsze leczenie. U osób starszych zbyt mocne przegrzanie może prowadzić do reumatyzmu.</a:t>
            </a:r>
            <a:br>
              <a:rPr sz="2800"/>
            </a:br>
            <a:r>
              <a:rPr b="1" lang="en-US" sz="2800" spc="-1" strike="noStrike">
                <a:solidFill>
                  <a:srgbClr val="000000"/>
                </a:solidFill>
                <a:latin typeface="Arial"/>
              </a:rPr>
              <a:t>Krioterapia</a:t>
            </a:r>
            <a:r>
              <a:rPr b="0" lang="en-US" sz="2800" spc="-1" strike="noStrike">
                <a:solidFill>
                  <a:srgbClr val="000000"/>
                </a:solidFill>
                <a:latin typeface="Arial"/>
              </a:rPr>
              <a:t> – nie jest stosowana w leczeniu schorzeń kręgosłupa, ponieważ zimno uwalniane z ciekłego azotu wpływa niekorzystnie na układ mięśniowo – kostny kręgosłu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24000" y="765000"/>
            <a:ext cx="8496000" cy="5183280"/>
          </a:xfrm>
          <a:prstGeom prst="rect">
            <a:avLst/>
          </a:prstGeom>
          <a:noFill/>
          <a:ln w="0">
            <a:noFill/>
          </a:ln>
        </p:spPr>
        <p:txBody>
          <a:bodyPr lIns="92160" rIns="92160" tIns="46080" bIns="4608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KTROTERAPIA – leczenie prądami o różnych parametrach:</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powodujące przekrwienie,</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znieczulające (Ich działanie polega na „oszukiwaniu” impulsów nerwowych odpowiedzialnych za ból poprzez oddziaływanie zewnętrznymi impulsami elektrycznymi),</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stymulujące (wzmocnienie) po skurczu następuje rozkurcz,</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galwaniczne (jonoforeza) po wstępnym zastosowaniu maści znieczulając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549360"/>
            <a:ext cx="8424720" cy="5472000"/>
          </a:xfrm>
          <a:prstGeom prst="rect">
            <a:avLst/>
          </a:prstGeom>
          <a:noFill/>
          <a:ln w="0">
            <a:noFill/>
          </a:ln>
        </p:spPr>
        <p:txBody>
          <a:bodyPr lIns="92160" rIns="92160" tIns="46080" bIns="4608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ŚWIATŁOLECZNICTWO:</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podczerwone (ogrzewanie) działa na tkanki rozluźniająco,</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spolaryzowane (większa przenikliwość) oddziaływanie na progu komórkowym,</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laserowe (o długości fali 600 – 800 nm, mocy 0,6 W) rozproszone soczewką dziła na poziomie komórkowym, powodujące zwiększenie przepuszczalności błony komórkowe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7" name="Text Box 4"/>
          <p:cNvSpPr/>
          <p:nvPr/>
        </p:nvSpPr>
        <p:spPr>
          <a:xfrm>
            <a:off x="324000" y="981000"/>
            <a:ext cx="8424720" cy="4596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YDROTERAPIA – leczenie z użyciem  wody, najczęściej ciepłej, powodującej ogrzanie i rozluźnienie tkanek. </a:t>
            </a:r>
            <a:br>
              <a:rPr sz="2400"/>
            </a:br>
            <a:r>
              <a:rPr b="0" lang="pl-PL" sz="2400" spc="-1" strike="noStrike">
                <a:solidFill>
                  <a:srgbClr val="000000"/>
                </a:solidFill>
                <a:latin typeface="Arial"/>
              </a:rPr>
              <a:t>Co ważne w tej terapii działamy na dużą powierzchnię ciała w odróżnieniu np. od masażu. Jedną z form hydroterapii jest pływanie (dowolnym stylem). W ten sposób uruchamiamy różne partie mięśni, przy jednoczesnym odciążeniu, które powoduje siła wyporu wody.</a:t>
            </a:r>
            <a:r>
              <a:rPr b="0" lang="pl-PL" sz="3200" spc="-1" strike="noStrike">
                <a:solidFill>
                  <a:srgbClr val="000000"/>
                </a:solidFill>
                <a:latin typeface="Arial"/>
              </a:rPr>
              <a:t> </a:t>
            </a:r>
            <a:endParaRPr b="0" lang="en-US" sz="3200" spc="-1" strike="noStrike">
              <a:solidFill>
                <a:srgbClr val="ffff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55280" y="764640"/>
            <a:ext cx="7488360" cy="5256360"/>
          </a:xfrm>
          <a:prstGeom prst="rect">
            <a:avLst/>
          </a:prstGeom>
          <a:noFill/>
          <a:ln w="0">
            <a:noFill/>
          </a:ln>
        </p:spPr>
        <p:txBody>
          <a:bodyPr lIns="92160" rIns="92160" tIns="46080" bIns="46080" anchor="ctr">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ystemy monitorowania ruchów kręgosłu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755640" y="765000"/>
            <a:ext cx="7632720" cy="935280"/>
          </a:xfrm>
          <a:prstGeom prst="rect">
            <a:avLst/>
          </a:prstGeom>
          <a:noFill/>
          <a:ln w="0">
            <a:noFill/>
          </a:ln>
        </p:spPr>
        <p:txBody>
          <a:bodyPr lIns="92160" rIns="92160" tIns="46080" bIns="46080" anchor="t">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onitorowanie ruchów kręgosłupa</a:t>
            </a:r>
            <a:endParaRPr b="0" lang="en-US" sz="3600" spc="-1" strike="noStrike">
              <a:solidFill>
                <a:srgbClr val="000000"/>
              </a:solidFill>
              <a:latin typeface="Arial"/>
            </a:endParaRPr>
          </a:p>
        </p:txBody>
      </p:sp>
      <p:sp>
        <p:nvSpPr>
          <p:cNvPr id="150" name=""/>
          <p:cNvSpPr/>
          <p:nvPr/>
        </p:nvSpPr>
        <p:spPr>
          <a:xfrm>
            <a:off x="1042920" y="5661000"/>
            <a:ext cx="705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 http://www.youtube.com/watch?feature=player_embedded&amp;v=22SAt2f6ol8</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39640" y="692280"/>
            <a:ext cx="813600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ASADY PRAWIDŁOWEGO WYKONYWANIA CODZIENNYCH CZYNNOŚCI</a:t>
            </a:r>
            <a:endParaRPr b="0" lang="en-US" sz="32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Utrzymuj proste plecy.</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iedzenie - jako czynność bardziej szkodzi kręgosłupowi niż stanie czy chodzenie.</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Nie garb się!</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ie zakładaj nogi na nogę.</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hodząc bądź zawsze wyprostowany. Używaj schodów - to dobry trening dla mięśni nóg i kręgosłupa, a także dla układu krwionośnego i oddechowego.</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chylając się, dźwigając uginaj nogi w kolanach, utrzymując proste plecy.</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Przy noszeniu dużego ciężaru utrzymuj proste plecy i obciążaj równo obie ręce.</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84360" y="692280"/>
            <a:ext cx="7848360" cy="2749320"/>
          </a:xfrm>
          <a:prstGeom prst="rect">
            <a:avLst/>
          </a:prstGeom>
          <a:ln w="0">
            <a:noFill/>
          </a:ln>
        </p:spPr>
      </p:pic>
      <p:sp>
        <p:nvSpPr>
          <p:cNvPr id="153" name=""/>
          <p:cNvSpPr/>
          <p:nvPr/>
        </p:nvSpPr>
        <p:spPr>
          <a:xfrm>
            <a:off x="611280" y="3716280"/>
            <a:ext cx="8064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54" name="" descr=""/>
          <p:cNvPicPr/>
          <p:nvPr/>
        </p:nvPicPr>
        <p:blipFill>
          <a:blip r:embed="rId2"/>
          <a:stretch/>
        </p:blipFill>
        <p:spPr>
          <a:xfrm>
            <a:off x="684360" y="3573360"/>
            <a:ext cx="7991280" cy="224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844640"/>
            <a:ext cx="81360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yższe zdjęcia pokazują prawidłowe i nieprawidłowe (przekreślone) postawy podczas wykonywania codziennych czynności życiowych. W prawidłowych postawach momenty sił działających na kręgosłup i siły wzajemnego oddziaływania między kręgami są minimalizowane, przez co zmniejsza się ryzyko wystąpienia urazów i zwyrodnień kręgosłupa.</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3"/>
          <p:cNvSpPr/>
          <p:nvPr/>
        </p:nvSpPr>
        <p:spPr>
          <a:xfrm>
            <a:off x="395280" y="1773360"/>
            <a:ext cx="8497800" cy="32583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ea typeface="Arial"/>
              </a:rPr>
              <a:t>WSPÓŁCZESNE PRACOWNIE REHABILITACYJNE</a:t>
            </a:r>
            <a:endParaRPr b="0" lang="en-US" sz="4400" spc="-1" strike="noStrike">
              <a:solidFill>
                <a:srgbClr val="ffff00"/>
              </a:solidFill>
              <a:latin typeface="Arial"/>
            </a:endParaRPr>
          </a:p>
          <a:p>
            <a:pPr algn="ct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11280" y="2492280"/>
            <a:ext cx="770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ejny slajd przedstawia proces tworzenia się zmian zwyrodnieniowych kręgosłupa.</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640" y="765000"/>
            <a:ext cx="7632720" cy="935280"/>
          </a:xfrm>
          <a:prstGeom prst="rect">
            <a:avLst/>
          </a:prstGeom>
          <a:noFill/>
          <a:ln w="0">
            <a:noFill/>
          </a:ln>
        </p:spPr>
        <p:txBody>
          <a:bodyPr lIns="92160" rIns="92160" tIns="46080" bIns="46080" anchor="t">
            <a:no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imacja zmian zwyrodnieniowych kręgosłupa</a:t>
            </a:r>
            <a:endParaRPr b="0" lang="en-US" sz="2800" spc="-1" strike="noStrike">
              <a:solidFill>
                <a:srgbClr val="000000"/>
              </a:solidFill>
              <a:latin typeface="Arial"/>
            </a:endParaRPr>
          </a:p>
        </p:txBody>
      </p:sp>
      <p:sp>
        <p:nvSpPr>
          <p:cNvPr id="158" name=""/>
          <p:cNvSpPr/>
          <p:nvPr/>
        </p:nvSpPr>
        <p:spPr>
          <a:xfrm>
            <a:off x="1042920" y="5661000"/>
            <a:ext cx="705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 </a:t>
            </a:r>
            <a:r>
              <a:rPr b="0" lang="pl-PL" sz="1200" spc="-1" strike="noStrike">
                <a:solidFill>
                  <a:srgbClr val="ffff00"/>
                </a:solidFill>
                <a:latin typeface="Arial"/>
              </a:rPr>
              <a:t>http://www.youtube.com/watch?feature=player_embedded&amp;v=T_LogG7uYeI</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10920" y="1628640"/>
            <a:ext cx="7848360" cy="3600720"/>
          </a:xfrm>
          <a:prstGeom prst="rect">
            <a:avLst/>
          </a:prstGeom>
          <a:noFill/>
          <a:ln w="0">
            <a:noFill/>
          </a:ln>
        </p:spPr>
        <p:txBody>
          <a:bodyPr lIns="92160" rIns="92160" tIns="46080" bIns="46080" anchor="ctr">
            <a:noAutofit/>
          </a:bodyPr>
          <a:p>
            <a:pPr algn="just">
              <a:lnSpc>
                <a:spcPct val="2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ĆWICZENIA W POZYCJACH IZOLOWANYCH - to ćwiczenia, w czasie których angażowana jest jedna, wybrana grupa mięśni. Pozostałe partie mięśniowe są całkowicie odciąż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5292720" y="620640"/>
            <a:ext cx="3672000" cy="55987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GUL (Uniwersalny Gabinet Usprawniania Leżącego) – </a:t>
            </a:r>
            <a:br>
              <a:rPr sz="1800"/>
            </a:br>
            <a:r>
              <a:rPr b="1" lang="pl-PL" sz="1800" spc="-1" strike="noStrike">
                <a:solidFill>
                  <a:srgbClr val="000000"/>
                </a:solidFill>
                <a:latin typeface="Arial"/>
              </a:rPr>
              <a:t>to (podobnie jak w pozycjach izolowanych) ćwiczenia wykonywane w pozycji leżącej w taki sposób, aby uruchomić wybraną partię mięśni przy jednoczesnym odciążeniu innych. fot. obok;</a:t>
            </a:r>
            <a:endParaRPr b="0" lang="en-US" sz="1800" spc="-1" strike="noStrike">
              <a:solidFill>
                <a:srgbClr val="ffff00"/>
              </a:solidFill>
              <a:latin typeface="Arial"/>
            </a:endParaRPr>
          </a:p>
          <a:p>
            <a:pPr algn="just">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00"/>
                </a:solidFill>
                <a:latin typeface="Arial"/>
              </a:rPr>
              <a:t>http://www.gortomed.pl/sprzet_rehabilitacyjny/kabina_ugul/uniwersalny_gabinet_usprawniania_leczniczego.php</a:t>
            </a:r>
            <a:endParaRPr b="0" lang="en-US" sz="1200" spc="-1" strike="noStrike">
              <a:solidFill>
                <a:srgbClr val="ffff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pic>
        <p:nvPicPr>
          <p:cNvPr id="133" name="" descr=""/>
          <p:cNvPicPr/>
          <p:nvPr/>
        </p:nvPicPr>
        <p:blipFill>
          <a:blip r:embed="rId1"/>
          <a:stretch/>
        </p:blipFill>
        <p:spPr>
          <a:xfrm>
            <a:off x="250920" y="765000"/>
            <a:ext cx="484812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95280" y="620280"/>
            <a:ext cx="8424720" cy="5545080"/>
          </a:xfrm>
          <a:prstGeom prst="rect">
            <a:avLst/>
          </a:prstGeom>
          <a:noFill/>
          <a:ln w="0">
            <a:noFill/>
          </a:ln>
        </p:spPr>
        <p:txBody>
          <a:bodyPr lIns="92160" rIns="92160" tIns="46080" bIns="4608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ĆWICZENIA IZOMETRYCZNE</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estaw ćwiczeń izometrycznych do wykonania w szkolnej ławce, lub przy biurku</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Ćwiczenia - mięśnie szyi</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d na krześle bez opierania się o oparcie, </a:t>
            </a:r>
            <a:r>
              <a:rPr b="1" lang="en-US" sz="1400" spc="-1" strike="noStrike">
                <a:solidFill>
                  <a:srgbClr val="000000"/>
                </a:solidFill>
                <a:latin typeface="Arial"/>
              </a:rPr>
              <a:t>plecy i szyja wyprostowane</a:t>
            </a:r>
            <a:r>
              <a:rPr b="0" lang="en-US" sz="1400" spc="-1" strike="noStrike">
                <a:solidFill>
                  <a:srgbClr val="000000"/>
                </a:solidFill>
                <a:latin typeface="Arial"/>
              </a:rPr>
              <a:t>, ręce splecione za głową, łopatki ściągnięte, łokcie skierowane w bok. Równoczesny nacisk głową w tył na ręce i rękami w przód na głowę. Utrzymanie pozycji 5 s, następnie rozluźnienie i odpoczynek przez 10 s. 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zeniesienie splecionych rąk do przodu, na czoło, łokcie skierowane w bok. Równoczesny nacisk głową w przód na ręce i rękami w tył na głowę. Utrzymanie pozycji 5 s, następnie rozluźnienie i odpoczynek przez 10 s. </a:t>
            </a:r>
            <a:r>
              <a:rPr b="1" lang="en-US" sz="1400" spc="-1" strike="noStrike">
                <a:solidFill>
                  <a:srgbClr val="000000"/>
                </a:solidFill>
                <a:latin typeface="Arial"/>
              </a:rPr>
              <a:t>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łożenie splecionych</a:t>
            </a:r>
            <a:r>
              <a:rPr b="1" lang="en-US" sz="1400" spc="-1" strike="noStrike">
                <a:solidFill>
                  <a:srgbClr val="000000"/>
                </a:solidFill>
                <a:latin typeface="Arial"/>
              </a:rPr>
              <a:t> dłoni na głowie od góry</a:t>
            </a:r>
            <a:r>
              <a:rPr b="0" lang="en-US" sz="1400" spc="-1" strike="noStrike">
                <a:solidFill>
                  <a:srgbClr val="000000"/>
                </a:solidFill>
                <a:latin typeface="Arial"/>
              </a:rPr>
              <a:t>, łokcie skierowane w bok. Równoczesny nacisk głową </a:t>
            </a:r>
            <a:br>
              <a:rPr sz="1400"/>
            </a:br>
            <a:r>
              <a:rPr b="0" lang="en-US" sz="1400" spc="-1" strike="noStrike">
                <a:solidFill>
                  <a:srgbClr val="000000"/>
                </a:solidFill>
                <a:latin typeface="Arial"/>
              </a:rPr>
              <a:t>w górę na ręce i rękami w dół na głowę. Utrzymanie pozycji 5 s, następnie rozluźnienie i odpoczynek przez 10 s. 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łożenie prawej ręki z boku głowy, nad uchem, łokieć skierowany w bok, szyja wyprostowana. Równoczesny nacisk głową w bok na rękę i ręką na głowę. Utrzymanie pozycji 5 s, następnie rozluźnienie i odpoczynek przez 10 s. Powtórzyć 10 - 20 razy na obie strony. Na zakończenie wykonać 10 wolnych okrążeń głową w celu rozluźnienia mięśni szyi.</a:t>
            </a:r>
            <a:endParaRPr b="0" lang="en-US" sz="14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Źródło: </a:t>
            </a:r>
            <a:r>
              <a:rPr b="0" lang="en-US" sz="1100" spc="-1" strike="noStrike" u="sng">
                <a:solidFill>
                  <a:srgbClr val="0000ff"/>
                </a:solidFill>
                <a:uFillTx/>
                <a:latin typeface="Arial"/>
                <a:hlinkClick r:id="rId1"/>
              </a:rPr>
              <a:t>http://w-spodnicy.ofeminin.pl/Tekst/Fitness/528590,1,Cwiczenia-izometryczne--proste-cwiczenia-izometryczne.html</a:t>
            </a:r>
            <a:endParaRPr b="0" lang="en-US" sz="11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68000" y="691920"/>
            <a:ext cx="8209080" cy="5327640"/>
          </a:xfrm>
          <a:prstGeom prst="rect">
            <a:avLst/>
          </a:prstGeom>
          <a:noFill/>
          <a:ln w="0">
            <a:noFill/>
          </a:ln>
        </p:spPr>
        <p:txBody>
          <a:bodyPr lIns="92160" rIns="92160" tIns="46080" bIns="46080" anchor="t">
            <a:noAutofit/>
          </a:bodyPr>
          <a:p>
            <a:pP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ĆWICZENIA IZOMETRYCZNE cd.</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 czym powinnaś pamiętać:</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konując ćwiczenia izotermiczne należy uważać, żeby nie doprowadzić do przetrenowania, czy też nadmiernego zmęczenia. Następstwem przetrenowania jest ból mięśni, natomiast przemęczenie owocuje zwykle zniechęceniem do tego rodzaju treningu. Dlatego też należy przestrzegać czas skurczu 5 s. i czasu odpoczynku między skurczami 5-10 s. </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usisz też wiedzieć, że skurcze izometryczne pogarszają warunki ukrwienia ćwiczonych mięśni. Bardzo często bowiem podczas napięcia mięśni wstrzymuje się oddech. Dlatego stosuj krótkie przerwy, żeby mięśnie z powrotem „dotlenić".</a:t>
            </a:r>
            <a:endParaRPr b="0" lang="en-US" sz="14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Źródło: </a:t>
            </a:r>
            <a:r>
              <a:rPr b="0" lang="pl-PL" sz="1100" spc="-1" strike="noStrike">
                <a:solidFill>
                  <a:srgbClr val="000000"/>
                </a:solidFill>
                <a:latin typeface="Arial"/>
              </a:rPr>
              <a:t>http://w-spodnicy.ofeminin.pl/Tekst/Fitness/528590,1,Cwiczenia-izometryczne--proste-cwiczenia-izometryczne.htm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39280" y="2133720"/>
            <a:ext cx="8209080" cy="1295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APY MASTER</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
          <p:cNvSpPr/>
          <p:nvPr/>
        </p:nvSpPr>
        <p:spPr>
          <a:xfrm>
            <a:off x="468360" y="5589720"/>
            <a:ext cx="7920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res URL filmu</a:t>
            </a:r>
            <a:r>
              <a:rPr b="0" lang="en-US" sz="1200" spc="-1" strike="noStrike">
                <a:solidFill>
                  <a:srgbClr val="000000"/>
                </a:solidFill>
                <a:latin typeface="Arial"/>
              </a:rPr>
              <a:t>: http://www.youtube.com/watch?feature=player_embedded&amp;v=E_APCR9zcyo</a:t>
            </a:r>
            <a:endParaRPr b="0" lang="en-US" sz="1200" spc="-1" strike="noStrike">
              <a:solidFill>
                <a:srgbClr val="ffff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440" y="836280"/>
            <a:ext cx="8062920" cy="1079640"/>
          </a:xfrm>
          <a:prstGeom prst="rect">
            <a:avLst/>
          </a:prstGeom>
          <a:noFill/>
          <a:ln w="0">
            <a:noFill/>
          </a:ln>
        </p:spPr>
        <p:txBody>
          <a:bodyPr lIns="92160" rIns="92160" tIns="46080" bIns="4608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rapia: Metoda McKenziego </a:t>
            </a:r>
            <a:endParaRPr b="0" lang="en-US" sz="3200" spc="-1" strike="noStrike">
              <a:solidFill>
                <a:srgbClr val="000000"/>
              </a:solidFill>
              <a:latin typeface="Arial"/>
            </a:endParaRPr>
          </a:p>
        </p:txBody>
      </p:sp>
      <p:sp>
        <p:nvSpPr>
          <p:cNvPr id="139" name=""/>
          <p:cNvSpPr/>
          <p:nvPr/>
        </p:nvSpPr>
        <p:spPr>
          <a:xfrm>
            <a:off x="611280" y="5950080"/>
            <a:ext cx="792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dres URL filmu: http://www.youtube.com/watch?feature=player_embedded&amp;v=3-umL2juiCs</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440" y="836640"/>
            <a:ext cx="8062920" cy="5113440"/>
          </a:xfrm>
          <a:prstGeom prst="rect">
            <a:avLst/>
          </a:prstGeom>
          <a:noFill/>
          <a:ln w="0">
            <a:noFill/>
          </a:ln>
        </p:spPr>
        <p:txBody>
          <a:bodyPr lIns="92160" rIns="92160" tIns="46080" bIns="4608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Ćwiczenia: Metoda McKenziego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to metoda odkryta przypadkiem przez R. McKenziego. Wcześniejsze metody odciążające kręgosłup polegały na ustawieniu pacjenta w pozycji embrionalnej, do której przygotowane były łóżka z zagłębieniem. McKenzi pracując z jednym z pacjentów nakazał mu położyć się na takim właśnie łóżku. Pacjent położył się na brzuchu co spowodowało wygięcie kręgosłupa w przeciwną stronę. Stwierdzono, że takie   ułożenie również gwarantuje odciążenia. Metoda ta została nazwana McKenziego.</a:t>
            </a:r>
            <a:endParaRPr b="0" lang="en-US" sz="2400" spc="-1" strike="noStrike">
              <a:solidFill>
                <a:srgbClr val="000000"/>
              </a:solidFill>
              <a:latin typeface="Arial"/>
            </a:endParaRPr>
          </a:p>
        </p:txBody>
      </p:sp>
      <p:sp>
        <p:nvSpPr>
          <p:cNvPr id="141" name=""/>
          <p:cNvSpPr/>
          <p:nvPr/>
        </p:nvSpPr>
        <p:spPr>
          <a:xfrm>
            <a:off x="611280" y="5950080"/>
            <a:ext cx="792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a:t>
            </a:r>
            <a:r>
              <a:rPr b="0" lang="pl-PL" sz="1200" spc="-1" strike="noStrike">
                <a:solidFill>
                  <a:srgbClr val="ffff00"/>
                </a:solidFill>
                <a:latin typeface="Arial"/>
              </a:rPr>
              <a:t>http://www.youtube.com/watch?feature=player_embedded&amp;v=H5EIllbDOx0</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7-22T07:10:09Z</dcterms:modified>
  <cp:revision>159</cp:revision>
  <dc:subject/>
  <dc:title>KORPUSKULARNO-FALOWA NATURA ŚWIATŁA</dc:title>
</cp:coreProperties>
</file>