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65D-874A-4B53-8887-F22E672FADF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3104-B3FC-416E-B6FA-0A7255618E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1CC1-831A-4884-B5C5-4643F5285F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840-FEB2-4C74-8DD0-C8984BD6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CCA-E931-4311-A4F4-5262C4F4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8A5-3C3E-4497-B0B9-8B9265EC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6FD-77FF-45DB-8F3C-75A9F053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934B-0DB0-479D-9BB9-92C96B21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208A-229C-4350-9EE7-DFE8CF19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F358-1080-467F-A6B5-BA70A94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38F8-177C-460B-99E3-ADCE36F1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02F4-6624-4059-9BC1-85A6C18E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4024-41B5-413F-8BE6-34E33ECD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0FE-6644-44C9-BCD1-870F2A16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FBF-B1FC-4665-B723-08775181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41A1-E997-483E-AD36-0ACBAF5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C9BD-C178-4643-9681-18740A2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3C2D-832A-459A-903E-210A7A02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4AC5-3DCF-4066-BE1E-FDA8A8E7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1A29-2679-4D1B-A65B-BAF8B707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522-7718-4939-AF89-3654D0FE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906-FF76-4CC2-BAF0-53A41DF1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CF5-2660-4AD9-AAD6-E5B6C84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B05-EF17-4271-A681-02BF8995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130-0DC1-4BB1-A17B-0A7FDB8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DD7-A9AF-4E5C-976A-E9C18A0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290-7440-4F06-B55A-613F68B1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042-17D7-40AF-AC87-39DE1494AE1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4A10-7721-4E2C-AB22-06FBDD50677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49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6000" y="6021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 pod napięciem, wytwarza krótki impuls, według wyliczeń, przy średniej prędkości fal ultradźwiękowych  w tkankach i penetracji około 20 cm, echo wraca w czasie 0,25 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stosuje się na przykład w neurolo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wyniku badania otrzymujemy na osi (poziomej) ekranu – czas powrotu echa, jest  to informacja o odległości powierzchni granicznych t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tak zwana metoda – prezentacja A, którą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196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0 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upa 6"/>
          <p:cNvGrpSpPr/>
          <p:nvPr/>
        </p:nvGrpSpPr>
        <p:grpSpPr>
          <a:xfrm>
            <a:off x="1042920" y="2060640"/>
            <a:ext cx="7434000" cy="3170160"/>
            <a:chOff x="1042920" y="2060640"/>
            <a:chExt cx="7434000" cy="3170160"/>
          </a:xfrm>
        </p:grpSpPr>
        <p:pic>
          <p:nvPicPr>
            <p:cNvPr id="211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1042920" y="2060640"/>
              <a:ext cx="396108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2" name="Łącznik prosty ze strzałką 4"/>
            <p:cNvCxnSpPr/>
            <p:nvPr/>
          </p:nvCxnSpPr>
          <p:spPr>
            <a:xfrm flipH="1">
              <a:off x="2626560" y="3715560"/>
              <a:ext cx="302508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3" name="pole tekstowe 8"/>
            <p:cNvSpPr/>
            <p:nvPr/>
          </p:nvSpPr>
          <p:spPr>
            <a:xfrm>
              <a:off x="558648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385840" cy="5434200"/>
            <a:chOff x="395280" y="907920"/>
            <a:chExt cx="838584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720" cy="122400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7954200" cy="5434200"/>
              <a:chOff x="826920" y="907920"/>
              <a:chExt cx="795420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7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400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4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2000" y="1196640"/>
                <a:ext cx="216072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45640" y="5589720"/>
                <a:ext cx="25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-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04Z</dcterms:modified>
  <cp:revision>50</cp:revision>
  <dc:subject/>
  <dc:title>Slajd 1</dc:title>
</cp:coreProperties>
</file>