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EADD-4D59-470A-881A-9BB77AFEB80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2181-C18C-484C-80E6-093AEB7AD4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6CD6-7EB6-4A82-A665-2381F3CF7DA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66A-A2F6-4E09-B2A8-7FA234F7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C5D-C26F-4CD6-9BE7-95D3A3CC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2A5-237D-4F0C-8696-1B688F81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B50-6D74-4F7E-B64D-899405C8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DE19-867B-44F5-AD11-C935F4AB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2532-7FB7-48F8-91D9-20BADDE6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E7A3-AD34-44D9-9039-9AC97AA0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A8EE-023E-4C7B-A43E-5A01B079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0878-E5A1-4AF3-B812-C5AF4A92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2261-2653-4206-8655-93054486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998E-28CD-47F8-8A93-731A7A37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E04-1637-4C0B-8E5B-97EE3D66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5C4E-80DE-4886-BDE8-812AE44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E73B-8C3B-4D64-BFA5-5AF46904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9758-E9DF-40F0-AD82-3DC61881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FDE3-C13D-4FED-87DD-804F51F6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11E4-DCB4-4EF1-B5B4-0C8CBCBA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064-D749-4647-B9C3-4C377C19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94C-AFDF-49A6-8212-07F628ED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507-19E6-410C-BE09-B0C44BD7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493-4861-4899-94C9-DAB670B4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AEA-4967-4CF9-8D5C-BAAB1481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79A-25F0-4EAA-9C2C-C806A906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C38-2C49-4466-94EB-1F2ACA3B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4126-12D5-43AE-84A4-315BFBC32B4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AABC-A2C0-42A4-B05A-589FE169B9E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79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SG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teriały przygotowujące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o wycieczki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826920" y="443700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1"/>
          <p:cNvSpPr/>
          <p:nvPr/>
        </p:nvSpPr>
        <p:spPr>
          <a:xfrm>
            <a:off x="395280" y="476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lokowanie przepływu krwi w naczyniach może byś spowodowane skrzepami, które kumulują się najczęściej w miejscach zwężenia tętn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wężenie tętnic postępuje z wiekiem. Palenie papierosów, stres, otyłość to czynniki podnoszące ryzyko. Brak ruchu, na przykład po dłuższym unieruchomieniu (hipokinezja), wpływa na zwolnienie przepływu krwi, a to jest jednym z czynników zwiększających ryzyko zakrzep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468360" y="98100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wnątrz żył znajdują się niewielkie „płatki”, pracujące w jednym kierunku zastawki, które –zamykając się – uniemożliwiają cofanie się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żeli ściana żył traci elastyczność, to zastawki nieprawidłowo funkcjonują, nie są szczelne, krew cofa się, co powoduje obrzęki i powiększanie się żył, a nawet zgrub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1"/>
          <p:cNvSpPr/>
          <p:nvPr/>
        </p:nvSpPr>
        <p:spPr>
          <a:xfrm>
            <a:off x="468360" y="83664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zdrowia, a nawet życia groźne jest zablokowanie przepływu krwi, w wyniku czego powstaj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krwienny udar mózg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or tętnicy płucnej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or naczyń wieńc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jednokrotnie, duży skrzep usuwany jest chirurgicznie, zatem bardzo ważna jest lokalizacja skrzep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51280" y="404640"/>
            <a:ext cx="30970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. Prawidłowy przepływ krwi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. Nieprawidłowy  przepływ kr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artmed.net/data/uploads/page/usgdoppler02.jpg"/>
          <p:cNvPicPr/>
          <p:nvPr/>
        </p:nvPicPr>
        <p:blipFill>
          <a:blip r:embed="rId1"/>
          <a:stretch/>
        </p:blipFill>
        <p:spPr>
          <a:xfrm>
            <a:off x="539640" y="476280"/>
            <a:ext cx="5040360" cy="536112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4"/>
          <p:cNvSpPr/>
          <p:nvPr/>
        </p:nvSpPr>
        <p:spPr>
          <a:xfrm>
            <a:off x="1837800" y="134136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5"/>
          <p:cNvSpPr/>
          <p:nvPr/>
        </p:nvSpPr>
        <p:spPr>
          <a:xfrm>
            <a:off x="3638520" y="119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6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-7G8gdGXZ7A/T5EnFtsyKMI/AAAAAAAACvM/CYApri7GgVw/s1600/varices-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e dopplerowskie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2"/>
          <p:cNvSpPr/>
          <p:nvPr/>
        </p:nvSpPr>
        <p:spPr>
          <a:xfrm>
            <a:off x="395280" y="1484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badanie, dające dodatkową informację o kierunku przepływu krwi, o funkcjonowaniu zastawek. W obrazie uzyskanym tą metodą widoczne jest, gdzie wolniej (w porównaniu do wzorca) płynie krew, widać także, gdzie się cof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e to pozwala na wykrywanie zwężeń naczyń krwionośnych, pozwala na śledzenie przekroju  naczyń, ich u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http://www.sonomedszczecin.pl/wp-content/gallery/glowna/17.jpg"/>
          <p:cNvPicPr/>
          <p:nvPr/>
        </p:nvPicPr>
        <p:blipFill>
          <a:blip r:embed="rId1"/>
          <a:stretch/>
        </p:blipFill>
        <p:spPr>
          <a:xfrm>
            <a:off x="1692360" y="1917720"/>
            <a:ext cx="548316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Prostokąt 3"/>
          <p:cNvSpPr/>
          <p:nvPr/>
        </p:nvSpPr>
        <p:spPr>
          <a:xfrm>
            <a:off x="1187280" y="58053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sonomedszczecin.pl/wp-content/gallery/glowna/17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468360" y="47628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ieg badania USG opartego o zjawisko Doppl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539640" y="90792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badaniu dopplerowskim, emitowane przez głowicę ultradźwięki odbijają się od poruszającej się „masy krwinek” w naczyniach, odbicie powraca do głowicy (sondy). Zbliżanie się przeszkody, od której odbija się fala, czyli krwinek – powoduje wzrost częstotliwości, oddalanie zaś – zmniejszenie częstotliwości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any te są rejestrowane i wyrażane na monito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pcja dopplerowska w badaniu USG – polega na uwidocznieniu widma przepływ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468360" y="270828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chnicznie metoda ta nie różni się od metody USG, ale uzyskany w badaniu wykres, jest odwzorowaniem prędkości ruchu krwi w czasie, przez obszar wyznaczony (nazywany bramką dopplerowską – czyli wydzielony fragment światła naczynia krwionośnego, każdorazowo badan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onywanie badania dopple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3"/>
          <p:cNvSpPr/>
          <p:nvPr/>
        </p:nvSpPr>
        <p:spPr>
          <a:xfrm>
            <a:off x="61128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worldwidewounds.com/2001/march/Vowden/images/doppler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www.worldwidewounds.com/2001/march/Vowden/images/doppler4.jpg"/>
          <p:cNvPicPr/>
          <p:nvPr/>
        </p:nvPicPr>
        <p:blipFill>
          <a:blip r:embed="rId1"/>
          <a:stretch/>
        </p:blipFill>
        <p:spPr>
          <a:xfrm>
            <a:off x="1776240" y="1844640"/>
            <a:ext cx="55915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e kończy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2"/>
          <p:cNvSpPr/>
          <p:nvPr/>
        </p:nvSpPr>
        <p:spPr>
          <a:xfrm>
            <a:off x="468360" y="1989000"/>
            <a:ext cx="799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badania kończyn, wokół ud, podudzi oraz kostek (na zdjęciu – poprzedni slajd), umieszcza się mankiety mierzące ciśnie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datkowo, oprócz obrazu na monitorze, sygnał dźwiękowy wskazuje wartość ciśnienia krwi w odpowiednim czasie trwania bada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ie będziemy mówić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filatelisty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http://th.physik.uni-frankfurt.de/%7Ejr/gif/stamps/stamp_doppler.jpg"/>
          <p:cNvPicPr/>
          <p:nvPr/>
        </p:nvPicPr>
        <p:blipFill>
          <a:blip r:embed="rId1"/>
          <a:stretch/>
        </p:blipFill>
        <p:spPr>
          <a:xfrm>
            <a:off x="395280" y="1916280"/>
            <a:ext cx="3076560" cy="374328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5"/>
          <p:cNvSpPr/>
          <p:nvPr/>
        </p:nvSpPr>
        <p:spPr>
          <a:xfrm>
            <a:off x="395280" y="59500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th.physik.uni-frankfurt.de/~jr/gif/stamps/stamp_doppl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6"/>
          <p:cNvSpPr/>
          <p:nvPr/>
        </p:nvSpPr>
        <p:spPr>
          <a:xfrm>
            <a:off x="3708360" y="1844640"/>
            <a:ext cx="4824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hrystian Andreas Dop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czta Republiki Austrii upamiętniła 150 rocznic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blikowania tak zwanego efektu Doppler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znaczek wydany w 1992 rok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468360" y="33336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dopplerowskie w kontroli ciąż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3"/>
          <p:cNvSpPr/>
          <p:nvPr/>
        </p:nvSpPr>
        <p:spPr>
          <a:xfrm>
            <a:off x="395280" y="191628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ntroli przebiegu ciąży bardzo istotne jest prawidłowe krążenie maciczno – płodowe. Krążenie w tętnicach macicznych, tętn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żyle pępowinowej, naczyniach płod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prawidłowy przepływ krwi, wykazany w badaniach dopplerowskich jest ISTOTNYM wskazaniem do monitorowania przebiegu ciąży, gdyż może doprowadzić do zagrożenia życia pło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rostokąt 2"/>
          <p:cNvSpPr/>
          <p:nvPr/>
        </p:nvSpPr>
        <p:spPr>
          <a:xfrm>
            <a:off x="539640" y="126828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hrystian Andreas Doppler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1803 – 1853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rodzony w Salzburgu, profesor fizyki doświadczalnej Uniwersytetu Wiedeński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1842 opublikował pracę „O kolorowym świetle gwiazd podwójnych”, uzasadnił w niej obserwowane w optyce i akustyce zjawisko, polegające na zmianie częstotliwości fal, przy ruchu względnym obserwatora i źródła f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ciąg i grająca orkiestr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2"/>
          <p:cNvSpPr/>
          <p:nvPr/>
        </p:nvSpPr>
        <p:spPr>
          <a:xfrm>
            <a:off x="539640" y="17002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ś na drodze, pomiędzy Utrech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Amsterdamem, w czerwcu 1845 roku, Christoph Diederid Buys Balled potwierdza doświadczalnie, że zmienia się częstotliwość fal rejestrowanych przez odbiorcę, gdy źródło fal jest w ruch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ym celu wykonuje doświadczenie na stacji kolejowej, a nie w laboratoriu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ujiansma.com/wp-content/uploads/2013/05/efek-dopler.jpg"/>
          <p:cNvPicPr/>
          <p:nvPr/>
        </p:nvPicPr>
        <p:blipFill>
          <a:blip r:embed="rId1"/>
          <a:stretch/>
        </p:blipFill>
        <p:spPr>
          <a:xfrm>
            <a:off x="1258920" y="1682640"/>
            <a:ext cx="6553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3"/>
          <p:cNvSpPr/>
          <p:nvPr/>
        </p:nvSpPr>
        <p:spPr>
          <a:xfrm>
            <a:off x="611280" y="6012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jiansma.com/wp-content/uploads/2013/05/efek-dopl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324000" y="620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lustracja doświadczenia potwierdzającego efekt Dopple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żdy z nas może doświadczyć efektu Doppler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www.daviddarling.info/images/Doppler_effect_diagram.jpg"/>
          <p:cNvPicPr/>
          <p:nvPr/>
        </p:nvPicPr>
        <p:blipFill>
          <a:blip r:embed="rId1"/>
          <a:stretch/>
        </p:blipFill>
        <p:spPr>
          <a:xfrm>
            <a:off x="2124000" y="2133720"/>
            <a:ext cx="4608720" cy="352404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3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daviddarling.info/images/Doppler_effect_dia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468360" y="1916280"/>
            <a:ext cx="21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Syrena oddala się - słyszy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dźwięk niż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5"/>
          <p:cNvSpPr/>
          <p:nvPr/>
        </p:nvSpPr>
        <p:spPr>
          <a:xfrm>
            <a:off x="6443640" y="191628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Syrena zbliża  się - słyszy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dźwięk wyż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elblogboyacense.com/wp-content/uploads/2008/09/doppler.gif"/>
          <p:cNvPicPr/>
          <p:nvPr/>
        </p:nvPicPr>
        <p:blipFill>
          <a:blip r:embed="rId1"/>
          <a:stretch/>
        </p:blipFill>
        <p:spPr>
          <a:xfrm>
            <a:off x="611280" y="1413000"/>
            <a:ext cx="7586640" cy="352872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2"/>
          <p:cNvSpPr/>
          <p:nvPr/>
        </p:nvSpPr>
        <p:spPr>
          <a:xfrm>
            <a:off x="611280" y="5229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elblogboyacense.com/wp-content/uploads/2008/09/doppler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jawisko Dopplera i jego zastosowanie w badaniach medycz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2"/>
          <p:cNvSpPr/>
          <p:nvPr/>
        </p:nvSpPr>
        <p:spPr>
          <a:xfrm>
            <a:off x="324000" y="249228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jak ważne jest krążenie krwi, zapewniające między innymi dostęp do tlenu każdej komórce danej tkanki. Jeżeli w naczyniach krwionośnych ukształtują się przeszkody dla sprawnego przepływu krwi, pojawiają się objawy, na przykład w postaci opuchnięcia. Ale niektóre zatory mogą doprowadzić do śmierci (udar mózg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s://encrypted-tbn2.gstatic.com/images?q=tbn:ANd9GcQ1UFf8QiksX_vU69X51v03N5QLTq_OgL4Ki0r9pfZlzC4kF0no"/>
          <p:cNvPicPr/>
          <p:nvPr/>
        </p:nvPicPr>
        <p:blipFill>
          <a:blip r:embed="rId1"/>
          <a:stretch/>
        </p:blipFill>
        <p:spPr>
          <a:xfrm>
            <a:off x="539640" y="1052640"/>
            <a:ext cx="3195720" cy="3816360"/>
          </a:xfrm>
          <a:prstGeom prst="rect">
            <a:avLst/>
          </a:prstGeom>
          <a:ln w="0">
            <a:noFill/>
          </a:ln>
        </p:spPr>
      </p:pic>
      <p:sp>
        <p:nvSpPr>
          <p:cNvPr id="118" name="Prostokąt 2"/>
          <p:cNvSpPr/>
          <p:nvPr/>
        </p:nvSpPr>
        <p:spPr>
          <a:xfrm>
            <a:off x="468360" y="501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zdrowemiasto.pl/cache/%5B1120%5Ddoppler_2009.jpg_25155_x180_y0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3"/>
          <p:cNvSpPr/>
          <p:nvPr/>
        </p:nvSpPr>
        <p:spPr>
          <a:xfrm>
            <a:off x="3924360" y="1006560"/>
            <a:ext cx="45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chnięcia kończyn, które mogą być wynikiem upośledzenia  krą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7:22Z</dcterms:modified>
  <cp:revision>34</cp:revision>
  <dc:subject/>
  <dc:title>Slajd 1</dc:title>
</cp:coreProperties>
</file>