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5548-291D-4DA3-920A-5E5188E0ADC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1721-96B8-4452-893A-2B15514DD31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D3BC-2026-41CF-975A-DAB6576A441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4296-5283-4833-BAD6-0265722D032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3033-9AD6-412A-B74E-C2CF39B40E8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C06F-7B2C-4A88-9C53-FC5CEDB89C5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C5FB-B345-4CA8-B6B7-D56AAEBF943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D078-EB45-4382-BC60-A9A410D0F29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D13B-893F-4576-A90F-279AD7EFB18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BF97-C574-4008-A6FD-650B895200B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BF56-7FCE-428A-908A-6318D89E22D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80A9-E6EB-4265-894D-7A671689692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00C5-9E5D-4D61-8971-34A6513C6C6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C06D-88A6-4373-ACE4-DFB8A5B0808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A0D7-BAB9-47D6-BD7F-531C4109CA4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0340-B53B-438D-9D3D-6C9894F26E3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AB3B-CED5-4C05-AB8F-280ACC33574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8C6E-6414-4932-9A74-C5E92679C42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518E-ABE0-4CB0-81CB-530530AC0EA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07C9-F2FC-4AC7-8D01-96B3E4B57AC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18C0-2BEA-456D-B265-FB6DA729ADE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1F6E-E69C-4942-A91D-DA2B2C3BC17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AD8C-19B2-4A15-82DD-583504850B6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9E64-7573-4E18-9F12-A436E2B637F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FB7B-44A8-434E-85D1-73B42E96632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81C1-A056-4EEE-84F5-90C82AEAD5A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1350-B9F1-4F9C-9E6D-FA68B017F0B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445D-1C39-4B37-B052-D24F89AE027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F245-1E1A-4C39-B749-07E588C16EC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36DF-544F-4822-910B-6BF2535DFA4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6D29-97FC-451B-A451-93394D8906E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367-C729-4B90-A021-5F5BB67B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4C47-98AA-4D94-8507-A1494ED5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F346-3023-4878-834C-BBB05DB7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F13-412C-4E8B-8E71-8AA96432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30F2-8ADE-4FE7-BB57-5516F308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5154-FB89-4333-8131-D7A96F2B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427D-CA36-4462-B5F0-CDD6C01C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EDF8-414C-46BB-A6CC-496E1984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F86F-EBD5-46A1-BD06-2E48DBC1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3C46-1FD5-4AB6-9C86-4CAE39B1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077D-C701-42F5-BDEF-24B99E27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B203-182E-4B98-B745-68B75F88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917B-D7D9-445B-BBF4-62005198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247B-7F33-4CA3-BAC0-8BEF73FC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2DE1-4DDF-42D5-83F6-4A0E8C4D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998C-4CD5-426C-9CA5-EBC92287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912A-408A-46F7-A29E-FC66D93B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699-4216-4465-8A74-4EA3200F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848-4298-41E5-9ACA-3A4E7C1A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CFF-CBDC-46E1-9278-40E9FDA3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B146-742E-4617-84DE-1DACADEE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7998-D3D3-4933-AA99-533F625A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CD3E-FC2C-4D71-8ADC-74E85B95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2A8B-C2D5-49A4-BD4A-97339255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6FC2-13B0-41E3-BF61-90032FF738D9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91E3-219A-44B2-9131-EBEA66C3616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odstawy (fizyczne) ultrasonografi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900000" y="3789360"/>
            <a:ext cx="7704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– poziom I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teriał bazowy do wyższych poziom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utor: Elżbieta Ćwior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 opisujące f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wazniak.mimuw.edu.pl/images/4/42/PF_M5_Slajd31.png"/>
          <p:cNvPicPr/>
          <p:nvPr/>
        </p:nvPicPr>
        <p:blipFill>
          <a:blip r:embed="rId1"/>
          <a:srcRect l="0" t="16905" r="0" b="3538"/>
          <a:stretch/>
        </p:blipFill>
        <p:spPr>
          <a:xfrm>
            <a:off x="3276720" y="2133720"/>
            <a:ext cx="5429160" cy="324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fizyka.biz/835_fale/835_fale_01.png"/>
          <p:cNvPicPr/>
          <p:nvPr/>
        </p:nvPicPr>
        <p:blipFill>
          <a:blip r:embed="rId2"/>
          <a:srcRect l="0" t="7799" r="0" b="0"/>
          <a:stretch/>
        </p:blipFill>
        <p:spPr>
          <a:xfrm>
            <a:off x="411120" y="2205000"/>
            <a:ext cx="25052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ole tekstowe 4"/>
          <p:cNvSpPr/>
          <p:nvPr/>
        </p:nvSpPr>
        <p:spPr>
          <a:xfrm>
            <a:off x="395280" y="981000"/>
            <a:ext cx="8497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fala (ultradźwiękowa) rozchodzi się w ośrodku (np. sprężystym – tkanki), jej parametry zależą od właściwości ośrodka, np. od gęstości ośrod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Propagacja fal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rozchodzenie się zaburzenia (fali) w ośrod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o dużym module sprężystości fale ultradźwiękowe rozchodzą się szybc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o dużej gęstości fale ultradźwiękowe rozchodzą się woln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pagacja fal w wybranych ośrodk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1773360"/>
          <a:ext cx="7921440" cy="4206600"/>
        </p:xfrm>
        <a:graphic>
          <a:graphicData uri="http://schemas.openxmlformats.org/drawingml/2006/table">
            <a:tbl>
              <a:tblPr/>
              <a:tblGrid>
                <a:gridCol w="1979640"/>
                <a:gridCol w="1981080"/>
                <a:gridCol w="1979640"/>
                <a:gridCol w="1981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środ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rężystość (modu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ęstość  (modu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ędkość  fali (m/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ietr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łu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kanki miękk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ś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0" name="pole tekstowe 3"/>
          <p:cNvSpPr/>
          <p:nvPr/>
        </p:nvSpPr>
        <p:spPr>
          <a:xfrm>
            <a:off x="897480" y="6021360"/>
            <a:ext cx="69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*) Dla ułatwienia i przejrzystości pominięto konkretne wartości liczb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le tekstowe 2"/>
          <p:cNvSpPr/>
          <p:nvPr/>
        </p:nvSpPr>
        <p:spPr>
          <a:xfrm>
            <a:off x="539640" y="907920"/>
            <a:ext cx="835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ędkość (średnia) fal ultradźwiękowych dla tkanek miękkich, jest wartością odniesienia dla systemu pomiarowego w aparatach US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ieważ prędkość rozchodzenia się fal  ultradźwiękowych jest charakterystyczna dla danej tkanki (ośrodka), zatem, gdy  fala przechodzi z tkanki do tkanki – zmienia się jej długość, przy czym częstotliwość (nadana przez źródło fali) nie zmienia si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2"/>
          <p:cNvSpPr/>
          <p:nvPr/>
        </p:nvSpPr>
        <p:spPr>
          <a:xfrm>
            <a:off x="395280" y="836640"/>
            <a:ext cx="8353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la ultradźwiękowa jest falą mechaniczną, podłużną, rozchodzi się prostoliniowo przez ośrodek przewodzący (ośrodki przewodzące, którymi są różne tkank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Na granicy różnych ośrodków przewodzących powstaje impedancja ośrodka (zwana oporem akustycznym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granicy środków powstaje echo, zależne od impedancji. Głośność czyli natężenie echa zależy od „twardości” ośrodków przewodzących, na granicy których echo powstaj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mpedancja akustyczna (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2"/>
          <p:cNvSpPr/>
          <p:nvPr/>
        </p:nvSpPr>
        <p:spPr>
          <a:xfrm>
            <a:off x="690840" y="1844640"/>
            <a:ext cx="6662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 – gęstość ośrod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 – prędkość propagacji f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 – moduł sprężystości (Moduł Young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2124000" y="1557360"/>
                <a:ext cx="53276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ole tekstowe 2"/>
          <p:cNvSpPr/>
          <p:nvPr/>
        </p:nvSpPr>
        <p:spPr>
          <a:xfrm>
            <a:off x="468360" y="692280"/>
            <a:ext cx="813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kanki ciała, organy różnią się oporem akustycznym (impedancja właściwa), więc fale odbijają si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ierzchniami odbijającymi są granice narządów, struktury wewnętrzne narządów, np. przegrody łącznotkankowe, dzielące narząd na zraziki, ściany naczyń krwionoś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a z wymienionych struktur na swoje echo, czyli charakterystyczną echogennoś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ole tekstowe 1"/>
          <p:cNvSpPr/>
          <p:nvPr/>
        </p:nvSpPr>
        <p:spPr>
          <a:xfrm>
            <a:off x="468360" y="549360"/>
            <a:ext cx="842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jednorodnym, na przykł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owietrzu lub w wodzie, echo nie powstaje, gdyż nie ma różnic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łaściwej impedancji akustyczn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ak w układzie biologicznym, jakim jest każdy organizm, fale napotykają tkanki miękkie, kości, płuca wypełnione powietrzem, czy jelita, wypełnione gazem – zatem pewna część energii fali zostaje odbita (bo pomiędzy ośrodkami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ystępują duże różnice impedancji właściwej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ść energii nieodbitej fali przechodzi dal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le tekstowe 9"/>
          <p:cNvSpPr/>
          <p:nvPr/>
        </p:nvSpPr>
        <p:spPr>
          <a:xfrm>
            <a:off x="5580000" y="33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kanki organiz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Grupa 16"/>
          <p:cNvGrpSpPr/>
          <p:nvPr/>
        </p:nvGrpSpPr>
        <p:grpSpPr>
          <a:xfrm>
            <a:off x="539640" y="765000"/>
            <a:ext cx="8280360" cy="5543640"/>
            <a:chOff x="539640" y="765000"/>
            <a:chExt cx="8280360" cy="5543640"/>
          </a:xfrm>
        </p:grpSpPr>
        <p:sp>
          <p:nvSpPr>
            <p:cNvPr id="150" name="Prostokąt 4"/>
            <p:cNvSpPr/>
            <p:nvPr/>
          </p:nvSpPr>
          <p:spPr>
            <a:xfrm>
              <a:off x="5219640" y="1483920"/>
              <a:ext cx="1008000" cy="2881440"/>
            </a:xfrm>
            <a:prstGeom prst="rect">
              <a:avLst/>
            </a:prstGeom>
            <a:solidFill>
              <a:srgbClr val="ddd9c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Elipsa 2"/>
            <p:cNvSpPr/>
            <p:nvPr/>
          </p:nvSpPr>
          <p:spPr>
            <a:xfrm>
              <a:off x="539640" y="1844280"/>
              <a:ext cx="1368360" cy="1297080"/>
            </a:xfrm>
            <a:prstGeom prst="ellipse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Źródło dźwięku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Strzałka w prawo 3"/>
            <p:cNvSpPr/>
            <p:nvPr/>
          </p:nvSpPr>
          <p:spPr>
            <a:xfrm>
              <a:off x="2050920" y="1557000"/>
              <a:ext cx="3384360" cy="1727280"/>
            </a:xfrm>
            <a:prstGeom prst="rightArrow">
              <a:avLst>
                <a:gd name="adj1" fmla="val 50000"/>
                <a:gd name="adj2" fmla="val 49991"/>
              </a:avLst>
            </a:prstGeom>
            <a:gradFill rotWithShape="0">
              <a:gsLst>
                <a:gs pos="0">
                  <a:srgbClr val="591816"/>
                </a:gs>
                <a:gs pos="100000">
                  <a:srgbClr val="9c3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Fal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(mechaniczna,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podłuż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Prostokąt 5"/>
            <p:cNvSpPr/>
            <p:nvPr/>
          </p:nvSpPr>
          <p:spPr>
            <a:xfrm>
              <a:off x="7164360" y="1483920"/>
              <a:ext cx="1224000" cy="2881440"/>
            </a:xfrm>
            <a:prstGeom prst="rect">
              <a:avLst/>
            </a:prstGeom>
            <a:solidFill>
              <a:srgbClr val="948a5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Prostokąt 6"/>
            <p:cNvSpPr/>
            <p:nvPr/>
          </p:nvSpPr>
          <p:spPr>
            <a:xfrm>
              <a:off x="6227640" y="1483920"/>
              <a:ext cx="1008000" cy="2881440"/>
            </a:xfrm>
            <a:prstGeom prst="rect">
              <a:avLst/>
            </a:prstGeom>
            <a:solidFill>
              <a:srgbClr val="c4bd9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Nawias klamrowy otwierający 8"/>
            <p:cNvSpPr/>
            <p:nvPr/>
          </p:nvSpPr>
          <p:spPr>
            <a:xfrm rot="5400000">
              <a:off x="6300000" y="-315360"/>
              <a:ext cx="1008000" cy="3168720"/>
            </a:xfrm>
            <a:custGeom>
              <a:avLst/>
              <a:gdLst>
                <a:gd name="textAreaLeft" fmla="*/ 644040 w 1008000"/>
                <a:gd name="textAreaRight" fmla="*/ 1008360 w 1008000"/>
                <a:gd name="textAreaTop" fmla="*/ 26280 h 3168720"/>
                <a:gd name="textAreaBottom" fmla="*/ 3142440 h 31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7"/>
                    <a:pt x="10800" y="573"/>
                  </a:cubicBezTo>
                  <a:lnTo>
                    <a:pt x="10800" y="10227"/>
                  </a:lnTo>
                  <a:cubicBezTo>
                    <a:pt x="10800" y="10514"/>
                    <a:pt x="5400" y="10800"/>
                    <a:pt x="0" y="10800"/>
                  </a:cubicBezTo>
                  <a:cubicBezTo>
                    <a:pt x="5400" y="10800"/>
                    <a:pt x="10800" y="11087"/>
                    <a:pt x="10800" y="11373"/>
                  </a:cubicBezTo>
                  <a:lnTo>
                    <a:pt x="10800" y="21027"/>
                  </a:lnTo>
                  <a:cubicBezTo>
                    <a:pt x="10800" y="2131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Łącznik prosty 11"/>
            <p:cNvSpPr/>
            <p:nvPr/>
          </p:nvSpPr>
          <p:spPr>
            <a:xfrm>
              <a:off x="6227640" y="422100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Łącznik prosty 13"/>
            <p:cNvSpPr/>
            <p:nvPr/>
          </p:nvSpPr>
          <p:spPr>
            <a:xfrm>
              <a:off x="7235640" y="422100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Prostokąt 15"/>
            <p:cNvSpPr/>
            <p:nvPr/>
          </p:nvSpPr>
          <p:spPr>
            <a:xfrm>
              <a:off x="3492360" y="5013360"/>
              <a:ext cx="5327640" cy="1295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Strzałka w prawo 18"/>
            <p:cNvSpPr/>
            <p:nvPr/>
          </p:nvSpPr>
          <p:spPr>
            <a:xfrm rot="10800000">
              <a:off x="899640" y="3573000"/>
              <a:ext cx="5256360" cy="863640"/>
            </a:xfrm>
            <a:prstGeom prst="rightArrow">
              <a:avLst>
                <a:gd name="adj1" fmla="val 50000"/>
                <a:gd name="adj2" fmla="val 49986"/>
              </a:avLst>
            </a:prstGeom>
            <a:solidFill>
              <a:srgbClr val="953735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Calibri"/>
                </a:rPr>
                <a:t>Fala odbi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Strzałka w prawo 19"/>
          <p:cNvSpPr/>
          <p:nvPr/>
        </p:nvSpPr>
        <p:spPr>
          <a:xfrm>
            <a:off x="6156360" y="3716280"/>
            <a:ext cx="1079640" cy="2890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trzałka w prawo 22"/>
          <p:cNvSpPr/>
          <p:nvPr/>
        </p:nvSpPr>
        <p:spPr>
          <a:xfrm>
            <a:off x="7236000" y="3716280"/>
            <a:ext cx="1081080" cy="144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le tekstowe 23"/>
          <p:cNvSpPr/>
          <p:nvPr/>
        </p:nvSpPr>
        <p:spPr>
          <a:xfrm>
            <a:off x="3635280" y="5229360"/>
            <a:ext cx="46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mpedancja właściwa ośrodka (opór akustyczn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ole tekstowe 24"/>
          <p:cNvSpPr/>
          <p:nvPr/>
        </p:nvSpPr>
        <p:spPr>
          <a:xfrm>
            <a:off x="758880" y="6021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ole tekstowe 2"/>
          <p:cNvSpPr/>
          <p:nvPr/>
        </p:nvSpPr>
        <p:spPr>
          <a:xfrm>
            <a:off x="468360" y="1197000"/>
            <a:ext cx="813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głowicach aparatów USG stosuje się, jako materiał, kryształ polaryzowalny, który pod wpływem zmiennego napięcia elektrycznego generuje drgania mechaniczne działające na tkankę, pod głowic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chodzi się fala mechaniczna, odbijana na granicach narządów, powraca (echo), co powoduje w krysztale głowicy przesunięcie ładunków elektrycznych- </a:t>
            </a:r>
            <a:r>
              <a:rPr b="0" lang="pl-PL" sz="2800" spc="-1" strike="noStrike">
                <a:solidFill>
                  <a:srgbClr val="4f6228"/>
                </a:solidFill>
                <a:latin typeface="Calibri"/>
              </a:rPr>
              <a:t>zjawisko piezoelektrycz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ryształ jest źródłem dźwięku a zarazem odbiorniki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stawowe pojęcia: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ala dźwiek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2"/>
          <p:cNvSpPr/>
          <p:nvPr/>
        </p:nvSpPr>
        <p:spPr>
          <a:xfrm>
            <a:off x="395280" y="162864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my, że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fala jest zaburzeniem stanu ośrodka: gazu, cieczy, ciała stałego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Fala niesie zasób energii i rozchodzi się z prędkością (ograniczoną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urzenie ośrodka sprężystego zależy od rodzaju ośrodk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4308480"/>
          <a:ext cx="8064360" cy="1641600"/>
        </p:xfrm>
        <a:graphic>
          <a:graphicData uri="http://schemas.openxmlformats.org/drawingml/2006/table">
            <a:tbl>
              <a:tblPr/>
              <a:tblGrid>
                <a:gridCol w="2016000"/>
                <a:gridCol w="2016360"/>
                <a:gridCol w="2016000"/>
                <a:gridCol w="201600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środe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e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ało stał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burzen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owierzchni swobodne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kształ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01" name="pole tekstowe 5"/>
          <p:cNvSpPr/>
          <p:nvPr/>
        </p:nvSpPr>
        <p:spPr>
          <a:xfrm>
            <a:off x="398520" y="6021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rostokąt 4"/>
          <p:cNvSpPr/>
          <p:nvPr/>
        </p:nvSpPr>
        <p:spPr>
          <a:xfrm>
            <a:off x="900000" y="4941720"/>
            <a:ext cx="4319640" cy="1429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lipsa 17"/>
          <p:cNvSpPr/>
          <p:nvPr/>
        </p:nvSpPr>
        <p:spPr>
          <a:xfrm>
            <a:off x="1187280" y="1628640"/>
            <a:ext cx="648000" cy="57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owolny kształt 18"/>
          <p:cNvSpPr/>
          <p:nvPr/>
        </p:nvSpPr>
        <p:spPr>
          <a:xfrm>
            <a:off x="1981080" y="1614600"/>
            <a:ext cx="277920" cy="161640"/>
          </a:xfrm>
          <a:custGeom>
            <a:avLst/>
            <a:gdLst/>
            <a:ahLst/>
            <a:rect l="l" t="t" r="r" b="b"/>
            <a:pathLst>
              <a:path w="277091" h="161655">
                <a:moveTo>
                  <a:pt x="0" y="6195"/>
                </a:moveTo>
                <a:cubicBezTo>
                  <a:pt x="32327" y="10813"/>
                  <a:pt x="71205" y="0"/>
                  <a:pt x="96982" y="20049"/>
                </a:cubicBezTo>
                <a:cubicBezTo>
                  <a:pt x="120038" y="37981"/>
                  <a:pt x="108489" y="78874"/>
                  <a:pt x="124691" y="103177"/>
                </a:cubicBezTo>
                <a:cubicBezTo>
                  <a:pt x="133927" y="117031"/>
                  <a:pt x="139398" y="134338"/>
                  <a:pt x="152400" y="144740"/>
                </a:cubicBezTo>
                <a:cubicBezTo>
                  <a:pt x="163804" y="153863"/>
                  <a:pt x="179449" y="156982"/>
                  <a:pt x="193964" y="158595"/>
                </a:cubicBezTo>
                <a:cubicBezTo>
                  <a:pt x="221504" y="161655"/>
                  <a:pt x="249382" y="158595"/>
                  <a:pt x="277091" y="158595"/>
                </a:cubicBezTo>
              </a:path>
            </a:pathLst>
          </a:custGeom>
          <a:noFill/>
          <a:ln w="381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upa 23"/>
          <p:cNvGrpSpPr/>
          <p:nvPr/>
        </p:nvGrpSpPr>
        <p:grpSpPr>
          <a:xfrm>
            <a:off x="468360" y="260280"/>
            <a:ext cx="6983280" cy="6193080"/>
            <a:chOff x="468360" y="260280"/>
            <a:chExt cx="6983280" cy="6193080"/>
          </a:xfrm>
        </p:grpSpPr>
        <p:grpSp>
          <p:nvGrpSpPr>
            <p:cNvPr id="170" name="Grupa 22"/>
            <p:cNvGrpSpPr/>
            <p:nvPr/>
          </p:nvGrpSpPr>
          <p:grpSpPr>
            <a:xfrm>
              <a:off x="468360" y="260280"/>
              <a:ext cx="6983280" cy="6193080"/>
              <a:chOff x="468360" y="260280"/>
              <a:chExt cx="6983280" cy="6193080"/>
            </a:xfrm>
          </p:grpSpPr>
          <p:grpSp>
            <p:nvGrpSpPr>
              <p:cNvPr id="171" name="Trójkąt równoramienny 2"/>
              <p:cNvGrpSpPr/>
              <p:nvPr/>
            </p:nvGrpSpPr>
            <p:grpSpPr>
              <a:xfrm>
                <a:off x="884520" y="2188080"/>
                <a:ext cx="4211640" cy="2773800"/>
                <a:chOff x="884520" y="2188080"/>
                <a:chExt cx="4211640" cy="2773800"/>
              </a:xfrm>
            </p:grpSpPr>
            <p:pic>
              <p:nvPicPr>
                <p:cNvPr id="172" name="Trójkąt równoramienny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84520" y="2188080"/>
                  <a:ext cx="4211640" cy="277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1952640" y="3572640"/>
                  <a:ext cx="2088000" cy="136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ffff"/>
                      </a:solidFill>
                      <a:latin typeface="Calibri"/>
                    </a:rPr>
                    <a:t>Głowica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ffff"/>
                      </a:solidFill>
                      <a:latin typeface="Calibri"/>
                    </a:rPr>
                    <a:t>kryształ polaryzowalny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4" name="Prostokąt 3"/>
              <p:cNvSpPr/>
              <p:nvPr/>
            </p:nvSpPr>
            <p:spPr>
              <a:xfrm>
                <a:off x="900000" y="5084640"/>
                <a:ext cx="5687640" cy="1368720"/>
              </a:xfrm>
              <a:prstGeom prst="rect">
                <a:avLst/>
              </a:prstGeom>
              <a:solidFill>
                <a:srgbClr val="9848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Calibri"/>
                  </a:rPr>
                  <a:t>tkanki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Strzałka w prawo 5"/>
              <p:cNvSpPr/>
              <p:nvPr/>
            </p:nvSpPr>
            <p:spPr>
              <a:xfrm rot="9802800">
                <a:off x="5148000" y="4728960"/>
                <a:ext cx="1563120" cy="129960"/>
              </a:xfrm>
              <a:prstGeom prst="rightArrow">
                <a:avLst>
                  <a:gd name="adj1" fmla="val 50000"/>
                  <a:gd name="adj2" fmla="val 5006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pole tekstowe 6"/>
              <p:cNvSpPr/>
              <p:nvPr/>
            </p:nvSpPr>
            <p:spPr>
              <a:xfrm>
                <a:off x="6803280" y="4365720"/>
                <a:ext cx="57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Calibri"/>
                  </a:rPr>
                  <a:t>żel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Strzałka w dół 7"/>
              <p:cNvSpPr/>
              <p:nvPr/>
            </p:nvSpPr>
            <p:spPr>
              <a:xfrm>
                <a:off x="1692720" y="4724280"/>
                <a:ext cx="287280" cy="1368360"/>
              </a:xfrm>
              <a:prstGeom prst="downArrow">
                <a:avLst>
                  <a:gd name="adj1" fmla="val 50000"/>
                  <a:gd name="adj2" fmla="val 50013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Strzałka w dół 8"/>
              <p:cNvSpPr/>
              <p:nvPr/>
            </p:nvSpPr>
            <p:spPr>
              <a:xfrm>
                <a:off x="2268720" y="4724280"/>
                <a:ext cx="215640" cy="936720"/>
              </a:xfrm>
              <a:prstGeom prst="downArrow">
                <a:avLst>
                  <a:gd name="adj1" fmla="val 50000"/>
                  <a:gd name="adj2" fmla="val 50055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Strzałka w dół 9"/>
              <p:cNvSpPr/>
              <p:nvPr/>
            </p:nvSpPr>
            <p:spPr>
              <a:xfrm>
                <a:off x="2843640" y="4724280"/>
                <a:ext cx="288720" cy="1152360"/>
              </a:xfrm>
              <a:prstGeom prst="downArrow">
                <a:avLst>
                  <a:gd name="adj1" fmla="val 50000"/>
                  <a:gd name="adj2" fmla="val 50020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Strzałka w dół 10"/>
              <p:cNvSpPr/>
              <p:nvPr/>
            </p:nvSpPr>
            <p:spPr>
              <a:xfrm flipV="1">
                <a:off x="3780000" y="4723560"/>
                <a:ext cx="215640" cy="1368360"/>
              </a:xfrm>
              <a:prstGeom prst="downArrow">
                <a:avLst>
                  <a:gd name="adj1" fmla="val 50000"/>
                  <a:gd name="adj2" fmla="val 50059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Strzałka w dół 12"/>
              <p:cNvSpPr/>
              <p:nvPr/>
            </p:nvSpPr>
            <p:spPr>
              <a:xfrm flipV="1">
                <a:off x="4643280" y="4723560"/>
                <a:ext cx="215640" cy="1081080"/>
              </a:xfrm>
              <a:prstGeom prst="downArrow">
                <a:avLst>
                  <a:gd name="adj1" fmla="val 50000"/>
                  <a:gd name="adj2" fmla="val 50064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Strzałka w dół 11"/>
              <p:cNvSpPr/>
              <p:nvPr/>
            </p:nvSpPr>
            <p:spPr>
              <a:xfrm flipV="1">
                <a:off x="4211640" y="4724280"/>
                <a:ext cx="215640" cy="792000"/>
              </a:xfrm>
              <a:prstGeom prst="downArrow">
                <a:avLst>
                  <a:gd name="adj1" fmla="val 50000"/>
                  <a:gd name="adj2" fmla="val 50042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Dowolny kształt 13"/>
              <p:cNvSpPr/>
              <p:nvPr/>
            </p:nvSpPr>
            <p:spPr>
              <a:xfrm rot="318000">
                <a:off x="3027960" y="1335240"/>
                <a:ext cx="2835720" cy="1002240"/>
              </a:xfrm>
              <a:custGeom>
                <a:avLst/>
                <a:gdLst/>
                <a:ahLst/>
                <a:rect l="l" t="t" r="r" b="b"/>
                <a:pathLst>
                  <a:path w="3902868" h="1394217">
                    <a:moveTo>
                      <a:pt x="11912" y="1394217"/>
                    </a:moveTo>
                    <a:cubicBezTo>
                      <a:pt x="33874" y="1174606"/>
                      <a:pt x="0" y="1319572"/>
                      <a:pt x="122749" y="1089417"/>
                    </a:cubicBezTo>
                    <a:cubicBezTo>
                      <a:pt x="159671" y="1020188"/>
                      <a:pt x="104153" y="1069486"/>
                      <a:pt x="178167" y="1020144"/>
                    </a:cubicBezTo>
                    <a:cubicBezTo>
                      <a:pt x="254456" y="905709"/>
                      <a:pt x="131473" y="1080693"/>
                      <a:pt x="330567" y="881599"/>
                    </a:cubicBezTo>
                    <a:cubicBezTo>
                      <a:pt x="363322" y="848844"/>
                      <a:pt x="386080" y="822168"/>
                      <a:pt x="427549" y="798471"/>
                    </a:cubicBezTo>
                    <a:cubicBezTo>
                      <a:pt x="472379" y="772854"/>
                      <a:pt x="523133" y="757840"/>
                      <a:pt x="566094" y="729199"/>
                    </a:cubicBezTo>
                    <a:cubicBezTo>
                      <a:pt x="579949" y="719962"/>
                      <a:pt x="592997" y="709383"/>
                      <a:pt x="607658" y="701489"/>
                    </a:cubicBezTo>
                    <a:cubicBezTo>
                      <a:pt x="653119" y="677010"/>
                      <a:pt x="696112" y="644740"/>
                      <a:pt x="746203" y="632217"/>
                    </a:cubicBezTo>
                    <a:lnTo>
                      <a:pt x="857040" y="604508"/>
                    </a:lnTo>
                    <a:lnTo>
                      <a:pt x="912458" y="590653"/>
                    </a:lnTo>
                    <a:cubicBezTo>
                      <a:pt x="946912" y="567684"/>
                      <a:pt x="969262" y="550302"/>
                      <a:pt x="1009440" y="535235"/>
                    </a:cubicBezTo>
                    <a:cubicBezTo>
                      <a:pt x="1027269" y="528549"/>
                      <a:pt x="1046794" y="527401"/>
                      <a:pt x="1064858" y="521380"/>
                    </a:cubicBezTo>
                    <a:cubicBezTo>
                      <a:pt x="1069867" y="519710"/>
                      <a:pt x="1156236" y="483060"/>
                      <a:pt x="1175694" y="479817"/>
                    </a:cubicBezTo>
                    <a:cubicBezTo>
                      <a:pt x="1216944" y="472942"/>
                      <a:pt x="1258821" y="470580"/>
                      <a:pt x="1300385" y="465962"/>
                    </a:cubicBezTo>
                    <a:cubicBezTo>
                      <a:pt x="1388131" y="475198"/>
                      <a:pt x="1476696" y="478554"/>
                      <a:pt x="1563622" y="493671"/>
                    </a:cubicBezTo>
                    <a:cubicBezTo>
                      <a:pt x="1583970" y="497210"/>
                      <a:pt x="1601451" y="510556"/>
                      <a:pt x="1619040" y="521380"/>
                    </a:cubicBezTo>
                    <a:cubicBezTo>
                      <a:pt x="1661583" y="547561"/>
                      <a:pt x="1702167" y="576799"/>
                      <a:pt x="1743731" y="604508"/>
                    </a:cubicBezTo>
                    <a:cubicBezTo>
                      <a:pt x="1752967" y="618362"/>
                      <a:pt x="1759666" y="634297"/>
                      <a:pt x="1771440" y="646071"/>
                    </a:cubicBezTo>
                    <a:cubicBezTo>
                      <a:pt x="1791024" y="665655"/>
                      <a:pt x="1846687" y="690622"/>
                      <a:pt x="1868422" y="701489"/>
                    </a:cubicBezTo>
                    <a:cubicBezTo>
                      <a:pt x="1877658" y="710726"/>
                      <a:pt x="1884448" y="723357"/>
                      <a:pt x="1896131" y="729199"/>
                    </a:cubicBezTo>
                    <a:cubicBezTo>
                      <a:pt x="1922255" y="742261"/>
                      <a:pt x="1950617" y="751180"/>
                      <a:pt x="1979258" y="756908"/>
                    </a:cubicBezTo>
                    <a:cubicBezTo>
                      <a:pt x="2108638" y="782783"/>
                      <a:pt x="2011894" y="766172"/>
                      <a:pt x="2214785" y="784617"/>
                    </a:cubicBezTo>
                    <a:lnTo>
                      <a:pt x="2353331" y="798471"/>
                    </a:lnTo>
                    <a:cubicBezTo>
                      <a:pt x="2363688" y="795882"/>
                      <a:pt x="2436111" y="779282"/>
                      <a:pt x="2450312" y="770762"/>
                    </a:cubicBezTo>
                    <a:cubicBezTo>
                      <a:pt x="2461513" y="764041"/>
                      <a:pt x="2466821" y="749773"/>
                      <a:pt x="2478022" y="743053"/>
                    </a:cubicBezTo>
                    <a:cubicBezTo>
                      <a:pt x="2490545" y="735540"/>
                      <a:pt x="2506325" y="735319"/>
                      <a:pt x="2519585" y="729199"/>
                    </a:cubicBezTo>
                    <a:cubicBezTo>
                      <a:pt x="2566466" y="707562"/>
                      <a:pt x="2616825" y="690906"/>
                      <a:pt x="2658131" y="659926"/>
                    </a:cubicBezTo>
                    <a:cubicBezTo>
                      <a:pt x="2676604" y="646071"/>
                      <a:pt x="2693749" y="630242"/>
                      <a:pt x="2713549" y="618362"/>
                    </a:cubicBezTo>
                    <a:cubicBezTo>
                      <a:pt x="2740114" y="602423"/>
                      <a:pt x="2769917" y="592409"/>
                      <a:pt x="2796676" y="576799"/>
                    </a:cubicBezTo>
                    <a:cubicBezTo>
                      <a:pt x="2825442" y="560019"/>
                      <a:pt x="2850889" y="537903"/>
                      <a:pt x="2879803" y="521380"/>
                    </a:cubicBezTo>
                    <a:cubicBezTo>
                      <a:pt x="2915667" y="500886"/>
                      <a:pt x="2958908" y="492406"/>
                      <a:pt x="2990640" y="465962"/>
                    </a:cubicBezTo>
                    <a:cubicBezTo>
                      <a:pt x="3018349" y="442871"/>
                      <a:pt x="3044597" y="417904"/>
                      <a:pt x="3073767" y="396689"/>
                    </a:cubicBezTo>
                    <a:cubicBezTo>
                      <a:pt x="3140641" y="348054"/>
                      <a:pt x="3125586" y="363403"/>
                      <a:pt x="3184603" y="341271"/>
                    </a:cubicBezTo>
                    <a:cubicBezTo>
                      <a:pt x="3207889" y="332539"/>
                      <a:pt x="3230504" y="322061"/>
                      <a:pt x="3253876" y="313562"/>
                    </a:cubicBezTo>
                    <a:cubicBezTo>
                      <a:pt x="3281325" y="303580"/>
                      <a:pt x="3309294" y="295089"/>
                      <a:pt x="3337003" y="285853"/>
                    </a:cubicBezTo>
                    <a:lnTo>
                      <a:pt x="3378567" y="271999"/>
                    </a:lnTo>
                    <a:cubicBezTo>
                      <a:pt x="3392422" y="262762"/>
                      <a:pt x="3405238" y="251736"/>
                      <a:pt x="3420131" y="244289"/>
                    </a:cubicBezTo>
                    <a:cubicBezTo>
                      <a:pt x="3433193" y="237758"/>
                      <a:pt x="3449543" y="238536"/>
                      <a:pt x="3461694" y="230435"/>
                    </a:cubicBezTo>
                    <a:cubicBezTo>
                      <a:pt x="3477997" y="219567"/>
                      <a:pt x="3486955" y="199739"/>
                      <a:pt x="3503258" y="188871"/>
                    </a:cubicBezTo>
                    <a:cubicBezTo>
                      <a:pt x="3515409" y="180770"/>
                      <a:pt x="3531399" y="180770"/>
                      <a:pt x="3544822" y="175017"/>
                    </a:cubicBezTo>
                    <a:cubicBezTo>
                      <a:pt x="3563805" y="166881"/>
                      <a:pt x="3580964" y="154722"/>
                      <a:pt x="3600240" y="147308"/>
                    </a:cubicBezTo>
                    <a:cubicBezTo>
                      <a:pt x="3641132" y="131580"/>
                      <a:pt x="3688477" y="130047"/>
                      <a:pt x="3724931" y="105744"/>
                    </a:cubicBezTo>
                    <a:lnTo>
                      <a:pt x="3808058" y="50326"/>
                    </a:lnTo>
                    <a:cubicBezTo>
                      <a:pt x="3821913" y="41090"/>
                      <a:pt x="3833825" y="27883"/>
                      <a:pt x="3849622" y="22617"/>
                    </a:cubicBezTo>
                    <a:cubicBezTo>
                      <a:pt x="3863476" y="17999"/>
                      <a:pt x="3902868" y="0"/>
                      <a:pt x="3891185" y="8762"/>
                    </a:cubicBezTo>
                    <a:cubicBezTo>
                      <a:pt x="3861398" y="31101"/>
                      <a:pt x="3825615" y="44190"/>
                      <a:pt x="3794203" y="64180"/>
                    </a:cubicBezTo>
                    <a:cubicBezTo>
                      <a:pt x="3774722" y="76577"/>
                      <a:pt x="3758970" y="94530"/>
                      <a:pt x="3738785" y="105744"/>
                    </a:cubicBezTo>
                    <a:cubicBezTo>
                      <a:pt x="3717045" y="117822"/>
                      <a:pt x="3691105" y="121114"/>
                      <a:pt x="3669512" y="133453"/>
                    </a:cubicBezTo>
                    <a:cubicBezTo>
                      <a:pt x="3626141" y="158237"/>
                      <a:pt x="3580145" y="181259"/>
                      <a:pt x="3544822" y="216580"/>
                    </a:cubicBezTo>
                    <a:cubicBezTo>
                      <a:pt x="3535585" y="225816"/>
                      <a:pt x="3529343" y="239702"/>
                      <a:pt x="3517112" y="244289"/>
                    </a:cubicBezTo>
                    <a:cubicBezTo>
                      <a:pt x="3397690" y="289072"/>
                      <a:pt x="3460788" y="231339"/>
                      <a:pt x="3420131" y="271999"/>
                    </a:cubicBezTo>
                  </a:path>
                </a:pathLst>
              </a:custGeom>
              <a:noFill/>
              <a:ln w="5724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pole tekstowe 14"/>
              <p:cNvSpPr/>
              <p:nvPr/>
            </p:nvSpPr>
            <p:spPr>
              <a:xfrm>
                <a:off x="4860000" y="52293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92d050"/>
                    </a:solidFill>
                    <a:latin typeface="Calibri"/>
                  </a:rPr>
                  <a:t>ech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Dowolny kształt 16"/>
              <p:cNvSpPr/>
              <p:nvPr/>
            </p:nvSpPr>
            <p:spPr>
              <a:xfrm flipH="1" rot="21105600">
                <a:off x="802800" y="1537200"/>
                <a:ext cx="2208240" cy="829800"/>
              </a:xfrm>
              <a:custGeom>
                <a:avLst/>
                <a:gdLst/>
                <a:ahLst/>
                <a:rect l="l" t="t" r="r" b="b"/>
                <a:pathLst>
                  <a:path w="3902868" h="1394217">
                    <a:moveTo>
                      <a:pt x="11912" y="1394217"/>
                    </a:moveTo>
                    <a:cubicBezTo>
                      <a:pt x="33874" y="1174606"/>
                      <a:pt x="0" y="1319572"/>
                      <a:pt x="122749" y="1089417"/>
                    </a:cubicBezTo>
                    <a:cubicBezTo>
                      <a:pt x="159671" y="1020188"/>
                      <a:pt x="104153" y="1069486"/>
                      <a:pt x="178167" y="1020144"/>
                    </a:cubicBezTo>
                    <a:cubicBezTo>
                      <a:pt x="254456" y="905709"/>
                      <a:pt x="131473" y="1080693"/>
                      <a:pt x="330567" y="881599"/>
                    </a:cubicBezTo>
                    <a:cubicBezTo>
                      <a:pt x="363322" y="848844"/>
                      <a:pt x="386080" y="822168"/>
                      <a:pt x="427549" y="798471"/>
                    </a:cubicBezTo>
                    <a:cubicBezTo>
                      <a:pt x="472379" y="772854"/>
                      <a:pt x="523133" y="757840"/>
                      <a:pt x="566094" y="729199"/>
                    </a:cubicBezTo>
                    <a:cubicBezTo>
                      <a:pt x="579949" y="719962"/>
                      <a:pt x="592997" y="709383"/>
                      <a:pt x="607658" y="701489"/>
                    </a:cubicBezTo>
                    <a:cubicBezTo>
                      <a:pt x="653119" y="677010"/>
                      <a:pt x="696112" y="644740"/>
                      <a:pt x="746203" y="632217"/>
                    </a:cubicBezTo>
                    <a:lnTo>
                      <a:pt x="857040" y="604508"/>
                    </a:lnTo>
                    <a:lnTo>
                      <a:pt x="912458" y="590653"/>
                    </a:lnTo>
                    <a:cubicBezTo>
                      <a:pt x="946912" y="567684"/>
                      <a:pt x="969262" y="550302"/>
                      <a:pt x="1009440" y="535235"/>
                    </a:cubicBezTo>
                    <a:cubicBezTo>
                      <a:pt x="1027269" y="528549"/>
                      <a:pt x="1046794" y="527401"/>
                      <a:pt x="1064858" y="521380"/>
                    </a:cubicBezTo>
                    <a:cubicBezTo>
                      <a:pt x="1069867" y="519710"/>
                      <a:pt x="1156236" y="483060"/>
                      <a:pt x="1175694" y="479817"/>
                    </a:cubicBezTo>
                    <a:cubicBezTo>
                      <a:pt x="1216944" y="472942"/>
                      <a:pt x="1258821" y="470580"/>
                      <a:pt x="1300385" y="465962"/>
                    </a:cubicBezTo>
                    <a:cubicBezTo>
                      <a:pt x="1388131" y="475198"/>
                      <a:pt x="1476696" y="478554"/>
                      <a:pt x="1563622" y="493671"/>
                    </a:cubicBezTo>
                    <a:cubicBezTo>
                      <a:pt x="1583970" y="497210"/>
                      <a:pt x="1601451" y="510556"/>
                      <a:pt x="1619040" y="521380"/>
                    </a:cubicBezTo>
                    <a:cubicBezTo>
                      <a:pt x="1661583" y="547561"/>
                      <a:pt x="1702167" y="576799"/>
                      <a:pt x="1743731" y="604508"/>
                    </a:cubicBezTo>
                    <a:cubicBezTo>
                      <a:pt x="1752967" y="618362"/>
                      <a:pt x="1759666" y="634297"/>
                      <a:pt x="1771440" y="646071"/>
                    </a:cubicBezTo>
                    <a:cubicBezTo>
                      <a:pt x="1791024" y="665655"/>
                      <a:pt x="1846687" y="690622"/>
                      <a:pt x="1868422" y="701489"/>
                    </a:cubicBezTo>
                    <a:cubicBezTo>
                      <a:pt x="1877658" y="710726"/>
                      <a:pt x="1884448" y="723357"/>
                      <a:pt x="1896131" y="729199"/>
                    </a:cubicBezTo>
                    <a:cubicBezTo>
                      <a:pt x="1922255" y="742261"/>
                      <a:pt x="1950617" y="751180"/>
                      <a:pt x="1979258" y="756908"/>
                    </a:cubicBezTo>
                    <a:cubicBezTo>
                      <a:pt x="2108638" y="782783"/>
                      <a:pt x="2011894" y="766172"/>
                      <a:pt x="2214785" y="784617"/>
                    </a:cubicBezTo>
                    <a:lnTo>
                      <a:pt x="2353331" y="798471"/>
                    </a:lnTo>
                    <a:cubicBezTo>
                      <a:pt x="2363688" y="795882"/>
                      <a:pt x="2436111" y="779282"/>
                      <a:pt x="2450312" y="770762"/>
                    </a:cubicBezTo>
                    <a:cubicBezTo>
                      <a:pt x="2461513" y="764041"/>
                      <a:pt x="2466821" y="749773"/>
                      <a:pt x="2478022" y="743053"/>
                    </a:cubicBezTo>
                    <a:cubicBezTo>
                      <a:pt x="2490545" y="735540"/>
                      <a:pt x="2506325" y="735319"/>
                      <a:pt x="2519585" y="729199"/>
                    </a:cubicBezTo>
                    <a:cubicBezTo>
                      <a:pt x="2566466" y="707562"/>
                      <a:pt x="2616825" y="690906"/>
                      <a:pt x="2658131" y="659926"/>
                    </a:cubicBezTo>
                    <a:cubicBezTo>
                      <a:pt x="2676604" y="646071"/>
                      <a:pt x="2693749" y="630242"/>
                      <a:pt x="2713549" y="618362"/>
                    </a:cubicBezTo>
                    <a:cubicBezTo>
                      <a:pt x="2740114" y="602423"/>
                      <a:pt x="2769917" y="592409"/>
                      <a:pt x="2796676" y="576799"/>
                    </a:cubicBezTo>
                    <a:cubicBezTo>
                      <a:pt x="2825442" y="560019"/>
                      <a:pt x="2850889" y="537903"/>
                      <a:pt x="2879803" y="521380"/>
                    </a:cubicBezTo>
                    <a:cubicBezTo>
                      <a:pt x="2915667" y="500886"/>
                      <a:pt x="2958908" y="492406"/>
                      <a:pt x="2990640" y="465962"/>
                    </a:cubicBezTo>
                    <a:cubicBezTo>
                      <a:pt x="3018349" y="442871"/>
                      <a:pt x="3044597" y="417904"/>
                      <a:pt x="3073767" y="396689"/>
                    </a:cubicBezTo>
                    <a:cubicBezTo>
                      <a:pt x="3140641" y="348054"/>
                      <a:pt x="3125586" y="363403"/>
                      <a:pt x="3184603" y="341271"/>
                    </a:cubicBezTo>
                    <a:cubicBezTo>
                      <a:pt x="3207889" y="332539"/>
                      <a:pt x="3230504" y="322061"/>
                      <a:pt x="3253876" y="313562"/>
                    </a:cubicBezTo>
                    <a:cubicBezTo>
                      <a:pt x="3281325" y="303580"/>
                      <a:pt x="3309294" y="295089"/>
                      <a:pt x="3337003" y="285853"/>
                    </a:cubicBezTo>
                    <a:lnTo>
                      <a:pt x="3378567" y="271999"/>
                    </a:lnTo>
                    <a:cubicBezTo>
                      <a:pt x="3392422" y="262762"/>
                      <a:pt x="3405238" y="251736"/>
                      <a:pt x="3420131" y="244289"/>
                    </a:cubicBezTo>
                    <a:cubicBezTo>
                      <a:pt x="3433193" y="237758"/>
                      <a:pt x="3449543" y="238536"/>
                      <a:pt x="3461694" y="230435"/>
                    </a:cubicBezTo>
                    <a:cubicBezTo>
                      <a:pt x="3477997" y="219567"/>
                      <a:pt x="3486955" y="199739"/>
                      <a:pt x="3503258" y="188871"/>
                    </a:cubicBezTo>
                    <a:cubicBezTo>
                      <a:pt x="3515409" y="180770"/>
                      <a:pt x="3531399" y="180770"/>
                      <a:pt x="3544822" y="175017"/>
                    </a:cubicBezTo>
                    <a:cubicBezTo>
                      <a:pt x="3563805" y="166881"/>
                      <a:pt x="3580964" y="154722"/>
                      <a:pt x="3600240" y="147308"/>
                    </a:cubicBezTo>
                    <a:cubicBezTo>
                      <a:pt x="3641132" y="131580"/>
                      <a:pt x="3688477" y="130047"/>
                      <a:pt x="3724931" y="105744"/>
                    </a:cubicBezTo>
                    <a:lnTo>
                      <a:pt x="3808058" y="50326"/>
                    </a:lnTo>
                    <a:cubicBezTo>
                      <a:pt x="3821913" y="41090"/>
                      <a:pt x="3833825" y="27883"/>
                      <a:pt x="3849622" y="22617"/>
                    </a:cubicBezTo>
                    <a:cubicBezTo>
                      <a:pt x="3863476" y="17999"/>
                      <a:pt x="3902868" y="0"/>
                      <a:pt x="3891185" y="8762"/>
                    </a:cubicBezTo>
                    <a:cubicBezTo>
                      <a:pt x="3861398" y="31101"/>
                      <a:pt x="3825615" y="44190"/>
                      <a:pt x="3794203" y="64180"/>
                    </a:cubicBezTo>
                    <a:cubicBezTo>
                      <a:pt x="3774722" y="76577"/>
                      <a:pt x="3758970" y="94530"/>
                      <a:pt x="3738785" y="105744"/>
                    </a:cubicBezTo>
                    <a:cubicBezTo>
                      <a:pt x="3717045" y="117822"/>
                      <a:pt x="3691105" y="121114"/>
                      <a:pt x="3669512" y="133453"/>
                    </a:cubicBezTo>
                    <a:cubicBezTo>
                      <a:pt x="3626141" y="158237"/>
                      <a:pt x="3580145" y="181259"/>
                      <a:pt x="3544822" y="216580"/>
                    </a:cubicBezTo>
                    <a:cubicBezTo>
                      <a:pt x="3535585" y="225816"/>
                      <a:pt x="3529343" y="239702"/>
                      <a:pt x="3517112" y="244289"/>
                    </a:cubicBezTo>
                    <a:cubicBezTo>
                      <a:pt x="3397690" y="289072"/>
                      <a:pt x="3460788" y="231339"/>
                      <a:pt x="3420131" y="271999"/>
                    </a:cubicBezTo>
                  </a:path>
                </a:pathLst>
              </a:custGeom>
              <a:noFill/>
              <a:ln w="5724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86" name="Picture 21" descr="http://www.old.imnipe.pwr.wroc.pl/skryptme/CW32_pliki/image008.jpg"/>
              <p:cNvPicPr/>
              <p:nvPr/>
            </p:nvPicPr>
            <p:blipFill>
              <a:blip r:embed="rId2"/>
              <a:srcRect l="0" t="0" r="69589" b="48537"/>
              <a:stretch/>
            </p:blipFill>
            <p:spPr>
              <a:xfrm>
                <a:off x="468360" y="1196280"/>
                <a:ext cx="1511640" cy="11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23" descr="https://encrypted-tbn3.gstatic.com/images?q=tbn:ANd9GcSbZHqeCz--nI2RvfzhGNlq5wMjnpC3wvvjQ2xfUfYvRp56v_qx"/>
              <p:cNvPicPr/>
              <p:nvPr/>
            </p:nvPicPr>
            <p:blipFill>
              <a:blip r:embed="rId3"/>
              <a:srcRect l="28005" t="9341" r="41206" b="62682"/>
              <a:stretch/>
            </p:blipFill>
            <p:spPr>
              <a:xfrm>
                <a:off x="5868000" y="260280"/>
                <a:ext cx="1583640" cy="172836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88" name="Łącznik prosty ze strzałką 21"/>
              <p:cNvCxnSpPr/>
              <p:nvPr/>
            </p:nvCxnSpPr>
            <p:spPr>
              <a:xfrm flipV="1">
                <a:off x="1115640" y="1339920"/>
                <a:ext cx="648360" cy="864720"/>
              </a:xfrm>
              <a:prstGeom prst="straightConnector1">
                <a:avLst/>
              </a:prstGeom>
              <a:ln w="381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189" name="pole tekstowe 15"/>
            <p:cNvSpPr/>
            <p:nvPr/>
          </p:nvSpPr>
          <p:spPr>
            <a:xfrm>
              <a:off x="927360" y="5373360"/>
              <a:ext cx="76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c000"/>
                  </a:solidFill>
                  <a:latin typeface="Calibri"/>
                </a:rPr>
                <a:t>Fal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ole tekstowe 2"/>
          <p:cNvSpPr/>
          <p:nvPr/>
        </p:nvSpPr>
        <p:spPr>
          <a:xfrm>
            <a:off x="395280" y="1557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łowica aparatu pod napięciem, wytwarza krótki impuls, według wyliczeń, przy średniej prędkości fal ultradźwiękowych  w tkankach i penetracji około 20 cm, echo wraca w czasie 0,25 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 powrocie echa głowica wysyła kolejny impu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ieważ czas powrotu echa to milisekundy, do mierzenia czasu stosuje się lampę oscyloskopow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rostokąt 1"/>
          <p:cNvSpPr/>
          <p:nvPr/>
        </p:nvSpPr>
        <p:spPr>
          <a:xfrm>
            <a:off x="539640" y="620640"/>
            <a:ext cx="7993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as powrotu echa, jest  to informacja o odległości powierzchni granicznych tkanek.  Lampa oscyloskopowa mierzy czas powrotu ech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tworzona w lampie oscyloskopowej wiązka elektronów, padając na ekran, wywołuje w nim luminescencję punktu, czyli plamki świetlnej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e, docierające do głowicy echo, wywołuje pionowe odchylenie plamki świetlnej na ekranie. Na osi poziomej – czas powrotu ec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(czyli odległości odbijających powierzchni granicznych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rostokąt 1"/>
          <p:cNvSpPr/>
          <p:nvPr/>
        </p:nvSpPr>
        <p:spPr>
          <a:xfrm>
            <a:off x="539640" y="907920"/>
            <a:ext cx="79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e, docierające do głowicy echo, wywołuje pionowe odchylenie plamki świetlnej na ekranie. Na osi poziomej – zaznacza się  czas powrotu echa (czyli odległości odbijających powierzchni granicznych od głowic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mplituda odzwierciedla natężenie echa. Taki sposób prezentacji, w której głośność echa jest proporcjonalna do  amplitudy (plamki świetlnej) to prezentacja A = modulacja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ole tekstowe 2"/>
          <p:cNvSpPr/>
          <p:nvPr/>
        </p:nvSpPr>
        <p:spPr>
          <a:xfrm>
            <a:off x="468360" y="162864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mówione powyżej badanie stosuje się na przykład w neurologii. W wyniku badania otrzymujemy na osi (poziomej) ekranu – czas powrotu echa. Jest to informacja o odległości powierzchni granicznych tkan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etoda ta to tak zwana prezentacja A, którą można wyrazić (w badaniu neurologicznym) echoencefalogram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kres dla modulacji A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(prezentacji USG typu 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Obraz 3" descr="Rysunek09_T77_amp_time.png"/>
          <p:cNvPicPr/>
          <p:nvPr/>
        </p:nvPicPr>
        <p:blipFill>
          <a:blip r:embed="rId1"/>
          <a:stretch/>
        </p:blipFill>
        <p:spPr>
          <a:xfrm>
            <a:off x="2052720" y="1636560"/>
            <a:ext cx="5038560" cy="4096080"/>
          </a:xfrm>
          <a:prstGeom prst="rect">
            <a:avLst/>
          </a:prstGeom>
          <a:ln w="0">
            <a:noFill/>
          </a:ln>
        </p:spPr>
      </p:pic>
      <p:sp>
        <p:nvSpPr>
          <p:cNvPr id="198" name="pole tekstowe 4"/>
          <p:cNvSpPr/>
          <p:nvPr/>
        </p:nvSpPr>
        <p:spPr>
          <a:xfrm>
            <a:off x="468360" y="5805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brain.fuw.edu.pl/edu-wiki/images/9/94/ZalamkiN2_P2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http://www.kennislink.nl/upload/273382_276_1229972733842-81631_276_1023177244230-Neurale_activiteit1.jpg"/>
          <p:cNvPicPr/>
          <p:nvPr/>
        </p:nvPicPr>
        <p:blipFill>
          <a:blip r:embed="rId1"/>
          <a:srcRect l="0" t="43797" r="87941" b="34556"/>
          <a:stretch/>
        </p:blipFill>
        <p:spPr>
          <a:xfrm>
            <a:off x="322200" y="836640"/>
            <a:ext cx="2233800" cy="225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http://us.123rf.com/450wm/rob3000/rob30001304/rob3000130400005/18975599-elektro-encefalogram.jpg"/>
          <p:cNvPicPr/>
          <p:nvPr/>
        </p:nvPicPr>
        <p:blipFill>
          <a:blip r:embed="rId2"/>
          <a:srcRect l="3116" t="8322" r="3460" b="11294"/>
          <a:stretch/>
        </p:blipFill>
        <p:spPr>
          <a:xfrm>
            <a:off x="2295360" y="1773360"/>
            <a:ext cx="6309000" cy="4065480"/>
          </a:xfrm>
          <a:prstGeom prst="rect">
            <a:avLst/>
          </a:prstGeom>
          <a:ln w="0">
            <a:noFill/>
          </a:ln>
        </p:spPr>
      </p:pic>
      <p:sp>
        <p:nvSpPr>
          <p:cNvPr id="201" name="Prostokąt 3"/>
          <p:cNvSpPr/>
          <p:nvPr/>
        </p:nvSpPr>
        <p:spPr>
          <a:xfrm>
            <a:off x="324000" y="5877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us.123rf.com/450wm/rob3000/rob30001304/rob3000130400005/18975599-elektro-encefalogra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zentacja typu B(Brightness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ole tekstowe 2"/>
          <p:cNvSpPr/>
          <p:nvPr/>
        </p:nvSpPr>
        <p:spPr>
          <a:xfrm>
            <a:off x="468360" y="1125360"/>
            <a:ext cx="8351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tego typu obrazowaniu, echa są wyrażane na ekranie w postaci punktów, których jasność jest  zależna od natężenia ec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wiemy, echo jest wytwarzane przez granice narządów, przez struktury wewnętrzne narządów (np. ściany naczyń krwionośnyc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kże patologiczne zmiany w tkankach, organach – są sygnalizowane przez zmiany echa. Zmiany są porównywane z (prawidłowym) wzorc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zentacja (Brightnes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https://encrypted-tbn1.gstatic.com/images?q=tbn:ANd9GcTsma0eUUgvlLi4XUkOAjVfgeRIlXUJCrgWtYXkRpmfhbgA0FtE3A"/>
          <p:cNvPicPr/>
          <p:nvPr/>
        </p:nvPicPr>
        <p:blipFill>
          <a:blip r:embed="rId1"/>
          <a:stretch/>
        </p:blipFill>
        <p:spPr>
          <a:xfrm>
            <a:off x="611280" y="2276640"/>
            <a:ext cx="3936960" cy="2736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rcRect l="0" t="10353" r="0" b="11996"/>
          <a:stretch/>
        </p:blipFill>
        <p:spPr>
          <a:xfrm>
            <a:off x="4813200" y="2276640"/>
            <a:ext cx="3935520" cy="2736720"/>
          </a:xfrm>
          <a:prstGeom prst="rect">
            <a:avLst/>
          </a:prstGeom>
          <a:ln w="0">
            <a:noFill/>
          </a:ln>
        </p:spPr>
      </p:pic>
      <p:sp>
        <p:nvSpPr>
          <p:cNvPr id="207" name="pole tekstowe 4"/>
          <p:cNvSpPr/>
          <p:nvPr/>
        </p:nvSpPr>
        <p:spPr>
          <a:xfrm>
            <a:off x="395280" y="5445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1.bp.blogspot.com/-Fn2yNOmp1l4/UH3FH-_01gI/AAAAAAAAAGo/TYFRvjgZ1fE/s1600/echographie-bebe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97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laczego w diagnostyce medycznej nie stosuje się dźwięków słyszalnych, ale ultradźwięk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ole tekstowe 2"/>
          <p:cNvSpPr/>
          <p:nvPr/>
        </p:nvSpPr>
        <p:spPr>
          <a:xfrm>
            <a:off x="324000" y="2349360"/>
            <a:ext cx="849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iagnostyce medycznej nie stosuje się dźwięków słyszalnych, gdyż zbyt mała jest ich rozdzielczość, która pozwala na określanie odległości – jedynie w metr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dzielczość – najmniejsza odległość dwóch punktów badanego obiektu, obrazowanych oddzielnie (które jeszcze mogą być różnicowane przez urządzeni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o to jest zaburzenie ośrodka sprężystego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2"/>
          <p:cNvSpPr/>
          <p:nvPr/>
        </p:nvSpPr>
        <p:spPr>
          <a:xfrm>
            <a:off x="539640" y="2205000"/>
            <a:ext cx="80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urzenie ośrodka sprężystego, związa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rozchodzeniem się fali, polega na przenoszeniu energii mechanicznej przez drgające cząsteczki ośrodka, bez zmiany ich średniego położ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ole tekstowe 2"/>
          <p:cNvSpPr/>
          <p:nvPr/>
        </p:nvSpPr>
        <p:spPr>
          <a:xfrm>
            <a:off x="539640" y="112536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iagnostyce medycznej stosowane są fale  krótkie, o częstotliwości, która przekracz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0 razy częstotliwość dźwięków słyszalnych, czyli dźwięki w przedziale częstotliwoś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 – 10 MH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aparaturze klinicznej USG, ograniczone jest natężenie fali, ze względu na ryzyko szkodliwych oddziaływań fal o dużym natężeniu na tkan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bicie fal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ole tekstowe 2"/>
          <p:cNvSpPr/>
          <p:nvPr/>
        </p:nvSpPr>
        <p:spPr>
          <a:xfrm>
            <a:off x="324000" y="1413000"/>
            <a:ext cx="82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fala ultradźwiękowa pada na granicę dwóch ośrodków, o różnych prędkościach propagacji – następuje załamanie f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raz ze wzrostem kąta padania fali wzrasta współczynnik odbic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ole tekstowe 1"/>
          <p:cNvSpPr/>
          <p:nvPr/>
        </p:nvSpPr>
        <p:spPr>
          <a:xfrm>
            <a:off x="395280" y="76500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ałkowite, wewnętrzne odbicie występuje na przykład, gdy fala ultradźwiękowa przekracza granicę: tkanka/otolit (np. kamień w nerkach albo w woreczku żółciowy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mienie czyli otolity odbijają całą energię akustyczną fali i dlatego, za nimi występuje cień akustyczny, gdyż poza otolitem nie ma ruchu fal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ień akustycz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upa 6"/>
          <p:cNvGrpSpPr/>
          <p:nvPr/>
        </p:nvGrpSpPr>
        <p:grpSpPr>
          <a:xfrm>
            <a:off x="684360" y="2060640"/>
            <a:ext cx="7576920" cy="3170160"/>
            <a:chOff x="684360" y="2060640"/>
            <a:chExt cx="7576920" cy="3170160"/>
          </a:xfrm>
        </p:grpSpPr>
        <p:pic>
          <p:nvPicPr>
            <p:cNvPr id="216" name="Picture 2" descr="https://encrypted-tbn2.gstatic.com/images?q=tbn:ANd9GcRHfDlioQgtqhCUHid9nXCmPD6dB-mMrezUuw41CJfxXBm0lfb8Fw"/>
            <p:cNvPicPr/>
            <p:nvPr/>
          </p:nvPicPr>
          <p:blipFill>
            <a:blip r:embed="rId1"/>
            <a:stretch/>
          </p:blipFill>
          <p:spPr>
            <a:xfrm>
              <a:off x="684360" y="2060640"/>
              <a:ext cx="3960360" cy="3170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17" name="Łącznik prosty ze strzałką 4"/>
            <p:cNvCxnSpPr/>
            <p:nvPr/>
          </p:nvCxnSpPr>
          <p:spPr>
            <a:xfrm flipH="1">
              <a:off x="2268000" y="3715560"/>
              <a:ext cx="3024720" cy="937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18" name="pole tekstowe 8"/>
            <p:cNvSpPr/>
            <p:nvPr/>
          </p:nvSpPr>
          <p:spPr>
            <a:xfrm>
              <a:off x="5370840" y="3357360"/>
              <a:ext cx="289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000000"/>
                  </a:solidFill>
                  <a:latin typeface="Calibri"/>
                </a:rPr>
                <a:t>Cień akustyczny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Prostokąt 9"/>
          <p:cNvSpPr/>
          <p:nvPr/>
        </p:nvSpPr>
        <p:spPr>
          <a:xfrm>
            <a:off x="324000" y="573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pawelszaro.pl/foty/biblioteka_zdjec/zolc2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Łącznik prosty 19"/>
          <p:cNvSpPr/>
          <p:nvPr/>
        </p:nvSpPr>
        <p:spPr>
          <a:xfrm>
            <a:off x="7093080" y="2492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rostokąt 20"/>
          <p:cNvSpPr/>
          <p:nvPr/>
        </p:nvSpPr>
        <p:spPr>
          <a:xfrm>
            <a:off x="6732720" y="2637000"/>
            <a:ext cx="647640" cy="4572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upa 17"/>
          <p:cNvGrpSpPr/>
          <p:nvPr/>
        </p:nvGrpSpPr>
        <p:grpSpPr>
          <a:xfrm>
            <a:off x="395280" y="907920"/>
            <a:ext cx="8576280" cy="5434200"/>
            <a:chOff x="395280" y="907920"/>
            <a:chExt cx="8576280" cy="5434200"/>
          </a:xfrm>
        </p:grpSpPr>
        <p:sp>
          <p:nvSpPr>
            <p:cNvPr id="107" name="Strzałka w prawo 2"/>
            <p:cNvSpPr/>
            <p:nvPr/>
          </p:nvSpPr>
          <p:spPr>
            <a:xfrm>
              <a:off x="395280" y="3500280"/>
              <a:ext cx="8280000" cy="1224000"/>
            </a:xfrm>
            <a:prstGeom prst="rightArrow">
              <a:avLst>
                <a:gd name="adj1" fmla="val 50000"/>
                <a:gd name="adj2" fmla="val 49984"/>
              </a:avLst>
            </a:prstGeom>
            <a:gradFill rotWithShape="0">
              <a:gsLst>
                <a:gs pos="0">
                  <a:srgbClr val="717f56"/>
                </a:gs>
                <a:gs pos="100000">
                  <a:srgbClr val="c5db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" name="Grupa 16"/>
            <p:cNvGrpSpPr/>
            <p:nvPr/>
          </p:nvGrpSpPr>
          <p:grpSpPr>
            <a:xfrm>
              <a:off x="826920" y="907920"/>
              <a:ext cx="8144640" cy="5434200"/>
              <a:chOff x="826920" y="907920"/>
              <a:chExt cx="8144640" cy="5434200"/>
            </a:xfrm>
          </p:grpSpPr>
          <p:sp>
            <p:nvSpPr>
              <p:cNvPr id="109" name="Łącznik prosty 5"/>
              <p:cNvSpPr/>
              <p:nvPr/>
            </p:nvSpPr>
            <p:spPr>
              <a:xfrm>
                <a:off x="2842920" y="2997000"/>
                <a:ext cx="0" cy="25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Łącznik prosty 6"/>
              <p:cNvSpPr/>
              <p:nvPr/>
            </p:nvSpPr>
            <p:spPr>
              <a:xfrm>
                <a:off x="5292360" y="2997000"/>
                <a:ext cx="0" cy="25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Strzałka w dół 14"/>
              <p:cNvSpPr/>
              <p:nvPr/>
            </p:nvSpPr>
            <p:spPr>
              <a:xfrm rot="10800000">
                <a:off x="6803640" y="2852280"/>
                <a:ext cx="504720" cy="2663640"/>
              </a:xfrm>
              <a:prstGeom prst="downArrow">
                <a:avLst>
                  <a:gd name="adj1" fmla="val 50000"/>
                  <a:gd name="adj2" fmla="val 50014"/>
                </a:avLst>
              </a:prstGeom>
              <a:solidFill>
                <a:srgbClr val="4f6228"/>
              </a:solidFill>
              <a:ln w="25560">
                <a:solidFill>
                  <a:srgbClr val="4f6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2" name="Picture 2" descr="https://encrypted-tbn0.gstatic.com/images?q=tbn:ANd9GcSk-29HLBtlVaS53rRK55-dM91koM6y4j8OCy3WC15opcfhtAtZZw"/>
              <p:cNvPicPr/>
              <p:nvPr/>
            </p:nvPicPr>
            <p:blipFill>
              <a:blip r:embed="rId1"/>
              <a:srcRect l="0" t="18293" r="25571" b="0"/>
              <a:stretch/>
            </p:blipFill>
            <p:spPr>
              <a:xfrm rot="16659600">
                <a:off x="3018960" y="801000"/>
                <a:ext cx="2020680" cy="255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pole tekstowe 3"/>
              <p:cNvSpPr/>
              <p:nvPr/>
            </p:nvSpPr>
            <p:spPr>
              <a:xfrm>
                <a:off x="826920" y="4005000"/>
                <a:ext cx="165708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Calibri"/>
                  </a:rPr>
                  <a:t>Infradźwięki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Calibri"/>
                  </a:rPr>
                  <a:t>(poniżej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Calibri"/>
                  </a:rPr>
                  <a:t>kilkunastu drgań na sekundę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pole tekstowe 7"/>
              <p:cNvSpPr/>
              <p:nvPr/>
            </p:nvSpPr>
            <p:spPr>
              <a:xfrm>
                <a:off x="3563640" y="4005000"/>
                <a:ext cx="158400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Calibri"/>
                  </a:rPr>
                  <a:t>Dźwięki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Calibri"/>
                  </a:rPr>
                  <a:t>(słyszalne fale akustyczne)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pole tekstowe 12"/>
              <p:cNvSpPr/>
              <p:nvPr/>
            </p:nvSpPr>
            <p:spPr>
              <a:xfrm>
                <a:off x="2560320" y="5661000"/>
                <a:ext cx="86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f6228"/>
                    </a:solidFill>
                    <a:latin typeface="Calibri"/>
                  </a:rPr>
                  <a:t>16 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pole tekstowe 13"/>
              <p:cNvSpPr/>
              <p:nvPr/>
            </p:nvSpPr>
            <p:spPr>
              <a:xfrm>
                <a:off x="4787640" y="5516640"/>
                <a:ext cx="1584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f6228"/>
                    </a:solidFill>
                    <a:latin typeface="Calibri"/>
                  </a:rPr>
                  <a:t>16000 Hz 16k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Prostokąt 15"/>
              <p:cNvSpPr/>
              <p:nvPr/>
            </p:nvSpPr>
            <p:spPr>
              <a:xfrm>
                <a:off x="6011640" y="1196640"/>
                <a:ext cx="2160360" cy="1295280"/>
              </a:xfrm>
              <a:prstGeom prst="rect">
                <a:avLst/>
              </a:prstGeom>
              <a:solidFill>
                <a:srgbClr val="4f81b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ffff"/>
                    </a:solidFill>
                    <a:latin typeface="Calibri"/>
                  </a:rPr>
                  <a:t>Diagnostyka medyczna (USG)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pole tekstowe 21"/>
              <p:cNvSpPr/>
              <p:nvPr/>
            </p:nvSpPr>
            <p:spPr>
              <a:xfrm>
                <a:off x="6287040" y="5589720"/>
                <a:ext cx="2684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Calibri"/>
                  </a:rPr>
                  <a:t>(1MHz – 10 MHz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9" name="pole tekstowe 22"/>
          <p:cNvSpPr/>
          <p:nvPr/>
        </p:nvSpPr>
        <p:spPr>
          <a:xfrm>
            <a:off x="5940360" y="4005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LTRADŹWIĘ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rostokąt 16"/>
          <p:cNvSpPr/>
          <p:nvPr/>
        </p:nvSpPr>
        <p:spPr>
          <a:xfrm>
            <a:off x="254160" y="6093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la przypomnienia… przykłady infradźwięków, źródła infradźwiękó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250920" y="1557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Natural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źródłem ich są huragany, trąby powietrzne, erupcje wulkanów, trzęsienia ziemi, wyładowania atmosferyczne, infradźwięki generowane w strefie przyboju fal. Dźwięki wydawane przez walenie oraz słon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Sztucz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wywołane przez człowieka: detonacje ładunków, elektrownie wiatrowe, wentylatory przemysłowe, sprężarki, silniki odrzutowe, młoty pneumaty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3628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ultradźwięków, zastosowanie ultradźwięk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2"/>
          <p:cNvSpPr/>
          <p:nvPr/>
        </p:nvSpPr>
        <p:spPr>
          <a:xfrm>
            <a:off x="250920" y="177336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generowane przez niektóre zwierzęta (ssaki morskie, nietoperze), którym służą do echolokacj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sztuczne, oprócz zastosowań w diagnostyce medycznej (USG, USG 3D, doppler), używane są w echolokacji (oceanografia), do oczyszczania powierzchni, oczyszczania wod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łużą badaniom defektoskopowym (np. szyn kolejowych). Wykorzystywane w nanotechnolog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jęcia i prawa ruchu fal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rostokąt 2"/>
          <p:cNvSpPr/>
          <p:nvPr/>
        </p:nvSpPr>
        <p:spPr>
          <a:xfrm>
            <a:off x="468360" y="177336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le mechaniczn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lkości i pojęcia charakteryzujące ruch falowy: częstotliwość, długość fali, prędkość fali, amplituda, energia fali, odbicie, ugięcie, załam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3"/>
          <p:cNvSpPr/>
          <p:nvPr/>
        </p:nvSpPr>
        <p:spPr>
          <a:xfrm>
            <a:off x="936720" y="1773360"/>
            <a:ext cx="703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stotliwość fal dźwiękowych (f) = cykl/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ostka: herc (H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Hz = 1/s = s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 Hz = 1 kHz =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000 Hz = 1MHz =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2"/>
          <p:cNvSpPr/>
          <p:nvPr/>
        </p:nvSpPr>
        <p:spPr>
          <a:xfrm>
            <a:off x="179280" y="1700280"/>
            <a:ext cx="853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ługość fali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) –przebyta odległość w trakcie jednego cyk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s://encrypted-tbn3.gstatic.com/images?q=tbn:ANd9GcSUqUngaxRIqjVXOhFj9lp_tq9pkOhE9UG-LNVnRtlyEE1CsYJ1IHu-9RFp"/>
          <p:cNvPicPr/>
          <p:nvPr/>
        </p:nvPicPr>
        <p:blipFill>
          <a:blip r:embed="rId1"/>
          <a:stretch/>
        </p:blipFill>
        <p:spPr>
          <a:xfrm>
            <a:off x="755640" y="2781360"/>
            <a:ext cx="3745080" cy="318276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4"/>
          <p:cNvSpPr/>
          <p:nvPr/>
        </p:nvSpPr>
        <p:spPr>
          <a:xfrm>
            <a:off x="468360" y="5940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s3.e-monsite.com/2010/12/15/75695274sans-titre-jpg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http://www.epomoce.pl/komorki/fizyka/FizykaDoZadan/gPrawaWzoryFizyka/9_14.PNG"/>
          <p:cNvPicPr/>
          <p:nvPr/>
        </p:nvPicPr>
        <p:blipFill>
          <a:blip r:embed="rId2"/>
          <a:stretch/>
        </p:blipFill>
        <p:spPr>
          <a:xfrm>
            <a:off x="6156360" y="2781360"/>
            <a:ext cx="24480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ndrzej</cp:lastModifiedBy>
  <dcterms:modified xsi:type="dcterms:W3CDTF">2013-08-25T16:26:28Z</dcterms:modified>
  <cp:revision>54</cp:revision>
  <dc:subject/>
  <dc:title>Slajd 1</dc:title>
</cp:coreProperties>
</file>