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B431-7AD5-4280-8291-B5103D36C55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355-EA42-4560-B293-9F4612E33B6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BCA7-F2AD-4623-8246-715B800134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EBB6-97CB-4F12-A48D-A4DDF3BAC1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5A7-6B8C-4D60-A2FF-859A3FD3B20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C71-EA4F-4EEE-BA32-3E6B2E760E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A583-B282-48E6-9781-35D9828A3A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98F-2172-402C-8FC8-D78D10B006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3FC6-AB48-4F7B-BEB0-90E1544752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3B56-8470-42B0-BF0C-1F935A1F2D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73C-208C-48B8-8CB2-E03129054C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803-92C6-4D2B-888F-B59EBD4FE8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3D95-87E4-4E25-AFA4-084AF7907F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C76-574E-4670-B2CD-C27C9EA4E0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FB8-46FA-4947-B4B8-5CF03A67B8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691D-84B3-430A-A826-30645B4E28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E89-7BAD-43C3-9570-3034E1FEE7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F39-B7ED-488A-B8AB-162ECC0D32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9ABF-09C3-429D-AA11-8371A58F0C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0446-FE40-49CE-A6BE-C1FE1AF267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2D1-076A-4BB0-A409-364B5A5C8D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A80-F80D-460D-891F-B8643F3170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0355-1B6B-41F3-99F5-5EE9C493BF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7DF-0FA3-4D4C-8B96-A76F1EEA0A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34F-7B16-4EEC-BDEC-D1AB8DB461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D3EE-22F9-42B3-B8D5-710F1EF1C6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342-B3E5-4B32-B8F4-38BA3B6953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7AD9-956C-40DE-900A-3181B4CE2C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AAE-D9BF-4B75-B25E-1FE6A4F345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52F-7B50-458B-8E7B-21328C6CA3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2DE-F420-415A-8DF4-3D918A2999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38E-5E0E-4F19-82C0-E6963980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AE7-540B-4C3F-939B-2A68683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FC1-D1B5-4EAD-8AC1-BBC08D29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C4E-8CD7-4AEF-8D8B-11FC7453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EAC-F534-478E-A688-D04E44F9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E81-D4A8-4BB4-88B4-25F0304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C53-D221-4289-AAC2-40F2BD46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05BE-97D2-471F-A140-0F3C7D27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FC99-B145-4E2B-849E-0F82098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A9B6-6577-4471-801C-79DDE0D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8AC7-1065-441C-BC15-5AD6630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E89-B084-4886-8CFE-D077588F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712D-A55C-4153-8D0B-A24A28B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E61-01F9-4A3C-8AAF-D774C5D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6E6B-50FC-4A72-A520-5C62C1C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A37C-D769-492C-9EFC-C2D7C099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1EC9-707B-4A73-B9F7-D5CF3B92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6F6-752C-48FA-8E27-1B0CA8B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C21-4AB8-4E00-BE60-D1C7C01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203-DC4F-4223-B3CC-EAD4C73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43B-95C1-43BC-9A15-0D81FC2C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368-5385-449D-B457-FB05603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C75-3048-4950-A6D0-800CC97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82B-8535-4A7F-804E-5033D62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8EB-A75E-4358-8267-3399EB2DA7B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EE1-6617-4AAB-A22E-F11249B61CE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rostokąt 1"/>
          <p:cNvSpPr/>
          <p:nvPr/>
        </p:nvSpPr>
        <p:spPr>
          <a:xfrm>
            <a:off x="539640" y="620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czas powrotu e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czyli odległości odbijających powierzchni granicznyc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539640" y="90792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zaznacza się 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mplituda odzwierciedla natężenie echa. Taki sposób prezentacji, w której głośność echa jest proporcjonalna do  amplitudy (plamki świetlnej) to prezentacja A = modulacj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W wyniku badania otrzymujemy na osi (poziomej) ekranu – czas powrotu echa. Jest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ta to tak zwana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7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6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8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28Z</dcterms:modified>
  <cp:revision>54</cp:revision>
  <dc:subject/>
  <dc:title>Slajd 1</dc:title>
</cp:coreProperties>
</file>