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66EE-6F46-4138-87D6-85FFC62D7A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62B-1E27-42EB-AC76-6AA5913064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0FF3-13FD-4B16-8EC1-B6E819C1D2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758C-C48B-4FEB-8271-8B424EB4AC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2C13-0E58-48DA-A5F2-989DAAEB23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B84C-C4C0-429A-AA5A-00AF3DD56C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7D0-0F19-4CC0-B13A-9F5BA97EBF5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51D4-C425-4795-8877-86A6E6F956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95B-DAD0-49DF-995A-78CD5703A6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C06-F327-4DFB-8716-E46A5DEA02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E8F8-0A5F-4AFE-B266-6A6FAC0F0D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4F0-6522-4CE4-92FC-4AEE1CB3F2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B1AB-D4BD-4FC8-AEE5-FD6667218B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0B1A-EBD3-48C8-9EAB-7ADDBBF8B6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71C-F06D-48B2-9DA7-E3AFAC082DF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3CF4-0E5C-4006-B806-8DB7314721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CBD5-8396-40FF-B003-79CE0A08C7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416D-AAF6-4C45-BADF-AE3C660E17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22AC-4CAA-451B-8F6B-23412FFF98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292-2B81-419E-8DE0-AC2771DE35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282C-C3C0-46C3-A683-C91AB8A8E2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9532-7003-4E0F-91C9-30FC53F61A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0070-4939-43EE-9F65-BD1FA806E9D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04F-F217-4A21-86F5-426054BB36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A9EC-91F2-4B88-924B-77E2322EAE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E7B4-EB4B-4A12-9AD0-BD9A0441F0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AC62-BBB5-443C-AFF2-01DD6AC52C4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6D0E-2D2B-4404-A9B3-64ADE922DC3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7DD-6F71-4D43-9103-04F35C3BF5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0382-C3E9-4F4D-9057-3C0EAD9063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C69-3AC3-40AF-8252-00A4EAE6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A14-C761-4934-82D4-1AFAA401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4DC-4F8C-4D2F-B899-74788ACD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17F-F52E-44B5-966A-31947F8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F36B-1F80-4CD0-8711-68940C5A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00D4-6DDC-44B6-AC66-0A2B31D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BAC-DC82-4C0F-BEC2-F9180304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E374-C806-4735-BAC6-206E3569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6BAB-841C-4864-80C5-AA387AE6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5EF9-AFF9-4C53-A5DB-BEA14910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845F-55E5-41DC-AB3C-A818EB39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D3A-931B-41B1-8101-597CF9BE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B1D0-2B10-41AC-8CAC-11AB6247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A32-2F41-42BA-8C1F-C066E00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0C90-9332-4946-B2AC-AEBAB478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20DA-C85F-4304-BC28-221D5039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DB38-73F3-4FC8-B2DA-37D51FEE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D8A-A83E-4C44-96AE-E3D97C29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6C5-4B46-4B56-B474-644D174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7E3-E1BC-4DD5-8F8F-F440AA3A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9C8-EB28-4256-A132-9022561E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05A-0408-4F18-82D6-CF1B5BF9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880-C868-41F6-B12E-EBEBC0C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6AB-94A8-48B4-821B-2A6A492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277-E2F1-4301-A2DF-11DC070119D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1FD-6ABA-4568-B4A8-3115C48BFA4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ole tekstowe 24"/>
          <p:cNvSpPr/>
          <p:nvPr/>
        </p:nvSpPr>
        <p:spPr>
          <a:xfrm>
            <a:off x="6949080" y="60930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611280" y="98100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rostokąt 1"/>
          <p:cNvSpPr/>
          <p:nvPr/>
        </p:nvSpPr>
        <p:spPr>
          <a:xfrm>
            <a:off x="539640" y="9079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oziomej – zaznacza się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ionowej – amplituda – odzwierciedla natężenie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i sposób prezentacji, w której głośność echa jest proporcjonalna do  amplitudy (plamki świetlnej) jest to prezentacja A = modulacja A, której wykres zobaczymy na następnym slajdz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395280" y="206064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i obrazow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razowanie zwane metodą A - prezentacją A, 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8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7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8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9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06Z</dcterms:modified>
  <cp:revision>58</cp:revision>
  <dc:subject/>
  <dc:title>Slajd 1</dc:title>
</cp:coreProperties>
</file>