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88D5-5EE2-42F4-A4C2-27AF5E70798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A618-20F5-44FA-9C4D-BA35F2E23BA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3FBC-CA08-42DF-A9AC-A9B9F822756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7EB1-D7D9-4C80-84E3-5F538E11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910F-E9B3-49D5-9A9B-28D01523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0625-2708-4E2B-9EC0-32E4893F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F365-4F24-46CB-98B0-B200C064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2F3D-FEF9-4810-A08D-CB53A324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2EE9-423B-4CBD-85E9-9F9EF738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EA57-7536-4C37-A1E4-44F1B2FA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0B5B-18F6-4683-B55D-1E319E08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9CA6-F985-418E-A0A9-715DC3D1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4B4F-A3E2-4EDD-9CF4-5C5E5946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94BE-90C2-4828-9A3B-ABE14D8D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F554-7E27-4DFA-894E-6E99D08B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166F-11B4-4981-8CF7-72D8EF62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34FE-DA52-47F2-A861-169B3F54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5611-175E-488A-8FD4-8D40E0F7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F10D-5EEA-42B1-8F5B-31CFD396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4D2F-1B7D-4D80-8865-89A189D8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0207-F763-42A2-94AE-EB316CE1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383F-94B7-4F62-BEA1-0E255E1D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EC19-4CA3-4B38-95FB-BDF0CE26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F9FA-2691-4930-8FA1-1AC92766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704C-CD61-46E4-B497-A91F6015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709D-7703-490B-89F8-6531A233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58A7-AA3A-46BE-9DE5-19B876C8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1B7B-A89C-4AED-8FEB-897174156761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3C4C-AF80-4C6F-815F-33E5ADB9EE6B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1773000"/>
            <a:ext cx="799308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Proces starzenia się skóry</a:t>
            </a:r>
            <a:br>
              <a:rPr sz="4900"/>
            </a:br>
            <a:br>
              <a:rPr sz="49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ezentacja – poziom I.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Materiał bazowy do dalszych poziomów (II i II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465300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Elżbieta Ćwio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otostarzenie się skó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4920" y="1628280"/>
            <a:ext cx="8497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końcu XIX wieku zauważono patologiczny wpływ promieniowania słonecznego na skórę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grubienie naskór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szkodzenie melanocyt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erost gruczołów łojow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grubienie i bezład włókien elastycznych (elastoza), zwyrodnienie włókien kolagenow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mniejszenie liczby komórek (Langerhans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jawy fotostarzenia się skó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Łuszczenie się naskór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zorstkość naskórka (rogowaceni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ebarwienia o zróżnicowanej intensywności(plamy, pieg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erost gruczołów łojow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bwisłość i zmarszcz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iejscowo: zmniejszenie odporności (immunosupresj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Ludzie różnią się wrażliwością skóry na światło. Fotytypy skóry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g. Fitzpatrick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http://admin.depilconcept.pl/dir_upload/site/files/Ania/tabelka_fototypy.JPG"/>
          <p:cNvPicPr/>
          <p:nvPr/>
        </p:nvPicPr>
        <p:blipFill>
          <a:blip r:embed="rId1"/>
          <a:stretch/>
        </p:blipFill>
        <p:spPr>
          <a:xfrm>
            <a:off x="395280" y="2349360"/>
            <a:ext cx="8169120" cy="3527640"/>
          </a:xfrm>
          <a:prstGeom prst="rect">
            <a:avLst/>
          </a:prstGeom>
          <a:ln w="0">
            <a:noFill/>
          </a:ln>
        </p:spPr>
      </p:pic>
      <p:sp>
        <p:nvSpPr>
          <p:cNvPr id="145" name="Prostokąt 3"/>
          <p:cNvSpPr/>
          <p:nvPr/>
        </p:nvSpPr>
        <p:spPr>
          <a:xfrm>
            <a:off x="468360" y="6021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admin.depilconcept.pl/dir_upload/site/files/Ania/tabelka_fototypy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wartość barwnika w skórze.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ola melani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le tekstowe 3"/>
          <p:cNvSpPr/>
          <p:nvPr/>
        </p:nvSpPr>
        <p:spPr>
          <a:xfrm>
            <a:off x="539640" y="1916280"/>
            <a:ext cx="813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elaniny to barwniki, występujące u grzybów, roślin i zwierząt. Powstają podczas utleniania związków fenolowych (najczęstszym jest aminokwas tyrozyn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arwa melanin: od czarnobrązowej po żółtoczerwoną. Zabarwiają skórę, tęczówkę oka, włosy, sierść i pióra, brodawki sutk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wartość barwnika w skórze.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ola melani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le tekstowe 2"/>
          <p:cNvSpPr/>
          <p:nvPr/>
        </p:nvSpPr>
        <p:spPr>
          <a:xfrm>
            <a:off x="324000" y="2133720"/>
            <a:ext cx="856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elaniny znajdują się w komórkach melanocyt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trakcie życia osobnika nie zmienia się ilość melanocytów, ale to nie ilość melanocytów, lecz stosunek  ilościowy melanin determinuje zabarwienie skó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związku z tym, wyróżniamy rasy ludzkie: celtycką, kaukaską i negroidaln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ola melani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ole tekstowe 2"/>
          <p:cNvSpPr/>
          <p:nvPr/>
        </p:nvSpPr>
        <p:spPr>
          <a:xfrm>
            <a:off x="468360" y="1484280"/>
            <a:ext cx="813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) Ochrona przed promieniowaniem UV (absorpcja i rozpraszanie UV, zamiana energii, którą niesie fala na ciepł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2) Eliminacja wolnych rodników, które powstają podczas metabolizmu tlenowego w komórk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p.</a:t>
            </a:r>
            <a:r>
              <a:rPr b="0" lang="pl-PL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- niesparowany elektron, 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dający ogromną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aktywność rodnikowi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hydroksylowe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lipsa 3"/>
          <p:cNvSpPr/>
          <p:nvPr/>
        </p:nvSpPr>
        <p:spPr>
          <a:xfrm>
            <a:off x="1332000" y="4653000"/>
            <a:ext cx="122040" cy="122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lipsa 4"/>
          <p:cNvSpPr/>
          <p:nvPr/>
        </p:nvSpPr>
        <p:spPr>
          <a:xfrm>
            <a:off x="3059280" y="4653000"/>
            <a:ext cx="136440" cy="136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iedy powstają wolne rodnik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ole tekstowe 2"/>
          <p:cNvSpPr/>
          <p:nvPr/>
        </p:nvSpPr>
        <p:spPr>
          <a:xfrm>
            <a:off x="468360" y="1916280"/>
            <a:ext cx="820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st wiele źródeł pochodzenia wolnych rodników. Tworzą się w strukturach komórkowych (np. mitochondriach), ale ich źródłem pozakomórkowym jest np. promieniowanie ultrafioletowe, promieniowanie jonizują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olne rodniki w starzeniu się komórek skó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ole tekstowe 2"/>
          <p:cNvSpPr/>
          <p:nvPr/>
        </p:nvSpPr>
        <p:spPr>
          <a:xfrm>
            <a:off x="539640" y="2133720"/>
            <a:ext cx="813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olne rodniki są bardzo reaktywne. Rodnik hydroksylowy i singletowy tlen w reakcja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kwasami nukleinowymi, powodują uszkadzanie wiązań fosfodiestrow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szkadzają różne struktury komórkowe: błony komórkowe, utleniają białka enzymatyczne, powodują peroksydację lipidó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twarzanie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melaniny 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est naturalną fotoprotekcj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ole tekstowe 2"/>
          <p:cNvSpPr/>
          <p:nvPr/>
        </p:nvSpPr>
        <p:spPr>
          <a:xfrm>
            <a:off x="468360" y="2421000"/>
            <a:ext cx="820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prócz melaniny, do naturalnej  fotoprotekcji należą komórki warstwy rogowej naskórka, które odbijają część promieni świetl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akże taką rolę (odbijanie światła) ma warstwa lipidowa naskórka,  oraz niektóre składniki po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360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równo czynniki endogenne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ak i egzogenne, uszkadzające DNA, odgrywają rolę w procesie starzenia się skó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ole tekstowe 2"/>
          <p:cNvSpPr/>
          <p:nvPr/>
        </p:nvSpPr>
        <p:spPr>
          <a:xfrm>
            <a:off x="539640" y="3573360"/>
            <a:ext cx="80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wodów na to dostarczają badania nad zespołami chorobowymi, w których występuje przedwczesne starzenie się, np. zespół Hutchinsona-Gilforda, zespół Werne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nniki starzenia się skó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Symbol zastępczy zawartości 3" descr="starzenie.jpg"/>
          <p:cNvPicPr/>
          <p:nvPr/>
        </p:nvPicPr>
        <p:blipFill>
          <a:blip r:embed="rId1"/>
          <a:stretch/>
        </p:blipFill>
        <p:spPr>
          <a:xfrm>
            <a:off x="1816200" y="1676520"/>
            <a:ext cx="5675040" cy="3998880"/>
          </a:xfrm>
          <a:prstGeom prst="rect">
            <a:avLst/>
          </a:prstGeom>
          <a:ln w="0">
            <a:noFill/>
          </a:ln>
        </p:spPr>
      </p:pic>
      <p:sp>
        <p:nvSpPr>
          <p:cNvPr id="99" name="Prostokąt 4"/>
          <p:cNvSpPr/>
          <p:nvPr/>
        </p:nvSpPr>
        <p:spPr>
          <a:xfrm>
            <a:off x="324000" y="5732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s://encryptedtbn2.gstatic.com/images?q=tbn:ANd9GcSGqcZ1SUDIq8d52fY5q4qIm8puZlqpiizxPpPn0jkz2yVvR9k4-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espół Hutchinsona-Gilforda,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 którym występuje przedwczesne starzenie(także skór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340000" y="2492280"/>
            <a:ext cx="4535640" cy="3024360"/>
          </a:xfrm>
          <a:prstGeom prst="rect">
            <a:avLst/>
          </a:prstGeom>
          <a:ln w="0">
            <a:noFill/>
          </a:ln>
        </p:spPr>
      </p:pic>
      <p:sp>
        <p:nvSpPr>
          <p:cNvPr id="164" name="Prostokąt 4"/>
          <p:cNvSpPr/>
          <p:nvPr/>
        </p:nvSpPr>
        <p:spPr>
          <a:xfrm>
            <a:off x="179280" y="5661000"/>
            <a:ext cx="8713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http://www.google.pl/url?sa=t&amp;rct=j&amp;q=&amp;esrc=s&amp;source=web&amp;cd=1&amp;cad=rja&amp;ved=0CC8QFjAA&amp;url=http%3A%2F%2Fcdg.unimuenster.de%2FArtikel%2FSeminararbeit_Pues.pdf&amp;ei=22zYUdvSDMnKtQaz1ID4BQ&amp;usg=AFQjCNEc1HP0i8jJ8nFJ8ISnO60hPs1vw&amp;bvm=bv.48705608,d.Y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poptoza  w starzeniu się skó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ole tekstowe 2"/>
          <p:cNvSpPr/>
          <p:nvPr/>
        </p:nvSpPr>
        <p:spPr>
          <a:xfrm>
            <a:off x="468360" y="1700280"/>
            <a:ext cx="8064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poptoza - (PWN) - śmierć komórki zachodzą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zdrowym organizmie w wyniku genetycznie zaprogramowanych proces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stnieją doniesienia literaturowe o wpływie wysokiego stężenia wolnych rodników na „nakierowywanie” komórek na drogę apoptozy, co w skórze prowadzi do szybszego starzenia się skó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akie substancje przeciwdziałają starzeniu się skóry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ole tekstowe 2"/>
          <p:cNvSpPr/>
          <p:nvPr/>
        </p:nvSpPr>
        <p:spPr>
          <a:xfrm>
            <a:off x="468360" y="213372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otoprotekcja UV, czyli zmiejszanie  nasłonecznienia, poprzez stosowanie filtrów SPF (Sun Protection Factor), stosowane przeciw UV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etoda zapobiegania odległej pigmentacji (PPD – Persistant Pigment arkening), jest stosowana wobec  promieniowania U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paraty przeciwsłone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ole tekstowe 2"/>
          <p:cNvSpPr/>
          <p:nvPr/>
        </p:nvSpPr>
        <p:spPr>
          <a:xfrm>
            <a:off x="395280" y="1349280"/>
            <a:ext cx="8353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ierwsze preparaty przeciwsłoneczne (ekrany słoneczne), były stosowane w 1928 roku. Preparat wówczas zastosowany zawierał: salicylan benzylu i cynamonian benzyl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czas walk w czasie II wojny światowej, w działaniach na obszarach, szczególnie narażonych na promieniowanie ultrafioletowe, żołnierze zaopatrywani byli w protektory z PABA (kwasem p-aminobenzoesowym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iltry chemiczne (organiczne)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 fizyczne (mineral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ole tekstowe 2"/>
          <p:cNvSpPr/>
          <p:nvPr/>
        </p:nvSpPr>
        <p:spPr>
          <a:xfrm>
            <a:off x="395280" y="198900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76092"/>
                </a:solidFill>
                <a:latin typeface="Calibri"/>
              </a:rPr>
              <a:t>Filtry chemicz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- wnikają w naskórek. Związki chemiczne w nich stosowane, mają taką budowę, że pochłaniając energię fali (UVB), izomeryzując, zamieniają jej energię  w ciepł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76092"/>
                </a:solidFill>
                <a:latin typeface="Calibri"/>
              </a:rPr>
              <a:t>Filtry fizycz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-  nie wnikają w głąb skóry, tworząc na jej powierzchni warstwę odbijającą UVA i UV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ą jednak ”uciążliwe” w stosowaniu (poświata na skórze, ślady na ubranic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ole tekstowe 2"/>
          <p:cNvSpPr/>
          <p:nvPr/>
        </p:nvSpPr>
        <p:spPr>
          <a:xfrm>
            <a:off x="468360" y="907920"/>
            <a:ext cx="8207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leży również podkreślić, że według doniesień literaturowych, metabolity PABA, związku stosowanego w filtrach chemicznych, mogą mieć znaczenie kancerogenne. Nie ma filtra, który w 100% zatrzymałby każdy rodzaj promieniowania U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umiejętne stosowanie filtrów „usypia” czujność, mianowicie brak oparzeń wywołanych przez UVB, sprawia, że </a:t>
            </a:r>
            <a:r>
              <a:rPr b="0" lang="pl-PL" sz="3200" spc="-1" strike="noStrike">
                <a:solidFill>
                  <a:srgbClr val="376092"/>
                </a:solidFill>
                <a:latin typeface="Calibri"/>
              </a:rPr>
              <a:t>czas ekspozycji na UVA, o wiele bardziej groźną falę, może być zwiększon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rójkąt równoramienny 3"/>
          <p:cNvSpPr/>
          <p:nvPr/>
        </p:nvSpPr>
        <p:spPr>
          <a:xfrm>
            <a:off x="755640" y="692280"/>
            <a:ext cx="7201080" cy="54734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Nie istnieje bezpieczne  opal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yjmowane leki + słońce = fotouczule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https://encrypted-tbn2.gstatic.com/images?q=tbn:ANd9GcS4-ZslCMqvjl4F1FLpy7f8FwcybcoMOy61roYVDrIPyo12c0Cz"/>
          <p:cNvPicPr/>
          <p:nvPr/>
        </p:nvPicPr>
        <p:blipFill>
          <a:blip r:embed="rId1"/>
          <a:srcRect l="31094" t="23543" r="31094" b="27913"/>
          <a:stretch/>
        </p:blipFill>
        <p:spPr>
          <a:xfrm>
            <a:off x="3348000" y="333360"/>
            <a:ext cx="1944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akie substancje przeciwdziałają starzeniu się skór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ole tekstowe 2"/>
          <p:cNvSpPr/>
          <p:nvPr/>
        </p:nvSpPr>
        <p:spPr>
          <a:xfrm>
            <a:off x="468360" y="1916280"/>
            <a:ext cx="835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roteny, czyli prowitaminy witaminy A, Retinoidy, czyli pochodne witaminy A (naturalne albo syntetyczne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ą one od dawna dodatkami do kosmetyków (alfa-, beta-, gamma-karoten), ksantofile (tlenowe pochodne karotenoidów). W ludzkim organizmie i innych zwierząt, są enzymatycznie przekształcane w witaminę 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eta-karoten jest antyoksydan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itamina A w przeciwdziałaniu starzeniu się skó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ole tekstowe 2"/>
          <p:cNvSpPr/>
          <p:nvPr/>
        </p:nvSpPr>
        <p:spPr>
          <a:xfrm>
            <a:off x="468360" y="206064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łaściwe i systematyczne stosowanie witaminy A w kosmetykach (kremy), działa stymulująco na komórki skóry właściwej, poprawia elastyczność, odżyw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ak, jeżeli dodatkowo, doustnie będzie dostarczana witamina A, w zbyt dużych dawkach, to istnieje możliwość hiperwitaminozy – co doprowadzić może do patologicznych zmian skórny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itamina E („mieszanina” tokoferol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ole tekstowe 2"/>
          <p:cNvSpPr/>
          <p:nvPr/>
        </p:nvSpPr>
        <p:spPr>
          <a:xfrm>
            <a:off x="395280" y="206064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tamina E jest antyoksydantem, czyli cząsteczką „przyjmującą na siebie” atak wolnych rodnikó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hroni komórki przed utlenianiem, niweluje plamy starcze, w odpowiednich dawkach jest współprotektorem  UV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tarzenie się to proces fizjologiczny, nieodwracalny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Symbol zastępczy zawartości 5" descr=""/>
          <p:cNvPicPr/>
          <p:nvPr/>
        </p:nvPicPr>
        <p:blipFill>
          <a:blip r:embed="rId1"/>
          <a:stretch/>
        </p:blipFill>
        <p:spPr>
          <a:xfrm>
            <a:off x="822240" y="1901880"/>
            <a:ext cx="78710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Symbol zastępczy zawartości 4" descr=""/>
          <p:cNvPicPr/>
          <p:nvPr/>
        </p:nvPicPr>
        <p:blipFill>
          <a:blip r:embed="rId1"/>
          <a:stretch/>
        </p:blipFill>
        <p:spPr>
          <a:xfrm>
            <a:off x="682560" y="817560"/>
            <a:ext cx="8089920" cy="5315040"/>
          </a:xfrm>
          <a:prstGeom prst="rect">
            <a:avLst/>
          </a:prstGeom>
          <a:ln w="0">
            <a:noFill/>
          </a:ln>
        </p:spPr>
      </p:pic>
      <p:sp>
        <p:nvSpPr>
          <p:cNvPr id="103" name="pole tekstowe 2"/>
          <p:cNvSpPr/>
          <p:nvPr/>
        </p:nvSpPr>
        <p:spPr>
          <a:xfrm>
            <a:off x="1117800" y="5732640"/>
            <a:ext cx="49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(*) –zostanie omówiona w prezentacji I (bazowej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Symbol zastępczy zawartości 3" descr=""/>
          <p:cNvPicPr/>
          <p:nvPr/>
        </p:nvPicPr>
        <p:blipFill>
          <a:blip r:embed="rId1"/>
          <a:stretch/>
        </p:blipFill>
        <p:spPr>
          <a:xfrm>
            <a:off x="480960" y="689040"/>
            <a:ext cx="82249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óra to największy organ ludzkiego ciał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Skóra- Przekrój"/>
          <p:cNvPicPr/>
          <p:nvPr/>
        </p:nvPicPr>
        <p:blipFill>
          <a:blip r:embed="rId1"/>
          <a:srcRect l="0" t="0" r="22094" b="0"/>
          <a:stretch/>
        </p:blipFill>
        <p:spPr>
          <a:xfrm>
            <a:off x="826920" y="1700280"/>
            <a:ext cx="7058160" cy="4647960"/>
          </a:xfrm>
          <a:prstGeom prst="rect">
            <a:avLst/>
          </a:prstGeom>
          <a:ln w="0">
            <a:noFill/>
          </a:ln>
        </p:spPr>
      </p:pic>
      <p:sp>
        <p:nvSpPr>
          <p:cNvPr id="107" name="Prostokąt 5"/>
          <p:cNvSpPr/>
          <p:nvPr/>
        </p:nvSpPr>
        <p:spPr>
          <a:xfrm>
            <a:off x="2264400" y="602136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kosmetyczny.blox.pl/resource/skora.g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Prostokąt 15"/>
          <p:cNvGrpSpPr/>
          <p:nvPr/>
        </p:nvGrpSpPr>
        <p:grpSpPr>
          <a:xfrm>
            <a:off x="317520" y="1620720"/>
            <a:ext cx="8582040" cy="1238400"/>
            <a:chOff x="317520" y="1620720"/>
            <a:chExt cx="8582040" cy="1238400"/>
          </a:xfrm>
        </p:grpSpPr>
        <p:pic>
          <p:nvPicPr>
            <p:cNvPr id="109" name="Prostokąt 15" descr=""/>
            <p:cNvPicPr/>
            <p:nvPr/>
          </p:nvPicPr>
          <p:blipFill>
            <a:blip r:embed="rId1"/>
            <a:stretch/>
          </p:blipFill>
          <p:spPr>
            <a:xfrm>
              <a:off x="317520" y="1620720"/>
              <a:ext cx="858204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24000" y="1628640"/>
              <a:ext cx="856908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o jakich warstw skóry docierają promienie UV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Skóra- Przekrój"/>
          <p:cNvPicPr/>
          <p:nvPr/>
        </p:nvPicPr>
        <p:blipFill>
          <a:blip r:embed="rId2"/>
          <a:srcRect l="0" t="0" r="22094" b="0"/>
          <a:stretch/>
        </p:blipFill>
        <p:spPr>
          <a:xfrm>
            <a:off x="250920" y="2997360"/>
            <a:ext cx="6121440" cy="2952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971280" y="6092640"/>
            <a:ext cx="183960" cy="36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trzałka w dół 5"/>
          <p:cNvSpPr/>
          <p:nvPr/>
        </p:nvSpPr>
        <p:spPr>
          <a:xfrm>
            <a:off x="3132000" y="1557360"/>
            <a:ext cx="484200" cy="165564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6"/>
          <p:cNvSpPr/>
          <p:nvPr/>
        </p:nvSpPr>
        <p:spPr>
          <a:xfrm>
            <a:off x="3569760" y="191628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V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trzałka w dół 7"/>
          <p:cNvSpPr/>
          <p:nvPr/>
        </p:nvSpPr>
        <p:spPr>
          <a:xfrm>
            <a:off x="3276720" y="3284640"/>
            <a:ext cx="142920" cy="360360"/>
          </a:xfrm>
          <a:prstGeom prst="downArrow">
            <a:avLst>
              <a:gd name="adj1" fmla="val 50000"/>
              <a:gd name="adj2" fmla="val 50428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załka w dół 8"/>
          <p:cNvSpPr/>
          <p:nvPr/>
        </p:nvSpPr>
        <p:spPr>
          <a:xfrm>
            <a:off x="5580000" y="1557360"/>
            <a:ext cx="216000" cy="316692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caad42"/>
          </a:solidFill>
          <a:ln w="25560">
            <a:solidFill>
              <a:srgbClr val="caad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9"/>
          <p:cNvSpPr/>
          <p:nvPr/>
        </p:nvSpPr>
        <p:spPr>
          <a:xfrm>
            <a:off x="5865840" y="206064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9" name="Łącznik łamany 12"/>
          <p:cNvCxnSpPr/>
          <p:nvPr/>
        </p:nvCxnSpPr>
        <p:spPr>
          <a:xfrm flipV="1" rot="16200000">
            <a:off x="2302920" y="2601360"/>
            <a:ext cx="937440" cy="575640"/>
          </a:xfrm>
          <a:prstGeom prst="bentConnector3">
            <a:avLst>
              <a:gd name="adj1" fmla="val 49980"/>
            </a:avLst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20" name="Strzałka w dół 13"/>
          <p:cNvSpPr/>
          <p:nvPr/>
        </p:nvSpPr>
        <p:spPr>
          <a:xfrm>
            <a:off x="7308720" y="1557360"/>
            <a:ext cx="792360" cy="107964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e6681a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ole tekstowe 14"/>
          <p:cNvSpPr/>
          <p:nvPr/>
        </p:nvSpPr>
        <p:spPr>
          <a:xfrm>
            <a:off x="8105040" y="1916280"/>
            <a:ext cx="79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V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16"/>
          <p:cNvSpPr/>
          <p:nvPr/>
        </p:nvSpPr>
        <p:spPr>
          <a:xfrm>
            <a:off x="396720" y="155736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z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Prostokąt 15"/>
          <p:cNvGrpSpPr/>
          <p:nvPr/>
        </p:nvGrpSpPr>
        <p:grpSpPr>
          <a:xfrm>
            <a:off x="317520" y="2127240"/>
            <a:ext cx="8582040" cy="1238400"/>
            <a:chOff x="317520" y="2127240"/>
            <a:chExt cx="8582040" cy="1238400"/>
          </a:xfrm>
        </p:grpSpPr>
        <p:pic>
          <p:nvPicPr>
            <p:cNvPr id="124" name="Prostokąt 15" descr=""/>
            <p:cNvPicPr/>
            <p:nvPr/>
          </p:nvPicPr>
          <p:blipFill>
            <a:blip r:embed="rId1"/>
            <a:stretch/>
          </p:blipFill>
          <p:spPr>
            <a:xfrm>
              <a:off x="317520" y="2127240"/>
              <a:ext cx="858204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24000" y="2133720"/>
              <a:ext cx="856908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ak działają promienie UV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3640" y="4076640"/>
            <a:ext cx="2192040" cy="13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woduje  oparzenia słonecz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trzałka w dół 5"/>
          <p:cNvSpPr/>
          <p:nvPr/>
        </p:nvSpPr>
        <p:spPr>
          <a:xfrm>
            <a:off x="900000" y="1700280"/>
            <a:ext cx="339840" cy="2089080"/>
          </a:xfrm>
          <a:prstGeom prst="downArrow">
            <a:avLst>
              <a:gd name="adj1" fmla="val 50000"/>
              <a:gd name="adj2" fmla="val 50146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ole tekstowe 6"/>
          <p:cNvSpPr/>
          <p:nvPr/>
        </p:nvSpPr>
        <p:spPr>
          <a:xfrm>
            <a:off x="1193400" y="285264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V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trzałka w dół 8"/>
          <p:cNvSpPr/>
          <p:nvPr/>
        </p:nvSpPr>
        <p:spPr>
          <a:xfrm>
            <a:off x="3564000" y="1700280"/>
            <a:ext cx="216000" cy="252072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caad42"/>
          </a:solidFill>
          <a:ln w="25560">
            <a:solidFill>
              <a:srgbClr val="caad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ole tekstowe 9"/>
          <p:cNvSpPr/>
          <p:nvPr/>
        </p:nvSpPr>
        <p:spPr>
          <a:xfrm>
            <a:off x="3778200" y="278136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trzałka w dół 13"/>
          <p:cNvSpPr/>
          <p:nvPr/>
        </p:nvSpPr>
        <p:spPr>
          <a:xfrm>
            <a:off x="6516720" y="1628640"/>
            <a:ext cx="792000" cy="16560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e6681a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ole tekstowe 14"/>
          <p:cNvSpPr/>
          <p:nvPr/>
        </p:nvSpPr>
        <p:spPr>
          <a:xfrm>
            <a:off x="7528680" y="2708280"/>
            <a:ext cx="79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V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16"/>
          <p:cNvSpPr/>
          <p:nvPr/>
        </p:nvSpPr>
        <p:spPr>
          <a:xfrm>
            <a:off x="1836000" y="2133720"/>
            <a:ext cx="9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70c0"/>
                </a:solidFill>
                <a:latin typeface="Calibri"/>
              </a:rPr>
              <a:t>Oz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le tekstowe 17"/>
          <p:cNvSpPr/>
          <p:nvPr/>
        </p:nvSpPr>
        <p:spPr>
          <a:xfrm>
            <a:off x="2556000" y="4221000"/>
            <a:ext cx="280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ziała na głębsze warstwy skóry właściwej -fotostarze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ole tekstowe 18"/>
          <p:cNvSpPr/>
          <p:nvPr/>
        </p:nvSpPr>
        <p:spPr>
          <a:xfrm>
            <a:off x="5651640" y="3357720"/>
            <a:ext cx="374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awie  w całości pochłaniane przez warstwę ozon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a właściwości bakteriobójcze. Może uszkodzić rogówk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admierna ekspozycja na promieniowanie ultrafioletowe jest w 80 % odpowiedzialna za starzenie się skór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3357720"/>
            <a:ext cx="83628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worzenie wolnych rodnik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akcje fotoalergicz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szkadzanie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trofia naskór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miany nowotworow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Krzysiek Stawujak</cp:lastModifiedBy>
  <dcterms:modified xsi:type="dcterms:W3CDTF">2013-08-21T19:01:38Z</dcterms:modified>
  <cp:revision>32</cp:revision>
  <dc:subject/>
  <dc:title>Slajd 1</dc:title>
</cp:coreProperties>
</file>