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558F-613B-4972-BC71-768C4693358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A9DD-6D05-4497-AA9F-343679A5FC3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A89F-3785-474F-B264-237489F80F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6A1D-86C7-490F-8890-787C8709D5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C5E0-376A-4046-9032-C9FB60F763E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5721-22E4-4210-9445-37A4D910C0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9773-EFE7-4FF6-A60A-6D271DD1A2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34FB-2B12-41C7-AAC3-8DED1BE13A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8F44-5A8E-4215-B89E-F2E440893E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9FBA-DEE1-45BA-B8EC-E9A0F2B54B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2120-2A58-42A3-8A5F-870AC60CB6F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18BF-5EF5-4B6F-92DF-74554CF16F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1516-73A8-4B1C-9BAB-248D9A2617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AAA8-448A-40C9-8246-D1CEC661C4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73F4-3335-4251-9597-1234CBCF7C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04BD-D1D9-4745-B4BE-245D98E875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1EB7-56B4-4E5A-83C2-6233919986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87C6-3243-4218-BC57-3DB738ACFD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B7DC-6BF0-4ACA-91E9-CD70634AB0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F10C-A267-433F-B58C-429A805C15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299C-076A-421C-8E59-BBE1085D845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1BDA-FE58-4893-A89F-4D65976CCE0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874A-CC5E-42CA-B605-1C4D774D40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21C9-4012-4353-A49E-FD9510B880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49BF-4560-4736-B1EF-6C1F17830B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1B95-3933-4BA7-8B31-D5FE782D61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008F-2D42-45DB-A6DA-CA29C2EE2C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5978-EFC6-4D72-97CA-0784FD739A1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40DA-B0E1-4703-874C-4941FE580C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909A-D518-42A8-B82D-02EED1EA9F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ADC-B232-4597-8A71-4AC4C99B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10C-FE5F-448D-81E9-4444143F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540-9E83-4785-8406-9D5C4261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A70-AFA3-4644-BD85-C35CBC73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6201-EA3D-4108-A049-A24F3FCD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D9EB-0710-4F3B-A1D5-A5658985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8A76-19F0-4DE7-9580-8347837B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8CAA-461A-4E09-907A-D2432CC5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A650-D087-4537-8F9B-9DDFB6C6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BEDC-0E58-4535-A8EE-098E7C63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F6B1-28B5-4E7B-A95B-1895E651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9D0-B0F0-4377-9BFB-B203C064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497B-11A1-4ADE-8FB0-FBE0544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5A89-2A89-47A2-995D-60245F8F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F650-F626-4322-8F7E-D71CE39A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544C-D127-4567-AA08-8573814C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AA58-CEC4-48B6-B4C7-6CC8E507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D8B-D4FF-4F7D-9F1B-48F9C2C1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843-0356-4A7D-9766-FA6D3DD7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C85-1624-49B3-983C-021CEAC0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8F3-D426-4EBE-BB6B-7CB3B045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D8D-DE99-4EBE-A460-C2ECFE2F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BD5-A30F-442B-B5DF-3A3BFCA0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EDC-DEE5-447D-99AC-CCB28B2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2E00-B11D-4600-948A-4C7F5EEE121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6AA1-066F-4A8F-8941-EA88B86F3F0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50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852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ole tekstowe 24"/>
          <p:cNvSpPr/>
          <p:nvPr/>
        </p:nvSpPr>
        <p:spPr>
          <a:xfrm>
            <a:off x="6949080" y="60930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pod napięciem, wytwarza krótki impuls, według wyliczeń, przy średniej prędkości fal ultradźwiękowych  w tkankach i penetracji około 20 cm, echo wraca w czasie 0,25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rostokąt 1"/>
          <p:cNvSpPr/>
          <p:nvPr/>
        </p:nvSpPr>
        <p:spPr>
          <a:xfrm>
            <a:off x="611280" y="98100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as powrotu echa, jest  to informacja o odległości powierzchni granicznych tkanek.  Lampa oscyloskopowa mierzy czas powrotu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orzona w lampie oscyloskopowej wiązka elektronów, padając na ekran, wywołuje w nim luminescencję punktu, czyli plamki świetlne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rostokąt 1"/>
          <p:cNvSpPr/>
          <p:nvPr/>
        </p:nvSpPr>
        <p:spPr>
          <a:xfrm>
            <a:off x="539640" y="90792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osi poziomej – zaznacza się czas powrotu echa (czyli odległości odbijających powierzchni granicznych od głowi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osi pionowej – amplituda – odzwierciedla natężenie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i sposób prezentacji, w której głośność echa jest proporcjonalna do  amplitudy (plamki świetlnej) jest to prezentacja A = modulacja A, której wykres zobaczymy na następnym slajdz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res dla modulacji 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prezentacji USG typu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Obraz 3" descr="Rysunek09_T77_amp_time.png"/>
          <p:cNvPicPr/>
          <p:nvPr/>
        </p:nvPicPr>
        <p:blipFill>
          <a:blip r:embed="rId1"/>
          <a:stretch/>
        </p:blipFill>
        <p:spPr>
          <a:xfrm>
            <a:off x="2052720" y="1636560"/>
            <a:ext cx="5038560" cy="409608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4"/>
          <p:cNvSpPr/>
          <p:nvPr/>
        </p:nvSpPr>
        <p:spPr>
          <a:xfrm>
            <a:off x="468360" y="5805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brain.fuw.edu.pl/edu-wiki/images/9/94/ZalamkiN2_P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395280" y="206064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i obrazowanie stosuje się na przykład w neurolog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razowanie zwane metodą A - prezentacją A, 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202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,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8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Grupa 6"/>
          <p:cNvGrpSpPr/>
          <p:nvPr/>
        </p:nvGrpSpPr>
        <p:grpSpPr>
          <a:xfrm>
            <a:off x="684360" y="2060640"/>
            <a:ext cx="7576920" cy="3170160"/>
            <a:chOff x="684360" y="2060640"/>
            <a:chExt cx="7576920" cy="3170160"/>
          </a:xfrm>
        </p:grpSpPr>
        <p:pic>
          <p:nvPicPr>
            <p:cNvPr id="217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684360" y="2060640"/>
              <a:ext cx="396036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8" name="Łącznik prosty ze strzałką 4"/>
            <p:cNvCxnSpPr/>
            <p:nvPr/>
          </p:nvCxnSpPr>
          <p:spPr>
            <a:xfrm flipH="1">
              <a:off x="2268000" y="3715560"/>
              <a:ext cx="302472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9" name="pole tekstowe 8"/>
            <p:cNvSpPr/>
            <p:nvPr/>
          </p:nvSpPr>
          <p:spPr>
            <a:xfrm>
              <a:off x="537084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576280" cy="5434200"/>
            <a:chOff x="395280" y="907920"/>
            <a:chExt cx="857628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000" cy="1224000"/>
            </a:xfrm>
            <a:prstGeom prst="rightArrow">
              <a:avLst>
                <a:gd name="adj1" fmla="val 50000"/>
                <a:gd name="adj2" fmla="val 4998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8144640" cy="5434200"/>
              <a:chOff x="826920" y="907920"/>
              <a:chExt cx="814464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36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364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08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1640" y="1196640"/>
                <a:ext cx="216036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87040" y="5589720"/>
                <a:ext cx="268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– 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7:06Z</dcterms:modified>
  <cp:revision>58</cp:revision>
  <dc:subject/>
  <dc:title>Slajd 1</dc:title>
</cp:coreProperties>
</file>