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png" ContentType="image/png"/>
  <Override PartName="/ppt/media/image6.jpeg" ContentType="image/jpeg"/>
  <Override PartName="/ppt/media/image9.png" ContentType="image/png"/>
  <Override PartName="/ppt/media/image7.png" ContentType="image/png"/>
  <Override PartName="/ppt/media/image1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C19C-BAB9-478A-8ED1-5CDBB936FD1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A9C3-4859-4B44-ADEC-6DA06BFD3ED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2CB1-8763-4458-A786-41E201F56B2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55C1-B173-4338-ABD0-9A7F2D44A58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D959-B3A3-44F1-838B-4167632D8D0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4620-2545-4818-8474-C55B687FC1C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4C60B-F975-4394-8899-FA97281E6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706AC-1C61-46C0-BD0F-BBCA2BF66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CF136-8C05-4875-A1C5-AC0F376E4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B82AC-175A-4E95-A019-3A603F8FC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6E61F-1164-4C78-A08A-176A0E996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C04C4-2B1F-4F8F-9C58-D14519DCB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86023-AAB7-42C4-AD84-CF0472712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9F877-0CBA-4734-A291-C7192B299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A1FB9-578C-4986-BBF7-856E67391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30C03-66F2-4435-BA61-82D74212D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3F760-6D63-4C9D-81C4-852419B8B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B9837-F4F6-497E-8A7C-580075A64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9CA03-ACAB-40BE-848A-E0A02DD4C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8E987-03CE-4585-BD0D-A060113EE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22E3E-E285-42B3-9F6D-36CC79CCE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95003-E237-49B2-B09D-62F319BA0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3D8DD-B47D-45D9-B9CE-9CF1AFA7F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9C9EB-5F38-4794-8D71-B5C39D153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3B211-4456-4B0C-BC3D-5BA1C7FC1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154F2-B3EC-4B56-A431-F3E69D1E0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38DFC-6548-4CB6-ACA2-889E36DDD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351C0-FF40-4346-9D9E-F043F9071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12AF6-E72E-4BCC-88E2-B7E565EC1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D3F45-67B0-4B3E-A3D2-AFBEBADF2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59A3-0D3E-45AB-9BCE-C749590E201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888B-DBCB-4AC1-8EDC-D0C81B5C7DD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studium przypadku: klinika papieru (poziom II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Jeśli nastąpi znaczne zawilgocenie, to wewnątrz książki zachodzą głębokie zniszczenia wywołane rozpulchnieniem klejów w oprawach czy przenikaniem barwników z opraw i ilustracji na sąsiednie karty, co tworzy odbicia i stwarza warunki do rozwoju pleśni; okładki deformują się i odstają”.</a:t>
            </a:r>
            <a:endParaRPr b="0" lang="en-US" sz="2800" spc="-1" strike="noStrike">
              <a:solidFill>
                <a:srgbClr val="000000"/>
              </a:solidFill>
              <a:latin typeface="Calibri"/>
            </a:endParaRPr>
          </a:p>
          <a:p>
            <a:pPr marL="3589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J. Wasilewska, Chora książka: destrukcyjne czynniki biologiczne, Lublin 2004</a:t>
            </a:r>
            <a:endParaRPr b="0" lang="en-US" sz="1800" spc="-1" strike="noStrike">
              <a:solidFill>
                <a:srgbClr val="000000"/>
              </a:solidFill>
              <a:latin typeface="Calibri"/>
            </a:endParaRPr>
          </a:p>
          <a:p>
            <a:pPr marL="358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nniki biologiczne</a:t>
            </a:r>
            <a:endParaRPr b="0" lang="en-US" sz="4400" spc="-1" strike="noStrike">
              <a:solidFill>
                <a:srgbClr val="000000"/>
              </a:solidFill>
              <a:latin typeface="Calibri"/>
            </a:endParaRPr>
          </a:p>
        </p:txBody>
      </p:sp>
      <p:sp>
        <p:nvSpPr>
          <p:cNvPr id="116"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biory, co oczywiste, powinny być zabezpieczone od działania organizmów żywych, szczególnie zaś od grzybów, bakterii, owadów i gryzoni, które rokrocznie dokonują w wielu bibliotekach i archiwach potężnych spustoszeń w zbior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zyby</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siążki i archiwalia najczęściej atakowane są przez grzyby zwane popularnie pleśniami. Pleśnie to mikroskopijnych rozmiarów grzyby, które mogą rozrastać się w bardzo duże kolonie. Wyróżnia się pleśnie jednokomórkowe (tworzone przez jedną dobrze rozwiniętą komórkę) i wielokomórkowe (składające się ze skupisk poprzecznie podzielonych komórek).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leśnie chętnie rozwijają się na książkach ze sprzyjającymi warunkami, a więc na tych, do których stworzenia wykorzystywano kleje roślinne lub zwierzęce (np. wspomniane już kleje skórne i rybne). Rozwijają się z zarodników licznie występujących w powietrzu. Do ich rozwoju wystarczy niewielka ilość wody, która może pojawiać się wskutek nieprawidłowego wietrzenia lub zbyt dużej wilgot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kład książki zaatakowanej przez pleśnie.</a:t>
            </a:r>
            <a:endParaRPr b="0" lang="en-US" sz="2000" spc="-1" strike="noStrike">
              <a:solidFill>
                <a:srgbClr val="000000"/>
              </a:solidFill>
              <a:latin typeface="Calibri"/>
            </a:endParaRPr>
          </a:p>
        </p:txBody>
      </p:sp>
      <p:pic>
        <p:nvPicPr>
          <p:cNvPr id="122" name="Symbol zastępczy obrazu 6" descr="Rysunek02_T102_plesnie_2_310.jpg"/>
          <p:cNvPicPr/>
          <p:nvPr/>
        </p:nvPicPr>
        <p:blipFill>
          <a:blip r:embed="rId1"/>
          <a:srcRect l="2694" t="0" r="2694" b="0"/>
          <a:stretch/>
        </p:blipFill>
        <p:spPr>
          <a:xfrm>
            <a:off x="1792440" y="612720"/>
            <a:ext cx="5486400" cy="4114800"/>
          </a:xfrm>
          <a:prstGeom prst="rect">
            <a:avLst/>
          </a:prstGeom>
          <a:ln w="0">
            <a:noFill/>
          </a:ln>
        </p:spPr>
      </p:pic>
      <p:sp>
        <p:nvSpPr>
          <p:cNvPr id="123"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plesnie_2_310.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rzyby dobrze rozwijają się w środowisku lekko kwaśnym (pH z zakresu 4,5 – 6,5). Potrafią bytować w szerokim zakresie temperatur – najintensywniejszy rozwój większości gatunków grzybów następuje w temperaturze od 14 do 50 st. i przy praktycznie dowolnej wilgot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fektem działalności grzybów pleśniowych jest barwienie papieru spowodowane wydzielaniem różnych substancji przez mikroorganizmy, osłabianie jego struktury poprzez rozpuszczanie kart oraz okładek skórzanych lub pergaminowych, a także sklejanie kart charakterystycznym śluz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nanych jest około 30 gatunków grzybów atakujących książki. Jedną z podstawową metod ich identyfikacji jest ocena na podstawie kolorów przebarwień.</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niżej prezentowane są tabele przebarwień i obszary „zainteresowań” grzyb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31" name=""/>
          <p:cNvGraphicFramePr/>
          <p:nvPr/>
        </p:nvGraphicFramePr>
        <p:xfrm>
          <a:off x="468360" y="404640"/>
          <a:ext cx="8229600" cy="5329440"/>
        </p:xfrm>
        <a:graphic>
          <a:graphicData uri="http://schemas.openxmlformats.org/drawingml/2006/table">
            <a:tbl>
              <a:tblPr/>
              <a:tblGrid>
                <a:gridCol w="4114800"/>
                <a:gridCol w="4114800"/>
              </a:tblGrid>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Kolor przebarwie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Odpowiedzialne gatunk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0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óżowe i jasnoróż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spergillus wentii</a:t>
                      </a:r>
                      <a:r>
                        <a:rPr b="0" lang="pl-PL" sz="1800" spc="-1" strike="noStrike">
                          <a:solidFill>
                            <a:srgbClr val="000000"/>
                          </a:solidFill>
                          <a:latin typeface="Calibri"/>
                        </a:rPr>
                        <a:t>, </a:t>
                      </a:r>
                      <a:r>
                        <a:rPr b="0" i="1" lang="pl-PL" sz="1800" spc="-1" strike="noStrike">
                          <a:solidFill>
                            <a:srgbClr val="000000"/>
                          </a:solidFill>
                          <a:latin typeface="Calibri"/>
                        </a:rPr>
                        <a:t>Chaetomium crispatum</a:t>
                      </a:r>
                      <a:r>
                        <a:rPr b="0" lang="pl-PL" sz="1800" spc="-1" strike="noStrike">
                          <a:solidFill>
                            <a:srgbClr val="000000"/>
                          </a:solidFill>
                          <a:latin typeface="Calibri"/>
                        </a:rPr>
                        <a:t>, </a:t>
                      </a:r>
                      <a:r>
                        <a:rPr b="0" i="1" lang="pl-PL" sz="1800" spc="-1" strike="noStrike">
                          <a:solidFill>
                            <a:srgbClr val="000000"/>
                          </a:solidFill>
                          <a:latin typeface="Calibri"/>
                        </a:rPr>
                        <a:t>Rhodotorula mucilaginosa</a:t>
                      </a:r>
                      <a:r>
                        <a:rPr b="0" lang="pl-PL" sz="1800" spc="-1" strike="noStrike">
                          <a:solidFill>
                            <a:srgbClr val="000000"/>
                          </a:solidFill>
                          <a:latin typeface="Calibri"/>
                        </a:rPr>
                        <a:t>, </a:t>
                      </a:r>
                      <a:r>
                        <a:rPr b="0" i="1" lang="pl-PL" sz="1800" spc="-1" strike="noStrike">
                          <a:solidFill>
                            <a:srgbClr val="000000"/>
                          </a:solidFill>
                          <a:latin typeface="Calibri"/>
                        </a:rPr>
                        <a:t>Penicillium funiculosum</a:t>
                      </a:r>
                      <a:r>
                        <a:rPr b="0" lang="pl-PL" sz="1800" spc="-1" strike="noStrike">
                          <a:solidFill>
                            <a:srgbClr val="000000"/>
                          </a:solidFill>
                          <a:latin typeface="Calibri"/>
                        </a:rPr>
                        <a:t>, </a:t>
                      </a:r>
                      <a:r>
                        <a:rPr b="0" i="1" lang="pl-PL" sz="1800" spc="-1" strike="noStrike">
                          <a:solidFill>
                            <a:srgbClr val="000000"/>
                          </a:solidFill>
                          <a:latin typeface="Calibri"/>
                        </a:rPr>
                        <a:t>Penicillium purpurogen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Żół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zuprynka kulista (</a:t>
                      </a:r>
                      <a:r>
                        <a:rPr b="0" i="1" lang="pl-PL" sz="1800" spc="-1" strike="noStrike">
                          <a:solidFill>
                            <a:srgbClr val="000000"/>
                          </a:solidFill>
                          <a:latin typeface="Calibri"/>
                        </a:rPr>
                        <a:t>Chaetomium globosum</a:t>
                      </a:r>
                      <a:r>
                        <a:rPr b="0" lang="pl-PL" sz="1800" spc="-1" strike="noStrike">
                          <a:solidFill>
                            <a:srgbClr val="000000"/>
                          </a:solidFill>
                          <a:latin typeface="Calibri"/>
                        </a:rPr>
                        <a:t>), </a:t>
                      </a:r>
                      <a:r>
                        <a:rPr b="0" i="1" lang="pl-PL" sz="1800" spc="-1" strike="noStrike">
                          <a:solidFill>
                            <a:srgbClr val="000000"/>
                          </a:solidFill>
                          <a:latin typeface="Calibri"/>
                        </a:rPr>
                        <a:t>Trichoderma viride</a:t>
                      </a:r>
                      <a:r>
                        <a:rPr b="0" lang="pl-PL" sz="1800" spc="-1" strike="noStrike">
                          <a:solidFill>
                            <a:srgbClr val="000000"/>
                          </a:solidFill>
                          <a:latin typeface="Calibri"/>
                        </a:rPr>
                        <a:t>, </a:t>
                      </a:r>
                      <a:r>
                        <a:rPr b="0" i="1" lang="pl-PL" sz="1800" spc="-1" strike="noStrike">
                          <a:solidFill>
                            <a:srgbClr val="000000"/>
                          </a:solidFill>
                          <a:latin typeface="Calibri"/>
                        </a:rPr>
                        <a:t>Penicillium chrysogenum </a:t>
                      </a:r>
                      <a:r>
                        <a:rPr b="0" lang="pl-PL" sz="1800" spc="-1" strike="noStrike">
                          <a:solidFill>
                            <a:srgbClr val="000000"/>
                          </a:solidFill>
                          <a:latin typeface="Calibri"/>
                        </a:rPr>
                        <a:t>(dawniej </a:t>
                      </a:r>
                      <a:r>
                        <a:rPr b="0" i="1" lang="pl-PL" sz="1800" spc="-1" strike="noStrike">
                          <a:solidFill>
                            <a:srgbClr val="000000"/>
                          </a:solidFill>
                          <a:latin typeface="Calibri"/>
                        </a:rPr>
                        <a:t>Penicillium notatum</a:t>
                      </a:r>
                      <a:r>
                        <a:rPr b="0" lang="pl-PL"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Chaetomium elatum</a:t>
                      </a:r>
                      <a:r>
                        <a:rPr b="0" lang="pl-PL" sz="1800" spc="-1" strike="noStrike">
                          <a:solidFill>
                            <a:srgbClr val="000000"/>
                          </a:solidFill>
                          <a:latin typeface="Calibri"/>
                        </a:rPr>
                        <a:t>, </a:t>
                      </a:r>
                      <a:r>
                        <a:rPr b="0" i="1" lang="pl-PL" sz="1800" spc="-1" strike="noStrike">
                          <a:solidFill>
                            <a:srgbClr val="000000"/>
                          </a:solidFill>
                          <a:latin typeface="Calibri"/>
                        </a:rPr>
                        <a:t>Epiciccum nigr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ozielo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Chaetomium globosum var. aff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obrąz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Stachybotrys chartarum </a:t>
                      </a:r>
                      <a:r>
                        <a:rPr b="0" lang="pl-PL" sz="1800" spc="-1" strike="noStrike">
                          <a:solidFill>
                            <a:srgbClr val="000000"/>
                          </a:solidFill>
                          <a:latin typeface="Calibri"/>
                        </a:rPr>
                        <a:t>(dawniej </a:t>
                      </a:r>
                      <a:r>
                        <a:rPr b="0" i="1" lang="pl-PL" sz="1800" spc="-1" strike="noStrike">
                          <a:solidFill>
                            <a:srgbClr val="000000"/>
                          </a:solidFill>
                          <a:latin typeface="Calibri"/>
                        </a:rPr>
                        <a:t>Stachybotrys atra</a:t>
                      </a:r>
                      <a:r>
                        <a:rPr b="0" lang="pl-PL" sz="1800" spc="-1" strike="noStrike">
                          <a:solidFill>
                            <a:srgbClr val="000000"/>
                          </a:solidFill>
                          <a:latin typeface="Calibri"/>
                        </a:rPr>
                        <a:t>), </a:t>
                      </a:r>
                      <a:r>
                        <a:rPr b="0" i="1" lang="pl-PL" sz="1800" spc="-1" strike="noStrike">
                          <a:solidFill>
                            <a:srgbClr val="000000"/>
                          </a:solidFill>
                          <a:latin typeface="Calibri"/>
                        </a:rPr>
                        <a:t>Cladosporium s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liwk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crothecium sp.</a:t>
                      </a:r>
                      <a:r>
                        <a:rPr b="0" lang="pl-PL" sz="1800" spc="-1" strike="noStrike">
                          <a:solidFill>
                            <a:srgbClr val="000000"/>
                          </a:solidFill>
                          <a:latin typeface="Calibri"/>
                        </a:rPr>
                        <a:t>, </a:t>
                      </a:r>
                      <a:r>
                        <a:rPr b="0" i="1" lang="pl-PL" sz="1800" spc="-1" strike="noStrike">
                          <a:solidFill>
                            <a:srgbClr val="000000"/>
                          </a:solidFill>
                          <a:latin typeface="Calibri"/>
                        </a:rPr>
                        <a:t>Chaetomium s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eglas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Verticillium cinnabarin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2" name="pole tekstowe 4"/>
          <p:cNvSpPr/>
          <p:nvPr/>
        </p:nvSpPr>
        <p:spPr>
          <a:xfrm>
            <a:off x="395280" y="5877000"/>
            <a:ext cx="835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Na podstawie: A. i S. Sękowscy, Chemia dla kolekcjonera amatora, Warszawa 1989, s.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Calibri"/>
              </a:rPr>
              <a:t>Aspergillus wentii</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34" name="Symbol zastępczy obrazu 6" descr="Rysunek11_T102_395398-Aspergillus-wentii-C.jpg"/>
          <p:cNvPicPr/>
          <p:nvPr/>
        </p:nvPicPr>
        <p:blipFill>
          <a:blip r:embed="rId1"/>
          <a:stretch/>
        </p:blipFill>
        <p:spPr>
          <a:xfrm>
            <a:off x="2268360" y="333360"/>
            <a:ext cx="4607280" cy="4608360"/>
          </a:xfrm>
          <a:prstGeom prst="rect">
            <a:avLst/>
          </a:prstGeom>
          <a:ln w="0">
            <a:noFill/>
          </a:ln>
        </p:spPr>
      </p:pic>
      <p:sp>
        <p:nvSpPr>
          <p:cNvPr id="135"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fungi.myspecies.info/sites/fungi.myspecies.info/files/395398-Aspergillus-wentii-C.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dla papieru</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apier narażony jest na działanie wielu czynników niszczących. Można podzielić je na te zewnętrzne, a więc pochodzące z otoczenia, oraz na wewnętrzne, czyli występujące od powstania w samym papier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Symbol zastępczy zawartości 3" descr=""/>
          <p:cNvPicPr/>
          <p:nvPr/>
        </p:nvPicPr>
        <p:blipFill>
          <a:blip r:embed="rId1"/>
          <a:stretch/>
        </p:blipFill>
        <p:spPr>
          <a:xfrm>
            <a:off x="384120" y="549360"/>
            <a:ext cx="8375760" cy="59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Symbol zastępczy zawartości 3" descr=""/>
          <p:cNvPicPr/>
          <p:nvPr/>
        </p:nvPicPr>
        <p:blipFill>
          <a:blip r:embed="rId1"/>
          <a:stretch/>
        </p:blipFill>
        <p:spPr>
          <a:xfrm>
            <a:off x="384120" y="476280"/>
            <a:ext cx="8375760" cy="6033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Symbol zastępczy zawartości 3" descr=""/>
          <p:cNvPicPr/>
          <p:nvPr/>
        </p:nvPicPr>
        <p:blipFill>
          <a:blip r:embed="rId1"/>
          <a:stretch/>
        </p:blipFill>
        <p:spPr>
          <a:xfrm>
            <a:off x="384120" y="549360"/>
            <a:ext cx="8375760" cy="5900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Symbol zastępczy zawartości 3" descr=""/>
          <p:cNvPicPr/>
          <p:nvPr/>
        </p:nvPicPr>
        <p:blipFill>
          <a:blip r:embed="rId1"/>
          <a:stretch/>
        </p:blipFill>
        <p:spPr>
          <a:xfrm>
            <a:off x="384120" y="549360"/>
            <a:ext cx="8375760" cy="3211560"/>
          </a:xfrm>
          <a:prstGeom prst="rect">
            <a:avLst/>
          </a:prstGeom>
          <a:ln w="0">
            <a:noFill/>
          </a:ln>
        </p:spPr>
      </p:pic>
      <p:sp>
        <p:nvSpPr>
          <p:cNvPr id="140" name="pole tekstowe 2"/>
          <p:cNvSpPr/>
          <p:nvPr/>
        </p:nvSpPr>
        <p:spPr>
          <a:xfrm>
            <a:off x="395280" y="5589720"/>
            <a:ext cx="83534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Na podstawie: B. Zyska, Ochrona księgozbioru przed zniszczeniem, t. 2,</a:t>
            </a:r>
            <a:br>
              <a:rPr sz="1800"/>
            </a:br>
            <a:r>
              <a:rPr b="0" i="1" lang="pl-PL" sz="1800" spc="-1" strike="noStrike">
                <a:solidFill>
                  <a:srgbClr val="000000"/>
                </a:solidFill>
                <a:latin typeface="Calibri"/>
              </a:rPr>
              <a:t>Czynniki niszczące materiały w zbiorach bibliotecznych, Katowice 1993, s. 12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Grzyb z gatunku Alternaria geophila.</a:t>
            </a:r>
            <a:endParaRPr b="0" lang="en-US" sz="2000" spc="-1" strike="noStrike">
              <a:solidFill>
                <a:srgbClr val="000000"/>
              </a:solidFill>
              <a:latin typeface="Calibri"/>
            </a:endParaRPr>
          </a:p>
        </p:txBody>
      </p:sp>
      <p:pic>
        <p:nvPicPr>
          <p:cNvPr id="142" name="Symbol zastępczy obrazu 4" descr="Rysunek01_T102_alternaria_geophila_200.jpg"/>
          <p:cNvPicPr/>
          <p:nvPr/>
        </p:nvPicPr>
        <p:blipFill>
          <a:blip r:embed="rId1"/>
          <a:stretch/>
        </p:blipFill>
        <p:spPr>
          <a:xfrm>
            <a:off x="2346480" y="374760"/>
            <a:ext cx="4451040" cy="4449600"/>
          </a:xfrm>
          <a:prstGeom prst="rect">
            <a:avLst/>
          </a:prstGeom>
          <a:ln w="0">
            <a:noFill/>
          </a:ln>
        </p:spPr>
      </p:pic>
      <p:sp>
        <p:nvSpPr>
          <p:cNvPr id="143" name="PlaceHolder 2"/>
          <p:cNvSpPr>
            <a:spLocks noGrp="1"/>
          </p:cNvSpPr>
          <p:nvPr>
            <p:ph/>
          </p:nvPr>
        </p:nvSpPr>
        <p:spPr>
          <a:xfrm>
            <a:off x="468000" y="5367240"/>
            <a:ext cx="86756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alternaria_geophila_200.jpg</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Ilustracja z pracy: </a:t>
            </a:r>
            <a:r>
              <a:rPr b="0" i="1" lang="pl-PL" sz="1400" spc="-1" strike="noStrike">
                <a:solidFill>
                  <a:srgbClr val="000000"/>
                </a:solidFill>
                <a:latin typeface="Calibri"/>
              </a:rPr>
              <a:t>J. Wieprzkowski, Konserwacja księgozbiorów, [w]: Biblioteka w szkole nr 11/12'91, Warszawa 199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Szczególne skutki zagrzybienia</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ym ze szczególnych efektów zagrzybienia jest tzw. kamienienie książki. Pod tą nazwą ukrywa się proces przekształcania przez wilgoć i grzyby papieru do bezpostaciowej masy, która skleja ze sobą wiele kart, uniemożliwiając ich otwieranie. Problem dotyczy druków pergaminowych i czerpanych. Papiery maszynowe, dzięki nierozpuszczalnemu w wodzie klejowi żywicznemu, są odpor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t>
            </a:r>
            <a:r>
              <a:rPr b="1" lang="pl-PL" sz="2000" spc="-1" strike="noStrike">
                <a:solidFill>
                  <a:srgbClr val="000000"/>
                </a:solidFill>
                <a:latin typeface="Calibri"/>
              </a:rPr>
              <a:t>Skamieniała” książka.</a:t>
            </a:r>
            <a:endParaRPr b="0" lang="en-US" sz="2000" spc="-1" strike="noStrike">
              <a:solidFill>
                <a:srgbClr val="000000"/>
              </a:solidFill>
              <a:latin typeface="Calibri"/>
            </a:endParaRPr>
          </a:p>
        </p:txBody>
      </p:sp>
      <p:pic>
        <p:nvPicPr>
          <p:cNvPr id="147" name="Symbol zastępczy obrazu 6" descr="Rysunek03_T102_kamienienie_ksiazki_283.jpg"/>
          <p:cNvPicPr/>
          <p:nvPr/>
        </p:nvPicPr>
        <p:blipFill>
          <a:blip r:embed="rId1"/>
          <a:stretch/>
        </p:blipFill>
        <p:spPr>
          <a:xfrm>
            <a:off x="1922400" y="333360"/>
            <a:ext cx="5299200" cy="4494240"/>
          </a:xfrm>
          <a:prstGeom prst="rect">
            <a:avLst/>
          </a:prstGeom>
          <a:ln w="0">
            <a:noFill/>
          </a:ln>
        </p:spPr>
      </p:pic>
      <p:sp>
        <p:nvSpPr>
          <p:cNvPr id="148"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kamienienie_ksiazki_283.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nnym rodzajem uszkodzeń jest destrukcja puszysta, która objawia się uszkodzeniem brzegów kartek. Stają się one puszyste, miękkie, pozbawione pierwotnej struktury. Wyglądem i dotykiem przypominają bibułę. Badania wykazały, że odpowiedzialne są za to podstawczaki (</a:t>
            </a:r>
            <a:r>
              <a:rPr b="0" i="1" lang="pl-PL" sz="3200" spc="-1" strike="noStrike">
                <a:solidFill>
                  <a:srgbClr val="000000"/>
                </a:solidFill>
                <a:latin typeface="Calibri"/>
              </a:rPr>
              <a:t>Basidiomycetes</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3640" y="4800600"/>
            <a:ext cx="69548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kład książki dotkniętej destrukcją puszystą.</a:t>
            </a:r>
            <a:endParaRPr b="0" lang="en-US" sz="2000" spc="-1" strike="noStrike">
              <a:solidFill>
                <a:srgbClr val="000000"/>
              </a:solidFill>
              <a:latin typeface="Calibri"/>
            </a:endParaRPr>
          </a:p>
        </p:txBody>
      </p:sp>
      <p:pic>
        <p:nvPicPr>
          <p:cNvPr id="152" name="Symbol zastępczy obrazu 4" descr="Rysunek04_T102_destrukcja_puszysta_2_598.jpg"/>
          <p:cNvPicPr/>
          <p:nvPr/>
        </p:nvPicPr>
        <p:blipFill>
          <a:blip r:embed="rId1"/>
          <a:stretch/>
        </p:blipFill>
        <p:spPr>
          <a:xfrm>
            <a:off x="395280" y="620640"/>
            <a:ext cx="8325000" cy="4176720"/>
          </a:xfrm>
          <a:prstGeom prst="rect">
            <a:avLst/>
          </a:prstGeom>
          <a:ln w="0">
            <a:noFill/>
          </a:ln>
        </p:spPr>
      </p:pic>
      <p:sp>
        <p:nvSpPr>
          <p:cNvPr id="153" name="PlaceHolder 2"/>
          <p:cNvSpPr>
            <a:spLocks noGrp="1"/>
          </p:cNvSpPr>
          <p:nvPr>
            <p:ph/>
          </p:nvPr>
        </p:nvSpPr>
        <p:spPr>
          <a:xfrm>
            <a:off x="323640" y="5367240"/>
            <a:ext cx="69548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destrukcja_puszysta_2_598.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ęsto spotykany jest także foxing, czyli charakterystyczne rdzawe plamki pojawiające się na starszym papierze maszynowym, które świecą w świetle UV. Plamki nie stanowią zagrożenia dla struktury i wytrzymałości papieru. Mechanizm ich powstawania nie jest poznany, hipotezy mówią, iż są produktem grzybów lub (co bardziej prawdopodobne) pochodzą od zanieczyszczeń związkami żelaz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zewnętrzne</a:t>
            </a:r>
            <a:endParaRPr b="0" lang="en-US" sz="4400" spc="-1" strike="noStrike">
              <a:solidFill>
                <a:srgbClr val="000000"/>
              </a:solidFill>
              <a:latin typeface="Calibri"/>
            </a:endParaRPr>
          </a:p>
        </p:txBody>
      </p:sp>
      <p:sp>
        <p:nvSpPr>
          <p:cNvPr id="100" name=""/>
          <p:cNvSpPr txBox="1"/>
          <p:nvPr/>
        </p:nvSpPr>
        <p:spPr>
          <a:xfrm>
            <a:off x="468360" y="1557360"/>
            <a:ext cx="8229600" cy="4525920"/>
          </a:xfrm>
          <a:prstGeom prst="rect">
            <a:avLst/>
          </a:prstGeom>
          <a:noFill/>
          <a:ln w="0">
            <a:noFill/>
          </a:ln>
        </p:spPr>
        <p:txBody>
          <a:bodyPr anchor="t">
            <a:normAutofit fontScale="98000"/>
          </a:bodyPr>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unki przechowywania:</a:t>
            </a:r>
            <a:endParaRPr b="0" lang="en-US" sz="3200" spc="-1" strike="noStrike">
              <a:solidFill>
                <a:srgbClr val="000000"/>
              </a:solidFill>
              <a:latin typeface="Calibri"/>
            </a:endParaRPr>
          </a:p>
          <a:p>
            <a:pPr lvl="1" marL="896040" indent="-5040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temperatura, wilgotność powietrza, światło, zanieczyszczenia atmosferyczne,</a:t>
            </a:r>
            <a:endParaRPr b="0" lang="en-US" sz="2800" spc="-1" strike="noStrike">
              <a:solidFill>
                <a:srgbClr val="000000"/>
              </a:solidFill>
              <a:latin typeface="Calibri"/>
            </a:endParaRPr>
          </a:p>
          <a:p>
            <a:pPr lvl="1" marL="896040" indent="-5040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zynniki biologiczne (mikroorganizmy, owady, gryzonie i nietoperze)</a:t>
            </a:r>
            <a:endParaRPr b="0" lang="en-US" sz="28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atastrofy (pożary, powodzie, katastrofy budowlane) i awarie.</a:t>
            </a:r>
            <a:endParaRPr b="0" lang="en-US" sz="32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Ludzie (zniszczenia, kradzieże, błędy w konserw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dotknięta foxingiem.</a:t>
            </a:r>
            <a:endParaRPr b="0" lang="en-US" sz="2000" spc="-1" strike="noStrike">
              <a:solidFill>
                <a:srgbClr val="000000"/>
              </a:solidFill>
              <a:latin typeface="Calibri"/>
            </a:endParaRPr>
          </a:p>
        </p:txBody>
      </p:sp>
      <p:sp>
        <p:nvSpPr>
          <p:cNvPr id="157"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7/72/Comstock_1832_title_page.jpg</a:t>
            </a:r>
            <a:endParaRPr b="0" lang="en-US" sz="1400" spc="-1" strike="noStrike">
              <a:solidFill>
                <a:srgbClr val="000000"/>
              </a:solidFill>
              <a:latin typeface="Calibri"/>
            </a:endParaRPr>
          </a:p>
        </p:txBody>
      </p:sp>
      <p:pic>
        <p:nvPicPr>
          <p:cNvPr id="158" name="Symbol zastępczy obrazu 6" descr="Rysunek05_T102_foxing.jpg"/>
          <p:cNvPicPr/>
          <p:nvPr/>
        </p:nvPicPr>
        <p:blipFill>
          <a:blip r:embed="rId1"/>
          <a:stretch/>
        </p:blipFill>
        <p:spPr>
          <a:xfrm>
            <a:off x="3203640" y="282600"/>
            <a:ext cx="2736720" cy="451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Foxing może być usuwany poprzez stosowanie rozjaśniaczy, rozcieńczonego nadtlenku wodoru (wody utlenionej) lub laserowo, jednak każda z tych metod jest inwazyjna i, w konsekwencji, nie polecana bez szczególnych wskazań do usuwania de facto nieszkodliwych przebarwie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pamiętać, że strzępki pleśni wytwarzają mykotoksyny, będące substancjami rakotwórczymi i mutagennymi, które stanowią poważne zagrożenie dla człowieka, dlatego konieczne jest stosowanie odpowiednich środków ochronnych przez konserwat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Bakterie</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ebarwienia książek powodują także bakterie z typu promieniowców (</a:t>
            </a:r>
            <a:r>
              <a:rPr b="0" i="1" lang="pl-PL" sz="3200" spc="-1" strike="noStrike">
                <a:solidFill>
                  <a:srgbClr val="000000"/>
                </a:solidFill>
                <a:latin typeface="Calibri"/>
              </a:rPr>
              <a:t>Actinobacteria</a:t>
            </a:r>
            <a:r>
              <a:rPr b="0" lang="pl-PL" sz="3200" spc="-1" strike="noStrike">
                <a:solidFill>
                  <a:srgbClr val="000000"/>
                </a:solidFill>
                <a:latin typeface="Calibri"/>
              </a:rPr>
              <a:t>), z rodzaju </a:t>
            </a:r>
            <a:r>
              <a:rPr b="0" i="1" lang="pl-PL" sz="3200" spc="-1" strike="noStrike">
                <a:solidFill>
                  <a:srgbClr val="000000"/>
                </a:solidFill>
                <a:latin typeface="Calibri"/>
              </a:rPr>
              <a:t>Nocardia</a:t>
            </a:r>
            <a:r>
              <a:rPr b="0" lang="pl-PL" sz="3200" spc="-1" strike="noStrike">
                <a:solidFill>
                  <a:srgbClr val="000000"/>
                </a:solidFill>
                <a:latin typeface="Calibri"/>
              </a:rPr>
              <a:t> i </a:t>
            </a:r>
            <a:r>
              <a:rPr b="0" i="1" lang="pl-PL" sz="3200" spc="-1" strike="noStrike">
                <a:solidFill>
                  <a:srgbClr val="000000"/>
                </a:solidFill>
                <a:latin typeface="Calibri"/>
              </a:rPr>
              <a:t>Streptomyces</a:t>
            </a:r>
            <a:r>
              <a:rPr b="0" lang="pl-PL" sz="3200" spc="-1" strike="noStrike">
                <a:solidFill>
                  <a:srgbClr val="000000"/>
                </a:solidFill>
                <a:latin typeface="Calibri"/>
              </a:rPr>
              <a:t>. Atakują głównie papier i oprawy. Szkodliwe dla książek są także bakterie z rodzajów </a:t>
            </a:r>
            <a:r>
              <a:rPr b="0" i="1" lang="pl-PL" sz="3200" spc="-1" strike="noStrike">
                <a:solidFill>
                  <a:srgbClr val="000000"/>
                </a:solidFill>
                <a:latin typeface="Calibri"/>
              </a:rPr>
              <a:t>Cellvibrio</a:t>
            </a:r>
            <a:r>
              <a:rPr b="0" lang="pl-PL" sz="3200" spc="-1" strike="noStrike">
                <a:solidFill>
                  <a:srgbClr val="000000"/>
                </a:solidFill>
                <a:latin typeface="Calibri"/>
              </a:rPr>
              <a:t>, </a:t>
            </a:r>
            <a:r>
              <a:rPr b="0" i="1" lang="pl-PL" sz="3200" spc="-1" strike="noStrike">
                <a:solidFill>
                  <a:srgbClr val="000000"/>
                </a:solidFill>
                <a:latin typeface="Calibri"/>
              </a:rPr>
              <a:t>Cellfacicula</a:t>
            </a:r>
            <a:r>
              <a:rPr b="0" lang="pl-PL" sz="3200" spc="-1" strike="noStrike">
                <a:solidFill>
                  <a:srgbClr val="000000"/>
                </a:solidFill>
                <a:latin typeface="Calibri"/>
              </a:rPr>
              <a:t>, </a:t>
            </a:r>
            <a:r>
              <a:rPr b="0" i="1" lang="pl-PL" sz="3200" spc="-1" strike="noStrike">
                <a:solidFill>
                  <a:srgbClr val="000000"/>
                </a:solidFill>
                <a:latin typeface="Calibri"/>
              </a:rPr>
              <a:t>Serratia</a:t>
            </a:r>
            <a:r>
              <a:rPr b="0" lang="pl-PL" sz="3200" spc="-1" strike="noStrike">
                <a:solidFill>
                  <a:srgbClr val="000000"/>
                </a:solidFill>
                <a:latin typeface="Calibri"/>
              </a:rPr>
              <a:t>, </a:t>
            </a:r>
            <a:r>
              <a:rPr b="0" i="1" lang="pl-PL" sz="3200" spc="-1" strike="noStrike">
                <a:solidFill>
                  <a:srgbClr val="000000"/>
                </a:solidFill>
                <a:latin typeface="Calibri"/>
              </a:rPr>
              <a:t>Bacillus</a:t>
            </a:r>
            <a:r>
              <a:rPr b="0" lang="pl-PL" sz="3200" spc="-1" strike="noStrike">
                <a:solidFill>
                  <a:srgbClr val="000000"/>
                </a:solidFill>
                <a:latin typeface="Calibri"/>
              </a:rPr>
              <a:t>, </a:t>
            </a:r>
            <a:r>
              <a:rPr b="0" i="1" lang="pl-PL" sz="3200" spc="-1" strike="noStrike">
                <a:solidFill>
                  <a:srgbClr val="000000"/>
                </a:solidFill>
                <a:latin typeface="Calibri"/>
              </a:rPr>
              <a:t>Cytophaga</a:t>
            </a:r>
            <a:r>
              <a:rPr b="0" lang="pl-PL" sz="3200" spc="-1" strike="noStrike">
                <a:solidFill>
                  <a:srgbClr val="000000"/>
                </a:solidFill>
                <a:latin typeface="Calibri"/>
              </a:rPr>
              <a:t>, </a:t>
            </a:r>
            <a:r>
              <a:rPr b="0" i="1" lang="pl-PL" sz="3200" spc="-1" strike="noStrike">
                <a:solidFill>
                  <a:srgbClr val="000000"/>
                </a:solidFill>
                <a:latin typeface="Calibri"/>
              </a:rPr>
              <a:t>Sporocytophaga</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Owady</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wady także są zagrożeniem dla papieru. Najchętniej żerują w miejscach na książkach zawierających najwięcej kleju, a więc w klejonych grzbietach i okładkach. Wydrążają tam głębokie kanały, skutkujące osłabieniem konstrukcji książki. Niektóre, np. rybik, są w stanie rozkładać celulozę, dlatego są podwójnie niebezpiecz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ybik cukrowy.</a:t>
            </a:r>
            <a:endParaRPr b="0" lang="en-US" sz="2000" spc="-1" strike="noStrike">
              <a:solidFill>
                <a:srgbClr val="000000"/>
              </a:solidFill>
              <a:latin typeface="Calibri"/>
            </a:endParaRPr>
          </a:p>
        </p:txBody>
      </p:sp>
      <p:pic>
        <p:nvPicPr>
          <p:cNvPr id="168" name="Symbol zastępczy obrazu 6" descr="Rysunek10_T102_Lepisma_saccharina_3.jpg"/>
          <p:cNvPicPr/>
          <p:nvPr/>
        </p:nvPicPr>
        <p:blipFill>
          <a:blip r:embed="rId1"/>
          <a:stretch/>
        </p:blipFill>
        <p:spPr>
          <a:xfrm>
            <a:off x="2854440" y="333360"/>
            <a:ext cx="3435120" cy="4608360"/>
          </a:xfrm>
          <a:prstGeom prst="rect">
            <a:avLst/>
          </a:prstGeom>
          <a:ln w="0">
            <a:noFill/>
          </a:ln>
        </p:spPr>
      </p:pic>
      <p:sp>
        <p:nvSpPr>
          <p:cNvPr id="169"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5/50/Lepisma_saccharina_3.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jczęściej występują szkodniki w postaci rybika cukrowego (</a:t>
            </a:r>
            <a:r>
              <a:rPr b="0" i="1" lang="pl-PL" sz="3200" spc="-1" strike="noStrike">
                <a:solidFill>
                  <a:srgbClr val="000000"/>
                </a:solidFill>
                <a:latin typeface="Calibri"/>
              </a:rPr>
              <a:t>Lepisma saccharine</a:t>
            </a:r>
            <a:r>
              <a:rPr b="0" lang="pl-PL" sz="3200" spc="-1" strike="noStrike">
                <a:solidFill>
                  <a:srgbClr val="000000"/>
                </a:solidFill>
                <a:latin typeface="Calibri"/>
              </a:rPr>
              <a:t>), karaczanów (</a:t>
            </a:r>
            <a:r>
              <a:rPr b="0" i="1" lang="pl-PL" sz="3200" spc="-1" strike="noStrike">
                <a:solidFill>
                  <a:srgbClr val="000000"/>
                </a:solidFill>
                <a:latin typeface="Calibri"/>
              </a:rPr>
              <a:t>Blattodea</a:t>
            </a:r>
            <a:r>
              <a:rPr b="0" lang="pl-PL" sz="3200" spc="-1" strike="noStrike">
                <a:solidFill>
                  <a:srgbClr val="000000"/>
                </a:solidFill>
                <a:latin typeface="Calibri"/>
              </a:rPr>
              <a:t>) i mola ziarniaka (</a:t>
            </a:r>
            <a:r>
              <a:rPr b="0" i="1" lang="pl-PL" sz="3200" spc="-1" strike="noStrike">
                <a:solidFill>
                  <a:srgbClr val="000000"/>
                </a:solidFill>
                <a:latin typeface="Calibri"/>
              </a:rPr>
              <a:t>Nemapogon granellus</a:t>
            </a:r>
            <a:r>
              <a:rPr b="0" lang="pl-PL" sz="3200" spc="-1" strike="noStrike">
                <a:solidFill>
                  <a:srgbClr val="000000"/>
                </a:solidFill>
                <a:latin typeface="Calibri"/>
              </a:rPr>
              <a:t>). Na uwagę zasługuje także zaleszczotek książkowy (</a:t>
            </a:r>
            <a:r>
              <a:rPr b="0" i="1" lang="pl-PL" sz="3200" spc="-1" strike="noStrike">
                <a:solidFill>
                  <a:srgbClr val="000000"/>
                </a:solidFill>
                <a:latin typeface="Calibri"/>
              </a:rPr>
              <a:t>Chelifer cancroides</a:t>
            </a:r>
            <a:r>
              <a:rPr b="0" lang="pl-PL" sz="3200" spc="-1" strike="noStrike">
                <a:solidFill>
                  <a:srgbClr val="000000"/>
                </a:solidFill>
                <a:latin typeface="Calibri"/>
              </a:rPr>
              <a:t>), drobny pajęczak osiągający rozmiar 3 – 6 mm. Jest drapieżnikiem, poluje na małe owady, które żywią się papierem. Często zamieszkuje bibliote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545472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aleszczotek książkowy (</a:t>
            </a:r>
            <a:r>
              <a:rPr b="1" i="1" lang="pl-PL" sz="2000" spc="-1" strike="noStrike">
                <a:solidFill>
                  <a:srgbClr val="000000"/>
                </a:solidFill>
                <a:latin typeface="Calibri"/>
              </a:rPr>
              <a:t>Chelifer cancroides</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73" name="Symbol zastępczy obrazu 6" descr="Rysunek11_T102_zaleszczotek.jpg"/>
          <p:cNvPicPr/>
          <p:nvPr/>
        </p:nvPicPr>
        <p:blipFill>
          <a:blip r:embed="rId1"/>
          <a:stretch/>
        </p:blipFill>
        <p:spPr>
          <a:xfrm>
            <a:off x="1150920" y="374760"/>
            <a:ext cx="6842160" cy="5214960"/>
          </a:xfrm>
          <a:prstGeom prst="rect">
            <a:avLst/>
          </a:prstGeom>
          <a:ln w="0">
            <a:noFill/>
          </a:ln>
        </p:spPr>
      </p:pic>
      <p:sp>
        <p:nvSpPr>
          <p:cNvPr id="174" name="PlaceHolder 2"/>
          <p:cNvSpPr>
            <a:spLocks noGrp="1"/>
          </p:cNvSpPr>
          <p:nvPr>
            <p:ph/>
          </p:nvPr>
        </p:nvSpPr>
        <p:spPr>
          <a:xfrm>
            <a:off x="394920" y="600876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7/72/Ar_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4920" y="4800600"/>
            <a:ext cx="82803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uszkodzona przez pleśń i wilgoć (przebarwienia) i owady (wydrążone kanaliki przez wiele kartek).</a:t>
            </a:r>
            <a:endParaRPr b="0" lang="en-US" sz="2000" spc="-1" strike="noStrike">
              <a:solidFill>
                <a:srgbClr val="000000"/>
              </a:solidFill>
              <a:latin typeface="Calibri"/>
            </a:endParaRPr>
          </a:p>
        </p:txBody>
      </p:sp>
      <p:pic>
        <p:nvPicPr>
          <p:cNvPr id="176" name="Symbol zastępczy obrazu 8" descr="Rysunek06_T102_owady_zniszczenia_598.jpg"/>
          <p:cNvPicPr/>
          <p:nvPr/>
        </p:nvPicPr>
        <p:blipFill>
          <a:blip r:embed="rId1"/>
          <a:stretch/>
        </p:blipFill>
        <p:spPr>
          <a:xfrm>
            <a:off x="514440" y="765000"/>
            <a:ext cx="8115120" cy="3527640"/>
          </a:xfrm>
          <a:prstGeom prst="rect">
            <a:avLst/>
          </a:prstGeom>
          <a:ln w="0">
            <a:noFill/>
          </a:ln>
        </p:spPr>
      </p:pic>
      <p:sp>
        <p:nvSpPr>
          <p:cNvPr id="177" name="PlaceHolder 2"/>
          <p:cNvSpPr>
            <a:spLocks noGrp="1"/>
          </p:cNvSpPr>
          <p:nvPr>
            <p:ph/>
          </p:nvPr>
        </p:nvSpPr>
        <p:spPr>
          <a:xfrm>
            <a:off x="394920" y="5367240"/>
            <a:ext cx="82803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owady_zniszczenia_598.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yzonie i nietoperze</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estrukcyjne działanie myszy domowej (</a:t>
            </a:r>
            <a:r>
              <a:rPr b="0" i="1" lang="pl-PL" sz="3200" spc="-1" strike="noStrike">
                <a:solidFill>
                  <a:srgbClr val="000000"/>
                </a:solidFill>
                <a:latin typeface="Calibri"/>
              </a:rPr>
              <a:t>Mus musculus</a:t>
            </a:r>
            <a:r>
              <a:rPr b="0" lang="pl-PL" sz="3200" spc="-1" strike="noStrike">
                <a:solidFill>
                  <a:srgbClr val="000000"/>
                </a:solidFill>
                <a:latin typeface="Calibri"/>
              </a:rPr>
              <a:t>) i szczurów (</a:t>
            </a:r>
            <a:r>
              <a:rPr b="0" i="1" lang="pl-PL" sz="3200" spc="-1" strike="noStrike">
                <a:solidFill>
                  <a:srgbClr val="000000"/>
                </a:solidFill>
                <a:latin typeface="Calibri"/>
              </a:rPr>
              <a:t>Rattus</a:t>
            </a:r>
            <a:r>
              <a:rPr b="0" lang="pl-PL" sz="3200" spc="-1" strike="noStrike">
                <a:solidFill>
                  <a:srgbClr val="000000"/>
                </a:solidFill>
                <a:latin typeface="Calibri"/>
              </a:rPr>
              <a:t>) jest chyba oczywiste. Oprócz tego, dochodzą jeszcze nietoperze (</a:t>
            </a:r>
            <a:r>
              <a:rPr b="0" i="1" lang="pl-PL" sz="3200" spc="-1" strike="noStrike">
                <a:solidFill>
                  <a:srgbClr val="000000"/>
                </a:solidFill>
                <a:latin typeface="Calibri"/>
              </a:rPr>
              <a:t>Chiroptera</a:t>
            </a:r>
            <a:r>
              <a:rPr b="0" lang="pl-PL" sz="3200" spc="-1" strike="noStrike">
                <a:solidFill>
                  <a:srgbClr val="000000"/>
                </a:solidFill>
                <a:latin typeface="Calibri"/>
              </a:rPr>
              <a:t>), które często gnieżdżą się w ciemnych nieodwiedzanych pomieszczeniach, np. kościołach, posiadających często poważne zbi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wewnętrzne</a:t>
            </a:r>
            <a:endParaRPr b="0" lang="en-US" sz="4400" spc="-1" strike="noStrike">
              <a:solidFill>
                <a:srgbClr val="000000"/>
              </a:solidFill>
              <a:latin typeface="Calibri"/>
            </a:endParaRPr>
          </a:p>
        </p:txBody>
      </p:sp>
      <p:sp>
        <p:nvSpPr>
          <p:cNvPr id="102" name=""/>
          <p:cNvSpPr txBox="1"/>
          <p:nvPr/>
        </p:nvSpPr>
        <p:spPr>
          <a:xfrm>
            <a:off x="468360" y="155736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rozja atramentowa (wżery atramentowe) degradacja papieru wywołana obecnością żelaza i miedzi w składzie atramentów,</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emiczna degradacja papieru – kwasowa hydroliza celulozy oraz utlenia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waśny papier</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emiczna degradacja papieru zachodzi na skutek kwasowej hydrolizy celulozy. Dzieje się tak, ponieważ masowo produkowany od drugiej połowy XIX w. aż do końca XX w. papier nie był dostatecznie dobrze odkwaszany. Szacuje się, że problem może dotyczyć nawet 80% książek z tego okres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szynowa technologia produkcji papieru bazowała na wykorzystaniu ścieru drzewnego utrwalanego klejem żywicznym z dodatkiem siarczanu glinu, który powoduje wysoką kwasowość papieru i szybką degradację włókien celulozow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Hydroliza włókien celulozy zawartych w papierze powoduje osłabianie jego struktury, co sprawia, ze papier staje się kruchy, łamliwy, łatwo ulega uszkodzeniom. W celu ochrony zbiorów opracowano kilka metod odkwaszania środowiska papier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Metoda bueckeburska</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ierwszą metodą jest opracowana w Dolnosaksońskim Archiwum Państwowym w Bueckeburgu tzw. „metoda bueckeburska”, dzięki której z papieru wypłukiwane są szkodliwe substancje, kwasy są neutralizowane, a dodatkowo wytwarzany jest tzw. alkaliczny "bufor" (rezerwa alkaiczna), który jeszcze nawet po stuleciach będzie wciąż skutecznie chronił papi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ynnikiem odkwaszającym w tym procesie jest wodorowęglanu magnezu Mg(HCO</a:t>
            </a:r>
            <a:r>
              <a:rPr b="0" lang="pl-PL" sz="3200" spc="-1" strike="noStrike" baseline="-25000">
                <a:solidFill>
                  <a:srgbClr val="000000"/>
                </a:solidFill>
                <a:latin typeface="Calibri"/>
              </a:rPr>
              <a:t>3</a:t>
            </a:r>
            <a:r>
              <a:rPr b="0" lang="pl-PL" sz="3200" spc="-1" strike="noStrike">
                <a:solidFill>
                  <a:srgbClr val="000000"/>
                </a:solidFill>
                <a:latin typeface="Calibri"/>
              </a:rPr>
              <a:t>) w środowisku wodnym. Substancje kwaśne zawarte w papierze ulegają zobojętnieniu, a celowo wprowadzony nadmiar związków magnezu tworzy rezerwę zasadową w postaci węglanu MgCO</a:t>
            </a:r>
            <a:r>
              <a:rPr b="0" lang="pl-PL" sz="3200" spc="-1" strike="noStrike" baseline="-25000">
                <a:solidFill>
                  <a:srgbClr val="000000"/>
                </a:solidFill>
                <a:latin typeface="Calibri"/>
              </a:rPr>
              <a:t>3</a:t>
            </a:r>
            <a:r>
              <a:rPr b="0" lang="pl-PL" sz="3200" spc="-1" strike="noStrike">
                <a:solidFill>
                  <a:srgbClr val="000000"/>
                </a:solidFill>
                <a:latin typeface="Calibri"/>
              </a:rPr>
              <a:t>, która zapobiegnie dalszemu zakwaszaniu się dokument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łyn odkwaszający zawiera także pewien dodatek pochodnej celulozy o nazwie metylohydroksyetyloceluloza, która powoduje niewielkie wzmocnienie i zaklejenie odkwaszanych arkuszy. Roztwór odkwaszający zawiera także substancje utrwalające barwni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dą tej metody jest stosunkowo niska wydajność oraz konieczność odkwaszania dokumentów strona po stronie, co w przypadku wydawnictw zwartych, często jest trudne, a nawet niemożli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etoda bueckeburska jest stosowana od 2002 r. w Klinice Papieru Biblioteki Jagiellońskiej. Dwa lata później została udostępniona także dla innych klientów. Aktualny koszt odkwaszenia jednej karty formatu A4 to około 0,50 PLN. Podobnymi rozwiązaniami dysponuje także Archiwum Narodowe i Biblioteka Narodow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4800600"/>
            <a:ext cx="82803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rządzenie Neschen C900 korzystające z metody bueckeburskiej w Klinice Papieru Biblioteki Jagiellońskiej. </a:t>
            </a:r>
            <a:endParaRPr b="0" lang="en-US" sz="2000" spc="-1" strike="noStrike">
              <a:solidFill>
                <a:srgbClr val="000000"/>
              </a:solidFill>
              <a:latin typeface="Calibri"/>
            </a:endParaRPr>
          </a:p>
        </p:txBody>
      </p:sp>
      <p:pic>
        <p:nvPicPr>
          <p:cNvPr id="197" name="Symbol zastępczy obrazu 6" descr="Rysunek07_T102_Neschen.jpg"/>
          <p:cNvPicPr/>
          <p:nvPr/>
        </p:nvPicPr>
        <p:blipFill>
          <a:blip r:embed="rId1"/>
          <a:srcRect l="0" t="3033" r="0" b="3033"/>
          <a:stretch/>
        </p:blipFill>
        <p:spPr>
          <a:xfrm>
            <a:off x="1792440" y="404640"/>
            <a:ext cx="5486400" cy="4114800"/>
          </a:xfrm>
          <a:prstGeom prst="rect">
            <a:avLst/>
          </a:prstGeom>
          <a:ln w="0">
            <a:noFill/>
          </a:ln>
        </p:spPr>
      </p:pic>
      <p:sp>
        <p:nvSpPr>
          <p:cNvPr id="198" name="PlaceHolder 2"/>
          <p:cNvSpPr>
            <a:spLocks noGrp="1"/>
          </p:cNvSpPr>
          <p:nvPr>
            <p:ph/>
          </p:nvPr>
        </p:nvSpPr>
        <p:spPr>
          <a:xfrm>
            <a:off x="394920" y="5367240"/>
            <a:ext cx="79218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2.chemia.uj.edu.pl/~lojewski/album_neschen/grafika/2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Metoda Bookkeepera</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styczniu 2006 roku uruchomiono w klinice papieru przy Bibliotece Jagiellońskiej nową instalację do masowego odkwaszania druków zwartych i archiwaliów. Instalacja ta to Bookkeeper amerykańskiej firmy Preservation Technologies. Jest to pierwsza w Polsce instalacja tego typ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Rodzaje papieru</a:t>
            </a:r>
            <a:endParaRPr b="0" lang="en-US" sz="4400" spc="-1" strike="noStrike">
              <a:solidFill>
                <a:srgbClr val="000000"/>
              </a:solidFill>
              <a:latin typeface="Calibri"/>
            </a:endParaRPr>
          </a:p>
        </p:txBody>
      </p:sp>
      <p:sp>
        <p:nvSpPr>
          <p:cNvPr id="104"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połowy XIX w. głównym surowcem papierniczym był papier czerpany. Uzyskiwano go ze szmat bawełnianych lub lnianych, posiekanych i rozwłóknionych, z których tworzono arkusze papieru, następnie suszonych i sprasowywanych. Tak otrzymany półprodukt był zanurzany w kleju skórnym lub rybnym, powodującym złączenie włókien papieru i zwiększenie jego wytrzymał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4800600"/>
            <a:ext cx="83534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Gotowy ładunek złożony z książek do umieszczenia w reaktorze Bookkeepera.</a:t>
            </a:r>
            <a:endParaRPr b="0" lang="en-US" sz="2000" spc="-1" strike="noStrike">
              <a:solidFill>
                <a:srgbClr val="000000"/>
              </a:solidFill>
              <a:latin typeface="Calibri"/>
            </a:endParaRPr>
          </a:p>
        </p:txBody>
      </p:sp>
      <p:pic>
        <p:nvPicPr>
          <p:cNvPr id="202" name="Symbol zastępczy obrazu 6" descr="Rysunek09_T102_bookkeeper.jpg"/>
          <p:cNvPicPr/>
          <p:nvPr/>
        </p:nvPicPr>
        <p:blipFill>
          <a:blip r:embed="rId1"/>
          <a:stretch/>
        </p:blipFill>
        <p:spPr>
          <a:xfrm>
            <a:off x="1620720" y="404640"/>
            <a:ext cx="5902560" cy="4432320"/>
          </a:xfrm>
          <a:prstGeom prst="rect">
            <a:avLst/>
          </a:prstGeom>
          <a:ln w="0">
            <a:noFill/>
          </a:ln>
        </p:spPr>
      </p:pic>
      <p:sp>
        <p:nvSpPr>
          <p:cNvPr id="203" name="PlaceHolder 2"/>
          <p:cNvSpPr>
            <a:spLocks noGrp="1"/>
          </p:cNvSpPr>
          <p:nvPr>
            <p:ph/>
          </p:nvPr>
        </p:nvSpPr>
        <p:spPr>
          <a:xfrm>
            <a:off x="394920" y="5367240"/>
            <a:ext cx="82803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ookeriada.pl/wp-content/uploads/2013/03/12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etoda Bookkeepera pozwala na dostarczanie na karty książek tlenku magnezu rozpuszczony w perfluoroheptanie, który neutralizuje kwasy i zapewnia rezerwę alkaliczną, utrzymując w książce pH na poziomie 7 – 10. Jest zdecydowanie wydajniejsza, ponieważ nie wymaga rozkładania książek na pojedyncze karty, dokument wystarczy zanurzyć w odpowiednim roztworze, a następnie wysuszy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Ładowanie reaktora z instalacji Bookkeeper III.</a:t>
            </a:r>
            <a:endParaRPr b="0" lang="en-US" sz="2000" spc="-1" strike="noStrike">
              <a:solidFill>
                <a:srgbClr val="000000"/>
              </a:solidFill>
              <a:latin typeface="Calibri"/>
            </a:endParaRPr>
          </a:p>
        </p:txBody>
      </p:sp>
      <p:pic>
        <p:nvPicPr>
          <p:cNvPr id="207" name="Symbol zastępczy obrazu 6" descr="Rysunek08_T102_klinika_papieru_krk1.jpg"/>
          <p:cNvPicPr/>
          <p:nvPr/>
        </p:nvPicPr>
        <p:blipFill>
          <a:blip r:embed="rId1"/>
          <a:stretch/>
        </p:blipFill>
        <p:spPr>
          <a:xfrm>
            <a:off x="3038400" y="378000"/>
            <a:ext cx="3067200" cy="4419360"/>
          </a:xfrm>
          <a:prstGeom prst="rect">
            <a:avLst/>
          </a:prstGeom>
          <a:ln w="0">
            <a:noFill/>
          </a:ln>
        </p:spPr>
      </p:pic>
      <p:sp>
        <p:nvSpPr>
          <p:cNvPr id="208"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2.chemia.uj.edu.pl/kp/klinika_papieru_krk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nstalacja Bookkeeper III pozwala na przetworzenie około 40 000 kilogramów dokumentów rocznie. Klinika Papieru BJ udostępnia ją także zewnętrznym podmiotom. Koszt odkwaszania książek to 60 PLN/k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óźniej w masowych zastosowaniach pojawiły się dwa rodzaje taniego papieru wytwarzanego przemysłowo, które z niewielkimi modyfikacjami przetrwały do czasów dzisiejszych. Są to papiery drzewne i bezdrzewne. Ten pierwszy, tańszy i gorszej jakości, jest wykonywany ze ścieru drzewnego, czyli – przede wszystkim – mieszaniny celulozy i lignin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statni składnik, którego pozbawiony jest dobrej jakości papier bezdrzewny, można traktować jako zanieczyszczenie papieru. Niskiej jakości papier gazetowy (a więc drzewny) wystawiony na działanie promieni nadfioletowych zawartych w świetle słonecznym staje się żółty, a potem nawet brązowieje, co jest skutkiem rozkładu ligniny. Proces ten nie występuje w przypadku papieru bezdrzewn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arunki przechowywania</a:t>
            </a:r>
            <a:endParaRPr b="0" lang="en-US" sz="4400" spc="-1" strike="noStrike">
              <a:solidFill>
                <a:srgbClr val="000000"/>
              </a:solidFill>
              <a:latin typeface="Calibri"/>
            </a:endParaRPr>
          </a:p>
        </p:txBody>
      </p:sp>
      <p:sp>
        <p:nvSpPr>
          <p:cNvPr id="110"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godnie z zaleceniami Naczelnej Dyrekcji Archiwów Państwowych najlepsze warunki do przechowywania zbiorów to temperatura w zakresie 16 – 18 st. i wilgotność 45 – 55%. Na papier nie powinno bezpośrednio padać światło słoneczne, powinien być zapewniony odpowiedni przepływ powietrz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Zbyt niska wilgotność powietrza w magazynie powoduje wysychanie klejów, pękanie skóry, kurczenie się płótna i pergaminu. Przy podwyższonej wilgotności najbardziej narażone są odsłonięte grzbiety i brzegi kart; wilgoć wnikając w głąb książki bardzo powoli z niej uchodzi, ponieważ celuloza zawarta w papierze jest materiałem bardzo higroskopijny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3T15:07:18Z</dcterms:modified>
  <cp:revision>94</cp:revision>
  <dc:subject/>
  <dc:title>Slajd 1</dc:title>
</cp:coreProperties>
</file>