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ABF-9CAD-4346-999D-0F424FAEA3C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A490-2497-495B-9AF7-33C038D68F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C18-3171-43D8-8802-9484214D78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E02-90FD-4269-8D7A-D9D3C385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4F7-3929-4B5E-B4BC-49DCCEC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A4A-72ED-4CFF-BF16-2409B04B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C10-A9F0-4FD5-9AF5-5875BCA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558-79D6-41A6-9787-E668BD88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7233-822A-41F7-A79D-06DD1A95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AE62-D4F4-4C36-8145-066854B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858-7A20-4864-AB80-377744C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D88-345A-4DE5-B145-7C55946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360-7174-4CC5-9E9E-3FF80EAB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98CB-3702-4D88-87DB-BD3FFBE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B3E-F4B3-4F3F-B699-16C9807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5084-0D09-480A-AB13-1521649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9408-AC41-4944-8CEC-7C7CC33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D24C-EB1D-4C71-B2CB-6E2E9761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1BB9-C72A-441D-801B-1D1F9333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F8DE-BA06-405E-9745-C980F67A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BF7-8ADD-4173-850D-91985CF5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DFC-4C57-4158-9220-A6BB89B1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D2A-2022-4999-8B5C-4BFF48B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5DC-518C-4D5A-BBEC-50A6708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263-EF1F-47E4-BED9-C20AA6F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1D4-2766-4D05-AFB0-B447B7C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D08-9415-4556-B695-B334FD7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763-D37F-42DC-94CB-17842569810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76F-EC20-490C-8D51-B66F0D55BC6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49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6000" y="6021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 pod napięciem, wytwarza krótki impuls, według wyliczeń, przy średniej prędkości fal ultradźwiękowych  w tkankach i penetracji około 20 cm, echo wraca w czasie 0,25 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wyniku badania otrzymujemy na osi (poziomej) ekranu – czas powrotu echa, jest 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tak zwana metoda –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0 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a 6"/>
          <p:cNvGrpSpPr/>
          <p:nvPr/>
        </p:nvGrpSpPr>
        <p:grpSpPr>
          <a:xfrm>
            <a:off x="1042920" y="2060640"/>
            <a:ext cx="7434000" cy="3170160"/>
            <a:chOff x="1042920" y="2060640"/>
            <a:chExt cx="7434000" cy="3170160"/>
          </a:xfrm>
        </p:grpSpPr>
        <p:pic>
          <p:nvPicPr>
            <p:cNvPr id="211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1042920" y="2060640"/>
              <a:ext cx="396108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2" name="Łącznik prosty ze strzałką 4"/>
            <p:cNvCxnSpPr/>
            <p:nvPr/>
          </p:nvCxnSpPr>
          <p:spPr>
            <a:xfrm flipH="1">
              <a:off x="2626560" y="3715560"/>
              <a:ext cx="302508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3" name="pole tekstowe 8"/>
            <p:cNvSpPr/>
            <p:nvPr/>
          </p:nvSpPr>
          <p:spPr>
            <a:xfrm>
              <a:off x="558648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385840" cy="5434200"/>
            <a:chOff x="395280" y="907920"/>
            <a:chExt cx="838584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720" cy="122400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7954200" cy="5434200"/>
              <a:chOff x="826920" y="907920"/>
              <a:chExt cx="795420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7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400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4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2000" y="1196640"/>
                <a:ext cx="216072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45640" y="5589720"/>
                <a:ext cx="25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-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04Z</dcterms:modified>
  <cp:revision>50</cp:revision>
  <dc:subject/>
  <dc:title>Slajd 1</dc:title>
</cp:coreProperties>
</file>