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0C5-866D-45E4-A4B2-100B2CA278A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C3D-000D-416A-A107-B94D104FE5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9B3-30DC-44F7-BEC5-2A4AC265CD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9F7D-2E4F-410B-8F24-776EF82404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A02-276C-44D4-97B3-F80C904E9EA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57B-B5B8-485B-80FE-A712A2146E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5C7-F561-4685-898A-8E4EC58976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D834-7A65-4057-8DD6-14452DFFE8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1990-BEA9-4B27-B38C-908E11DC29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8B3-5AA0-44F5-BA15-4261E8F50E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572-6447-43C5-BE10-6BC8164B2C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4C9-6DE7-4102-9250-AF5FB6C3C8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9DD-EAE3-435D-B6E1-AECCB102C7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535-B315-47CC-A79C-CEFFE96571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616-D8F5-4E5F-85B0-1780C912BD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8B19-60E0-4C28-9DBA-55FD0D640D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DA5-15C2-4EC8-9229-E1DAAA1808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AE1A-F689-4A10-9BD6-4DF031B222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11C-EA9A-4523-9D09-6577005429F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DAB-A9D5-4A2B-900F-8C265F8394A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2C6-3BC2-42F2-A7A2-E1709E765C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E9A5-29B6-4C9E-A1A1-A0D8C310E1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BE0D-6811-4369-ADEE-635BABC46C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86D0-D8CF-40F5-B4C5-D65FBBE6AB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453-1FF3-4679-B5A4-B873143E35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56F4-470E-45B3-83A9-1373E434B7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701-46DD-448C-828A-47AE9D429D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72D7-AA06-4843-B3C7-9B65EB1389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FF63-A68F-4BE3-ABB5-CAFC795343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8F65-D99B-4116-8BC9-C7AA744E0E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6897-E99E-43EC-9225-833FF5A811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CA6-8021-4AC8-819B-C603DA62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8B6-D962-4B95-8497-CF45791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B5C-292B-4D87-A631-62996FAB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DC7-8A8C-4A21-8224-F77AD173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793D-2B02-46F9-A6C2-B9240663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9921-6586-4E4A-931F-C3EE023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746-4162-4559-8B34-122D01A0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E576-1235-4AF5-B9C3-D67D90B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FDD-A4EF-4BB3-9370-80C1694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7FE5-EDBE-4057-8F53-7EDD553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499-1BCE-41C2-A219-C424C6E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2BD-0972-498D-B27C-42F4756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3838-BEED-46DF-A9D9-4A74E2B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D7F2-95B5-46E1-B64F-A1CD7F2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780B-74AC-458F-B7E0-6A6E911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3A9-8931-4DDA-AB59-34B7C14D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EC43-7F8E-45E9-B4E8-85D77455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434-A909-411D-9A30-EDC9ADD5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A13-209D-4DC5-9690-269FF5F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A71-D81B-4A35-AD43-7E8FFC8F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44-1C3C-43CB-B05A-F5E0F7CC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20B-6FFC-4D5E-AB9C-12DCD39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516-496A-4711-8B21-DE683C7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E3F-8184-4756-8398-E05C52D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F7D-719A-484A-87CB-FE327D7E0AA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49EC-3A6A-43B3-BE46-38310363CEA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rostokąt 1"/>
          <p:cNvSpPr/>
          <p:nvPr/>
        </p:nvSpPr>
        <p:spPr>
          <a:xfrm>
            <a:off x="539640" y="620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czas powrotu e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czyli odległości odbijających powierzchni granicznyc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539640" y="90792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zaznacza się 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mplituda odzwierciedla natężenie echa. Taki sposób prezentacji, w której głośność echa jest proporcjonalna do  amplitudy (plamki świetlnej) to prezentacja A = modulacj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W wyniku badania otrzymujemy na osi (poziomej) ekranu – czas powrotu echa. Jest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ta to tak zwana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7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6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8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28Z</dcterms:modified>
  <cp:revision>54</cp:revision>
  <dc:subject/>
  <dc:title>Slajd 1</dc:title>
</cp:coreProperties>
</file>