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CDA0-2802-48C3-AC38-26C7C27CBB3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2DE7-7CA3-43BA-B5FA-3952D0C1A2E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921A-7FC0-4D4F-B997-D015C76529D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FE49-3274-4D8D-92B0-3DFE982F3AD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2D20-5ECE-4995-897B-6393D59D4C5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A6BE-0FD8-4BBB-9AF1-87206D41785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6FD2-8C97-429A-95CF-F71CBCD13E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20FF-C4B2-4509-A70A-7749EF4417F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ECA0-E8F9-482C-9FD3-973C704A2C9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F6F0-1F6B-44C0-92B0-1374838298F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02B0-A59E-4B2E-A52D-4D163E1DAF8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F57C-832C-489D-BC64-407AC23089E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9DD0-63A2-4CE9-817E-50A1451FE40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4D0E-C56C-4680-934F-0B2CCBD353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DFDA-B742-4BA1-B2C1-DBE051E11DD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5168-6FFE-46AB-AA34-4FB345889B6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55F0-5D84-462D-8A9F-6AC022DCAA7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786E-B628-4C29-8E98-351937C4E26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21B4-43B6-4203-8FB7-AD0E2C9FB1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3CE4-EF57-4A4D-B640-37E2AA0D735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B231-0543-43D8-89D6-1A080083DAB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495A-85C9-41F2-B6B7-C29F9C34FFF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5EEF-C1AA-4305-A89B-1B415E04037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38A5-4F54-4788-9B29-9D0859BF3D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941D-127D-4C71-BDC4-43C682D8B0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D37F-B3FF-454A-9628-03FC2FC5912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A2FA-A04E-4C1A-8E81-2FF854FC7B9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18CB-A4BC-4EB8-899A-DD252BCCF23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667E-D58A-40D1-A9D9-915306B6752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9E9F-85FF-4B4F-88C6-BBB9292795C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BE9-1EA2-4C9F-B9F4-244BA7DE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3F1-EF07-4D40-AF8F-81A6EACD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DC5-4F51-44A9-A66D-7F8AF472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FB3-C130-4283-8290-8B6B8B1F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B6E4-00DD-40AD-B10B-41B1E4CA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5E67-8744-4F2B-B44F-EB50865B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00CE-7213-48C2-8F75-1000EB25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182A-DCC6-485F-A3BD-9CA04969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027A-7748-462A-94E1-329C95B9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89FF-E1A8-4992-B0F7-5D5BAA2B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2660-9697-4148-B910-86FA7E0C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6C1-FFC0-4499-AEE1-30009D9C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65C5-9AB0-43F8-B713-E5AA8334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2836-483F-4585-9A01-3A4F4371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827A-319A-4E83-801B-059515C5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A39E-6B5D-4A40-993C-F6480F13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08FF-F795-4A31-A8D6-8C4E3ABF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B26-20E0-483D-BE02-E44EA96F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A91-D395-428B-BD87-EF7C637F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F4D-F9D7-4DF8-917C-1687EA0C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1BF-E1A3-4518-883E-FDDEE0C1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A2D-EE73-4D2E-AF8C-6C8DDE6B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608-A864-4791-B456-D6ECD424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AB9-72C7-4733-9485-394E85ED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E825-D950-4469-B37E-E07D648DDCF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6DDB-D0A6-472B-8B94-E4B583E4FD0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odstawy (fizyczne) ultrasonografi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– poziom I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teriał bazowy do wyższych poziom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utor: Elżbieta Ćwio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opisujące f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wazniak.mimuw.edu.pl/images/4/42/PF_M5_Slajd31.png"/>
          <p:cNvPicPr/>
          <p:nvPr/>
        </p:nvPicPr>
        <p:blipFill>
          <a:blip r:embed="rId1"/>
          <a:srcRect l="0" t="16905" r="0" b="3538"/>
          <a:stretch/>
        </p:blipFill>
        <p:spPr>
          <a:xfrm>
            <a:off x="3276720" y="2133720"/>
            <a:ext cx="5429160" cy="324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fizyka.biz/835_fale/835_fale_01.png"/>
          <p:cNvPicPr/>
          <p:nvPr/>
        </p:nvPicPr>
        <p:blipFill>
          <a:blip r:embed="rId2"/>
          <a:srcRect l="0" t="7799" r="0" b="0"/>
          <a:stretch/>
        </p:blipFill>
        <p:spPr>
          <a:xfrm>
            <a:off x="411120" y="2205000"/>
            <a:ext cx="25052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ole tekstowe 4"/>
          <p:cNvSpPr/>
          <p:nvPr/>
        </p:nvSpPr>
        <p:spPr>
          <a:xfrm>
            <a:off x="395280" y="98100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(ultradźwiękowa) rozchodzi się w ośrodku (np. sprężystym – tkanki), jej parametry zależą od właściwości ośrodka, np. od gęstości ośrod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Propagacja fal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rozchodzenie się zaburzenia (fali) w ośrod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ym module sprężystości fale ultradźwiękowe rozchodzą się szybc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ej gęstości fale ultradźwiękowe rozchodzą się woln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cja fal w wybranych ośrodk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773360"/>
          <a:ext cx="7921440" cy="4206600"/>
        </p:xfrm>
        <a:graphic>
          <a:graphicData uri="http://schemas.openxmlformats.org/drawingml/2006/table">
            <a:tbl>
              <a:tblPr/>
              <a:tblGrid>
                <a:gridCol w="1979640"/>
                <a:gridCol w="1981080"/>
                <a:gridCol w="1979640"/>
                <a:gridCol w="1981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rężystość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ęstość 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ędkość  fali (m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ietr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łu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anki miękk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ś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0" name="pole tekstowe 3"/>
          <p:cNvSpPr/>
          <p:nvPr/>
        </p:nvSpPr>
        <p:spPr>
          <a:xfrm>
            <a:off x="897480" y="6021360"/>
            <a:ext cx="69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*) Dla ułatwienia i przejrzystości pominięto konkretne wartości liczb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539640" y="90792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ędkość (średnia) fal ultradźwiękowych dla tkanek miękkich, jest wartością odniesienia dla systemu pomiarowego w aparatach US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prędkość rozchodzenia się fal  ultradźwiękowych jest charakterystyczna dla danej tkanki (ośrodka), zatem, gdy  fala przechodzi z tkanki do tkanki – zmienia się jej długość, przy czym częstotliwość (nadana przez źródło fali) nie zmienia si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395280" y="83664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a ultradźwiękowa jest falą mechaniczną, podłużną, rozchodzi się prostoliniowo przez ośrodek przewodzący (ośrodki przewodzące, którymi są różne tkan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Na granicy różnych ośrodków przewodzących powstaje impedancja ośrodka (zwana oporem akustycznym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granicy środków powstaje echo, zależne od impedancji. Głośność czyli natężenie echa zależy od „twardości” ośrodków przewodzących, na granicy których echo powsta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mpedancja akustyczna (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"/>
          <p:cNvSpPr/>
          <p:nvPr/>
        </p:nvSpPr>
        <p:spPr>
          <a:xfrm>
            <a:off x="690840" y="1844640"/>
            <a:ext cx="6662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 – gęstość ośrod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 – prędkość propagacji f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 – moduł sprężystości (Moduł Young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124000" y="1557360"/>
                <a:ext cx="5327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2"/>
          <p:cNvSpPr/>
          <p:nvPr/>
        </p:nvSpPr>
        <p:spPr>
          <a:xfrm>
            <a:off x="468360" y="69228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ciała, organy różnią się oporem akustycznym (impedancja właściwa), więc fale odbijają si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ierzchniami odbijającymi są granice narządów, struktury wewnętrzne narządów, np. przegrody łącznotkankowe, dzielące narząd na zraziki, ściany naczyń krwionoś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a z wymienionych struktur na swoje echo, czyli charakterystyczną echogenn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1"/>
          <p:cNvSpPr/>
          <p:nvPr/>
        </p:nvSpPr>
        <p:spPr>
          <a:xfrm>
            <a:off x="468360" y="54936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jednorodnym, na przykł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wietrzu lub w wodzie, echo nie powstaje, gdyż nie ma różnic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łaściwej impedancji akustycz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k w układzie biologicznym, jakim jest każdy organizm, fale napotykają tkanki miękkie, kości, płuca wypełnione powietrzem, czy jelita, wypełnione gazem – zatem pewna część energii fali zostaje odbita (bo pomiędzy ośrodkami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ystępują duże różnice impedancji właściwej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ć energii nieodbitej fali przechodzi dal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9"/>
          <p:cNvSpPr/>
          <p:nvPr/>
        </p:nvSpPr>
        <p:spPr>
          <a:xfrm>
            <a:off x="558000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organiz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Grupa 16"/>
          <p:cNvGrpSpPr/>
          <p:nvPr/>
        </p:nvGrpSpPr>
        <p:grpSpPr>
          <a:xfrm>
            <a:off x="539640" y="765000"/>
            <a:ext cx="8280360" cy="5543640"/>
            <a:chOff x="539640" y="765000"/>
            <a:chExt cx="8280360" cy="5543640"/>
          </a:xfrm>
        </p:grpSpPr>
        <p:sp>
          <p:nvSpPr>
            <p:cNvPr id="150" name="Prostokąt 4"/>
            <p:cNvSpPr/>
            <p:nvPr/>
          </p:nvSpPr>
          <p:spPr>
            <a:xfrm>
              <a:off x="5219640" y="1483920"/>
              <a:ext cx="1008000" cy="288144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Elipsa 2"/>
            <p:cNvSpPr/>
            <p:nvPr/>
          </p:nvSpPr>
          <p:spPr>
            <a:xfrm>
              <a:off x="539640" y="1844280"/>
              <a:ext cx="1368360" cy="1297080"/>
            </a:xfrm>
            <a:prstGeom prst="ellipse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Źródło dźwięk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Strzałka w prawo 3"/>
            <p:cNvSpPr/>
            <p:nvPr/>
          </p:nvSpPr>
          <p:spPr>
            <a:xfrm>
              <a:off x="2050920" y="1557000"/>
              <a:ext cx="3384360" cy="1727280"/>
            </a:xfrm>
            <a:prstGeom prst="rightArrow">
              <a:avLst>
                <a:gd name="adj1" fmla="val 50000"/>
                <a:gd name="adj2" fmla="val 49991"/>
              </a:avLst>
            </a:prstGeom>
            <a:gradFill rotWithShape="0">
              <a:gsLst>
                <a:gs pos="0">
                  <a:srgbClr val="591816"/>
                </a:gs>
                <a:gs pos="100000">
                  <a:srgbClr val="9c3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Fal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(mechaniczna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podłuż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rostokąt 5"/>
            <p:cNvSpPr/>
            <p:nvPr/>
          </p:nvSpPr>
          <p:spPr>
            <a:xfrm>
              <a:off x="7164360" y="1483920"/>
              <a:ext cx="1224000" cy="2881440"/>
            </a:xfrm>
            <a:prstGeom prst="rect">
              <a:avLst/>
            </a:prstGeom>
            <a:solidFill>
              <a:srgbClr val="948a5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Prostokąt 6"/>
            <p:cNvSpPr/>
            <p:nvPr/>
          </p:nvSpPr>
          <p:spPr>
            <a:xfrm>
              <a:off x="6227640" y="1483920"/>
              <a:ext cx="1008000" cy="2881440"/>
            </a:xfrm>
            <a:prstGeom prst="rect">
              <a:avLst/>
            </a:prstGeom>
            <a:solidFill>
              <a:srgbClr val="c4bd9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Nawias klamrowy otwierający 8"/>
            <p:cNvSpPr/>
            <p:nvPr/>
          </p:nvSpPr>
          <p:spPr>
            <a:xfrm rot="5400000">
              <a:off x="6300000" y="-315360"/>
              <a:ext cx="1008000" cy="3168720"/>
            </a:xfrm>
            <a:custGeom>
              <a:avLst/>
              <a:gdLst>
                <a:gd name="textAreaLeft" fmla="*/ 644040 w 1008000"/>
                <a:gd name="textAreaRight" fmla="*/ 1008360 w 1008000"/>
                <a:gd name="textAreaTop" fmla="*/ 26280 h 3168720"/>
                <a:gd name="textAreaBottom" fmla="*/ 314244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7"/>
                    <a:pt x="10800" y="573"/>
                  </a:cubicBezTo>
                  <a:lnTo>
                    <a:pt x="10800" y="10227"/>
                  </a:lnTo>
                  <a:cubicBezTo>
                    <a:pt x="10800" y="10514"/>
                    <a:pt x="5400" y="10800"/>
                    <a:pt x="0" y="10800"/>
                  </a:cubicBezTo>
                  <a:cubicBezTo>
                    <a:pt x="5400" y="10800"/>
                    <a:pt x="10800" y="11087"/>
                    <a:pt x="10800" y="11373"/>
                  </a:cubicBezTo>
                  <a:lnTo>
                    <a:pt x="10800" y="21027"/>
                  </a:lnTo>
                  <a:cubicBezTo>
                    <a:pt x="10800" y="2131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Łącznik prosty 11"/>
            <p:cNvSpPr/>
            <p:nvPr/>
          </p:nvSpPr>
          <p:spPr>
            <a:xfrm>
              <a:off x="6227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Łącznik prosty 13"/>
            <p:cNvSpPr/>
            <p:nvPr/>
          </p:nvSpPr>
          <p:spPr>
            <a:xfrm>
              <a:off x="7235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Prostokąt 15"/>
            <p:cNvSpPr/>
            <p:nvPr/>
          </p:nvSpPr>
          <p:spPr>
            <a:xfrm>
              <a:off x="3492360" y="5013360"/>
              <a:ext cx="5327640" cy="12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załka w prawo 18"/>
            <p:cNvSpPr/>
            <p:nvPr/>
          </p:nvSpPr>
          <p:spPr>
            <a:xfrm rot="10800000">
              <a:off x="899640" y="3573000"/>
              <a:ext cx="5256360" cy="863640"/>
            </a:xfrm>
            <a:prstGeom prst="rightArrow">
              <a:avLst>
                <a:gd name="adj1" fmla="val 50000"/>
                <a:gd name="adj2" fmla="val 49986"/>
              </a:avLst>
            </a:pr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Fala odbi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Strzałka w prawo 19"/>
          <p:cNvSpPr/>
          <p:nvPr/>
        </p:nvSpPr>
        <p:spPr>
          <a:xfrm>
            <a:off x="6156360" y="3716280"/>
            <a:ext cx="1079640" cy="289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załka w prawo 22"/>
          <p:cNvSpPr/>
          <p:nvPr/>
        </p:nvSpPr>
        <p:spPr>
          <a:xfrm>
            <a:off x="7236000" y="3716280"/>
            <a:ext cx="108108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23"/>
          <p:cNvSpPr/>
          <p:nvPr/>
        </p:nvSpPr>
        <p:spPr>
          <a:xfrm>
            <a:off x="3635280" y="5229360"/>
            <a:ext cx="46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mpedancja właściwa ośrodka (opór akustycz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ole tekstowe 24"/>
          <p:cNvSpPr/>
          <p:nvPr/>
        </p:nvSpPr>
        <p:spPr>
          <a:xfrm>
            <a:off x="75888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468360" y="119700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głowicach aparatów USG stosuje się, jako materiał, kryształ polaryzowalny, który pod wpływem zmiennego napięcia elektrycznego generuje drgania mechaniczne działające na tkankę, pod głowic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chodzi się fala mechaniczna, odbijana na granicach narządów, powraca (echo), co powoduje w krysztale głowicy przesunięcie ładunków elektrycznych- </a:t>
            </a:r>
            <a:r>
              <a:rPr b="0" lang="pl-PL" sz="2800" spc="-1" strike="noStrike">
                <a:solidFill>
                  <a:srgbClr val="4f6228"/>
                </a:solidFill>
                <a:latin typeface="Calibri"/>
              </a:rPr>
              <a:t>zjawisko piezoelektry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ztał jest źródłem dźwięku a zarazem odbiorniki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stawowe pojęcia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ala dźwie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395280" y="1628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my, że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fala jest zaburzeniem stanu ośrodka: gazu, cieczy, ciała stałego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Fala niesie zasób energii i rozchodzi się z prędkością (ograniczon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 zależy od rodzaju ośrod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4308480"/>
          <a:ext cx="8064360" cy="164160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6000"/>
                <a:gridCol w="20160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e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ało stał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burzen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owierzchni swobodne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kształ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01" name="pole tekstowe 5"/>
          <p:cNvSpPr/>
          <p:nvPr/>
        </p:nvSpPr>
        <p:spPr>
          <a:xfrm>
            <a:off x="39852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rostokąt 4"/>
          <p:cNvSpPr/>
          <p:nvPr/>
        </p:nvSpPr>
        <p:spPr>
          <a:xfrm>
            <a:off x="900000" y="4941720"/>
            <a:ext cx="4319640" cy="142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lipsa 17"/>
          <p:cNvSpPr/>
          <p:nvPr/>
        </p:nvSpPr>
        <p:spPr>
          <a:xfrm>
            <a:off x="1187280" y="1628640"/>
            <a:ext cx="64800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owolny kształt 18"/>
          <p:cNvSpPr/>
          <p:nvPr/>
        </p:nvSpPr>
        <p:spPr>
          <a:xfrm>
            <a:off x="1981080" y="1614600"/>
            <a:ext cx="277920" cy="161640"/>
          </a:xfrm>
          <a:custGeom>
            <a:avLst/>
            <a:gdLst/>
            <a:ahLst/>
            <a:rect l="l" t="t" r="r" b="b"/>
            <a:pathLst>
              <a:path w="277091" h="161655">
                <a:moveTo>
                  <a:pt x="0" y="6195"/>
                </a:moveTo>
                <a:cubicBezTo>
                  <a:pt x="32327" y="10813"/>
                  <a:pt x="71205" y="0"/>
                  <a:pt x="96982" y="20049"/>
                </a:cubicBezTo>
                <a:cubicBezTo>
                  <a:pt x="120038" y="37981"/>
                  <a:pt x="108489" y="78874"/>
                  <a:pt x="124691" y="103177"/>
                </a:cubicBezTo>
                <a:cubicBezTo>
                  <a:pt x="133927" y="117031"/>
                  <a:pt x="139398" y="134338"/>
                  <a:pt x="152400" y="144740"/>
                </a:cubicBezTo>
                <a:cubicBezTo>
                  <a:pt x="163804" y="153863"/>
                  <a:pt x="179449" y="156982"/>
                  <a:pt x="193964" y="158595"/>
                </a:cubicBezTo>
                <a:cubicBezTo>
                  <a:pt x="221504" y="161655"/>
                  <a:pt x="249382" y="158595"/>
                  <a:pt x="277091" y="158595"/>
                </a:cubicBez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upa 23"/>
          <p:cNvGrpSpPr/>
          <p:nvPr/>
        </p:nvGrpSpPr>
        <p:grpSpPr>
          <a:xfrm>
            <a:off x="468360" y="260280"/>
            <a:ext cx="6983280" cy="6193080"/>
            <a:chOff x="468360" y="260280"/>
            <a:chExt cx="6983280" cy="6193080"/>
          </a:xfrm>
        </p:grpSpPr>
        <p:grpSp>
          <p:nvGrpSpPr>
            <p:cNvPr id="170" name="Grupa 22"/>
            <p:cNvGrpSpPr/>
            <p:nvPr/>
          </p:nvGrpSpPr>
          <p:grpSpPr>
            <a:xfrm>
              <a:off x="468360" y="260280"/>
              <a:ext cx="6983280" cy="6193080"/>
              <a:chOff x="468360" y="260280"/>
              <a:chExt cx="6983280" cy="6193080"/>
            </a:xfrm>
          </p:grpSpPr>
          <p:grpSp>
            <p:nvGrpSpPr>
              <p:cNvPr id="171" name="Trójkąt równoramienny 2"/>
              <p:cNvGrpSpPr/>
              <p:nvPr/>
            </p:nvGrpSpPr>
            <p:grpSpPr>
              <a:xfrm>
                <a:off x="884520" y="2188080"/>
                <a:ext cx="4211640" cy="2773800"/>
                <a:chOff x="884520" y="2188080"/>
                <a:chExt cx="4211640" cy="2773800"/>
              </a:xfrm>
            </p:grpSpPr>
            <p:pic>
              <p:nvPicPr>
                <p:cNvPr id="172" name="Trójkąt równoramienny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84520" y="2188080"/>
                  <a:ext cx="4211640" cy="277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1952640" y="3572640"/>
                  <a:ext cx="2088000" cy="13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Głowica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kryształ polaryzowalny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4" name="Prostokąt 3"/>
              <p:cNvSpPr/>
              <p:nvPr/>
            </p:nvSpPr>
            <p:spPr>
              <a:xfrm>
                <a:off x="900000" y="5084640"/>
                <a:ext cx="5687640" cy="1368720"/>
              </a:xfrm>
              <a:prstGeom prst="rect">
                <a:avLst/>
              </a:prstGeom>
              <a:solidFill>
                <a:srgbClr val="984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Calibri"/>
                  </a:rPr>
                  <a:t>tkanki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Strzałka w prawo 5"/>
              <p:cNvSpPr/>
              <p:nvPr/>
            </p:nvSpPr>
            <p:spPr>
              <a:xfrm rot="9802800">
                <a:off x="5148000" y="4728960"/>
                <a:ext cx="1563120" cy="129960"/>
              </a:xfrm>
              <a:prstGeom prst="rightArrow">
                <a:avLst>
                  <a:gd name="adj1" fmla="val 50000"/>
                  <a:gd name="adj2" fmla="val 5006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pole tekstowe 6"/>
              <p:cNvSpPr/>
              <p:nvPr/>
            </p:nvSpPr>
            <p:spPr>
              <a:xfrm>
                <a:off x="6803280" y="4365720"/>
                <a:ext cx="57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żel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Strzałka w dół 7"/>
              <p:cNvSpPr/>
              <p:nvPr/>
            </p:nvSpPr>
            <p:spPr>
              <a:xfrm>
                <a:off x="1692720" y="4724280"/>
                <a:ext cx="287280" cy="1368360"/>
              </a:xfrm>
              <a:prstGeom prst="downArrow">
                <a:avLst>
                  <a:gd name="adj1" fmla="val 50000"/>
                  <a:gd name="adj2" fmla="val 50013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Strzałka w dół 8"/>
              <p:cNvSpPr/>
              <p:nvPr/>
            </p:nvSpPr>
            <p:spPr>
              <a:xfrm>
                <a:off x="2268720" y="4724280"/>
                <a:ext cx="215640" cy="936720"/>
              </a:xfrm>
              <a:prstGeom prst="downArrow">
                <a:avLst>
                  <a:gd name="adj1" fmla="val 50000"/>
                  <a:gd name="adj2" fmla="val 50055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Strzałka w dół 9"/>
              <p:cNvSpPr/>
              <p:nvPr/>
            </p:nvSpPr>
            <p:spPr>
              <a:xfrm>
                <a:off x="2843640" y="4724280"/>
                <a:ext cx="288720" cy="1152360"/>
              </a:xfrm>
              <a:prstGeom prst="downArrow">
                <a:avLst>
                  <a:gd name="adj1" fmla="val 50000"/>
                  <a:gd name="adj2" fmla="val 50020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Strzałka w dół 10"/>
              <p:cNvSpPr/>
              <p:nvPr/>
            </p:nvSpPr>
            <p:spPr>
              <a:xfrm flipV="1">
                <a:off x="3780000" y="4723560"/>
                <a:ext cx="215640" cy="1368360"/>
              </a:xfrm>
              <a:prstGeom prst="downArrow">
                <a:avLst>
                  <a:gd name="adj1" fmla="val 50000"/>
                  <a:gd name="adj2" fmla="val 50059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Strzałka w dół 12"/>
              <p:cNvSpPr/>
              <p:nvPr/>
            </p:nvSpPr>
            <p:spPr>
              <a:xfrm flipV="1">
                <a:off x="4643280" y="4723560"/>
                <a:ext cx="215640" cy="1081080"/>
              </a:xfrm>
              <a:prstGeom prst="downArrow">
                <a:avLst>
                  <a:gd name="adj1" fmla="val 50000"/>
                  <a:gd name="adj2" fmla="val 50064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Strzałka w dół 11"/>
              <p:cNvSpPr/>
              <p:nvPr/>
            </p:nvSpPr>
            <p:spPr>
              <a:xfrm flipV="1">
                <a:off x="4211640" y="4724280"/>
                <a:ext cx="215640" cy="792000"/>
              </a:xfrm>
              <a:prstGeom prst="downArrow">
                <a:avLst>
                  <a:gd name="adj1" fmla="val 50000"/>
                  <a:gd name="adj2" fmla="val 50042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Dowolny kształt 13"/>
              <p:cNvSpPr/>
              <p:nvPr/>
            </p:nvSpPr>
            <p:spPr>
              <a:xfrm rot="318000">
                <a:off x="3027960" y="1335240"/>
                <a:ext cx="2835720" cy="100224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pole tekstowe 14"/>
              <p:cNvSpPr/>
              <p:nvPr/>
            </p:nvSpPr>
            <p:spPr>
              <a:xfrm>
                <a:off x="4860000" y="52293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92d050"/>
                    </a:solidFill>
                    <a:latin typeface="Calibri"/>
                  </a:rPr>
                  <a:t>ech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Dowolny kształt 16"/>
              <p:cNvSpPr/>
              <p:nvPr/>
            </p:nvSpPr>
            <p:spPr>
              <a:xfrm flipH="1" rot="21105600">
                <a:off x="802800" y="1537200"/>
                <a:ext cx="2208240" cy="82980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86" name="Picture 21" descr="http://www.old.imnipe.pwr.wroc.pl/skryptme/CW32_pliki/image008.jpg"/>
              <p:cNvPicPr/>
              <p:nvPr/>
            </p:nvPicPr>
            <p:blipFill>
              <a:blip r:embed="rId2"/>
              <a:srcRect l="0" t="0" r="69589" b="48537"/>
              <a:stretch/>
            </p:blipFill>
            <p:spPr>
              <a:xfrm>
                <a:off x="468360" y="1196280"/>
                <a:ext cx="1511640" cy="11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23" descr="https://encrypted-tbn3.gstatic.com/images?q=tbn:ANd9GcSbZHqeCz--nI2RvfzhGNlq5wMjnpC3wvvjQ2xfUfYvRp56v_qx"/>
              <p:cNvPicPr/>
              <p:nvPr/>
            </p:nvPicPr>
            <p:blipFill>
              <a:blip r:embed="rId3"/>
              <a:srcRect l="28005" t="9341" r="41206" b="62682"/>
              <a:stretch/>
            </p:blipFill>
            <p:spPr>
              <a:xfrm>
                <a:off x="5868000" y="260280"/>
                <a:ext cx="1583640" cy="17283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88" name="Łącznik prosty ze strzałką 21"/>
              <p:cNvCxnSpPr/>
              <p:nvPr/>
            </p:nvCxnSpPr>
            <p:spPr>
              <a:xfrm flipV="1">
                <a:off x="1115640" y="1339920"/>
                <a:ext cx="648360" cy="86472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189" name="pole tekstowe 15"/>
            <p:cNvSpPr/>
            <p:nvPr/>
          </p:nvSpPr>
          <p:spPr>
            <a:xfrm>
              <a:off x="927360" y="5373360"/>
              <a:ext cx="7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c000"/>
                  </a:solidFill>
                  <a:latin typeface="Calibri"/>
                </a:rPr>
                <a:t>Fal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ole tekstowe 24"/>
          <p:cNvSpPr/>
          <p:nvPr/>
        </p:nvSpPr>
        <p:spPr>
          <a:xfrm>
            <a:off x="6949080" y="609300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ole tekstowe 2"/>
          <p:cNvSpPr/>
          <p:nvPr/>
        </p:nvSpPr>
        <p:spPr>
          <a:xfrm>
            <a:off x="39528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owica aparatu pod napięciem, wytwarza krótki impuls, według wyliczeń, przy średniej prędkości fal ultradźwiękowych  w tkankach i penetracji około 20 cm, echo wraca w czasie 0,25 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powrocie echa głowica wysyła kolejny impu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czas powrotu echa to milisekundy, do mierzenia czasu stosuje się lampę oscyloskop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rostokąt 1"/>
          <p:cNvSpPr/>
          <p:nvPr/>
        </p:nvSpPr>
        <p:spPr>
          <a:xfrm>
            <a:off x="611280" y="98100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as powrotu echa, jest  to informacja o odległości powierzchni granicznych tkanek.  Lampa oscyloskopowa mierzy czas powrotu ech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tworzona w lampie oscyloskopowej wiązka elektronów, padając na ekran, wywołuje w nim luminescencję punktu, czyli plamki świetlnej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e, docierające do głowicy echo, wywołuje pionowe odchylenie plamki świetlnej na ekra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rostokąt 1"/>
          <p:cNvSpPr/>
          <p:nvPr/>
        </p:nvSpPr>
        <p:spPr>
          <a:xfrm>
            <a:off x="539640" y="90792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osi poziomej – zaznacza się czas powrotu echa (czyli odległości odbijających powierzchni granicznych od głowic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osi pionowej – amplituda – odzwierciedla natężenie ech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i sposób prezentacji, w której głośność echa jest proporcjonalna do  amplitudy (plamki świetlnej) jest to prezentacja A = modulacja A, której wykres zobaczymy na następnym slajdz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kres dla modulacji 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(prezentacji USG typu 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Obraz 3" descr="Rysunek09_T77_amp_time.png"/>
          <p:cNvPicPr/>
          <p:nvPr/>
        </p:nvPicPr>
        <p:blipFill>
          <a:blip r:embed="rId1"/>
          <a:stretch/>
        </p:blipFill>
        <p:spPr>
          <a:xfrm>
            <a:off x="2052720" y="1636560"/>
            <a:ext cx="5038560" cy="409608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4"/>
          <p:cNvSpPr/>
          <p:nvPr/>
        </p:nvSpPr>
        <p:spPr>
          <a:xfrm>
            <a:off x="468360" y="5805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brain.fuw.edu.pl/edu-wiki/images/9/94/ZalamkiN2_P2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ole tekstowe 2"/>
          <p:cNvSpPr/>
          <p:nvPr/>
        </p:nvSpPr>
        <p:spPr>
          <a:xfrm>
            <a:off x="395280" y="206064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mówione powyżej badanie i obrazowanie stosuje się na przykład w neurologi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razowanie zwane metodą A - prezentacją A,  można wyrazić (w badaniu neurologicznym) echoencefal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http://www.kennislink.nl/upload/273382_276_1229972733842-81631_276_1023177244230-Neurale_activiteit1.jpg"/>
          <p:cNvPicPr/>
          <p:nvPr/>
        </p:nvPicPr>
        <p:blipFill>
          <a:blip r:embed="rId1"/>
          <a:srcRect l="0" t="43797" r="87941" b="34556"/>
          <a:stretch/>
        </p:blipFill>
        <p:spPr>
          <a:xfrm>
            <a:off x="322200" y="836640"/>
            <a:ext cx="2233800" cy="2259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us.123rf.com/450wm/rob3000/rob30001304/rob3000130400005/18975599-elektro-encefalogram.jpg"/>
          <p:cNvPicPr/>
          <p:nvPr/>
        </p:nvPicPr>
        <p:blipFill>
          <a:blip r:embed="rId2"/>
          <a:srcRect l="3116" t="8322" r="3460" b="11294"/>
          <a:stretch/>
        </p:blipFill>
        <p:spPr>
          <a:xfrm>
            <a:off x="2295360" y="1773360"/>
            <a:ext cx="6309000" cy="4065480"/>
          </a:xfrm>
          <a:prstGeom prst="rect">
            <a:avLst/>
          </a:prstGeom>
          <a:ln w="0">
            <a:noFill/>
          </a:ln>
        </p:spPr>
      </p:pic>
      <p:sp>
        <p:nvSpPr>
          <p:cNvPr id="202" name="Prostokąt 3"/>
          <p:cNvSpPr/>
          <p:nvPr/>
        </p:nvSpPr>
        <p:spPr>
          <a:xfrm>
            <a:off x="324000" y="587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s.123rf.com/450wm/rob3000/rob30001304/rob3000130400005/18975599-elektro-encefalogr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typu B(Brightnes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68360" y="1125360"/>
            <a:ext cx="835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ego typu obrazowaniu, echa są wyrażane na ekranie w postaci punktów, których jasność jest  zależna od natężenia ec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wiemy, echo jest wytwarzane przez granice narządów, przez struktury wewnętrzne narządów (np. ściany naczyń krwionośnyc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że patologiczne zmiany w tkankach, organach – są sygnalizowane przez zmiany echa. Zmiany są porównywane z (prawidłowym) wzorc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(Brightne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https://encrypted-tbn1.gstatic.com/images?q=tbn:ANd9GcTsma0eUUgvlLi4XUkOAjVfgeRIlXUJCrgWtYXkRpmfhbgA0FtE3A"/>
          <p:cNvPicPr/>
          <p:nvPr/>
        </p:nvPicPr>
        <p:blipFill>
          <a:blip r:embed="rId1"/>
          <a:stretch/>
        </p:blipFill>
        <p:spPr>
          <a:xfrm>
            <a:off x="611280" y="2276640"/>
            <a:ext cx="3936960" cy="273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rcRect l="0" t="10353" r="0" b="11996"/>
          <a:stretch/>
        </p:blipFill>
        <p:spPr>
          <a:xfrm>
            <a:off x="4813200" y="2276640"/>
            <a:ext cx="3935520" cy="2736720"/>
          </a:xfrm>
          <a:prstGeom prst="rect">
            <a:avLst/>
          </a:prstGeom>
          <a:ln w="0">
            <a:noFill/>
          </a:ln>
        </p:spPr>
      </p:pic>
      <p:sp>
        <p:nvSpPr>
          <p:cNvPr id="208" name="pole tekstowe 4"/>
          <p:cNvSpPr/>
          <p:nvPr/>
        </p:nvSpPr>
        <p:spPr>
          <a:xfrm>
            <a:off x="395280" y="5445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1.bp.blogspot.com/-Fn2yNOmp1l4/UH3FH-_01gI/AAAAAAAAAGo/TYFRvjgZ1fE/s1600/echographie-bebe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97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czego w diagnostyce medycznej nie stosuje się dźwięków słyszalnych, ale ultradźwięk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ole tekstowe 2"/>
          <p:cNvSpPr/>
          <p:nvPr/>
        </p:nvSpPr>
        <p:spPr>
          <a:xfrm>
            <a:off x="324000" y="2349360"/>
            <a:ext cx="849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nie stosuje się dźwięków słyszalnych, gdyż zbyt mała jest ich rozdzielczość, która pozwala na określanie odległości – jedynie w metr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dzielczość – najmniejsza odległość dwóch punktów badanego obiektu, obrazowanych oddzielnie (które jeszcze mogą być różnicowane przez urządzeni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 to jest zaburzenie ośrodka sprężystego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539640" y="2205000"/>
            <a:ext cx="80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, związa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rozchodzeniem się fali, polega na przenoszeniu energii mechanicznej przez drgające cząsteczki ośrodka, bez zmiany ich średniego poło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ole tekstowe 2"/>
          <p:cNvSpPr/>
          <p:nvPr/>
        </p:nvSpPr>
        <p:spPr>
          <a:xfrm>
            <a:off x="539640" y="112536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stosowane są fale  krótkie, o częstotliwości, która przekrac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 razy częstotliwość dźwięków słyszalnych, czyli dźwięki w przedziale częstotliwoś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 – 10 MH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aparaturze klinicznej USG, ograniczone jest natężenie fali, ze względu na ryzyko szkodliwych oddziaływań fal o dużym natężeniu na tkan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bicie fal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324000" y="141300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ultradźwiękowa pada na granicę dwóch ośrodków, o różnych prędkościach propagacji – następuje załamanie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raz ze wzrostem kąta padania fali wzrasta współczynnik odbi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ole tekstowe 1"/>
          <p:cNvSpPr/>
          <p:nvPr/>
        </p:nvSpPr>
        <p:spPr>
          <a:xfrm>
            <a:off x="395280" y="76500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ałkowite, wewnętrzne odbicie występuje na przykład, gdy fala ultradźwiękowa przekracza granicę: tkanka/otolit (np. kamień w nerkach albo w woreczku żółciowy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mienie czyli otolity odbijają całą energię akustyczną fali i dlatego, za nimi występuje cień akustyczny, gdyż poza otolitem nie ma ruchu fal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ień akusty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Grupa 6"/>
          <p:cNvGrpSpPr/>
          <p:nvPr/>
        </p:nvGrpSpPr>
        <p:grpSpPr>
          <a:xfrm>
            <a:off x="684360" y="2060640"/>
            <a:ext cx="7576920" cy="3170160"/>
            <a:chOff x="684360" y="2060640"/>
            <a:chExt cx="7576920" cy="3170160"/>
          </a:xfrm>
        </p:grpSpPr>
        <p:pic>
          <p:nvPicPr>
            <p:cNvPr id="217" name="Picture 2" descr="https://encrypted-tbn2.gstatic.com/images?q=tbn:ANd9GcRHfDlioQgtqhCUHid9nXCmPD6dB-mMrezUuw41CJfxXBm0lfb8Fw"/>
            <p:cNvPicPr/>
            <p:nvPr/>
          </p:nvPicPr>
          <p:blipFill>
            <a:blip r:embed="rId1"/>
            <a:stretch/>
          </p:blipFill>
          <p:spPr>
            <a:xfrm>
              <a:off x="684360" y="2060640"/>
              <a:ext cx="3960360" cy="3170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8" name="Łącznik prosty ze strzałką 4"/>
            <p:cNvCxnSpPr/>
            <p:nvPr/>
          </p:nvCxnSpPr>
          <p:spPr>
            <a:xfrm flipH="1">
              <a:off x="2268000" y="3715560"/>
              <a:ext cx="3024720" cy="937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9" name="pole tekstowe 8"/>
            <p:cNvSpPr/>
            <p:nvPr/>
          </p:nvSpPr>
          <p:spPr>
            <a:xfrm>
              <a:off x="5370840" y="3357360"/>
              <a:ext cx="28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Calibri"/>
                </a:rPr>
                <a:t>Cień akustyczny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Prostokąt 9"/>
          <p:cNvSpPr/>
          <p:nvPr/>
        </p:nvSpPr>
        <p:spPr>
          <a:xfrm>
            <a:off x="324000" y="573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awelszaro.pl/foty/biblioteka_zdjec/zolc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9"/>
          <p:cNvSpPr/>
          <p:nvPr/>
        </p:nvSpPr>
        <p:spPr>
          <a:xfrm>
            <a:off x="7093080" y="2492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rostokąt 20"/>
          <p:cNvSpPr/>
          <p:nvPr/>
        </p:nvSpPr>
        <p:spPr>
          <a:xfrm>
            <a:off x="6732720" y="2637000"/>
            <a:ext cx="647640" cy="457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upa 17"/>
          <p:cNvGrpSpPr/>
          <p:nvPr/>
        </p:nvGrpSpPr>
        <p:grpSpPr>
          <a:xfrm>
            <a:off x="395280" y="907920"/>
            <a:ext cx="8576280" cy="5434200"/>
            <a:chOff x="395280" y="907920"/>
            <a:chExt cx="8576280" cy="5434200"/>
          </a:xfrm>
        </p:grpSpPr>
        <p:sp>
          <p:nvSpPr>
            <p:cNvPr id="107" name="Strzałka w prawo 2"/>
            <p:cNvSpPr/>
            <p:nvPr/>
          </p:nvSpPr>
          <p:spPr>
            <a:xfrm>
              <a:off x="395280" y="3500280"/>
              <a:ext cx="8280000" cy="1224000"/>
            </a:xfrm>
            <a:prstGeom prst="rightArrow">
              <a:avLst>
                <a:gd name="adj1" fmla="val 50000"/>
                <a:gd name="adj2" fmla="val 49984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Grupa 16"/>
            <p:cNvGrpSpPr/>
            <p:nvPr/>
          </p:nvGrpSpPr>
          <p:grpSpPr>
            <a:xfrm>
              <a:off x="826920" y="907920"/>
              <a:ext cx="8144640" cy="5434200"/>
              <a:chOff x="826920" y="907920"/>
              <a:chExt cx="8144640" cy="5434200"/>
            </a:xfrm>
          </p:grpSpPr>
          <p:sp>
            <p:nvSpPr>
              <p:cNvPr id="109" name="Łącznik prosty 5"/>
              <p:cNvSpPr/>
              <p:nvPr/>
            </p:nvSpPr>
            <p:spPr>
              <a:xfrm>
                <a:off x="284292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Łącznik prosty 6"/>
              <p:cNvSpPr/>
              <p:nvPr/>
            </p:nvSpPr>
            <p:spPr>
              <a:xfrm>
                <a:off x="529236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trzałka w dół 14"/>
              <p:cNvSpPr/>
              <p:nvPr/>
            </p:nvSpPr>
            <p:spPr>
              <a:xfrm rot="10800000">
                <a:off x="6803640" y="2852280"/>
                <a:ext cx="504720" cy="2663640"/>
              </a:xfrm>
              <a:prstGeom prst="downArrow">
                <a:avLst>
                  <a:gd name="adj1" fmla="val 50000"/>
                  <a:gd name="adj2" fmla="val 50014"/>
                </a:avLst>
              </a:prstGeom>
              <a:solidFill>
                <a:srgbClr val="4f6228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" descr="https://encrypted-tbn0.gstatic.com/images?q=tbn:ANd9GcSk-29HLBtlVaS53rRK55-dM91koM6y4j8OCy3WC15opcfhtAtZZw"/>
              <p:cNvPicPr/>
              <p:nvPr/>
            </p:nvPicPr>
            <p:blipFill>
              <a:blip r:embed="rId1"/>
              <a:srcRect l="0" t="18293" r="25571" b="0"/>
              <a:stretch/>
            </p:blipFill>
            <p:spPr>
              <a:xfrm rot="16659600">
                <a:off x="3018960" y="801000"/>
                <a:ext cx="2020680" cy="25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pole tekstowe 3"/>
              <p:cNvSpPr/>
              <p:nvPr/>
            </p:nvSpPr>
            <p:spPr>
              <a:xfrm>
                <a:off x="826920" y="4005000"/>
                <a:ext cx="165708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Infradźwięk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(poniżej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kilkunastu drgań na sekundę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pole tekstowe 7"/>
              <p:cNvSpPr/>
              <p:nvPr/>
            </p:nvSpPr>
            <p:spPr>
              <a:xfrm>
                <a:off x="3563640" y="4005000"/>
                <a:ext cx="158400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Dźwięki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Calibri"/>
                  </a:rPr>
                  <a:t>(słyszalne fale akustyczne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pole tekstowe 12"/>
              <p:cNvSpPr/>
              <p:nvPr/>
            </p:nvSpPr>
            <p:spPr>
              <a:xfrm>
                <a:off x="2560320" y="5661000"/>
                <a:ext cx="86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 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pole tekstowe 13"/>
              <p:cNvSpPr/>
              <p:nvPr/>
            </p:nvSpPr>
            <p:spPr>
              <a:xfrm>
                <a:off x="4787640" y="5516640"/>
                <a:ext cx="1584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000 Hz 16k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Prostokąt 15"/>
              <p:cNvSpPr/>
              <p:nvPr/>
            </p:nvSpPr>
            <p:spPr>
              <a:xfrm>
                <a:off x="6011640" y="1196640"/>
                <a:ext cx="2160360" cy="1295280"/>
              </a:xfrm>
              <a:prstGeom prst="rect">
                <a:avLst/>
              </a:prstGeom>
              <a:solidFill>
                <a:srgbClr val="4f81b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ffff"/>
                    </a:solidFill>
                    <a:latin typeface="Calibri"/>
                  </a:rPr>
                  <a:t>Diagnostyka medyczna (USG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pole tekstowe 21"/>
              <p:cNvSpPr/>
              <p:nvPr/>
            </p:nvSpPr>
            <p:spPr>
              <a:xfrm>
                <a:off x="6287040" y="5589720"/>
                <a:ext cx="2684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(1MHz – 10 MHz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pole tekstowe 22"/>
          <p:cNvSpPr/>
          <p:nvPr/>
        </p:nvSpPr>
        <p:spPr>
          <a:xfrm>
            <a:off x="5940360" y="4005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LTRADŹWIĘ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rostokąt 16"/>
          <p:cNvSpPr/>
          <p:nvPr/>
        </p:nvSpPr>
        <p:spPr>
          <a:xfrm>
            <a:off x="254160" y="6093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 przypomnienia… przykłady infradźwięków, źródła infradźwięk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25092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Natural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źródłem ich są huragany, trąby powietrzne, erupcje wulkanów, trzęsienia ziemi, wyładowania atmosferyczne, infradźwięki generowane w strefie przyboju fal. Dźwięki wydawane przez walenie oraz sło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Sztu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wywołane przez człowieka: detonacje ładunków, elektrownie wiatrowe, wentylatory przemysłowe, sprężarki, silniki odrzutowe, młoty pneumaty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62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ultradźwięków, zastosowanie ultradźwię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250920" y="17733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generowane przez niektóre zwierzęta (ssaki morskie, nietoperze), którym służą do echolokacj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sztuczne, oprócz zastosowań w diagnostyce medycznej (USG, USG 3D, doppler), używane są w echolokacji (oceanografia), do oczyszczania powierzchni, oczyszczania wod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łużą badaniom defektoskopowym (np. szyn kolejowych). Wykorzystywane w nanotechnolog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jęcia i prawa ruchu fal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2"/>
          <p:cNvSpPr/>
          <p:nvPr/>
        </p:nvSpPr>
        <p:spPr>
          <a:xfrm>
            <a:off x="468360" y="177336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e mechaniczn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kości i pojęcia charakteryzujące ruch falowy: częstotliwość, długość fali, prędkość fali, amplituda, energia fali, odbicie, ugięcie, załam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936720" y="1773360"/>
            <a:ext cx="703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stotliwość fal dźwiękowych (f) = cykl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ostka: herc (H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Hz = 1/s = s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 Hz = 1 k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00 Hz = 1M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179280" y="1700280"/>
            <a:ext cx="85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ługość fali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 –przebyta odległość w trakcie jednego cyk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s://encrypted-tbn3.gstatic.com/images?q=tbn:ANd9GcSUqUngaxRIqjVXOhFj9lp_tq9pkOhE9UG-LNVnRtlyEE1CsYJ1IHu-9RFp"/>
          <p:cNvPicPr/>
          <p:nvPr/>
        </p:nvPicPr>
        <p:blipFill>
          <a:blip r:embed="rId1"/>
          <a:stretch/>
        </p:blipFill>
        <p:spPr>
          <a:xfrm>
            <a:off x="755640" y="2781360"/>
            <a:ext cx="3745080" cy="318276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4"/>
          <p:cNvSpPr/>
          <p:nvPr/>
        </p:nvSpPr>
        <p:spPr>
          <a:xfrm>
            <a:off x="468360" y="5940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3.e-monsite.com/2010/12/15/75695274sans-titre-jpg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epomoce.pl/komorki/fizyka/FizykaDoZadan/gPrawaWzoryFizyka/9_14.PNG"/>
          <p:cNvPicPr/>
          <p:nvPr/>
        </p:nvPicPr>
        <p:blipFill>
          <a:blip r:embed="rId2"/>
          <a:stretch/>
        </p:blipFill>
        <p:spPr>
          <a:xfrm>
            <a:off x="6156360" y="2781360"/>
            <a:ext cx="2448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7:06Z</dcterms:modified>
  <cp:revision>58</cp:revision>
  <dc:subject/>
  <dc:title>Slajd 1</dc:title>
</cp:coreProperties>
</file>