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E80F5-8A69-43E4-83AE-024AC238C0D0}"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3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5C33D-6617-4AB4-80F0-C93CCD2ED38B}"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4DEAF-80A9-4FA9-80C7-8D1340C87CEC}"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4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F4BA8-4088-430A-8F82-97042FD52CC6}"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CEB38-0847-4BA9-844D-F47DBEB41C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31DF9-1C1A-4966-9DF1-FAFA9C263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3EE29F-6341-481A-BBC5-52D2B9ACA3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218FDA-1928-4F30-9916-78FE656553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02BD8D-B95E-4FEE-97FE-EE6A23654D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E304EA-B805-4D20-93E4-3EDA4070CC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A84DD1-C96D-41B5-B5CE-C4231E4837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FDACE9-53E8-4E3D-B489-802F70EDB9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A4140A-809C-45DF-840D-570ED309DC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690F87-322A-4BE8-9809-2DFEE90397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4EF46-679E-435E-B725-40305DF2D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A09B8-3C4E-401B-AFCC-2F92FCD6C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EFCFF-972D-49B2-8E4B-61AFF49D9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688D8-02BB-4656-8D0A-78387B31E0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9E56A6-BDBF-4316-91DD-DA1DE18550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5B0546-FDE7-4A76-AF76-9DB3F3E7B9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FEB464-30C9-4707-AB9C-E1CC43BF6B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91DA8-E8E3-4E96-A5CC-3ACACCF8E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B43BC-1B8F-4FE6-84E9-946EEE079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455BA-43EF-4CB4-8F1F-707AF53FB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C1D44-F623-49C7-853E-B073FA744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DA7F8-2786-4CEE-8382-334BFF790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75389-A856-470B-8D0B-2E7ED6451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E6CA0-E695-4CAA-AF26-20ACDD8218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FACA8-E833-473A-A667-AE71067D2B7B}"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450F5-04A7-496D-AADF-63B8D18449A6}"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6000" y="1591920"/>
            <a:ext cx="795636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Konserwacja dzieł sztuki – spojrzenie ogólne (poziom I)</a:t>
            </a:r>
            <a:endParaRPr b="0" lang="en-US" sz="4900" spc="-1" strike="noStrike">
              <a:solidFill>
                <a:srgbClr val="000000"/>
              </a:solidFill>
              <a:latin typeface="Calibri"/>
            </a:endParaRPr>
          </a:p>
        </p:txBody>
      </p:sp>
      <p:sp>
        <p:nvSpPr>
          <p:cNvPr id="96" name="Podtytuł 2"/>
          <p:cNvSpPr/>
          <p:nvPr/>
        </p:nvSpPr>
        <p:spPr>
          <a:xfrm>
            <a:off x="1116000" y="378936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898989"/>
                </a:solidFill>
                <a:latin typeface="Calibri"/>
              </a:rPr>
              <a:t>dr Elżbieta Ćwior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Podział</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 naturalny i całkowicie logiczny sposób możemy podzielić dzieła sztuki na te ruchome, a więc dające się łatwo przenosić, np. obrazy, rzeźby, meble i przedmioty użytkowe; oraz te nieruchome, a więc głównie wytwory architektury. Podział ten ułatwi nam zrozumienie zagrożeń na dzieła zewsząd czyhający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Zagrożenia</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Nic nie trwa wiecznie. W myśl tej zasady także i na dzieła sztuki oddziałuje nieubłagany ząb czasu. Wiele zagrożeń, z jakimi na swojej drodze spotykają się konserwatorzy, jest powszechnie znana z innych dziedzin życia (np. działalność bakterii i grzybów, korozja), istnieją też te szczególne, dotykające jedynie niewielkiego zakresu zbioró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Kilka podstawowych zasad</a:t>
            </a: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Oprócz naturalnych czynników, wiele zależy też od samego kolekcjonera, profesjonalisty lub amatora. Może (i powinien) on pomóc w zachowywaniu dzieł sztuki dla przyszłych pokoleń poprzez ochronę przez szkodliwymi czynnikami, może również jednak zaszkodzić.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arto stosować się do starej łacińskiej zasady „Primum non nocere” („Po pierwsze nie szkodzić”). Wszelkie działania konserwatorskie należy podejmować z pełną ich świadomością, wiedzą o ich efektach i ewentualnych nieodwracalnych skutkach. Te ostatnie najlepiej jest, w miarę możliwości, eliminować. Pewne działania najlepiej jest pozostawić fachow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a:t>
            </a:r>
            <a:r>
              <a:rPr b="0" lang="pl-PL" sz="4400" spc="-1" strike="noStrike">
                <a:solidFill>
                  <a:srgbClr val="000000"/>
                </a:solidFill>
                <a:latin typeface="Calibri"/>
              </a:rPr>
              <a:t>Ocalić od zapomnienia”</a:t>
            </a:r>
            <a:endParaRPr b="0" lang="en-US" sz="4400" spc="-1" strike="noStrike">
              <a:solidFill>
                <a:srgbClr val="000000"/>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edług</a:t>
            </a:r>
            <a:r>
              <a:rPr b="0" i="1" lang="pl-PL" sz="3200" spc="-1" strike="noStrike">
                <a:solidFill>
                  <a:srgbClr val="000000"/>
                </a:solidFill>
                <a:latin typeface="Calibri"/>
              </a:rPr>
              <a:t> Małego słownika ochrony zabytków</a:t>
            </a:r>
            <a:r>
              <a:rPr b="0" lang="pl-PL" sz="3200" spc="-1" strike="noStrike">
                <a:solidFill>
                  <a:srgbClr val="000000"/>
                </a:solidFill>
                <a:latin typeface="Calibri"/>
              </a:rPr>
              <a:t> ochrona zabytków to „ogół działań mających na celu zapewnienie zabytkom: trwania </a:t>
            </a:r>
            <a:r>
              <a:rPr b="0" i="1" lang="pl-PL" sz="3200" spc="-1" strike="noStrike">
                <a:solidFill>
                  <a:srgbClr val="000000"/>
                </a:solidFill>
                <a:latin typeface="Calibri"/>
              </a:rPr>
              <a:t>dum mundus durat</a:t>
            </a:r>
            <a:r>
              <a:rPr b="0" lang="pl-PL" sz="3200" spc="-1" strike="noStrike">
                <a:solidFill>
                  <a:srgbClr val="000000"/>
                </a:solidFill>
                <a:latin typeface="Calibri"/>
              </a:rPr>
              <a:t> (jak długo będzie istniał świat); uczestnictwa w kształtowaniu świadomości indywidualnej i społecznej; wypełniania roli składnika współkształtującego środowisko człowieka”. Sama konserwacja dzieł sztuki wydaje się być zatem pojęciem o wiele węższy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Kim jest konserwator?</a:t>
            </a:r>
            <a:endParaRPr b="0" lang="en-US" sz="44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Konserwator jest człowiekiem wykonującym zajęcie na pograniczu klasycznej nauki i sztuki. Oprócz gruntownej wiedzy z zakresu biologii (mikroorganizmy niszczące dzieła sztuki) i chemii (znajomość środków chemicznych bezpiecznych i niebezpiecznych dla obiektu), musi także dobrze orientować się w technikach stosowanych przez artystó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 szczególności zaś, zobowiązany jest do znajomości metod autorów dzieł, których renowacją się zajmuje. Konserwator nie może działać niezgodnie z zamierzeniem twórcy, powinien naśladować jego styl, jednak wszelkie prace wykonywane na dziele powinny być dobrze udokumentowane i dające się szybko odróżnić od oryginalnych wytworó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latego, na przykład, w uzupełnianiu ubytków na obrazach nie stosuje się barwników identycznych z tymi, wykorzystywanymi przez autora. Nie dość, że wielokrotnie są one niemożliwe do uzyskania (twórca nie zdradził nikomu sekretu swojego artystycznego warsztatu), to również nie byłoby możliwe odróżnienie, co jest pierwotnym autorstwem, a co następstwem późniejszych pra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Z tego powodu do wypełniania uszkodzeń stosuje się farby jak najbardziej podobne wizualnie do oryginalnych, jednak nie identyczne. Praca konserwatora powinna być łatwa do odróżnienia, jednak nie może zaburzać efektu estetycznego. Wskazane jest, by przeciętny widz nie zauważał różnicy między poszczególnymi „twórcam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Calibri"/>
              </a:rPr>
              <a:t>	</a:t>
            </a:r>
            <a:r>
              <a:rPr b="0" i="1" lang="pl-PL" sz="2800" spc="-1" strike="noStrike">
                <a:solidFill>
                  <a:srgbClr val="000000"/>
                </a:solidFill>
                <a:latin typeface="Calibri"/>
              </a:rPr>
              <a:t>„</a:t>
            </a:r>
            <a:r>
              <a:rPr b="0" i="1" lang="pl-PL" sz="2800" spc="-1" strike="noStrike">
                <a:solidFill>
                  <a:srgbClr val="000000"/>
                </a:solidFill>
                <a:latin typeface="Calibri"/>
              </a:rPr>
              <a:t>Celem wszystkich zabiegów konserwatorskich powinno być zatrzymanie procesów niszczących przez usunięcie ich przyczyn, przywrócenie – o ile jest to możliwe – pierwotnego wyglądu, jednak w granicach rozsądku, bez wprowadzania nieodwracalnych zmian, i – co bardzo ważne – możliwie najtrwalsze zabezpieczenie przed dalszą destrukcją”.</a:t>
            </a:r>
            <a:endParaRPr b="0" lang="en-US" sz="2800" spc="-1" strike="noStrike">
              <a:solidFill>
                <a:srgbClr val="000000"/>
              </a:solidFill>
              <a:latin typeface="Calibri"/>
            </a:endParaRPr>
          </a:p>
          <a:p>
            <a:pPr marL="35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5892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A. i S. Sękowscy, Chemia dla kolekcjonera amatora, Warszawa 1989, s. 6.</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Czym są dzieła sztuki?</a:t>
            </a:r>
            <a:endParaRPr b="0" lang="en-US" sz="4400" spc="-1" strike="noStrike">
              <a:solidFill>
                <a:srgbClr val="000000"/>
              </a:solidFill>
              <a:latin typeface="Calibri"/>
            </a:endParaRPr>
          </a:p>
        </p:txBody>
      </p:sp>
      <p:sp>
        <p:nvSpPr>
          <p:cNvPr id="98" name=""/>
          <p:cNvSpPr txBox="1"/>
          <p:nvPr/>
        </p:nvSpPr>
        <p:spPr>
          <a:xfrm>
            <a:off x="468360" y="15573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Zdefiniowanie dzieła sztuki jest zadaniem nastręczającym pewnych trudności, trudno jest bowiem ubrać w logiczne ramy wytwór, który niejednokrotnie stanowi zaprzeczenie logiki i nie chce podporządkować się sztywnemu zaszufladkowani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1844280"/>
            <a:ext cx="91440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Dziękuję za uwagę</a:t>
            </a:r>
            <a:endParaRPr b="0" lang="en-US" sz="4900" spc="-1" strike="noStrike">
              <a:solidFill>
                <a:srgbClr val="000000"/>
              </a:solidFill>
              <a:latin typeface="Calibri"/>
            </a:endParaRPr>
          </a:p>
        </p:txBody>
      </p:sp>
      <p:sp>
        <p:nvSpPr>
          <p:cNvPr id="13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4400" spc="-1" strike="noStrike">
              <a:solidFill>
                <a:srgbClr val="000000"/>
              </a:solidFill>
              <a:latin typeface="Calibri"/>
            </a:endParaRPr>
          </a:p>
        </p:txBody>
      </p:sp>
      <p:sp>
        <p:nvSpPr>
          <p:cNvPr id="100" name=""/>
          <p:cNvSpPr txBox="1"/>
          <p:nvPr/>
        </p:nvSpPr>
        <p:spPr>
          <a:xfrm>
            <a:off x="468360" y="15573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rzyjmijmy zatem, siłą rzeczy dosyć ogólnikowo, iż dziełem sztuki nazywać będziemy wytwór twórczego działania człowieka, posiadający walory estetyczne, które poprzez swoją wymowę lub formę oraz oryginalne przedstawienie i udostępnienie, sprawia, że odbiorca (obserwator) przestaje być obojętny, jak w obcowaniu ze zwykłymi, codziennymi rzeczam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ziełem sztuki może być zatem praktycznie wszystko, co zostało stworzone z przeznaczeniem (jedynym lub jednym z wielu) na wytwór sztuki, a więc wszelkiego rodzaju rzeźby, obrazy, obiekty architektoniczne, a nawet książki i przedmioty użytkowe. Powszechnie znane jest coraz bardziej popularne określenie „sztuka użytkow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4920" y="4800240"/>
            <a:ext cx="8280360" cy="932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Leonardo da Vinci, Dama z gronostajem. Jedno z najbardziej znanych dzieł sztuki w polskich zbiorach (Muzeum Książąt Czartoryskich w Krakowie).</a:t>
            </a:r>
            <a:endParaRPr b="0" lang="en-US" sz="2000" spc="-1" strike="noStrike">
              <a:solidFill>
                <a:srgbClr val="000000"/>
              </a:solidFill>
              <a:latin typeface="Calibri"/>
            </a:endParaRPr>
          </a:p>
        </p:txBody>
      </p:sp>
      <p:sp>
        <p:nvSpPr>
          <p:cNvPr id="104" name="PlaceHolder 2"/>
          <p:cNvSpPr>
            <a:spLocks noGrp="1"/>
          </p:cNvSpPr>
          <p:nvPr>
            <p:ph/>
          </p:nvPr>
        </p:nvSpPr>
        <p:spPr>
          <a:xfrm>
            <a:off x="394920" y="5805000"/>
            <a:ext cx="7921800" cy="36684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upload.wikimedia.org/wikipedia/commons/e/e1/The_Lady_with_an_Ermine.jpg</a:t>
            </a:r>
            <a:endParaRPr b="0" lang="en-US" sz="1400" spc="-1" strike="noStrike">
              <a:solidFill>
                <a:srgbClr val="000000"/>
              </a:solidFill>
              <a:latin typeface="Calibri"/>
            </a:endParaRPr>
          </a:p>
        </p:txBody>
      </p:sp>
      <p:pic>
        <p:nvPicPr>
          <p:cNvPr id="105" name="Symbol zastępczy obrazu 6" descr="Rysunek01_T102_The_Lady_with_an_Ermine.jpg"/>
          <p:cNvPicPr/>
          <p:nvPr/>
        </p:nvPicPr>
        <p:blipFill>
          <a:blip r:embed="rId1"/>
          <a:stretch/>
        </p:blipFill>
        <p:spPr>
          <a:xfrm>
            <a:off x="2930400" y="404640"/>
            <a:ext cx="3283200" cy="448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Zabytek a dzieło sztuki</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Mianem zabytku określamy każdy wytwór człowieka lub nie (zabytki przyrody), który jest świadectwem czasów minionych, odznacza się także wartością historyczną, kulturową, naukową lub emocjonalną, jednak najważniejszym wyróżnikiem jest kryterium wieku (starości). Nie każde dzieło sztuki jest zabytkiem, a jednocześnie nie każdy zabytek jest z automatu dziełem sztuk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5094360"/>
            <a:ext cx="820728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XIX-wieczny wóz strażacki z ręczną pompą. Przykład zabytku, który nie jest dziełem sztuki.</a:t>
            </a:r>
            <a:endParaRPr b="0" lang="en-US" sz="2000" spc="-1" strike="noStrike">
              <a:solidFill>
                <a:srgbClr val="000000"/>
              </a:solidFill>
              <a:latin typeface="Calibri"/>
            </a:endParaRPr>
          </a:p>
        </p:txBody>
      </p:sp>
      <p:pic>
        <p:nvPicPr>
          <p:cNvPr id="109" name="Symbol zastępczy obrazu 6" descr="Rysunek02_T102_Fire_truck_with_hand_pump.JPG"/>
          <p:cNvPicPr/>
          <p:nvPr/>
        </p:nvPicPr>
        <p:blipFill>
          <a:blip r:embed="rId1"/>
          <a:stretch/>
        </p:blipFill>
        <p:spPr>
          <a:xfrm>
            <a:off x="1792440" y="612720"/>
            <a:ext cx="5486400" cy="4114800"/>
          </a:xfrm>
          <a:prstGeom prst="rect">
            <a:avLst/>
          </a:prstGeom>
          <a:ln w="0">
            <a:noFill/>
          </a:ln>
        </p:spPr>
      </p:pic>
      <p:sp>
        <p:nvSpPr>
          <p:cNvPr id="110" name="PlaceHolder 2"/>
          <p:cNvSpPr>
            <a:spLocks noGrp="1"/>
          </p:cNvSpPr>
          <p:nvPr>
            <p:ph/>
          </p:nvPr>
        </p:nvSpPr>
        <p:spPr>
          <a:xfrm>
            <a:off x="468360" y="5719680"/>
            <a:ext cx="81360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upload.wikimedia.org/wikipedia/commons/1/10/Samocice_OSP%2C_Fire_truck_with_hand_pump.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Dlaczego chronimy dzieła sztuki?</a:t>
            </a:r>
            <a:endParaRPr b="0" lang="en-US" sz="4400" spc="-1" strike="noStrike">
              <a:solidFill>
                <a:srgbClr val="000000"/>
              </a:solidFill>
              <a:latin typeface="Calibri"/>
            </a:endParaRPr>
          </a:p>
        </p:txBody>
      </p:sp>
      <p:sp>
        <p:nvSpPr>
          <p:cNvPr id="112" name=""/>
          <p:cNvSpPr txBox="1"/>
          <p:nvPr/>
        </p:nvSpPr>
        <p:spPr>
          <a:xfrm>
            <a:off x="468360" y="15573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zieło sztuki jest – z natury rzeczy – wytworem rzadkim i niepowtarzalnym, a jednocześnie wartym zauważenia i zapamiętania, nie tylko dla obecnego odbiorcy, ale także dla przyszłych pokoleń. Stanowi świadectwo historii i kultury, dowód na ich istnieni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zieło sztuki, jako obiekt zazwyczaj materialny, jest ulotne, poddaje się nierównej walce z nieuchronnie płynącym czasem i walkę tę przegrywa. Dlatego zadaniem stojącym przed nami jest zachowanie rzeczonego wytworu przez jak najdłuższy cz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Dawid Suder</cp:lastModifiedBy>
  <dcterms:modified xsi:type="dcterms:W3CDTF">2013-07-23T14:08:50Z</dcterms:modified>
  <cp:revision>74</cp:revision>
  <dc:subject/>
  <dc:title>Slajd 1</dc:title>
</cp:coreProperties>
</file>