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A80D-D54D-4226-9A0A-DD85CACFC0E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1209-BB9F-42B3-8F15-002AEFD9590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4F4C-E8B3-4ED0-9A3F-F9B105A9D6E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7721-7CD0-4E63-AD4E-46E42BE58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FFA9-EF0B-4501-852B-75A583EB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11E3-0452-43C6-963B-F34FD3FD9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A852-280D-4082-9712-0E4B16AE3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2C9C-491A-417E-84F3-F228E5333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81C0-FDB4-48C2-A487-DDED1FD5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AFEB-A6B6-4157-B3F9-C7A2DE5A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2C1D-9465-43A8-9D3C-DE3445D6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69B7-E0DE-4DCC-A693-74D0F46D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88F7-3261-41A2-B820-7EFEE44B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82E0-3634-4E73-984A-C3E25CB7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E7F9-39A1-4101-9843-68A863D7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D9E8-B446-4020-8DE6-2C56A291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A3A4-CE72-4B8D-9E3E-FF2BB055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B3DF-9D00-4D87-86DE-9B715BB0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7C4D-89AC-46C3-B525-1031C0571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BCB0-FB5B-4C9B-8851-96DD5AB5D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6F5B-928C-4FE6-B041-1C61B076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4275-9D9E-478D-97EA-08E15FE9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4240-C42B-4A99-A115-C94247EF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2A21-B2CF-4B73-AC76-E5D6E4F7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9A95-9F07-4FD1-A5FA-CFF396D1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8B48-8A76-4FBF-B7C8-B720A3CC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C6E0-2839-497F-A612-7634A115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6734-8F7C-4FBC-AA9C-8A177841A91C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56F0-1C7B-4D13-9D01-51509A37D62F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141264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USG – materiał pomocniczy </a:t>
            </a:r>
            <a:br>
              <a:rPr sz="4900"/>
            </a:b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o wycieczki(*)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rostokąt 4"/>
          <p:cNvSpPr/>
          <p:nvPr/>
        </p:nvSpPr>
        <p:spPr>
          <a:xfrm>
            <a:off x="900000" y="3789360"/>
            <a:ext cx="77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ezentacja - poziom I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ole tekstowe 1"/>
          <p:cNvSpPr/>
          <p:nvPr/>
        </p:nvSpPr>
        <p:spPr>
          <a:xfrm>
            <a:off x="468360" y="1484280"/>
            <a:ext cx="8207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dczas badań USG następuje wzrost temperatury, najczęściej o około  1 stopień Celsjusza, czyli </a:t>
            </a: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jest wahaniem w dopuszczalnych granicach fizjologiczn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wet podniesienie temperatury ciała do ok. 39 stopni Celsjusza w tak krótkim czasie badania – nie jest niebezpiecz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ltradźwięki mogą doprowadzić do koagulacj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komórkach, ale nie w natężeniach stos. w US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ole tekstowe 2"/>
          <p:cNvSpPr/>
          <p:nvPr/>
        </p:nvSpPr>
        <p:spPr>
          <a:xfrm>
            <a:off x="1838520" y="476280"/>
            <a:ext cx="51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Calibri"/>
              </a:rPr>
              <a:t>Efekt cieplny w US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awitacja a badanie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ole tekstowe 2"/>
          <p:cNvSpPr/>
          <p:nvPr/>
        </p:nvSpPr>
        <p:spPr>
          <a:xfrm>
            <a:off x="395280" y="162864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witacja to powstawanie pęcherzyków gazu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cieczy. Powstają one, gdy obniża się ciśnienie cieczy, czyli w tak zwanej fazie podciśnienia akustycznego. Pęcherzyki te mogą się zderzać, przemieszczać, łączyć w większe. Najbardziej wrażliwe są na nie mitochondria komórek, które mogą zostać w ten sposób uszkodzone. Badania 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in vitro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ykazały występowanie kawitacji w zakresie natężeń diagnostycznych fal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pisane w literaturze, inne, bezpośrednie skutki energii ultradźwięków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ole tekstowe 3"/>
          <p:cNvSpPr/>
          <p:nvPr/>
        </p:nvSpPr>
        <p:spPr>
          <a:xfrm>
            <a:off x="395280" y="234936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yrkulacja cząstek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hemiczne: zmiany p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wstawanie nadtlenku wodor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Obecny stan wiedzy nie kwestionuje ewentualnego ryzyka, związanego ze stosowaniem fal ultradźwiękowych na organizm, jednak korzyści z przeprowadzenia takich badań są niewspółmier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ole tekstowe 1"/>
          <p:cNvSpPr/>
          <p:nvPr/>
        </p:nvSpPr>
        <p:spPr>
          <a:xfrm>
            <a:off x="395280" y="1197000"/>
            <a:ext cx="820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orzyści z badań przeprowadzanych nieinwazyjną metodą USG nie można kwestionować, dlatego </a:t>
            </a: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w kontroli przebiegu ciąży zalecane jest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przez Krajowego Konsultanta w Dziedzinie Ginekologii i Położnictwa w  Polsce, </a:t>
            </a: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dwukrotne badanie USG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etodą prezentacji typu 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0728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Terminy badań w kontroli ciąży: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między 18-22 tygodniem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 28-32 tygodni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le tekstowe 2"/>
          <p:cNvSpPr/>
          <p:nvPr/>
        </p:nvSpPr>
        <p:spPr>
          <a:xfrm>
            <a:off x="468360" y="2781360"/>
            <a:ext cx="8351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ierwszy termin pozwala na uwidocznienie lub wykluczenie wad strukturalnych, takich ja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odogłowie, przepukliny rdzeniowe, mózgowe, rozszczep kręgosłupa, skrócenie kości, uogólniony obrzęk płod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http://img63.imageshack.us/img63/2007/img2010091842.jpg"/>
          <p:cNvPicPr/>
          <p:nvPr/>
        </p:nvPicPr>
        <p:blipFill>
          <a:blip r:embed="rId1"/>
          <a:stretch/>
        </p:blipFill>
        <p:spPr>
          <a:xfrm>
            <a:off x="1403280" y="549360"/>
            <a:ext cx="6193080" cy="4135320"/>
          </a:xfrm>
          <a:prstGeom prst="rect">
            <a:avLst/>
          </a:prstGeom>
          <a:ln w="0">
            <a:noFill/>
          </a:ln>
        </p:spPr>
      </p:pic>
      <p:sp>
        <p:nvSpPr>
          <p:cNvPr id="124" name="Prostokąt 3"/>
          <p:cNvSpPr/>
          <p:nvPr/>
        </p:nvSpPr>
        <p:spPr>
          <a:xfrm>
            <a:off x="468360" y="494172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img63.imageshack.us/img63/2007/img2010091842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ole tekstowe 4"/>
          <p:cNvSpPr/>
          <p:nvPr/>
        </p:nvSpPr>
        <p:spPr>
          <a:xfrm>
            <a:off x="468360" y="544500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okładny obraz mózgoczaszki płodu – badanie wyklucza wodogłow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ole tekstowe 1"/>
          <p:cNvSpPr/>
          <p:nvPr/>
        </p:nvSpPr>
        <p:spPr>
          <a:xfrm>
            <a:off x="395280" y="692280"/>
            <a:ext cx="820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rugi termin badania – pozwala na ocenę rozwoju płodu, wykrywanie zaburzeń wzrostu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 także umożliwia określenie czynników ryzyka okołoporodowe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http://c3397993.y.cdn.imgwykop.pl/link_y6bar3jnDEyGTBH3pbIPF5K5sFbq32bd,w300h223.jpg"/>
          <p:cNvPicPr/>
          <p:nvPr/>
        </p:nvPicPr>
        <p:blipFill>
          <a:blip r:embed="rId1"/>
          <a:stretch/>
        </p:blipFill>
        <p:spPr>
          <a:xfrm>
            <a:off x="2592360" y="2852640"/>
            <a:ext cx="3959280" cy="2944800"/>
          </a:xfrm>
          <a:prstGeom prst="rect">
            <a:avLst/>
          </a:prstGeom>
          <a:ln w="0">
            <a:noFill/>
          </a:ln>
        </p:spPr>
      </p:pic>
      <p:sp>
        <p:nvSpPr>
          <p:cNvPr id="128" name="Prostokąt 3"/>
          <p:cNvSpPr/>
          <p:nvPr/>
        </p:nvSpPr>
        <p:spPr>
          <a:xfrm>
            <a:off x="324000" y="587700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c3397993.y.cdn.imgwykop.pl/link_y6bar3jnDEyGTBH3pbIPF5K5sFbq32bd,w300h223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G umożliwia kontrolowanie wykonywanych zabiegó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ole tekstowe 2"/>
          <p:cNvSpPr/>
          <p:nvPr/>
        </p:nvSpPr>
        <p:spPr>
          <a:xfrm>
            <a:off x="324000" y="1916280"/>
            <a:ext cx="8351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zięki „wglądowi” poprzez tkanki miękkie, możliwe jest bezpieczne dotarcie do narządów i pobranie materiału zmienionego chorobowo – do wykonania badań cytologicznyc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ienką igłą pobrane zostają komórki, a lekarz diagnosta USG, uwidacznia miejsca zmienione chorobą, wyznacza najlepszą drogę do pobrania, bez naruszania naczyń krwionośnych i nerw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zykłady zabiegów wykonywanych pod kontrolą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iopsja węzłów chłonny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iopsja tarczy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strzyknięcia do staw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strzyknięcia okołonerwow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nwazyjne metody badań prenatalnych – na przykład biopsja kosmówki, czyli jednej z błon płodow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jawiska wpływające na zafałszowanie obrazowania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ole tekstowe 2"/>
          <p:cNvSpPr/>
          <p:nvPr/>
        </p:nvSpPr>
        <p:spPr>
          <a:xfrm>
            <a:off x="250920" y="1844640"/>
            <a:ext cx="8677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ak już wiemy, fala ultradźwiękowa uleg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pewnym zakresie odbiciu, może ulec też całkowitemu odbiciu, np. od kamieni w nerk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Rozpraszanie fal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aje natomiast nieprawdziwe echa, które mogą łatwo wprowadzić w błąd w interpretowaniu obraz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Echa, które nie obrazują rzeczywistych struktur anatomicznych, to artefak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ym jest rozpraszanie fali ultradźwiękowej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ole tekstowe 2"/>
          <p:cNvSpPr/>
          <p:nvPr/>
        </p:nvSpPr>
        <p:spPr>
          <a:xfrm>
            <a:off x="395280" y="1557360"/>
            <a:ext cx="828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zpraszanie fali – ma miejsce wtedy, gdy część fali ultradźwiękowej zmienia kierunek, przy czym zmiana ta jest nieprzewidywal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Czy wpływa to na diagnostykę? </a:t>
            </a:r>
            <a:r>
              <a:rPr b="0" lang="pl-PL" sz="3200" spc="-1" strike="noStrike">
                <a:solidFill>
                  <a:srgbClr val="376092"/>
                </a:solidFill>
                <a:latin typeface="Calibri"/>
              </a:rPr>
              <a:t>Tak.</a:t>
            </a: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 Ponieważ dźwięki rozproszone nie wracają do głowicy.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zproszenie fali jednak może sprawić, </a:t>
            </a: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że echo odebrane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chodzi z powierzchni granicznej tkanek, nie ustawionych prostopadle w kierunku dźwięku, czyli z takich, które </a:t>
            </a: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nie powinny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ostać zobrazowa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ezultat rozproszenia fal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ole tekstowe 2"/>
          <p:cNvSpPr/>
          <p:nvPr/>
        </p:nvSpPr>
        <p:spPr>
          <a:xfrm>
            <a:off x="395280" y="1413000"/>
            <a:ext cx="828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ltrasonograf wykrywa echa tam, gdzie nie ma odbi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tychczas opisano w literaturze wiele takich przykładów: złudzenie (artefakt), że są otolity (kamienie) w woreczku żółciowym, albo obecność guza, zamiast wodnistej torbiel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rezultacie odbicia i rozpraszania fali ultradźwiękowej, mniej energii dociera do tkanek, położonych niż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bsorpcja + rozproszenie fali =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= tłumienie energii fa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ole tekstowe 3"/>
          <p:cNvSpPr/>
          <p:nvPr/>
        </p:nvSpPr>
        <p:spPr>
          <a:xfrm>
            <a:off x="395280" y="2205000"/>
            <a:ext cx="83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zęść energii fal ultradźwiękowych zostaje w tkankach zamieniona w ciepł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jawisko to jest wykorzystywane w fizykoterapi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Echa wprowadzające w błą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ole tekstowe 2"/>
          <p:cNvSpPr/>
          <p:nvPr/>
        </p:nvSpPr>
        <p:spPr>
          <a:xfrm>
            <a:off x="468360" y="1341360"/>
            <a:ext cx="7775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umiejętne rozpoznawanie artefaktów, niestety, przekładać się może na nietrafną diagnoz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ardzo dużo zależy od techniki badania, od doświadczenia lekarza, przeprowadzającego bada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rtefakty mogą wprowadzić przekłamania, bo w obrazie „naśladują” struktury żyw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ynniki powodujące powstawanie artefaktów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ole tekstowe 2"/>
          <p:cNvSpPr/>
          <p:nvPr/>
        </p:nvSpPr>
        <p:spPr>
          <a:xfrm>
            <a:off x="395280" y="170028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posób przetwarzania danych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lgorytmy konstruowania obrazu (zależne od możliwości i ustawienia urządzenia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łożenie/poruszenie się pacjenta; przygotowanie do badania (np. nie wypełniony przewód pokarmowy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nżynier kliniczny dobiera parametry do badania, ustala kontrast, redukuje szum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dolność optymalnej percepcji (postrzegania) obrazu zależy od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ole tekstowe 3"/>
          <p:cNvSpPr/>
          <p:nvPr/>
        </p:nvSpPr>
        <p:spPr>
          <a:xfrm>
            <a:off x="395280" y="2205000"/>
            <a:ext cx="8280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ożliwości sprzętowych (jakości karty graficznej, monitora). Niewielkie monitory, często stosowane, mają ograniczony kontra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rozdzielczoś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ercepcja obrazu zależy też od warunków pracy specjalisty, ograniczeń czasowych oraz przemęcze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y ultradźwięki mogą  być szkodliwe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ole tekstowe 2"/>
          <p:cNvSpPr/>
          <p:nvPr/>
        </p:nvSpPr>
        <p:spPr>
          <a:xfrm>
            <a:off x="395280" y="1773360"/>
            <a:ext cx="8497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jednokrotnie można usłyszeć takie pytanie: skoro ultradźwięki mogą kruszyć, np. kamienie nerkowe, to czy ultradźwięki stosowa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badaniach USG są szkodliw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ltradźwięki stosowane w USG mają zbyt niską energię, aby „wybić” elektrony z atomów, więc nie zachodzi jonizacja atomów (jak np. podczas RTG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nny również jest charakter ultradźwięków – fala jest podłużna, a nie poprzecz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Andrzej</cp:lastModifiedBy>
  <dcterms:modified xsi:type="dcterms:W3CDTF">2013-08-25T16:26:43Z</dcterms:modified>
  <cp:revision>22</cp:revision>
  <dc:subject/>
  <dc:title>Slajd 1</dc:title>
</cp:coreProperties>
</file>