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C6E3-6732-449B-9ECB-59BD51E599B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7370-19B5-4622-8E95-EB12C5597F6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9E31-6822-4B5B-B82B-A13274CA011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E692-1569-405D-B9E8-BAF3C3F1E19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1E64-3B38-4F66-BA9D-C175DA414EA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BC98-36D1-4187-8AB8-6F59EBFCE7C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C7F6-D285-45FD-B5E6-A809A4ADC12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3458C-3675-489B-A482-0656DD47C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CAC2A-7CBD-4DF3-B793-B1DA9855C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E3AF9-6DF7-444B-9C1F-8AADAC820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923DA-D021-4F16-8E20-230E7933B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2982D-8DDB-431E-989E-1468350FB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2B028-CA9A-46BC-AE0B-9EC8987E1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79B54-D78F-4C9E-BA34-F94163D0F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AF5A6-70E2-4F9F-82DC-B1B2515E0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C380F-2723-4504-9A98-18B215638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E7081-97C7-4525-87CB-509EAC98E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142F7-2719-461C-9129-A748140B4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24E56-7894-456C-9058-EB236E525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599FF-EEB6-49AC-A37C-114FCF721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92CC-5BA5-4A0C-90A7-51D26A2CB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52A6E-142D-4C6C-AA42-E599FEE76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F81DF-F187-4D19-83C0-7A0E72D60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2EC60-B416-40CA-A3E4-B70A29D49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69FF7-E601-4975-8E33-3D9DB3581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0D7E-7349-4361-BB7B-902A36ED9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7CA7A-FF4B-41FC-AB02-7C901FEB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C84DB-44A1-41B4-8A56-8CCEFED9F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9974-10B6-4802-9A1C-CFAD69FD9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2095-B0DE-4EEA-BE6E-CD65FB062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EA5D9-F469-40B1-9EC6-33CBB25BD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519E-85A4-44B0-A586-5C97CDE66C12}"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C7C2-F8B1-410C-B87C-0A4C1F583ABA}"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zagrożenia i metody przeciwdziałania (poziom I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wady są w stanie rozwijać się nawet w drewnie bardzo suchym. Żywią się nim larwy, które często są długowieczne, np. te pozostawiane przez spuszczela rozwijają się nawet 7 lat. Po przeobrażeniu się w owada dorosłego szkodnik opuszcza drewno przy pomocy charakterystycznego otworu wylotowego o średnicy do 3 mm, z którego wysypuje się sproszkowane drew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Czy wymienione rodziny owadów-szkodników mają jakieś swoje bardziej czy mniej ulubione gatunki drewna? Do pewnego stopnia tak. Wieloletnie doświadczenie kolekcjonerów i muzealników uczy, że owady-szkodniki atakują przede wszystkim:</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lipowe i topolowe, powszechnie stosowane jako materiał do wyrobu rzeźb,</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bukowe, z którego wykonywane były skrzynie, zydle, gięte krzesła,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olchowe i brzozowe, a więc tradycyjny materiał na dzieże, stępy,</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gruszkowe, z którego powstawały drzeworyty,</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akacjowe, stosowane na rękojeści broni i części wozów konnych,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jabłoniowe, specjalnie cenione przy produkcji lasek,</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drewno sosnowe, z którego robiono tanie stoły, półki, gospodarskie skrzynie, nie mówiąc już o podłogach, ścianach, belkach stropowych itp. </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W dalszej dopiero kolejności owady atakują dębinę i grabinę. Natomiast najmniej chętnie żerują na drewnie jesionowym, jak też i na egzotycznym mahoniu, cedrze, hebanie i palisandrze”.</a:t>
            </a:r>
            <a:endParaRPr b="0" lang="en-US" sz="2800" spc="-1" strike="noStrike">
              <a:solidFill>
                <a:srgbClr val="000000"/>
              </a:solidFill>
              <a:latin typeface="Calibri"/>
            </a:endParaRPr>
          </a:p>
          <a:p>
            <a:pPr marL="3589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 i S. Sękowscy, Chemia dla kolekcjonera amatora, Warszawa 1989, ss. 85-86.</a:t>
            </a:r>
            <a:endParaRPr b="0" lang="en-US" sz="1800" spc="-1" strike="noStrike">
              <a:solidFill>
                <a:srgbClr val="000000"/>
              </a:solidFill>
              <a:latin typeface="Calibri"/>
            </a:endParaRPr>
          </a:p>
          <a:p>
            <a:pPr marL="358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480060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ilkuletnia larwa spuszczela pospolitego.</a:t>
            </a:r>
            <a:endParaRPr b="0" lang="en-US" sz="2000" spc="-1" strike="noStrike">
              <a:solidFill>
                <a:srgbClr val="000000"/>
              </a:solidFill>
              <a:latin typeface="Calibri"/>
            </a:endParaRPr>
          </a:p>
        </p:txBody>
      </p:sp>
      <p:pic>
        <p:nvPicPr>
          <p:cNvPr id="124" name="Symbol zastępczy obrazu 6" descr="Rysunek03_T102_Spuszczel_pospolty_larwa.jpg"/>
          <p:cNvPicPr/>
          <p:nvPr/>
        </p:nvPicPr>
        <p:blipFill>
          <a:blip r:embed="rId1"/>
          <a:stretch/>
        </p:blipFill>
        <p:spPr>
          <a:xfrm>
            <a:off x="1739880" y="549360"/>
            <a:ext cx="5664240" cy="4248000"/>
          </a:xfrm>
          <a:prstGeom prst="rect">
            <a:avLst/>
          </a:prstGeom>
          <a:ln w="0">
            <a:noFill/>
          </a:ln>
        </p:spPr>
      </p:pic>
      <p:sp>
        <p:nvSpPr>
          <p:cNvPr id="125" name="PlaceHolder 2"/>
          <p:cNvSpPr>
            <a:spLocks noGrp="1"/>
          </p:cNvSpPr>
          <p:nvPr>
            <p:ph/>
          </p:nvPr>
        </p:nvSpPr>
        <p:spPr>
          <a:xfrm>
            <a:off x="323640" y="5367240"/>
            <a:ext cx="69548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a/a3/Spuszczel_pospolty_larw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pamiętać, że obecność kanalików wylotowych jest już ostatecznym sygnałem do podjęcia interwencji, ponieważ w strukturze drewna znajduje się już na pewno wiele podpowierzchniowych korytarzy wydrążonych przez larwy, które znakomicie obniżają wytrzymałość i długowieczność materiał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lkę z owadami prowadzi się poprzez usuwanie termiczne, czyli poddawanie eksponatu działaniu temp. 55 – 65 st. lub chemicznie, przy pomocy tlenku etylenu. Dawniej do tego celu stosowano także chloroform, a nawet cyjanowodór, jednak ze względu na wysoką szkodliwość zaprzestano takich prakty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arunki przechowywania</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wiatło także nie jest sprzymierzeńcem dzieł sztuki, zwłaszcza obrazów i elementów papierowych.  Promieniowanie nadfioletowe (UV) przyczyna się do płowienia wielu barwników, powoduje także żółknięcie i kruszenie gorszych gatunków papieru (produkowanych ze ścieru drzewnego), co jest spowodowane rozkładem ligniny w nim zawart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oświetlania sal wystawienniczych stosuje się zatem neutralne (dla dzieł i człowieka) oświetlenie złożone z diod LED, które nie emitują promieniowania UV, nie grzeją się i są także energooszczędne. W razie braku możliwości odizolowania eksponatów od światła dziennego wykorzystywane są szklane osłony pokryte warstwą nieprzepuszczającą fali U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pomieszczeniach zawierających dzieła sztuki powinna być zapewniona także odpowiednia temperatura i wilgotność. Przyjmuje się, że najbardziej uniwersalne warunki to temperatura 18 – 21 st. i 45 – 55 % wilgotności. Zmiana tych warunków może spowodować nadmierne przesuszenie obiektów (na obrazach objawiające się pękaniem wierzchnich warstw malowidła) lub zawilgocenie sprzyjające grzyb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grożenia wobec dzieł sztuki zależą w dużej mierze od charakteru dzieła, jednak możemy wyróżnić zestaw wspólnych czynników, które dotykają zdecydowanej większości eksponatów.  Możemy podzielić je na kilka grup, tak, by prościej było określić rodzaj uszkodzeń i przeciwdziałać im przy pomocy odpowiednich met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ietrze, które otacza cenne eksponaty, powinno być filtrowane, pozbawione kurzu i innych zanieczyszczeń. Przykładowo, dym papierosowy powoduje powstawanie brązowej warstwy osadu, szczególnie widocznej na obraz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6000"/>
          </a:bodyPr>
          <a:p>
            <a:pPr marL="344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Kurz to mieszanina płatków ludzkiego naskórka, drobnych cząstek substancji mineralnych bądź roślinnych, włókien tekstylnych, dymów fabrycznych, tłuszczu z odcisków palców, części insektów, ich wydzielin i wydalin, proszków, pudrów, sierści. W tej mieszaninie znajdują swe oparcie przetrwalniki niezliczonych pleśni i różnych innych mikroorganizmów, żywiących się materiałem zawartym w kurzu”.</a:t>
            </a:r>
            <a:endParaRPr b="0" lang="en-US" sz="2800" spc="-1" strike="noStrike">
              <a:solidFill>
                <a:srgbClr val="000000"/>
              </a:solidFill>
              <a:latin typeface="Calibri"/>
            </a:endParaRPr>
          </a:p>
          <a:p>
            <a:pPr marL="344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E. P. Adcock, Ochrona i przechowywanie zbiorów:</a:t>
            </a:r>
            <a:br>
              <a:rPr sz="1800"/>
            </a:br>
            <a:r>
              <a:rPr b="0" i="1" lang="pl-PL" sz="1800" spc="-1" strike="noStrike">
                <a:solidFill>
                  <a:srgbClr val="000000"/>
                </a:solidFill>
                <a:latin typeface="Calibri"/>
              </a:rPr>
              <a:t> zalecenia IFLA w kwestii opieki i obchodzenia się z materiałami bibliotecznymi, Wrocław 1999, s. 3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pływ człowieka</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szczący wpływ człowieka możemy podzielić z grubsza na świadomy i niezamierzony. Do tego pierwszego można zaliczyć celowe uszkodzenia dzieł sztuki, czy to z powodu negowania wartości artystycznej dzieła, czy zwykłego wandalizmu. Takie przypadki stanowią wielkie wyzwanie dla muzeów i galerii, często ciężko jest się przed nimi ustrze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5382720"/>
            <a:ext cx="835344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t>
            </a:r>
            <a:r>
              <a:rPr b="1" i="1" lang="pl-PL" sz="2000" spc="-1" strike="noStrike">
                <a:solidFill>
                  <a:srgbClr val="000000"/>
                </a:solidFill>
                <a:latin typeface="Calibri"/>
              </a:rPr>
              <a:t>Fontanna</a:t>
            </a:r>
            <a:r>
              <a:rPr b="1" lang="pl-PL" sz="2000" spc="-1" strike="noStrike">
                <a:solidFill>
                  <a:srgbClr val="000000"/>
                </a:solidFill>
                <a:latin typeface="Calibri"/>
              </a:rPr>
              <a:t>” (1914) Marcela Duchampa. Jedna z jej późniejszych kopii, także artysty, została w 2006 r. zniszczona młotkiem przez widza w Centre Pompidou.</a:t>
            </a:r>
            <a:endParaRPr b="0" lang="en-US" sz="2000" spc="-1" strike="noStrike">
              <a:solidFill>
                <a:srgbClr val="000000"/>
              </a:solidFill>
              <a:latin typeface="Calibri"/>
            </a:endParaRPr>
          </a:p>
        </p:txBody>
      </p:sp>
      <p:pic>
        <p:nvPicPr>
          <p:cNvPr id="143" name="Symbol zastępczy obrazu 6" descr="Rysunek04_T102_Duchamp_Fountaine.jpg"/>
          <p:cNvPicPr/>
          <p:nvPr/>
        </p:nvPicPr>
        <p:blipFill>
          <a:blip r:embed="rId1"/>
          <a:stretch/>
        </p:blipFill>
        <p:spPr>
          <a:xfrm>
            <a:off x="2373480" y="260280"/>
            <a:ext cx="4397040" cy="4651560"/>
          </a:xfrm>
          <a:prstGeom prst="rect">
            <a:avLst/>
          </a:prstGeom>
          <a:ln w="0">
            <a:noFill/>
          </a:ln>
        </p:spPr>
      </p:pic>
      <p:sp>
        <p:nvSpPr>
          <p:cNvPr id="144" name="PlaceHolder 2"/>
          <p:cNvSpPr>
            <a:spLocks noGrp="1"/>
          </p:cNvSpPr>
          <p:nvPr>
            <p:ph/>
          </p:nvPr>
        </p:nvSpPr>
        <p:spPr>
          <a:xfrm>
            <a:off x="394920" y="5937120"/>
            <a:ext cx="82090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f/f6/Duchamp_Fountaine.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norama Racławicka zniszczona wskutek działań wojennych we Lwowie w 1944 r.</a:t>
            </a:r>
            <a:endParaRPr b="0" lang="en-US" sz="2000" spc="-1" strike="noStrike">
              <a:solidFill>
                <a:srgbClr val="000000"/>
              </a:solidFill>
              <a:latin typeface="Calibri"/>
            </a:endParaRPr>
          </a:p>
        </p:txBody>
      </p:sp>
      <p:pic>
        <p:nvPicPr>
          <p:cNvPr id="146" name="Symbol zastępczy obrazu 4" descr="Rysunek06_T102_raclawice_1944.jpg"/>
          <p:cNvPicPr/>
          <p:nvPr/>
        </p:nvPicPr>
        <p:blipFill>
          <a:blip r:embed="rId1"/>
          <a:stretch/>
        </p:blipFill>
        <p:spPr>
          <a:xfrm>
            <a:off x="861840" y="428760"/>
            <a:ext cx="7420320" cy="4871880"/>
          </a:xfrm>
          <a:prstGeom prst="rect">
            <a:avLst/>
          </a:prstGeom>
          <a:ln w="0">
            <a:noFill/>
          </a:ln>
        </p:spPr>
      </p:pic>
      <p:sp>
        <p:nvSpPr>
          <p:cNvPr id="147" name="PlaceHolder 2"/>
          <p:cNvSpPr>
            <a:spLocks noGrp="1"/>
          </p:cNvSpPr>
          <p:nvPr>
            <p:ph/>
          </p:nvPr>
        </p:nvSpPr>
        <p:spPr>
          <a:xfrm>
            <a:off x="468360" y="60800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djęcie ze zbiorów Muzeum Narodowego we Wrocławi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norama Racławicka zniszczona wskutek działań wojennych we Lwowie w 1944 r.</a:t>
            </a:r>
            <a:endParaRPr b="0" lang="en-US" sz="2000" spc="-1" strike="noStrike">
              <a:solidFill>
                <a:srgbClr val="000000"/>
              </a:solidFill>
              <a:latin typeface="Calibri"/>
            </a:endParaRPr>
          </a:p>
        </p:txBody>
      </p:sp>
      <p:sp>
        <p:nvSpPr>
          <p:cNvPr id="149" name="PlaceHolder 2"/>
          <p:cNvSpPr>
            <a:spLocks noGrp="1"/>
          </p:cNvSpPr>
          <p:nvPr>
            <p:ph/>
          </p:nvPr>
        </p:nvSpPr>
        <p:spPr>
          <a:xfrm>
            <a:off x="468360" y="60800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djęcie ze zbiorów Muzeum Narodowego we Wrocławiu.</a:t>
            </a:r>
            <a:endParaRPr b="0" lang="en-US" sz="1400" spc="-1" strike="noStrike">
              <a:solidFill>
                <a:srgbClr val="000000"/>
              </a:solidFill>
              <a:latin typeface="Calibri"/>
            </a:endParaRPr>
          </a:p>
        </p:txBody>
      </p:sp>
      <p:pic>
        <p:nvPicPr>
          <p:cNvPr id="150" name="Obraz 5" descr="Rysunek05_T102_raclawice_1944.jpg"/>
          <p:cNvPicPr/>
          <p:nvPr/>
        </p:nvPicPr>
        <p:blipFill>
          <a:blip r:embed="rId1"/>
          <a:stretch/>
        </p:blipFill>
        <p:spPr>
          <a:xfrm>
            <a:off x="1187280" y="260280"/>
            <a:ext cx="6769440" cy="505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ako czynniki niezamierzone możemy przyjąć brak wiedzy i umiejętności głównie wśród prywatnych kolekcjonerów, którzy nie potrafią zapewnić swoim zbiorom właściwych warunków, ale także nieumiejętne renowacje. Przykładem może być znany przypadek obrazu Ecce Homo autorstwa Elias Garcia Martineza w hiszpańskim kościele w Borja, za którego renowację wzięła się samozwańcza konserwator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5238720"/>
            <a:ext cx="81360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a:t>
            </a:r>
            <a:r>
              <a:rPr b="1" i="1" lang="pl-PL" sz="2000" spc="-1" strike="noStrike">
                <a:solidFill>
                  <a:srgbClr val="000000"/>
                </a:solidFill>
                <a:latin typeface="Calibri"/>
              </a:rPr>
              <a:t>Ecce Homo</a:t>
            </a:r>
            <a:r>
              <a:rPr b="1" lang="pl-PL" sz="2000" spc="-1" strike="noStrike">
                <a:solidFill>
                  <a:srgbClr val="000000"/>
                </a:solidFill>
                <a:latin typeface="Calibri"/>
              </a:rPr>
              <a:t>”. Po środku widoczny obraz przed konserwacją. Po prawej po „renowacji”, po lewej zaś grafika przedstawiająca oczekiwany efekt.</a:t>
            </a:r>
            <a:endParaRPr b="0" lang="en-US" sz="2000" spc="-1" strike="noStrike">
              <a:solidFill>
                <a:srgbClr val="000000"/>
              </a:solidFill>
              <a:latin typeface="Calibri"/>
            </a:endParaRPr>
          </a:p>
        </p:txBody>
      </p:sp>
      <p:pic>
        <p:nvPicPr>
          <p:cNvPr id="154" name="Symbol zastępczy obrazu 6" descr="Rysunek07_ecce_homo_elias_garcia_martineza.jpg"/>
          <p:cNvPicPr/>
          <p:nvPr/>
        </p:nvPicPr>
        <p:blipFill>
          <a:blip r:embed="rId1"/>
          <a:stretch/>
        </p:blipFill>
        <p:spPr>
          <a:xfrm>
            <a:off x="1052640" y="336600"/>
            <a:ext cx="7038720" cy="4387680"/>
          </a:xfrm>
          <a:prstGeom prst="rect">
            <a:avLst/>
          </a:prstGeom>
          <a:ln w="0">
            <a:noFill/>
          </a:ln>
        </p:spPr>
      </p:pic>
      <p:sp>
        <p:nvSpPr>
          <p:cNvPr id="155" name="PlaceHolder 2"/>
          <p:cNvSpPr>
            <a:spLocks noGrp="1"/>
          </p:cNvSpPr>
          <p:nvPr>
            <p:ph/>
          </p:nvPr>
        </p:nvSpPr>
        <p:spPr>
          <a:xfrm>
            <a:off x="468360" y="5864040"/>
            <a:ext cx="8136000" cy="804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cdn26.se.smcloud.net/t/photos/thumbnails/180785/ecce_homo_elias_garcia_martineza_640x0_rozmiar-niestandardowy.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nserwacja</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serwacja ma za zadanie przywrócić obiektowi jak najlepsze parametry. Zazwyczaj sprowadza się to, do zadbania o odpowiednią wilgotność, równowagę kwasową, usunięcie mikroorganizmów i zabezpieczenie przed ich dalszą ingerencją oraz – w miarę możliwości – przywrócenie pierwotnego wyglądu dzieła. Często struktura obiektu jest także wzmacniana, np. przy pomocy specjalnych żywic.</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leży pamiętać, że celem konserwacji jest zachowanie jak najwiarygodniejszego wyglądu dzieła sztuki. Wszelkie uszkodzenia nie są wypełniane. W przeciwnym przypadku proces taki nosi nazwę rekonstrukcji i może być elementem następującym po kon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zynniki biologiczne (mikroorganizmy, owady, gryzonie)</a:t>
            </a:r>
            <a:endParaRPr b="0" lang="en-US" sz="2800" spc="-1" strike="noStrike">
              <a:solidFill>
                <a:srgbClr val="000000"/>
              </a:solidFill>
              <a:latin typeface="Calibri"/>
            </a:endParaRPr>
          </a:p>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arunki przechowywania (temperatura, wilgotność powietrza, światło, zanieczyszczenia atmosferyczne)</a:t>
            </a:r>
            <a:endParaRPr b="0" lang="en-US" sz="2800" spc="-1" strike="noStrike">
              <a:solidFill>
                <a:srgbClr val="000000"/>
              </a:solidFill>
              <a:latin typeface="Calibri"/>
            </a:endParaRPr>
          </a:p>
          <a:p>
            <a:pPr lvl="1"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pływ człowieka (celowe lub nieświadome uszkodzen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nserwacja obrazów</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wątpliwie najwięcej zainteresowania wzbudza konserwacja obrazów. Nie sposób jednak poruszyć wszystkich aspektów tego złożonego zagadnienia, dlatego poruszone zostaną tylko najbardziej kluczowego jego punk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ym z pierwszych zabiegów, po dokładnym przebadaniu stanu obrazu i usunięciu z niego ewentualnych organizmów żywych, a także zapewnieniu odpowiednich warunków, jest usunięcie zanieczyszczeń z zewnętrznej warstwy malowidła, wraz z nałożonym wcześniej werniksem ochronny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rniks ochronny jest przezroczystym lakierem, najczęściej żywicą rozpuszczoną w olejku lotnym lub alkoholu etylowym, który nakłada się na obraz w celu zabezpieczenia głębszych warstw przed uszkodzeniami i starzeniem. To on bierze na siebie wszelkie zabrudzenia, które dzięki temu łatwiej później oczyścić. Pozwala także na nadanie obrazowi połys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 konserwacji stary werniks jest dokładnie usuwany, a po zakończeniu prac na głębszych warstwach, nakładany jest nowy. Obraz poddany takiemu działaniu odbiorcy często wydaje się zdecydowanie jaśniejszy niż przed konserwacją, jednak w rzeczywistości odzyskuje on tylko swoje pierwotne barwy, takie same, jakie nadał mu au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800600"/>
            <a:ext cx="81360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po częściowym usunięciu zabrudzeń i pociemniałego werniksu.</a:t>
            </a:r>
            <a:endParaRPr b="0" lang="en-US" sz="2000" spc="-1" strike="noStrike">
              <a:solidFill>
                <a:srgbClr val="000000"/>
              </a:solidFill>
              <a:latin typeface="Calibri"/>
            </a:endParaRPr>
          </a:p>
        </p:txBody>
      </p:sp>
      <p:pic>
        <p:nvPicPr>
          <p:cNvPr id="169" name="Symbol zastępczy obrazu 6" descr="Rysunek09_T102_usuniety_werniks.jpg"/>
          <p:cNvPicPr/>
          <p:nvPr/>
        </p:nvPicPr>
        <p:blipFill>
          <a:blip r:embed="rId1"/>
          <a:srcRect l="49" t="0" r="49" b="0"/>
          <a:stretch/>
        </p:blipFill>
        <p:spPr>
          <a:xfrm>
            <a:off x="1643040" y="404640"/>
            <a:ext cx="5857920" cy="4392720"/>
          </a:xfrm>
          <a:prstGeom prst="rect">
            <a:avLst/>
          </a:prstGeom>
          <a:ln w="0">
            <a:noFill/>
          </a:ln>
        </p:spPr>
      </p:pic>
      <p:sp>
        <p:nvSpPr>
          <p:cNvPr id="170"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konserwacjads.pl/images/1a-2-2.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wałki płótna, z których farba uległa wykruszeniu, pokrywane są specjalnym kitem, który potem – wedle potrzeby – zostaje pomalowany przez konserwatora w celu przywrócenia obrazowi pierwotnego wygląd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48006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zupełnienie obrazu kitem. Na zdjęciu widoczna „Bitwa pod Grunwaldem” Jana Matejki.</a:t>
            </a:r>
            <a:endParaRPr b="0" lang="en-US" sz="2000" spc="-1" strike="noStrike">
              <a:solidFill>
                <a:srgbClr val="000000"/>
              </a:solidFill>
              <a:latin typeface="Calibri"/>
            </a:endParaRPr>
          </a:p>
        </p:txBody>
      </p:sp>
      <p:pic>
        <p:nvPicPr>
          <p:cNvPr id="174" name="Symbol zastępczy obrazu 6" descr="Rysunek10_T102_wypelnienie_ubytkow.jpg"/>
          <p:cNvPicPr/>
          <p:nvPr/>
        </p:nvPicPr>
        <p:blipFill>
          <a:blip r:embed="rId1"/>
          <a:srcRect l="0" t="108" r="0" b="108"/>
          <a:stretch/>
        </p:blipFill>
        <p:spPr>
          <a:xfrm>
            <a:off x="1792440" y="404640"/>
            <a:ext cx="5486400" cy="4114800"/>
          </a:xfrm>
          <a:prstGeom prst="rect">
            <a:avLst/>
          </a:prstGeom>
          <a:ln w="0">
            <a:noFill/>
          </a:ln>
        </p:spPr>
      </p:pic>
      <p:sp>
        <p:nvSpPr>
          <p:cNvPr id="175" name="PlaceHolder 2"/>
          <p:cNvSpPr>
            <a:spLocks noGrp="1"/>
          </p:cNvSpPr>
          <p:nvPr>
            <p:ph/>
          </p:nvPr>
        </p:nvSpPr>
        <p:spPr>
          <a:xfrm>
            <a:off x="468360" y="5367240"/>
            <a:ext cx="81360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log-konserwacja.mnw.art.pl/wp-content/uploads/2012/10/2_27.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wspomnianych wcześniej zabiegów, dotyczących praktycznie każdego dzieła sztuki, obrazy często poddawane są tzw. dublażowi, czyli podklejaniu obrazu specjalną warstwą cienkiego płótna, które ma za zadanie wzmocnić jego strukturę. Dokonuje się także konsolidacji, czyli połączenia kruszących się płatków farby pod wpływem specjalnych środków chemiczn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5165280"/>
            <a:ext cx="835344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gotowywanie tkaniny dublażowej. Zdjęcie przedstawia konserwację obrazu  „</a:t>
            </a:r>
            <a:r>
              <a:rPr b="1" i="1" lang="pl-PL" sz="2000" spc="-1" strike="noStrike">
                <a:solidFill>
                  <a:srgbClr val="000000"/>
                </a:solidFill>
                <a:latin typeface="Calibri"/>
              </a:rPr>
              <a:t>Pomarańczarka</a:t>
            </a:r>
            <a:r>
              <a:rPr b="1" lang="pl-PL" sz="2000" spc="-1" strike="noStrike">
                <a:solidFill>
                  <a:srgbClr val="000000"/>
                </a:solidFill>
                <a:latin typeface="Calibri"/>
              </a:rPr>
              <a:t>” (1881) Aleksandra Gierymskiego w Muzeum Narodowym w Warszawie.</a:t>
            </a:r>
            <a:endParaRPr b="0" lang="en-US" sz="2000" spc="-1" strike="noStrike">
              <a:solidFill>
                <a:srgbClr val="000000"/>
              </a:solidFill>
              <a:latin typeface="Calibri"/>
            </a:endParaRPr>
          </a:p>
        </p:txBody>
      </p:sp>
      <p:pic>
        <p:nvPicPr>
          <p:cNvPr id="179" name="Symbol zastępczy obrazu 6" descr="Rysunek08_T102_przygotowywanie-tkaniny-dublażowej.jpg"/>
          <p:cNvPicPr/>
          <p:nvPr/>
        </p:nvPicPr>
        <p:blipFill>
          <a:blip r:embed="rId1"/>
          <a:stretch/>
        </p:blipFill>
        <p:spPr>
          <a:xfrm>
            <a:off x="2951280" y="333360"/>
            <a:ext cx="3241440" cy="4319640"/>
          </a:xfrm>
          <a:prstGeom prst="rect">
            <a:avLst/>
          </a:prstGeom>
          <a:ln w="0">
            <a:noFill/>
          </a:ln>
        </p:spPr>
      </p:pic>
      <p:sp>
        <p:nvSpPr>
          <p:cNvPr id="180" name="PlaceHolder 2"/>
          <p:cNvSpPr>
            <a:spLocks noGrp="1"/>
          </p:cNvSpPr>
          <p:nvPr>
            <p:ph/>
          </p:nvPr>
        </p:nvSpPr>
        <p:spPr>
          <a:xfrm>
            <a:off x="394920" y="5719680"/>
            <a:ext cx="8280360" cy="588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log-konserwacja.mnw.art.pl/wp-content/uploads/2012/06/przygotowywanie-tkaniny-dubla%C5%BCowej-e134002314945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8006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tapy konserwacji i renowacji obrazu „</a:t>
            </a:r>
            <a:r>
              <a:rPr b="1" i="1" lang="pl-PL" sz="2000" spc="-1" strike="noStrike">
                <a:solidFill>
                  <a:srgbClr val="000000"/>
                </a:solidFill>
                <a:latin typeface="Calibri"/>
              </a:rPr>
              <a:t>Pomarańczarka</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82" name="Symbol zastępczy obrazu 4" descr="Rysunek11_T102_pomaranczarka.jpg"/>
          <p:cNvPicPr/>
          <p:nvPr/>
        </p:nvPicPr>
        <p:blipFill>
          <a:blip r:embed="rId1"/>
          <a:stretch/>
        </p:blipFill>
        <p:spPr>
          <a:xfrm>
            <a:off x="433440" y="679320"/>
            <a:ext cx="8277120" cy="4189680"/>
          </a:xfrm>
          <a:prstGeom prst="rect">
            <a:avLst/>
          </a:prstGeom>
          <a:ln w="0">
            <a:noFill/>
          </a:ln>
        </p:spPr>
      </p:pic>
      <p:sp>
        <p:nvSpPr>
          <p:cNvPr id="183" name="PlaceHolder 2"/>
          <p:cNvSpPr>
            <a:spLocks noGrp="1"/>
          </p:cNvSpPr>
          <p:nvPr>
            <p:ph/>
          </p:nvPr>
        </p:nvSpPr>
        <p:spPr>
          <a:xfrm>
            <a:off x="468360" y="536724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mgzn.pl/img/articles/art_618_zdj_1031.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nniki biologiczn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częstszym problemem są niewątpliwie grzyby, określane popularnie mianem pleśni. Są one naszym nieodłącznym towarzyszem w środowisku. Rozwijają się szczególnie w miejscach ciepłych, wilgotnych, zbyt słabo wentylowanych. Są w stanie rozkładać podłoże organiczne (np. papier lub tkaniny), na którym żyją, niszcząc jego strukturę. Doprowadzają także do powstawania przebarwie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siążka w znacznym stopniu zniszczona przez pleśnie.</a:t>
            </a:r>
            <a:endParaRPr b="0" lang="en-US" sz="2000" spc="-1" strike="noStrike">
              <a:solidFill>
                <a:srgbClr val="000000"/>
              </a:solidFill>
              <a:latin typeface="Calibri"/>
            </a:endParaRPr>
          </a:p>
        </p:txBody>
      </p:sp>
      <p:pic>
        <p:nvPicPr>
          <p:cNvPr id="104" name="Symbol zastępczy obrazu 6" descr="Rysunek02_T102_niszczycielskie_plesnie_400.jpg"/>
          <p:cNvPicPr/>
          <p:nvPr/>
        </p:nvPicPr>
        <p:blipFill>
          <a:blip r:embed="rId1"/>
          <a:stretch/>
        </p:blipFill>
        <p:spPr>
          <a:xfrm>
            <a:off x="1779480" y="403200"/>
            <a:ext cx="5585040" cy="4538520"/>
          </a:xfrm>
          <a:prstGeom prst="rect">
            <a:avLst/>
          </a:prstGeom>
          <a:ln w="0">
            <a:noFill/>
          </a:ln>
        </p:spPr>
      </p:pic>
      <p:sp>
        <p:nvSpPr>
          <p:cNvPr id="105" name="PlaceHolder 2"/>
          <p:cNvSpPr>
            <a:spLocks noGrp="1"/>
          </p:cNvSpPr>
          <p:nvPr>
            <p:ph/>
          </p:nvPr>
        </p:nvSpPr>
        <p:spPr>
          <a:xfrm>
            <a:off x="394920" y="5367240"/>
            <a:ext cx="68835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bu.kul.pl/gfx/072/archiwum/niszczycielskie_plesnie_400.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szkodliwego wpływu na dzieła sztuki, pleśnie wytwarzają także rakotwórcze i mutagenne mykotoskyny, które nie pozostają bez wpływu na organizm ludzki. Dlatego konserwatorzy, przy wykonywaniu koniecznych prac, muszą także dbać o swoje zdrow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16528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olej na płótnie) z początku XX w. W centrum widoczne rozwinięte pleśnie.</a:t>
            </a:r>
            <a:endParaRPr b="0" lang="en-US" sz="2000" spc="-1" strike="noStrike">
              <a:solidFill>
                <a:srgbClr val="000000"/>
              </a:solidFill>
              <a:latin typeface="Calibri"/>
            </a:endParaRPr>
          </a:p>
        </p:txBody>
      </p:sp>
      <p:sp>
        <p:nvSpPr>
          <p:cNvPr id="109" name="PlaceHolder 2"/>
          <p:cNvSpPr>
            <a:spLocks noGrp="1"/>
          </p:cNvSpPr>
          <p:nvPr>
            <p:ph/>
          </p:nvPr>
        </p:nvSpPr>
        <p:spPr>
          <a:xfrm>
            <a:off x="468360" y="5719680"/>
            <a:ext cx="681048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konserwacjads.pl/images/20b-2-2.jpg</a:t>
            </a:r>
            <a:endParaRPr b="0" lang="en-US" sz="1400" spc="-1" strike="noStrike">
              <a:solidFill>
                <a:srgbClr val="000000"/>
              </a:solidFill>
              <a:latin typeface="Calibri"/>
            </a:endParaRPr>
          </a:p>
        </p:txBody>
      </p:sp>
      <p:pic>
        <p:nvPicPr>
          <p:cNvPr id="110" name="Symbol zastępczy obrazu 6" descr="Rysunek01_T102_anna_samotrzec.jpg"/>
          <p:cNvPicPr/>
          <p:nvPr/>
        </p:nvPicPr>
        <p:blipFill>
          <a:blip r:embed="rId1"/>
          <a:srcRect l="50617" t="7506" r="2066" b="6865"/>
          <a:stretch/>
        </p:blipFill>
        <p:spPr>
          <a:xfrm>
            <a:off x="2879640" y="347760"/>
            <a:ext cx="3384720" cy="459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rzyby giną w podwyższonej (ok. 50 st.) temperaturze, można je także usuwać przy pomocy tlenku etylenu, który jest bezbarwnym bardzo ruchliwym gazem, wrzącym w normalnym ciśnieniu w temp. 10 st. Stosuje się go także do sterylizacji sprzętu medycznego. Należy pamiętać, że jest substancją rakotwórczą, skrajnie łatwopalną i reaktywną. W środowisku kwaśnym z wodą tworzy glikol etylenow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powstawania szkód przyczyniają się także owady i gryzonie, które żerują na materiałach organicznych, a więc np. klejach, papierze, płótnie i drewnie. W Polsce najpopularniejszymi szkodnikami drewna są owady z rodziny kołatkowatych (</a:t>
            </a:r>
            <a:r>
              <a:rPr b="0" i="1" lang="pl-PL" sz="3200" spc="-1" strike="noStrike">
                <a:solidFill>
                  <a:srgbClr val="000000"/>
                </a:solidFill>
                <a:latin typeface="Calibri"/>
              </a:rPr>
              <a:t>Anobiidae</a:t>
            </a:r>
            <a:r>
              <a:rPr b="0" lang="pl-PL" sz="3200" spc="-1" strike="noStrike">
                <a:solidFill>
                  <a:srgbClr val="000000"/>
                </a:solidFill>
                <a:latin typeface="Calibri"/>
              </a:rPr>
              <a:t>) i kózkowatych (</a:t>
            </a:r>
            <a:r>
              <a:rPr b="0" i="1" lang="pl-PL" sz="3200" spc="-1" strike="noStrike">
                <a:solidFill>
                  <a:srgbClr val="000000"/>
                </a:solidFill>
                <a:latin typeface="Calibri"/>
              </a:rPr>
              <a:t>Cerambycidae</a:t>
            </a:r>
            <a:r>
              <a:rPr b="0" lang="pl-PL" sz="3200" spc="-1" strike="noStrike">
                <a:solidFill>
                  <a:srgbClr val="000000"/>
                </a:solidFill>
                <a:latin typeface="Calibri"/>
              </a:rPr>
              <a:t>). Popularnym przedstawicielem ostatniej rodziny jest spuszczel pospolity (</a:t>
            </a:r>
            <a:r>
              <a:rPr b="0" i="1" lang="pl-PL" sz="3200" spc="-1" strike="noStrike">
                <a:solidFill>
                  <a:srgbClr val="000000"/>
                </a:solidFill>
                <a:latin typeface="Calibri"/>
              </a:rPr>
              <a:t>Hylotrupes bajulus</a:t>
            </a:r>
            <a:r>
              <a:rPr b="0" lang="pl-PL"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2T20:45:03Z</dcterms:modified>
  <cp:revision>41</cp:revision>
  <dc:subject/>
  <dc:title>Slajd 1</dc:title>
</cp:coreProperties>
</file>