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776BD-4805-4929-88F8-4BCAB501EE93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223CA-4609-4558-B5E2-26E7A1CDFD8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876A6-1BF3-4131-AAA2-7D9309252B8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44E5-148D-4197-A3D7-EEE5E2CC7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DB96-9023-43C0-B136-34B9823EC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1C46-5798-4257-92DD-9BD43B6C3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7672-4779-43A9-9B4F-D3FCA8031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8FBBE-C7DF-48E2-818A-5F9E50727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E4D34-654A-4F4B-913C-0CDD74BAB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235AA-2F65-4CE7-87D9-64B3F2975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57A4C-3C1C-4875-8970-75CDC2E08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84EB0-7956-4766-B4A1-86A1F8F4D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76F4C-2825-42B8-9177-37E54160A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83D03-91EA-4F4C-B41E-E452ACC1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D5BF-4A8F-4482-A8BD-31F984091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FCFB6-FD4F-4C09-8739-7663B1D5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EEFC3-62A3-4B75-9DB2-036FBC70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65015-CA10-48DB-96AB-32A157BE7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7885B-4555-4077-AE72-D9354F04F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90DF2-8E59-472B-9CE8-377AA1422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583E-807D-4604-B824-CDAA5EE9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1743-60EA-4B79-BBF4-71848AC38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BD81-ADF8-41AC-B919-90652D123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6415-5B4E-4F9C-B234-661FC0B8D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EFAC-14C8-4C2E-87A1-0F501D7C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C2BD-2195-4430-B01E-3A5CD43E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C490-017C-47A0-A8E8-789C03D8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94CFA-4F00-4A07-89AD-64F32D0FB065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234B1-8F67-4C08-8A38-C65BDA45F33B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280" y="1773000"/>
            <a:ext cx="7993080" cy="25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Proces starzenia się skóry</a:t>
            </a:r>
            <a:br>
              <a:rPr sz="4900"/>
            </a:br>
            <a:br>
              <a:rPr sz="4900"/>
            </a:b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Prezentacja – poziom I.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Materiał bazowy do dalszych poziomów (II i II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4653000"/>
            <a:ext cx="64008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Elżbieta Ćwio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Fotostarzenie się skó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94920" y="1628280"/>
            <a:ext cx="84978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końcu XIX wieku zauważono patologiczny wpływ promieniowania słonecznego na skórę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grubienie naskór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Uszkodzenie melanocytó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rzerost gruczołów łojowy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grubienie i bezład włókien elastycznych (elastoza), zwyrodnienie włókien kolagenowy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mniejszenie liczby komórek (Langerhans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bjawy fotostarzenia się skór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Łuszczenie się naskór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zorstkość naskórka (rogowaceni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rzebarwienia o zróżnicowanej intensywności(plamy, pieg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rzerost gruczołów łojowy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bwisłość i zmarszcz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Miejscowo: zmniejszenie odporności (immunosupresja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Ludzie różnią się wrażliwością skóry na światło. Fotytypy skóry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g. Fitzpatrick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2" descr="http://admin.depilconcept.pl/dir_upload/site/files/Ania/tabelka_fototypy.JPG"/>
          <p:cNvPicPr/>
          <p:nvPr/>
        </p:nvPicPr>
        <p:blipFill>
          <a:blip r:embed="rId1"/>
          <a:stretch/>
        </p:blipFill>
        <p:spPr>
          <a:xfrm>
            <a:off x="395280" y="2349360"/>
            <a:ext cx="8169120" cy="3527640"/>
          </a:xfrm>
          <a:prstGeom prst="rect">
            <a:avLst/>
          </a:prstGeom>
          <a:ln w="0">
            <a:noFill/>
          </a:ln>
        </p:spPr>
      </p:pic>
      <p:sp>
        <p:nvSpPr>
          <p:cNvPr id="145" name="Prostokąt 3"/>
          <p:cNvSpPr/>
          <p:nvPr/>
        </p:nvSpPr>
        <p:spPr>
          <a:xfrm>
            <a:off x="468360" y="6021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admin.depilconcept.pl/dir_upload/site/files/Ania/tabelka_fototypy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awartość barwnika w skórze.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Rola melanin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ole tekstowe 3"/>
          <p:cNvSpPr/>
          <p:nvPr/>
        </p:nvSpPr>
        <p:spPr>
          <a:xfrm>
            <a:off x="539640" y="1916280"/>
            <a:ext cx="8136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Melaniny to barwniki, występujące u grzybów, roślin i zwierząt. Powstają podczas utleniania związków fenolowych (najczęstszym jest aminokwas tyrozyna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Barwa melanin: od czarnobrązowej po żółtoczerwoną. Zabarwiają skórę, tęczówkę oka, włosy, sierść i pióra, brodawki sutkó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awartość barwnika w skórze.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Rola melanin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ole tekstowe 2"/>
          <p:cNvSpPr/>
          <p:nvPr/>
        </p:nvSpPr>
        <p:spPr>
          <a:xfrm>
            <a:off x="324000" y="2133720"/>
            <a:ext cx="856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Melaniny znajdują się w komórkach melanocyta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trakcie życia osobnika nie zmienia się ilość melanocytów, ale to nie ilość melanocytów, lecz stosunek  ilościowy melanin determinuje zabarwienie skó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związku z tym, wyróżniamy rasy ludzkie: celtycką, kaukaską i negroidaln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Rola melani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ole tekstowe 2"/>
          <p:cNvSpPr/>
          <p:nvPr/>
        </p:nvSpPr>
        <p:spPr>
          <a:xfrm>
            <a:off x="468360" y="1484280"/>
            <a:ext cx="8136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) Ochrona przed promieniowaniem UV (absorpcja i rozpraszanie UV, zamiana energii, którą niesie fala na ciepł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2) Eliminacja wolnych rodników, które powstają podczas metabolizmu tlenowego w komórka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p.</a:t>
            </a:r>
            <a:r>
              <a:rPr b="0" lang="pl-PL" sz="32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H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- niesparowany elektron, 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adający ogromną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eaktywność rodnikowi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hydroksylowem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Elipsa 3"/>
          <p:cNvSpPr/>
          <p:nvPr/>
        </p:nvSpPr>
        <p:spPr>
          <a:xfrm>
            <a:off x="1332000" y="4653000"/>
            <a:ext cx="122040" cy="1220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Elipsa 4"/>
          <p:cNvSpPr/>
          <p:nvPr/>
        </p:nvSpPr>
        <p:spPr>
          <a:xfrm>
            <a:off x="3059280" y="4653000"/>
            <a:ext cx="136440" cy="1364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Kiedy powstają wolne rodniki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ole tekstowe 2"/>
          <p:cNvSpPr/>
          <p:nvPr/>
        </p:nvSpPr>
        <p:spPr>
          <a:xfrm>
            <a:off x="468360" y="1916280"/>
            <a:ext cx="8207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est wiele źródeł pochodzenia wolnych rodników. Tworzą się w strukturach komórkowych (np. mitochondriach), ale ich źródłem pozakomórkowym jest np. promieniowanie ultrafioletowe, promieniowanie jonizując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olne rodniki w starzeniu się komórek skó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ole tekstowe 2"/>
          <p:cNvSpPr/>
          <p:nvPr/>
        </p:nvSpPr>
        <p:spPr>
          <a:xfrm>
            <a:off x="539640" y="2133720"/>
            <a:ext cx="8136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olne rodniki są bardzo reaktywne. Rodnik hydroksylowy i singletowy tlen w reakcjac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 kwasami nukleinowymi, powodują uszkadzanie wiązań fosfodiestrowy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Uszkadzają różne struktury komórkowe: błony komórkowe, utleniają białka enzymatyczne, powodują peroksydację lipidów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ytwarzanie </a:t>
            </a: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melaniny 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jest naturalną fotoprotekcj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ole tekstowe 2"/>
          <p:cNvSpPr/>
          <p:nvPr/>
        </p:nvSpPr>
        <p:spPr>
          <a:xfrm>
            <a:off x="468360" y="2421000"/>
            <a:ext cx="8207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prócz melaniny, do naturalnej  fotoprotekcji należą komórki warstwy rogowej naskórka, które odbijają część promieni świetlny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akże taką rolę (odbijanie światła) ma warstwa lipidowa naskórka,  oraz niektóre składniki pot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13600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arówno czynniki endogenne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jak i egzogenne, uszkadzające DNA, odgrywają rolę w procesie starzenia się skó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ole tekstowe 2"/>
          <p:cNvSpPr/>
          <p:nvPr/>
        </p:nvSpPr>
        <p:spPr>
          <a:xfrm>
            <a:off x="539640" y="3573360"/>
            <a:ext cx="806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owodów na to dostarczają badania nad zespołami chorobowymi, w których występuje przedwczesne starzenie się, np. zespół Hutchinsona-Gilforda, zespół Werner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Czynniki starzenia się skó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Symbol zastępczy zawartości 3" descr="starzenie.jpg"/>
          <p:cNvPicPr/>
          <p:nvPr/>
        </p:nvPicPr>
        <p:blipFill>
          <a:blip r:embed="rId1"/>
          <a:stretch/>
        </p:blipFill>
        <p:spPr>
          <a:xfrm>
            <a:off x="1816200" y="1676520"/>
            <a:ext cx="5675040" cy="3998880"/>
          </a:xfrm>
          <a:prstGeom prst="rect">
            <a:avLst/>
          </a:prstGeom>
          <a:ln w="0">
            <a:noFill/>
          </a:ln>
        </p:spPr>
      </p:pic>
      <p:sp>
        <p:nvSpPr>
          <p:cNvPr id="99" name="Prostokąt 4"/>
          <p:cNvSpPr/>
          <p:nvPr/>
        </p:nvSpPr>
        <p:spPr>
          <a:xfrm>
            <a:off x="324000" y="573264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s://encryptedtbn2.gstatic.com/images?q=tbn:ANd9GcSGqcZ1SUDIq8d52fY5q4qIm8puZlqpiizxPpPn0jkz2yVvR9k4-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8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espół Hutchinsona-Gilforda,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 którym występuje przedwczesne starzenie(także skóry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2340000" y="2492280"/>
            <a:ext cx="4535640" cy="3024360"/>
          </a:xfrm>
          <a:prstGeom prst="rect">
            <a:avLst/>
          </a:prstGeom>
          <a:ln w="0">
            <a:noFill/>
          </a:ln>
        </p:spPr>
      </p:pic>
      <p:sp>
        <p:nvSpPr>
          <p:cNvPr id="164" name="Prostokąt 4"/>
          <p:cNvSpPr/>
          <p:nvPr/>
        </p:nvSpPr>
        <p:spPr>
          <a:xfrm>
            <a:off x="179280" y="5661000"/>
            <a:ext cx="8713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http://www.google.pl/url?sa=t&amp;rct=j&amp;q=&amp;esrc=s&amp;source=web&amp;cd=1&amp;cad=rja&amp;ved=0CC8QFjAA&amp;url=http%3A%2F%2Fcdg.unimuenster.de%2FArtikel%2FSeminararbeit_Pues.pdf&amp;ei=22zYUdvSDMnKtQaz1ID4BQ&amp;usg=AFQjCNEc1HP0i8jJ8nFJ8ISnO60hPs1vw&amp;bvm=bv.48705608,d.Ym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Apoptoza  w starzeniu się skó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ole tekstowe 2"/>
          <p:cNvSpPr/>
          <p:nvPr/>
        </p:nvSpPr>
        <p:spPr>
          <a:xfrm>
            <a:off x="468360" y="1700280"/>
            <a:ext cx="8064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poptoza - (PWN) - śmierć komórki zachodzą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zdrowym organizmie w wyniku genetycznie zaprogramowanych procesó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stnieją doniesienia literaturowe o wpływie wysokiego stężenia wolnych rodników na „nakierowywanie” komórek na drogę apoptozy, co w skórze prowadzi do szybszego starzenia się skó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7552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Jakie substancje przeciwdziałają starzeniu się skóry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ole tekstowe 2"/>
          <p:cNvSpPr/>
          <p:nvPr/>
        </p:nvSpPr>
        <p:spPr>
          <a:xfrm>
            <a:off x="468360" y="2133720"/>
            <a:ext cx="8280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Fotoprotekcja UV, czyli zmiejszanie  nasłonecznienia, poprzez stosowanie filtrów SPF (Sun Protection Factor), stosowane przeciw UV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Metoda zapobiegania odległej pigmentacji (PPD – Persistant Pigment arkening), jest stosowana wobec  promieniowania UV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eparaty przeciwsłonecz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ole tekstowe 2"/>
          <p:cNvSpPr/>
          <p:nvPr/>
        </p:nvSpPr>
        <p:spPr>
          <a:xfrm>
            <a:off x="395280" y="1349280"/>
            <a:ext cx="83534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ierwsze preparaty przeciwsłoneczne (ekrany słoneczne), były stosowane w 1928 roku. Preparat wówczas zastosowany zawierał: salicylan benzylu i cynamonian benzyl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dczas walk w czasie II wojny światowej, w działaniach na obszarach, szczególnie narażonych na promieniowanie ultrafioletowe, żołnierze zaopatrywani byli w protektory z PABA (kwasem p-aminobenzoesowym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Filtry chemiczne (organiczne)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i fizyczne (mineral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ole tekstowe 2"/>
          <p:cNvSpPr/>
          <p:nvPr/>
        </p:nvSpPr>
        <p:spPr>
          <a:xfrm>
            <a:off x="395280" y="1989000"/>
            <a:ext cx="8424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76092"/>
                </a:solidFill>
                <a:latin typeface="Calibri"/>
              </a:rPr>
              <a:t>Filtry chemiczne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- wnikają w naskórek. Związki chemiczne w nich stosowane, mają taką budowę, że pochłaniając energię fali (UVB), izomeryzując, zamieniają jej energię  w ciepł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76092"/>
                </a:solidFill>
                <a:latin typeface="Calibri"/>
              </a:rPr>
              <a:t>Filtry fizyczne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-  nie wnikają w głąb skóry, tworząc na jej powierzchni warstwę odbijającą UVA i UV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ą jednak ”uciążliwe” w stosowaniu (poświata na skórze, ślady na ubranich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ole tekstowe 2"/>
          <p:cNvSpPr/>
          <p:nvPr/>
        </p:nvSpPr>
        <p:spPr>
          <a:xfrm>
            <a:off x="468360" y="907920"/>
            <a:ext cx="82072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ależy również podkreślić, że według doniesień literaturowych, metabolity PABA, związku stosowanego w filtrach chemicznych, mogą mieć znaczenie kancerogenne. Nie ma filtra, który w 100% zatrzymałby każdy rodzaj promieniowania UV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ieumiejętne stosowanie filtrów „usypia” czujność, mianowicie brak oparzeń wywołanych przez UVB, sprawia, że </a:t>
            </a:r>
            <a:r>
              <a:rPr b="0" lang="pl-PL" sz="3200" spc="-1" strike="noStrike">
                <a:solidFill>
                  <a:srgbClr val="376092"/>
                </a:solidFill>
                <a:latin typeface="Calibri"/>
              </a:rPr>
              <a:t>czas ekspozycji na UVA, o wiele bardziej groźną falę, może być zwiększony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rójkąt równoramienny 3"/>
          <p:cNvSpPr/>
          <p:nvPr/>
        </p:nvSpPr>
        <p:spPr>
          <a:xfrm>
            <a:off x="755640" y="692280"/>
            <a:ext cx="7201080" cy="54734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Nie istnieje bezpieczne  opalani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rzyjmowane leki + słońce = fotouczulen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2" descr="https://encrypted-tbn2.gstatic.com/images?q=tbn:ANd9GcS4-ZslCMqvjl4F1FLpy7f8FwcybcoMOy61roYVDrIPyo12c0Cz"/>
          <p:cNvPicPr/>
          <p:nvPr/>
        </p:nvPicPr>
        <p:blipFill>
          <a:blip r:embed="rId1"/>
          <a:srcRect l="31094" t="23543" r="31094" b="27913"/>
          <a:stretch/>
        </p:blipFill>
        <p:spPr>
          <a:xfrm>
            <a:off x="3348000" y="333360"/>
            <a:ext cx="19447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Jakie substancje przeciwdziałają starzeniu się skór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ole tekstowe 2"/>
          <p:cNvSpPr/>
          <p:nvPr/>
        </p:nvSpPr>
        <p:spPr>
          <a:xfrm>
            <a:off x="468360" y="1916280"/>
            <a:ext cx="8351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aroteny, czyli prowitaminy witaminy A, Retinoidy, czyli pochodne witaminy A (naturalne albo syntetyczne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ą one od dawna dodatkami do kosmetyków (alfa-, beta-, gamma-karoten), ksantofile (tlenowe pochodne karotenoidów). W ludzkim organizmie i innych zwierząt, są enzymatycznie przekształcane w witaminę 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Beta-karoten jest antyoksydant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itamina A w przeciwdziałaniu starzeniu się skó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ole tekstowe 2"/>
          <p:cNvSpPr/>
          <p:nvPr/>
        </p:nvSpPr>
        <p:spPr>
          <a:xfrm>
            <a:off x="468360" y="2060640"/>
            <a:ext cx="842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łaściwe i systematyczne stosowanie witaminy A w kosmetykach (kremy), działa stymulująco na komórki skóry właściwej, poprawia elastyczność, odżyw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ednak, jeżeli dodatkowo, doustnie będzie dostarczana witamina A, w zbyt dużych dawkach, to istnieje możliwość hiperwitaminozy – co doprowadzić może do patologicznych zmian skórnych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itamina E („mieszanina” tokoferoli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ole tekstowe 2"/>
          <p:cNvSpPr/>
          <p:nvPr/>
        </p:nvSpPr>
        <p:spPr>
          <a:xfrm>
            <a:off x="395280" y="2060640"/>
            <a:ext cx="8353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itamina E jest antyoksydantem, czyli cząsteczką „przyjmującą na siebie” atak wolnych rodników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hroni komórki przed utlenianiem, niweluje plamy starcze, w odpowiednich dawkach jest współprotektorem  UV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tarzenie się to proces fizjologiczny, nieodwracalny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Symbol zastępczy zawartości 5" descr=""/>
          <p:cNvPicPr/>
          <p:nvPr/>
        </p:nvPicPr>
        <p:blipFill>
          <a:blip r:embed="rId1"/>
          <a:stretch/>
        </p:blipFill>
        <p:spPr>
          <a:xfrm>
            <a:off x="822240" y="1901880"/>
            <a:ext cx="787104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Symbol zastępczy zawartości 4" descr=""/>
          <p:cNvPicPr/>
          <p:nvPr/>
        </p:nvPicPr>
        <p:blipFill>
          <a:blip r:embed="rId1"/>
          <a:stretch/>
        </p:blipFill>
        <p:spPr>
          <a:xfrm>
            <a:off x="682560" y="817560"/>
            <a:ext cx="8089920" cy="5315040"/>
          </a:xfrm>
          <a:prstGeom prst="rect">
            <a:avLst/>
          </a:prstGeom>
          <a:ln w="0">
            <a:noFill/>
          </a:ln>
        </p:spPr>
      </p:pic>
      <p:sp>
        <p:nvSpPr>
          <p:cNvPr id="103" name="pole tekstowe 2"/>
          <p:cNvSpPr/>
          <p:nvPr/>
        </p:nvSpPr>
        <p:spPr>
          <a:xfrm>
            <a:off x="1117800" y="5732640"/>
            <a:ext cx="49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alibri"/>
              </a:rPr>
              <a:t>(*) –zostanie omówiona w prezentacji I (bazowej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Symbol zastępczy zawartości 3" descr=""/>
          <p:cNvPicPr/>
          <p:nvPr/>
        </p:nvPicPr>
        <p:blipFill>
          <a:blip r:embed="rId1"/>
          <a:stretch/>
        </p:blipFill>
        <p:spPr>
          <a:xfrm>
            <a:off x="480960" y="689040"/>
            <a:ext cx="822492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kóra to największy organ ludzkiego ciał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Skóra- Przekrój"/>
          <p:cNvPicPr/>
          <p:nvPr/>
        </p:nvPicPr>
        <p:blipFill>
          <a:blip r:embed="rId1"/>
          <a:srcRect l="0" t="0" r="22094" b="0"/>
          <a:stretch/>
        </p:blipFill>
        <p:spPr>
          <a:xfrm>
            <a:off x="826920" y="1700280"/>
            <a:ext cx="7058160" cy="4647960"/>
          </a:xfrm>
          <a:prstGeom prst="rect">
            <a:avLst/>
          </a:prstGeom>
          <a:ln w="0">
            <a:noFill/>
          </a:ln>
        </p:spPr>
      </p:pic>
      <p:sp>
        <p:nvSpPr>
          <p:cNvPr id="107" name="Prostokąt 5"/>
          <p:cNvSpPr/>
          <p:nvPr/>
        </p:nvSpPr>
        <p:spPr>
          <a:xfrm>
            <a:off x="2264400" y="6021360"/>
            <a:ext cx="44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kosmetyczny.blox.pl/resource/skora.gi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Prostokąt 15"/>
          <p:cNvGrpSpPr/>
          <p:nvPr/>
        </p:nvGrpSpPr>
        <p:grpSpPr>
          <a:xfrm>
            <a:off x="317520" y="1620720"/>
            <a:ext cx="8582040" cy="1238400"/>
            <a:chOff x="317520" y="1620720"/>
            <a:chExt cx="8582040" cy="1238400"/>
          </a:xfrm>
        </p:grpSpPr>
        <p:pic>
          <p:nvPicPr>
            <p:cNvPr id="109" name="Prostokąt 15" descr=""/>
            <p:cNvPicPr/>
            <p:nvPr/>
          </p:nvPicPr>
          <p:blipFill>
            <a:blip r:embed="rId1"/>
            <a:stretch/>
          </p:blipFill>
          <p:spPr>
            <a:xfrm>
              <a:off x="317520" y="1620720"/>
              <a:ext cx="8582040" cy="123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324000" y="1628640"/>
              <a:ext cx="856908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Do jakich warstw skóry docierają promienie UV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4" descr="Skóra- Przekrój"/>
          <p:cNvPicPr/>
          <p:nvPr/>
        </p:nvPicPr>
        <p:blipFill>
          <a:blip r:embed="rId2"/>
          <a:srcRect l="0" t="0" r="22094" b="0"/>
          <a:stretch/>
        </p:blipFill>
        <p:spPr>
          <a:xfrm>
            <a:off x="250920" y="2997360"/>
            <a:ext cx="6121440" cy="2952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971280" y="6092640"/>
            <a:ext cx="183960" cy="36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trzałka w dół 5"/>
          <p:cNvSpPr/>
          <p:nvPr/>
        </p:nvSpPr>
        <p:spPr>
          <a:xfrm>
            <a:off x="3132000" y="1557360"/>
            <a:ext cx="484200" cy="165564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ole tekstowe 6"/>
          <p:cNvSpPr/>
          <p:nvPr/>
        </p:nvSpPr>
        <p:spPr>
          <a:xfrm>
            <a:off x="3569760" y="1916280"/>
            <a:ext cx="80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V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trzałka w dół 7"/>
          <p:cNvSpPr/>
          <p:nvPr/>
        </p:nvSpPr>
        <p:spPr>
          <a:xfrm>
            <a:off x="3276720" y="3284640"/>
            <a:ext cx="142920" cy="360360"/>
          </a:xfrm>
          <a:prstGeom prst="downArrow">
            <a:avLst>
              <a:gd name="adj1" fmla="val 50000"/>
              <a:gd name="adj2" fmla="val 50428"/>
            </a:avLst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trzałka w dół 8"/>
          <p:cNvSpPr/>
          <p:nvPr/>
        </p:nvSpPr>
        <p:spPr>
          <a:xfrm>
            <a:off x="5580000" y="1557360"/>
            <a:ext cx="216000" cy="316692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caad42"/>
          </a:solidFill>
          <a:ln w="25560">
            <a:solidFill>
              <a:srgbClr val="caad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ole tekstowe 9"/>
          <p:cNvSpPr/>
          <p:nvPr/>
        </p:nvSpPr>
        <p:spPr>
          <a:xfrm>
            <a:off x="5865840" y="206064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9" name="Łącznik łamany 12"/>
          <p:cNvCxnSpPr/>
          <p:nvPr/>
        </p:nvCxnSpPr>
        <p:spPr>
          <a:xfrm flipV="1" rot="16200000">
            <a:off x="2302920" y="2601360"/>
            <a:ext cx="937440" cy="575640"/>
          </a:xfrm>
          <a:prstGeom prst="bentConnector3">
            <a:avLst>
              <a:gd name="adj1" fmla="val 49980"/>
            </a:avLst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sp>
        <p:nvSpPr>
          <p:cNvPr id="120" name="Strzałka w dół 13"/>
          <p:cNvSpPr/>
          <p:nvPr/>
        </p:nvSpPr>
        <p:spPr>
          <a:xfrm>
            <a:off x="7308720" y="1557360"/>
            <a:ext cx="792360" cy="1079640"/>
          </a:xfrm>
          <a:prstGeom prst="downArrow">
            <a:avLst>
              <a:gd name="adj1" fmla="val 50000"/>
              <a:gd name="adj2" fmla="val 49961"/>
            </a:avLst>
          </a:prstGeom>
          <a:solidFill>
            <a:srgbClr val="e6681a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ole tekstowe 14"/>
          <p:cNvSpPr/>
          <p:nvPr/>
        </p:nvSpPr>
        <p:spPr>
          <a:xfrm>
            <a:off x="8105040" y="1916280"/>
            <a:ext cx="79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V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ole tekstowe 16"/>
          <p:cNvSpPr/>
          <p:nvPr/>
        </p:nvSpPr>
        <p:spPr>
          <a:xfrm>
            <a:off x="396720" y="1557360"/>
            <a:ext cx="9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z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Prostokąt 15"/>
          <p:cNvGrpSpPr/>
          <p:nvPr/>
        </p:nvGrpSpPr>
        <p:grpSpPr>
          <a:xfrm>
            <a:off x="317520" y="2127240"/>
            <a:ext cx="8582040" cy="1238400"/>
            <a:chOff x="317520" y="2127240"/>
            <a:chExt cx="8582040" cy="1238400"/>
          </a:xfrm>
        </p:grpSpPr>
        <p:pic>
          <p:nvPicPr>
            <p:cNvPr id="124" name="Prostokąt 15" descr=""/>
            <p:cNvPicPr/>
            <p:nvPr/>
          </p:nvPicPr>
          <p:blipFill>
            <a:blip r:embed="rId1"/>
            <a:stretch/>
          </p:blipFill>
          <p:spPr>
            <a:xfrm>
              <a:off x="317520" y="2127240"/>
              <a:ext cx="8582040" cy="123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324000" y="2133720"/>
              <a:ext cx="856908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Jak działają promienie UV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23640" y="4076640"/>
            <a:ext cx="2192040" cy="13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woduje  oparzenia słonecz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trzałka w dół 5"/>
          <p:cNvSpPr/>
          <p:nvPr/>
        </p:nvSpPr>
        <p:spPr>
          <a:xfrm>
            <a:off x="900000" y="1700280"/>
            <a:ext cx="339840" cy="2089080"/>
          </a:xfrm>
          <a:prstGeom prst="downArrow">
            <a:avLst>
              <a:gd name="adj1" fmla="val 50000"/>
              <a:gd name="adj2" fmla="val 50146"/>
            </a:avLst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ole tekstowe 6"/>
          <p:cNvSpPr/>
          <p:nvPr/>
        </p:nvSpPr>
        <p:spPr>
          <a:xfrm>
            <a:off x="1193400" y="2852640"/>
            <a:ext cx="80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V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trzałka w dół 8"/>
          <p:cNvSpPr/>
          <p:nvPr/>
        </p:nvSpPr>
        <p:spPr>
          <a:xfrm>
            <a:off x="3564000" y="1700280"/>
            <a:ext cx="216000" cy="2520720"/>
          </a:xfrm>
          <a:prstGeom prst="downArrow">
            <a:avLst>
              <a:gd name="adj1" fmla="val 50000"/>
              <a:gd name="adj2" fmla="val 50030"/>
            </a:avLst>
          </a:prstGeom>
          <a:solidFill>
            <a:srgbClr val="caad42"/>
          </a:solidFill>
          <a:ln w="25560">
            <a:solidFill>
              <a:srgbClr val="caad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ole tekstowe 9"/>
          <p:cNvSpPr/>
          <p:nvPr/>
        </p:nvSpPr>
        <p:spPr>
          <a:xfrm>
            <a:off x="3778200" y="278136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trzałka w dół 13"/>
          <p:cNvSpPr/>
          <p:nvPr/>
        </p:nvSpPr>
        <p:spPr>
          <a:xfrm>
            <a:off x="6516720" y="1628640"/>
            <a:ext cx="792000" cy="165600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e6681a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ole tekstowe 14"/>
          <p:cNvSpPr/>
          <p:nvPr/>
        </p:nvSpPr>
        <p:spPr>
          <a:xfrm>
            <a:off x="7528680" y="2708280"/>
            <a:ext cx="79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V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ole tekstowe 16"/>
          <p:cNvSpPr/>
          <p:nvPr/>
        </p:nvSpPr>
        <p:spPr>
          <a:xfrm>
            <a:off x="1836000" y="2133720"/>
            <a:ext cx="94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70c0"/>
                </a:solidFill>
                <a:latin typeface="Calibri"/>
              </a:rPr>
              <a:t>Oz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ole tekstowe 17"/>
          <p:cNvSpPr/>
          <p:nvPr/>
        </p:nvSpPr>
        <p:spPr>
          <a:xfrm>
            <a:off x="2556000" y="4221000"/>
            <a:ext cx="280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ziała na głębsze warstwy skóry właściwej -fotostarzen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ole tekstowe 18"/>
          <p:cNvSpPr/>
          <p:nvPr/>
        </p:nvSpPr>
        <p:spPr>
          <a:xfrm>
            <a:off x="5651640" y="3357720"/>
            <a:ext cx="374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awie  w całości pochłaniane przez warstwę ozon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Ma właściwości bakteriobójcze. Może uszkodzić rogówkę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308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Nadmierna ekspozycja na promieniowanie ultrafioletowe jest w 80 % odpowiedzialna za starzenie się skóry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4000" y="3357720"/>
            <a:ext cx="836280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worzenie wolnych rodnikó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eakcje fotoalergicz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Uszkadzanie 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trofia naskór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miany nowotworow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Krzysiek Stawujak</cp:lastModifiedBy>
  <dcterms:modified xsi:type="dcterms:W3CDTF">2013-08-21T19:01:38Z</dcterms:modified>
  <cp:revision>32</cp:revision>
  <dc:subject/>
  <dc:title>Slajd 1</dc:title>
</cp:coreProperties>
</file>