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6B87-7625-46CF-8797-3C5CF0C836C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391A-E49A-4C24-933D-BB32C38ACD2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662B-0232-4429-B92B-39AE087CC1E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9CED-9D36-4971-A7CC-B7EF327B39C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9F8-C5EA-42FE-BC75-40E7BB7A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BFA-FD47-4510-850D-0BA99B83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AEB-FDA9-481C-A346-0F70E124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5DC7-8E13-4B63-8251-ED47763D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42CF-5C45-404F-9CA3-68A52230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468B-B194-4B91-99CE-5DD0CC2D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C8C8-7C39-4793-9A84-F71C6B7C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B062-90EF-4D08-B113-87E46F5D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E7DE-FD41-4F95-9240-1C84C5B7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55CB-EF3D-4FB4-B346-E8F9D25F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2E46-89D2-462E-82E3-0BCAD719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2E3-9908-4350-8F4D-E12195F9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8C35-D43A-4E1D-B283-FD74496A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1B0E-D77E-4B7C-9DB7-435E7F03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FB88-792C-49DA-A59D-047D6D6A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9BD6-416D-4088-B731-3411C23C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AE07-9B3F-4934-9D28-5DC9DA07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D01-9E79-43F7-A0A6-CB3511EA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463-AED8-42BF-9379-51F0FADC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F90F-AE44-47DE-AB15-6315D729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8DA-1B64-44DB-B9E0-7C8254F5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1AE-9533-43B4-9A85-B10F72DC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EA7-BC20-444C-AA4A-9FE6AE1A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D5C-D821-4923-A963-503B520C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8D38-B6E6-42F2-9B5A-5EEE54592DE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BAD0-C28E-44FB-8190-1B9F67B416B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roces starzenia się skóry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– poziom II.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teriał bazowy do dalszego poziomu, II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4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Przemieszczanie się melanosomów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z melaninami (barwnikami)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w naskórku, w czasie ekspozycji na U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http://www.lizanol.it/img/3.png"/>
          <p:cNvPicPr/>
          <p:nvPr/>
        </p:nvPicPr>
        <p:blipFill>
          <a:blip r:embed="rId1"/>
          <a:stretch/>
        </p:blipFill>
        <p:spPr>
          <a:xfrm>
            <a:off x="2340000" y="2205000"/>
            <a:ext cx="4235400" cy="3745080"/>
          </a:xfrm>
          <a:prstGeom prst="rect">
            <a:avLst/>
          </a:prstGeom>
          <a:ln w="0">
            <a:noFill/>
          </a:ln>
        </p:spPr>
      </p:pic>
      <p:sp>
        <p:nvSpPr>
          <p:cNvPr id="147" name="Prostokąt 3"/>
          <p:cNvSpPr/>
          <p:nvPr/>
        </p:nvSpPr>
        <p:spPr>
          <a:xfrm>
            <a:off x="971640" y="6093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lizanol.it/img/3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burzona synteza melan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2"/>
          <p:cNvSpPr/>
          <p:nvPr/>
        </p:nvSpPr>
        <p:spPr>
          <a:xfrm>
            <a:off x="539640" y="1773360"/>
            <a:ext cx="813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iosynteza melanin (melanogeneza), jest procesem enzymatycznym, który może zostać zaburzony przez wiele czynnikó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enetycznych, hormonalnych (hormony przysadki, tarczycy, estrogeny, wahania hormonalne w czasie ciąży), hiperwitaminoza witaminy A, czynników środowisk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ynteza melanin, konsekwencje zaburzeń syntezy (dla skór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rostokąt 2"/>
          <p:cNvSpPr/>
          <p:nvPr/>
        </p:nvSpPr>
        <p:spPr>
          <a:xfrm>
            <a:off x="2987640" y="1773360"/>
            <a:ext cx="2952720" cy="84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Tyrozyna (aminokw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Prostokąt 3"/>
          <p:cNvGrpSpPr/>
          <p:nvPr/>
        </p:nvGrpSpPr>
        <p:grpSpPr>
          <a:xfrm>
            <a:off x="2968560" y="3340080"/>
            <a:ext cx="2919600" cy="592200"/>
            <a:chOff x="2968560" y="3340080"/>
            <a:chExt cx="2919600" cy="592200"/>
          </a:xfrm>
        </p:grpSpPr>
        <p:pic>
          <p:nvPicPr>
            <p:cNvPr id="153" name="Prostokąt 3" descr=""/>
            <p:cNvPicPr/>
            <p:nvPr/>
          </p:nvPicPr>
          <p:blipFill>
            <a:blip r:embed="rId1"/>
            <a:stretch/>
          </p:blipFill>
          <p:spPr>
            <a:xfrm>
              <a:off x="2968560" y="3340080"/>
              <a:ext cx="29196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987640" y="3357720"/>
              <a:ext cx="287964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DOP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Prostokąt 4"/>
          <p:cNvGrpSpPr/>
          <p:nvPr/>
        </p:nvGrpSpPr>
        <p:grpSpPr>
          <a:xfrm>
            <a:off x="2968560" y="4419720"/>
            <a:ext cx="2987640" cy="517320"/>
            <a:chOff x="2968560" y="4419720"/>
            <a:chExt cx="2987640" cy="517320"/>
          </a:xfrm>
        </p:grpSpPr>
        <p:pic>
          <p:nvPicPr>
            <p:cNvPr id="156" name="Prostokąt 4" descr=""/>
            <p:cNvPicPr/>
            <p:nvPr/>
          </p:nvPicPr>
          <p:blipFill>
            <a:blip r:embed="rId2"/>
            <a:stretch/>
          </p:blipFill>
          <p:spPr>
            <a:xfrm>
              <a:off x="2968560" y="4419720"/>
              <a:ext cx="29876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987640" y="4437000"/>
              <a:ext cx="29527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DOPACHIN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Prostokąt 5"/>
          <p:cNvSpPr/>
          <p:nvPr/>
        </p:nvSpPr>
        <p:spPr>
          <a:xfrm>
            <a:off x="539640" y="5373720"/>
            <a:ext cx="2880000" cy="914400"/>
          </a:xfrm>
          <a:prstGeom prst="rect">
            <a:avLst/>
          </a:prstGeom>
          <a:solidFill>
            <a:srgbClr val="dd5966"/>
          </a:solidFill>
          <a:ln w="25560">
            <a:solidFill>
              <a:srgbClr val="4e39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FEOMELANI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rostokąt 6"/>
          <p:cNvSpPr/>
          <p:nvPr/>
        </p:nvSpPr>
        <p:spPr>
          <a:xfrm>
            <a:off x="4932360" y="5373720"/>
            <a:ext cx="2879640" cy="914400"/>
          </a:xfrm>
          <a:prstGeom prst="rect">
            <a:avLst/>
          </a:prstGeom>
          <a:solidFill>
            <a:srgbClr val="4a452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EUMELANI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trzałka w dół 9"/>
          <p:cNvSpPr/>
          <p:nvPr/>
        </p:nvSpPr>
        <p:spPr>
          <a:xfrm>
            <a:off x="4356000" y="2637000"/>
            <a:ext cx="287280" cy="64764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trzałka w dół 11"/>
          <p:cNvSpPr/>
          <p:nvPr/>
        </p:nvSpPr>
        <p:spPr>
          <a:xfrm>
            <a:off x="4356000" y="3789360"/>
            <a:ext cx="287280" cy="50328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trzałka w dół 12"/>
          <p:cNvSpPr/>
          <p:nvPr/>
        </p:nvSpPr>
        <p:spPr>
          <a:xfrm>
            <a:off x="5076720" y="4941720"/>
            <a:ext cx="358920" cy="7192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trzałka w dół 13"/>
          <p:cNvSpPr/>
          <p:nvPr/>
        </p:nvSpPr>
        <p:spPr>
          <a:xfrm>
            <a:off x="2987640" y="4941720"/>
            <a:ext cx="360360" cy="71928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ole tekstowe 15"/>
          <p:cNvSpPr/>
          <p:nvPr/>
        </p:nvSpPr>
        <p:spPr>
          <a:xfrm>
            <a:off x="4871160" y="2852640"/>
            <a:ext cx="32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Calibri"/>
              </a:rPr>
              <a:t>ENZYM TYROZYNA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21844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rak aktywności enzymu tyrozynazy to brak melaniny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skórz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Obraz 5" descr="albinizm.jpg"/>
          <p:cNvPicPr/>
          <p:nvPr/>
        </p:nvPicPr>
        <p:blipFill>
          <a:blip r:embed="rId1"/>
          <a:stretch/>
        </p:blipFill>
        <p:spPr>
          <a:xfrm>
            <a:off x="468360" y="2421000"/>
            <a:ext cx="3166920" cy="3601800"/>
          </a:xfrm>
          <a:prstGeom prst="rect">
            <a:avLst/>
          </a:prstGeom>
          <a:ln w="0">
            <a:noFill/>
          </a:ln>
        </p:spPr>
      </p:pic>
      <p:sp>
        <p:nvSpPr>
          <p:cNvPr id="170" name="pole tekstowe 6"/>
          <p:cNvSpPr/>
          <p:nvPr/>
        </p:nvSpPr>
        <p:spPr>
          <a:xfrm>
            <a:off x="3780000" y="2276640"/>
            <a:ext cx="504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bec braku fotoprotekcji skóra narażona jest na oparzenia, ale też na przyspieszone zmiany starc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sobnik albinotyczny – brak aktywności tyrozynazy, jest to efekt muta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nne nieprawidłowości, związan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 barwnikiem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ole tekstowe 2"/>
          <p:cNvSpPr/>
          <p:nvPr/>
        </p:nvSpPr>
        <p:spPr>
          <a:xfrm>
            <a:off x="468360" y="1916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barwienia, występowanie niejednorodnego  zabarwienia skóry wynikają z kolei z nadmiernej ilości melanocytów w naskórku albo z nadprodukcji melan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celu usunięcia przebarwienia, należy najpierw określić, jak umiejscowiony jest barwnik (stąd przebarwienia: naskórkowe, skórno – naskórkowe i skórne). Pozwala na to lampa Wood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Lampa WOODA w diagnostyce przebarwie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http://www.blaskmetamorfozy.pl/oferta_lampa_wooda.jpg"/>
          <p:cNvPicPr/>
          <p:nvPr/>
        </p:nvPicPr>
        <p:blipFill>
          <a:blip r:embed="rId1"/>
          <a:stretch/>
        </p:blipFill>
        <p:spPr>
          <a:xfrm>
            <a:off x="324000" y="1916280"/>
            <a:ext cx="3638520" cy="2914560"/>
          </a:xfrm>
          <a:prstGeom prst="rect">
            <a:avLst/>
          </a:prstGeom>
          <a:ln w="0">
            <a:noFill/>
          </a:ln>
        </p:spPr>
      </p:pic>
      <p:sp>
        <p:nvSpPr>
          <p:cNvPr id="175" name="Prostokąt 3"/>
          <p:cNvSpPr/>
          <p:nvPr/>
        </p:nvSpPr>
        <p:spPr>
          <a:xfrm>
            <a:off x="324000" y="537516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blaskmetamorfozy.pl/oferta_lampa_wooda.jp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4" descr="https://encrypted-tbn1.gstatic.com/images?q=tbn:ANd9GcRBw8MjkcJB9LOeDuMpiOMRh2LDWiVIK8tvJkCZHBCXuz7eMFiK"/>
          <p:cNvPicPr/>
          <p:nvPr/>
        </p:nvPicPr>
        <p:blipFill>
          <a:blip r:embed="rId2"/>
          <a:stretch/>
        </p:blipFill>
        <p:spPr>
          <a:xfrm>
            <a:off x="4356000" y="1989000"/>
            <a:ext cx="43261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8972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la prawidłowej depigmentacji bardzo ważne jest rozpoznanie pochodzenia przebarwie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ole tekstowe 2"/>
          <p:cNvSpPr/>
          <p:nvPr/>
        </p:nvSpPr>
        <p:spPr>
          <a:xfrm>
            <a:off x="539640" y="292428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już wspomniano, pochodzenie przebarwień może mieć złożone i zróżnicowane podłoże, np. endokrynne. Istotne jest zatem zniwelowanie źródła, które w objawach klinicznych daje przebarwienia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 jest w przypadku wielu schorzeń, np. ostu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studa (melasm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ole tekstowe 2"/>
          <p:cNvSpPr/>
          <p:nvPr/>
        </p:nvSpPr>
        <p:spPr>
          <a:xfrm>
            <a:off x="395280" y="1349280"/>
            <a:ext cx="8137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stępuje w postaci ceglastobrązowych plam, najczęściej na twarzy, u kobiet w ciąży, albo u osób, stosujących środki antykoncepcyjne. Może wystąpić w zaburzeniu miesiączki, menopauzie, towarzyszyć też może chorobom wątrob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oże też być efektem zaburzeń endokrynnych, a także mogą ją wywoływać kosmety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yzyko ostudy dodatkowo zwiększa ekspozycja na światło słone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studa – przebarwienia trudne do odbarwie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https://encrypted-tbn3.gstatic.com/images?q=tbn:ANd9GcSewgEPTy-FK9qTaAdhbRnDSb7Ux-H0qukuyYkTWmY0uBykUL4alhHZGof2"/>
          <p:cNvPicPr/>
          <p:nvPr/>
        </p:nvPicPr>
        <p:blipFill>
          <a:blip r:embed="rId1"/>
          <a:stretch/>
        </p:blipFill>
        <p:spPr>
          <a:xfrm>
            <a:off x="2124000" y="170028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183" name="Prostokąt 3"/>
          <p:cNvSpPr/>
          <p:nvPr/>
        </p:nvSpPr>
        <p:spPr>
          <a:xfrm>
            <a:off x="324000" y="5732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img833.imageshack.us/img833/9684/przebarwienia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mniejszanie przebarwie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ole tekstowe 2"/>
          <p:cNvSpPr/>
          <p:nvPr/>
        </p:nvSpPr>
        <p:spPr>
          <a:xfrm>
            <a:off x="468360" y="141300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dania potwierdzają działanie retinoidów w niwelowaniu przebarwień skóry ( witamina A). Zmniejszają one aktywność tyrozynazy, zmniejszając ilość melaniny, pobudzają syntezę kolagen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eparaty z witaminą C, (L-askorbylo-2-fosforan magnezu), związek trwały, przenika przez naskórek, zapobiega plamom przez hamowanie syntezy melaniny. Jest antyoksydantem i zapobiega starzeniu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ole tekstowe 1"/>
          <p:cNvSpPr/>
          <p:nvPr/>
        </p:nvSpPr>
        <p:spPr>
          <a:xfrm>
            <a:off x="539640" y="404640"/>
            <a:ext cx="820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W materiale omówione zostan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udowa naskórka, skóry właściwej (melanocyty, melanosomy, keratynocyty), elementy starzejące się w naskór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mórki macierzyste w regeneracji naskór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socze bogatopłytkowe (PRP - Platelet-Rich Plasma) i autologiczne czynniki wzrostu z płytek krw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iosynteza melaniny i rodzaje melani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lbinizm a starzenie się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ubstancje i zabiegi niwelujące przebarwienia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uwanie przebarwień - zabieg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ole tekstowe 2"/>
          <p:cNvSpPr/>
          <p:nvPr/>
        </p:nvSpPr>
        <p:spPr>
          <a:xfrm>
            <a:off x="395280" y="148428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eeling -  (PWN) /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wym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piling/</a:t>
            </a:r>
            <a:r>
              <a:rPr b="0" lang="pl-PL" sz="3200" spc="-1" strike="noStrike">
                <a:solidFill>
                  <a:srgbClr val="953735"/>
                </a:solidFill>
                <a:latin typeface="Calibri"/>
              </a:rPr>
              <a:t>, piling 1.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ieg kosmetyczny wykonywany w celu usunięcia zrogowaciałego naskór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53735"/>
                </a:solidFill>
                <a:latin typeface="Calibri"/>
              </a:rPr>
              <a:t>2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substancja używana do takiego zabieg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eelingi chemiczne stosowane są także w usuwaniu przebarwień skóry, hamując tyrozynazę, zmniejszają ilość barwnika i jednocześnie pobudzając czynniki wzrostowe, sprawiają, że przybywa żywych warstw naskórk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eelingi chemiczne (medycz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ole tekstowe 4"/>
          <p:cNvSpPr/>
          <p:nvPr/>
        </p:nvSpPr>
        <p:spPr>
          <a:xfrm>
            <a:off x="611280" y="1844640"/>
            <a:ext cx="813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Peelingi łagod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powierzchowne, złuszczanie do warstwy kloczystej naskórka, odnowa około 5-10 dn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tosowane są jako substancje złuszczające hydroksykwasy:  np.  kw. mlekowy, glikolowy, cytrynow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 powinno być widoczne złuszcz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933c"/>
                </a:solidFill>
                <a:latin typeface="Calibri"/>
              </a:rPr>
              <a:t>Peelingi głębo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ole tekstowe 2"/>
          <p:cNvSpPr/>
          <p:nvPr/>
        </p:nvSpPr>
        <p:spPr>
          <a:xfrm>
            <a:off x="395280" y="1773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eelingi głębokie „sięgają” do warstwy siateczkowej skóry właściwej. Odnowa warstw po ich stosowaniu trwa około 15 dn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DOCZNE jest ich stosowanie (zaczerwienienia a także strupy), efekty uboczne: rumień, obrzęki, ból, oraz tak zwane linie demarkacyjne, czyli wyraźne ślady (granice) skóry poddanej ich stosowani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SKAZANIA: piegi, plamy, przebarwien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mórki nask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www.biedronkowo.info/web_images/skora.jpg"/>
          <p:cNvPicPr/>
          <p:nvPr/>
        </p:nvPicPr>
        <p:blipFill>
          <a:blip r:embed="rId1"/>
          <a:stretch/>
        </p:blipFill>
        <p:spPr>
          <a:xfrm>
            <a:off x="250920" y="1471680"/>
            <a:ext cx="8362800" cy="4333680"/>
          </a:xfrm>
          <a:prstGeom prst="rect">
            <a:avLst/>
          </a:prstGeom>
          <a:ln w="0">
            <a:noFill/>
          </a:ln>
        </p:spPr>
      </p:pic>
      <p:sp>
        <p:nvSpPr>
          <p:cNvPr id="101" name="Prostokąt 3"/>
          <p:cNvSpPr/>
          <p:nvPr/>
        </p:nvSpPr>
        <p:spPr>
          <a:xfrm>
            <a:off x="755640" y="5732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biedronkowo.info/web_images/skora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skórek jest tkanką, która regeneruje się przez całe życie osobn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2"/>
          <p:cNvSpPr/>
          <p:nvPr/>
        </p:nvSpPr>
        <p:spPr>
          <a:xfrm>
            <a:off x="324000" y="2492280"/>
            <a:ext cx="849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e wszystkich warstwach naskórka znajdują się komórki –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keratynocyty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ułożone warstwami. Są one w różnym etapie cyklu komórk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harakterystyczna zdolność naskórka  do  rogowacenia i złuszczania się, jest możliwa dzięki warstwie rozrodczej (podstawnej) naskórka, w której, według najnowszych doniesień literaturowych, znajdują się </a:t>
            </a:r>
            <a:r>
              <a:rPr b="0" lang="pl-PL" sz="3200" spc="-1" strike="noStrike">
                <a:solidFill>
                  <a:srgbClr val="dd5966"/>
                </a:solidFill>
                <a:latin typeface="Calibri"/>
              </a:rPr>
              <a:t>komórki macierzy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mórki macierzyste nask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2"/>
          <p:cNvSpPr/>
          <p:nvPr/>
        </p:nvSpPr>
        <p:spPr>
          <a:xfrm>
            <a:off x="250920" y="1628640"/>
            <a:ext cx="8713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mórki macierzyste, o specyficznym metabolizmie, niezróżnicowane, pluripotencjalne, powstają w trakcie życia zarodkowego. Dają początek tkankom i organom (tracąc totipotentność gdy ulegają zróżnicowaniu w odpowiedni typ komórek danej tkanki). Część z nich zostaje „odłożona” czy „zdeponowana” w narządach, aż do wieku dojrzałego</a:t>
            </a:r>
            <a:r>
              <a:rPr b="0" lang="pl-PL" sz="3200" spc="-1" strike="noStrike">
                <a:solidFill>
                  <a:srgbClr val="0070c0"/>
                </a:solidFill>
                <a:latin typeface="Calibri"/>
              </a:rPr>
              <a:t>. Ostatnie badania wykazały istnienie takich komórek macierzystych  w różnych organach, także w skór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mórki macierzyste nask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static1.opracowania.pl/images/187088/budowa_sk%C3%B3ry.jpg"/>
          <p:cNvPicPr/>
          <p:nvPr/>
        </p:nvPicPr>
        <p:blipFill>
          <a:blip r:embed="rId1"/>
          <a:srcRect l="28691" t="0" r="0" b="21284"/>
          <a:stretch/>
        </p:blipFill>
        <p:spPr>
          <a:xfrm>
            <a:off x="468360" y="1341360"/>
            <a:ext cx="4921200" cy="3456000"/>
          </a:xfrm>
          <a:prstGeom prst="rect">
            <a:avLst/>
          </a:prstGeom>
          <a:ln w="0">
            <a:noFill/>
          </a:ln>
        </p:spPr>
      </p:pic>
      <p:sp>
        <p:nvSpPr>
          <p:cNvPr id="108" name="Elipsa 4"/>
          <p:cNvSpPr/>
          <p:nvPr/>
        </p:nvSpPr>
        <p:spPr>
          <a:xfrm>
            <a:off x="1187280" y="2781360"/>
            <a:ext cx="1447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lipsa 5"/>
          <p:cNvSpPr/>
          <p:nvPr/>
        </p:nvSpPr>
        <p:spPr>
          <a:xfrm>
            <a:off x="1979640" y="263700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lipsa 6"/>
          <p:cNvSpPr/>
          <p:nvPr/>
        </p:nvSpPr>
        <p:spPr>
          <a:xfrm>
            <a:off x="755640" y="537372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lipsa 7"/>
          <p:cNvSpPr/>
          <p:nvPr/>
        </p:nvSpPr>
        <p:spPr>
          <a:xfrm>
            <a:off x="539640" y="270828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8"/>
          <p:cNvSpPr/>
          <p:nvPr/>
        </p:nvSpPr>
        <p:spPr>
          <a:xfrm>
            <a:off x="971640" y="515772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erwony znak oznacza miejsca występowania komórek macierzyst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Kształt 11"/>
          <p:cNvCxnSpPr/>
          <p:nvPr/>
        </p:nvCxnSpPr>
        <p:spPr>
          <a:xfrm flipV="1">
            <a:off x="1331640" y="1773000"/>
            <a:ext cx="3601080" cy="1100880"/>
          </a:xfrm>
          <a:prstGeom prst="bentConnector3">
            <a:avLst>
              <a:gd name="adj1" fmla="val 40471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4" name="pole tekstowe 14"/>
          <p:cNvSpPr/>
          <p:nvPr/>
        </p:nvSpPr>
        <p:spPr>
          <a:xfrm>
            <a:off x="4932360" y="148428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bulge region – przy ujściu gruczołu łojoweg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mórki macierzyste naskórka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regeneracj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Łącznik łamany 4"/>
          <p:cNvCxnSpPr/>
          <p:nvPr/>
        </p:nvCxnSpPr>
        <p:spPr>
          <a:xfrm flipV="1">
            <a:off x="1908000" y="2491560"/>
            <a:ext cx="3888720" cy="1297800"/>
          </a:xfrm>
          <a:prstGeom prst="bentConnector3">
            <a:avLst>
              <a:gd name="adj1" fmla="val 56198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Łącznik łamany 6"/>
          <p:cNvCxnSpPr/>
          <p:nvPr/>
        </p:nvCxnSpPr>
        <p:spPr>
          <a:xfrm>
            <a:off x="1907640" y="3789360"/>
            <a:ext cx="4320360" cy="15120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Elipsa 9"/>
          <p:cNvSpPr/>
          <p:nvPr/>
        </p:nvSpPr>
        <p:spPr>
          <a:xfrm>
            <a:off x="6012000" y="2133720"/>
            <a:ext cx="360360" cy="43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lipsa 10"/>
          <p:cNvSpPr/>
          <p:nvPr/>
        </p:nvSpPr>
        <p:spPr>
          <a:xfrm>
            <a:off x="6012000" y="3933720"/>
            <a:ext cx="360360" cy="43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lipsa 11"/>
          <p:cNvSpPr/>
          <p:nvPr/>
        </p:nvSpPr>
        <p:spPr>
          <a:xfrm>
            <a:off x="6012000" y="2708280"/>
            <a:ext cx="360360" cy="433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lipsa 12"/>
          <p:cNvSpPr/>
          <p:nvPr/>
        </p:nvSpPr>
        <p:spPr>
          <a:xfrm>
            <a:off x="6012000" y="3357720"/>
            <a:ext cx="360360" cy="43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lipsa 13"/>
          <p:cNvSpPr/>
          <p:nvPr/>
        </p:nvSpPr>
        <p:spPr>
          <a:xfrm>
            <a:off x="6300720" y="5084640"/>
            <a:ext cx="432000" cy="432000"/>
          </a:xfrm>
          <a:prstGeom prst="ellipse">
            <a:avLst/>
          </a:prstGeom>
          <a:solidFill>
            <a:srgbClr val="dd5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lipsa 19"/>
          <p:cNvSpPr/>
          <p:nvPr/>
        </p:nvSpPr>
        <p:spPr>
          <a:xfrm>
            <a:off x="1332000" y="3573360"/>
            <a:ext cx="431640" cy="432000"/>
          </a:xfrm>
          <a:prstGeom prst="ellipse">
            <a:avLst/>
          </a:prstGeom>
          <a:solidFill>
            <a:srgbClr val="dd5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20"/>
          <p:cNvSpPr/>
          <p:nvPr/>
        </p:nvSpPr>
        <p:spPr>
          <a:xfrm>
            <a:off x="1835280" y="278136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70c0"/>
                </a:solidFill>
                <a:latin typeface="Calibri"/>
              </a:rPr>
              <a:t>Podział </a:t>
            </a:r>
            <a:r>
              <a:rPr b="0" lang="pl-PL" sz="2800" spc="-1" strike="noStrike">
                <a:solidFill>
                  <a:srgbClr val="c00000"/>
                </a:solidFill>
                <a:latin typeface="Calibri"/>
              </a:rPr>
              <a:t>asymetryczn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Nawias klamrowy zamykający 22"/>
          <p:cNvSpPr/>
          <p:nvPr/>
        </p:nvSpPr>
        <p:spPr>
          <a:xfrm>
            <a:off x="6588000" y="2060640"/>
            <a:ext cx="287640" cy="2376360"/>
          </a:xfrm>
          <a:custGeom>
            <a:avLst/>
            <a:gdLst>
              <a:gd name="textAreaLeft" fmla="*/ 0 w 287640"/>
              <a:gd name="textAreaRight" fmla="*/ 103680 w 287640"/>
              <a:gd name="textAreaTop" fmla="*/ 7200 h 2376360"/>
              <a:gd name="textAreaBottom" fmla="*/ 236916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"/>
                  <a:pt x="10800" y="218"/>
                </a:cubicBezTo>
                <a:lnTo>
                  <a:pt x="10800" y="10582"/>
                </a:lnTo>
                <a:cubicBezTo>
                  <a:pt x="10800" y="10691"/>
                  <a:pt x="16200" y="10800"/>
                  <a:pt x="21600" y="10800"/>
                </a:cubicBezTo>
                <a:cubicBezTo>
                  <a:pt x="16200" y="10800"/>
                  <a:pt x="10800" y="10909"/>
                  <a:pt x="10800" y="11018"/>
                </a:cubicBezTo>
                <a:lnTo>
                  <a:pt x="10800" y="21382"/>
                </a:lnTo>
                <a:cubicBezTo>
                  <a:pt x="10800" y="2149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23"/>
          <p:cNvSpPr/>
          <p:nvPr/>
        </p:nvSpPr>
        <p:spPr>
          <a:xfrm>
            <a:off x="6875640" y="2060640"/>
            <a:ext cx="187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Nowe komórki naskórka: keratynocy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melanocyt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k. mieszk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włosow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25"/>
          <p:cNvSpPr/>
          <p:nvPr/>
        </p:nvSpPr>
        <p:spPr>
          <a:xfrm>
            <a:off x="5508720" y="5589720"/>
            <a:ext cx="31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tała „pula” komórek macierzysty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29"/>
          <p:cNvSpPr/>
          <p:nvPr/>
        </p:nvSpPr>
        <p:spPr>
          <a:xfrm>
            <a:off x="539640" y="414972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mórki macierzyste naskór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lipsa 30"/>
          <p:cNvSpPr/>
          <p:nvPr/>
        </p:nvSpPr>
        <p:spPr>
          <a:xfrm>
            <a:off x="826920" y="3573360"/>
            <a:ext cx="432000" cy="432000"/>
          </a:xfrm>
          <a:prstGeom prst="ellipse">
            <a:avLst/>
          </a:prstGeom>
          <a:solidFill>
            <a:srgbClr val="dd5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lipsa 31"/>
          <p:cNvSpPr/>
          <p:nvPr/>
        </p:nvSpPr>
        <p:spPr>
          <a:xfrm>
            <a:off x="1042920" y="3068640"/>
            <a:ext cx="433440" cy="431640"/>
          </a:xfrm>
          <a:prstGeom prst="ellipse">
            <a:avLst/>
          </a:prstGeom>
          <a:solidFill>
            <a:srgbClr val="dd5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lipsa 32"/>
          <p:cNvSpPr/>
          <p:nvPr/>
        </p:nvSpPr>
        <p:spPr>
          <a:xfrm>
            <a:off x="6804000" y="5084640"/>
            <a:ext cx="432000" cy="432000"/>
          </a:xfrm>
          <a:prstGeom prst="ellipse">
            <a:avLst/>
          </a:prstGeom>
          <a:solidFill>
            <a:srgbClr val="dd5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utologiczne czynniki wzrostu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regeneracji i przeciwdziałaniu starzeniu skó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le tekstowe 3"/>
          <p:cNvSpPr/>
          <p:nvPr/>
        </p:nvSpPr>
        <p:spPr>
          <a:xfrm>
            <a:off x="395280" y="2492280"/>
            <a:ext cx="828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utologiczne czynniki wzrostu z płytek krwi, inicjują, podtrzymują procesy regeneracji, między innymi skóry. Aby je zastosować stosuje się </a:t>
            </a:r>
            <a:r>
              <a:rPr b="0" lang="pl-PL" sz="2800" spc="-1" strike="noStrike">
                <a:solidFill>
                  <a:srgbClr val="c00000"/>
                </a:solidFill>
                <a:latin typeface="Calibri"/>
              </a:rPr>
              <a:t>osocze bogatopłytkowe (PRP - Platelet-Rich Plasma), z krwi pacjent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autologiczne, zatem układ immunologiczny nie reaguje niewłaściwie, po ich zastosowaniu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ynniki wzrostu działają na komórki macierzyste skóry, które dzielą się. Działają także na fibroblasty stymulując je do produkcji kolagen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468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elaniny chronią skórę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s://encrypted-tbn3.gstatic.com/images?q=tbn:ANd9GcSvCRWLgupsn9dXUyVGKuZ3651vBFXOwyrxLvDqj25ULgsPgO5x"/>
          <p:cNvPicPr/>
          <p:nvPr/>
        </p:nvPicPr>
        <p:blipFill>
          <a:blip r:embed="rId1"/>
          <a:srcRect l="29422" t="0" r="9680" b="0"/>
          <a:stretch/>
        </p:blipFill>
        <p:spPr>
          <a:xfrm>
            <a:off x="4116240" y="1844640"/>
            <a:ext cx="3624480" cy="4581720"/>
          </a:xfrm>
          <a:prstGeom prst="rect">
            <a:avLst/>
          </a:prstGeom>
          <a:ln w="0">
            <a:noFill/>
          </a:ln>
        </p:spPr>
      </p:pic>
      <p:cxnSp>
        <p:nvCxnSpPr>
          <p:cNvPr id="136" name="Łącznik prosty ze strzałką 4"/>
          <p:cNvCxnSpPr/>
          <p:nvPr/>
        </p:nvCxnSpPr>
        <p:spPr>
          <a:xfrm>
            <a:off x="3851280" y="3789000"/>
            <a:ext cx="1658160" cy="1080"/>
          </a:xfrm>
          <a:prstGeom prst="straightConnector1">
            <a:avLst/>
          </a:prstGeom>
          <a:ln w="3816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37" name="Łącznik prosty ze strzałką 6"/>
          <p:cNvCxnSpPr/>
          <p:nvPr/>
        </p:nvCxnSpPr>
        <p:spPr>
          <a:xfrm>
            <a:off x="3780000" y="5157360"/>
            <a:ext cx="2016720" cy="1080"/>
          </a:xfrm>
          <a:prstGeom prst="straightConnector1">
            <a:avLst/>
          </a:prstGeom>
          <a:ln w="3816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138" name="pole tekstowe 9"/>
          <p:cNvSpPr/>
          <p:nvPr/>
        </p:nvSpPr>
        <p:spPr>
          <a:xfrm>
            <a:off x="1127520" y="4941720"/>
            <a:ext cx="17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elanocy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10"/>
          <p:cNvSpPr/>
          <p:nvPr/>
        </p:nvSpPr>
        <p:spPr>
          <a:xfrm>
            <a:off x="250920" y="24922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pustki dendrytyczne melanocytu a w nich melanosom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melanin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rostokąt 13"/>
          <p:cNvSpPr/>
          <p:nvPr/>
        </p:nvSpPr>
        <p:spPr>
          <a:xfrm>
            <a:off x="250920" y="2492280"/>
            <a:ext cx="3600360" cy="194472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rostokąt 15"/>
          <p:cNvSpPr/>
          <p:nvPr/>
        </p:nvSpPr>
        <p:spPr>
          <a:xfrm>
            <a:off x="179280" y="4869000"/>
            <a:ext cx="3600720" cy="64764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Łącznik prosty ze strzałką 16"/>
          <p:cNvCxnSpPr/>
          <p:nvPr/>
        </p:nvCxnSpPr>
        <p:spPr>
          <a:xfrm>
            <a:off x="3850920" y="3357360"/>
            <a:ext cx="2592720" cy="1080"/>
          </a:xfrm>
          <a:prstGeom prst="straightConnector1">
            <a:avLst/>
          </a:prstGeom>
          <a:ln w="3816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143" name="pole tekstowe 25"/>
          <p:cNvSpPr/>
          <p:nvPr/>
        </p:nvSpPr>
        <p:spPr>
          <a:xfrm>
            <a:off x="7327800" y="3141720"/>
            <a:ext cx="18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eratynocy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skór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26"/>
          <p:cNvSpPr/>
          <p:nvPr/>
        </p:nvSpPr>
        <p:spPr>
          <a:xfrm>
            <a:off x="7080840" y="580536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óra właści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Krzysiek Stawujak</cp:lastModifiedBy>
  <dcterms:modified xsi:type="dcterms:W3CDTF">2013-08-21T19:17:07Z</dcterms:modified>
  <cp:revision>38</cp:revision>
  <dc:subject/>
  <dc:title>Slajd 1</dc:title>
</cp:coreProperties>
</file>