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784F-6352-405E-BFB0-830911C4BC6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CA8E-D292-409E-B122-5461676BD66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DC8B-1D32-482C-8920-7905F60A2F2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978-CE70-4C7E-B2BA-BF91DF0A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644-091B-497E-B102-A44A090F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14A-D622-424D-AC12-0CF318A2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87E-0131-4D04-A43C-000030AB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CBFE-0A81-4A1C-B578-7EBC8087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EF4-2E12-4AB2-8874-BDB7A773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04F7-B898-4369-9407-4D131A8B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89E5-1B70-4B12-B9B1-7ABFCC0E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4151-D7F3-469D-988A-F31CF2A2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69D5-8719-4468-ADEB-61781720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7286-8830-4ABE-998A-4F150B2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A6F-42EB-4ED2-B37D-F6E89417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C299-6E5C-4F6B-9EDA-A7BD46F7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100C-6145-4D5D-942D-E01EBF6E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666C-4313-4A9B-B6A6-57DE8C7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96BA-52A2-451B-9109-80EC450A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F9CC-3405-4074-8503-F774F640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ACA-D34F-4E84-B92E-1057EA94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E01-147D-4940-8E58-19570C32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81D-4C03-4868-8E03-49E4952B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92A-4864-4FB8-B788-49E6E09D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0E7-E8C6-48C3-A271-29C10AF7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245-6649-41C7-A545-1B1DE39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BDD-69AB-42F2-9135-2921A20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4DA4-9911-447D-AE21-CA7DF8327C4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3306-B76B-4A6A-ACED-4629F807E40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II (pakiet III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395280" y="1773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śród komórek budujących skórę właściwą (histiocyty, komórki tuczne), najwięcej jest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fibroblastów –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komórek odpowiedzialnych za syntezę składników macierzy: włókien kolagenowych, elastyny, proteoglikanów (PG), wiążących włókna oraz innych substan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04a7b"/>
                </a:solidFill>
                <a:latin typeface="Calibri"/>
              </a:rPr>
              <a:t>Kolagen włóknist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pośród tych substancji w największej obfit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2"/>
          <p:cNvSpPr/>
          <p:nvPr/>
        </p:nvSpPr>
        <p:spPr>
          <a:xfrm>
            <a:off x="395280" y="1628640"/>
            <a:ext cx="820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ptydoglikany macierzy skóry właściwej są hydrofilne. Razem z kwasem hialuronowym zdolne są do wiązania wody. W powyższym połączeniu substancje te wpływają na uwodnienie skóry, co skutkuje widocznym zwiększeniem jej ujędrn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naukowe wykazały spadek ilości kwasu hialuronowego wraz z wiekiem badanych osobników, co niewątpliwie ma związek ze starzeniem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strogeny w kondycji i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395280" y="184464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Hormony produkowane przez gonady, wpływają na funkcje różnych organów, między innymi skóry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wykazały obecność receptorów dla tych hormonów sterydowych w rozmaitych tkankach, w tym także w skórz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ecność receptorów świadczy, że tkanka jest docelową dla hormonu, który po związaniu si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właściwym dla niego receptorem, wywołuje reakcje, doprowadzające do zmian w org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jest estrogenozależnym organ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324000" y="1628640"/>
            <a:ext cx="82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podczas menopauzy spada aktywność gonad, drastycznie spada produkcja estrogen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prowadza to do zmian naskórkowych i zmian w obrębie skóry właściw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W naskórk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zanik (uwstecznianie) warstw naskórka. Zmniejszenie ilości podziałów w warstwie rozrodczej, naskórek staje się cienki. Pojawiają się przebarwienia/odbarwienia na skutek zaburzeń metabolizmu keratynocytów i melanocy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zmożenie starzenia skór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okresie menopauzalny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395280" y="170028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adek ilości estrogenów powoduje w skórze właściwej zaburzenie czynności fibroblastów, a przez to zmniejsza się ilość substancji przez nie produkowanych, miedzy innymi: PG,  kolagenu, kwasu hialuronow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niej jest hydroksyproliny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***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co wpływa na zmianę właściwości fizycznych i chemicznych kolag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 powoduje: wysuszenie skóry, zwiotcze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lipsa 2"/>
          <p:cNvSpPr/>
          <p:nvPr/>
        </p:nvSpPr>
        <p:spPr>
          <a:xfrm>
            <a:off x="3995640" y="2997360"/>
            <a:ext cx="3024360" cy="2952720"/>
          </a:xfrm>
          <a:prstGeom prst="ellipse">
            <a:avLst/>
          </a:prstGeom>
          <a:solidFill>
            <a:srgbClr val="40404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ar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ronologi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lipsa 3"/>
          <p:cNvSpPr/>
          <p:nvPr/>
        </p:nvSpPr>
        <p:spPr>
          <a:xfrm>
            <a:off x="2771640" y="2060640"/>
            <a:ext cx="2880000" cy="288108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nopau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lipsa 5"/>
          <p:cNvSpPr/>
          <p:nvPr/>
        </p:nvSpPr>
        <p:spPr>
          <a:xfrm>
            <a:off x="1332000" y="2997360"/>
            <a:ext cx="3024000" cy="2952720"/>
          </a:xfrm>
          <a:prstGeom prst="ellipse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otostar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6"/>
          <p:cNvSpPr/>
          <p:nvPr/>
        </p:nvSpPr>
        <p:spPr>
          <a:xfrm>
            <a:off x="900000" y="54936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Starzenie się skóry jest wynikiem nakładania się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wieczny proble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Obraz 5" descr="zmarchy.jpg"/>
          <p:cNvPicPr/>
          <p:nvPr/>
        </p:nvPicPr>
        <p:blipFill>
          <a:blip r:embed="rId1"/>
          <a:stretch/>
        </p:blipFill>
        <p:spPr>
          <a:xfrm>
            <a:off x="2771640" y="1268280"/>
            <a:ext cx="3313080" cy="448308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6"/>
          <p:cNvSpPr/>
          <p:nvPr/>
        </p:nvSpPr>
        <p:spPr>
          <a:xfrm>
            <a:off x="755640" y="58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lh3.ggpht.com/_MsZb8mYFoCs/TQmQAN4dKiI/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AAAAAAAMp4/PSdc-2k8va0/s800/Anti-Wrinkle-Cre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 (BTX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2"/>
          <p:cNvSpPr/>
          <p:nvPr/>
        </p:nvSpPr>
        <p:spPr>
          <a:xfrm>
            <a:off x="324000" y="1557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neurotoksyna, produkowana przez bakterie </a:t>
            </a:r>
            <a:r>
              <a:rPr b="0" i="1" lang="pl-PL" sz="3200" spc="-1" strike="noStrike">
                <a:solidFill>
                  <a:srgbClr val="948a54"/>
                </a:solidFill>
                <a:latin typeface="Calibri"/>
              </a:rPr>
              <a:t>Clostridium botulin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zechnie znana jako jad kiełbasiany, substancja śmiertelna dla człowieka w dawce 3000 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owana w niewielkich dawkach (BTX A) około 60 j., stosowana jest nie tylko w medycynie estetycznej, ale także w neurologii, w leczeniu spastyczności. Używana jest od ponad 20 l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otulina obniża napięcie mięśni mimicznych – zmniejszenie zmarszc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256536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temu, że toksyna działa w obrębie płytki nerwowo – mięśniowej, hamuje pobudzenie mięśni przez ner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wiotczenie mięśni daje rozluźnienie skó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zmarszczki zmniejszają się, skóra twarzy wygładz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stety, nie jest to działanie trwał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395280" y="83664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fekt po zastosowaniu toksyny botulinowej pojawia się i jest widoczny zazwyczaj po kilkunastu godzinach po iniekcjach. Przemija po 5, 6 miesiąc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 osób powyżej 60 roku życia stosowanie BTX nie przynosi spodziewanych efektów, gdyż botulina nie usuwa zmarszczek statycznych, ale tylko te, które pojawiają się dzięki mimicznym, dynamicznym grymas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539640" y="692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Materiał obejmu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brane teorie dotyczące mechanizmów starzenia się skó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oria Hayflicka (ograniczonej liczby podziałów komór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a właściwa w starzeniu się powłok ciał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 estrogenów na proces starzenia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osowanie toksyny botulinowej w zabiegach odmładzających skór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iekcja BTX może wywołać także powikłan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sme.rybnik.pl/userfiles/http---www_derma-news_pl-pliki_pdf-nr_2006_11_pdf%20-%20Adobe%20Reader.bmp"/>
          <p:cNvPicPr/>
          <p:nvPr/>
        </p:nvPicPr>
        <p:blipFill>
          <a:blip r:embed="rId1"/>
          <a:stretch/>
        </p:blipFill>
        <p:spPr>
          <a:xfrm>
            <a:off x="468360" y="1844640"/>
            <a:ext cx="3305160" cy="3743280"/>
          </a:xfrm>
          <a:prstGeom prst="rect">
            <a:avLst/>
          </a:prstGeom>
          <a:ln w="0">
            <a:noFill/>
          </a:ln>
        </p:spPr>
      </p:pic>
      <p:sp>
        <p:nvSpPr>
          <p:cNvPr id="149" name="Prostokąt 3"/>
          <p:cNvSpPr/>
          <p:nvPr/>
        </p:nvSpPr>
        <p:spPr>
          <a:xfrm>
            <a:off x="395280" y="5373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me.rybnik.pl/userfiles/http---www_derma-news_pl-pliki_pdf-nr_2006_11_pdf%20-%20Adobe%20Reader.bm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3995640" y="1773360"/>
            <a:ext cx="47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adnięcie, wywinięcie powiek, „twarz Mefisto” – uniesienie brwi, „nierówny” uśmi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 granicy Hayflicka w starzeniu się komórek (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ojciechznamirowski.eu/wp-content/uploads/2012/06/wrozenie03.jpg"/>
          <p:cNvPicPr/>
          <p:nvPr/>
        </p:nvPicPr>
        <p:blipFill>
          <a:blip r:embed="rId1"/>
          <a:srcRect l="35236" t="0" r="20843" b="39750"/>
          <a:stretch/>
        </p:blipFill>
        <p:spPr>
          <a:xfrm>
            <a:off x="826920" y="1773360"/>
            <a:ext cx="3870360" cy="395928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3"/>
          <p:cNvSpPr/>
          <p:nvPr/>
        </p:nvSpPr>
        <p:spPr>
          <a:xfrm>
            <a:off x="250920" y="5732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ojciechznamirowski.eu/wp-content/uploads/2012/06/wrozenie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Łącznik prosty ze strzałką 5"/>
          <p:cNvCxnSpPr/>
          <p:nvPr/>
        </p:nvCxnSpPr>
        <p:spPr>
          <a:xfrm flipH="1">
            <a:off x="4427280" y="2133360"/>
            <a:ext cx="180072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3" name="Łącznik prosty ze strzałką 9"/>
          <p:cNvCxnSpPr/>
          <p:nvPr/>
        </p:nvCxnSpPr>
        <p:spPr>
          <a:xfrm flipH="1">
            <a:off x="3923640" y="2491920"/>
            <a:ext cx="2377080" cy="1585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4" name="pole tekstowe 12"/>
          <p:cNvSpPr/>
          <p:nvPr/>
        </p:nvSpPr>
        <p:spPr>
          <a:xfrm>
            <a:off x="6379920" y="198900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lom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naczenie telomerów dla eukariotycznych komór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2"/>
          <p:cNvSpPr/>
          <p:nvPr/>
        </p:nvSpPr>
        <p:spPr>
          <a:xfrm>
            <a:off x="250920" y="1628640"/>
            <a:ext cx="8626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omery – „końcówki” chromosomów, składają się z tysięcy (podwójnych) powtórzeń sekwencji (TTAGGG). Nie zawierają żadnych genów (nie kodują białe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ezpieczają końce chromosomów przed egzonukleazami, mogącymi uszkodzić sekwencje kodują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ezpieczają przed translokacjami i delecja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mutacjami strukturalnym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naczenie telomerów dla eukariotycznych komór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2"/>
          <p:cNvSpPr/>
          <p:nvPr/>
        </p:nvSpPr>
        <p:spPr>
          <a:xfrm>
            <a:off x="539640" y="198900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omery „pomagają” systemowi naprawczemu uszkodzeń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rócenie telomerów kieruje komórkę na drogę do spoczynku, wreszcie apoptozy, więc można skracanie tych struktur nazwać czynnikiem ograniczającym liczbę podziałów komórkowych, co w konsekwencji doprowadza do starzenia się, także organu, jakim jest skór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racanie telomerów w trakcie kolejnych podziałów komórki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ojciechznamirowski.eu/wp-content/uploads/2012/06/wrozenie03.jpg"/>
          <p:cNvPicPr/>
          <p:nvPr/>
        </p:nvPicPr>
        <p:blipFill>
          <a:blip r:embed="rId1"/>
          <a:srcRect l="37667" t="66634" r="17593" b="1669"/>
          <a:stretch/>
        </p:blipFill>
        <p:spPr>
          <a:xfrm>
            <a:off x="755640" y="2205000"/>
            <a:ext cx="7056360" cy="373068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3"/>
          <p:cNvSpPr/>
          <p:nvPr/>
        </p:nvSpPr>
        <p:spPr>
          <a:xfrm>
            <a:off x="324000" y="6021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ojciechznamirowski.eu/wp-content/uploads/2012/06/wrozenie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załka w dół 4"/>
          <p:cNvSpPr/>
          <p:nvPr/>
        </p:nvSpPr>
        <p:spPr>
          <a:xfrm rot="5400000">
            <a:off x="7344000" y="5049000"/>
            <a:ext cx="432000" cy="93492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3"/>
          <p:cNvSpPr/>
          <p:nvPr/>
        </p:nvSpPr>
        <p:spPr>
          <a:xfrm>
            <a:off x="395280" y="162864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arstwa brodawkowat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y właściwej „zazębiona” jest z naskórkiem, stąd właśnie nazwa – brodawkowata – gdyż brodawki wnikają pod warstwę rozrodczą naskórka 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widoczne dokładnie, następny slajd, I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Znajdują się w niej pętle naczyniowe oraz włókna elastycz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sprężyste. Pomiędzy tymi, jeszcze luźno w tej warstwie ułożonymi włóknami, są obecne naczynka włosowate, receptory, zakończenia nerw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sunfarm.pl/media_library/2011/7/1309965417.png"/>
          <p:cNvPicPr/>
          <p:nvPr/>
        </p:nvPicPr>
        <p:blipFill>
          <a:blip r:embed="rId1"/>
          <a:srcRect l="0" t="0" r="7500" b="18944"/>
          <a:stretch/>
        </p:blipFill>
        <p:spPr>
          <a:xfrm>
            <a:off x="395280" y="692280"/>
            <a:ext cx="5329080" cy="509724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4"/>
          <p:cNvSpPr/>
          <p:nvPr/>
        </p:nvSpPr>
        <p:spPr>
          <a:xfrm>
            <a:off x="755640" y="58053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unfarm.pl/media_library/2011/7/1309965417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Łącznik prosty ze strzałką 6"/>
          <p:cNvCxnSpPr/>
          <p:nvPr/>
        </p:nvCxnSpPr>
        <p:spPr>
          <a:xfrm flipH="1">
            <a:off x="4355640" y="1483920"/>
            <a:ext cx="1656720" cy="57708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18" name="Łącznik prosty ze strzałką 9"/>
          <p:cNvCxnSpPr/>
          <p:nvPr/>
        </p:nvCxnSpPr>
        <p:spPr>
          <a:xfrm flipH="1" flipV="1">
            <a:off x="3563280" y="3067920"/>
            <a:ext cx="2377080" cy="129780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19" name="pole tekstowe 12"/>
          <p:cNvSpPr/>
          <p:nvPr/>
        </p:nvSpPr>
        <p:spPr>
          <a:xfrm>
            <a:off x="6012000" y="98100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. Brodawki skóry właściwej </a:t>
            </a:r>
            <a:r>
              <a:rPr b="0" lang="pl-PL" sz="2800" spc="-1" strike="noStrike">
                <a:solidFill>
                  <a:srgbClr val="948a54"/>
                </a:solidFill>
                <a:latin typeface="Calibri"/>
              </a:rPr>
              <a:t>(warstwa brodawkow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14"/>
          <p:cNvSpPr/>
          <p:nvPr/>
        </p:nvSpPr>
        <p:spPr>
          <a:xfrm>
            <a:off x="6012000" y="3789360"/>
            <a:ext cx="280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I. Włókna kolagenow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elastynowe </a:t>
            </a:r>
            <a:r>
              <a:rPr b="0" lang="pl-PL" sz="2800" spc="-1" strike="noStrike">
                <a:solidFill>
                  <a:srgbClr val="948a54"/>
                </a:solidFill>
                <a:latin typeface="Calibri"/>
              </a:rPr>
              <a:t>(w.siateczkow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95280" y="1557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arstwa siateczkowat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y właściwej jest zaopatrzona w grube włókna elastycz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sprężyste 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świetnie widoczne, II, poprzedni slajd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najdują się w niej nerwy, gruczoły potowe, mieszki włosowe. Sploty włókien zapewniają tej warstwie stosunkowo dużą wytrzymałość mechaniczną (ucis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44:36Z</dcterms:modified>
  <cp:revision>25</cp:revision>
  <dc:subject/>
  <dc:title>Slajd 1</dc:title>
</cp:coreProperties>
</file>