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BD38-D247-491A-9FDB-BA8B6009B67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F53B-8BBD-433D-ADB0-0493817596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0678-7C58-4202-B49B-5B5350F57A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6E8-EAE2-47C8-8B0A-47D37D8B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F52-7364-40BC-9853-62CF1670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5B7-7E23-41FE-BD87-FFCE83C9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549-314C-481B-90FA-54DA7FB6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2B5A-BF92-4F64-8993-787ACC64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4F59-2768-4F02-89B0-583FD1D6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B6E2-8316-4692-A4A8-F0C0AF92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E0F9-8092-44ED-AB05-36B6CE4B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4325-A7CF-4E13-BFA4-582B7B13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61EE-33C0-4B99-A865-3D69D209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7A3-9261-4B25-B3C8-79560AD1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394-450D-4174-BE65-BD153A57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2C12-9FF3-4F84-B5CA-35B8B43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75DF-7015-4785-9FF0-B4C04D9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6EAA-D89D-451C-9EFF-C2CDEB37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96CA-1614-4950-90BD-8CEC3F87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2BA1-44FA-4C81-88EF-DC67CAB3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E8C-0528-47F1-B7D0-3C28FDDD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754-DA14-49E2-B823-09AF7735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1D4-C8CB-4EA8-9A32-47DB6E1D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ED5-8DFE-45B2-BCB7-6B19A756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083-5974-4313-8FB8-519E07AA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44D-A7DE-4158-A256-A737F2F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671-6D9D-4DBF-848F-9B7A75D1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08DD-0953-4940-9CB6-F672D5214DF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75BF-C556-4C00-B2D9-0481C43DE57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dstawy (fizyczne) ultrasonograf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900000" y="3789360"/>
            <a:ext cx="7704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ezentacja - poziom 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teriał bazowy do wyższych pozio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utor: Elżbieta Ćwior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opisujące f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wazniak.mimuw.edu.pl/images/4/42/PF_M5_Slajd31.png"/>
          <p:cNvPicPr/>
          <p:nvPr/>
        </p:nvPicPr>
        <p:blipFill>
          <a:blip r:embed="rId1"/>
          <a:srcRect l="0" t="16905" r="0" b="3538"/>
          <a:stretch/>
        </p:blipFill>
        <p:spPr>
          <a:xfrm>
            <a:off x="3276720" y="2133720"/>
            <a:ext cx="54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fizyka.biz/835_fale/835_fale_01.png"/>
          <p:cNvPicPr/>
          <p:nvPr/>
        </p:nvPicPr>
        <p:blipFill>
          <a:blip r:embed="rId2"/>
          <a:srcRect l="0" t="7799" r="0" b="0"/>
          <a:stretch/>
        </p:blipFill>
        <p:spPr>
          <a:xfrm>
            <a:off x="411120" y="2205000"/>
            <a:ext cx="25052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4"/>
          <p:cNvSpPr/>
          <p:nvPr/>
        </p:nvSpPr>
        <p:spPr>
          <a:xfrm>
            <a:off x="395280" y="98100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(ultradźwiękowa) rozchodzi się w ośrodku (np. sprężystym – tkanki), jej parametry zależą od właściwości ośrodka, np. od gęstości ośrod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Propagacja fal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rozchodzenie się zaburzenia (fali) w ośrod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ym module sprężystości fale ultradźwiękowe rozchodzą się szybc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o dużej gęstości fale ultradźwiękowe rozchodzą się woln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cja fal w wybranych ośrodk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7921440" cy="420660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81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ężystość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ęstość  (modu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ędkość  fali (m/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ietr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ł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kanki miękk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ś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wna wartość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0" name="pole tekstowe 3"/>
          <p:cNvSpPr/>
          <p:nvPr/>
        </p:nvSpPr>
        <p:spPr>
          <a:xfrm>
            <a:off x="897480" y="6021360"/>
            <a:ext cx="69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*) Dla ułatwienia i przejrzystości pominięto konkretne wartości liczb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le tekstowe 2"/>
          <p:cNvSpPr/>
          <p:nvPr/>
        </p:nvSpPr>
        <p:spPr>
          <a:xfrm>
            <a:off x="539640" y="90792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ędkość (średnia) fal ultradźwiękowych dla tkanek miękkich, jest wartością odniesienia dla systemu pomiarowego w aparatach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prędkość rozchodzenia się fal  ultradźwiękowych jest charakterystyczna dla danej tkanki (ośrodka), zatem, gdy  fala przechodzi z tkanki do tkanki – zmienia się jej długość, przy czym częstotliwość (nadana przez źródło fali) nie zmienia si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395280" y="836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a ultradźwiękowa jest falą mechaniczną, podłużną, rozchodzi się prostoliniowo przez ośrodek przewodzący (ośrodki przewodzące, którymi są różne tkan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Na granicy różnych ośrodków przewodzących powstaje impedancja ośrodka (zwana oporem akustycznym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granicy środków powstaje echo, zależne od impedancji. Głośność czyli natężenie echa zależy od „twardości” ośrodków przewodzących, na granicy których echo powsta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mpedancja akustyczna (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690840" y="1844640"/>
            <a:ext cx="6662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 – gęstość ośrod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 – prędkość propagacji f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 – moduł sprężystości (Moduł Young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124000" y="1557360"/>
                <a:ext cx="5327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1"/>
          <p:cNvSpPr/>
          <p:nvPr/>
        </p:nvSpPr>
        <p:spPr>
          <a:xfrm>
            <a:off x="468360" y="54936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rodku jednorodnym, na przykł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wietrzu lub w wodzie, echo nie powstaje, gdyż nie ma różnic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łaściwej impedancji akus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ak w układzie biologicznym, jakim jest każdy organizm, fale napotykają tkanki miękkie, kości, płuca wypełnione powietrzem, czy jelita, wypełnione gazem – zatem pewna część energii fali zostaje odbita (bo pomiędzy ośrodkami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stępują duże różnice impedancji właściwej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ć energii nieodbitej fali przechodzi dal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9"/>
          <p:cNvSpPr/>
          <p:nvPr/>
        </p:nvSpPr>
        <p:spPr>
          <a:xfrm>
            <a:off x="558000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orga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upa 16"/>
          <p:cNvGrpSpPr/>
          <p:nvPr/>
        </p:nvGrpSpPr>
        <p:grpSpPr>
          <a:xfrm>
            <a:off x="539640" y="765000"/>
            <a:ext cx="8280360" cy="5543640"/>
            <a:chOff x="539640" y="765000"/>
            <a:chExt cx="8280360" cy="5543640"/>
          </a:xfrm>
        </p:grpSpPr>
        <p:sp>
          <p:nvSpPr>
            <p:cNvPr id="149" name="Prostokąt 4"/>
            <p:cNvSpPr/>
            <p:nvPr/>
          </p:nvSpPr>
          <p:spPr>
            <a:xfrm>
              <a:off x="5219640" y="1483920"/>
              <a:ext cx="1008000" cy="2881440"/>
            </a:xfrm>
            <a:prstGeom prst="rect">
              <a:avLst/>
            </a:prstGeom>
            <a:solidFill>
              <a:srgbClr val="ddd9c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Elipsa 2"/>
            <p:cNvSpPr/>
            <p:nvPr/>
          </p:nvSpPr>
          <p:spPr>
            <a:xfrm>
              <a:off x="539640" y="1844280"/>
              <a:ext cx="1368360" cy="1297080"/>
            </a:xfrm>
            <a:prstGeom prst="ellipse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Źródło dźwięk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Strzałka w prawo 3"/>
            <p:cNvSpPr/>
            <p:nvPr/>
          </p:nvSpPr>
          <p:spPr>
            <a:xfrm>
              <a:off x="2050920" y="1557000"/>
              <a:ext cx="3384360" cy="1727280"/>
            </a:xfrm>
            <a:prstGeom prst="rightArrow">
              <a:avLst>
                <a:gd name="adj1" fmla="val 50000"/>
                <a:gd name="adj2" fmla="val 49991"/>
              </a:avLst>
            </a:prstGeom>
            <a:gradFill rotWithShape="0">
              <a:gsLst>
                <a:gs pos="0">
                  <a:srgbClr val="591816"/>
                </a:gs>
                <a:gs pos="100000">
                  <a:srgbClr val="9c3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Fal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(mechaniczna,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Calibri"/>
                </a:rPr>
                <a:t>podłużn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Prostokąt 5"/>
            <p:cNvSpPr/>
            <p:nvPr/>
          </p:nvSpPr>
          <p:spPr>
            <a:xfrm>
              <a:off x="7164360" y="1483920"/>
              <a:ext cx="1224000" cy="2881440"/>
            </a:xfrm>
            <a:prstGeom prst="rect">
              <a:avLst/>
            </a:prstGeom>
            <a:solidFill>
              <a:srgbClr val="948a5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Prostokąt 6"/>
            <p:cNvSpPr/>
            <p:nvPr/>
          </p:nvSpPr>
          <p:spPr>
            <a:xfrm>
              <a:off x="6227640" y="1483920"/>
              <a:ext cx="1008000" cy="2881440"/>
            </a:xfrm>
            <a:prstGeom prst="rect">
              <a:avLst/>
            </a:prstGeom>
            <a:solidFill>
              <a:srgbClr val="c4bd9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Ośrode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Nawias klamrowy otwierający 8"/>
            <p:cNvSpPr/>
            <p:nvPr/>
          </p:nvSpPr>
          <p:spPr>
            <a:xfrm rot="5400000">
              <a:off x="6300000" y="-315360"/>
              <a:ext cx="1008000" cy="3168720"/>
            </a:xfrm>
            <a:custGeom>
              <a:avLst/>
              <a:gdLst>
                <a:gd name="textAreaLeft" fmla="*/ 644040 w 1008000"/>
                <a:gd name="textAreaRight" fmla="*/ 1008360 w 1008000"/>
                <a:gd name="textAreaTop" fmla="*/ 26280 h 3168720"/>
                <a:gd name="textAreaBottom" fmla="*/ 3142440 h 31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7"/>
                    <a:pt x="10800" y="573"/>
                  </a:cubicBezTo>
                  <a:lnTo>
                    <a:pt x="10800" y="10227"/>
                  </a:lnTo>
                  <a:cubicBezTo>
                    <a:pt x="10800" y="10514"/>
                    <a:pt x="5400" y="10800"/>
                    <a:pt x="0" y="10800"/>
                  </a:cubicBezTo>
                  <a:cubicBezTo>
                    <a:pt x="5400" y="10800"/>
                    <a:pt x="10800" y="11087"/>
                    <a:pt x="10800" y="11373"/>
                  </a:cubicBezTo>
                  <a:lnTo>
                    <a:pt x="10800" y="21027"/>
                  </a:lnTo>
                  <a:cubicBezTo>
                    <a:pt x="10800" y="21314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Łącznik prosty 11"/>
            <p:cNvSpPr/>
            <p:nvPr/>
          </p:nvSpPr>
          <p:spPr>
            <a:xfrm>
              <a:off x="6227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Łącznik prosty 13"/>
            <p:cNvSpPr/>
            <p:nvPr/>
          </p:nvSpPr>
          <p:spPr>
            <a:xfrm>
              <a:off x="7235640" y="4221000"/>
              <a:ext cx="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Prostokąt 15"/>
            <p:cNvSpPr/>
            <p:nvPr/>
          </p:nvSpPr>
          <p:spPr>
            <a:xfrm>
              <a:off x="3492360" y="5013360"/>
              <a:ext cx="532764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Strzałka w prawo 18"/>
            <p:cNvSpPr/>
            <p:nvPr/>
          </p:nvSpPr>
          <p:spPr>
            <a:xfrm rot="10800000">
              <a:off x="899640" y="3573000"/>
              <a:ext cx="5256360" cy="863640"/>
            </a:xfrm>
            <a:prstGeom prst="rightArrow">
              <a:avLst>
                <a:gd name="adj1" fmla="val 50000"/>
                <a:gd name="adj2" fmla="val 49986"/>
              </a:avLst>
            </a:prstGeom>
            <a:solidFill>
              <a:srgbClr val="953735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Fala odbi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Strzałka w prawo 19"/>
          <p:cNvSpPr/>
          <p:nvPr/>
        </p:nvSpPr>
        <p:spPr>
          <a:xfrm>
            <a:off x="6156360" y="3716280"/>
            <a:ext cx="107964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załka w prawo 22"/>
          <p:cNvSpPr/>
          <p:nvPr/>
        </p:nvSpPr>
        <p:spPr>
          <a:xfrm>
            <a:off x="7236000" y="371628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ole tekstowe 23"/>
          <p:cNvSpPr/>
          <p:nvPr/>
        </p:nvSpPr>
        <p:spPr>
          <a:xfrm>
            <a:off x="3635280" y="522936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mpedancja właściwa ośrodka (opór akustycz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4"/>
          <p:cNvSpPr/>
          <p:nvPr/>
        </p:nvSpPr>
        <p:spPr>
          <a:xfrm>
            <a:off x="758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ole tekstowe 2"/>
          <p:cNvSpPr/>
          <p:nvPr/>
        </p:nvSpPr>
        <p:spPr>
          <a:xfrm>
            <a:off x="468360" y="692280"/>
            <a:ext cx="81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kanki ciała, organy różnią się oporem akustycznym (impedancja właściwa), więc fale odbijają si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erzchniami odbijającymi są granice narządów, struktury wewnętrzne narządów, np. przegrody łącznotkankowe, dzielące narząd na zraziki, ściany naczyń krwionoś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żda z wymienionych struktur na swoje echo, czyli charakterystyczną echogen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2"/>
          <p:cNvSpPr/>
          <p:nvPr/>
        </p:nvSpPr>
        <p:spPr>
          <a:xfrm>
            <a:off x="468360" y="119700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głowicach aparatów USG stosuje się, jako materiał, kryształ polaryzowalny, który pod wpływem zmiennego napięcia elektrycznego generuje drgania mechaniczne działające na tkankę, pod głowic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chodzi się fala mechaniczna, odbijana na granicach narządów, powraca (echo), co powoduje w krysztale głowicy przesunięcie ładunków elektrycznych- </a:t>
            </a:r>
            <a:r>
              <a:rPr b="0" lang="pl-PL" sz="2800" spc="-1" strike="noStrike">
                <a:solidFill>
                  <a:srgbClr val="4f6228"/>
                </a:solidFill>
                <a:latin typeface="Calibri"/>
              </a:rPr>
              <a:t>zjawisko piezoelektr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ztał jest źródłem dźwięku a zarazem odbiorniki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ojęcia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la dźwie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395280" y="1628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my, że </a:t>
            </a: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fala jest zaburzeniem stanu ośrodka: gazu, cieczy, ciała stałego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Fala niesie zasób energii i rozchodzi się z prędkością (ograniczon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 zależy od rodzaju ośrod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4308480"/>
          <a:ext cx="8064360" cy="164160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  <a:gridCol w="2016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środe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e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ało st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burzen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owierzchni swobodne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ęstoś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kształ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1" name="pole tekstowe 5"/>
          <p:cNvSpPr/>
          <p:nvPr/>
        </p:nvSpPr>
        <p:spPr>
          <a:xfrm>
            <a:off x="396000" y="6021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rostokąt 4"/>
          <p:cNvSpPr/>
          <p:nvPr/>
        </p:nvSpPr>
        <p:spPr>
          <a:xfrm>
            <a:off x="900000" y="4941720"/>
            <a:ext cx="4319640" cy="142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17"/>
          <p:cNvSpPr/>
          <p:nvPr/>
        </p:nvSpPr>
        <p:spPr>
          <a:xfrm>
            <a:off x="1187280" y="1628640"/>
            <a:ext cx="648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owolny kształt 18"/>
          <p:cNvSpPr/>
          <p:nvPr/>
        </p:nvSpPr>
        <p:spPr>
          <a:xfrm>
            <a:off x="1981080" y="1614600"/>
            <a:ext cx="277920" cy="161640"/>
          </a:xfrm>
          <a:custGeom>
            <a:avLst/>
            <a:gdLst/>
            <a:ahLst/>
            <a:rect l="l" t="t" r="r" b="b"/>
            <a:pathLst>
              <a:path w="277091" h="161655">
                <a:moveTo>
                  <a:pt x="0" y="6195"/>
                </a:moveTo>
                <a:cubicBezTo>
                  <a:pt x="32327" y="10813"/>
                  <a:pt x="71205" y="0"/>
                  <a:pt x="96982" y="20049"/>
                </a:cubicBezTo>
                <a:cubicBezTo>
                  <a:pt x="120038" y="37981"/>
                  <a:pt x="108489" y="78874"/>
                  <a:pt x="124691" y="103177"/>
                </a:cubicBezTo>
                <a:cubicBezTo>
                  <a:pt x="133927" y="117031"/>
                  <a:pt x="139398" y="134338"/>
                  <a:pt x="152400" y="144740"/>
                </a:cubicBezTo>
                <a:cubicBezTo>
                  <a:pt x="163804" y="153863"/>
                  <a:pt x="179449" y="156982"/>
                  <a:pt x="193964" y="158595"/>
                </a:cubicBezTo>
                <a:cubicBezTo>
                  <a:pt x="221504" y="161655"/>
                  <a:pt x="249382" y="158595"/>
                  <a:pt x="277091" y="158595"/>
                </a:cubicBezTo>
              </a:path>
            </a:pathLst>
          </a:custGeom>
          <a:noFill/>
          <a:ln w="3816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upa 23"/>
          <p:cNvGrpSpPr/>
          <p:nvPr/>
        </p:nvGrpSpPr>
        <p:grpSpPr>
          <a:xfrm>
            <a:off x="468360" y="260280"/>
            <a:ext cx="6983280" cy="6193080"/>
            <a:chOff x="468360" y="260280"/>
            <a:chExt cx="6983280" cy="6193080"/>
          </a:xfrm>
        </p:grpSpPr>
        <p:grpSp>
          <p:nvGrpSpPr>
            <p:cNvPr id="170" name="Grupa 22"/>
            <p:cNvGrpSpPr/>
            <p:nvPr/>
          </p:nvGrpSpPr>
          <p:grpSpPr>
            <a:xfrm>
              <a:off x="468360" y="260280"/>
              <a:ext cx="6983280" cy="6193080"/>
              <a:chOff x="468360" y="260280"/>
              <a:chExt cx="6983280" cy="6193080"/>
            </a:xfrm>
          </p:grpSpPr>
          <p:grpSp>
            <p:nvGrpSpPr>
              <p:cNvPr id="171" name="Trójkąt równoramienny 2"/>
              <p:cNvGrpSpPr/>
              <p:nvPr/>
            </p:nvGrpSpPr>
            <p:grpSpPr>
              <a:xfrm>
                <a:off x="884520" y="2188080"/>
                <a:ext cx="4211640" cy="2773800"/>
                <a:chOff x="884520" y="2188080"/>
                <a:chExt cx="4211640" cy="2773800"/>
              </a:xfrm>
            </p:grpSpPr>
            <p:pic>
              <p:nvPicPr>
                <p:cNvPr id="172" name="Trójkąt równoramienny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84520" y="2188080"/>
                  <a:ext cx="4211640" cy="277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1952640" y="3572640"/>
                  <a:ext cx="208800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Głowica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ffff"/>
                      </a:solidFill>
                      <a:latin typeface="Calibri"/>
                    </a:rPr>
                    <a:t>kryształ polaryzowalny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Prostokąt 3"/>
              <p:cNvSpPr/>
              <p:nvPr/>
            </p:nvSpPr>
            <p:spPr>
              <a:xfrm>
                <a:off x="900000" y="5084640"/>
                <a:ext cx="5687640" cy="1368720"/>
              </a:xfrm>
              <a:prstGeom prst="rect">
                <a:avLst/>
              </a:prstGeom>
              <a:solidFill>
                <a:srgbClr val="9848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Calibri"/>
                  </a:rPr>
                  <a:t>tkanki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Strzałka w prawo 5"/>
              <p:cNvSpPr/>
              <p:nvPr/>
            </p:nvSpPr>
            <p:spPr>
              <a:xfrm rot="9802800">
                <a:off x="5148000" y="4728960"/>
                <a:ext cx="1563120" cy="129960"/>
              </a:xfrm>
              <a:prstGeom prst="rightArrow">
                <a:avLst>
                  <a:gd name="adj1" fmla="val 50000"/>
                  <a:gd name="adj2" fmla="val 5006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pole tekstowe 6"/>
              <p:cNvSpPr/>
              <p:nvPr/>
            </p:nvSpPr>
            <p:spPr>
              <a:xfrm>
                <a:off x="6803280" y="4365720"/>
                <a:ext cx="57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żel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załka w dół 7"/>
              <p:cNvSpPr/>
              <p:nvPr/>
            </p:nvSpPr>
            <p:spPr>
              <a:xfrm>
                <a:off x="1692720" y="4724280"/>
                <a:ext cx="287280" cy="1368360"/>
              </a:xfrm>
              <a:prstGeom prst="downArrow">
                <a:avLst>
                  <a:gd name="adj1" fmla="val 50000"/>
                  <a:gd name="adj2" fmla="val 50013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załka w dół 8"/>
              <p:cNvSpPr/>
              <p:nvPr/>
            </p:nvSpPr>
            <p:spPr>
              <a:xfrm>
                <a:off x="2268720" y="4724280"/>
                <a:ext cx="215640" cy="936720"/>
              </a:xfrm>
              <a:prstGeom prst="downArrow">
                <a:avLst>
                  <a:gd name="adj1" fmla="val 50000"/>
                  <a:gd name="adj2" fmla="val 50055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załka w dół 9"/>
              <p:cNvSpPr/>
              <p:nvPr/>
            </p:nvSpPr>
            <p:spPr>
              <a:xfrm>
                <a:off x="2843640" y="4724280"/>
                <a:ext cx="288720" cy="1152360"/>
              </a:xfrm>
              <a:prstGeom prst="downArrow">
                <a:avLst>
                  <a:gd name="adj1" fmla="val 50000"/>
                  <a:gd name="adj2" fmla="val 50020"/>
                </a:avLst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załka w dół 10"/>
              <p:cNvSpPr/>
              <p:nvPr/>
            </p:nvSpPr>
            <p:spPr>
              <a:xfrm flipV="1">
                <a:off x="3780000" y="4723560"/>
                <a:ext cx="215640" cy="136836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Strzałka w dół 12"/>
              <p:cNvSpPr/>
              <p:nvPr/>
            </p:nvSpPr>
            <p:spPr>
              <a:xfrm flipV="1">
                <a:off x="4643280" y="4723560"/>
                <a:ext cx="215640" cy="1081080"/>
              </a:xfrm>
              <a:prstGeom prst="downArrow">
                <a:avLst>
                  <a:gd name="adj1" fmla="val 50000"/>
                  <a:gd name="adj2" fmla="val 50064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Strzałka w dół 11"/>
              <p:cNvSpPr/>
              <p:nvPr/>
            </p:nvSpPr>
            <p:spPr>
              <a:xfrm flipV="1">
                <a:off x="4211640" y="4724280"/>
                <a:ext cx="215640" cy="792000"/>
              </a:xfrm>
              <a:prstGeom prst="downArrow">
                <a:avLst>
                  <a:gd name="adj1" fmla="val 50000"/>
                  <a:gd name="adj2" fmla="val 50042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Dowolny kształt 13"/>
              <p:cNvSpPr/>
              <p:nvPr/>
            </p:nvSpPr>
            <p:spPr>
              <a:xfrm rot="318000">
                <a:off x="3027960" y="1335240"/>
                <a:ext cx="2835720" cy="100224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pole tekstowe 14"/>
              <p:cNvSpPr/>
              <p:nvPr/>
            </p:nvSpPr>
            <p:spPr>
              <a:xfrm>
                <a:off x="4860000" y="5229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92d050"/>
                    </a:solidFill>
                    <a:latin typeface="Calibri"/>
                  </a:rPr>
                  <a:t>ech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Dowolny kształt 16"/>
              <p:cNvSpPr/>
              <p:nvPr/>
            </p:nvSpPr>
            <p:spPr>
              <a:xfrm flipH="1" rot="21105600">
                <a:off x="802800" y="1537200"/>
                <a:ext cx="2208240" cy="829800"/>
              </a:xfrm>
              <a:custGeom>
                <a:avLst/>
                <a:gdLst/>
                <a:ahLst/>
                <a:rect l="l" t="t" r="r" b="b"/>
                <a:pathLst>
                  <a:path w="3902868" h="1394217">
                    <a:moveTo>
                      <a:pt x="11912" y="1394217"/>
                    </a:moveTo>
                    <a:cubicBezTo>
                      <a:pt x="33874" y="1174606"/>
                      <a:pt x="0" y="1319572"/>
                      <a:pt x="122749" y="1089417"/>
                    </a:cubicBezTo>
                    <a:cubicBezTo>
                      <a:pt x="159671" y="1020188"/>
                      <a:pt x="104153" y="1069486"/>
                      <a:pt x="178167" y="1020144"/>
                    </a:cubicBezTo>
                    <a:cubicBezTo>
                      <a:pt x="254456" y="905709"/>
                      <a:pt x="131473" y="1080693"/>
                      <a:pt x="330567" y="881599"/>
                    </a:cubicBezTo>
                    <a:cubicBezTo>
                      <a:pt x="363322" y="848844"/>
                      <a:pt x="386080" y="822168"/>
                      <a:pt x="427549" y="798471"/>
                    </a:cubicBezTo>
                    <a:cubicBezTo>
                      <a:pt x="472379" y="772854"/>
                      <a:pt x="523133" y="757840"/>
                      <a:pt x="566094" y="729199"/>
                    </a:cubicBezTo>
                    <a:cubicBezTo>
                      <a:pt x="579949" y="719962"/>
                      <a:pt x="592997" y="709383"/>
                      <a:pt x="607658" y="701489"/>
                    </a:cubicBezTo>
                    <a:cubicBezTo>
                      <a:pt x="653119" y="677010"/>
                      <a:pt x="696112" y="644740"/>
                      <a:pt x="746203" y="632217"/>
                    </a:cubicBezTo>
                    <a:lnTo>
                      <a:pt x="857040" y="604508"/>
                    </a:lnTo>
                    <a:lnTo>
                      <a:pt x="912458" y="590653"/>
                    </a:lnTo>
                    <a:cubicBezTo>
                      <a:pt x="946912" y="567684"/>
                      <a:pt x="969262" y="550302"/>
                      <a:pt x="1009440" y="535235"/>
                    </a:cubicBezTo>
                    <a:cubicBezTo>
                      <a:pt x="1027269" y="528549"/>
                      <a:pt x="1046794" y="527401"/>
                      <a:pt x="1064858" y="521380"/>
                    </a:cubicBezTo>
                    <a:cubicBezTo>
                      <a:pt x="1069867" y="519710"/>
                      <a:pt x="1156236" y="483060"/>
                      <a:pt x="1175694" y="479817"/>
                    </a:cubicBezTo>
                    <a:cubicBezTo>
                      <a:pt x="1216944" y="472942"/>
                      <a:pt x="1258821" y="470580"/>
                      <a:pt x="1300385" y="465962"/>
                    </a:cubicBezTo>
                    <a:cubicBezTo>
                      <a:pt x="1388131" y="475198"/>
                      <a:pt x="1476696" y="478554"/>
                      <a:pt x="1563622" y="493671"/>
                    </a:cubicBezTo>
                    <a:cubicBezTo>
                      <a:pt x="1583970" y="497210"/>
                      <a:pt x="1601451" y="510556"/>
                      <a:pt x="1619040" y="521380"/>
                    </a:cubicBezTo>
                    <a:cubicBezTo>
                      <a:pt x="1661583" y="547561"/>
                      <a:pt x="1702167" y="576799"/>
                      <a:pt x="1743731" y="604508"/>
                    </a:cubicBezTo>
                    <a:cubicBezTo>
                      <a:pt x="1752967" y="618362"/>
                      <a:pt x="1759666" y="634297"/>
                      <a:pt x="1771440" y="646071"/>
                    </a:cubicBezTo>
                    <a:cubicBezTo>
                      <a:pt x="1791024" y="665655"/>
                      <a:pt x="1846687" y="690622"/>
                      <a:pt x="1868422" y="701489"/>
                    </a:cubicBezTo>
                    <a:cubicBezTo>
                      <a:pt x="1877658" y="710726"/>
                      <a:pt x="1884448" y="723357"/>
                      <a:pt x="1896131" y="729199"/>
                    </a:cubicBezTo>
                    <a:cubicBezTo>
                      <a:pt x="1922255" y="742261"/>
                      <a:pt x="1950617" y="751180"/>
                      <a:pt x="1979258" y="756908"/>
                    </a:cubicBezTo>
                    <a:cubicBezTo>
                      <a:pt x="2108638" y="782783"/>
                      <a:pt x="2011894" y="766172"/>
                      <a:pt x="2214785" y="784617"/>
                    </a:cubicBezTo>
                    <a:lnTo>
                      <a:pt x="2353331" y="798471"/>
                    </a:lnTo>
                    <a:cubicBezTo>
                      <a:pt x="2363688" y="795882"/>
                      <a:pt x="2436111" y="779282"/>
                      <a:pt x="2450312" y="770762"/>
                    </a:cubicBezTo>
                    <a:cubicBezTo>
                      <a:pt x="2461513" y="764041"/>
                      <a:pt x="2466821" y="749773"/>
                      <a:pt x="2478022" y="743053"/>
                    </a:cubicBezTo>
                    <a:cubicBezTo>
                      <a:pt x="2490545" y="735540"/>
                      <a:pt x="2506325" y="735319"/>
                      <a:pt x="2519585" y="729199"/>
                    </a:cubicBezTo>
                    <a:cubicBezTo>
                      <a:pt x="2566466" y="707562"/>
                      <a:pt x="2616825" y="690906"/>
                      <a:pt x="2658131" y="659926"/>
                    </a:cubicBezTo>
                    <a:cubicBezTo>
                      <a:pt x="2676604" y="646071"/>
                      <a:pt x="2693749" y="630242"/>
                      <a:pt x="2713549" y="618362"/>
                    </a:cubicBezTo>
                    <a:cubicBezTo>
                      <a:pt x="2740114" y="602423"/>
                      <a:pt x="2769917" y="592409"/>
                      <a:pt x="2796676" y="576799"/>
                    </a:cubicBezTo>
                    <a:cubicBezTo>
                      <a:pt x="2825442" y="560019"/>
                      <a:pt x="2850889" y="537903"/>
                      <a:pt x="2879803" y="521380"/>
                    </a:cubicBezTo>
                    <a:cubicBezTo>
                      <a:pt x="2915667" y="500886"/>
                      <a:pt x="2958908" y="492406"/>
                      <a:pt x="2990640" y="465962"/>
                    </a:cubicBezTo>
                    <a:cubicBezTo>
                      <a:pt x="3018349" y="442871"/>
                      <a:pt x="3044597" y="417904"/>
                      <a:pt x="3073767" y="396689"/>
                    </a:cubicBezTo>
                    <a:cubicBezTo>
                      <a:pt x="3140641" y="348054"/>
                      <a:pt x="3125586" y="363403"/>
                      <a:pt x="3184603" y="341271"/>
                    </a:cubicBezTo>
                    <a:cubicBezTo>
                      <a:pt x="3207889" y="332539"/>
                      <a:pt x="3230504" y="322061"/>
                      <a:pt x="3253876" y="313562"/>
                    </a:cubicBezTo>
                    <a:cubicBezTo>
                      <a:pt x="3281325" y="303580"/>
                      <a:pt x="3309294" y="295089"/>
                      <a:pt x="3337003" y="285853"/>
                    </a:cubicBezTo>
                    <a:lnTo>
                      <a:pt x="3378567" y="271999"/>
                    </a:lnTo>
                    <a:cubicBezTo>
                      <a:pt x="3392422" y="262762"/>
                      <a:pt x="3405238" y="251736"/>
                      <a:pt x="3420131" y="244289"/>
                    </a:cubicBezTo>
                    <a:cubicBezTo>
                      <a:pt x="3433193" y="237758"/>
                      <a:pt x="3449543" y="238536"/>
                      <a:pt x="3461694" y="230435"/>
                    </a:cubicBezTo>
                    <a:cubicBezTo>
                      <a:pt x="3477997" y="219567"/>
                      <a:pt x="3486955" y="199739"/>
                      <a:pt x="3503258" y="188871"/>
                    </a:cubicBezTo>
                    <a:cubicBezTo>
                      <a:pt x="3515409" y="180770"/>
                      <a:pt x="3531399" y="180770"/>
                      <a:pt x="3544822" y="175017"/>
                    </a:cubicBezTo>
                    <a:cubicBezTo>
                      <a:pt x="3563805" y="166881"/>
                      <a:pt x="3580964" y="154722"/>
                      <a:pt x="3600240" y="147308"/>
                    </a:cubicBezTo>
                    <a:cubicBezTo>
                      <a:pt x="3641132" y="131580"/>
                      <a:pt x="3688477" y="130047"/>
                      <a:pt x="3724931" y="105744"/>
                    </a:cubicBezTo>
                    <a:lnTo>
                      <a:pt x="3808058" y="50326"/>
                    </a:lnTo>
                    <a:cubicBezTo>
                      <a:pt x="3821913" y="41090"/>
                      <a:pt x="3833825" y="27883"/>
                      <a:pt x="3849622" y="22617"/>
                    </a:cubicBezTo>
                    <a:cubicBezTo>
                      <a:pt x="3863476" y="17999"/>
                      <a:pt x="3902868" y="0"/>
                      <a:pt x="3891185" y="8762"/>
                    </a:cubicBezTo>
                    <a:cubicBezTo>
                      <a:pt x="3861398" y="31101"/>
                      <a:pt x="3825615" y="44190"/>
                      <a:pt x="3794203" y="64180"/>
                    </a:cubicBezTo>
                    <a:cubicBezTo>
                      <a:pt x="3774722" y="76577"/>
                      <a:pt x="3758970" y="94530"/>
                      <a:pt x="3738785" y="105744"/>
                    </a:cubicBezTo>
                    <a:cubicBezTo>
                      <a:pt x="3717045" y="117822"/>
                      <a:pt x="3691105" y="121114"/>
                      <a:pt x="3669512" y="133453"/>
                    </a:cubicBezTo>
                    <a:cubicBezTo>
                      <a:pt x="3626141" y="158237"/>
                      <a:pt x="3580145" y="181259"/>
                      <a:pt x="3544822" y="216580"/>
                    </a:cubicBezTo>
                    <a:cubicBezTo>
                      <a:pt x="3535585" y="225816"/>
                      <a:pt x="3529343" y="239702"/>
                      <a:pt x="3517112" y="244289"/>
                    </a:cubicBezTo>
                    <a:cubicBezTo>
                      <a:pt x="3397690" y="289072"/>
                      <a:pt x="3460788" y="231339"/>
                      <a:pt x="3420131" y="271999"/>
                    </a:cubicBezTo>
                  </a:path>
                </a:pathLst>
              </a:custGeom>
              <a:noFill/>
              <a:ln w="5724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6" name="Picture 21" descr="http://www.old.imnipe.pwr.wroc.pl/skryptme/CW32_pliki/image008.jpg"/>
              <p:cNvPicPr/>
              <p:nvPr/>
            </p:nvPicPr>
            <p:blipFill>
              <a:blip r:embed="rId2"/>
              <a:srcRect l="0" t="0" r="69589" b="48537"/>
              <a:stretch/>
            </p:blipFill>
            <p:spPr>
              <a:xfrm>
                <a:off x="468360" y="1196280"/>
                <a:ext cx="151164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23" descr="https://encrypted-tbn3.gstatic.com/images?q=tbn:ANd9GcSbZHqeCz--nI2RvfzhGNlq5wMjnpC3wvvjQ2xfUfYvRp56v_qx"/>
              <p:cNvPicPr/>
              <p:nvPr/>
            </p:nvPicPr>
            <p:blipFill>
              <a:blip r:embed="rId3"/>
              <a:srcRect l="28005" t="9341" r="41206" b="62682"/>
              <a:stretch/>
            </p:blipFill>
            <p:spPr>
              <a:xfrm>
                <a:off x="5868000" y="260280"/>
                <a:ext cx="1583640" cy="1728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88" name="Łącznik prosty ze strzałką 21"/>
              <p:cNvCxnSpPr/>
              <p:nvPr/>
            </p:nvCxnSpPr>
            <p:spPr>
              <a:xfrm flipV="1">
                <a:off x="1115640" y="1339920"/>
                <a:ext cx="648360" cy="864720"/>
              </a:xfrm>
              <a:prstGeom prst="straightConnector1">
                <a:avLst/>
              </a:prstGeom>
              <a:ln w="381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89" name="pole tekstowe 15"/>
            <p:cNvSpPr/>
            <p:nvPr/>
          </p:nvSpPr>
          <p:spPr>
            <a:xfrm>
              <a:off x="927360" y="537336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c000"/>
                  </a:solidFill>
                  <a:latin typeface="Calibri"/>
                </a:rPr>
                <a:t>Fal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le tekstowe 2"/>
          <p:cNvSpPr/>
          <p:nvPr/>
        </p:nvSpPr>
        <p:spPr>
          <a:xfrm>
            <a:off x="39528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wica aparatu  pod napięciem, wytwarza krótki impuls, według wyliczeń, przy średniej prędkości fal ultradźwiękowych  w tkankach i penetracji około 20 cm, echo wraca w czasie 0,25  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powrocie echa głowica wysyła kolejny impu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ieważ czas powrotu echa to milisekundy, do mierzenia czasu stosuje się lampę oscyloskop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azowanie w U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ole tekstowe 2"/>
          <p:cNvSpPr/>
          <p:nvPr/>
        </p:nvSpPr>
        <p:spPr>
          <a:xfrm>
            <a:off x="468360" y="162864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mówione powyżej badanie stosuje się na przykład w neurolog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wyniku badania otrzymujemy na osi (poziomej) ekranu – czas powrotu echa, jest  to informacja o odległości powierzchni granicznych tka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to tak zwana metoda – prezentacja A, którą można wyrazić (w badaniu neurologicznym) echoencefal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http://www.kennislink.nl/upload/273382_276_1229972733842-81631_276_1023177244230-Neurale_activiteit1.jpg"/>
          <p:cNvPicPr/>
          <p:nvPr/>
        </p:nvPicPr>
        <p:blipFill>
          <a:blip r:embed="rId1"/>
          <a:srcRect l="0" t="43797" r="87941" b="34556"/>
          <a:stretch/>
        </p:blipFill>
        <p:spPr>
          <a:xfrm>
            <a:off x="322200" y="836640"/>
            <a:ext cx="2233800" cy="2259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us.123rf.com/450wm/rob3000/rob30001304/rob3000130400005/18975599-elektro-encefalogram.jpg"/>
          <p:cNvPicPr/>
          <p:nvPr/>
        </p:nvPicPr>
        <p:blipFill>
          <a:blip r:embed="rId2"/>
          <a:srcRect l="3116" t="8322" r="3460" b="11294"/>
          <a:stretch/>
        </p:blipFill>
        <p:spPr>
          <a:xfrm>
            <a:off x="2295360" y="1773360"/>
            <a:ext cx="6309000" cy="4065480"/>
          </a:xfrm>
          <a:prstGeom prst="rect">
            <a:avLst/>
          </a:prstGeom>
          <a:ln w="0">
            <a:noFill/>
          </a:ln>
        </p:spPr>
      </p:pic>
      <p:sp>
        <p:nvSpPr>
          <p:cNvPr id="196" name="Prostokąt 3"/>
          <p:cNvSpPr/>
          <p:nvPr/>
        </p:nvSpPr>
        <p:spPr>
          <a:xfrm>
            <a:off x="324000" y="5877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s.123rf.com/450wm/rob3000/rob30001304/rob3000130400005/18975599-elektro-encefalogr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typu B(Brightnes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ole tekstowe 2"/>
          <p:cNvSpPr/>
          <p:nvPr/>
        </p:nvSpPr>
        <p:spPr>
          <a:xfrm>
            <a:off x="468360" y="112536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ego typu obrazowaniu echa są wyrażane na ekranie w postaci punktów, których jasność jest  zależna od natężenia ec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wiemy, echo jest wytwarzane przez granice narządów, przez struktury wewnętrzne narządów (np. ściany naczyń krwionośnyc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kże patologiczne zmiany w tkankach, organach – są sygnalizowane przez zmiany echa. Zmiany są porównywane z (prawidłowym) wzorc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zentacja (Brightne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https://encrypted-tbn1.gstatic.com/images?q=tbn:ANd9GcTsma0eUUgvlLi4XUkOAjVfgeRIlXUJCrgWtYXkRpmfhbgA0FtE3A"/>
          <p:cNvPicPr/>
          <p:nvPr/>
        </p:nvPicPr>
        <p:blipFill>
          <a:blip r:embed="rId1"/>
          <a:stretch/>
        </p:blipFill>
        <p:spPr>
          <a:xfrm>
            <a:off x="611280" y="2276640"/>
            <a:ext cx="3936960" cy="2736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rcRect l="0" t="10353" r="0" b="11996"/>
          <a:stretch/>
        </p:blipFill>
        <p:spPr>
          <a:xfrm>
            <a:off x="4813200" y="2276640"/>
            <a:ext cx="3935520" cy="273672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4"/>
          <p:cNvSpPr/>
          <p:nvPr/>
        </p:nvSpPr>
        <p:spPr>
          <a:xfrm>
            <a:off x="395280" y="5445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1.bp.blogspot.com/-Fn2yNOmp1l4/UH3FH-_01gI/AAAAAAAAAGo/TYFRvjgZ1fE/s1600/echographie-bebe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97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czego w diagnostyce medycznej nie stosuje się dźwięków słyszalnych, ale ultradźwięk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2"/>
          <p:cNvSpPr/>
          <p:nvPr/>
        </p:nvSpPr>
        <p:spPr>
          <a:xfrm>
            <a:off x="324000" y="2349360"/>
            <a:ext cx="849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nie stosuje się dźwięków słyszalnych, gdyż zbyt mała jest ich rozdzielczość, która pozwala na określanie odległości – jedynie w metr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dzielczość – najmniejsza odległość dwóch punktów badanego obiektu, obrazowanych oddzielnie (które jeszcze mogą być różnicowane przez urządzeni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ole tekstowe 2"/>
          <p:cNvSpPr/>
          <p:nvPr/>
        </p:nvSpPr>
        <p:spPr>
          <a:xfrm>
            <a:off x="539640" y="1125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iagnostyce medycznej stosowane są fale  krótkie, o częstotliwości, która przekracz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 razy częstotliwość dźwięków słyszalnych, czyli dźwięki w przedziale częstotliwoś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– 100  MH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aparaturze klinicznej USG, ograniczone jest natężenie fali, ze względu na ryzyko szkodliwych oddziaływań fal o dużym natężeniu na tka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e fal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ole tekstowe 2"/>
          <p:cNvSpPr/>
          <p:nvPr/>
        </p:nvSpPr>
        <p:spPr>
          <a:xfrm>
            <a:off x="324000" y="141300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fala ultradźwiękowa pada na granicę dwóch ośrodków, o różnych prędkościach propagacji – następuje załamanie f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raz ze wzrostem kąta padania fali wzrasta współczynnik odbi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le tekstowe 1"/>
          <p:cNvSpPr/>
          <p:nvPr/>
        </p:nvSpPr>
        <p:spPr>
          <a:xfrm>
            <a:off x="395280" y="7650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ałkowite, wewnętrzne odbicie występuje na przykład, gdy fala ultradźwiękowa przekracza granicę: tkanka/otolit (np. kamień w nerkach albo w woreczku żółciowy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mienie czyli otolity odbijają całą energię akustyczną fali i dlatego, za nimi występuje cień akustyczny, gdyż poza otolitem nie ma ruchu f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to jest zaburzenie ośrodka sprężystego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539640" y="2205000"/>
            <a:ext cx="80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urzenie ośrodka sprężystego, związa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ozchodzeniem się fali, polega na przenoszeniu energii mechanicznej przez drgające cząsteczki ośrodka, bez zmiany ich średniego położ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ień akust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upa 6"/>
          <p:cNvGrpSpPr/>
          <p:nvPr/>
        </p:nvGrpSpPr>
        <p:grpSpPr>
          <a:xfrm>
            <a:off x="1042920" y="2060640"/>
            <a:ext cx="7434000" cy="3170160"/>
            <a:chOff x="1042920" y="2060640"/>
            <a:chExt cx="7434000" cy="3170160"/>
          </a:xfrm>
        </p:grpSpPr>
        <p:pic>
          <p:nvPicPr>
            <p:cNvPr id="211" name="Picture 2" descr="https://encrypted-tbn2.gstatic.com/images?q=tbn:ANd9GcRHfDlioQgtqhCUHid9nXCmPD6dB-mMrezUuw41CJfxXBm0lfb8Fw"/>
            <p:cNvPicPr/>
            <p:nvPr/>
          </p:nvPicPr>
          <p:blipFill>
            <a:blip r:embed="rId1"/>
            <a:stretch/>
          </p:blipFill>
          <p:spPr>
            <a:xfrm>
              <a:off x="1042920" y="2060640"/>
              <a:ext cx="3961080" cy="3170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2" name="Łącznik prosty ze strzałką 4"/>
            <p:cNvCxnSpPr/>
            <p:nvPr/>
          </p:nvCxnSpPr>
          <p:spPr>
            <a:xfrm flipH="1">
              <a:off x="2626560" y="3715560"/>
              <a:ext cx="3025080" cy="937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3" name="pole tekstowe 8"/>
            <p:cNvSpPr/>
            <p:nvPr/>
          </p:nvSpPr>
          <p:spPr>
            <a:xfrm>
              <a:off x="5586480" y="3357360"/>
              <a:ext cx="28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Calibri"/>
                </a:rPr>
                <a:t>Cień akustyczny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Prostokąt 9"/>
          <p:cNvSpPr/>
          <p:nvPr/>
        </p:nvSpPr>
        <p:spPr>
          <a:xfrm>
            <a:off x="324000" y="573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awelszaro.pl/foty/biblioteka_zdjec/zolc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9"/>
          <p:cNvSpPr/>
          <p:nvPr/>
        </p:nvSpPr>
        <p:spPr>
          <a:xfrm>
            <a:off x="709308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20"/>
          <p:cNvSpPr/>
          <p:nvPr/>
        </p:nvSpPr>
        <p:spPr>
          <a:xfrm>
            <a:off x="6732720" y="2637000"/>
            <a:ext cx="647640" cy="457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upa 17"/>
          <p:cNvGrpSpPr/>
          <p:nvPr/>
        </p:nvGrpSpPr>
        <p:grpSpPr>
          <a:xfrm>
            <a:off x="395280" y="907920"/>
            <a:ext cx="8385840" cy="5434200"/>
            <a:chOff x="395280" y="907920"/>
            <a:chExt cx="8385840" cy="5434200"/>
          </a:xfrm>
        </p:grpSpPr>
        <p:sp>
          <p:nvSpPr>
            <p:cNvPr id="107" name="Strzałka w prawo 2"/>
            <p:cNvSpPr/>
            <p:nvPr/>
          </p:nvSpPr>
          <p:spPr>
            <a:xfrm>
              <a:off x="395280" y="3500280"/>
              <a:ext cx="8280720" cy="122400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upa 16"/>
            <p:cNvGrpSpPr/>
            <p:nvPr/>
          </p:nvGrpSpPr>
          <p:grpSpPr>
            <a:xfrm>
              <a:off x="826920" y="907920"/>
              <a:ext cx="7954200" cy="5434200"/>
              <a:chOff x="826920" y="907920"/>
              <a:chExt cx="7954200" cy="5434200"/>
            </a:xfrm>
          </p:grpSpPr>
          <p:sp>
            <p:nvSpPr>
              <p:cNvPr id="109" name="Łącznik prosty 5"/>
              <p:cNvSpPr/>
              <p:nvPr/>
            </p:nvSpPr>
            <p:spPr>
              <a:xfrm>
                <a:off x="28429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Łącznik prosty 6"/>
              <p:cNvSpPr/>
              <p:nvPr/>
            </p:nvSpPr>
            <p:spPr>
              <a:xfrm>
                <a:off x="5292720" y="2997000"/>
                <a:ext cx="0" cy="259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trzałka w dół 14"/>
              <p:cNvSpPr/>
              <p:nvPr/>
            </p:nvSpPr>
            <p:spPr>
              <a:xfrm rot="10800000">
                <a:off x="6804000" y="2852280"/>
                <a:ext cx="504720" cy="2663640"/>
              </a:xfrm>
              <a:prstGeom prst="downArrow">
                <a:avLst>
                  <a:gd name="adj1" fmla="val 50000"/>
                  <a:gd name="adj2" fmla="val 50014"/>
                </a:avLst>
              </a:prstGeom>
              <a:solidFill>
                <a:srgbClr val="4f6228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2" name="Picture 2" descr="https://encrypted-tbn0.gstatic.com/images?q=tbn:ANd9GcSk-29HLBtlVaS53rRK55-dM91koM6y4j8OCy3WC15opcfhtAtZZw"/>
              <p:cNvPicPr/>
              <p:nvPr/>
            </p:nvPicPr>
            <p:blipFill>
              <a:blip r:embed="rId1"/>
              <a:srcRect l="0" t="18293" r="25571" b="0"/>
              <a:stretch/>
            </p:blipFill>
            <p:spPr>
              <a:xfrm rot="16659600">
                <a:off x="3018960" y="801000"/>
                <a:ext cx="2020680" cy="25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pole tekstowe 3"/>
              <p:cNvSpPr/>
              <p:nvPr/>
            </p:nvSpPr>
            <p:spPr>
              <a:xfrm>
                <a:off x="826920" y="4005000"/>
                <a:ext cx="16574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Infradźwięk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(poniżej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Calibri"/>
                  </a:rPr>
                  <a:t>kilkunastu drgań na sekundę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pole tekstowe 7"/>
              <p:cNvSpPr/>
              <p:nvPr/>
            </p:nvSpPr>
            <p:spPr>
              <a:xfrm>
                <a:off x="3563640" y="4005000"/>
                <a:ext cx="1584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Calibri"/>
                  </a:rPr>
                  <a:t>Dźwięki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Calibri"/>
                  </a:rPr>
                  <a:t>(słyszalne fale akustyczne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pole tekstowe 12"/>
              <p:cNvSpPr/>
              <p:nvPr/>
            </p:nvSpPr>
            <p:spPr>
              <a:xfrm>
                <a:off x="2560320" y="566100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 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pole tekstowe 13"/>
              <p:cNvSpPr/>
              <p:nvPr/>
            </p:nvSpPr>
            <p:spPr>
              <a:xfrm>
                <a:off x="4787640" y="5516640"/>
                <a:ext cx="158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4f6228"/>
                    </a:solidFill>
                    <a:latin typeface="Calibri"/>
                  </a:rPr>
                  <a:t>16000 Hz 16kHz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Prostokąt 15"/>
              <p:cNvSpPr/>
              <p:nvPr/>
            </p:nvSpPr>
            <p:spPr>
              <a:xfrm>
                <a:off x="6012000" y="1196640"/>
                <a:ext cx="2160720" cy="1295280"/>
              </a:xfrm>
              <a:prstGeom prst="rect">
                <a:avLst/>
              </a:prstGeom>
              <a:solidFill>
                <a:srgbClr val="4f81b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ffff"/>
                    </a:solidFill>
                    <a:latin typeface="Calibri"/>
                  </a:rPr>
                  <a:t>Diagnostyka medyczna (USG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pole tekstowe 21"/>
              <p:cNvSpPr/>
              <p:nvPr/>
            </p:nvSpPr>
            <p:spPr>
              <a:xfrm>
                <a:off x="6245640" y="5589720"/>
                <a:ext cx="25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Calibri"/>
                  </a:rPr>
                  <a:t>(1MHz -10 MHz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pole tekstowe 22"/>
          <p:cNvSpPr/>
          <p:nvPr/>
        </p:nvSpPr>
        <p:spPr>
          <a:xfrm>
            <a:off x="5940360" y="4005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LTRADŹWIĘ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16"/>
          <p:cNvSpPr/>
          <p:nvPr/>
        </p:nvSpPr>
        <p:spPr>
          <a:xfrm>
            <a:off x="25416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la przypomnienia… przykłady infradźwięków, źródła infradźwię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1557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Natural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źródłem ich są huragany, trąby powietrzne, erupcje wulkanów, trzęsienia ziemi, wyładowania atmosferyczne, infradźwięki generowane w strefie przyboju fal. Dźwięki wydawane przez walenie oraz słon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Sztucz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wywołane przez człowieka: detonacje ładunków, elektrownie wiatrowe, wentylatory przemysłowe, sprężarki, silniki odrzutowe, młoty pneumaty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62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ultradźwięków, zastosowanie ultradźwię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250920" y="1773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generowane przez niektóre zwierzęta (ssaki morskie, nietoperze), którym służą do echolokac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ltradźwięki sztuczne, oprócz zastosowań w diagnostyce medycznej (USG, USG 3D, doppler), używane są w echolokacji (oceanografia), do oczyszczania powierzchni, oczyszczania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użą badaniom defektoskopowym (np. szyn kolejowych). Wykorzystywane w nanotechnolo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jęcia i prawa ruchu fal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2"/>
          <p:cNvSpPr/>
          <p:nvPr/>
        </p:nvSpPr>
        <p:spPr>
          <a:xfrm>
            <a:off x="468360" y="17733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le mechanicz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ości i pojęcia charakteryzujące ruch falowy: częstotliwość, długość fali, prędkość fali, amplituda, energia fali, odbicie, ugięcie, załam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936720" y="177336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stotliwość fal dźwiękowych (f) = cykl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stka: herc (H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Hz = 1/s = s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 Hz = 1 k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000000 Hz = 1MHz = 1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ara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2"/>
          <p:cNvSpPr/>
          <p:nvPr/>
        </p:nvSpPr>
        <p:spPr>
          <a:xfrm>
            <a:off x="179280" y="1700280"/>
            <a:ext cx="85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ługość fali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przebyta odległość w trakcie jednego cyk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3.gstatic.com/images?q=tbn:ANd9GcSUqUngaxRIqjVXOhFj9lp_tq9pkOhE9UG-LNVnRtlyEE1CsYJ1IHu-9RFp"/>
          <p:cNvPicPr/>
          <p:nvPr/>
        </p:nvPicPr>
        <p:blipFill>
          <a:blip r:embed="rId1"/>
          <a:stretch/>
        </p:blipFill>
        <p:spPr>
          <a:xfrm>
            <a:off x="755640" y="2781360"/>
            <a:ext cx="3745080" cy="31827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468360" y="5940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3.e-monsite.com/2010/12/15/75695274sans-titre-jp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www.epomoce.pl/komorki/fizyka/FizykaDoZadan/gPrawaWzoryFizyka/9_14.PNG"/>
          <p:cNvPicPr/>
          <p:nvPr/>
        </p:nvPicPr>
        <p:blipFill>
          <a:blip r:embed="rId2"/>
          <a:stretch/>
        </p:blipFill>
        <p:spPr>
          <a:xfrm>
            <a:off x="6156360" y="2781360"/>
            <a:ext cx="24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08-25T16:26:04Z</dcterms:modified>
  <cp:revision>50</cp:revision>
  <dc:subject/>
  <dc:title>Slajd 1</dc:title>
</cp:coreProperties>
</file>