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F7E-492A-4016-8927-5938FCE1312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767E-3260-4191-9532-FA794A34D2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F12-9871-4A8C-B5F2-6A9DC58A81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C6A-E112-4468-950E-8817E88AC0D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EECE-8C0D-4336-B059-CA7BD741D9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466-F10C-4FD5-96CD-E0E06562A2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FAD-1A36-430C-A7B9-E66AF4516E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FDE-860B-4264-A92A-E2CC902276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335C-AE08-424E-82CC-640A6C3C1F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19C-1E2A-4965-8A42-3173C32F5E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3BE-1CAD-4467-AFEC-D6F4084FD6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698-981F-404B-9F6C-6C2ABE6104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68A9-A07D-4DCF-A44D-3344307AB4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5DF-F0F4-4A10-8A5E-15D2368A51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DBA-FBA7-4B76-8B18-D96BB3D259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329C-7D72-41CD-AF38-AB8BFBB4B7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371-5AAA-4912-A665-5CFF5D1F1D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E57-F10D-4F67-9C50-B3CEC7C923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4ED-D1BA-4A03-8FC5-FD7C48E45D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A801-9C40-423C-90D4-19B490ED86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E1C5-D01A-4545-BCB7-0E8B72AC98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4D8-0719-413D-A7E4-394B91E9D4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7BD-2620-4C0C-B6AE-90D7A398E9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3561-3316-45CA-BD48-C874362152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F7B4-C790-44EE-9B4E-DBEDB9E030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DDD-25DB-4E1F-965B-29D2E0E7C6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7933-D7A6-45A1-B14C-F17300DE93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35E4-3089-4352-92D3-9B887BCA36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BFB-5EDE-4FD7-BAE1-5F75180104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2BB-8997-4DEC-A642-A935C8AB53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6E1-DF1A-4C56-9F03-0091A2815BC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AF-2FE6-4CA0-95A2-BBEFA5CD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8AB-F3B5-4D1E-B972-A765F1E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917-1BC2-4C38-9F15-223EE16F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1DB-05A7-414F-8B4D-7BA969B1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DE57-CC35-4F0C-AC40-6ADAC0A5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266C-F404-4E8F-8472-31F700AC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F624-4376-4E4B-A03D-FE77D0D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BE9A-CB51-4201-A4A1-581A8E41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8C2-A7A2-415A-85F2-2D9EBE99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EBA0-B636-49C8-864C-BF00DCC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65C1-58EC-44B2-B058-A0A45F1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D93-A70F-49FC-9F1F-39C1AD3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C50F-865D-476B-A52F-5ACE5E9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1F58-2374-44BC-986F-0E399F5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9756-73C6-47B7-B61E-1093BD8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C82-48D4-4F5E-BE66-EC7564CB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A7D-AE1B-475F-A450-A3B5C388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B79-22F5-432F-A7F8-98B935A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83F-F017-4A28-9000-E9B8FA2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57B-0C03-4A5B-91D6-3B0D9BAC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D89-3D38-4C68-9782-DE87F26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AD7-499C-492D-8DD5-56E7B39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CF3-5171-43AB-A772-1FBA2C3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523-03C5-4560-8C8D-9B7B339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E17-8D53-440A-A93D-E7C50C32FCF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2B1-8275-434A-B418-B8A3D0CF27C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–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50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852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pod napięciem, wytwarza krótki impuls, według wyliczeń, przy średniej prędkości fal ultradźwiękowych  w tkankach i penetracji około 20 cm, echo wraca w czasie 0,25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rostokąt 1"/>
          <p:cNvSpPr/>
          <p:nvPr/>
        </p:nvSpPr>
        <p:spPr>
          <a:xfrm>
            <a:off x="539640" y="620640"/>
            <a:ext cx="79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as powrotu echa, jest  to informacja o odległości powierzchni granicznych tkanek.  Lampa oscyloskopowa mierzy czas powrotu ech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orzona w lampie oscyloskopowej wiązka elektronów, padając na ekran, wywołuje w nim luminescencję punktu, czyli plamki świetln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czas powrotu e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czyli odległości odbijających powierzchni granicznyc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rostokąt 1"/>
          <p:cNvSpPr/>
          <p:nvPr/>
        </p:nvSpPr>
        <p:spPr>
          <a:xfrm>
            <a:off x="539640" y="90792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e, docierające do głowicy echo, wywołuje pionowe odchylenie plamki świetlnej na ekranie. Na osi poziomej – zaznacza się  czas powrotu echa (czyli odległości odbijających powierzchni granicznych od głowi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mplituda odzwierciedla natężenie echa. Taki sposób prezentacji, w której głośność echa jest proporcjonalna do  amplitudy (plamki świetlnej) to prezentacja A = modulacj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W wyniku badania otrzymujemy na osi (poziomej) ekranu – czas powrotu echa. Jest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toda ta to tak zwana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kres dla modulacji 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prezentacji USG typu 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raz 3" descr="Rysunek09_T77_amp_time.png"/>
          <p:cNvPicPr/>
          <p:nvPr/>
        </p:nvPicPr>
        <p:blipFill>
          <a:blip r:embed="rId1"/>
          <a:stretch/>
        </p:blipFill>
        <p:spPr>
          <a:xfrm>
            <a:off x="2052720" y="1636560"/>
            <a:ext cx="5038560" cy="409608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4"/>
          <p:cNvSpPr/>
          <p:nvPr/>
        </p:nvSpPr>
        <p:spPr>
          <a:xfrm>
            <a:off x="468360" y="5805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rain.fuw.edu.pl/edu-wiki/images/9/94/ZalamkiN2_P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,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7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upa 6"/>
          <p:cNvGrpSpPr/>
          <p:nvPr/>
        </p:nvGrpSpPr>
        <p:grpSpPr>
          <a:xfrm>
            <a:off x="684360" y="2060640"/>
            <a:ext cx="7576920" cy="3170160"/>
            <a:chOff x="684360" y="2060640"/>
            <a:chExt cx="7576920" cy="3170160"/>
          </a:xfrm>
        </p:grpSpPr>
        <p:pic>
          <p:nvPicPr>
            <p:cNvPr id="216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684360" y="2060640"/>
              <a:ext cx="396036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7" name="Łącznik prosty ze strzałką 4"/>
            <p:cNvCxnSpPr/>
            <p:nvPr/>
          </p:nvCxnSpPr>
          <p:spPr>
            <a:xfrm flipH="1">
              <a:off x="2268000" y="3715560"/>
              <a:ext cx="302472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8" name="pole tekstowe 8"/>
            <p:cNvSpPr/>
            <p:nvPr/>
          </p:nvSpPr>
          <p:spPr>
            <a:xfrm>
              <a:off x="537084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576280" cy="5434200"/>
            <a:chOff x="395280" y="907920"/>
            <a:chExt cx="857628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000" cy="1224000"/>
            </a:xfrm>
            <a:prstGeom prst="rightArrow">
              <a:avLst>
                <a:gd name="adj1" fmla="val 50000"/>
                <a:gd name="adj2" fmla="val 4998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8144640" cy="5434200"/>
              <a:chOff x="826920" y="907920"/>
              <a:chExt cx="814464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36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364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08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0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1640" y="1196640"/>
                <a:ext cx="216036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87040" y="5589720"/>
                <a:ext cx="2684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– 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28Z</dcterms:modified>
  <cp:revision>54</cp:revision>
  <dc:subject/>
  <dc:title>Slajd 1</dc:title>
</cp:coreProperties>
</file>