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DFE-6A63-4DA3-A004-B62F1405DC4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CB32-FC0C-435F-BF09-9C76FC72DB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670-2BCA-4BED-BAD9-5BC6369444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4FC-7C19-4E80-B682-805980434F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9A7-8C93-4A47-B0AB-1862697295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F7D-8253-4E20-95C3-042918EB90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666-B742-40BC-AB7E-6491E87222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4C2E-66F3-4A0A-B1C6-7D74ACF7DF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6C6-19D7-4C90-851C-572F054D85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BBE-1164-4989-B36F-0DD7243C6D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3434-3A27-44B4-924E-50FD1E52A6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5523-57DD-47D5-9C72-6EBDA82F21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33B-59F1-442F-BB4A-E8173E7F7E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EF85-109F-453E-8A59-5F69BC8520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60E8-0F61-460E-BDF1-F17C0C796B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9F87-11FC-408A-A683-163797BB9A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5B59-671B-4583-B4E8-68F1930417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777-8DF9-4D25-BF66-32F95538B2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0CB-0919-4990-AB3B-7D92A702DA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F3F-C385-47DF-9C74-5D6589CC4A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F4B-BB69-4129-B080-775555FEC6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64B3-7E5A-4345-8051-5DAF3AE55F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430-D568-4806-AD5F-5E8F5B1469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169-F2CE-4B48-B780-7DD67BF942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F5F6-1A9F-4B31-ADA2-E2C4359B43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924-2779-4CA7-BD31-9E7BE9746D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977-5BE2-4B62-B4A8-AE715F2F0B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8D1-112A-46A3-BB12-72C85F1D14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CB0D-BCED-4FEF-A710-3D3EDBF4650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7B27-4EB8-4728-8F95-0EE818843A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209-ACFA-483B-A919-29B01D0D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37C-F027-4156-BD18-EFDA4978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F71-DAC9-4562-8713-7C332501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53E-C155-4043-8AC9-368A4CB9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328-9BA1-4253-A167-D79F8E3B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9B97-DB94-4CAB-89C8-5EA34C08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2CB5-329F-4C3D-A49C-6A3AD0CB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8285-D9C9-40A7-B1FD-B4074E9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E5A0-98AD-46FF-9549-C3B3804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469F-A823-43ED-8903-C1D28623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E75B-2F81-4599-8FA4-6A5EBA4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8B2-C103-4B18-A924-16EF916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1B1-E2D3-42C2-87B9-98A2BB4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E3B8-66D5-433B-9CED-54E37DD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07F-FCE8-4A52-8ED0-8BA8D59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266-C43E-437B-984D-E128A31D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B7BA-621C-4B22-AC25-0A474FC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6FC-860F-4CCB-B1D5-740FA8B8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998-8B3A-4088-85DE-28853C23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86B-684C-40E0-BC47-557EEBC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520-892B-47BF-96C8-0DE11B75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429-3087-4896-B3D1-5A6791E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0EB-863E-4C5F-8522-F0365CD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6AC-BCC6-4D05-8DA3-376D197D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B5D-9ECE-4F85-B039-6898E7DEDCD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1D6E-B802-4029-AFB3-2A3193AB5D9F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pole tekstowe 24"/>
          <p:cNvSpPr/>
          <p:nvPr/>
        </p:nvSpPr>
        <p:spPr>
          <a:xfrm>
            <a:off x="6949080" y="60930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611280" y="981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rostokąt 1"/>
          <p:cNvSpPr/>
          <p:nvPr/>
        </p:nvSpPr>
        <p:spPr>
          <a:xfrm>
            <a:off x="539640" y="9079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oziomej – zaznacza się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osi pionowej – amplituda – odzwierciedla natężenie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i sposób prezentacji, w której głośność echa jest proporcjonalna do  amplitudy (plamki świetlnej) jest to prezentacja A = modulacja A, której wykres zobaczymy na następnym slajdz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395280" y="206064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i obrazow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razowanie zwane metodą A - prezentacją A, 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8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7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8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9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7:06Z</dcterms:modified>
  <cp:revision>58</cp:revision>
  <dc:subject/>
  <dc:title>Slajd 1</dc:title>
</cp:coreProperties>
</file>