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DC16-CF6D-46DF-8B62-4EA198C9804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47D2-B05C-4F88-935F-B40C8CCFDD3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FA57-2C6C-4AF1-9A8A-BAED7D4941E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8AD-C77C-4D1F-8391-A93FE5BF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75B-3843-43E3-BF94-66912397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BD7-CBE0-4DF0-8ABC-C1052C32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7FF-1DB4-40F5-A01A-B63F06E0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2111-CF26-4149-A2B8-DC1ABC02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09B0-6D95-4B7C-BADD-462EB623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C5D9-4399-407D-8550-262F0A41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1FDB-0785-4AA0-8976-CDED15EF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220E-80E9-4F5D-83AB-896B843A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F88C-83F3-4BEE-8FFB-07672261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811E-439C-4289-85B7-A19E9D10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659-E82E-4719-A59D-05B36B0C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C590-2D78-4BF5-BA61-63914380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A94D-345F-4C2D-98E5-70C1D049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011E-E575-434B-95C3-5F9F3B41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9932-9E15-4349-A96D-9EA2FB33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BC42-DB25-40C0-AC9C-CCC13696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B6A-EC38-4473-9219-08CDF8C8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73F-BD7A-43C6-9C99-E872C7E9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CF2-1CCD-4428-97A5-DD7F5BD1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5CF7-7EE0-450C-99E4-74FAE8BF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025-FADB-4F1C-B4D2-637A5CB4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C9DE-4F44-422F-91CE-C9021939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24B-BF3B-4FAB-8E4D-D3191812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7C2C-F32B-41CD-85B7-72BCC9A7E68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7931-18E3-433B-AC18-10E1E7C1BD7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USG – materiał pomocniczy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o wycieczki(*)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- poziom 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le tekstowe 1"/>
          <p:cNvSpPr/>
          <p:nvPr/>
        </p:nvSpPr>
        <p:spPr>
          <a:xfrm>
            <a:off x="468360" y="1484280"/>
            <a:ext cx="8207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czas badań USG następuje wzrost temperatury, najczęściej o około  1 stopień Celsjusza, czyli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jest wahaniem w dopuszczalnych granicach fizjologicz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wet podniesienie temperatury ciała do ok. 39 stopni Celsjusza w tak krótkim czasie badania – nie jest niebezpie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mogą doprowadzić do koagulac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omórkach, ale nie w natężeniach stos. w US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2"/>
          <p:cNvSpPr/>
          <p:nvPr/>
        </p:nvSpPr>
        <p:spPr>
          <a:xfrm>
            <a:off x="1838520" y="476280"/>
            <a:ext cx="51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Efekt cieplny w US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awitacja a badanie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2"/>
          <p:cNvSpPr/>
          <p:nvPr/>
        </p:nvSpPr>
        <p:spPr>
          <a:xfrm>
            <a:off x="395280" y="1628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witacja to powstawanie pęcherzyków gazu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cieczy. Powstają one, gdy obniża się ciśnienie cieczy, czyli w tak zwanej fazie podciśnienia akustycznego. Pęcherzyki te mogą się zderzać, przemieszczać, łączyć w większe. Najbardziej wrażliwe są na nie mitochondria komórek, które mogą zostać w ten sposób uszkodzone. Badania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in vitro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kazały występowanie kawitacji w zakresie natężeń diagnostycznych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pisane w literaturze, inne, bezpośrednie skutki energii ultradźwiękó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3"/>
          <p:cNvSpPr/>
          <p:nvPr/>
        </p:nvSpPr>
        <p:spPr>
          <a:xfrm>
            <a:off x="395280" y="2349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yrkulacja cząstek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hemiczne: zmiany 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stawanie nadtlenku wod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Obecny stan wiedzy nie kwestionuje ewentualnego ryzyka, związanego ze stosowaniem fal ultradźwiękowych na organizm, jednak korzyści z przeprowadzenia takich badań są niewspółmier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1"/>
          <p:cNvSpPr/>
          <p:nvPr/>
        </p:nvSpPr>
        <p:spPr>
          <a:xfrm>
            <a:off x="395280" y="119700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rzyści z badań przeprowadzanych nieinwazyjną metodą USG nie można kwestionować, dlatego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w kontroli przebiegu ciąży zalecane jest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przez Krajowego Konsultanta w Dziedzinie Ginekologii i Położnictwa w  Polsce,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dwukrotne badanie USG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todą prezentacji typu 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rminy badań w kontroli ciąży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między 18-22 tygodniem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28-32 tygodni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468360" y="278136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zy termin pozwala na uwidocznienie lub wykluczenie wad strukturalnych, takich ja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dogłowie, przepukliny rdzeniowe, mózgowe, rozszczep kręgosłupa, skrócenie kości, uogólniony obrzęk płod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img63.imageshack.us/img63/2007/img2010091842.jpg"/>
          <p:cNvPicPr/>
          <p:nvPr/>
        </p:nvPicPr>
        <p:blipFill>
          <a:blip r:embed="rId1"/>
          <a:stretch/>
        </p:blipFill>
        <p:spPr>
          <a:xfrm>
            <a:off x="1403280" y="549360"/>
            <a:ext cx="6193080" cy="4135320"/>
          </a:xfrm>
          <a:prstGeom prst="rect">
            <a:avLst/>
          </a:prstGeom>
          <a:ln w="0">
            <a:noFill/>
          </a:ln>
        </p:spPr>
      </p:pic>
      <p:sp>
        <p:nvSpPr>
          <p:cNvPr id="124" name="Prostokąt 3"/>
          <p:cNvSpPr/>
          <p:nvPr/>
        </p:nvSpPr>
        <p:spPr>
          <a:xfrm>
            <a:off x="468360" y="494172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img63.imageshack.us/img63/2007/img201009184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4"/>
          <p:cNvSpPr/>
          <p:nvPr/>
        </p:nvSpPr>
        <p:spPr>
          <a:xfrm>
            <a:off x="468360" y="544500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kładny obraz mózgoczaszki płodu – badanie wyklucza wodogł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ole tekstowe 1"/>
          <p:cNvSpPr/>
          <p:nvPr/>
        </p:nvSpPr>
        <p:spPr>
          <a:xfrm>
            <a:off x="395280" y="69228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rugi termin badania – pozwala na ocenę rozwoju płodu, wykrywanie zaburzeń wzrostu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także umożliwia określenie czynników ryzyka okołoporod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c3397993.y.cdn.imgwykop.pl/link_y6bar3jnDEyGTBH3pbIPF5K5sFbq32bd,w300h223.jpg"/>
          <p:cNvPicPr/>
          <p:nvPr/>
        </p:nvPicPr>
        <p:blipFill>
          <a:blip r:embed="rId1"/>
          <a:stretch/>
        </p:blipFill>
        <p:spPr>
          <a:xfrm>
            <a:off x="2592360" y="2852640"/>
            <a:ext cx="3959280" cy="2944800"/>
          </a:xfrm>
          <a:prstGeom prst="rect">
            <a:avLst/>
          </a:prstGeom>
          <a:ln w="0">
            <a:noFill/>
          </a:ln>
        </p:spPr>
      </p:pic>
      <p:sp>
        <p:nvSpPr>
          <p:cNvPr id="128" name="Prostokąt 3"/>
          <p:cNvSpPr/>
          <p:nvPr/>
        </p:nvSpPr>
        <p:spPr>
          <a:xfrm>
            <a:off x="324000" y="5877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c3397993.y.cdn.imgwykop.pl/link_y6bar3jnDEyGTBH3pbIPF5K5sFbq32bd,w300h22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G umożliwia kontrolowanie wykonywanych zabieg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324000" y="191628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ęki „wglądowi” poprzez tkanki miękkie, możliwe jest bezpieczne dotarcie do narządów i pobranie materiału zmienionego chorobowo – do wykonania badań cytologiczny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ienką igłą pobrane zostają komórki, a lekarz diagnosta USG, uwidacznia miejsca zmienione chorobą, wyznacza najlepszą drogę do pobrania, bez naruszania naczyń krwionośnych i nerw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zabiegów wykonywanych pod kontrolą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psja węzłów chłonn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psja tarczy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trzyknięcia do staw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trzyknięcia okołonerw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wazyjne metody badań prenatalnych – na przykład biopsja kosmówki, czyli jednej z błon płod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jawiska wpływające na zafałszowanie obrazowania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250920" y="1844640"/>
            <a:ext cx="867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już wiemy, fala ultradźwiękowa uleg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ewnym zakresie odbiciu, może ulec też całkowitemu odbiciu, np. od kamieni w nerk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Rozpraszanie fal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aje natomiast nieprawdziwe echa, które mogą łatwo wprowadzić w błąd w interpretowaniu obraz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Echa, które nie obrazują rzeczywistych struktur anatomicznych, to artefak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m jest rozpraszanie fali ultradźwiękowej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le tekstowe 2"/>
          <p:cNvSpPr/>
          <p:nvPr/>
        </p:nvSpPr>
        <p:spPr>
          <a:xfrm>
            <a:off x="395280" y="155736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praszanie fali – ma miejsce wtedy, gdy część fali ultradźwiękowej zmienia kierunek, przy czym zmiana ta jest nieprzewidywal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Czy wpływa to na diagnostykę? </a:t>
            </a:r>
            <a:r>
              <a:rPr b="0" lang="pl-PL" sz="3200" spc="-1" strike="noStrike">
                <a:solidFill>
                  <a:srgbClr val="376092"/>
                </a:solidFill>
                <a:latin typeface="Calibri"/>
              </a:rPr>
              <a:t>Tak.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 Ponieważ dźwięki rozproszone nie wracają do głowicy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proszenie fali jednak może sprawić,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że echo odebra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chodzi z powierzchni granicznej tkanek, nie ustawionych prostopadle w kierunku dźwięku, czyli z takich, które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nie powinny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ostać zobrazow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ezultat rozproszenia fa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395280" y="141300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sonograf wykrywa echa tam, gdzie nie ma odbi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tychczas opisano w literaturze wiele takich przykładów: złudzenie (artefakt), że są otolity (kamienie) w woreczku żółciowym, albo obecność guza, zamiast wodnistej torbie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rezultacie odbicia i rozpraszania fali ultradźwiękowej, mniej energii dociera do tkanek, położonych niż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bsorpcja + rozproszenie fali =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= tłumienie energii f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3"/>
          <p:cNvSpPr/>
          <p:nvPr/>
        </p:nvSpPr>
        <p:spPr>
          <a:xfrm>
            <a:off x="395280" y="220500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ć energii fal ultradźwiękowych zostaje w tkankach zamieniona w ciepł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jawisko to jest wykorzystywane w fizykoterap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Echa wprowadzające w błą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2"/>
          <p:cNvSpPr/>
          <p:nvPr/>
        </p:nvSpPr>
        <p:spPr>
          <a:xfrm>
            <a:off x="468360" y="1341360"/>
            <a:ext cx="7775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umiejętne rozpoznawanie artefaktów, niestety, przekładać się może na nietrafną diagnoz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rdzo dużo zależy od techniki badania, od doświadczenia lekarza, przeprowadzającego bad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rtefakty mogą wprowadzić przekłamania, bo w obrazie „naśladują” struktury żyw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nniki powodujące powstawanie artefaktó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2"/>
          <p:cNvSpPr/>
          <p:nvPr/>
        </p:nvSpPr>
        <p:spPr>
          <a:xfrm>
            <a:off x="395280" y="170028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osób przetwarzania danyc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lgorytmy konstruowania obrazu (zależne od możliwości i ustawienia urządzenia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łożenie/poruszenie się pacjenta; przygotowanie do badania (np. nie wypełniony przewód pokarmowy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żynier kliniczny dobiera parametry do badania, ustala kontrast, redukuje szu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dolność optymalnej percepcji (postrzegania) obrazu zależy o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3"/>
          <p:cNvSpPr/>
          <p:nvPr/>
        </p:nvSpPr>
        <p:spPr>
          <a:xfrm>
            <a:off x="395280" y="220500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ożliwości sprzętowych (jakości karty graficznej, monitora). Niewielkie monitory, często stosowane, mają ograniczony kontr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rozdzielcz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ercepcja obrazu zależy też od warunków pracy specjalisty, ograniczeń czasowych oraz przemęcz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ultradźwięki mogą  być szkodliw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2"/>
          <p:cNvSpPr/>
          <p:nvPr/>
        </p:nvSpPr>
        <p:spPr>
          <a:xfrm>
            <a:off x="395280" y="1773360"/>
            <a:ext cx="8497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jednokrotnie można usłyszeć takie pytanie: skoro ultradźwięki mogą kruszyć, np. kamienie nerkowe, to czy ultradźwięki stosow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badaniach USG są szkodliw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stosowane w USG mają zbyt niską energię, aby „wybić” elektrony z atomów, więc nie zachodzi jonizacja atomów (jak np. podczas RT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ny również jest charakter ultradźwięków – fala jest podłużna, a nie poprzecz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6:43Z</dcterms:modified>
  <cp:revision>22</cp:revision>
  <dc:subject/>
  <dc:title>Slajd 1</dc:title>
</cp:coreProperties>
</file>