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C47-9DC0-4079-9E13-298FA5770A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7F9A-9709-4D7F-91FC-450DD51C9D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EF71-1356-4B0A-AD81-B0C4AEC73F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4F4-E962-497A-B573-5054FF01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0BC-B826-47B5-A0F7-E6A0BE42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32C-5C26-4FE2-A3FE-A1A7CD23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6D9-6664-4419-B777-338B3074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B664-5873-4B2B-A741-79554AE2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27D1-266B-4F30-9D74-A098B269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8AC0-E1FA-4783-B0E5-0F4F7F7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3D85-068D-43BB-8612-52FDEDE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B441-8EAD-4565-A09E-F939A827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8709-60FC-49BC-A2C4-7547255E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706-559D-499F-A185-7564513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6C9-1D25-44E1-A10B-8862B52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C51E-4DA9-43B6-B557-49206D20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30F-55DB-4438-B7A9-0E51793B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3BA5-C1A2-408E-82C8-2BA8A9E8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40CE-3ADE-4805-8526-E2189F17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253E-6596-4F04-9775-81BD5B1D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A64-9393-4352-A673-F2683FB5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45E-870E-4AA6-879A-180EE6C7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3F6-6397-411A-BD88-6F74A0C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5AC-99D7-4400-9024-2D54A9DB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988-4226-4129-A5B5-5CFD7B6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584-844F-434B-AF95-E294511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E51-770A-455B-9801-B9E5287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DB58-11FA-4B8E-BA08-D951562DC0E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4B2E-BAD9-45E7-BCBC-F34AEB11ED1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799308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roces starzenia się skóry</a:t>
            </a:r>
            <a:br>
              <a:rPr sz="4900"/>
            </a:b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ezentacja – poziom I.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teriał bazowy do dalszych poziomów (II i 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65300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otostarzenie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1628280"/>
            <a:ext cx="849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ńcu XIX wieku zauważono patologiczny wpływ promieniowania słonecznego na skór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grubienie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odzenie melanocy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grubienie i bezład włókien elastycznych (elastoza), zwyrodnienie włókien kolagen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niejszenie liczby komórek (Langerhan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jawy fotostarzenia się skó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zczenie się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orstkość naskórka (rogowaceni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arwienia o zróżnicowanej intensywności(plamy, pieg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rost gruczołów łoj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wisłość i zmarszcz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ejscowo: zmniejszenie odporności (immunosupresj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udzie różnią się wrażliwością skóry na światło. Fotytypy skór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Fitzpatric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admin.depilconcept.pl/dir_upload/site/files/Ania/tabelka_fototypy.JPG"/>
          <p:cNvPicPr/>
          <p:nvPr/>
        </p:nvPicPr>
        <p:blipFill>
          <a:blip r:embed="rId1"/>
          <a:stretch/>
        </p:blipFill>
        <p:spPr>
          <a:xfrm>
            <a:off x="395280" y="2349360"/>
            <a:ext cx="8169120" cy="3527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3"/>
          <p:cNvSpPr/>
          <p:nvPr/>
        </p:nvSpPr>
        <p:spPr>
          <a:xfrm>
            <a:off x="468360" y="602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dmin.depilconcept.pl/dir_upload/site/files/Ania/tabelka_fototyp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3"/>
          <p:cNvSpPr/>
          <p:nvPr/>
        </p:nvSpPr>
        <p:spPr>
          <a:xfrm>
            <a:off x="539640" y="191628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to barwniki, występujące u grzybów, roślin i zwierząt. Powstają podczas utleniania związków fenolowych (najczęstszym jest aminokwas tyrozyn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wa melanin: od czarnobrązowej po żółtoczerwoną. Zabarwiają skórę, tęczówkę oka, włosy, sierść i pióra, brodawki sut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wartość barwnika w skórze.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2"/>
          <p:cNvSpPr/>
          <p:nvPr/>
        </p:nvSpPr>
        <p:spPr>
          <a:xfrm>
            <a:off x="324000" y="213372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laniny znajdują się w komórkach melanocyt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rakcie życia osobnika nie zmienia się ilość melanocytów, ale to nie ilość melanocytów, lecz stosunek  ilościowy melanin determinuje zabarwienie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wiązku z tym, wyróżniamy rasy ludzkie: celtycką, kaukaską i negroid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la melan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468360" y="1484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) Ochrona przed promieniowaniem UV (absorpcja i rozpraszanie UV, zamiana energii, którą niesie fala na ciepł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) Eliminacja wolnych rodników, które powstają podczas metabolizmu tlenowego w komó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p.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niesparowany elektron,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dający ogromną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tywność rodnikowi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ydroksylowe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lipsa 3"/>
          <p:cNvSpPr/>
          <p:nvPr/>
        </p:nvSpPr>
        <p:spPr>
          <a:xfrm>
            <a:off x="1332000" y="4653000"/>
            <a:ext cx="12204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lipsa 4"/>
          <p:cNvSpPr/>
          <p:nvPr/>
        </p:nvSpPr>
        <p:spPr>
          <a:xfrm>
            <a:off x="3059280" y="4653000"/>
            <a:ext cx="136440" cy="136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edy powstają wolne rodni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468360" y="1916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wiele źródeł pochodzenia wolnych rodników. Tworzą się w strukturach komórkowych (np. mitochondriach), ale ich źródłem pozakomórkowym jest np. promieniowanie ultrafioletowe, promieniowanie jonizują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olne rodniki w starzeniu się komórek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539640" y="21337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rodniki są bardzo reaktywne. Rodnik hydroksylowy i singletowy tlen w reakcja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wasami nukleinowymi, powodują uszkadzanie wiązań fosfodiest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ją różne struktury komórkowe: błony komórkowe, utleniają białka enzymatyczne, powodują peroksydację lipid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twarzanie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elaniny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st naturalną fotoprotekcj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468360" y="242100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rócz melaniny, do naturalnej  fotoprotekcji należą komórki warstwy rogowej naskórka, które odbijają część promieni świet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taką rolę (odbijanie światła) ma warstwa lipidowa naskórka,  oraz niektóre składniki po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równo czynniki endogen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i egzogenne, uszkadzające DNA, odgrywają rolę w procesie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"/>
          <p:cNvSpPr/>
          <p:nvPr/>
        </p:nvSpPr>
        <p:spPr>
          <a:xfrm>
            <a:off x="539640" y="357336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wodów na to dostarczają badania nad zespołami chorobowymi, w których występuje przedwczesne starzenie się, np. zespół Hutchinsona-Gilforda, zespół Wern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starzenia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Symbol zastępczy zawartości 3" descr="starzenie.jpg"/>
          <p:cNvPicPr/>
          <p:nvPr/>
        </p:nvPicPr>
        <p:blipFill>
          <a:blip r:embed="rId1"/>
          <a:stretch/>
        </p:blipFill>
        <p:spPr>
          <a:xfrm>
            <a:off x="1816200" y="1676520"/>
            <a:ext cx="5675040" cy="399888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4"/>
          <p:cNvSpPr/>
          <p:nvPr/>
        </p:nvSpPr>
        <p:spPr>
          <a:xfrm>
            <a:off x="324000" y="5732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encryptedtbn2.gstatic.com/images?q=tbn:ANd9GcSGqcZ1SUDIq8d52fY5q4qIm8puZlqpiizxPpPn0jkz2yVvR9k4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spół Hutchinsona-Gilforda,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którym występuje przedwczesne starzenie(także skór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4535640" cy="3024360"/>
          </a:xfrm>
          <a:prstGeom prst="rect">
            <a:avLst/>
          </a:prstGeom>
          <a:ln w="0">
            <a:noFill/>
          </a:ln>
        </p:spPr>
      </p:pic>
      <p:sp>
        <p:nvSpPr>
          <p:cNvPr id="164" name="Prostokąt 4"/>
          <p:cNvSpPr/>
          <p:nvPr/>
        </p:nvSpPr>
        <p:spPr>
          <a:xfrm>
            <a:off x="179280" y="5661000"/>
            <a:ext cx="871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google.pl/url?sa=t&amp;rct=j&amp;q=&amp;esrc=s&amp;source=web&amp;cd=1&amp;cad=rja&amp;ved=0CC8QFjAA&amp;url=http%3A%2F%2Fcdg.unimuenster.de%2FArtikel%2FSeminararbeit_Pues.pdf&amp;ei=22zYUdvSDMnKtQaz1ID4BQ&amp;usg=AFQjCNEc1HP0i8jJ8nFJ8ISnO60hPs1vw&amp;bvm=bv.48705608,d.Y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poptoza  w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468360" y="17002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poptoza - (PWN) - śmierć komórki zachodzą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zdrowym organizmie w wyniku genetycznie zaprogramowanych proces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nieją doniesienia literaturowe o wpływie wysokiego stężenia wolnych rodników na „nakierowywanie” komórek na drogę apoptozy, co w skórze prowadzi do szybszego starzenia się skó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2"/>
          <p:cNvSpPr/>
          <p:nvPr/>
        </p:nvSpPr>
        <p:spPr>
          <a:xfrm>
            <a:off x="468360" y="213372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toprotekcja UV, czyli zmiejszanie  nasłonecznienia, poprzez stosowanie filtrów SPF (Sun Protection Factor), stosowane przeciw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zapobiegania odległej pigmentacji (PPD – Persistant Pigment arkening), jest stosowana wobec  promieniowania U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aty przeciwsłone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2"/>
          <p:cNvSpPr/>
          <p:nvPr/>
        </p:nvSpPr>
        <p:spPr>
          <a:xfrm>
            <a:off x="395280" y="134928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e preparaty przeciwsłoneczne (ekrany słoneczne), były stosowane w 1928 roku. Preparat wówczas zastosowany zawierał: salicylan benzylu i cynamonian benzy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walk w czasie II wojny światowej, w działaniach na obszarach, szczególnie narażonych na promieniowanie ultrafioletowe, żołnierze zaopatrywani byli w protektory z PABA (kwasem p-aminobenzoes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try chemiczne (organiczne)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fizyczne (mineral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395280" y="1989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chemi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wnikają w naskórek. Związki chemiczne w nich stosowane, mają taką budowę, że pochłaniając energię fali (UVB), izomeryzując, zamieniają jej energię 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Calibri"/>
              </a:rPr>
              <a:t>Filtry fizy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 nie wnikają w głąb skóry, tworząc na jej powierzchni warstwę odbijającą UVA i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jednak ”uciążliwe” w stosowaniu (poświata na skórze, ślady na ubrani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ole tekstowe 2"/>
          <p:cNvSpPr/>
          <p:nvPr/>
        </p:nvSpPr>
        <p:spPr>
          <a:xfrm>
            <a:off x="468360" y="907920"/>
            <a:ext cx="8207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również podkreślić, że według doniesień literaturowych, metabolity PABA, związku stosowanego w filtrach chemicznych, mogą mieć znaczenie kancerogenne. Nie ma filtra, który w 100% zatrzymałby każdy rodzaj promieniowania U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stosowanie filtrów „usypia” czujność, mianowicie brak oparzeń wywołanych przez UVB, sprawia, że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czas ekspozycji na UVA, o wiele bardziej groźną falę, może być zwiększon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rójkąt równoramienny 3"/>
          <p:cNvSpPr/>
          <p:nvPr/>
        </p:nvSpPr>
        <p:spPr>
          <a:xfrm>
            <a:off x="755640" y="692280"/>
            <a:ext cx="7201080" cy="54734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istnieje bezpieczne  opal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jmowane leki + słońce = fotouczul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https://encrypted-tbn2.gstatic.com/images?q=tbn:ANd9GcS4-ZslCMqvjl4F1FLpy7f8FwcybcoMOy61roYVDrIPyo12c0Cz"/>
          <p:cNvPicPr/>
          <p:nvPr/>
        </p:nvPicPr>
        <p:blipFill>
          <a:blip r:embed="rId1"/>
          <a:srcRect l="31094" t="23543" r="31094" b="27913"/>
          <a:stretch/>
        </p:blipFill>
        <p:spPr>
          <a:xfrm>
            <a:off x="3348000" y="33336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e substancje przeciwdziałają starzeniu się skó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46836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roteny, czyli prowitaminy witaminy A, Retinoidy, czyli pochodne witaminy A (naturalne albo syntetyczn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ą one od dawna dodatkami do kosmetyków (alfa-, beta-, gamma-karoten), ksantofile (tlenowe pochodne karotenoidów). W ludzkim organizmie i innych zwierząt, są enzymatycznie przekształcane w witaminę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eta-karoten jest antyoksydan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A w przeciwdziałaniu starzeniu się skó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468360" y="206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łaściwe i systematyczne stosowanie witaminy A w kosmetykach (kremy), działa stymulująco na komórki skóry właściwej, poprawia elastyczność, odżyw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, jeżeli dodatkowo, doustnie będzie dostarczana witamina A, w zbyt dużych dawkach, to istnieje możliwość hiperwitaminozy – co doprowadzić może do patologicznych zmian skór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tamina E („mieszanina” tokoferol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395280" y="2060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tamina E jest antyoksydantem, czyli cząsteczką „przyjmującą na siebie” atak wolnych rodnik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roni komórki przed utlenianiem, niweluje plamy starcze, w odpowiednich dawkach jest współprotektorem  UV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rzenie się to proces fizjologiczny, nieodwracaln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ymbol zastępczy zawartości 5" descr=""/>
          <p:cNvPicPr/>
          <p:nvPr/>
        </p:nvPicPr>
        <p:blipFill>
          <a:blip r:embed="rId1"/>
          <a:stretch/>
        </p:blipFill>
        <p:spPr>
          <a:xfrm>
            <a:off x="822240" y="1901880"/>
            <a:ext cx="7871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ymbol zastępczy zawartości 4" descr=""/>
          <p:cNvPicPr/>
          <p:nvPr/>
        </p:nvPicPr>
        <p:blipFill>
          <a:blip r:embed="rId1"/>
          <a:stretch/>
        </p:blipFill>
        <p:spPr>
          <a:xfrm>
            <a:off x="682560" y="817560"/>
            <a:ext cx="808992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2"/>
          <p:cNvSpPr/>
          <p:nvPr/>
        </p:nvSpPr>
        <p:spPr>
          <a:xfrm>
            <a:off x="1117800" y="5732640"/>
            <a:ext cx="49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(*) –zostanie omówiona w prezentacji I (bazowej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ymbol zastępczy zawartości 3" descr=""/>
          <p:cNvPicPr/>
          <p:nvPr/>
        </p:nvPicPr>
        <p:blipFill>
          <a:blip r:embed="rId1"/>
          <a:stretch/>
        </p:blipFill>
        <p:spPr>
          <a:xfrm>
            <a:off x="480960" y="689040"/>
            <a:ext cx="82249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to największy organ ludzkiego cia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kóra- Przekrój"/>
          <p:cNvPicPr/>
          <p:nvPr/>
        </p:nvPicPr>
        <p:blipFill>
          <a:blip r:embed="rId1"/>
          <a:srcRect l="0" t="0" r="22094" b="0"/>
          <a:stretch/>
        </p:blipFill>
        <p:spPr>
          <a:xfrm>
            <a:off x="826920" y="1700280"/>
            <a:ext cx="7058160" cy="464796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5"/>
          <p:cNvSpPr/>
          <p:nvPr/>
        </p:nvSpPr>
        <p:spPr>
          <a:xfrm>
            <a:off x="2264400" y="60213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osmetyczny.blox.pl/resource/skora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Prostokąt 15"/>
          <p:cNvGrpSpPr/>
          <p:nvPr/>
        </p:nvGrpSpPr>
        <p:grpSpPr>
          <a:xfrm>
            <a:off x="317520" y="1620720"/>
            <a:ext cx="8582040" cy="1238400"/>
            <a:chOff x="317520" y="1620720"/>
            <a:chExt cx="8582040" cy="1238400"/>
          </a:xfrm>
        </p:grpSpPr>
        <p:pic>
          <p:nvPicPr>
            <p:cNvPr id="109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162072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4000" y="162864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 jakich warstw skóry docier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Skóra- Przekrój"/>
          <p:cNvPicPr/>
          <p:nvPr/>
        </p:nvPicPr>
        <p:blipFill>
          <a:blip r:embed="rId2"/>
          <a:srcRect l="0" t="0" r="22094" b="0"/>
          <a:stretch/>
        </p:blipFill>
        <p:spPr>
          <a:xfrm>
            <a:off x="250920" y="2997360"/>
            <a:ext cx="612144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280" y="6092640"/>
            <a:ext cx="183960" cy="36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załka w dół 5"/>
          <p:cNvSpPr/>
          <p:nvPr/>
        </p:nvSpPr>
        <p:spPr>
          <a:xfrm>
            <a:off x="3132000" y="1557360"/>
            <a:ext cx="484200" cy="16556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6"/>
          <p:cNvSpPr/>
          <p:nvPr/>
        </p:nvSpPr>
        <p:spPr>
          <a:xfrm>
            <a:off x="3569760" y="19162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załka w dół 7"/>
          <p:cNvSpPr/>
          <p:nvPr/>
        </p:nvSpPr>
        <p:spPr>
          <a:xfrm>
            <a:off x="3276720" y="3284640"/>
            <a:ext cx="142920" cy="360360"/>
          </a:xfrm>
          <a:prstGeom prst="downArrow">
            <a:avLst>
              <a:gd name="adj1" fmla="val 50000"/>
              <a:gd name="adj2" fmla="val 5042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załka w dół 8"/>
          <p:cNvSpPr/>
          <p:nvPr/>
        </p:nvSpPr>
        <p:spPr>
          <a:xfrm>
            <a:off x="5580000" y="1557360"/>
            <a:ext cx="216000" cy="316692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9"/>
          <p:cNvSpPr/>
          <p:nvPr/>
        </p:nvSpPr>
        <p:spPr>
          <a:xfrm>
            <a:off x="5865840" y="20606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Łącznik łamany 12"/>
          <p:cNvCxnSpPr/>
          <p:nvPr/>
        </p:nvCxnSpPr>
        <p:spPr>
          <a:xfrm flipV="1" rot="16200000">
            <a:off x="2302920" y="2601360"/>
            <a:ext cx="937440" cy="575640"/>
          </a:xfrm>
          <a:prstGeom prst="bentConnector3">
            <a:avLst>
              <a:gd name="adj1" fmla="val 49980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20" name="Strzałka w dół 13"/>
          <p:cNvSpPr/>
          <p:nvPr/>
        </p:nvSpPr>
        <p:spPr>
          <a:xfrm>
            <a:off x="7308720" y="1557360"/>
            <a:ext cx="792360" cy="107964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14"/>
          <p:cNvSpPr/>
          <p:nvPr/>
        </p:nvSpPr>
        <p:spPr>
          <a:xfrm>
            <a:off x="8105040" y="1916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16"/>
          <p:cNvSpPr/>
          <p:nvPr/>
        </p:nvSpPr>
        <p:spPr>
          <a:xfrm>
            <a:off x="396720" y="15573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Prostokąt 15"/>
          <p:cNvGrpSpPr/>
          <p:nvPr/>
        </p:nvGrpSpPr>
        <p:grpSpPr>
          <a:xfrm>
            <a:off x="317520" y="2127240"/>
            <a:ext cx="8582040" cy="1238400"/>
            <a:chOff x="317520" y="2127240"/>
            <a:chExt cx="8582040" cy="1238400"/>
          </a:xfrm>
        </p:grpSpPr>
        <p:pic>
          <p:nvPicPr>
            <p:cNvPr id="124" name="Prostokąt 15" descr=""/>
            <p:cNvPicPr/>
            <p:nvPr/>
          </p:nvPicPr>
          <p:blipFill>
            <a:blip r:embed="rId1"/>
            <a:stretch/>
          </p:blipFill>
          <p:spPr>
            <a:xfrm>
              <a:off x="317520" y="2127240"/>
              <a:ext cx="858204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4000" y="2133720"/>
              <a:ext cx="8569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działają promienie UV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4076640"/>
            <a:ext cx="219204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oduje  oparzenia słonecz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załka w dół 5"/>
          <p:cNvSpPr/>
          <p:nvPr/>
        </p:nvSpPr>
        <p:spPr>
          <a:xfrm>
            <a:off x="900000" y="1700280"/>
            <a:ext cx="339840" cy="2089080"/>
          </a:xfrm>
          <a:prstGeom prst="downArrow">
            <a:avLst>
              <a:gd name="adj1" fmla="val 50000"/>
              <a:gd name="adj2" fmla="val 50146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6"/>
          <p:cNvSpPr/>
          <p:nvPr/>
        </p:nvSpPr>
        <p:spPr>
          <a:xfrm>
            <a:off x="1193400" y="2852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załka w dół 8"/>
          <p:cNvSpPr/>
          <p:nvPr/>
        </p:nvSpPr>
        <p:spPr>
          <a:xfrm>
            <a:off x="3564000" y="1700280"/>
            <a:ext cx="216000" cy="252072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aad42"/>
          </a:solidFill>
          <a:ln w="25560">
            <a:solidFill>
              <a:srgbClr val="caa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9"/>
          <p:cNvSpPr/>
          <p:nvPr/>
        </p:nvSpPr>
        <p:spPr>
          <a:xfrm>
            <a:off x="3778200" y="27813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załka w dół 13"/>
          <p:cNvSpPr/>
          <p:nvPr/>
        </p:nvSpPr>
        <p:spPr>
          <a:xfrm>
            <a:off x="6516720" y="1628640"/>
            <a:ext cx="792000" cy="1656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e6681a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4"/>
          <p:cNvSpPr/>
          <p:nvPr/>
        </p:nvSpPr>
        <p:spPr>
          <a:xfrm>
            <a:off x="7528680" y="270828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V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6"/>
          <p:cNvSpPr/>
          <p:nvPr/>
        </p:nvSpPr>
        <p:spPr>
          <a:xfrm>
            <a:off x="1836000" y="21337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Oz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7"/>
          <p:cNvSpPr/>
          <p:nvPr/>
        </p:nvSpPr>
        <p:spPr>
          <a:xfrm>
            <a:off x="2556000" y="4221000"/>
            <a:ext cx="280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ała na głębsze warstwy skóry właściwej -fotostarz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18"/>
          <p:cNvSpPr/>
          <p:nvPr/>
        </p:nvSpPr>
        <p:spPr>
          <a:xfrm>
            <a:off x="5651640" y="3357720"/>
            <a:ext cx="37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awie  w całości pochłaniane przez warstwę ozo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łaściwości bakteriobójcze. Może uszkodzić rogówk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dmierna ekspozycja na promieniowanie ultrafioletowe jest w 80 % odpowiedzialna za starzenie się skó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3357720"/>
            <a:ext cx="8362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orzenie wolnych rodni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akcje fotoalerg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zkadzani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rofia naskó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nowotwor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rzysiek Stawujak</cp:lastModifiedBy>
  <dcterms:modified xsi:type="dcterms:W3CDTF">2013-08-21T19:01:38Z</dcterms:modified>
  <cp:revision>32</cp:revision>
  <dc:subject/>
  <dc:title>Slajd 1</dc:title>
</cp:coreProperties>
</file>