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D730-C036-4965-B11F-4018FA40C85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420-B61F-4C42-8265-6F5D910FCE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3036-72B5-48F9-A26F-8A15284C27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2535-DDF6-4EAD-A243-A2BDA71D49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E39-B131-47FA-BADB-B2117712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8D0-3C9F-4950-827F-0E0F2F1A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452-49F5-4E77-9983-3979A35D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4C9-5B3F-4506-AA92-A2606EC5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596-A92B-4763-949D-A70024D2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B273-A58F-4F5B-8436-7BAB05C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526-F255-47CA-82C8-17C4FE91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5F9-8962-4FB3-AFB5-0220587C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5AB-2997-453C-B44E-D9DE29F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325-9D44-4ECC-BB0D-3F6D277C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127-26EA-4CB9-BF9A-F3D7916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E01-7025-4B80-BA86-E0B60C6E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F0A1-5FA1-4A66-8F40-F02C076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9BA-2901-41AD-834A-7FAB04B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4822-515A-475B-9CE3-B11A3CE3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51B9-D94D-42B7-943D-576918D8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9FE2-1BA1-456C-9D11-D63F8820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445-CFE6-49A9-85C6-9BEEB2E1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065-3EAA-4D40-A2FC-21A847A7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B28-AED5-4B99-8A8C-0AEA1544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538-4F47-4615-9FDF-2519E5D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28A-669A-4D57-8BFD-7BC788C3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DD5-04C4-4092-ABEE-F77BB7C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C01-F604-4CE2-A5C8-3A9B018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B47-1544-4C3B-A668-71987F5C822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4B23-0FDF-4C62-8398-DA07177BB77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.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dalszego poziomu, I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emieszczanie się melanosomów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melaninami (barwnikami)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naskórku, w czasie ekspozycji na U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www.lizanol.it/img/3.png"/>
          <p:cNvPicPr/>
          <p:nvPr/>
        </p:nvPicPr>
        <p:blipFill>
          <a:blip r:embed="rId1"/>
          <a:stretch/>
        </p:blipFill>
        <p:spPr>
          <a:xfrm>
            <a:off x="2340000" y="2205000"/>
            <a:ext cx="4235400" cy="3745080"/>
          </a:xfrm>
          <a:prstGeom prst="rect">
            <a:avLst/>
          </a:prstGeom>
          <a:ln w="0">
            <a:noFill/>
          </a:ln>
        </p:spPr>
      </p:pic>
      <p:sp>
        <p:nvSpPr>
          <p:cNvPr id="147" name="Prostokąt 3"/>
          <p:cNvSpPr/>
          <p:nvPr/>
        </p:nvSpPr>
        <p:spPr>
          <a:xfrm>
            <a:off x="971640" y="609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lizanol.it/img/3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a synteza mela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539640" y="177336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 (melanogeneza), jest procesem enzymatycznym, który może zostać zaburzony przez wiele czyn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enetycznych, hormonalnych (hormony przysadki, tarczycy, estrogeny, wahania hormonalne w czasie ciąży), hiperwitaminoza witaminy A, czynników środowisk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nin, konsekwencje zaburzeń syntezy (dla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rostokąt 2"/>
          <p:cNvSpPr/>
          <p:nvPr/>
        </p:nvSpPr>
        <p:spPr>
          <a:xfrm>
            <a:off x="2987640" y="1773360"/>
            <a:ext cx="2952720" cy="84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Tyrozyna (aminokw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Prostokąt 3"/>
          <p:cNvGrpSpPr/>
          <p:nvPr/>
        </p:nvGrpSpPr>
        <p:grpSpPr>
          <a:xfrm>
            <a:off x="2968560" y="3340080"/>
            <a:ext cx="2919600" cy="592200"/>
            <a:chOff x="2968560" y="3340080"/>
            <a:chExt cx="2919600" cy="592200"/>
          </a:xfrm>
        </p:grpSpPr>
        <p:pic>
          <p:nvPicPr>
            <p:cNvPr id="153" name="Prostokąt 3" descr=""/>
            <p:cNvPicPr/>
            <p:nvPr/>
          </p:nvPicPr>
          <p:blipFill>
            <a:blip r:embed="rId1"/>
            <a:stretch/>
          </p:blipFill>
          <p:spPr>
            <a:xfrm>
              <a:off x="2968560" y="3340080"/>
              <a:ext cx="2919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987640" y="3357720"/>
              <a:ext cx="28796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Prostokąt 4"/>
          <p:cNvGrpSpPr/>
          <p:nvPr/>
        </p:nvGrpSpPr>
        <p:grpSpPr>
          <a:xfrm>
            <a:off x="2968560" y="4419720"/>
            <a:ext cx="2987640" cy="517320"/>
            <a:chOff x="2968560" y="4419720"/>
            <a:chExt cx="2987640" cy="517320"/>
          </a:xfrm>
        </p:grpSpPr>
        <p:pic>
          <p:nvPicPr>
            <p:cNvPr id="156" name="Prostokąt 4" descr=""/>
            <p:cNvPicPr/>
            <p:nvPr/>
          </p:nvPicPr>
          <p:blipFill>
            <a:blip r:embed="rId2"/>
            <a:stretch/>
          </p:blipFill>
          <p:spPr>
            <a:xfrm>
              <a:off x="2968560" y="4419720"/>
              <a:ext cx="2987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87640" y="4437000"/>
              <a:ext cx="2952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Calibri"/>
                </a:rPr>
                <a:t>DOPACHIN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Prostokąt 5"/>
          <p:cNvSpPr/>
          <p:nvPr/>
        </p:nvSpPr>
        <p:spPr>
          <a:xfrm>
            <a:off x="539640" y="5373720"/>
            <a:ext cx="2880000" cy="914400"/>
          </a:xfrm>
          <a:prstGeom prst="rect">
            <a:avLst/>
          </a:prstGeom>
          <a:solidFill>
            <a:srgbClr val="dd5966"/>
          </a:solidFill>
          <a:ln w="25560">
            <a:solidFill>
              <a:srgbClr val="4e39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FEO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rostokąt 6"/>
          <p:cNvSpPr/>
          <p:nvPr/>
        </p:nvSpPr>
        <p:spPr>
          <a:xfrm>
            <a:off x="4932360" y="5373720"/>
            <a:ext cx="2879640" cy="914400"/>
          </a:xfrm>
          <a:prstGeom prst="rect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EUMELAN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dół 9"/>
          <p:cNvSpPr/>
          <p:nvPr/>
        </p:nvSpPr>
        <p:spPr>
          <a:xfrm>
            <a:off x="4356000" y="2637000"/>
            <a:ext cx="287280" cy="647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dół 11"/>
          <p:cNvSpPr/>
          <p:nvPr/>
        </p:nvSpPr>
        <p:spPr>
          <a:xfrm>
            <a:off x="4356000" y="3789360"/>
            <a:ext cx="287280" cy="5032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trzałka w dół 12"/>
          <p:cNvSpPr/>
          <p:nvPr/>
        </p:nvSpPr>
        <p:spPr>
          <a:xfrm>
            <a:off x="5076720" y="4941720"/>
            <a:ext cx="358920" cy="7192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trzałka w dół 13"/>
          <p:cNvSpPr/>
          <p:nvPr/>
        </p:nvSpPr>
        <p:spPr>
          <a:xfrm>
            <a:off x="2987640" y="4941720"/>
            <a:ext cx="360360" cy="7192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15"/>
          <p:cNvSpPr/>
          <p:nvPr/>
        </p:nvSpPr>
        <p:spPr>
          <a:xfrm>
            <a:off x="4871160" y="2852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ENZYM TYROZYN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2184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rak aktywności enzymu tyrozynazy to brak melanin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skór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Obraz 5" descr="albinizm.jpg"/>
          <p:cNvPicPr/>
          <p:nvPr/>
        </p:nvPicPr>
        <p:blipFill>
          <a:blip r:embed="rId1"/>
          <a:stretch/>
        </p:blipFill>
        <p:spPr>
          <a:xfrm>
            <a:off x="468360" y="2421000"/>
            <a:ext cx="316692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6"/>
          <p:cNvSpPr/>
          <p:nvPr/>
        </p:nvSpPr>
        <p:spPr>
          <a:xfrm>
            <a:off x="3780000" y="2276640"/>
            <a:ext cx="50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bec braku fotoprotekcji skóra narażona jest na oparzenia, ale też na przyspieszone zmiany starc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nik albinotyczny – brak aktywności tyrozynazy, jest to efekt mut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ne nieprawidłowości, związa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barwnikiem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468360" y="1916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, występowanie niejednorodnego  zabarwienia skóry wynikają z kolei z nadmiernej ilości melanocytów w naskórku albo z nadprodukcji melan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elu usunięcia przebarwienia, należy najpierw określić, jak umiejscowiony jest barwnik (stąd przebarwienia: naskórkowe, skórno – naskórkowe i skórne). Pozwala na to lampa Woo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mpa WOODA w diagnostyc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blaskmetamorfozy.pl/oferta_lampa_wooda.jpg"/>
          <p:cNvPicPr/>
          <p:nvPr/>
        </p:nvPicPr>
        <p:blipFill>
          <a:blip r:embed="rId1"/>
          <a:stretch/>
        </p:blipFill>
        <p:spPr>
          <a:xfrm>
            <a:off x="324000" y="1916280"/>
            <a:ext cx="3638520" cy="291456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24000" y="537516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laskmetamorfozy.pl/oferta_lampa_wooda.jp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https://encrypted-tbn1.gstatic.com/images?q=tbn:ANd9GcRBw8MjkcJB9LOeDuMpiOMRh2LDWiVIK8tvJkCZHBCXuz7eMFiK"/>
          <p:cNvPicPr/>
          <p:nvPr/>
        </p:nvPicPr>
        <p:blipFill>
          <a:blip r:embed="rId2"/>
          <a:stretch/>
        </p:blipFill>
        <p:spPr>
          <a:xfrm>
            <a:off x="4356000" y="1989000"/>
            <a:ext cx="43261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972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 prawidłowej depigmentacji bardzo ważne jest rozpoznanie pochodzenia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ole tekstowe 2"/>
          <p:cNvSpPr/>
          <p:nvPr/>
        </p:nvSpPr>
        <p:spPr>
          <a:xfrm>
            <a:off x="539640" y="29242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spomniano, pochodzenie przebarwień może mieć złożone i zróżnicowane podłoże, np. endokrynne. Istotne jest zatem zniwelowanie źródła, które w objawach klinicznych daj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 jest w przypadku wielu schorzeń, np. o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(melasm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2"/>
          <p:cNvSpPr/>
          <p:nvPr/>
        </p:nvSpPr>
        <p:spPr>
          <a:xfrm>
            <a:off x="395280" y="1349280"/>
            <a:ext cx="813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postaci ceglastobrązowych plam, najczęściej na twarzy, u kobiet w ciąży, albo u osób, stosujących środki antykoncepcyjne. Może wystąpić w zaburzeniu miesiączki, menopauzie, towarzyszyć też może chorobom wątrob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e też być efektem zaburzeń endokrynnych, a także mogą ją wywoływać kosmety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yzyko ostudy dodatkowo zwiększa ekspozycja na światło słon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studa – przebarwienia trudne do odbarwi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s://encrypted-tbn3.gstatic.com/images?q=tbn:ANd9GcSewgEPTy-FK9qTaAdhbRnDSb7Ux-H0qukuyYkTWmY0uBykUL4alhHZGof2"/>
          <p:cNvPicPr/>
          <p:nvPr/>
        </p:nvPicPr>
        <p:blipFill>
          <a:blip r:embed="rId1"/>
          <a:stretch/>
        </p:blipFill>
        <p:spPr>
          <a:xfrm>
            <a:off x="2124000" y="1700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Prostokąt 3"/>
          <p:cNvSpPr/>
          <p:nvPr/>
        </p:nvSpPr>
        <p:spPr>
          <a:xfrm>
            <a:off x="324000" y="5732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833.imageshack.us/img833/9684/przebarwieni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niejszanie przebarwi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2"/>
          <p:cNvSpPr/>
          <p:nvPr/>
        </p:nvSpPr>
        <p:spPr>
          <a:xfrm>
            <a:off x="468360" y="14130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potwierdzają działanie retinoidów w niwelowaniu przebarwień skóry ( witamina A). Zmniejszają one aktywność tyrozynazy, zmniejszając ilość melaniny, pobudzają syntezę kolag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paraty z witaminą C, (L-askorbylo-2-fosforan magnezu), związek trwały, przenika przez naskórek, zapobiega plamom przez hamowanie syntezy melaniny. Jest antyoksydantem i zapobiega starzeniu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539640" y="404640"/>
            <a:ext cx="820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 materiale omówione zostan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owa naskórka, skóry właściwej (melanocyty, melanosomy, keratynocyty), elementy starzejące się w naskór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 w regeneracji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cze bogatopłytkowe (PRP - Platelet-Rich Plasma) i autologiczne czynniki wzrostu z płytek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synteza melaniny i rodzaje melan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binizm a starzenie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e i zabiegi niwelujące przebarwienia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uwanie przebarwień - zabie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ole tekstowe 2"/>
          <p:cNvSpPr/>
          <p:nvPr/>
        </p:nvSpPr>
        <p:spPr>
          <a:xfrm>
            <a:off x="395280" y="148428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 -  (PWN) /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ym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iling/</a:t>
            </a: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, piling 1.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ieg kosmetyczny wykonywany w celu usunięcia zrogowaciałego naskó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953735"/>
                </a:solidFill>
                <a:latin typeface="Calibri"/>
              </a:rPr>
              <a:t>2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ubstancja używana do takiego zabieg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chemiczne stosowane są także w usuwaniu przebarwień skóry, hamując tyrozynazę, zmniejszają ilość barwnika i jednocześnie pobudzając czynniki wzrostowe, sprawiają, że przybywa żywych warstw naskór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elingi chemiczne (medycz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ole tekstowe 4"/>
          <p:cNvSpPr/>
          <p:nvPr/>
        </p:nvSpPr>
        <p:spPr>
          <a:xfrm>
            <a:off x="611280" y="184464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eelingi łagod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powierzchowne, złuszczanie do warstwy kloczystej naskórka, odnowa około 5-10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owane są jako substancje złuszczające hydroksykwasy:  np.  kw. mlekowy, glikolowy, cytryn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powinno być widoczne złuszc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933c"/>
                </a:solidFill>
                <a:latin typeface="Calibri"/>
              </a:rPr>
              <a:t>Peelingi głębo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773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elingi głębokie „sięgają” do warstwy siateczkowej skóry właściwej. Odnowa warstw po ich stosowaniu trwa około 15 d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DOCZNE jest ich stosowanie (zaczerwienienia a także strupy), efekty uboczne: rumień, obrzęki, ból, oraz tak zwane linie demarkacyjne, czyli wyraźne ślady (granice) skóry poddanej ich stosowani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KAZANIA: piegi, plamy, przebarwi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www.biedronkowo.info/web_images/skora.jpg"/>
          <p:cNvPicPr/>
          <p:nvPr/>
        </p:nvPicPr>
        <p:blipFill>
          <a:blip r:embed="rId1"/>
          <a:stretch/>
        </p:blipFill>
        <p:spPr>
          <a:xfrm>
            <a:off x="250920" y="1471680"/>
            <a:ext cx="8362800" cy="433368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3"/>
          <p:cNvSpPr/>
          <p:nvPr/>
        </p:nvSpPr>
        <p:spPr>
          <a:xfrm>
            <a:off x="755640" y="5732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biedronkowo.info/web_images/skor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skórek jest tkanką, która regeneruje się przez całe życie osob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24000" y="2492280"/>
            <a:ext cx="849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wszystkich warstwach naskórka znajdują się komórki –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keratynocy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ułożone warstwami. Są one w różnym etapie cyklu komórk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arakterystyczna zdolność naskórka  do  rogowacenia i złuszczania się, jest możliwa dzięki warstwie rozrodczej (podstawnej) naskórka, w której, według najnowszych doniesień literaturowych, znajdują się </a:t>
            </a:r>
            <a:r>
              <a:rPr b="0" lang="pl-PL" sz="3200" spc="-1" strike="noStrike">
                <a:solidFill>
                  <a:srgbClr val="dd5966"/>
                </a:solidFill>
                <a:latin typeface="Calibri"/>
              </a:rPr>
              <a:t>komórki macierzy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250920" y="1628640"/>
            <a:ext cx="871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órki macierzyste, o specyficznym metabolizmie, niezróżnicowane, pluripotencjalne, powstają w trakcie życia zarodkowego. Dają początek tkankom i organom (tracąc totipotentność gdy ulegają zróżnicowaniu w odpowiedni typ komórek danej tkanki). Część z nich zostaje „odłożona” czy „zdeponowana” w narządach, aż do wieku dojrzałego</a:t>
            </a:r>
            <a:r>
              <a:rPr b="0" lang="pl-PL" sz="3200" spc="-1" strike="noStrike">
                <a:solidFill>
                  <a:srgbClr val="0070c0"/>
                </a:solidFill>
                <a:latin typeface="Calibri"/>
              </a:rPr>
              <a:t>. Ostatnie badania wykazały istnienie takich komórek macierzystych  w różnych organach, także w skó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static1.opracowania.pl/images/187088/budowa_sk%C3%B3ry.jpg"/>
          <p:cNvPicPr/>
          <p:nvPr/>
        </p:nvPicPr>
        <p:blipFill>
          <a:blip r:embed="rId1"/>
          <a:srcRect l="28691" t="0" r="0" b="21284"/>
          <a:stretch/>
        </p:blipFill>
        <p:spPr>
          <a:xfrm>
            <a:off x="468360" y="1341360"/>
            <a:ext cx="4921200" cy="3456000"/>
          </a:xfrm>
          <a:prstGeom prst="rect">
            <a:avLst/>
          </a:prstGeom>
          <a:ln w="0">
            <a:noFill/>
          </a:ln>
        </p:spPr>
      </p:pic>
      <p:sp>
        <p:nvSpPr>
          <p:cNvPr id="108" name="Elipsa 4"/>
          <p:cNvSpPr/>
          <p:nvPr/>
        </p:nvSpPr>
        <p:spPr>
          <a:xfrm>
            <a:off x="1187280" y="278136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ipsa 5"/>
          <p:cNvSpPr/>
          <p:nvPr/>
        </p:nvSpPr>
        <p:spPr>
          <a:xfrm>
            <a:off x="1979640" y="2637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ipsa 6"/>
          <p:cNvSpPr/>
          <p:nvPr/>
        </p:nvSpPr>
        <p:spPr>
          <a:xfrm>
            <a:off x="755640" y="5373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7"/>
          <p:cNvSpPr/>
          <p:nvPr/>
        </p:nvSpPr>
        <p:spPr>
          <a:xfrm>
            <a:off x="539640" y="270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8"/>
          <p:cNvSpPr/>
          <p:nvPr/>
        </p:nvSpPr>
        <p:spPr>
          <a:xfrm>
            <a:off x="971640" y="51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erwony znak oznacza miejsca występowania komórek macierzys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Kształt 11"/>
          <p:cNvCxnSpPr/>
          <p:nvPr/>
        </p:nvCxnSpPr>
        <p:spPr>
          <a:xfrm flipV="1">
            <a:off x="1331640" y="1773000"/>
            <a:ext cx="3601080" cy="1100880"/>
          </a:xfrm>
          <a:prstGeom prst="bentConnector3">
            <a:avLst>
              <a:gd name="adj1" fmla="val 40471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4" name="pole tekstowe 14"/>
          <p:cNvSpPr/>
          <p:nvPr/>
        </p:nvSpPr>
        <p:spPr>
          <a:xfrm>
            <a:off x="4932360" y="148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bulge region – przy ujściu gruczołu łojoweg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órki macierzyste naskórk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Łącznik łamany 4"/>
          <p:cNvCxnSpPr/>
          <p:nvPr/>
        </p:nvCxnSpPr>
        <p:spPr>
          <a:xfrm flipV="1">
            <a:off x="1908000" y="2491560"/>
            <a:ext cx="3888720" cy="1297800"/>
          </a:xfrm>
          <a:prstGeom prst="bentConnector3">
            <a:avLst>
              <a:gd name="adj1" fmla="val 56198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Łącznik łamany 6"/>
          <p:cNvCxnSpPr/>
          <p:nvPr/>
        </p:nvCxnSpPr>
        <p:spPr>
          <a:xfrm>
            <a:off x="1907640" y="3789360"/>
            <a:ext cx="4320360" cy="1512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Elipsa 9"/>
          <p:cNvSpPr/>
          <p:nvPr/>
        </p:nvSpPr>
        <p:spPr>
          <a:xfrm>
            <a:off x="6012000" y="2133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lipsa 10"/>
          <p:cNvSpPr/>
          <p:nvPr/>
        </p:nvSpPr>
        <p:spPr>
          <a:xfrm>
            <a:off x="6012000" y="3933720"/>
            <a:ext cx="360360" cy="4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ipsa 11"/>
          <p:cNvSpPr/>
          <p:nvPr/>
        </p:nvSpPr>
        <p:spPr>
          <a:xfrm>
            <a:off x="6012000" y="2708280"/>
            <a:ext cx="360360" cy="433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ipsa 12"/>
          <p:cNvSpPr/>
          <p:nvPr/>
        </p:nvSpPr>
        <p:spPr>
          <a:xfrm>
            <a:off x="6012000" y="3357720"/>
            <a:ext cx="36036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lipsa 13"/>
          <p:cNvSpPr/>
          <p:nvPr/>
        </p:nvSpPr>
        <p:spPr>
          <a:xfrm>
            <a:off x="630072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ipsa 19"/>
          <p:cNvSpPr/>
          <p:nvPr/>
        </p:nvSpPr>
        <p:spPr>
          <a:xfrm>
            <a:off x="1332000" y="3573360"/>
            <a:ext cx="43164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0"/>
          <p:cNvSpPr/>
          <p:nvPr/>
        </p:nvSpPr>
        <p:spPr>
          <a:xfrm>
            <a:off x="1835280" y="2781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Calibri"/>
              </a:rPr>
              <a:t>Podział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asymetrycz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Nawias klamrowy zamykający 22"/>
          <p:cNvSpPr/>
          <p:nvPr/>
        </p:nvSpPr>
        <p:spPr>
          <a:xfrm>
            <a:off x="6588000" y="2060640"/>
            <a:ext cx="287640" cy="237636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2376360"/>
              <a:gd name="textAreaBottom" fmla="*/ 23691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23"/>
          <p:cNvSpPr/>
          <p:nvPr/>
        </p:nvSpPr>
        <p:spPr>
          <a:xfrm>
            <a:off x="6875640" y="2060640"/>
            <a:ext cx="187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Nowe komórki naskórka: 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melanocy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k. miesz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włos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5"/>
          <p:cNvSpPr/>
          <p:nvPr/>
        </p:nvSpPr>
        <p:spPr>
          <a:xfrm>
            <a:off x="5508720" y="5589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„pula” komórek macierzyst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9"/>
          <p:cNvSpPr/>
          <p:nvPr/>
        </p:nvSpPr>
        <p:spPr>
          <a:xfrm>
            <a:off x="539640" y="414972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órki macierzyste 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ipsa 30"/>
          <p:cNvSpPr/>
          <p:nvPr/>
        </p:nvSpPr>
        <p:spPr>
          <a:xfrm>
            <a:off x="826920" y="357336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lipsa 31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ipsa 32"/>
          <p:cNvSpPr/>
          <p:nvPr/>
        </p:nvSpPr>
        <p:spPr>
          <a:xfrm>
            <a:off x="6804000" y="5084640"/>
            <a:ext cx="432000" cy="432000"/>
          </a:xfrm>
          <a:prstGeom prst="ellipse">
            <a:avLst/>
          </a:prstGeom>
          <a:solidFill>
            <a:srgbClr val="dd5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utologiczne czynniki wzrostu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regeneracji i przeciwdziałaniu starzeniu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95280" y="2492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utologiczne czynniki wzrostu z płytek krwi, inicjują, podtrzymują procesy regeneracji, między innymi skóry. Aby je zastosować stosuje się </a:t>
            </a:r>
            <a:r>
              <a:rPr b="0" lang="pl-PL" sz="2800" spc="-1" strike="noStrike">
                <a:solidFill>
                  <a:srgbClr val="c00000"/>
                </a:solidFill>
                <a:latin typeface="Calibri"/>
              </a:rPr>
              <a:t>osocze bogatopłytkowe (PRP - Platelet-Rich Plasma), z krwi pacjen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autologiczne, zatem układ immunologiczny nie reaguje niewłaściwie, po ich zastosowani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nniki wzrostu działają na komórki macierzyste skóry, które dzielą się. Działają także na fibroblasty stymulując je do produkcji kolage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46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laniny chronią skór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s://encrypted-tbn3.gstatic.com/images?q=tbn:ANd9GcSvCRWLgupsn9dXUyVGKuZ3651vBFXOwyrxLvDqj25ULgsPgO5x"/>
          <p:cNvPicPr/>
          <p:nvPr/>
        </p:nvPicPr>
        <p:blipFill>
          <a:blip r:embed="rId1"/>
          <a:srcRect l="29422" t="0" r="9680" b="0"/>
          <a:stretch/>
        </p:blipFill>
        <p:spPr>
          <a:xfrm>
            <a:off x="4116240" y="1844640"/>
            <a:ext cx="3624480" cy="4581720"/>
          </a:xfrm>
          <a:prstGeom prst="rect">
            <a:avLst/>
          </a:prstGeom>
          <a:ln w="0">
            <a:noFill/>
          </a:ln>
        </p:spPr>
      </p:pic>
      <p:cxnSp>
        <p:nvCxnSpPr>
          <p:cNvPr id="136" name="Łącznik prosty ze strzałką 4"/>
          <p:cNvCxnSpPr/>
          <p:nvPr/>
        </p:nvCxnSpPr>
        <p:spPr>
          <a:xfrm>
            <a:off x="3851280" y="3789000"/>
            <a:ext cx="165816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37" name="Łącznik prosty ze strzałką 6"/>
          <p:cNvCxnSpPr/>
          <p:nvPr/>
        </p:nvCxnSpPr>
        <p:spPr>
          <a:xfrm>
            <a:off x="3780000" y="5157360"/>
            <a:ext cx="2016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38" name="pole tekstowe 9"/>
          <p:cNvSpPr/>
          <p:nvPr/>
        </p:nvSpPr>
        <p:spPr>
          <a:xfrm>
            <a:off x="1127520" y="4941720"/>
            <a:ext cx="17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noc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0"/>
          <p:cNvSpPr/>
          <p:nvPr/>
        </p:nvSpPr>
        <p:spPr>
          <a:xfrm>
            <a:off x="250920" y="24922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ustki dendrytyczne melanocytu a w nich melanos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melanin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3"/>
          <p:cNvSpPr/>
          <p:nvPr/>
        </p:nvSpPr>
        <p:spPr>
          <a:xfrm>
            <a:off x="250920" y="2492280"/>
            <a:ext cx="3600360" cy="194472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15"/>
          <p:cNvSpPr/>
          <p:nvPr/>
        </p:nvSpPr>
        <p:spPr>
          <a:xfrm>
            <a:off x="179280" y="4869000"/>
            <a:ext cx="3600720" cy="647640"/>
          </a:xfrm>
          <a:prstGeom prst="rect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6"/>
          <p:cNvCxnSpPr/>
          <p:nvPr/>
        </p:nvCxnSpPr>
        <p:spPr>
          <a:xfrm>
            <a:off x="3850920" y="3357360"/>
            <a:ext cx="2592720" cy="108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43" name="pole tekstowe 25"/>
          <p:cNvSpPr/>
          <p:nvPr/>
        </p:nvSpPr>
        <p:spPr>
          <a:xfrm>
            <a:off x="7327800" y="314172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eratynocy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kór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6"/>
          <p:cNvSpPr/>
          <p:nvPr/>
        </p:nvSpPr>
        <p:spPr>
          <a:xfrm>
            <a:off x="7080840" y="5805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óra właści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17:07Z</dcterms:modified>
  <cp:revision>38</cp:revision>
  <dc:subject/>
  <dc:title>Slajd 1</dc:title>
</cp:coreProperties>
</file>