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1B57-A5B0-4C96-A280-0E907E20727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1250-B15A-44CC-BB96-241369FC12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5FBE-6D86-4306-929C-46A81A1001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F47-9C5E-4981-9D5C-0212E573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0BA-D85F-4A5D-8081-FA391C1F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F75-5D78-43C0-A3C0-D0F0ACF9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A64-5C6E-4CC7-A0B3-3B2EAD2C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BCF9-397D-4156-BF96-0C7B7C00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A8EE-B7A7-482D-BEB5-0AA52CF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CE86-C62F-48A8-AC20-C4823F7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756D-FE4E-4B1B-85CA-6ED98799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9E72-41DC-4B45-8131-566D06CA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A56-993E-4481-92CF-B8A934B8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175F-5F18-439C-8C8C-FC10C7F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AB7-BA84-4ACB-9F83-351C143E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D97C-D040-4097-8F2B-F1AE7D2A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738A-5D7D-4BEF-80AD-DDC55D1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457E-5214-4A75-8340-0AC70560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A444-672F-47DB-BA9B-041068DC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A69E-B6F9-49BA-BF96-3E411018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51E-F343-4FEC-A704-995251C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E3B-99B7-4647-923A-CB8213A4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969-781F-4D3D-B6EA-511BADF8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CB5-D08A-44A6-9ECC-E40F389E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DCC-2B94-4DD8-BF90-C3228D8C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8475-3DA0-4BA4-B135-62A21CF8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6A1-3D14-4320-8A8C-201DC01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AC01-84F2-44F9-9959-B899B4AC1E9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DD6C-DC5A-4033-BB1C-B38BE647A3C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I (pakiet II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395280" y="1773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śród komórek budujących skórę właściwą (histiocyty, komórki tuczne), najwięcej jest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fibroblastów –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komórek odpowiedzialnych za syntezę składników macierzy: włókien kolagenowych, elastyny, proteoglikanów (PG), wiążących włókna oraz innych substa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04a7b"/>
                </a:solidFill>
                <a:latin typeface="Calibri"/>
              </a:rPr>
              <a:t>Kolagen włóknist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pośród tych substancji w największej obfit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"/>
          <p:cNvSpPr/>
          <p:nvPr/>
        </p:nvSpPr>
        <p:spPr>
          <a:xfrm>
            <a:off x="395280" y="1628640"/>
            <a:ext cx="820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ptydoglikany macierzy skóry właściwej są hydrofilne. Razem z kwasem hialuronowym zdolne są do wiązania wody. W powyższym połączeniu substancje te wpływają na uwodnienie skóry, co skutkuje widocznym zwiększeniem jej ujędrn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naukowe wykazały spadek ilości kwasu hialuronowego wraz z wiekiem badanych osobników, co niewątpliwie ma związek ze starzeniem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strogeny w kondycji i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"/>
          <p:cNvSpPr/>
          <p:nvPr/>
        </p:nvSpPr>
        <p:spPr>
          <a:xfrm>
            <a:off x="395280" y="184464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Hormony produkowane przez gonady, wpływają na funkcje różnych organów, między innymi skór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wykazały obecność receptorów dla tych hormonów sterydowych w rozmaitych tkankach, w tym także w skór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ecność receptorów świadczy, że tkanka jest docelową dla hormonu, który po związaniu si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właściwym dla niego receptorem, wywołuje reakcje, doprowadzające do zmian w org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jest estrogenozależnym organ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62864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podczas menopauzy spada aktywność gonad, drastycznie spada produkcja estrogen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prowadza to do zmian naskórkowych i zmian w obrębie skóry właściw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W naskórk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zanik (uwstecznianie) warstw naskórka. Zmniejszenie ilości podziałów w warstwie rozrodczej, naskórek staje się cienki. Pojawiają się przebarwienia/odbarwienia na skutek zaburzeń metabolizmu keratynocytów i melanocy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zmożenie starzenia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okresie menopauzaln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395280" y="170028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adek ilości estrogenów powoduje w skórze właściwej zaburzenie czynności fibroblastów, a przez to zmniejsza się ilość substancji przez nie produkowanych, miedzy innymi: PG,  kolagenu, kwasu hialuronow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niej jest hydroksyproliny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***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co wpływa na zmianę właściwości fizycznych i chemicznych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powoduje: wysuszenie skóry, zwiotcz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lipsa 2"/>
          <p:cNvSpPr/>
          <p:nvPr/>
        </p:nvSpPr>
        <p:spPr>
          <a:xfrm>
            <a:off x="3995640" y="2997360"/>
            <a:ext cx="3024360" cy="2952720"/>
          </a:xfrm>
          <a:prstGeom prst="ellipse">
            <a:avLst/>
          </a:prstGeom>
          <a:solidFill>
            <a:srgbClr val="40404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ronologi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ipsa 3"/>
          <p:cNvSpPr/>
          <p:nvPr/>
        </p:nvSpPr>
        <p:spPr>
          <a:xfrm>
            <a:off x="2771640" y="2060640"/>
            <a:ext cx="2880000" cy="288108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nopau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lipsa 5"/>
          <p:cNvSpPr/>
          <p:nvPr/>
        </p:nvSpPr>
        <p:spPr>
          <a:xfrm>
            <a:off x="1332000" y="2997360"/>
            <a:ext cx="3024000" cy="2952720"/>
          </a:xfrm>
          <a:prstGeom prst="ellipse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otostar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6"/>
          <p:cNvSpPr/>
          <p:nvPr/>
        </p:nvSpPr>
        <p:spPr>
          <a:xfrm>
            <a:off x="900000" y="54936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tarzenie się skóry jest wynikiem nakładania się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wieczny problem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Obraz 5" descr="zmarchy.jpg"/>
          <p:cNvPicPr/>
          <p:nvPr/>
        </p:nvPicPr>
        <p:blipFill>
          <a:blip r:embed="rId1"/>
          <a:stretch/>
        </p:blipFill>
        <p:spPr>
          <a:xfrm>
            <a:off x="2771640" y="1268280"/>
            <a:ext cx="3313080" cy="448308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6"/>
          <p:cNvSpPr/>
          <p:nvPr/>
        </p:nvSpPr>
        <p:spPr>
          <a:xfrm>
            <a:off x="755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lh3.ggpht.com/_MsZb8mYFoCs/TQmQAN4dKiI/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AAAAAAAMp4/PSdc-2k8va0/s800/Anti-Wrinkle-Cre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 (BTX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2"/>
          <p:cNvSpPr/>
          <p:nvPr/>
        </p:nvSpPr>
        <p:spPr>
          <a:xfrm>
            <a:off x="32400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neurotoksyna, produkowana przez bakterie </a:t>
            </a:r>
            <a:r>
              <a:rPr b="0" i="1" lang="pl-PL" sz="3200" spc="-1" strike="noStrike">
                <a:solidFill>
                  <a:srgbClr val="948a54"/>
                </a:solidFill>
                <a:latin typeface="Calibri"/>
              </a:rPr>
              <a:t>Clostridium botulin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zechnie znana jako jad kiełbasiany, substancja śmiertelna dla człowieka w dawce 3000 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a w niewielkich dawkach (BTX A) około 60 j., stosowana jest nie tylko w medycynie estetycznej, ale także w neurologii, w leczeniu spastyczności. Używana jest od ponad 20 l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otulina obniża napięcie mięśni mimicznych – zmniejszenie zmarszc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2"/>
          <p:cNvSpPr/>
          <p:nvPr/>
        </p:nvSpPr>
        <p:spPr>
          <a:xfrm>
            <a:off x="468360" y="2565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temu, że toksyna działa w obrębie płytki nerwowo – mięśniowej, hamuje pobudzenie mięśni przez ner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iotczenie mięśni daje rozluźnienie skó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zmarszczki zmniejszają się, skóra twarzy wygładz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stety, nie jest to działanie trwał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395280" y="83664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fekt po zastosowaniu toksyny botulinowej pojawia się i jest widoczny zazwyczaj po kilkunastu godzinach po iniekcjach. Przemija po 5, 6 miesiąc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 osób powyżej 60 roku życia stosowanie BTX nie przynosi spodziewanych efektów, gdyż botulina nie usuwa zmarszczek statycznych, ale tylko te, które pojawiają się dzięki mimicznym, dynamicznym grymas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692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Materiał obejm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rane teorie dotyczące mechanizmów starzenia się skó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Hayflicka (ograniczonej liczby podziałów komór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a właściwa w starzeniu się powłok cia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 estrogenów na proces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osowanie toksyny botulinowej w zabiegach odmładzających skó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iekcja BTX może wywołać także powikłan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sme.rybnik.pl/userfiles/http---www_derma-news_pl-pliki_pdf-nr_2006_11_pdf%20-%20Adobe%20Reader.bmp"/>
          <p:cNvPicPr/>
          <p:nvPr/>
        </p:nvPicPr>
        <p:blipFill>
          <a:blip r:embed="rId1"/>
          <a:stretch/>
        </p:blipFill>
        <p:spPr>
          <a:xfrm>
            <a:off x="468360" y="1844640"/>
            <a:ext cx="3305160" cy="374328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3"/>
          <p:cNvSpPr/>
          <p:nvPr/>
        </p:nvSpPr>
        <p:spPr>
          <a:xfrm>
            <a:off x="39528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me.rybnik.pl/userfiles/http---www_derma-news_pl-pliki_pdf-nr_2006_11_pdf%20-%20Adobe%20Reader.bm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3995640" y="177336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adnięcie, wywinięcie powiek, „twarz Mefisto” – uniesienie brwi, „nierówny” uśmi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granicy Hayflicka w starzeniu się komórek (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ojciechznamirowski.eu/wp-content/uploads/2012/06/wrozenie03.jpg"/>
          <p:cNvPicPr/>
          <p:nvPr/>
        </p:nvPicPr>
        <p:blipFill>
          <a:blip r:embed="rId1"/>
          <a:srcRect l="35236" t="0" r="20843" b="39750"/>
          <a:stretch/>
        </p:blipFill>
        <p:spPr>
          <a:xfrm>
            <a:off x="826920" y="1773360"/>
            <a:ext cx="3870360" cy="39592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25092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Łącznik prosty ze strzałką 5"/>
          <p:cNvCxnSpPr/>
          <p:nvPr/>
        </p:nvCxnSpPr>
        <p:spPr>
          <a:xfrm flipH="1">
            <a:off x="4427280" y="2133360"/>
            <a:ext cx="180072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03" name="Łącznik prosty ze strzałką 9"/>
          <p:cNvCxnSpPr/>
          <p:nvPr/>
        </p:nvCxnSpPr>
        <p:spPr>
          <a:xfrm flipH="1">
            <a:off x="3923640" y="2491920"/>
            <a:ext cx="2377080" cy="1585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04" name="pole tekstowe 12"/>
          <p:cNvSpPr/>
          <p:nvPr/>
        </p:nvSpPr>
        <p:spPr>
          <a:xfrm>
            <a:off x="6379920" y="198900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lom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2"/>
          <p:cNvSpPr/>
          <p:nvPr/>
        </p:nvSpPr>
        <p:spPr>
          <a:xfrm>
            <a:off x="250920" y="1628640"/>
            <a:ext cx="8626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– „końcówki” chromosomów, składają się z tysięcy (podwójnych) powtórzeń sekwencji (TTAGGG). Nie zawierają żadnych genów (nie kodują białe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końce chromosomów przed egzonukleazami, mogącymi uszkodzić sekwencje kodują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ezpieczają przed translokacjami i delecja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mutacjami struktural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naczenie telomerów dla eukariotycznych komór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2"/>
          <p:cNvSpPr/>
          <p:nvPr/>
        </p:nvSpPr>
        <p:spPr>
          <a:xfrm>
            <a:off x="539640" y="198900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omery „pomagają” systemowi naprawczemu uszkodzeń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rócenie telomerów kieruje komórkę na drogę do spoczynku, wreszcie apoptozy, więc można skracanie tych struktur nazwać czynnikiem ograniczającym liczbę podziałów komórkowych, co w konsekwencji doprowadza do starzenia się, także organu, jakim jest skór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racanie telomerów w trakcie kolejnych podziałów komórki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ojciechznamirowski.eu/wp-content/uploads/2012/06/wrozenie03.jpg"/>
          <p:cNvPicPr/>
          <p:nvPr/>
        </p:nvPicPr>
        <p:blipFill>
          <a:blip r:embed="rId1"/>
          <a:srcRect l="37667" t="66634" r="17593" b="1669"/>
          <a:stretch/>
        </p:blipFill>
        <p:spPr>
          <a:xfrm>
            <a:off x="755640" y="2205000"/>
            <a:ext cx="7056360" cy="37306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3"/>
          <p:cNvSpPr/>
          <p:nvPr/>
        </p:nvSpPr>
        <p:spPr>
          <a:xfrm>
            <a:off x="324000" y="6021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ojciechznamirowski.eu/wp-content/uploads/2012/06/wrozenie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załka w dół 4"/>
          <p:cNvSpPr/>
          <p:nvPr/>
        </p:nvSpPr>
        <p:spPr>
          <a:xfrm rot="5400000">
            <a:off x="7344000" y="5049000"/>
            <a:ext cx="432000" cy="93492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3"/>
          <p:cNvSpPr/>
          <p:nvPr/>
        </p:nvSpPr>
        <p:spPr>
          <a:xfrm>
            <a:off x="395280" y="162864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brodaw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„zazębiona” jest z naskórkiem, stąd właśnie nazwa – brodawkowata – gdyż brodawki wnikają pod warstwę rozrodczą naskórka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widoczne dokładnie, następny slajd, I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Znajdują się w niej pętle naczyniowe oraz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. Pomiędzy tymi, jeszcze luźno w tej warstwie ułożonymi włóknami, są obecne naczynka włosowate, receptory, zakończenia nerw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sunfarm.pl/media_library/2011/7/1309965417.png"/>
          <p:cNvPicPr/>
          <p:nvPr/>
        </p:nvPicPr>
        <p:blipFill>
          <a:blip r:embed="rId1"/>
          <a:srcRect l="0" t="0" r="7500" b="18944"/>
          <a:stretch/>
        </p:blipFill>
        <p:spPr>
          <a:xfrm>
            <a:off x="395280" y="692280"/>
            <a:ext cx="5329080" cy="509724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4"/>
          <p:cNvSpPr/>
          <p:nvPr/>
        </p:nvSpPr>
        <p:spPr>
          <a:xfrm>
            <a:off x="755640" y="5805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unfarm.pl/media_library/2011/7/1309965417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Łącznik prosty ze strzałką 6"/>
          <p:cNvCxnSpPr/>
          <p:nvPr/>
        </p:nvCxnSpPr>
        <p:spPr>
          <a:xfrm flipH="1">
            <a:off x="4355640" y="1483920"/>
            <a:ext cx="1656720" cy="57708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18" name="Łącznik prosty ze strzałką 9"/>
          <p:cNvCxnSpPr/>
          <p:nvPr/>
        </p:nvCxnSpPr>
        <p:spPr>
          <a:xfrm flipH="1" flipV="1">
            <a:off x="3563280" y="3067920"/>
            <a:ext cx="2377080" cy="1297800"/>
          </a:xfrm>
          <a:prstGeom prst="straightConnector1">
            <a:avLst/>
          </a:prstGeom>
          <a:ln w="763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19" name="pole tekstowe 12"/>
          <p:cNvSpPr/>
          <p:nvPr/>
        </p:nvSpPr>
        <p:spPr>
          <a:xfrm>
            <a:off x="6012000" y="98100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. Brodawki skóry właściwej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arstwa brodaw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14"/>
          <p:cNvSpPr/>
          <p:nvPr/>
        </p:nvSpPr>
        <p:spPr>
          <a:xfrm>
            <a:off x="6012000" y="378936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I. Włókna kolagenow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elastynowe </a:t>
            </a:r>
            <a:r>
              <a:rPr b="0" lang="pl-PL" sz="2800" spc="-1" strike="noStrike">
                <a:solidFill>
                  <a:srgbClr val="948a54"/>
                </a:solidFill>
                <a:latin typeface="Calibri"/>
              </a:rPr>
              <a:t>(w.siateczkow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właściwa w starzeniu się powłok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395280" y="15573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arstwa siateczkowat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óry właściwej jest zaopatrzona w grube włókna elastycz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prężyste </a:t>
            </a:r>
            <a:r>
              <a:rPr b="0" lang="pl-PL" sz="3200" spc="-1" strike="noStrike">
                <a:solidFill>
                  <a:srgbClr val="948a54"/>
                </a:solidFill>
                <a:latin typeface="Calibri"/>
              </a:rPr>
              <a:t>(świetnie widoczne, II, poprzedni slajd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najdują się w niej nerwy, gruczoły potowe, mieszki włosowe. Sploty włókien zapewniają tej warstwie stosunkowo dużą wytrzymałość mechaniczną (ucis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44:36Z</dcterms:modified>
  <cp:revision>25</cp:revision>
  <dc:subject/>
  <dc:title>Slajd 1</dc:title>
</cp:coreProperties>
</file>