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82D-9E9E-4F7B-B54C-F7E66B19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8A4-D4F0-47F7-9A12-97641D2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3C1C4-CE9E-472C-AA47-DE5A8CF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B39AA-3407-48F8-85F2-777E6D13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D73AE-B236-4C38-8156-9143CB09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6C6CA-130B-4915-A792-4960D85D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8B956-FBA5-469C-98CB-FB021A5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2C1E7-825B-465C-BB20-835C32E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59D3D-512E-4283-AE2D-A78FE1B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C2EDC-AF43-4580-AAF7-A4124069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19CB5-EEDD-4421-8608-1784AE18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27C94-D207-4276-96BD-C4479D36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8F3-F462-46DC-A793-0AA8593B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82CBA-D454-4169-B640-05A17A30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228D5-F4F7-439F-A532-5ED37386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F1FC4-6978-4910-BC08-49E8C3DC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29E7C-6926-4410-9454-B969C579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43039-24E3-43AA-82F3-8FABDC2A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0E1BF-9BA8-4209-94BF-B092D0A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90482-027B-4D29-8344-A4976F9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5F134-E185-4077-8127-A339A39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40CED-D30B-4ED2-AB59-4C318B3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BEDC6-F0A7-4870-9642-8BA19595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37C-8720-49E7-BC13-A6D0F798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A3350-F533-4EBA-BC06-2126F08F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E86CE-D34F-40AB-BBFC-F0107D13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63FC4-1E15-4230-B171-155C16DB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7CDA4-E0EA-4E1D-A5BF-6817B1BA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18E1C-6DC8-4581-B474-64B2214A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00ED2-CAFC-4B79-81ED-B4C1134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B22A5-73E4-410C-B5EB-466F5ABB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ABE5D-EB31-451B-8BC3-4B635DA6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46AD9-0795-4367-B321-36A4168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98D30-AE23-4A80-B695-833A482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21C6-C4EC-43D0-B221-D085F9DA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882F3-C6EE-469B-9274-C3E72B71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BEF28-C746-4707-AC25-24AA9317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054CA-5D90-4364-8F41-67E0268D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4A47B-2EF2-4EE1-9013-B624936D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433B-27A2-404C-80C6-4349D277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96229-F257-4369-AE9C-7E47B8B6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FB985-0C62-40A4-8FAC-EF289067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6EDD0-8BB2-46F7-936C-EB62BB98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BD2BE-127D-420A-8588-B06A24EF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A951F-64D2-41C8-A8E9-BE991F99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6C33-74C0-4E64-8030-CE005D12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4EF13-2F74-493D-91CD-30B7716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34224-8373-4646-A911-C99BCA4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EDFBA-5C67-4E23-8480-7D40B8F5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6A82B-CA99-49BE-8A50-0BD297E8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530FA-93AD-4955-A384-36428047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2C8A-DF41-471F-A785-B95B0994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D855-8924-4EA7-814E-4EAAA28E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5379-6977-4990-B8A8-33E2E466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2E98-397F-417F-AA3E-8DA639AE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77C2-E0D1-48A2-8EBD-14E9EB75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6D7-37B1-4F9D-BF63-8D9DC953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0568-FFB6-4073-9A07-944A6A24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0E24-50F6-40EC-A86B-C20F336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D3E5-409B-44F6-9AE5-E09BAE9F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55F2-5426-4B00-B3D1-8C70D667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CBFB-DCF7-4079-BE96-6ACD6321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C7BE-4F78-4D62-8E82-D0181691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BED7-C7FC-42AD-8284-669CBB71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2DBF-8C89-4BB1-8C2A-16582C32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BFD2-763D-4FFA-B87B-C2F30D09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B5E5-91C3-4C04-BC75-4060D055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369-CB6A-4D73-BDD6-5D0111F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13BD-8E89-4BDA-A7A7-A597D81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7B62-5ED0-43C6-AF87-A21925E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AFFA-D168-4DBE-BE20-32AEEB53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0376-43E9-4941-BBF9-A88E3025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1E02-E0BA-4AA8-90A4-C2DE4F92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2F04-272C-41AE-A8FD-8AD154B5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E24B-5DEF-486B-8411-454F304C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8D56F-1BE5-4526-8EBB-B0EA4120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F3A8-F8ED-4565-94D7-291EB511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92C3-D2B0-45BE-9E21-B52347AE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47B-4826-4078-AC4C-5F461228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B8F4A-C543-4AE7-9C22-53C799DE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295D-304A-4A4C-BA93-2DED0BB6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4E66-733F-45ED-BBE4-26316B17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04BB6-24F2-4990-A9EC-61CFAE5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B5A5-C68D-4105-94AC-1A7BA4C8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23CA6-7858-4846-87D7-AECBE673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FE86F-6488-4B73-A0FC-CBD3D85A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784B0-03C9-41B3-AFD2-244F9515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2570-4AD3-4B75-9027-C14A21B0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6891A-568D-4E1C-9709-B9CC959B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4B7-6333-4738-BEB1-8A682272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B669C-E110-4BAF-A548-D2700B16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0C26-90A4-48AB-94BA-57F1502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138C7-CE24-42EE-BBBE-E22CC5EA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C0979-6FF0-4952-BA3F-E15E1D49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7E091-FDAA-4002-A533-F4E6CB3B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CE2BB-004D-4BC9-A4C0-0A2A17C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EABD-D50F-4ABC-83FB-B5C663E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3877D-F98A-4577-B94A-F563C06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1024-75A4-4C37-BC3A-B2F4F17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8B305-ADA3-453D-A966-BBF57884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4AD-8555-4DAE-AAE0-17B98C4C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25EAB-9F80-46E0-AF88-803BEB37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F9C9E-9A48-4C2F-BF40-B5F96836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3CA05-60D4-4505-AFF8-BC95C119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EA5B-2592-4D66-88A5-BD04673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19AFC-BCBB-4AF1-9533-F07BA50A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904B-0530-44FC-A364-A8FC6773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3FF03-6170-4C6F-B947-6343AB87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4F5FB-050A-4A86-A1F3-687C0E96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4850-DC3A-4638-A81A-EE1E782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789ED-D141-479F-B265-3E87047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FD2-F2A5-4B00-BC55-6825BC7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8AAAB-C648-4922-A65B-73E54955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AF41F-795F-42B7-90CF-C3AABA39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9A0F-2492-4A3B-9B9E-6A7403E9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9FCE-3848-42EE-BCA3-989E75B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1C566-7D30-4049-91F9-72CADAC6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B422A-240A-435E-9EFE-21A003F4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36A99-DF96-4283-8055-1B194AA4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3C71-35CC-4285-96CB-195A34F0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7D894-C522-4502-9D17-B1824F7F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C73F-D5A5-4175-A6F8-EE8F59F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255-6992-486B-8D92-4BC46941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681C8-DE04-4E77-A49D-3FA468C1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41A9D-98CE-47B7-A53C-EA131DAC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278B5-1C29-42D7-BD8B-A10043E7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B0EC6-72F3-456A-B465-890C9DB6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0A716-4043-47A0-8724-1554FCB4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DBD39-ECE1-4EEA-8D8D-D01C01C1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7059D-2295-4A5B-BD52-76920EA9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8F345-10CC-47D9-92BB-AA0BDD52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97D91-ABAB-4715-B473-7B9C4601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E5B59-8146-47A4-993E-1078C061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C74-7ED0-490E-A0FF-53D6595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9F537-AD62-4430-9992-8AE23089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39596-358E-4023-B505-B36DF5C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E2300-868C-43A8-90AC-CB68D467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365D8-DCA0-4B4B-A467-2B4E6671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29CE-D288-4A1E-A237-D27A7352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D4A8B-33DC-4429-8C7C-10CB062A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0AE3F-1825-45A9-8AEB-124E24FC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E9FA8-7EF6-4582-AFAE-B7AE3F74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317AA-0C24-49CE-BEC9-5EEC552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181E5-7533-40BE-9742-4811FD22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AF84-D97B-4CC4-B594-11768B389A9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BCA1-35DB-494B-BDBD-47837A0997E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3436-6B34-43E5-BCD0-AA452605C7C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AC60-4442-4CE9-A368-7D41DF8C73BF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694480"/>
              <a:gd name="textAreaBottom" fmla="*/ 5694840 h 5694480"/>
            </a:gdLst>
            <a:ahLst/>
            <a:rect l="textAreaLeft" t="textAreaTop" r="textAreaRight" b="textAreaBottom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5335560"/>
              <a:gd name="textAreaBottom" fmla="*/ 5335920 h 5335560"/>
            </a:gdLst>
            <a:ahLst/>
            <a:rect l="textAreaLeft" t="textAreaTop" r="textAreaRight" b="textAreaBottom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055680"/>
              <a:gd name="textAreaBottom" fmla="*/ 3056040 h 3055680"/>
            </a:gdLst>
            <a:ahLst/>
            <a:rect l="textAreaLeft" t="textAreaTop" r="textAreaRight" b="textAreaBottom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>
              <a:gd name="textAreaLeft" fmla="*/ 0 w 6237360"/>
              <a:gd name="textAreaRight" fmla="*/ 6237720 w 6237360"/>
              <a:gd name="textAreaTop" fmla="*/ 0 h 3365640"/>
              <a:gd name="textAreaBottom" fmla="*/ 3366000 h 3365640"/>
            </a:gdLst>
            <a:ahLst/>
            <a:rect l="textAreaLeft" t="textAreaTop" r="textAreaRight" b="textAreaBottom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2745-CC7F-4AF6-853F-CAD73111D3A0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F95C-48C3-4B51-8C3D-2DA0E90C85E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631-C6D4-4A6F-8F9A-B8BEA413349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F022-5991-472C-9523-5C406C6EAA1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60AC-5DEB-405A-A4D6-7A2C4EE43A3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EC17-733C-4995-BD90-8A5963B1BDE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D532-FC7C-40F0-8BB6-2736C800468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a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2928-44B4-49A6-8E66-52BF65E76F6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14080" y="21337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cc00"/>
                </a:solidFill>
                <a:latin typeface="Times New Roman"/>
              </a:rPr>
              <a:t>FUNKCJA JEDNEJ ZMIENNEJ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914400" y="20574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różnowartościowa jeżeli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dokładnie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1692360" y="4653000"/>
            <a:ext cx="56880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60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Oval 2"/>
          <p:cNvSpPr/>
          <p:nvPr/>
        </p:nvSpPr>
        <p:spPr>
          <a:xfrm>
            <a:off x="1447920" y="6094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Oval 3"/>
          <p:cNvSpPr/>
          <p:nvPr/>
        </p:nvSpPr>
        <p:spPr>
          <a:xfrm>
            <a:off x="4952880" y="609480"/>
            <a:ext cx="17528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81080" y="609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22860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17524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54864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5715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>
            <a:off x="2286000" y="8380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10"/>
          <p:cNvSpPr/>
          <p:nvPr/>
        </p:nvSpPr>
        <p:spPr>
          <a:xfrm flipV="1">
            <a:off x="2666880" y="1066680"/>
            <a:ext cx="2819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1981080" y="1676520"/>
            <a:ext cx="37339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762120" y="609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Text Box 16"/>
          <p:cNvSpPr/>
          <p:nvPr/>
        </p:nvSpPr>
        <p:spPr>
          <a:xfrm>
            <a:off x="70866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Text Box 17"/>
          <p:cNvSpPr/>
          <p:nvPr/>
        </p:nvSpPr>
        <p:spPr>
          <a:xfrm>
            <a:off x="762120" y="2209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nie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Oval 18"/>
          <p:cNvSpPr/>
          <p:nvPr/>
        </p:nvSpPr>
        <p:spPr>
          <a:xfrm>
            <a:off x="1447920" y="3200400"/>
            <a:ext cx="17524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Oval 20"/>
          <p:cNvSpPr/>
          <p:nvPr/>
        </p:nvSpPr>
        <p:spPr>
          <a:xfrm>
            <a:off x="5105520" y="3200400"/>
            <a:ext cx="19810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19810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2666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1752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Text Box 25"/>
          <p:cNvSpPr/>
          <p:nvPr/>
        </p:nvSpPr>
        <p:spPr>
          <a:xfrm>
            <a:off x="53341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Text Box 26"/>
          <p:cNvSpPr/>
          <p:nvPr/>
        </p:nvSpPr>
        <p:spPr>
          <a:xfrm>
            <a:off x="63244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27"/>
          <p:cNvSpPr/>
          <p:nvPr/>
        </p:nvSpPr>
        <p:spPr>
          <a:xfrm>
            <a:off x="58672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Line 28"/>
          <p:cNvSpPr/>
          <p:nvPr/>
        </p:nvSpPr>
        <p:spPr>
          <a:xfrm>
            <a:off x="2286000" y="3429000"/>
            <a:ext cx="3429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Line 29"/>
          <p:cNvSpPr/>
          <p:nvPr/>
        </p:nvSpPr>
        <p:spPr>
          <a:xfrm>
            <a:off x="3048120" y="3886200"/>
            <a:ext cx="2286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Line 30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Text Box 31"/>
          <p:cNvSpPr/>
          <p:nvPr/>
        </p:nvSpPr>
        <p:spPr>
          <a:xfrm>
            <a:off x="762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Rectangle 33"/>
          <p:cNvSpPr/>
          <p:nvPr/>
        </p:nvSpPr>
        <p:spPr>
          <a:xfrm>
            <a:off x="7683480" y="343224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Text Box 34"/>
          <p:cNvSpPr/>
          <p:nvPr/>
        </p:nvSpPr>
        <p:spPr>
          <a:xfrm>
            <a:off x="10666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3"/>
          <p:cNvSpPr/>
          <p:nvPr/>
        </p:nvSpPr>
        <p:spPr>
          <a:xfrm>
            <a:off x="7467480" y="3429000"/>
            <a:ext cx="304920" cy="45720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WordArt 5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Obrazem zbioru AcX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wartości funkcji f dla argumentów ze zbioru 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7"/>
              <p:cNvSpPr txBox="1"/>
              <p:nvPr/>
            </p:nvSpPr>
            <p:spPr>
              <a:xfrm>
                <a:off x="468360" y="4133880"/>
                <a:ext cx="8373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755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AutoShape 7"/>
          <p:cNvSpPr/>
          <p:nvPr/>
        </p:nvSpPr>
        <p:spPr>
          <a:xfrm>
            <a:off x="5219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Oval 8"/>
          <p:cNvSpPr/>
          <p:nvPr/>
        </p:nvSpPr>
        <p:spPr>
          <a:xfrm>
            <a:off x="1835280" y="2781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6227640" y="2565360"/>
            <a:ext cx="144000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979560" y="333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Text Box 11"/>
          <p:cNvSpPr/>
          <p:nvPr/>
        </p:nvSpPr>
        <p:spPr>
          <a:xfrm>
            <a:off x="5799240" y="434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1622520" y="21844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799240" y="180324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(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Line 14"/>
          <p:cNvSpPr/>
          <p:nvPr/>
        </p:nvSpPr>
        <p:spPr>
          <a:xfrm>
            <a:off x="2771640" y="3357720"/>
            <a:ext cx="3883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4363920" y="259560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WordArt 3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rzeciwobrazem zbioru CcY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których obrazy należą do zbioru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5"/>
              <p:cNvSpPr txBox="1"/>
              <p:nvPr/>
            </p:nvSpPr>
            <p:spPr>
              <a:xfrm>
                <a:off x="971640" y="4227480"/>
                <a:ext cx="70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AutoShape 2"/>
          <p:cNvSpPr/>
          <p:nvPr/>
        </p:nvSpPr>
        <p:spPr>
          <a:xfrm>
            <a:off x="900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AutoShape 3"/>
          <p:cNvSpPr/>
          <p:nvPr/>
        </p:nvSpPr>
        <p:spPr>
          <a:xfrm>
            <a:off x="5364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2" name="Oval 4"/>
          <p:cNvSpPr/>
          <p:nvPr/>
        </p:nvSpPr>
        <p:spPr>
          <a:xfrm>
            <a:off x="1979640" y="2997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6372360" y="2781360"/>
            <a:ext cx="143964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23920" y="549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5943600" y="650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1766880" y="2400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pl-PL" sz="4400" spc="-1" strike="noStrike" baseline="30000">
                <a:solidFill>
                  <a:srgbClr val="ffffcc"/>
                </a:solidFill>
                <a:latin typeface="Times New Roman"/>
              </a:rPr>
              <a:t>-1</a:t>
            </a: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(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5943600" y="201924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Line 10"/>
          <p:cNvSpPr/>
          <p:nvPr/>
        </p:nvSpPr>
        <p:spPr>
          <a:xfrm>
            <a:off x="2916360" y="3573360"/>
            <a:ext cx="3882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4508640" y="2811600"/>
            <a:ext cx="85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5"/>
          <p:cNvSpPr/>
          <p:nvPr/>
        </p:nvSpPr>
        <p:spPr>
          <a:xfrm>
            <a:off x="539640" y="72720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Jeśli zbiory X i Y są zbiorami liczbowymi, to funkcję f nazywamy liczbową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iszemy: f:D     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em funkcji f nazywamy zbiór wszystkich punktów płaszczyzny o współrzędnych (x,y) takich, że x należy do dziedziny funkcji, a y jest odpowiadającą mu wartością funkcj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2843280" y="2060640"/>
                <a:ext cx="504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1571760" y="5442120"/>
                <a:ext cx="6168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0" y="333360"/>
            <a:ext cx="91440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 funkcji ZALEŻY OD JEJ DZIEDZINY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ZYKŁ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rysuj wykres funkcji y=x+1 przyjmując za dziedzinę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{-3, -1, 0, 2, 4}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&lt;-1,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R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914400" y="1747800"/>
            <a:ext cx="7543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iejscem zerowym funkcji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dla których wartość funkcji jest równa 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Geometrycznie: miejsce zerowe funkcji jest wyznaczone przez punkt(y) przecięcia wykresu z osią O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914400" y="549360"/>
            <a:ext cx="75438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a może nie mieć, mieć jedno, kilka, lub nieskończenie wiele miejsc zerowy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znaczyć miejsce zerowe funkcji (rachunkowo), to znaczy rozwiązać równanie f(x)=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WordArt 4"/>
          <p:cNvSpPr txBox="1"/>
          <p:nvPr/>
        </p:nvSpPr>
        <p:spPr>
          <a:xfrm>
            <a:off x="990720" y="380880"/>
            <a:ext cx="2361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304920" y="1341360"/>
            <a:ext cx="853416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"/>
              </a:rPr>
              <a:t>Niech dane będą dwa niepuste zbiory  X i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żeli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każdemu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elementowi x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 przyporządkujemy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kładnie jeden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element y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Y to mówimy, że na zbiorze X została określona funkcja o wartościach w zbiorze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iszemy:                                      f- symbol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: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                                  x- argument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                                     y - wartość funkcji w pkt.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- zbiór argumentów (dziedzin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- przeciwdziedz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Line 3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Line 4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Line 10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Line 11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WordArt 1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07" name="Text Box 19"/>
          <p:cNvSpPr/>
          <p:nvPr/>
        </p:nvSpPr>
        <p:spPr>
          <a:xfrm>
            <a:off x="914400" y="17478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są równe, jeśl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Object 20"/>
              <p:cNvSpPr txBox="1"/>
              <p:nvPr/>
            </p:nvSpPr>
            <p:spPr>
              <a:xfrm>
                <a:off x="4572000" y="1773360"/>
                <a:ext cx="4767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21"/>
              <p:cNvSpPr txBox="1"/>
              <p:nvPr/>
            </p:nvSpPr>
            <p:spPr>
              <a:xfrm>
                <a:off x="2687760" y="3284640"/>
                <a:ext cx="397188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limLow>
                          <m:e>
                            <m:r>
                              <m:t xml:space="preserve">∀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91440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 funkcjach liczbowych można wykonywać działania arytmetyczn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13"/>
              <p:cNvSpPr txBox="1"/>
              <p:nvPr/>
            </p:nvSpPr>
            <p:spPr>
              <a:xfrm>
                <a:off x="1619280" y="1989000"/>
                <a:ext cx="5473800" cy="407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WordArt 20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rosn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23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Text Box 24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rosn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malej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31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Text Box 32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malej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2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stał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31"/>
              <p:cNvSpPr txBox="1"/>
              <p:nvPr/>
            </p:nvSpPr>
            <p:spPr>
              <a:xfrm>
                <a:off x="1766880" y="3068640"/>
                <a:ext cx="5446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4" name="Text Box 32"/>
          <p:cNvSpPr/>
          <p:nvPr/>
        </p:nvSpPr>
        <p:spPr>
          <a:xfrm>
            <a:off x="1060560" y="501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są stał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7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Text Box 30"/>
          <p:cNvSpPr/>
          <p:nvPr/>
        </p:nvSpPr>
        <p:spPr>
          <a:xfrm>
            <a:off x="914400" y="681120"/>
            <a:ext cx="754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ojęcia: funkcja rosnąca, malejąca, stała składają się na pojęcie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onotoniczności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funkcj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e rosnące lub malejące nazywamy ściśle monotonicznymi. Funkcje nierosnące lub niemalejące nazywamy monotonicznym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6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Object 31"/>
              <p:cNvSpPr txBox="1"/>
              <p:nvPr/>
            </p:nvSpPr>
            <p:spPr>
              <a:xfrm>
                <a:off x="2532240" y="2870280"/>
                <a:ext cx="391464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Text Box 33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parzystej jest symetryczny względem osi O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01" name="Text Box 39"/>
          <p:cNvSpPr/>
          <p:nvPr/>
        </p:nvSpPr>
        <p:spPr>
          <a:xfrm>
            <a:off x="914400" y="174780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nie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Object 40"/>
              <p:cNvSpPr txBox="1"/>
              <p:nvPr/>
            </p:nvSpPr>
            <p:spPr>
              <a:xfrm>
                <a:off x="2333520" y="2852640"/>
                <a:ext cx="431172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3" name="Text Box 41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nieparzystej jest symetryczny względem pkt. O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41" name="Text Box 39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okresowa, jeśli istnieje taka liczba T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≠0, że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Object 40"/>
              <p:cNvSpPr txBox="1"/>
              <p:nvPr/>
            </p:nvSpPr>
            <p:spPr>
              <a:xfrm>
                <a:off x="2220840" y="2941560"/>
                <a:ext cx="453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3" name="Text Box 41"/>
          <p:cNvSpPr/>
          <p:nvPr/>
        </p:nvSpPr>
        <p:spPr>
          <a:xfrm>
            <a:off x="611280" y="5589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„cyklicznie” powtarzają się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3" name="Line 4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Line 4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Line 4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Line 4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Line 4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Line 4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Line 4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Line 4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Line 5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Line 5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Line 5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4" name="Line 5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Line 5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Line 5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Line 5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Line 5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Line 5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Line 5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Line 6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Line 6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3" name="Line 6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4" name="Line 6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Line 6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Line 6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Line 6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Line 6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Line 6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WordArt 69"/>
          <p:cNvSpPr txBox="1"/>
          <p:nvPr/>
        </p:nvSpPr>
        <p:spPr>
          <a:xfrm>
            <a:off x="2133720" y="2381400"/>
            <a:ext cx="4662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ADAN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04920" y="22860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unkcję można określić na różne sposo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słownie- np. Każdemu uczniowi klasy I D  przyporządkowujemy jego numer w dziennik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rafem        X                                       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zorem   y= x + 1,  X=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abelką               </a:t>
            </a:r>
            <a:r>
              <a:rPr b="1" lang="pl-PL" sz="2400" spc="-1" strike="noStrike" u="sng">
                <a:solidFill>
                  <a:srgbClr val="ffffcc"/>
                </a:solidFill>
                <a:uFillTx/>
                <a:latin typeface="Times New Roman"/>
              </a:rPr>
              <a:t>x       a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1    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Oval 3"/>
          <p:cNvSpPr/>
          <p:nvPr/>
        </p:nvSpPr>
        <p:spPr>
          <a:xfrm>
            <a:off x="1447920" y="2286000"/>
            <a:ext cx="13716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1752480" y="26668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828800" y="236232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4267080" y="2286000"/>
            <a:ext cx="152424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4648320" y="236232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Line 9"/>
          <p:cNvSpPr/>
          <p:nvPr/>
        </p:nvSpPr>
        <p:spPr>
          <a:xfrm>
            <a:off x="2209680" y="2590920"/>
            <a:ext cx="243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2133720" y="3124080"/>
            <a:ext cx="2438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685800" y="843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1. Wyznacz dziedzinę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3"/>
              <p:cNvSpPr txBox="1"/>
              <p:nvPr/>
            </p:nvSpPr>
            <p:spPr>
              <a:xfrm>
                <a:off x="1293840" y="2151000"/>
                <a:ext cx="6265800" cy="37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3" name="AutoShape 4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2"/>
          <p:cNvSpPr/>
          <p:nvPr/>
        </p:nvSpPr>
        <p:spPr>
          <a:xfrm>
            <a:off x="1187280" y="135108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2. Podaj przykład (graf, tabelka, wykres) funkcji, któr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„na” i nie jest różnowartościow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różnowartościowa i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nie 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AutoShape 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AutoShape 11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1187280" y="15368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3. Na podstawie wykresu (na tablicy) odczytaj własności funkcji - dziedzinę, zbiór wartości, monotoniczność, parzystość, okresowość, m-ca zerowe, wartości (dodatnie, ujemne),  obraz i przeciwobraz (zadanych zbiorów), czy jest „na”, różnowartościow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6" name="Text Box 11"/>
          <p:cNvSpPr/>
          <p:nvPr/>
        </p:nvSpPr>
        <p:spPr>
          <a:xfrm>
            <a:off x="900000" y="1440000"/>
            <a:ext cx="76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4. Dany wykres funkcji (tablica) przekształć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punktu  O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dwusiecznej kąta  XO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translacji o wektor [3,-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5. Zbadaj parzyst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4"/>
              <p:cNvSpPr txBox="1"/>
              <p:nvPr/>
            </p:nvSpPr>
            <p:spPr>
              <a:xfrm>
                <a:off x="2529000" y="2276640"/>
                <a:ext cx="391464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9" name="Object 11"/>
              <p:cNvSpPr txBox="1"/>
              <p:nvPr/>
            </p:nvSpPr>
            <p:spPr>
              <a:xfrm>
                <a:off x="2340000" y="2155680"/>
                <a:ext cx="408456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0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6. Zbadaj monotoniczn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7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8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0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1" name="Object 11"/>
              <p:cNvSpPr txBox="1"/>
              <p:nvPr/>
            </p:nvSpPr>
            <p:spPr>
              <a:xfrm>
                <a:off x="1547640" y="2421000"/>
                <a:ext cx="6480360" cy="40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2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7. Dana jest funkc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3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Object 14"/>
              <p:cNvSpPr txBox="1"/>
              <p:nvPr/>
            </p:nvSpPr>
            <p:spPr>
              <a:xfrm>
                <a:off x="4425840" y="1341360"/>
                <a:ext cx="334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5" name="Text Box 15"/>
          <p:cNvSpPr/>
          <p:nvPr/>
        </p:nvSpPr>
        <p:spPr>
          <a:xfrm>
            <a:off x="1116000" y="213372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Wyznacz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8. Wyznacz miejsca zerowe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Object 16"/>
              <p:cNvSpPr txBox="1"/>
              <p:nvPr/>
            </p:nvSpPr>
            <p:spPr>
              <a:xfrm>
                <a:off x="2284560" y="2155680"/>
                <a:ext cx="419724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4"/>
          <p:cNvSpPr/>
          <p:nvPr/>
        </p:nvSpPr>
        <p:spPr>
          <a:xfrm flipV="1">
            <a:off x="1600200" y="1523880"/>
            <a:ext cx="0" cy="4114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>
            <a:off x="990720" y="5257800"/>
            <a:ext cx="48765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Arc 14"/>
          <p:cNvSpPr/>
          <p:nvPr/>
        </p:nvSpPr>
        <p:spPr>
          <a:xfrm>
            <a:off x="1295280" y="2060640"/>
            <a:ext cx="3581640" cy="357804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3578040"/>
              <a:gd name="textAreaBottom" fmla="*/ 3578400 h 3578040"/>
            </a:gdLst>
            <a:ahLst/>
            <a:rect l="textAreaLeft" t="textAreaTop" r="textAreaRight" b="textAreaBottom"/>
            <a:pathLst>
              <a:path fill="none" w="21595" h="21600">
                <a:moveTo>
                  <a:pt x="-1" y="0"/>
                </a:moveTo>
                <a:cubicBezTo>
                  <a:pt x="11757" y="0"/>
                  <a:pt x="21355" y="9403"/>
                  <a:pt x="21595" y="21158"/>
                </a:cubicBezTo>
              </a:path>
              <a:path stroke="0" w="21595" h="21600">
                <a:moveTo>
                  <a:pt x="-1" y="0"/>
                </a:moveTo>
                <a:cubicBezTo>
                  <a:pt x="11757" y="0"/>
                  <a:pt x="21355" y="9403"/>
                  <a:pt x="21595" y="211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3962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457200" y="228600"/>
            <a:ext cx="1752480" cy="459720"/>
          </a:xfrm>
          <a:prstGeom prst="rect">
            <a:avLst/>
          </a:prstGeom>
          <a:solidFill>
            <a:srgbClr val="2e1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ykres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Text Box 18"/>
          <p:cNvSpPr/>
          <p:nvPr/>
        </p:nvSpPr>
        <p:spPr>
          <a:xfrm>
            <a:off x="838080" y="1523880"/>
            <a:ext cx="457200" cy="459720"/>
          </a:xfrm>
          <a:prstGeom prst="rect">
            <a:avLst/>
          </a:prstGeom>
          <a:solidFill>
            <a:srgbClr val="2509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5562720" y="5486400"/>
            <a:ext cx="8380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3808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rzykł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523880" y="914400"/>
            <a:ext cx="5486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Oval 4"/>
          <p:cNvSpPr/>
          <p:nvPr/>
        </p:nvSpPr>
        <p:spPr>
          <a:xfrm>
            <a:off x="1828800" y="15238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Oval 5"/>
          <p:cNvSpPr/>
          <p:nvPr/>
        </p:nvSpPr>
        <p:spPr>
          <a:xfrm>
            <a:off x="5029200" y="1523880"/>
            <a:ext cx="16765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2286000" y="1523880"/>
            <a:ext cx="380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5562720" y="15238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  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2666880" y="1752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2666880" y="236232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2666880" y="2895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609480" y="335268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a)=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b)=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c)=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2286000" y="609480"/>
            <a:ext cx="3808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5699160" y="606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Oval 2"/>
          <p:cNvSpPr/>
          <p:nvPr/>
        </p:nvSpPr>
        <p:spPr>
          <a:xfrm>
            <a:off x="1523880" y="762120"/>
            <a:ext cx="182880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Oval 3"/>
          <p:cNvSpPr/>
          <p:nvPr/>
        </p:nvSpPr>
        <p:spPr>
          <a:xfrm>
            <a:off x="5105520" y="762120"/>
            <a:ext cx="198108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762120"/>
            <a:ext cx="53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24382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438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1905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  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2286000" y="1371600"/>
            <a:ext cx="3048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47" name="AutoShape 10"/>
          <p:cNvCxnSpPr>
            <a:stCxn id="545" idx="1"/>
            <a:endCxn id="543" idx="2"/>
          </p:cNvCxnSpPr>
          <p:nvPr/>
        </p:nvCxnSpPr>
        <p:spPr>
          <a:xfrm flipV="1" rot="10800000">
            <a:off x="2666160" y="1371240"/>
            <a:ext cx="2667960" cy="457920"/>
          </a:xfrm>
          <a:prstGeom prst="curvedConnector5">
            <a:avLst>
              <a:gd name="adj1" fmla="val 45708"/>
              <a:gd name="adj2" fmla="val 74980"/>
              <a:gd name="adj3" fmla="val 45708"/>
            </a:avLst>
          </a:prstGeom>
          <a:ln w="0">
            <a:noFill/>
          </a:ln>
        </p:spPr>
      </p:cxnSp>
      <p:sp>
        <p:nvSpPr>
          <p:cNvPr id="548" name="Line 16"/>
          <p:cNvSpPr/>
          <p:nvPr/>
        </p:nvSpPr>
        <p:spPr>
          <a:xfrm>
            <a:off x="2666880" y="182880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Freeform 19"/>
          <p:cNvSpPr/>
          <p:nvPr/>
        </p:nvSpPr>
        <p:spPr>
          <a:xfrm>
            <a:off x="2728800" y="1608120"/>
            <a:ext cx="2678400" cy="438120"/>
          </a:xfrm>
          <a:custGeom>
            <a:avLst/>
            <a:gdLst>
              <a:gd name="textAreaLeft" fmla="*/ 0 w 2678400"/>
              <a:gd name="textAreaRight" fmla="*/ 2678760 w 26784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1687" h="276">
                <a:moveTo>
                  <a:pt x="0" y="114"/>
                </a:moveTo>
                <a:cubicBezTo>
                  <a:pt x="43" y="128"/>
                  <a:pt x="8" y="113"/>
                  <a:pt x="41" y="138"/>
                </a:cubicBezTo>
                <a:cubicBezTo>
                  <a:pt x="57" y="150"/>
                  <a:pt x="89" y="171"/>
                  <a:pt x="89" y="171"/>
                </a:cubicBezTo>
                <a:cubicBezTo>
                  <a:pt x="124" y="224"/>
                  <a:pt x="209" y="233"/>
                  <a:pt x="268" y="244"/>
                </a:cubicBezTo>
                <a:cubicBezTo>
                  <a:pt x="347" y="259"/>
                  <a:pt x="523" y="258"/>
                  <a:pt x="560" y="260"/>
                </a:cubicBezTo>
                <a:cubicBezTo>
                  <a:pt x="649" y="264"/>
                  <a:pt x="738" y="271"/>
                  <a:pt x="827" y="276"/>
                </a:cubicBezTo>
                <a:cubicBezTo>
                  <a:pt x="1000" y="271"/>
                  <a:pt x="1157" y="272"/>
                  <a:pt x="1322" y="227"/>
                </a:cubicBezTo>
                <a:cubicBezTo>
                  <a:pt x="1354" y="218"/>
                  <a:pt x="1389" y="218"/>
                  <a:pt x="1419" y="203"/>
                </a:cubicBezTo>
                <a:cubicBezTo>
                  <a:pt x="1438" y="194"/>
                  <a:pt x="1458" y="189"/>
                  <a:pt x="1476" y="179"/>
                </a:cubicBezTo>
                <a:cubicBezTo>
                  <a:pt x="1510" y="160"/>
                  <a:pt x="1537" y="126"/>
                  <a:pt x="1573" y="114"/>
                </a:cubicBezTo>
                <a:cubicBezTo>
                  <a:pt x="1604" y="68"/>
                  <a:pt x="1662" y="53"/>
                  <a:pt x="1687" y="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Freeform 20"/>
          <p:cNvSpPr/>
          <p:nvPr/>
        </p:nvSpPr>
        <p:spPr>
          <a:xfrm>
            <a:off x="5407200" y="1635120"/>
            <a:ext cx="37800" cy="115920"/>
          </a:xfrm>
          <a:custGeom>
            <a:avLst/>
            <a:gdLst>
              <a:gd name="textAreaLeft" fmla="*/ 0 w 37800"/>
              <a:gd name="textAreaRight" fmla="*/ 38160 w 378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4" h="73">
                <a:moveTo>
                  <a:pt x="0" y="0"/>
                </a:moveTo>
                <a:cubicBezTo>
                  <a:pt x="5" y="16"/>
                  <a:pt x="11" y="32"/>
                  <a:pt x="16" y="48"/>
                </a:cubicBezTo>
                <a:cubicBezTo>
                  <a:pt x="19" y="56"/>
                  <a:pt x="24" y="73"/>
                  <a:pt x="24" y="73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Freeform 21"/>
          <p:cNvSpPr/>
          <p:nvPr/>
        </p:nvSpPr>
        <p:spPr>
          <a:xfrm>
            <a:off x="5265720" y="1622520"/>
            <a:ext cx="141480" cy="23760"/>
          </a:xfrm>
          <a:custGeom>
            <a:avLst/>
            <a:gdLst>
              <a:gd name="textAreaLeft" fmla="*/ 0 w 141480"/>
              <a:gd name="textAreaRight" fmla="*/ 141840 w 141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89" h="15">
                <a:moveTo>
                  <a:pt x="89" y="0"/>
                </a:moveTo>
                <a:cubicBezTo>
                  <a:pt x="44" y="15"/>
                  <a:pt x="73" y="8"/>
                  <a:pt x="0" y="8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819520" y="851040"/>
            <a:ext cx="2590560" cy="2808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638" h="177">
                <a:moveTo>
                  <a:pt x="0" y="177"/>
                </a:moveTo>
                <a:cubicBezTo>
                  <a:pt x="80" y="124"/>
                  <a:pt x="191" y="145"/>
                  <a:pt x="284" y="137"/>
                </a:cubicBezTo>
                <a:cubicBezTo>
                  <a:pt x="331" y="121"/>
                  <a:pt x="381" y="113"/>
                  <a:pt x="430" y="105"/>
                </a:cubicBezTo>
                <a:cubicBezTo>
                  <a:pt x="491" y="82"/>
                  <a:pt x="567" y="86"/>
                  <a:pt x="632" y="80"/>
                </a:cubicBezTo>
                <a:cubicBezTo>
                  <a:pt x="1146" y="85"/>
                  <a:pt x="1300" y="0"/>
                  <a:pt x="1638" y="169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Freeform 24"/>
          <p:cNvSpPr/>
          <p:nvPr/>
        </p:nvSpPr>
        <p:spPr>
          <a:xfrm>
            <a:off x="5291280" y="1042920"/>
            <a:ext cx="104760" cy="141480"/>
          </a:xfrm>
          <a:custGeom>
            <a:avLst/>
            <a:gdLst>
              <a:gd name="textAreaLeft" fmla="*/ 0 w 104760"/>
              <a:gd name="textAreaRight" fmla="*/ 105120 w 1047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6" h="89">
                <a:moveTo>
                  <a:pt x="48" y="0"/>
                </a:moveTo>
                <a:cubicBezTo>
                  <a:pt x="48" y="1"/>
                  <a:pt x="66" y="46"/>
                  <a:pt x="65" y="48"/>
                </a:cubicBezTo>
                <a:cubicBezTo>
                  <a:pt x="61" y="58"/>
                  <a:pt x="13" y="76"/>
                  <a:pt x="0" y="89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Text Box 25"/>
          <p:cNvSpPr/>
          <p:nvPr/>
        </p:nvSpPr>
        <p:spPr>
          <a:xfrm>
            <a:off x="1752480" y="228600"/>
            <a:ext cx="4572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Text Box 26"/>
          <p:cNvSpPr/>
          <p:nvPr/>
        </p:nvSpPr>
        <p:spPr>
          <a:xfrm>
            <a:off x="5737320" y="2970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Text Box 27"/>
          <p:cNvSpPr/>
          <p:nvPr/>
        </p:nvSpPr>
        <p:spPr>
          <a:xfrm>
            <a:off x="3809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1143000" y="2133720"/>
            <a:ext cx="59436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(a)=g(b)=g(c)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29"/>
          <p:cNvSpPr/>
          <p:nvPr/>
        </p:nvSpPr>
        <p:spPr>
          <a:xfrm>
            <a:off x="1523880" y="3505320"/>
            <a:ext cx="18288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Oval 30"/>
          <p:cNvSpPr/>
          <p:nvPr/>
        </p:nvSpPr>
        <p:spPr>
          <a:xfrm>
            <a:off x="5105520" y="3505320"/>
            <a:ext cx="198108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Text Box 31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32"/>
          <p:cNvSpPr/>
          <p:nvPr/>
        </p:nvSpPr>
        <p:spPr>
          <a:xfrm>
            <a:off x="2438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Text Box 33"/>
          <p:cNvSpPr/>
          <p:nvPr/>
        </p:nvSpPr>
        <p:spPr>
          <a:xfrm>
            <a:off x="19051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34"/>
          <p:cNvSpPr/>
          <p:nvPr/>
        </p:nvSpPr>
        <p:spPr>
          <a:xfrm>
            <a:off x="5396040" y="3733920"/>
            <a:ext cx="8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Text Box 35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Line 36"/>
          <p:cNvSpPr/>
          <p:nvPr/>
        </p:nvSpPr>
        <p:spPr>
          <a:xfrm>
            <a:off x="2209680" y="3962520"/>
            <a:ext cx="318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Line 38"/>
          <p:cNvSpPr/>
          <p:nvPr/>
        </p:nvSpPr>
        <p:spPr>
          <a:xfrm>
            <a:off x="2286000" y="4419720"/>
            <a:ext cx="31100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Text Box 39"/>
          <p:cNvSpPr/>
          <p:nvPr/>
        </p:nvSpPr>
        <p:spPr>
          <a:xfrm>
            <a:off x="8380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Text Box 40"/>
          <p:cNvSpPr/>
          <p:nvPr/>
        </p:nvSpPr>
        <p:spPr>
          <a:xfrm>
            <a:off x="7391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Text Box 41"/>
          <p:cNvSpPr/>
          <p:nvPr/>
        </p:nvSpPr>
        <p:spPr>
          <a:xfrm>
            <a:off x="114300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nie każdemu elementowi ze zbioru X przyporządkowano element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Oval 2"/>
          <p:cNvSpPr/>
          <p:nvPr/>
        </p:nvSpPr>
        <p:spPr>
          <a:xfrm>
            <a:off x="1600200" y="685800"/>
            <a:ext cx="1905120" cy="1447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Oval 3"/>
          <p:cNvSpPr/>
          <p:nvPr/>
        </p:nvSpPr>
        <p:spPr>
          <a:xfrm>
            <a:off x="5257800" y="685800"/>
            <a:ext cx="220968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19051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24382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4382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5638680" y="990720"/>
            <a:ext cx="30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632448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Line 18"/>
          <p:cNvSpPr/>
          <p:nvPr/>
        </p:nvSpPr>
        <p:spPr>
          <a:xfrm>
            <a:off x="2666880" y="838080"/>
            <a:ext cx="365760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Line 20"/>
          <p:cNvSpPr/>
          <p:nvPr/>
        </p:nvSpPr>
        <p:spPr>
          <a:xfrm>
            <a:off x="2209680" y="1295280"/>
            <a:ext cx="3429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Line 21"/>
          <p:cNvSpPr/>
          <p:nvPr/>
        </p:nvSpPr>
        <p:spPr>
          <a:xfrm>
            <a:off x="2209680" y="1295280"/>
            <a:ext cx="373392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Line 27"/>
          <p:cNvSpPr/>
          <p:nvPr/>
        </p:nvSpPr>
        <p:spPr>
          <a:xfrm>
            <a:off x="2666880" y="1600200"/>
            <a:ext cx="3276720" cy="3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59436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914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77724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784080" y="2133720"/>
            <a:ext cx="18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30492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1 elementowi ze zbioru X przyporządkowano kilka elementów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Line 37"/>
          <p:cNvSpPr/>
          <p:nvPr/>
        </p:nvSpPr>
        <p:spPr>
          <a:xfrm flipV="1">
            <a:off x="1600200" y="3503520"/>
            <a:ext cx="0" cy="1906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Line 38"/>
          <p:cNvSpPr/>
          <p:nvPr/>
        </p:nvSpPr>
        <p:spPr>
          <a:xfrm>
            <a:off x="457200" y="51814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88" name="AutoShape 39"/>
          <p:cNvCxnSpPr/>
          <p:nvPr/>
        </p:nvCxnSpPr>
        <p:spPr>
          <a:xfrm flipV="1">
            <a:off x="304920" y="4266360"/>
            <a:ext cx="915120" cy="1220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589" name="Oval 42"/>
          <p:cNvSpPr/>
          <p:nvPr/>
        </p:nvSpPr>
        <p:spPr>
          <a:xfrm>
            <a:off x="1219320" y="4192560"/>
            <a:ext cx="152280" cy="745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90" name="AutoShape 43"/>
          <p:cNvCxnSpPr/>
          <p:nvPr/>
        </p:nvCxnSpPr>
        <p:spPr>
          <a:xfrm>
            <a:off x="1371240" y="4724280"/>
            <a:ext cx="229320" cy="457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591" name="Oval 44"/>
          <p:cNvSpPr/>
          <p:nvPr/>
        </p:nvSpPr>
        <p:spPr>
          <a:xfrm>
            <a:off x="1219320" y="46497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Oval 48"/>
          <p:cNvSpPr/>
          <p:nvPr/>
        </p:nvSpPr>
        <p:spPr>
          <a:xfrm>
            <a:off x="1600200" y="5181480"/>
            <a:ext cx="76320" cy="1080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93" name="AutoShape 50"/>
          <p:cNvCxnSpPr/>
          <p:nvPr/>
        </p:nvCxnSpPr>
        <p:spPr>
          <a:xfrm flipV="1" rot="10800000">
            <a:off x="1675800" y="3732840"/>
            <a:ext cx="129600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594" name="Oval 51"/>
          <p:cNvSpPr/>
          <p:nvPr/>
        </p:nvSpPr>
        <p:spPr>
          <a:xfrm>
            <a:off x="1600200" y="4192560"/>
            <a:ext cx="7632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Oval 52"/>
          <p:cNvSpPr/>
          <p:nvPr/>
        </p:nvSpPr>
        <p:spPr>
          <a:xfrm>
            <a:off x="2971800" y="3656160"/>
            <a:ext cx="152280" cy="777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56"/>
          <p:cNvSpPr/>
          <p:nvPr/>
        </p:nvSpPr>
        <p:spPr>
          <a:xfrm>
            <a:off x="3124080" y="4495680"/>
            <a:ext cx="2819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Oval 57"/>
          <p:cNvSpPr/>
          <p:nvPr/>
        </p:nvSpPr>
        <p:spPr>
          <a:xfrm>
            <a:off x="2971800" y="44211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59"/>
          <p:cNvSpPr/>
          <p:nvPr/>
        </p:nvSpPr>
        <p:spPr>
          <a:xfrm>
            <a:off x="457200" y="5638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, ponieważ każdemu x przyporządkowany jest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60"/>
          <p:cNvSpPr/>
          <p:nvPr/>
        </p:nvSpPr>
        <p:spPr>
          <a:xfrm>
            <a:off x="968400" y="3503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Text Box 61"/>
          <p:cNvSpPr/>
          <p:nvPr/>
        </p:nvSpPr>
        <p:spPr>
          <a:xfrm>
            <a:off x="63244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2"/>
          <p:cNvSpPr txBox="1"/>
          <p:nvPr/>
        </p:nvSpPr>
        <p:spPr>
          <a:xfrm>
            <a:off x="914400" y="45720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914400" y="2362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"na", jeżeli każdy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co najmniej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2"/>
          <p:cNvSpPr/>
          <p:nvPr/>
        </p:nvSpPr>
        <p:spPr>
          <a:xfrm>
            <a:off x="1752480" y="457200"/>
            <a:ext cx="19051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Oval 3"/>
          <p:cNvSpPr/>
          <p:nvPr/>
        </p:nvSpPr>
        <p:spPr>
          <a:xfrm>
            <a:off x="5410080" y="457200"/>
            <a:ext cx="19814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236232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28195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213372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60199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640080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56386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64008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819520" y="68580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 flipV="1">
            <a:off x="3048120" y="914040"/>
            <a:ext cx="2971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2514600" y="1600200"/>
            <a:ext cx="3886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Text Box 14"/>
          <p:cNvSpPr/>
          <p:nvPr/>
        </p:nvSpPr>
        <p:spPr>
          <a:xfrm>
            <a:off x="121932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7696080" y="45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44197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w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Oval 18"/>
          <p:cNvSpPr/>
          <p:nvPr/>
        </p:nvSpPr>
        <p:spPr>
          <a:xfrm>
            <a:off x="1752480" y="3048120"/>
            <a:ext cx="190512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Oval 19"/>
          <p:cNvSpPr/>
          <p:nvPr/>
        </p:nvSpPr>
        <p:spPr>
          <a:xfrm>
            <a:off x="5410080" y="3048120"/>
            <a:ext cx="198144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2819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2133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2514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Text Box 23"/>
          <p:cNvSpPr/>
          <p:nvPr/>
        </p:nvSpPr>
        <p:spPr>
          <a:xfrm>
            <a:off x="6019920" y="327672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3048120" y="32767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 flipV="1">
            <a:off x="2362320" y="3505320"/>
            <a:ext cx="365760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Line 27"/>
          <p:cNvSpPr/>
          <p:nvPr/>
        </p:nvSpPr>
        <p:spPr>
          <a:xfrm flipV="1">
            <a:off x="2819520" y="4114440"/>
            <a:ext cx="3200400" cy="1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Text Box 28"/>
          <p:cNvSpPr/>
          <p:nvPr/>
        </p:nvSpPr>
        <p:spPr>
          <a:xfrm>
            <a:off x="4419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Text Box 29"/>
          <p:cNvSpPr/>
          <p:nvPr/>
        </p:nvSpPr>
        <p:spPr>
          <a:xfrm>
            <a:off x="91440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Text Box 3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1"/>
          <p:cNvSpPr/>
          <p:nvPr/>
        </p:nvSpPr>
        <p:spPr>
          <a:xfrm>
            <a:off x="1447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na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7:31:02Z</dcterms:created>
  <dc:creator>AP</dc:creator>
  <dc:description/>
  <dc:language>en-US</dc:language>
  <cp:lastModifiedBy>IMK</cp:lastModifiedBy>
  <dcterms:modified xsi:type="dcterms:W3CDTF">2015-07-15T05:52:35Z</dcterms:modified>
  <cp:revision>98</cp:revision>
  <dc:subject/>
  <dc:title>FUNKCJA JEDNEJ ZMIENNEJ</dc:title>
</cp:coreProperties>
</file>