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801-4FD5-4048-B7AC-9E8D469F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780-F5F6-4A9D-A6D3-2EAE15C9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A28BC-5CEB-47E8-AC48-9D357ED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F596E-9F18-4432-9B00-5AAB3C4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9A321-57EB-4D48-AFE9-4647B15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A4D2A-562E-49E1-8E69-6B0635D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CF51B-FA6C-4BB9-926F-000682B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614C6-777D-4286-99F3-081F3D0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868B-7AEB-45C6-9697-87B4FE22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868FC-6B5C-4698-8C84-B2F984A4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C73E8-EEAA-4211-B98D-083145B8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DD04-96A8-4C8D-84A5-166F1CDA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B66-1E37-4D73-8176-5D63E3E5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342C-A522-4A97-9725-60F884B6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B6FD9-86A2-4BD6-BD9C-BF98FCDD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3842A-BB20-444B-9637-7AA9E026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FFDF7-A637-4696-AFCC-5D05D19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A373A-6784-4FEF-A83C-740E13E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39A11-C5DB-48A4-9349-341FD47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7099-A47A-4C92-8645-242E356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741EE-46DC-4771-B72E-82DBF46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080DE-4ABE-4C08-B2DE-6E53991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CE28-699E-4CDF-9165-3E0B4802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DEE-AB23-4E87-B681-CD780BAB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8758A-4BF0-4748-BA81-806E6EC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C5677-B92C-47E0-B95C-7FD1C60A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F4BE2-139C-406E-9AE8-D02CA83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40B03-7702-46CF-9E25-0660884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886B-2913-4AF5-800B-286583E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2024F-C0EE-4E30-9638-F6845FB1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D29E3-F5AE-48E6-BED4-FD95E853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60ABC-25E7-49BE-9BB6-359C87C8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5590E-55F0-4058-95E0-AC7C430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7E76-D5B2-4883-9C55-0FF9235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B1B0-5DA0-4900-8BA5-8BF0FEDA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82D17-149C-4486-83C1-BDCDD2A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48EC0-9561-4BFC-9070-8B29ED63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FE9B-8210-49FC-99D2-14BE40C4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C655E-903A-4839-A3AD-ECD7D35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AFF0C-7373-4713-AB2B-3646213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2E195-E4C3-4810-89D8-2D5AE16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CFCE2-C5BA-466E-97C7-2F98C22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282D6-BC7B-4FB8-AD76-D12F207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510D4-E49C-4C87-AB63-45A9DD7C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138F-F500-4626-A6B2-6D3D1EE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0EE-1D45-447D-9107-62BC8A5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1870C-8D0C-46DA-AF5E-50F0D8E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71572-3D60-4B61-84FF-B80DB67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42F67-321E-4D0F-AA3C-EBA17DAC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13B3F-1553-4331-AD75-7A49DEE8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054FC-35B6-4B16-A16D-C5093D4B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0E8F-D5CE-400E-8122-8544C9B3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32CD-C0B1-45CC-AE45-D66C6607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0A32-8189-4F67-9197-99AC7FB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C1D9-C053-411B-A2E7-D3A0D26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E9C1-A0A5-47BF-9308-C4DF943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82D-0ECA-443D-862E-A3CD1E4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9FA4-306E-4941-BE81-442BA07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E046-1E64-4F09-B2F1-A889851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05BC-C70F-412F-8937-29829E54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2972-8F23-4A2C-AA66-F6B019AE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AC87-3319-4997-91C6-166671AB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B822-AB20-440C-8A26-9DE27112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2595-3FF3-4744-B7E6-8296857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0DBC-C65F-45E7-9E2B-5E11DE34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7AF6-6EE9-4B8E-A8E8-C148FDD9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B057-7A86-4588-8DE4-FFED7B7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14D-1DFE-4DB0-BEEE-5E80E141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3189-B69D-48FB-973C-9048488F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DFFF-C89B-46B6-861F-5C66D2E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A72B-8AE5-4577-8AB2-D95A6C3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C052-595A-47EB-B7E6-3A3061FB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0482-4747-4912-8DA7-539DE01B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7F1D-73AE-4BC8-9D2A-91C5E77C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45B9-7E5D-4840-9A90-04D22A07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DD73-3CF1-4CE9-BD0C-2B6C5192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FE9E-ADAE-47FE-8DB6-A099BC0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7B27-C9E1-4941-882E-BBD0A2E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944-CE00-4C90-A9F7-FAFEF17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B2E4-09C7-46C5-B0A8-0E883533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C63C-9FC7-4B9A-A160-42015803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F6A2-3AE2-4CE0-8920-F88C82C2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3546-F8E0-407D-8D33-E62D5D9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973C-904C-438A-B0D5-7E20338B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D90EF-F34E-437B-91E7-5F49D57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AF06-35FA-4BD3-9B0C-180439D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4A7F-888F-4224-9671-CDB3E9F8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85C0-61EC-4D0B-953C-32350F0C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C33A-0155-4D8F-9C11-EB33634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2C2-546B-40BF-BDDA-4E730BA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CD77-C891-4790-AEDF-F8DD5BBE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0486-F600-46EA-B036-E4F8B9A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D740-39D3-47E0-AFA1-1289FFC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7771F-9469-4A85-AE44-0B39953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0B4F-A2D8-4F1F-93C4-07DD44E0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D87E5-1B5D-41AC-BC30-D093C3E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A7BE-2BCF-494E-BCBD-F52E177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CF87-2BFE-4A87-8553-7FD4E3D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D589-C8D1-4A73-866B-FC50691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2564-A251-4B24-8BEF-87DBF6EC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B8C-4763-431A-B585-53638DC0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7BFD-4A6E-4A8F-8FAF-66F87181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1F8A-337D-45A7-8176-A883BF2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DBC75-71CA-4011-85A1-DD45E938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57CD-77F1-4070-A771-BEC64C5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EAD9-E43C-49FB-986E-32CC493C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C896-F73B-4B31-945C-AA4734AD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1D77-206A-465F-AD3A-A3472A2D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D7866-7544-494E-B029-70937706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E8CB-1AF8-4DF6-A6E2-1D102FC5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E91E-0B95-4E91-B2A8-1611A65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00C-3EDC-44B9-8A7A-4705A43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2358-66B2-449E-93D9-CA0D0479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A290-CAD7-44BD-9A0D-F8322AE9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61A0-7614-48F4-BB98-501B192D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2656-62B4-42F9-8638-B0C60365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A646-9E98-461D-940D-45CC9F1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CEB2-9C1B-43AA-A564-858CB6E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2B0D-4B6D-4CFE-AE02-52C7F5C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B38F-90C1-45A4-8CF0-D0035176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0C9C-F659-4E6A-A234-D49B6624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8CD5-B82A-4D48-9E8C-43BCA4C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6D2-E88C-44C2-B116-9A691F6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9978-605D-46FC-8242-CA68243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1601-C26C-4C7D-8E35-7A2FAD5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0F1A2-BAA4-4467-868B-7E54989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274A-71A8-422D-8C3F-527DF2DD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6D02-E1E7-47B8-A576-FEA0A57F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A6C55-CA38-436A-8E78-F2AF9B6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55FB-E49A-443B-A0B6-7094C58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1CE9-2C91-4AC9-9F6F-20BB55DA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62DE-F40A-4EA3-AE23-D4ED939E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2AC1-22AF-4D43-813B-FA2C954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58A-4D2A-4C97-BEB1-B3F570F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8D763-AF86-4CE9-BC54-C65E96B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F566-88C0-413E-ACC8-EF79703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921A-533D-4C58-AD5D-2F17879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9651-1A72-48B7-B299-98B5282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967F9-D2BE-4D43-9242-8450280D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BE31E-4425-4DD7-8106-58D55808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59AD-E114-46EC-BC7C-BB43B273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1B91E-D913-4402-A65A-66F62F53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7299-CB31-4D4E-95C3-39EAEAD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F17DB-20B0-4710-B8D4-1C07EDB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E15F-E546-4B8D-BC37-DF4D74EF4B8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CF0-8835-43F2-8C0E-0DF1C4D6361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F48-B283-4219-97C0-90A6F646177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D374-A4DC-4AF6-8450-DDEE67056877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4C2-A02C-48DF-B4AC-7B3A44DB635B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F1F-6242-4248-A19D-A9B9A6A982E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37D-FC17-478F-84DB-0FAB176392E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C35-AE6D-4E51-9B1E-7C60F2264C3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978-8F50-4334-B722-BFEBE875E18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C9B3-AAAE-45CD-828F-CC885FA2E74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CE2D-A75C-4C7A-8629-F15EBD6B468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6CBA-A110-4829-B7D2-548FB79258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0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0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Arc 14"/>
          <p:cNvSpPr/>
          <p:nvPr/>
        </p:nvSpPr>
        <p:spPr>
          <a:xfrm>
            <a:off x="1295280" y="2060640"/>
            <a:ext cx="3581640" cy="357804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3578040"/>
              <a:gd name="textAreaBottom" fmla="*/ 3578400 h 3578040"/>
            </a:gdLst>
            <a:ahLst/>
            <a:rect l="textAreaLeft" t="textAreaTop" r="textAreaRight" b="textAreaBottom"/>
            <a:pathLst>
              <a:path fill="none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</a:path>
              <a:path stroke="0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7" name="AutoShape 10"/>
          <p:cNvCxnSpPr>
            <a:stCxn id="545" idx="1"/>
            <a:endCxn id="54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54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Freeform 19"/>
          <p:cNvSpPr/>
          <p:nvPr/>
        </p:nvSpPr>
        <p:spPr>
          <a:xfrm>
            <a:off x="2728800" y="1608120"/>
            <a:ext cx="2678400" cy="438120"/>
          </a:xfrm>
          <a:custGeom>
            <a:avLst/>
            <a:gdLst>
              <a:gd name="textAreaLeft" fmla="*/ 0 w 2678400"/>
              <a:gd name="textAreaRight" fmla="*/ 2678760 w 26784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687" h="276">
                <a:moveTo>
                  <a:pt x="0" y="114"/>
                </a:moveTo>
                <a:cubicBezTo>
                  <a:pt x="43" y="128"/>
                  <a:pt x="8" y="113"/>
                  <a:pt x="41" y="138"/>
                </a:cubicBezTo>
                <a:cubicBezTo>
                  <a:pt x="57" y="150"/>
                  <a:pt x="89" y="171"/>
                  <a:pt x="89" y="171"/>
                </a:cubicBezTo>
                <a:cubicBezTo>
                  <a:pt x="124" y="224"/>
                  <a:pt x="209" y="233"/>
                  <a:pt x="268" y="244"/>
                </a:cubicBezTo>
                <a:cubicBezTo>
                  <a:pt x="347" y="259"/>
                  <a:pt x="523" y="258"/>
                  <a:pt x="560" y="260"/>
                </a:cubicBezTo>
                <a:cubicBezTo>
                  <a:pt x="649" y="264"/>
                  <a:pt x="738" y="271"/>
                  <a:pt x="827" y="276"/>
                </a:cubicBezTo>
                <a:cubicBezTo>
                  <a:pt x="1000" y="271"/>
                  <a:pt x="1157" y="272"/>
                  <a:pt x="1322" y="227"/>
                </a:cubicBezTo>
                <a:cubicBezTo>
                  <a:pt x="1354" y="218"/>
                  <a:pt x="1389" y="218"/>
                  <a:pt x="1419" y="203"/>
                </a:cubicBezTo>
                <a:cubicBezTo>
                  <a:pt x="1438" y="194"/>
                  <a:pt x="1458" y="189"/>
                  <a:pt x="1476" y="179"/>
                </a:cubicBezTo>
                <a:cubicBezTo>
                  <a:pt x="1510" y="160"/>
                  <a:pt x="1537" y="126"/>
                  <a:pt x="1573" y="114"/>
                </a:cubicBezTo>
                <a:cubicBezTo>
                  <a:pt x="1604" y="68"/>
                  <a:pt x="1662" y="53"/>
                  <a:pt x="1687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Freeform 20"/>
          <p:cNvSpPr/>
          <p:nvPr/>
        </p:nvSpPr>
        <p:spPr>
          <a:xfrm>
            <a:off x="5407200" y="1635120"/>
            <a:ext cx="37800" cy="115920"/>
          </a:xfrm>
          <a:custGeom>
            <a:avLst/>
            <a:gdLst>
              <a:gd name="textAreaLeft" fmla="*/ 0 w 37800"/>
              <a:gd name="textAreaRight" fmla="*/ 38160 w 378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4" h="73">
                <a:moveTo>
                  <a:pt x="0" y="0"/>
                </a:moveTo>
                <a:cubicBezTo>
                  <a:pt x="5" y="16"/>
                  <a:pt x="11" y="32"/>
                  <a:pt x="16" y="48"/>
                </a:cubicBezTo>
                <a:cubicBezTo>
                  <a:pt x="19" y="56"/>
                  <a:pt x="24" y="73"/>
                  <a:pt x="24" y="73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Freeform 21"/>
          <p:cNvSpPr/>
          <p:nvPr/>
        </p:nvSpPr>
        <p:spPr>
          <a:xfrm>
            <a:off x="5265720" y="1622520"/>
            <a:ext cx="141480" cy="23760"/>
          </a:xfrm>
          <a:custGeom>
            <a:avLst/>
            <a:gdLst>
              <a:gd name="textAreaLeft" fmla="*/ 0 w 141480"/>
              <a:gd name="textAreaRight" fmla="*/ 141840 w 141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9" h="15">
                <a:moveTo>
                  <a:pt x="89" y="0"/>
                </a:moveTo>
                <a:cubicBezTo>
                  <a:pt x="44" y="15"/>
                  <a:pt x="73" y="8"/>
                  <a:pt x="0" y="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819520" y="851040"/>
            <a:ext cx="2590560" cy="2808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638" h="177">
                <a:moveTo>
                  <a:pt x="0" y="177"/>
                </a:moveTo>
                <a:cubicBezTo>
                  <a:pt x="80" y="124"/>
                  <a:pt x="191" y="145"/>
                  <a:pt x="284" y="137"/>
                </a:cubicBezTo>
                <a:cubicBezTo>
                  <a:pt x="331" y="121"/>
                  <a:pt x="381" y="113"/>
                  <a:pt x="430" y="105"/>
                </a:cubicBezTo>
                <a:cubicBezTo>
                  <a:pt x="491" y="82"/>
                  <a:pt x="567" y="86"/>
                  <a:pt x="632" y="80"/>
                </a:cubicBezTo>
                <a:cubicBezTo>
                  <a:pt x="1146" y="85"/>
                  <a:pt x="1300" y="0"/>
                  <a:pt x="1638" y="16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Freeform 24"/>
          <p:cNvSpPr/>
          <p:nvPr/>
        </p:nvSpPr>
        <p:spPr>
          <a:xfrm>
            <a:off x="5291280" y="1042920"/>
            <a:ext cx="104760" cy="141480"/>
          </a:xfrm>
          <a:custGeom>
            <a:avLst/>
            <a:gdLst>
              <a:gd name="textAreaLeft" fmla="*/ 0 w 104760"/>
              <a:gd name="textAreaRight" fmla="*/ 105120 w 1047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6" h="89">
                <a:moveTo>
                  <a:pt x="48" y="0"/>
                </a:moveTo>
                <a:cubicBezTo>
                  <a:pt x="48" y="1"/>
                  <a:pt x="66" y="46"/>
                  <a:pt x="65" y="48"/>
                </a:cubicBezTo>
                <a:cubicBezTo>
                  <a:pt x="61" y="58"/>
                  <a:pt x="13" y="76"/>
                  <a:pt x="0" y="8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8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8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9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59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IMK</cp:lastModifiedBy>
  <dcterms:modified xsi:type="dcterms:W3CDTF">2015-07-15T05:52:35Z</dcterms:modified>
  <cp:revision>98</cp:revision>
  <dc:subject/>
  <dc:title>FUNKCJA JEDNEJ ZMIENNEJ</dc:title>
</cp:coreProperties>
</file>