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720263" cy="64801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AAD8-5E9E-4259-A15A-A3904006E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4584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5640" y="3749040"/>
            <a:ext cx="874584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D1F7-7053-4D7B-9951-129522535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85640" y="37490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67280" y="37490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25E5-E924-4E2A-98F0-4C522EC54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42680" y="151596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99720" y="151596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5640" y="374904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42680" y="374904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99720" y="374904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644A-3BBA-4C5F-A33E-72DC5DD2A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85640" y="1515960"/>
            <a:ext cx="874584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FE02-D873-493F-8D44-1963E5C48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4584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4395-83D1-4485-B7FC-DCB804A85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2898-013E-4CC9-A636-95AB76272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399A-FCEA-4D93-9B68-1C64BE191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85640" y="258840"/>
            <a:ext cx="874584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C7CB-0443-4BA3-B6CD-474DFE70E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85640" y="37490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8FD4-E96F-4380-BEB2-D2BB7527A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67280" y="37490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3FC6-22B9-42F7-BEF7-FF33DAB94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5640" y="3749040"/>
            <a:ext cx="874584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E362-553E-413C-8388-659627588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85640" y="1515960"/>
            <a:ext cx="874584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85640" y="5904000"/>
            <a:ext cx="2262240" cy="44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23880" y="5904000"/>
            <a:ext cx="3079800" cy="44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69240" y="5904000"/>
            <a:ext cx="2262240" cy="44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3A51AE-3F58-43EC-B590-D66749848A7D}" type="slidenum">
              <a:rPr b="0" lang="pl-PL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11160" y="-7920"/>
            <a:ext cx="9717120" cy="6480000"/>
          </a:xfrm>
          <a:prstGeom prst="rect">
            <a:avLst/>
          </a:prstGeom>
          <a:ln w="0">
            <a:noFill/>
          </a:ln>
        </p:spPr>
      </p:pic>
    </p:spTree>
  </p:cSld>
  <p:transition spd="med">
    <p:split dir="in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-11160" y="-7920"/>
            <a:ext cx="9717120" cy="6480000"/>
          </a:xfrm>
          <a:prstGeom prst="rect">
            <a:avLst/>
          </a:prstGeom>
          <a:ln w="0">
            <a:noFill/>
          </a:ln>
        </p:spPr>
      </p:pic>
    </p:spTree>
  </p:cSld>
  <p:transition spd="med">
    <p:split dir="in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11160" y="-7920"/>
            <a:ext cx="9717120" cy="6480000"/>
          </a:xfrm>
          <a:prstGeom prst="rect">
            <a:avLst/>
          </a:prstGeom>
          <a:ln w="0">
            <a:noFill/>
          </a:ln>
        </p:spPr>
      </p:pic>
    </p:spTree>
  </p:cSld>
  <p:transition spd="med">
    <p:split dir="in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-11160" y="-7920"/>
            <a:ext cx="9717120" cy="6480000"/>
          </a:xfrm>
          <a:prstGeom prst="rect">
            <a:avLst/>
          </a:prstGeom>
          <a:ln w="0">
            <a:noFill/>
          </a:ln>
        </p:spPr>
      </p:pic>
    </p:spTree>
  </p:cSld>
  <p:transition spd="med">
    <p:split dir="in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-11160" y="-7920"/>
            <a:ext cx="9717120" cy="6480000"/>
          </a:xfrm>
          <a:prstGeom prst="rect">
            <a:avLst/>
          </a:prstGeom>
          <a:ln w="0">
            <a:noFill/>
          </a:ln>
        </p:spPr>
      </p:pic>
    </p:spTree>
  </p:cSld>
  <p:transition spd="med">
    <p:split dir="in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-11160" y="-7920"/>
            <a:ext cx="9717120" cy="6480000"/>
          </a:xfrm>
          <a:prstGeom prst="rect">
            <a:avLst/>
          </a:prstGeom>
          <a:ln w="0">
            <a:noFill/>
          </a:ln>
        </p:spPr>
      </p:pic>
    </p:spTree>
  </p:cSld>
  <p:transition spd="med">
    <p:split dir="in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-11160" y="-7920"/>
            <a:ext cx="9717120" cy="6480000"/>
          </a:xfrm>
          <a:prstGeom prst="rect">
            <a:avLst/>
          </a:prstGeom>
          <a:ln w="0">
            <a:noFill/>
          </a:ln>
        </p:spPr>
      </p:pic>
    </p:spTree>
  </p:cSld>
  <p:transition spd="med">
    <p:split dir="in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717120" cy="6480000"/>
          </a:xfrm>
          <a:prstGeom prst="rect">
            <a:avLst/>
          </a:prstGeom>
          <a:ln w="0">
            <a:noFill/>
          </a:ln>
        </p:spPr>
      </p:pic>
    </p:spTree>
  </p:cSld>
  <p:transition spd="med">
    <p:split dir="in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240" y="0"/>
            <a:ext cx="9717120" cy="6480000"/>
          </a:xfrm>
          <a:prstGeom prst="rect">
            <a:avLst/>
          </a:prstGeom>
          <a:ln w="0">
            <a:noFill/>
          </a:ln>
        </p:spPr>
      </p:pic>
    </p:spTree>
  </p:cSld>
  <p:transition spd="med">
    <p:split dir="in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20T11:22:43Z</dcterms:created>
  <dc:creator>SI ART</dc:creator>
  <dc:description/>
  <dc:language>en-US</dc:language>
  <cp:lastModifiedBy>SI ART</cp:lastModifiedBy>
  <dcterms:modified xsi:type="dcterms:W3CDTF">2014-08-20T12:20:16Z</dcterms:modified>
  <cp:revision>7</cp:revision>
  <dc:subject/>
  <dc:title/>
</cp:coreProperties>
</file>