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174-117F-4481-B3A6-6DF8089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F07-4A7B-4ABB-8699-6973E3F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A5C-2723-48E7-BC62-80AE2047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402-FDF1-4F4D-8224-AA07767D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EC1-CE90-430B-AA7D-44E42979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3C1-EF18-4497-BB49-12509D3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5C1-A5C6-4D56-8C1A-0134B88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845-4F67-48CF-8F44-1393893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1A4-7EB3-42E7-8D3A-12D0A2B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F96-3FEC-4751-96D1-ABE4745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311-5F3D-45FA-BBD3-42AF17B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6D4-6A55-4958-BC32-3C229B0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7B3B6-471F-4935-B38B-631A44AEF88F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1:22:43Z</dcterms:created>
  <dc:creator>SI ART</dc:creator>
  <dc:description/>
  <dc:language>en-US</dc:language>
  <cp:lastModifiedBy>SI ART</cp:lastModifiedBy>
  <dcterms:modified xsi:type="dcterms:W3CDTF">2014-08-20T12:20:16Z</dcterms:modified>
  <cp:revision>7</cp:revision>
  <dc:subject/>
  <dc:title/>
</cp:coreProperties>
</file>