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6B1B-EAF9-474E-B887-C70D1460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6EBA-63A7-4497-9CDD-5DE600A1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F7B2-8483-4709-A558-42B763AD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930E-8561-4A95-9996-7362E289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8323-C5B1-4721-A2C1-10190326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DF18-90DA-461D-9DD7-28FBF481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7225-A196-4760-8149-472A720B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9BE9-1326-4771-AD91-B0D68655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6A31-B4BB-41D6-990C-C15510E1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747-4C41-4F14-A37C-A13AD8DC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57EB-8B78-4005-A7E3-E7C81227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5A77-959B-48CF-9F62-E91721B2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4000"/>
            <a:ext cx="307980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9FBF4-E7B6-4E3B-898E-C02EB1DF6EF6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1160" y="-792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7171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0T11:22:43Z</dcterms:created>
  <dc:creator>SI ART</dc:creator>
  <dc:description/>
  <dc:language>en-US</dc:language>
  <cp:lastModifiedBy>SI ART</cp:lastModifiedBy>
  <dcterms:modified xsi:type="dcterms:W3CDTF">2014-08-20T12:20:16Z</dcterms:modified>
  <cp:revision>7</cp:revision>
  <dc:subject/>
  <dc:title/>
</cp:coreProperties>
</file>