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6A5-49A2-4ED6-A0FA-01725902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F5A-D159-4B61-A686-6AE0E400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EEE-05AE-4CC2-B6B8-066F7CDD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B29-4676-4DBA-B4F8-BE7B5FE3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5D2-D9C2-498C-9484-93DA60FE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0BB-4431-4388-A408-CBF211E7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433-7652-4CC3-85BD-F86491C8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07C-DC1E-463A-AC5B-82192B94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2E4-7C1F-4100-A6F1-600864D6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317-9DAC-415E-BD82-59E6985D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3AB-584B-40D0-90CB-D79768AA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B14-9B85-4B18-BA78-1EB2D886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3DCD7-24A2-4A6E-A325-0A3AC00A33BC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0T11:22:43Z</dcterms:created>
  <dc:creator>SI ART</dc:creator>
  <dc:description/>
  <dc:language>en-US</dc:language>
  <cp:lastModifiedBy>SI ART</cp:lastModifiedBy>
  <dcterms:modified xsi:type="dcterms:W3CDTF">2014-08-20T12:20:16Z</dcterms:modified>
  <cp:revision>7</cp:revision>
  <dc:subject/>
  <dc:title/>
</cp:coreProperties>
</file>