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3EC-C0B5-426D-A26A-479ED5D2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BDF-67DA-4378-BE68-EB80AC5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085-58A2-4D1D-A042-30C890F1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9EA-1868-4CAD-AF18-05348FE2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267-B401-4789-B272-565A0BEB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E54-CD6F-40C7-B964-318F13D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B88-DE30-42BF-A8CF-3271C6F5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F8B-2A12-4B28-8333-9BBD2D1B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A04-4CC3-45C7-A04E-0E70F550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335-40D1-4E54-8F56-B36EF03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7CE-49CC-41E2-BC1B-C2D832B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B15-BCA7-419D-A28F-1D2791C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9DC-D400-4A5A-A4E7-394E81B0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user</dc:creator>
  <dc:description/>
  <dc:language>en-US</dc:language>
  <cp:lastModifiedBy/>
  <dcterms:modified xsi:type="dcterms:W3CDTF">2015-07-24T12:52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</Properties>
</file>