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010-50BD-4AD7-A21B-E02C116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F15-0031-42F4-BEF5-FA781513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830-AE25-40A9-A854-5E78BD95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AE0-70F5-40F8-9B6E-C15BA1FF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F75-3148-4930-8007-16CDCED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D03-9F42-4465-87E1-3375C830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C22-5D2B-4D93-AC1A-34DFFC67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440-78F1-48F1-9600-F962D337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B90-ADC3-4E6D-BBA1-A527471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766-EBDF-475F-B4ED-8ED1435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E83-5553-48A8-8239-9205BC9E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800-BC8F-45FD-BAC8-3C31653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1F0C-AE65-4A56-8791-0590F31A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user</dc:creator>
  <dc:description/>
  <dc:language>en-US</dc:language>
  <cp:lastModifiedBy/>
  <dcterms:modified xsi:type="dcterms:W3CDTF">2015-07-24T12:52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</Properties>
</file>