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E1E76-97BF-4CA2-AA15-1076E7570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57BE-E2B8-4045-9C8B-A78BD5E54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EE8E0-7367-4F7E-AE9C-94FE0EAEB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D1E1-96BC-4A86-81F8-6450A011D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590E-6A24-4D68-B920-E615C530C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998E-078B-4C4D-8864-0090D656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36A6-1E8C-4518-B0A7-B1D5270AC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4E8D4-C3CC-47F2-B9DD-B4CC4FC58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2683-1ED8-4663-92C3-2AF6B34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BDBA4-98AB-4FC4-94C3-D818DF9D8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619F-521A-4088-BE4B-291324BBC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BC313-3A12-4FAA-9D63-F23716BE8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2F57C-0E4D-4BF9-9DD7-16E5CFFD9E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db6e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195120"/>
            <a:ext cx="9144000" cy="6465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5T06:11:31Z</dcterms:created>
  <dc:creator>user</dc:creator>
  <dc:description/>
  <dc:language>en-US</dc:language>
  <cp:lastModifiedBy/>
  <dcterms:modified xsi:type="dcterms:W3CDTF">2015-07-24T12:52:13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9.1.0.4674</vt:lpwstr>
  </property>
</Properties>
</file>