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CD9-2AA7-460B-A35B-C1613048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C5F-D72A-4532-B04F-97190FD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DFE-12B6-4CA7-85F7-AC535370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4FD-D21F-45A2-B99D-70218C86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6DA-6B1B-40F7-BA4D-BCB363A6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6C7D-4BD5-40D1-BB56-E0E83CDC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026-3E50-4DFD-B76C-9E7AF2F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DBD2-660E-41AC-A617-9AA0BC17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C964-6AB7-4DD6-88B1-759F8A7F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E0E4-BE27-4928-9986-1EB77CAA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B96-43B7-4347-8204-23D89B9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198-516A-4A90-B338-D772F65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A9D-C611-4BCF-894D-D04F9371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EC5F-2932-40EA-BA5B-41FF6809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1DB7-7E4A-4C75-9D40-FFDCDC25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F1C1-A652-4EF0-8EC9-B1CD7A4D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95E5-08F4-4A80-B37B-18B873A0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DBA-9BB9-41C1-8A52-634FC54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697-5998-43DC-8D1F-5112C5E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36C-C1E0-4A1D-8BAB-1707B54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8BD-7DFC-4FA4-802F-D4C7AEA0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F3C-3B3A-4186-B14B-0E41839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FC3-4101-4075-9453-052C4B7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238-BC44-4A89-A612-7889BB5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A90-C3E3-4C22-96C2-194764DD15B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D8C-6287-49D2-9486-A89D8EE6B0F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678168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100" spc="-1" strike="noStrike">
                <a:solidFill>
                  <a:srgbClr val="330066"/>
                </a:solidFill>
                <a:latin typeface="Arial"/>
              </a:rPr>
              <a:t>Twierdzenie sinusów</a:t>
            </a:r>
            <a:endParaRPr b="1" lang="en-US" sz="5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7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313080" cy="3106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0360" y="122400"/>
            <a:ext cx="350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Twierdzeni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11280" y="177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dowolnym trójkącie stosunek długości boku do sinusa kąta przeciwległego jest wielkością stałą i  równą średnicy okręgu opisanego na tym trójką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3419640" y="3933720"/>
                <a:ext cx="53179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1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66400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788000" y="2492280"/>
                <a:ext cx="2943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7"/>
          <p:cNvSpPr/>
          <p:nvPr/>
        </p:nvSpPr>
        <p:spPr>
          <a:xfrm>
            <a:off x="2843280" y="177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my z następującego wzoru na pole trójką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3357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równujemy dwa dowolne pola trójkątów wykorzystując powyższy wzó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556000" y="4221000"/>
                <a:ext cx="39812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276720" y="5229360"/>
                <a:ext cx="2533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3564000" y="5661000"/>
                <a:ext cx="196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2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7"/>
              <p:cNvSpPr txBox="1"/>
              <p:nvPr/>
            </p:nvSpPr>
            <p:spPr>
              <a:xfrm>
                <a:off x="338040" y="1197000"/>
                <a:ext cx="3951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1085760" y="2060640"/>
                <a:ext cx="2446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9"/>
              <p:cNvSpPr txBox="1"/>
              <p:nvPr/>
            </p:nvSpPr>
            <p:spPr>
              <a:xfrm>
                <a:off x="1360440" y="2565360"/>
                <a:ext cx="1905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21"/>
          <p:cNvSpPr/>
          <p:nvPr/>
        </p:nvSpPr>
        <p:spPr>
          <a:xfrm>
            <a:off x="250920" y="357336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jąc ze wzorów sinusa w trójkącie oraz z własności kąta środkowego i wpisanego, wie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826920" y="5157720"/>
                <a:ext cx="1486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3" name="Picture 24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627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3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024000" cy="243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611280" y="1197000"/>
                <a:ext cx="1828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1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539640" y="2276640"/>
                <a:ext cx="18288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6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539640" y="2852640"/>
                <a:ext cx="1648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 Box 17"/>
          <p:cNvSpPr/>
          <p:nvPr/>
        </p:nvSpPr>
        <p:spPr>
          <a:xfrm>
            <a:off x="468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8"/>
              <p:cNvSpPr txBox="1"/>
              <p:nvPr/>
            </p:nvSpPr>
            <p:spPr>
              <a:xfrm>
                <a:off x="900000" y="4508640"/>
                <a:ext cx="5112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1:22:23Z</dcterms:created>
  <dc:creator>_foxx</dc:creator>
  <dc:description/>
  <dc:language>en-US</dc:language>
  <cp:lastModifiedBy>AP</cp:lastModifiedBy>
  <dcterms:modified xsi:type="dcterms:W3CDTF">2015-04-07T03:35:13Z</dcterms:modified>
  <cp:revision>14</cp:revision>
  <dc:subject/>
  <dc:title>Twierdzenie sinusów</dc:title>
</cp:coreProperties>
</file>