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F48-6526-4AA2-9017-35958D31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002-22F7-44C9-B914-132DC53F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4E3-DC25-4C50-8D3A-EEE7F857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1F1-2E29-4A66-99D1-86973DBC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F3CC-4436-4D11-B0A9-6279A463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0276-5AE9-4622-99EC-D88634EB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A35D-AA56-43FD-8A66-CF111757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B144-BBC9-4893-88FD-F682B08F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338A-763F-4059-A99F-D1FBF3A2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8843-F1C2-437F-99DD-146CB728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04F1-5C0F-4FC1-A842-46CCC533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60C-B1B7-4D81-AF6C-5CCF6BB9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BE6A-FF2D-4BA3-B0E2-59C6CA73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A64F-B4EC-45BF-8BF0-C89E22BE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AC1F-D9A1-446A-81C2-CBD52884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A2C7-1AB4-4D98-9579-2DDD405F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B79E-2167-43FB-AAA5-64B7FA9C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A84-393F-413D-AD9F-0D09B7D2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E2E-5023-401D-9518-4FAEBB70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7BA-42AF-41BA-80AB-8F8357AC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64E-FDAF-4D07-BD50-7300F64B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8AD-87AC-44C2-A7CD-30CB87CE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D8C-28E5-4CB9-9B96-FD6F3F08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7C0-969B-45B3-89F2-21B26DEB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74F8-2A2B-474A-8427-9802237BD5E8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4A26-F60A-40B4-BB2F-098B71169810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080" y="213372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fcc00"/>
                </a:solidFill>
                <a:latin typeface="Times New Roman"/>
              </a:rPr>
              <a:t>FUNKCJA JEDNEJ ZMIENNEJ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2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914400" y="20574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że funkcja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jest różnowartościowa jeżeli element y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przyporządkowany jest dokładnie jednemu elementowi 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692360" y="4653000"/>
            <a:ext cx="56880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pl-PL" sz="60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,x</a:t>
            </a:r>
            <a:r>
              <a:rPr b="1" lang="pl-PL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2"/>
          <p:cNvSpPr/>
          <p:nvPr/>
        </p:nvSpPr>
        <p:spPr>
          <a:xfrm>
            <a:off x="1447920" y="609480"/>
            <a:ext cx="160020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Oval 3"/>
          <p:cNvSpPr/>
          <p:nvPr/>
        </p:nvSpPr>
        <p:spPr>
          <a:xfrm>
            <a:off x="4952880" y="609480"/>
            <a:ext cx="175284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981080" y="609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286000" y="1219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7524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4864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7150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2286000" y="83808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666880" y="1066680"/>
            <a:ext cx="281952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1981080" y="1676520"/>
            <a:ext cx="373392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762120" y="609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7086600" y="609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762120" y="2209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nie jest funkcja różnowartościow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Oval 18"/>
          <p:cNvSpPr/>
          <p:nvPr/>
        </p:nvSpPr>
        <p:spPr>
          <a:xfrm>
            <a:off x="1447920" y="3200400"/>
            <a:ext cx="175248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5105520" y="3200400"/>
            <a:ext cx="198108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19810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26668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1752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7150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533412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324480" y="3657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8672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2286000" y="3429000"/>
            <a:ext cx="3429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Line 29"/>
          <p:cNvSpPr/>
          <p:nvPr/>
        </p:nvSpPr>
        <p:spPr>
          <a:xfrm>
            <a:off x="3048120" y="3886200"/>
            <a:ext cx="2286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30"/>
          <p:cNvSpPr/>
          <p:nvPr/>
        </p:nvSpPr>
        <p:spPr>
          <a:xfrm>
            <a:off x="1981080" y="434340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7621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Rectangle 33"/>
          <p:cNvSpPr/>
          <p:nvPr/>
        </p:nvSpPr>
        <p:spPr>
          <a:xfrm>
            <a:off x="7683480" y="3432240"/>
            <a:ext cx="6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1066680" y="5105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różnowartościow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7467480" y="3429000"/>
            <a:ext cx="304920" cy="45720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914400" y="1747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Obrazem zbioru AcX, wyznaczonym przez funkcję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wartości funkcji f dla argumentów ze zbioru 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7"/>
              <p:cNvSpPr txBox="1"/>
              <p:nvPr/>
            </p:nvSpPr>
            <p:spPr>
              <a:xfrm>
                <a:off x="468360" y="4133880"/>
                <a:ext cx="83739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6"/>
          <p:cNvSpPr/>
          <p:nvPr/>
        </p:nvSpPr>
        <p:spPr>
          <a:xfrm>
            <a:off x="755640" y="1197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219640" y="1197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1835280" y="2781360"/>
            <a:ext cx="1368360" cy="115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6227640" y="2565360"/>
            <a:ext cx="1440000" cy="1368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979560" y="3333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5799240" y="4348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622520" y="21844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5799240" y="1803240"/>
            <a:ext cx="15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(A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2771640" y="3357720"/>
            <a:ext cx="3883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363920" y="259560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3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914400" y="1747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rzeciwobrazem zbioru CcY, wyznaczonym przez funkcję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argumentów funkcji f, których obrazy należą do zbioru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971640" y="4227480"/>
                <a:ext cx="7081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900000" y="1413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5364000" y="1413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Oval 4"/>
          <p:cNvSpPr/>
          <p:nvPr/>
        </p:nvSpPr>
        <p:spPr>
          <a:xfrm>
            <a:off x="1979640" y="2997360"/>
            <a:ext cx="1368360" cy="115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6372360" y="2781360"/>
            <a:ext cx="1439640" cy="1368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123920" y="5493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5943600" y="6508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1766880" y="2400480"/>
            <a:ext cx="15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pl-PL" sz="4400" spc="-1" strike="noStrike" baseline="30000">
                <a:solidFill>
                  <a:srgbClr val="ffffcc"/>
                </a:solidFill>
                <a:latin typeface="Times New Roman"/>
              </a:rPr>
              <a:t>-1</a:t>
            </a: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(C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943600" y="2019240"/>
            <a:ext cx="15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2916360" y="3573360"/>
            <a:ext cx="3882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4508640" y="2811600"/>
            <a:ext cx="85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5"/>
          <p:cNvSpPr/>
          <p:nvPr/>
        </p:nvSpPr>
        <p:spPr>
          <a:xfrm>
            <a:off x="539640" y="727200"/>
            <a:ext cx="82090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Jeśli zbiory X i Y są zbiorami liczbowymi, to funkcję f nazywamy liczbową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iszemy: f:D     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kresem funkcji f nazywamy zbiór wszystkich punktów płaszczyzny o współrzędnych (x,y) takich, że x należy do dziedziny funkcji, a y jest odpowiadającą mu wartością funkcji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6"/>
              <p:cNvSpPr txBox="1"/>
              <p:nvPr/>
            </p:nvSpPr>
            <p:spPr>
              <a:xfrm>
                <a:off x="2843280" y="2060640"/>
                <a:ext cx="5047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1571760" y="5442120"/>
                <a:ext cx="61689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  <m:r>
                          <m:t xml:space="preserve">∧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333360"/>
            <a:ext cx="91440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 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kres funkcji ZALEŻY OD JEJ DZIEDZINY 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ffcc"/>
                </a:solidFill>
                <a:uFillTx/>
                <a:latin typeface="Times New Roman"/>
              </a:rPr>
              <a:t>PRZYKŁ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arysuj wykres funkcji y=x+1 przyjmując za dziedzinę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{-3, -1, 0, 2, 4}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&lt;-1,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R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914400" y="1747800"/>
            <a:ext cx="7543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iejscem zerowym funkcji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argumentów funkcji f, dla których wartość funkcji jest równa 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Geometrycznie: miejsce zerowe funkcji jest wyznaczone przez punkt(y) przecięcia wykresu z osią OX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14400" y="549360"/>
            <a:ext cx="75438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Funkcja może nie mieć, mieć jedno, kilka, lub nieskończenie wiele miejsc zerowyc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znaczyć miejsce zerowe funkcji (rachunkowo), to znaczy rozwiązać równanie f(x)=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990720" y="380880"/>
            <a:ext cx="23619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 Antiqua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04920" y="1341360"/>
            <a:ext cx="8534160" cy="52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Arial"/>
              </a:rPr>
              <a:t>Niech dane będą dwa niepuste zbiory  X i 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Jeżeli </a:t>
            </a:r>
            <a:r>
              <a:rPr b="1" lang="pl-PL" sz="2800" spc="-1" strike="noStrike" u="sng">
                <a:solidFill>
                  <a:srgbClr val="ffffcc"/>
                </a:solidFill>
                <a:uFillTx/>
                <a:latin typeface="Times New Roman"/>
              </a:rPr>
              <a:t>każdemu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elementowi x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X przyporządkujemy </a:t>
            </a:r>
            <a:r>
              <a:rPr b="1" lang="pl-PL" sz="2800" spc="-1" strike="noStrike" u="sng">
                <a:solidFill>
                  <a:srgbClr val="ffffcc"/>
                </a:solidFill>
                <a:uFillTx/>
                <a:latin typeface="Times New Roman"/>
              </a:rPr>
              <a:t>dokładnie jeden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element y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Y to mówimy, że na zbiorze X została określona funkcja o wartościach w zbiorze 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iszemy:                                      f- symbol funkc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:X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                                         x- argument funkc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=f(x)                                     y - wartość funkcji w pkt. 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- zbiór argumentów (dziedzin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- przeciwdziedz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3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Line 4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WordArt 1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914400" y="174780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są równe, jeśl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0"/>
              <p:cNvSpPr txBox="1"/>
              <p:nvPr/>
            </p:nvSpPr>
            <p:spPr>
              <a:xfrm>
                <a:off x="4572000" y="1773360"/>
                <a:ext cx="47671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1"/>
              <p:cNvSpPr txBox="1"/>
              <p:nvPr/>
            </p:nvSpPr>
            <p:spPr>
              <a:xfrm>
                <a:off x="2687760" y="3284640"/>
                <a:ext cx="3971880" cy="22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limLow>
                          <m:e>
                            <m:r>
                              <m:t xml:space="preserve">∀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914400" y="533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a funkcjach liczbowych można wykonywać działania arytmetyczn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13"/>
              <p:cNvSpPr txBox="1"/>
              <p:nvPr/>
            </p:nvSpPr>
            <p:spPr>
              <a:xfrm>
                <a:off x="1619280" y="1989000"/>
                <a:ext cx="5473800" cy="407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WordArt 20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rosnąc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3"/>
              <p:cNvSpPr txBox="1"/>
              <p:nvPr/>
            </p:nvSpPr>
            <p:spPr>
              <a:xfrm>
                <a:off x="376200" y="3068640"/>
                <a:ext cx="82281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Text Box 24"/>
          <p:cNvSpPr/>
          <p:nvPr/>
        </p:nvSpPr>
        <p:spPr>
          <a:xfrm>
            <a:off x="1060560" y="501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raz ze wzrostem argumentów rosną wartości funkcj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malejąc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31"/>
              <p:cNvSpPr txBox="1"/>
              <p:nvPr/>
            </p:nvSpPr>
            <p:spPr>
              <a:xfrm>
                <a:off x="376200" y="3068640"/>
                <a:ext cx="82281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Text Box 32"/>
          <p:cNvSpPr/>
          <p:nvPr/>
        </p:nvSpPr>
        <p:spPr>
          <a:xfrm>
            <a:off x="1060560" y="501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raz ze wzrostem argumentów maleją wartości funkcj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92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stał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31"/>
              <p:cNvSpPr txBox="1"/>
              <p:nvPr/>
            </p:nvSpPr>
            <p:spPr>
              <a:xfrm>
                <a:off x="1766880" y="3068640"/>
                <a:ext cx="54468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Text Box 32"/>
          <p:cNvSpPr/>
          <p:nvPr/>
        </p:nvSpPr>
        <p:spPr>
          <a:xfrm>
            <a:off x="1060560" y="5013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artości funkcji są stał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914400" y="681120"/>
            <a:ext cx="754380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ojęcia: funkcja rosnąca, malejąca, stała składają się na pojęcie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monotoniczności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funkcj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Funkcje rosnące lub malejące nazywamy ściśle monotonicznymi. Funkcje nierosnące lub niemalejące nazywamy monotonicznym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51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parzysta, jeśli dla każdego x należącego do D zachodz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31"/>
              <p:cNvSpPr txBox="1"/>
              <p:nvPr/>
            </p:nvSpPr>
            <p:spPr>
              <a:xfrm>
                <a:off x="2532240" y="2870280"/>
                <a:ext cx="391464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3" name="Text Box 33"/>
          <p:cNvSpPr/>
          <p:nvPr/>
        </p:nvSpPr>
        <p:spPr>
          <a:xfrm>
            <a:off x="914400" y="5010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 Wykres funkcji parzystej jest symetryczny względem osi O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Line 29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Line 30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Line 31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Line 32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Line 3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Line 34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Line 3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Line 3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Line 37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WordArt 3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91" name="Text Box 39"/>
          <p:cNvSpPr/>
          <p:nvPr/>
        </p:nvSpPr>
        <p:spPr>
          <a:xfrm>
            <a:off x="914400" y="1747800"/>
            <a:ext cx="797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nieparzysta, jeśli dla każdego x należącego do D zachodz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40"/>
              <p:cNvSpPr txBox="1"/>
              <p:nvPr/>
            </p:nvSpPr>
            <p:spPr>
              <a:xfrm>
                <a:off x="2333520" y="2852640"/>
                <a:ext cx="431172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Text Box 41"/>
          <p:cNvSpPr/>
          <p:nvPr/>
        </p:nvSpPr>
        <p:spPr>
          <a:xfrm>
            <a:off x="914400" y="5010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 Wykres funkcji nieparzystej jest symetryczny względem pkt. O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Line 29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Line 30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Line 31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Line 32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Line 3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Line 34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Line 3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Line 3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Line 37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WordArt 3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31" name="Text Box 39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okresowa, jeśli istnieje taka liczba T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≠0, że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40"/>
              <p:cNvSpPr txBox="1"/>
              <p:nvPr/>
            </p:nvSpPr>
            <p:spPr>
              <a:xfrm>
                <a:off x="2220840" y="2941560"/>
                <a:ext cx="453888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3" name="Text Box 41"/>
          <p:cNvSpPr/>
          <p:nvPr/>
        </p:nvSpPr>
        <p:spPr>
          <a:xfrm>
            <a:off x="611280" y="5589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artości funkcji „cyklicznie” powtarzają się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Line 4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Line 4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Line 4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Line 4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Line 4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Line 4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Line 5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Line 5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Line 5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Line 5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Line 5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Line 5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Line 5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Line 5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Line 5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Line 5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Line 6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Line 6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Line 6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Line 6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Line 6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Line 6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Line 6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Line 6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Line 6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WordArt 69"/>
          <p:cNvSpPr txBox="1"/>
          <p:nvPr/>
        </p:nvSpPr>
        <p:spPr>
          <a:xfrm>
            <a:off x="2133720" y="2381400"/>
            <a:ext cx="46623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ZADAN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228600"/>
            <a:ext cx="822960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unkcję można określić na różne sposob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słownie- np. Każdemu uczniowi klasy I D  przyporządkowujemy jego numer w dziennik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rafem        X                                       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zorem   y= x + 1,  X=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abelką               </a:t>
            </a:r>
            <a:r>
              <a:rPr b="1" lang="pl-PL" sz="2400" spc="-1" strike="noStrike" u="sng">
                <a:solidFill>
                  <a:srgbClr val="ffffcc"/>
                </a:solidFill>
                <a:uFillTx/>
                <a:latin typeface="Times New Roman"/>
              </a:rPr>
              <a:t>x       a      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       1    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1447920" y="2286000"/>
            <a:ext cx="137160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752480" y="26668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828800" y="2362320"/>
            <a:ext cx="60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4267080" y="2286000"/>
            <a:ext cx="152424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648320" y="2362320"/>
            <a:ext cx="838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209680" y="2590920"/>
            <a:ext cx="2438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2133720" y="3124080"/>
            <a:ext cx="24382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685800" y="843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1. Wyznacz dziedzinę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1293840" y="2151000"/>
                <a:ext cx="6265800" cy="37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AutoShape 4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187280" y="135108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2. Podaj przykład (graf, tabelka, wykres) funkcji, któr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jest „na” i nie jest różnowartościow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jest różnowartościowa i nie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jest różnowartościowa i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nie jest różnowartościowa i nie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AutoShape 11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1187280" y="153684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3. Na podstawie wykresu (na tablicy) odczytaj własności funkcji - dziedzinę, zbiór wartości, monotoniczność, parzystość, okresowość, m-ca zerowe, wartości (dodatnie, ujemne),  obraz i przeciwobraz (zadanych zbiorów), czy jest „na”, różnowartościow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900000" y="1440000"/>
            <a:ext cx="7632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4. Dany wykres funkcji (tablica) przekształć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osi OX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osi O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punktu  O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dwusiecznej kąta  XO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translacji o wektor [3,-1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AutoShape 12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AutoShape 12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5. Zbadaj parzystość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Object 14"/>
              <p:cNvSpPr txBox="1"/>
              <p:nvPr/>
            </p:nvSpPr>
            <p:spPr>
              <a:xfrm>
                <a:off x="2529000" y="2276640"/>
                <a:ext cx="391464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11"/>
              <p:cNvSpPr txBox="1"/>
              <p:nvPr/>
            </p:nvSpPr>
            <p:spPr>
              <a:xfrm>
                <a:off x="2340000" y="2155680"/>
                <a:ext cx="408456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0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6. Zbadaj monotoniczność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11"/>
              <p:cNvSpPr txBox="1"/>
              <p:nvPr/>
            </p:nvSpPr>
            <p:spPr>
              <a:xfrm>
                <a:off x="1547640" y="2421000"/>
                <a:ext cx="6480360" cy="40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7. Dana jest funkcj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14"/>
              <p:cNvSpPr txBox="1"/>
              <p:nvPr/>
            </p:nvSpPr>
            <p:spPr>
              <a:xfrm>
                <a:off x="4425840" y="1341360"/>
                <a:ext cx="3349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Text Box 15"/>
          <p:cNvSpPr/>
          <p:nvPr/>
        </p:nvSpPr>
        <p:spPr>
          <a:xfrm>
            <a:off x="1116000" y="213372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Wyznacz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8. Wyznacz miejsca zerowe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16"/>
              <p:cNvSpPr txBox="1"/>
              <p:nvPr/>
            </p:nvSpPr>
            <p:spPr>
              <a:xfrm>
                <a:off x="2284560" y="2155680"/>
                <a:ext cx="419724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4"/>
          <p:cNvSpPr/>
          <p:nvPr/>
        </p:nvSpPr>
        <p:spPr>
          <a:xfrm flipV="1">
            <a:off x="1600200" y="1523880"/>
            <a:ext cx="0" cy="4114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990720" y="5257800"/>
            <a:ext cx="48765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Arc 14"/>
          <p:cNvSpPr/>
          <p:nvPr/>
        </p:nvSpPr>
        <p:spPr>
          <a:xfrm>
            <a:off x="1295280" y="2060640"/>
            <a:ext cx="3581640" cy="357804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962520" y="2743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=f(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57200" y="228600"/>
            <a:ext cx="1752480" cy="459720"/>
          </a:xfrm>
          <a:prstGeom prst="rect">
            <a:avLst/>
          </a:prstGeom>
          <a:solidFill>
            <a:srgbClr val="2e12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ykres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838080" y="1523880"/>
            <a:ext cx="457200" cy="459720"/>
          </a:xfrm>
          <a:prstGeom prst="rect">
            <a:avLst/>
          </a:prstGeom>
          <a:solidFill>
            <a:srgbClr val="25090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5562720" y="5486400"/>
            <a:ext cx="838080" cy="459720"/>
          </a:xfrm>
          <a:prstGeom prst="rect">
            <a:avLst/>
          </a:prstGeom>
          <a:solidFill>
            <a:srgbClr val="66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80880" y="152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rzykł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523880" y="914400"/>
            <a:ext cx="5486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1828800" y="1523880"/>
            <a:ext cx="160020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5029200" y="1523880"/>
            <a:ext cx="167652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86000" y="1523880"/>
            <a:ext cx="380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562720" y="152388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!  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666880" y="175248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666880" y="236232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2666880" y="289548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609480" y="3352680"/>
            <a:ext cx="1219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a)=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b)=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c)=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609480" y="5181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jest funkcją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286000" y="609480"/>
            <a:ext cx="380880" cy="459720"/>
          </a:xfrm>
          <a:prstGeom prst="rect">
            <a:avLst/>
          </a:prstGeom>
          <a:solidFill>
            <a:srgbClr val="66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5699160" y="6066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2"/>
          <p:cNvSpPr/>
          <p:nvPr/>
        </p:nvSpPr>
        <p:spPr>
          <a:xfrm>
            <a:off x="1523880" y="762120"/>
            <a:ext cx="1828800" cy="1295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5105520" y="762120"/>
            <a:ext cx="1981080" cy="1295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05120" y="762120"/>
            <a:ext cx="533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4382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4382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905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33412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  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2286000" y="1371600"/>
            <a:ext cx="3048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7" name="AutoShape 10"/>
          <p:cNvCxnSpPr>
            <a:stCxn id="135" idx="1"/>
            <a:endCxn id="133" idx="2"/>
          </p:cNvCxnSpPr>
          <p:nvPr/>
        </p:nvCxnSpPr>
        <p:spPr>
          <a:xfrm flipV="1" rot="10800000">
            <a:off x="2666160" y="1371240"/>
            <a:ext cx="2667960" cy="457920"/>
          </a:xfrm>
          <a:prstGeom prst="curvedConnector5">
            <a:avLst>
              <a:gd name="adj1" fmla="val 45708"/>
              <a:gd name="adj2" fmla="val 74980"/>
              <a:gd name="adj3" fmla="val 45708"/>
            </a:avLst>
          </a:prstGeom>
          <a:ln w="0">
            <a:noFill/>
          </a:ln>
        </p:spPr>
      </p:cxnSp>
      <p:sp>
        <p:nvSpPr>
          <p:cNvPr id="138" name="Line 16"/>
          <p:cNvSpPr/>
          <p:nvPr/>
        </p:nvSpPr>
        <p:spPr>
          <a:xfrm>
            <a:off x="2666880" y="182880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Freeform 19"/>
          <p:cNvSpPr/>
          <p:nvPr/>
        </p:nvSpPr>
        <p:spPr>
          <a:xfrm>
            <a:off x="2728800" y="1608120"/>
            <a:ext cx="2678400" cy="43812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Freeform 20"/>
          <p:cNvSpPr/>
          <p:nvPr/>
        </p:nvSpPr>
        <p:spPr>
          <a:xfrm>
            <a:off x="5407200" y="1635120"/>
            <a:ext cx="37800" cy="11592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Freeform 21"/>
          <p:cNvSpPr/>
          <p:nvPr/>
        </p:nvSpPr>
        <p:spPr>
          <a:xfrm>
            <a:off x="5265720" y="1622520"/>
            <a:ext cx="141480" cy="2376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Freeform 22"/>
          <p:cNvSpPr/>
          <p:nvPr/>
        </p:nvSpPr>
        <p:spPr>
          <a:xfrm>
            <a:off x="2819520" y="851040"/>
            <a:ext cx="2590560" cy="28080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5291280" y="1042920"/>
            <a:ext cx="104760" cy="14148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1752480" y="228600"/>
            <a:ext cx="457200" cy="45972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5737320" y="29700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3809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43000" y="2133720"/>
            <a:ext cx="5943600" cy="45972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(a)=g(b)=g(c)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Oval 29"/>
          <p:cNvSpPr/>
          <p:nvPr/>
        </p:nvSpPr>
        <p:spPr>
          <a:xfrm>
            <a:off x="1523880" y="3505320"/>
            <a:ext cx="182880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Oval 30"/>
          <p:cNvSpPr/>
          <p:nvPr/>
        </p:nvSpPr>
        <p:spPr>
          <a:xfrm>
            <a:off x="5105520" y="3505320"/>
            <a:ext cx="198108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2438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19051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396040" y="3733920"/>
            <a:ext cx="8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  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6248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2209680" y="3962520"/>
            <a:ext cx="31863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Line 38"/>
          <p:cNvSpPr/>
          <p:nvPr/>
        </p:nvSpPr>
        <p:spPr>
          <a:xfrm>
            <a:off x="2286000" y="4419720"/>
            <a:ext cx="31100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8380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40"/>
          <p:cNvSpPr/>
          <p:nvPr/>
        </p:nvSpPr>
        <p:spPr>
          <a:xfrm>
            <a:off x="7391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41"/>
          <p:cNvSpPr/>
          <p:nvPr/>
        </p:nvSpPr>
        <p:spPr>
          <a:xfrm>
            <a:off x="1143000" y="5181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nie jest funkcją, ponieważ nie każdemu elementowi ze zbioru X przyporządkowano element ze zbioru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/>
          <p:cNvSpPr/>
          <p:nvPr/>
        </p:nvSpPr>
        <p:spPr>
          <a:xfrm>
            <a:off x="1600200" y="685800"/>
            <a:ext cx="1905120" cy="14479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5257800" y="685800"/>
            <a:ext cx="220968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9051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438280" y="685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4382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5638680" y="990720"/>
            <a:ext cx="30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324480" y="838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2666880" y="838080"/>
            <a:ext cx="3657600" cy="152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2209680" y="1295280"/>
            <a:ext cx="3429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2209680" y="1295280"/>
            <a:ext cx="373392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2666880" y="1600200"/>
            <a:ext cx="3276720" cy="395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59436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91440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32"/>
          <p:cNvSpPr/>
          <p:nvPr/>
        </p:nvSpPr>
        <p:spPr>
          <a:xfrm>
            <a:off x="7772400" y="685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33"/>
          <p:cNvSpPr/>
          <p:nvPr/>
        </p:nvSpPr>
        <p:spPr>
          <a:xfrm>
            <a:off x="784080" y="2133720"/>
            <a:ext cx="18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30492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nie jest funkcją, ponieważ 1 elementowi ze zbioru X przyporządkowano kilka elementów ze zbioru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Line 37"/>
          <p:cNvSpPr/>
          <p:nvPr/>
        </p:nvSpPr>
        <p:spPr>
          <a:xfrm flipV="1">
            <a:off x="1600200" y="3503520"/>
            <a:ext cx="0" cy="1906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Line 38"/>
          <p:cNvSpPr/>
          <p:nvPr/>
        </p:nvSpPr>
        <p:spPr>
          <a:xfrm>
            <a:off x="457200" y="518148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78" name="AutoShape 39"/>
          <p:cNvCxnSpPr/>
          <p:nvPr/>
        </p:nvCxnSpPr>
        <p:spPr>
          <a:xfrm flipV="1">
            <a:off x="304920" y="4266360"/>
            <a:ext cx="915120" cy="1220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79" name="Oval 42"/>
          <p:cNvSpPr/>
          <p:nvPr/>
        </p:nvSpPr>
        <p:spPr>
          <a:xfrm>
            <a:off x="1219320" y="4192560"/>
            <a:ext cx="152280" cy="745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0" name="AutoShape 43"/>
          <p:cNvCxnSpPr/>
          <p:nvPr/>
        </p:nvCxnSpPr>
        <p:spPr>
          <a:xfrm>
            <a:off x="1371240" y="4724280"/>
            <a:ext cx="229320" cy="457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81" name="Oval 44"/>
          <p:cNvSpPr/>
          <p:nvPr/>
        </p:nvSpPr>
        <p:spPr>
          <a:xfrm>
            <a:off x="1219320" y="4649760"/>
            <a:ext cx="15228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Oval 48"/>
          <p:cNvSpPr/>
          <p:nvPr/>
        </p:nvSpPr>
        <p:spPr>
          <a:xfrm>
            <a:off x="1600200" y="5181480"/>
            <a:ext cx="76320" cy="1080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3" name="AutoShape 50"/>
          <p:cNvCxnSpPr/>
          <p:nvPr/>
        </p:nvCxnSpPr>
        <p:spPr>
          <a:xfrm flipV="1" rot="10800000">
            <a:off x="1675800" y="3732840"/>
            <a:ext cx="1296000" cy="5338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184" name="Oval 51"/>
          <p:cNvSpPr/>
          <p:nvPr/>
        </p:nvSpPr>
        <p:spPr>
          <a:xfrm>
            <a:off x="1600200" y="4192560"/>
            <a:ext cx="7632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Oval 52"/>
          <p:cNvSpPr/>
          <p:nvPr/>
        </p:nvSpPr>
        <p:spPr>
          <a:xfrm>
            <a:off x="2971800" y="3656160"/>
            <a:ext cx="152280" cy="7776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56"/>
          <p:cNvSpPr/>
          <p:nvPr/>
        </p:nvSpPr>
        <p:spPr>
          <a:xfrm>
            <a:off x="3124080" y="4495680"/>
            <a:ext cx="2819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Oval 57"/>
          <p:cNvSpPr/>
          <p:nvPr/>
        </p:nvSpPr>
        <p:spPr>
          <a:xfrm>
            <a:off x="2971800" y="4421160"/>
            <a:ext cx="15228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59"/>
          <p:cNvSpPr/>
          <p:nvPr/>
        </p:nvSpPr>
        <p:spPr>
          <a:xfrm>
            <a:off x="457200" y="56386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jest funkcją, ponieważ każdemu x przyporządkowany jest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60"/>
          <p:cNvSpPr/>
          <p:nvPr/>
        </p:nvSpPr>
        <p:spPr>
          <a:xfrm>
            <a:off x="968400" y="3503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61"/>
          <p:cNvSpPr/>
          <p:nvPr/>
        </p:nvSpPr>
        <p:spPr>
          <a:xfrm>
            <a:off x="63244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914400" y="457200"/>
            <a:ext cx="2971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914400" y="23623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jest "na", jeżeli każdy element y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przyporządkowany jest co najmniej jednemu elementowi 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val 2"/>
          <p:cNvSpPr/>
          <p:nvPr/>
        </p:nvSpPr>
        <p:spPr>
          <a:xfrm>
            <a:off x="1752480" y="457200"/>
            <a:ext cx="190512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5410080" y="457200"/>
            <a:ext cx="198144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362320" y="45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8195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13372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01992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40080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6386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64008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2819520" y="68580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V="1">
            <a:off x="3048120" y="914040"/>
            <a:ext cx="29718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2514600" y="1600200"/>
            <a:ext cx="38862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1219320" y="457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7696080" y="457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441972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1219320" y="20574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„w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Oval 18"/>
          <p:cNvSpPr/>
          <p:nvPr/>
        </p:nvSpPr>
        <p:spPr>
          <a:xfrm>
            <a:off x="1752480" y="3048120"/>
            <a:ext cx="1905120" cy="17524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Oval 19"/>
          <p:cNvSpPr/>
          <p:nvPr/>
        </p:nvSpPr>
        <p:spPr>
          <a:xfrm>
            <a:off x="5410080" y="3048120"/>
            <a:ext cx="1981440" cy="17524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28195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2133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25146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019920" y="327672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3048120" y="3276720"/>
            <a:ext cx="29718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Line 25"/>
          <p:cNvSpPr/>
          <p:nvPr/>
        </p:nvSpPr>
        <p:spPr>
          <a:xfrm flipV="1">
            <a:off x="2362320" y="3505320"/>
            <a:ext cx="365760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Line 27"/>
          <p:cNvSpPr/>
          <p:nvPr/>
        </p:nvSpPr>
        <p:spPr>
          <a:xfrm flipV="1">
            <a:off x="2819520" y="4114440"/>
            <a:ext cx="3200400" cy="1666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4419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29"/>
          <p:cNvSpPr/>
          <p:nvPr/>
        </p:nvSpPr>
        <p:spPr>
          <a:xfrm>
            <a:off x="91440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30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31"/>
          <p:cNvSpPr/>
          <p:nvPr/>
        </p:nvSpPr>
        <p:spPr>
          <a:xfrm>
            <a:off x="1447920" y="5181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„na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8T17:31:02Z</dcterms:created>
  <dc:creator>AP</dc:creator>
  <dc:description/>
  <dc:language>en-US</dc:language>
  <cp:lastModifiedBy>AP</cp:lastModifiedBy>
  <dcterms:modified xsi:type="dcterms:W3CDTF">2015-04-07T03:41:52Z</dcterms:modified>
  <cp:revision>97</cp:revision>
  <dc:subject/>
  <dc:title>FUNKCJA JEDNEJ ZMIENNEJ</dc:title>
</cp:coreProperties>
</file>