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8D2-D260-4F1C-B3BF-B39AA839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B22-1A33-456E-9F9C-7BBB4904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91C96-A976-4913-A3E8-E3B6A351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8326C-34C7-43F7-A0F1-D3547CD8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09D40-16EF-4383-9FD5-D567A001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D2456-5D21-40EA-96F2-A4B0FBAB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F81DD-495D-4482-9F7D-B5B55D01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5E7AC-D316-438F-B297-8304062B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1598F-DA07-40EF-B8E9-C7B92F18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676D3-A5A9-4279-95C8-B052584D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844CC-9494-4675-8AAE-3DF7C520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1D420-D964-4CF0-BD27-65E77C2C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78B-6371-4AE7-BA2C-3555DE38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B0449-AB5E-4F01-991B-6D0E7AE5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D2AE6-EA74-4306-A710-642847C6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6E02E-8C44-49AF-B55F-28E13566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C90C9-D70A-4CC6-9AA7-F81B916C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F8883-1521-4F01-94E4-613DEB8A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79AD5-92E1-4931-9D68-24483D8D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EAF75-3465-4644-A199-2E67F777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165D7-0D13-4507-A939-62890593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E6A4E-AC97-4B9B-867D-A855D9E2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FDDFA-F464-49B5-9F82-4A8A24A6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BB0-2538-4337-BBBA-658F9BEF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1F7CB-C0E8-4727-966B-03CD77AB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6074-2FEB-45F4-9B4A-E58673FD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3045-AB1F-4117-8488-3EAF994D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3049-8B88-4A87-8AC8-5667CFC8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4BE9-EC7C-4179-A01E-E8E9A23C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58BC-986F-4A8A-9358-0977793D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218B-A247-4A10-B7CD-92ACC7AD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EBF8-6914-4BE2-A96F-F29C3B01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7A0-F70E-42BB-912D-2BFC7202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6F37-9F60-44D4-B8C6-121DC00D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3498-6057-47EE-A7AC-DAD60E1C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19B8-33DF-439D-AB82-B75ECBB6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B6DC-964E-4A6E-BD60-661BB85D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88D6-1EE8-45A5-B15C-29A5AC65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99D10-8824-40E2-B2AE-B5DE01B0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F5AE3-C0C5-4D89-B83F-23759F94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292C5-1EB2-4A6B-8F88-8978F806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91B28-15DE-428A-9231-E4EF0B54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36839-FAF8-4314-844F-15942882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852-9B55-4EE6-9ECC-A8E58942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90D1D-ADF3-4953-A6EA-20490BB9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68E5F-88D6-4E9F-9EF0-B96CE307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4E222-B015-404F-8C66-22ACBC4C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B9089-F79C-403C-A19E-248F5A99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9CA47-3E4A-4D08-A95B-ED684658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E41D7-4EAE-4830-90E3-D227757B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62CE3-DFEE-45F9-89DB-E807D7C3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4986B-F963-4AF3-94DE-0719189D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540B8-7FED-4E41-B8A1-32AF56E0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E8120-F837-43D4-AD95-8A6D671F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8D6-098E-4E92-AF7B-2A8CB2F6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B417A7-2A12-44B8-88A1-C9C2B3CA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0FEE3-58AB-403A-9C8B-EE764187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EE4E7-73F8-4F15-83F6-D0448F55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05E62-FC71-487C-AD59-07B99FCC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4B147-3962-4BB1-B5D1-F1F146B9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F056B-B714-4FFD-AFF1-8EEF311E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F4A648-C08B-4179-B17B-CEC48E28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158AFB-863F-4315-BA5B-A288415E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8B337E-5D66-434B-8F6D-ACA6767B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54953-8B01-4876-B780-A9DAB5F5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18B-D8D8-4AD2-913B-A499A21A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44670-5297-4D44-882E-10D1CF3D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24072-88F5-42E2-AD72-79EBB24F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9FB79-4882-4297-AE8B-C291BB60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FCCC8-2014-474D-ACD2-45FBA9CD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0294E8-5A4F-4E70-95A9-F7602B57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AF437-8C82-4108-BE43-C79F22E0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9348C-85A4-480D-9683-3A8157E3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C32E1-627F-4BC6-90C7-8DA928CA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056FB-C7BF-4E2B-BC22-9A32938E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DBE81D-6246-44E2-83E5-81FA9309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12F-E7A7-484D-B443-04B2D676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DB704-B165-4D42-862E-FE8C10E8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1C63A-8905-4655-A497-4439EC74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74C55-24FE-4269-8123-07A90638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0BD54-6096-49A2-A272-16DE06A9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81688-52CC-4BA9-B831-A597447F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5AA8B-6C14-43C2-BC9B-C52F05B3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61F87-BC46-4915-90F2-3450B3D7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B9382-48DD-4370-806E-0428EE05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9426C-5413-461B-9F43-F27CC007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98C4C-CF19-40A8-A01C-ECE60481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43A-DB0D-47E6-AEA7-CA1ADA4F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F5040-EEA0-4D94-9DEE-066E7DC3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600DD-754D-44EF-B0AC-4A56C322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3B169-301F-47F8-B803-84DED108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99F476-695B-4711-8F30-694C9528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59EC04-B55B-4594-A335-D08BC344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5E895-6018-451C-9321-80697319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E899B1-52A7-4CFB-8C25-A009155C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34E0C-DB30-4B11-9D10-625C3585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9C7020-8ABF-4FA7-9B3E-DD5DB376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69F80-4144-4483-8D3E-D3DA9A99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315-8741-4BA6-9B9C-6359CDED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8F9F07-F451-4FE6-909C-4CBC2F23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B2B1CF-0453-4206-A1EA-36EBA7A9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1F00A4-4803-486B-A393-2368F8C8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78AB82-9C68-42D8-B547-F507C113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46D554-861D-4AF7-BB19-81D74774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F3B0E-AB1B-4FE0-9154-96D8A71F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F43E0-A823-44DF-9778-E9AE6334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3240C-403A-4B02-A447-C341E3D5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67802-E4A8-4D7A-A7B3-DCE03A77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1BA47-246A-44FD-A649-562E6927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A73-B313-423A-BDD2-F97F42BA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D9E76-A53C-44E6-8BEB-7DFB002F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22BAA-5BBC-4AFA-806B-85BE735F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44919-88C6-4BC7-93D5-8A1AA769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B7446-B655-4245-AAE3-0A4D1B5C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547F8-B1B6-4620-ABEF-6796AEB5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EDBAB-8CF2-4DD2-A5A9-5B4F38B4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E9230-28B2-43A2-AD34-9BA7F466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BA6C6-8BB2-4A8E-A31D-E3566377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A45E4-A732-4173-BB13-6807CDB2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30378-E5D0-44B1-BBC0-72B3ABB3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CEAF-1070-4B95-92A9-3C8001249A4F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7884-D168-4089-958C-3ECF08B893A3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rostokąt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rostokąt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rostokąt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A3C6-8306-4978-8C87-560E1A4B009A}" type="slidenum">
              <a:rPr b="1" lang="pl-PL" sz="1400" spc="-1" strike="noStrike">
                <a:solidFill>
                  <a:srgbClr val="f4e7e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rostokąt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rostokąt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rostokąt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36F0-5172-4158-BF88-C1C49996BE63}" type="slidenum">
              <a:rPr b="1" lang="pl-P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F115-179E-4083-B8B4-314702BA53A5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14FE-36FA-4DFA-BB8F-3ECCB3CCEF3D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D5E7-7DD3-4880-A23A-F619EF61E011}" type="slidenum">
              <a:rPr b="1" lang="pl-PL" sz="1400" spc="-1" strike="noStrike">
                <a:solidFill>
                  <a:srgbClr val="f4e7e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rostokąt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rostokąt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rostokąt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rostokąt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A5BA-747A-40D0-B727-6DE04CCFD599}" type="slidenum">
              <a:rPr b="1" lang="pl-P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rostokąt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rostokąt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rostokąt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6DBE-8E0B-4A20-AE8D-1B50956DC791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5B21-F670-46B3-8D0E-60E89BB71AA1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4e7ed"/>
                </a:solidFill>
                <a:latin typeface="Tw Cen MT"/>
              </a:rPr>
              <a:t>POZNAJEMY ŚWIAT DRZEW</a:t>
            </a:r>
            <a:endParaRPr b="0" lang="en-US" sz="5400" spc="-1" strike="noStrike">
              <a:solidFill>
                <a:srgbClr val="f4e7ed"/>
              </a:solidFill>
              <a:latin typeface="Tw Cen MT"/>
            </a:endParaRPr>
          </a:p>
        </p:txBody>
      </p:sp>
      <p:pic>
        <p:nvPicPr>
          <p:cNvPr id="454" name="Obraz 3" descr="Tree.jpg"/>
          <p:cNvPicPr/>
          <p:nvPr/>
        </p:nvPicPr>
        <p:blipFill>
          <a:blip r:embed="rId1"/>
          <a:stretch/>
        </p:blipFill>
        <p:spPr>
          <a:xfrm>
            <a:off x="1763640" y="2565360"/>
            <a:ext cx="5075280" cy="3807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3"/>
          <p:cNvSpPr txBox="1"/>
          <p:nvPr/>
        </p:nvSpPr>
        <p:spPr>
          <a:xfrm>
            <a:off x="1979640" y="333360"/>
            <a:ext cx="511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Drzewa liściast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AutoShape 4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Drzewa liściaste należą do roślin okrytozalążkowych. Funkcję asymilacyjną pełnią u nich liście. Organem służącym do rozmnażania jest kwiat.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517" name="Picture 24" descr="brzoza_brodawkowata"/>
          <p:cNvPicPr/>
          <p:nvPr/>
        </p:nvPicPr>
        <p:blipFill>
          <a:blip r:embed="rId3"/>
          <a:stretch/>
        </p:blipFill>
        <p:spPr>
          <a:xfrm>
            <a:off x="395280" y="2133720"/>
            <a:ext cx="2641680" cy="19810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pic>
        <p:nvPicPr>
          <p:cNvPr id="518" name="Picture 27" descr="jabłoń_kw1"/>
          <p:cNvPicPr/>
          <p:nvPr/>
        </p:nvPicPr>
        <p:blipFill>
          <a:blip r:embed="rId4"/>
          <a:stretch/>
        </p:blipFill>
        <p:spPr>
          <a:xfrm>
            <a:off x="3251160" y="2133720"/>
            <a:ext cx="2641680" cy="19810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pic>
        <p:nvPicPr>
          <p:cNvPr id="519" name="Picture 30" descr="jarząb_pospolity"/>
          <p:cNvPicPr/>
          <p:nvPr/>
        </p:nvPicPr>
        <p:blipFill>
          <a:blip r:embed="rId5"/>
          <a:stretch/>
        </p:blipFill>
        <p:spPr>
          <a:xfrm>
            <a:off x="1547640" y="4437000"/>
            <a:ext cx="2664000" cy="199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20" name="Picture 31" descr="lipa_drobnolistna"/>
          <p:cNvPicPr/>
          <p:nvPr/>
        </p:nvPicPr>
        <p:blipFill>
          <a:blip r:embed="rId6"/>
          <a:stretch/>
        </p:blipFill>
        <p:spPr>
          <a:xfrm>
            <a:off x="6084720" y="2133720"/>
            <a:ext cx="2664000" cy="199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21" name="Picture 32" descr="Klon_jawor"/>
          <p:cNvPicPr/>
          <p:nvPr/>
        </p:nvPicPr>
        <p:blipFill>
          <a:blip r:embed="rId7"/>
          <a:stretch/>
        </p:blipFill>
        <p:spPr>
          <a:xfrm>
            <a:off x="4500720" y="4437000"/>
            <a:ext cx="2663640" cy="199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sp>
        <p:nvSpPr>
          <p:cNvPr id="522" name="Text Box 35"/>
          <p:cNvSpPr/>
          <p:nvPr/>
        </p:nvSpPr>
        <p:spPr>
          <a:xfrm>
            <a:off x="5221440" y="645336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KLON JAW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36"/>
          <p:cNvSpPr/>
          <p:nvPr/>
        </p:nvSpPr>
        <p:spPr>
          <a:xfrm>
            <a:off x="1996560" y="6453360"/>
            <a:ext cx="178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ARZĄB ZWYCZAJ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37"/>
          <p:cNvSpPr/>
          <p:nvPr/>
        </p:nvSpPr>
        <p:spPr>
          <a:xfrm>
            <a:off x="6456600" y="4091040"/>
            <a:ext cx="179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LIPA DROBNOLIST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38"/>
          <p:cNvSpPr/>
          <p:nvPr/>
        </p:nvSpPr>
        <p:spPr>
          <a:xfrm>
            <a:off x="3679560" y="409104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ABŁOŃ ZWYCZAJ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39"/>
          <p:cNvSpPr/>
          <p:nvPr/>
        </p:nvSpPr>
        <p:spPr>
          <a:xfrm>
            <a:off x="596880" y="4076640"/>
            <a:ext cx="22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BRZOZA BRODAWKOW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4e7ed"/>
                </a:solidFill>
                <a:latin typeface="Tw Cen MT"/>
              </a:rPr>
              <a:t>DRZEWA LIŚCIASTE…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Drzewa liściaste,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takie jak dęby i kasztany mają miękkie, spłaszczone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liście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. Ich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nasiona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są ukryte w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owocach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, które mogą być twarde jak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żołędzie 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lub miękkie jak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jagody.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Podczas zimna lub suszy wiele drzew liściastych zrzuca liście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Aby wytworzyć nasiona drzewa liściaste wykształcają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kwiaty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. Gdy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pyłek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z jednego kwiatu przedostanie się do drugiego kwiatu zaczynają się tworzyć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owoce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4e7ed"/>
                </a:solidFill>
                <a:latin typeface="Tw Cen MT"/>
              </a:rPr>
              <a:t>Z jakiego drzewa pochodzą te liście?</a:t>
            </a:r>
            <a:endParaRPr b="0" lang="en-US" sz="3600" spc="-1" strike="noStrike">
              <a:solidFill>
                <a:srgbClr val="f4e7ed"/>
              </a:solidFill>
              <a:latin typeface="Tw Cen MT"/>
            </a:endParaRPr>
          </a:p>
        </p:txBody>
      </p:sp>
      <p:graphicFrame>
        <p:nvGraphicFramePr>
          <p:cNvPr id="530" name="Object 5"/>
          <p:cNvGraphicFramePr/>
          <p:nvPr/>
        </p:nvGraphicFramePr>
        <p:xfrm>
          <a:off x="826920" y="2565360"/>
          <a:ext cx="7431120" cy="25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5360"/>
                    <a:ext cx="743112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Prostokąt 5"/>
          <p:cNvSpPr/>
          <p:nvPr/>
        </p:nvSpPr>
        <p:spPr>
          <a:xfrm>
            <a:off x="1042920" y="5445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WIERZBA             BRZOZA                     DĄB                            LI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4560" y="33336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4e7ed"/>
                </a:solidFill>
                <a:latin typeface="Tw Cen MT"/>
              </a:rPr>
              <a:t>Czyje to liście i owoce ?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graphicFrame>
        <p:nvGraphicFramePr>
          <p:cNvPr id="534" name="Object 4"/>
          <p:cNvGraphicFramePr/>
          <p:nvPr/>
        </p:nvGraphicFramePr>
        <p:xfrm>
          <a:off x="324000" y="2349360"/>
          <a:ext cx="825948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82594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w Cen MT"/>
              </a:rPr>
              <a:t>Znaczenie drzew dla człowieka i środowiska naturalnego</a:t>
            </a:r>
            <a:endParaRPr b="0" lang="en-US" sz="32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Znaczenie drzew w życiu codziennym człowieka: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Tereny rekreacyjne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rzemysł meblowy i papierniczy, budownictwo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Źródło tlenu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Kształtowanie klimatu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Schronienie dla zwierząt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rodukcja materii organicznej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Ochrona gleby przed erozją.      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w Cen MT"/>
              </a:rPr>
              <a:t>DRZEWA MOGĄ BYĆ INSPIRACJĄ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pic>
        <p:nvPicPr>
          <p:cNvPr id="540" name="Picture 6" descr="http://360puredesign.files.wordpress.com/2014/01/wieszak-2-e1362487090569.jpg"/>
          <p:cNvPicPr/>
          <p:nvPr/>
        </p:nvPicPr>
        <p:blipFill>
          <a:blip r:embed="rId1"/>
          <a:stretch/>
        </p:blipFill>
        <p:spPr>
          <a:xfrm>
            <a:off x="609480" y="1844640"/>
            <a:ext cx="3587760" cy="4572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https://encrypted-tbn1.gstatic.com/images?q=tbn:ANd9GcRZaI7KOW_1hClg8amv0VeCJoXrlkMJ2C5sQy_cQCPL-L0crxKfIA"/>
          <p:cNvPicPr/>
          <p:nvPr/>
        </p:nvPicPr>
        <p:blipFill>
          <a:blip r:embed="rId2"/>
          <a:stretch/>
        </p:blipFill>
        <p:spPr>
          <a:xfrm>
            <a:off x="5864400" y="2641680"/>
            <a:ext cx="1847520" cy="246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Object 4"/>
          <p:cNvGraphicFramePr/>
          <p:nvPr/>
        </p:nvGraphicFramePr>
        <p:xfrm>
          <a:off x="3132000" y="1268280"/>
          <a:ext cx="5564160" cy="51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268280"/>
                    <a:ext cx="556416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AutoShape 7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WordArt 8"/>
          <p:cNvSpPr txBox="1"/>
          <p:nvPr/>
        </p:nvSpPr>
        <p:spPr>
          <a:xfrm>
            <a:off x="2482920" y="406440"/>
            <a:ext cx="4176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Lasy w Polsc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326880" y="1557360"/>
            <a:ext cx="273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W polskich lasach 87 drzew na sto to drzewa szpilkowe w monokulturach, czyli zbiorowiskach składających się z drzew jednego gatunku, równego wieku i podobnej wysokości. Występowanie takich drzewostanów oraz stan środowiska sprawiają, że należą one do najsilniej zagrożonych w Europie.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Obok przedstawiono zalesienie i skład gatunkowy lasów w 1994 roku (wg danych IBL).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00"/>
                </a:solidFill>
                <a:latin typeface="Tw Cen MT"/>
              </a:rPr>
              <a:t>Lasy liściaste</a:t>
            </a:r>
            <a:r>
              <a:rPr b="0" lang="pl-PL" sz="4400" spc="-1" strike="noStrike">
                <a:solidFill>
                  <a:srgbClr val="f4e7ed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99"/>
                </a:solidFill>
                <a:latin typeface="Times New Roman"/>
              </a:rPr>
              <a:t>Las liściasty to ekosystem leśny z udziałem przede wszystkim drzew liściastych. Charakter lasu liściastego zmienia się w zależności od regionu geograficznego i klimatu. Lasy liściaste zrzucające liście na zimę spotyka się w strefie umiarkowanej, z wyraźnie zaznaczoną sezonowością i temperaturach poniżej zera w zimie i powyżej 12°C w lecie. Las liściasty strefy umiarkowanej charakteryzuje się stosunkowo bogatym runem, które rozwija się na wiosnę, gdy drzewa nie mają liści i światło może bez trudu penetrować głębsze warstwy lasu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Tw Cen MT"/>
              </a:rPr>
              <a:t>DRZEWA</a:t>
            </a:r>
            <a:endParaRPr b="0" lang="en-US" sz="66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6600"/>
                </a:solidFill>
                <a:latin typeface="Tw Cen MT"/>
              </a:rPr>
              <a:t>Drzewa są największymi i najdłużej żyjącymi roślinami. Niektóre żyją kilkaset lat, a najstarsze drzewo na świecie (sosna oścista znaleziona w Białych Górach w Arizonie) ma 4600 lat. Drzewa odgrywają ważną rolę w przyrodzie. Uczestniczą w utrzymaniu odpowiedniego stężenia gazów w atmosferze, a ich korzenie przytrzymują glebę i pobierają z niej wodę, którą następnie wydalają w postaci pary wodnej przez liście do atmosfery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w Cen MT"/>
              </a:rPr>
              <a:t>PODZIAŁ DRZEW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pic>
        <p:nvPicPr>
          <p:cNvPr id="465" name="Symbol zastępczy zawartości 5" descr=""/>
          <p:cNvPicPr/>
          <p:nvPr/>
        </p:nvPicPr>
        <p:blipFill>
          <a:blip r:embed="rId1"/>
          <a:stretch/>
        </p:blipFill>
        <p:spPr>
          <a:xfrm>
            <a:off x="615960" y="1573200"/>
            <a:ext cx="815004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06000" y="206676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Drzewa iglaste są bardziej prymitywne niż rośliny liściaste i starsze wiekiem. Należą do roślin nagozalążkowych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Ich charakterystycznym elementem są szpilki pełniące funkcję asymilacyjną oraz szyszki pełniące funkcję kwiatostanów i „nasionostanów”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W odróżnieniu od roślin okrytonasiennych, rośliny iglaste są wyłącznie wiatropylne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67" name="Picture 6" descr="sosna1"/>
          <p:cNvPicPr/>
          <p:nvPr/>
        </p:nvPicPr>
        <p:blipFill>
          <a:blip r:embed="rId1"/>
          <a:stretch/>
        </p:blipFill>
        <p:spPr>
          <a:xfrm>
            <a:off x="6372360" y="1628640"/>
            <a:ext cx="2160360" cy="16210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sp>
        <p:nvSpPr>
          <p:cNvPr id="468" name="WordArt 4"/>
          <p:cNvSpPr txBox="1"/>
          <p:nvPr/>
        </p:nvSpPr>
        <p:spPr>
          <a:xfrm>
            <a:off x="1979640" y="33336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Drzewa iglast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AutoShape 5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modrzew_europejski2"/>
          <p:cNvPicPr/>
          <p:nvPr/>
        </p:nvPicPr>
        <p:blipFill>
          <a:blip r:embed="rId4"/>
          <a:stretch/>
        </p:blipFill>
        <p:spPr>
          <a:xfrm>
            <a:off x="6372360" y="4508640"/>
            <a:ext cx="2193840" cy="1645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pic>
        <p:nvPicPr>
          <p:cNvPr id="471" name="Picture 12" descr="cyprys_wiecznie_zielony"/>
          <p:cNvPicPr/>
          <p:nvPr/>
        </p:nvPicPr>
        <p:blipFill>
          <a:blip r:embed="rId5"/>
          <a:stretch/>
        </p:blipFill>
        <p:spPr>
          <a:xfrm>
            <a:off x="5005440" y="3206880"/>
            <a:ext cx="21938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sp>
        <p:nvSpPr>
          <p:cNvPr id="472" name="Text Box 16"/>
          <p:cNvSpPr/>
          <p:nvPr/>
        </p:nvSpPr>
        <p:spPr>
          <a:xfrm>
            <a:off x="6517440" y="6167520"/>
            <a:ext cx="201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MODRZEW EUROPEJ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7"/>
          <p:cNvSpPr/>
          <p:nvPr/>
        </p:nvSpPr>
        <p:spPr>
          <a:xfrm>
            <a:off x="7484400" y="328464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OSNA CZA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7164720" y="3933720"/>
            <a:ext cx="167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ZYSZKA CYPRY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4e7ed"/>
                </a:solidFill>
                <a:latin typeface="Tw Cen MT"/>
              </a:rPr>
              <a:t>CDN….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79280" y="1781280"/>
            <a:ext cx="684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Drzewa iglaste,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takie jak jodła, mają liście pokryte woskiem, podobne w kształcie do igieł lub łuskowate, a ich nasiona znajdują się w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szyszkach.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Większość drzew iglastych jest wiecznie zielona, co oznacza, że nie zrzucają jednocześnie wszystkich igieł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Na wiosnę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drzewa iglaste wytwarzają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szyszki.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W nich są schowane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nasiona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. Szyszka wysycha i otwiera się gdy nasiona są dojrzałe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77" name="Obraz 7" descr=""/>
          <p:cNvPicPr/>
          <p:nvPr/>
        </p:nvPicPr>
        <p:blipFill>
          <a:blip r:embed="rId1"/>
          <a:stretch/>
        </p:blipFill>
        <p:spPr>
          <a:xfrm>
            <a:off x="7020000" y="3500280"/>
            <a:ext cx="2124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323640" y="154620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9ff33"/>
                </a:solidFill>
                <a:latin typeface="Verdana"/>
              </a:rPr>
              <a:t>POPULARNE GATUNKI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79" name="Picture 3" descr="sosna1"/>
          <p:cNvPicPr/>
          <p:nvPr/>
        </p:nvPicPr>
        <p:blipFill>
          <a:blip r:embed="rId1"/>
          <a:stretch/>
        </p:blipFill>
        <p:spPr>
          <a:xfrm>
            <a:off x="324000" y="1916280"/>
            <a:ext cx="2160360" cy="16207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sp>
        <p:nvSpPr>
          <p:cNvPr id="480" name="WordArt 4"/>
          <p:cNvSpPr txBox="1"/>
          <p:nvPr/>
        </p:nvSpPr>
        <p:spPr>
          <a:xfrm>
            <a:off x="1979640" y="33336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Drzewa iglast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Picture 6" descr="modrzew_europejski2"/>
          <p:cNvPicPr/>
          <p:nvPr/>
        </p:nvPicPr>
        <p:blipFill>
          <a:blip r:embed="rId4"/>
          <a:stretch/>
        </p:blipFill>
        <p:spPr>
          <a:xfrm>
            <a:off x="324000" y="4030560"/>
            <a:ext cx="2160360" cy="16210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sp>
        <p:nvSpPr>
          <p:cNvPr id="483" name="Text Box 11"/>
          <p:cNvSpPr/>
          <p:nvPr/>
        </p:nvSpPr>
        <p:spPr>
          <a:xfrm>
            <a:off x="399240" y="5734080"/>
            <a:ext cx="201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MODRZEW EUROPEJ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3059280" y="3573360"/>
            <a:ext cx="145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KOSODRZEW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7164720" y="3933720"/>
            <a:ext cx="167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ZYSZKA CYPRYS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14" descr="cis_pospolity"/>
          <p:cNvPicPr/>
          <p:nvPr/>
        </p:nvPicPr>
        <p:blipFill>
          <a:blip r:embed="rId5"/>
          <a:stretch/>
        </p:blipFill>
        <p:spPr>
          <a:xfrm>
            <a:off x="4932360" y="4040280"/>
            <a:ext cx="2160720" cy="16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487" name="Picture 15" descr="cis_pospolity2"/>
          <p:cNvPicPr/>
          <p:nvPr/>
        </p:nvPicPr>
        <p:blipFill>
          <a:blip r:embed="rId6"/>
          <a:stretch/>
        </p:blipFill>
        <p:spPr>
          <a:xfrm>
            <a:off x="7236000" y="1916280"/>
            <a:ext cx="1672920" cy="223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488" name="Picture 16" descr="kosodrzewina"/>
          <p:cNvPicPr/>
          <p:nvPr/>
        </p:nvPicPr>
        <p:blipFill>
          <a:blip r:embed="rId7"/>
          <a:stretch/>
        </p:blipFill>
        <p:spPr>
          <a:xfrm>
            <a:off x="2629080" y="1916280"/>
            <a:ext cx="2158920" cy="1618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489" name="Picture 17" descr="sosna_pospolita"/>
          <p:cNvPicPr/>
          <p:nvPr/>
        </p:nvPicPr>
        <p:blipFill>
          <a:blip r:embed="rId8"/>
          <a:stretch/>
        </p:blipFill>
        <p:spPr>
          <a:xfrm>
            <a:off x="4932360" y="1916280"/>
            <a:ext cx="2160720" cy="16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490" name="Picture 18" descr="świerk_kłujący"/>
          <p:cNvPicPr/>
          <p:nvPr/>
        </p:nvPicPr>
        <p:blipFill>
          <a:blip r:embed="rId9"/>
          <a:stretch/>
        </p:blipFill>
        <p:spPr>
          <a:xfrm>
            <a:off x="2627280" y="4030560"/>
            <a:ext cx="2160720" cy="1621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sp>
        <p:nvSpPr>
          <p:cNvPr id="491" name="Text Box 19"/>
          <p:cNvSpPr/>
          <p:nvPr/>
        </p:nvSpPr>
        <p:spPr>
          <a:xfrm>
            <a:off x="696240" y="357336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OSNA CZA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0"/>
          <p:cNvSpPr/>
          <p:nvPr/>
        </p:nvSpPr>
        <p:spPr>
          <a:xfrm>
            <a:off x="5149440" y="3573360"/>
            <a:ext cx="172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OSNA ZWYCZAJ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2942280" y="573408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ŚWIERK KŁUJĄ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5356080" y="573408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CIS POSPO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7262640" y="4221000"/>
            <a:ext cx="17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PSEUDOJAGOD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CISU POSPOLITE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(OSNÓWKA JES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ADAL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3640" y="154620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9ff33"/>
                </a:solidFill>
                <a:latin typeface="Verdana"/>
              </a:rPr>
              <a:t>EGZOTYCZNE GATUNKI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WordArt 4"/>
          <p:cNvSpPr txBox="1"/>
          <p:nvPr/>
        </p:nvSpPr>
        <p:spPr>
          <a:xfrm>
            <a:off x="1979640" y="33336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Drzewa iglast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98960" y="573408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ZYDLICA JAPOŃ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2849400" y="357336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CYPRYSIK NUTKAJ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7164720" y="3933720"/>
            <a:ext cx="167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ZYSZKA CYPRYS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512280" y="357336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CYPRYSIK LAWS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6"/>
          <p:cNvSpPr/>
          <p:nvPr/>
        </p:nvSpPr>
        <p:spPr>
          <a:xfrm>
            <a:off x="5141520" y="357336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AŁOWIEC SABIŃ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7"/>
          <p:cNvSpPr/>
          <p:nvPr/>
        </p:nvSpPr>
        <p:spPr>
          <a:xfrm>
            <a:off x="2961360" y="573408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ŚWIERK SERB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8"/>
          <p:cNvSpPr/>
          <p:nvPr/>
        </p:nvSpPr>
        <p:spPr>
          <a:xfrm>
            <a:off x="5180400" y="5734080"/>
            <a:ext cx="172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ODŁA KOREAŃ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9"/>
          <p:cNvSpPr/>
          <p:nvPr/>
        </p:nvSpPr>
        <p:spPr>
          <a:xfrm>
            <a:off x="7266240" y="422280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DAGLEZJA ZIEL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1" descr="cyprysik_lawsona"/>
          <p:cNvPicPr/>
          <p:nvPr/>
        </p:nvPicPr>
        <p:blipFill>
          <a:blip r:embed="rId3"/>
          <a:stretch/>
        </p:blipFill>
        <p:spPr>
          <a:xfrm>
            <a:off x="324000" y="1916280"/>
            <a:ext cx="2160360" cy="16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08" name="Picture 23" descr="cyprysik_nutkajski"/>
          <p:cNvPicPr/>
          <p:nvPr/>
        </p:nvPicPr>
        <p:blipFill>
          <a:blip r:embed="rId4"/>
          <a:stretch/>
        </p:blipFill>
        <p:spPr>
          <a:xfrm>
            <a:off x="2627280" y="1916280"/>
            <a:ext cx="2193840" cy="1645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pic>
        <p:nvPicPr>
          <p:cNvPr id="509" name="Picture 26" descr="daglezja_zielona"/>
          <p:cNvPicPr/>
          <p:nvPr/>
        </p:nvPicPr>
        <p:blipFill>
          <a:blip r:embed="rId5"/>
          <a:stretch/>
        </p:blipFill>
        <p:spPr>
          <a:xfrm>
            <a:off x="7236000" y="1916280"/>
            <a:ext cx="1674720" cy="2233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10" name="Picture 27" descr="jałowiec_sabiński"/>
          <p:cNvPicPr/>
          <p:nvPr/>
        </p:nvPicPr>
        <p:blipFill>
          <a:blip r:embed="rId6"/>
          <a:stretch/>
        </p:blipFill>
        <p:spPr>
          <a:xfrm>
            <a:off x="4932360" y="1916280"/>
            <a:ext cx="2193840" cy="164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11" name="Picture 28" descr="jodła_koreańska_szyszka_2"/>
          <p:cNvPicPr/>
          <p:nvPr/>
        </p:nvPicPr>
        <p:blipFill>
          <a:blip r:embed="rId7"/>
          <a:stretch/>
        </p:blipFill>
        <p:spPr>
          <a:xfrm>
            <a:off x="4932360" y="4005360"/>
            <a:ext cx="21938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12" name="Picture 29" descr="świeek_serbski"/>
          <p:cNvPicPr/>
          <p:nvPr/>
        </p:nvPicPr>
        <p:blipFill>
          <a:blip r:embed="rId8"/>
          <a:stretch/>
        </p:blipFill>
        <p:spPr>
          <a:xfrm>
            <a:off x="2627280" y="4005360"/>
            <a:ext cx="21938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13" name="Picture 30" descr="szydlica_japońska"/>
          <p:cNvPicPr/>
          <p:nvPr/>
        </p:nvPicPr>
        <p:blipFill>
          <a:blip r:embed="rId9"/>
          <a:stretch/>
        </p:blipFill>
        <p:spPr>
          <a:xfrm>
            <a:off x="290520" y="4005360"/>
            <a:ext cx="21938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3:47:50Z</dcterms:created>
  <dc:creator>Asia</dc:creator>
  <dc:description/>
  <dc:language>en-US</dc:language>
  <cp:lastModifiedBy>Komputer_2</cp:lastModifiedBy>
  <dcterms:modified xsi:type="dcterms:W3CDTF">2014-11-17T12:29:29Z</dcterms:modified>
  <cp:revision>42</cp:revision>
  <dc:subject/>
  <dc:title>Tajemnice drzew</dc:title>
</cp:coreProperties>
</file>