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1452-58E8-4D50-BC65-BF4E2AFB379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zwrócić uwagę uczniów, że dwa z podanych wyrażeń pasują do jednego prostoką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3CCE-C03F-4FF9-856A-F8656E53BD38}" type="slidenum">
              <a:rPr b="0" lang="pl-PL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zed przystąpieniem do rozwiązania zadań warto porozmawiać z uczniami na temat ich wieku i wieku ich rodzeństwa oraz rodzicó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35EA-4828-4256-87E2-17EA8C98FEA2}" type="slidenum">
              <a:rPr b="0" lang="pl-PL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nim podamy uczniom zadanie. Zapytajmy ich: ile lat mieli trzy lata temu, a ile będą mieli za trzy lata? Pozwoli to gimnazjalistom lepiej zrozumieć treść zada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566F-9DD9-41D4-AE94-821DDDABFC08}" type="slidenum">
              <a:rPr b="0" lang="pl-PL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zasugerować uczniom, że odrzucimy tylko jedno z podanych wyraże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778A-4595-4911-BD24-DEFB462AEC66}" type="slidenum">
              <a:rPr b="0" lang="pl-PL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łaściwe rozwiązanie x=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E2DE-F998-48DE-BCBE-98FE0D81A9DD}" type="slidenum">
              <a:rPr b="0" lang="pl-PL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3772-CAA3-4E58-BB1D-5A2373BA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F4E7-442A-4A32-BA7E-44C84D22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53B0-6C5A-419A-A920-E5009ADD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B2D8-D5D2-4C44-B581-8F270078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13E2-DFE0-4317-ADE7-DFEDA915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C6E1-02B3-42A6-A91F-F256A4CD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3CB0-9BAC-4F91-A4BE-DA1CC1DE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9FF1-1CD3-4596-A512-0C9CB8DE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45EF-8923-4D7D-8A55-B35233E3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7595-C91C-44E6-9530-8A53843E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63A2-9E70-4C70-AF27-B5DA39D9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5C3C-94B6-49B9-B157-B187D0AD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95E8-5620-402E-BB9E-E9FB439C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B62F-7377-423F-9986-335EAD0B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E789-9B2C-40A1-A08B-9FC7918B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E759-FC75-4913-8587-9A17F150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DB02-FBEF-4B1B-B74A-2D6A74E9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1A3F8-3E3E-441F-8C3D-0A0E43D3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8C963-CFAA-4F15-A0AD-B4977AF4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DAC14-810E-4EA6-83D1-5F6E733B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3DA7E-A2A3-4506-BFEF-1791E7EC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BED62-DDC8-483A-A9AF-67A7D430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EFE0-959A-4CC1-B38C-DD76FD11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E1A7F-31F2-4ACE-8F51-00FD67A4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D2601-CAE8-41D1-A922-213F921E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A7ABE-5CBD-4C82-AA42-D56D840C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EDF2D-20EC-4921-9774-E797894B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91551-03ED-4A33-92A5-6CDE670C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01E47-369E-405E-9526-0CAA0F26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6F0F0-F647-4C80-BCB6-2D8285E5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CAFC6-0927-4B2A-8731-7FC227D0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4C465-2298-4892-A6D5-32780CEB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312A5-F977-4772-9CDA-AEE6AE32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D8C4-2F1A-453F-BE2E-36FCF910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21AD4-B8D0-4629-8E6F-559036C5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62306-3413-4DB3-8258-B5D218FB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C4C59-E13E-4688-8DD5-2344D731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10C87-19A4-47BD-8C19-E27543F1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A2050-B33D-4860-B344-18578092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5616A-4E02-4AA3-85F5-93561C04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12C77-32DD-4D56-89AF-1E933558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B903B-3CA4-4DD7-9728-15503493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CFD1C-138E-4AE7-9FFA-43483029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BCA83-8D9D-49A6-BAF9-9FCF7F4E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7800-E811-40D9-ABF8-536D192E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5DC68-DE50-4911-97A2-4A26F2FC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31F5C-815B-42CA-A64D-D27A96A4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718D3-B5E7-4297-9B7F-2C394EAF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17CF4-880D-405E-A2CF-DE53505B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C2F0B-6379-4944-9FF3-FAD2D397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B5AD5-82A3-4D9D-9BA4-036DD40B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CDBCC-6E1E-41E9-B1CE-11A5AA3C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9B219-FFC7-4385-9047-27E3BCD3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E31CC-4468-47AA-B102-B14F75BA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788BC-30AA-4BCB-9814-83DAB150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33EE-0FD0-4FE4-A47A-B6932FB5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B5E59-EDFC-41BB-ABE4-B555DDE0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0B2E4-16C4-4B12-AA6F-AD4BCE68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9E44E-40ED-454A-8BC1-CF5A1D59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55E56-553F-47EE-B157-B2EF7614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B8FB5-06CB-43D5-863F-5D2B564B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0AF29-0CBD-4018-BAB0-3D7CCE00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9924E-5B53-431B-B019-2D0674B2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2D3B6-8F01-4025-BB17-E0FED929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49014-C097-4613-A97A-E53AB3E6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6F0D4-1B45-43A6-A162-5C83C75D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8109-D6F5-4B78-B0DA-98B09B23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59F7C-2E85-4E7A-AD27-6E683AC7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3904A-DB9D-4FFD-B7FF-4C5FE05A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53D7B-9D70-4B09-8CDC-DA00961E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B8BD1-0563-426F-BB38-353176FC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29046-9939-4665-9FC5-9D671DD2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B5C77-7E2C-4D22-A894-406E507D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38F2B-9450-48F3-AE69-0E0294E1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310E3-BB12-4A99-A15B-1EF28760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BA16B-661B-4A2E-A0D9-9ED21355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D8169-11F2-40FC-A182-B09B3203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5110-0842-413C-B247-AFD11B23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2A87D-6106-4D37-9A6B-86DAB1CA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75441-B579-4DC6-B42B-3DA162AD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DD390-E161-4E35-B53B-3775FDF9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BEBDE-19AB-40C9-A5EF-6DCD5C02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A194C-E015-4AD5-A09D-579E8BEC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78A6-AB88-4D39-BD31-331C08B1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78F7-5CEA-405C-A1D1-93EB90F273A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A929-2C89-4122-BC98-A9711910B06C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EBC7-52A3-4348-8F29-97E910511177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3810-7910-42FD-9CA8-DADE47F1E44B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41B3-4E2B-43F1-BE37-35E259720928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B35B-F1B5-4F49-9CB0-B82525A17EB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F367-3E54-4C0E-B266-3620A0EAAF9E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Jedno zadanie – kilka rozwiązań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Zadania dotyczące „wieku”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to inny przykład zadania i kilka sposobów jego rozwiąz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danie 2. Tomek ma 14 lat, a jego mama 38. Oblicz kiedy mama była od Tomka pięć razy starsza. Za ile lat będzie od niego dwa razy starsza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Pamiętaj! Jak mamie przybędzie lat, to Tomkowi również i to tyle samo co mamie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871560" y="1700280"/>
            <a:ext cx="7408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Rozwiązanie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. Analiza zadania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arto zadanie to podzielić na dwie części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Tomek ma 14 lat, a jego mama 38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blicz kiedy mama była od Tomka pięć razy starsza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 ile lat będzie od niego dwa razy starsza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Pytania pomocnicze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Ile osób występuje w zadaniu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Ile okresów czasu pojawia się w zadaniu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Co oznaczymy przez niewiadomą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871560" y="2060280"/>
            <a:ext cx="7408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blicz kiedy mama była od Tomka pięć razy starsza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Uzupełnij tabelkę wykorzystując podane wyrażeni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403280" y="3284640"/>
          <a:ext cx="4572000" cy="111276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om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  <p:sp>
        <p:nvSpPr>
          <p:cNvPr id="378" name="Łącznik prostoliniowy 5"/>
          <p:cNvSpPr/>
          <p:nvPr/>
        </p:nvSpPr>
        <p:spPr>
          <a:xfrm>
            <a:off x="1403280" y="328464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9" name="Łącznik prostoliniowy 7"/>
          <p:cNvSpPr/>
          <p:nvPr/>
        </p:nvSpPr>
        <p:spPr>
          <a:xfrm flipV="1">
            <a:off x="1403280" y="328428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0" name="pole tekstowe 9"/>
          <p:cNvSpPr/>
          <p:nvPr/>
        </p:nvSpPr>
        <p:spPr>
          <a:xfrm>
            <a:off x="1763640" y="479124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x lat temu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1" name="pole tekstowe 10"/>
          <p:cNvSpPr/>
          <p:nvPr/>
        </p:nvSpPr>
        <p:spPr>
          <a:xfrm>
            <a:off x="5796000" y="4822920"/>
            <a:ext cx="129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2" name="pole tekstowe 11"/>
          <p:cNvSpPr/>
          <p:nvPr/>
        </p:nvSpPr>
        <p:spPr>
          <a:xfrm>
            <a:off x="1692360" y="553572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8-x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3" name="pole tekstowe 12"/>
          <p:cNvSpPr/>
          <p:nvPr/>
        </p:nvSpPr>
        <p:spPr>
          <a:xfrm>
            <a:off x="3851280" y="4791240"/>
            <a:ext cx="129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57960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5" name="pole tekstowe 14"/>
          <p:cNvSpPr/>
          <p:nvPr/>
        </p:nvSpPr>
        <p:spPr>
          <a:xfrm>
            <a:off x="3564000" y="571500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 x lat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6" name="pole tekstowe 15"/>
          <p:cNvSpPr/>
          <p:nvPr/>
        </p:nvSpPr>
        <p:spPr>
          <a:xfrm>
            <a:off x="5580000" y="553572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8+x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7" name="pole tekstowe 16"/>
          <p:cNvSpPr/>
          <p:nvPr/>
        </p:nvSpPr>
        <p:spPr>
          <a:xfrm>
            <a:off x="7164360" y="534528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14+x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8" name="pole tekstowe 17"/>
          <p:cNvSpPr/>
          <p:nvPr/>
        </p:nvSpPr>
        <p:spPr>
          <a:xfrm>
            <a:off x="7380360" y="479124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14-x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9" name="pole tekstowe 18"/>
          <p:cNvSpPr/>
          <p:nvPr/>
        </p:nvSpPr>
        <p:spPr>
          <a:xfrm>
            <a:off x="6438960" y="363708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5(14-x)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0" name="pole tekstowe 19"/>
          <p:cNvSpPr/>
          <p:nvPr/>
        </p:nvSpPr>
        <p:spPr>
          <a:xfrm>
            <a:off x="7304040" y="419256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5(38-x)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68360" y="1916280"/>
            <a:ext cx="842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skaż równanie, które doprowadzi do rozwiązania zad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– x =5(14 – x)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 – x = 5(38 – x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+ x = 5(14+x)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+x = 38 – x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buClr>
                <a:srgbClr val="31b6fd"/>
              </a:buClr>
              <a:buFont typeface="Candar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Rozwiąż równanie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– x =5(14 – x)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buClr>
                <a:srgbClr val="31b6fd"/>
              </a:buClr>
              <a:buFont typeface="Candar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Sprawdzenie, czy otrzymane rozwiązanie spełnia warunki zad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buClr>
                <a:srgbClr val="31b6fd"/>
              </a:buClr>
              <a:buFont typeface="Candar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pisz odpowiedź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dp. Mama </a:t>
            </a:r>
            <a:r>
              <a:rPr b="0" lang="pl-PL" sz="2400" spc="-1" strike="noStrike" u="sng">
                <a:solidFill>
                  <a:srgbClr val="073e87"/>
                </a:solidFill>
                <a:uFillTx/>
                <a:latin typeface="Candara"/>
              </a:rPr>
              <a:t>	</a:t>
            </a:r>
            <a:r>
              <a:rPr b="0" lang="pl-PL" sz="2400" spc="-1" strike="noStrike" u="sng">
                <a:solidFill>
                  <a:srgbClr val="073e87"/>
                </a:solidFill>
                <a:uFillTx/>
                <a:latin typeface="Candara"/>
              </a:rPr>
              <a:t>     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lat temu była 5 razy starsza od Tomk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684360" y="1557000"/>
            <a:ext cx="740880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 ile lat będzie od niego dwa razy starsza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Uzupełnij tabelkę wykorzystując podane wyrażeni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332000" y="2655720"/>
          <a:ext cx="4572000" cy="11131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om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  <p:sp>
        <p:nvSpPr>
          <p:cNvPr id="396" name="Łącznik prostoliniowy 7"/>
          <p:cNvSpPr/>
          <p:nvPr/>
        </p:nvSpPr>
        <p:spPr>
          <a:xfrm>
            <a:off x="1346040" y="269064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7" name="Łącznik prostoliniowy 15"/>
          <p:cNvSpPr/>
          <p:nvPr/>
        </p:nvSpPr>
        <p:spPr>
          <a:xfrm flipH="1">
            <a:off x="1318680" y="2690640"/>
            <a:ext cx="1511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8" name="pole tekstowe 9"/>
          <p:cNvSpPr/>
          <p:nvPr/>
        </p:nvSpPr>
        <p:spPr>
          <a:xfrm>
            <a:off x="1427040" y="407664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14 + y 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9" name="pole tekstowe 9"/>
          <p:cNvSpPr/>
          <p:nvPr/>
        </p:nvSpPr>
        <p:spPr>
          <a:xfrm>
            <a:off x="1427040" y="486900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14 – y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0" name="pole tekstowe 9"/>
          <p:cNvSpPr/>
          <p:nvPr/>
        </p:nvSpPr>
        <p:spPr>
          <a:xfrm>
            <a:off x="1427040" y="566100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8 +y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1" name="pole tekstowe 9"/>
          <p:cNvSpPr/>
          <p:nvPr/>
        </p:nvSpPr>
        <p:spPr>
          <a:xfrm>
            <a:off x="3276720" y="407664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8 – y 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2" name="pole tekstowe 9"/>
          <p:cNvSpPr/>
          <p:nvPr/>
        </p:nvSpPr>
        <p:spPr>
          <a:xfrm>
            <a:off x="3429000" y="486900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obecnie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3" name="pole tekstowe 9"/>
          <p:cNvSpPr/>
          <p:nvPr/>
        </p:nvSpPr>
        <p:spPr>
          <a:xfrm>
            <a:off x="5437080" y="486900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8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4" name="pole tekstowe 9"/>
          <p:cNvSpPr/>
          <p:nvPr/>
        </p:nvSpPr>
        <p:spPr>
          <a:xfrm>
            <a:off x="3581280" y="566100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5" name="pole tekstowe 9"/>
          <p:cNvSpPr/>
          <p:nvPr/>
        </p:nvSpPr>
        <p:spPr>
          <a:xfrm>
            <a:off x="5292720" y="407664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y lat temu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6" name="pole tekstowe 9"/>
          <p:cNvSpPr/>
          <p:nvPr/>
        </p:nvSpPr>
        <p:spPr>
          <a:xfrm>
            <a:off x="5437080" y="566100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 y lat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7" name="pole tekstowe 9"/>
          <p:cNvSpPr/>
          <p:nvPr/>
        </p:nvSpPr>
        <p:spPr>
          <a:xfrm>
            <a:off x="7164360" y="407664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2(14 + y)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8" name="pole tekstowe 9"/>
          <p:cNvSpPr/>
          <p:nvPr/>
        </p:nvSpPr>
        <p:spPr>
          <a:xfrm>
            <a:off x="7164360" y="489096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2(38 + y) 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4920" y="1844280"/>
            <a:ext cx="8497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skaż równanie, które doprowadzi do rozwiązania zad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– y =2(14 – y)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 – y = 2(38 – y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+ y = 2(14+y)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+y = 38 – y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buClr>
                <a:srgbClr val="31b6fd"/>
              </a:buClr>
              <a:buFont typeface="Candara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Rozwiąż równanie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+ y = 2(14+y)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buClr>
                <a:srgbClr val="31b6fd"/>
              </a:buClr>
              <a:buFont typeface="Candara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Sprawdzenie, czy otrzymane rozwiązanie spełnia warunki zad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buClr>
                <a:srgbClr val="31b6fd"/>
              </a:buClr>
              <a:buFont typeface="Candara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pisz odpowiedź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dp. Za </a:t>
            </a:r>
            <a:r>
              <a:rPr b="0" lang="pl-PL" sz="2400" spc="-1" strike="noStrike" u="sng">
                <a:solidFill>
                  <a:srgbClr val="073e87"/>
                </a:solidFill>
                <a:uFillTx/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lat mama będzie 2 razy starsza od Tomk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871560" y="1557000"/>
            <a:ext cx="7408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blicz kiedy mama była od Tomka pięć razy starsza. Określenie niewiadomej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– obecny wiek mamy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 – obecny wiek Tomk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– x – wiek mamy x lat temu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 – x – wiek Tomka x lat temu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. Metoda rysunku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2627280" y="4292640"/>
          <a:ext cx="3097080" cy="1828800"/>
        </p:xfrm>
        <a:graphic>
          <a:graphicData uri="http://schemas.openxmlformats.org/drawingml/2006/table">
            <a:tbl>
              <a:tblPr/>
              <a:tblGrid>
                <a:gridCol w="1549440"/>
                <a:gridCol w="1547640"/>
              </a:tblGrid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 –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83f4"/>
                    </a:solidFill>
                  </a:tcPr>
                </a:tc>
                <a:tc rowSpan="5"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38 –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 –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8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 –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8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 –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8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 –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8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Metoda ta, podobnie jak poprzednia, prowadzi do zapisu treści zadania w postaci równ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 treści zadania wiemy, że x lat temu mama była 5 razy starsza od Tomka. Zatem pięciokrotność wieku Tomka x lat temu daje wiek matki x lat temu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Stąd: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5(14 – x) = 38 – x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. Metoda rysunku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 ile lat będzie od niego dwa razy starsza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kreślenie niewiadomej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– obecny wiek mamy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 – obecny wiek Tomk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+ y – wiek mamy za y l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 + y – wiek Tomka za y l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. Metoda rysunku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692360" y="5013360"/>
          <a:ext cx="3024000" cy="741240"/>
        </p:xfrm>
        <a:graphic>
          <a:graphicData uri="http://schemas.openxmlformats.org/drawingml/2006/table">
            <a:tbl>
              <a:tblPr/>
              <a:tblGrid>
                <a:gridCol w="1511280"/>
                <a:gridCol w="151272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14 +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38 +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+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Metoda ta, podobnie jak poprzednia, prowadzi do zapisu treści zadania w postaci równ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 treści zadania wiemy, że za y lat mama będzie 2 razy starsza od Tomka. Zatem dwukrotność wieku Tomka za y lat daje wiek matki za y lat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Stąd: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2(14 + y) = 38 + y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. Metoda rysunku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1700280"/>
            <a:ext cx="7408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55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Analiza treści zadania (po dokładnym zapoznaniu się </a:t>
            </a:r>
            <a:br>
              <a:rPr sz="2200"/>
            </a:b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 treścią zadania ustalamy niewiadomą, wykorzystując ją </a:t>
            </a:r>
            <a:br>
              <a:rPr sz="2200"/>
            </a:b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i używając danych układamy wyrażenia arytmetyczne</a:t>
            </a:r>
            <a:br>
              <a:rPr sz="2200"/>
            </a:b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i algebraiczne, które ilustrują treść zadania)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Ułożenie równania (szukamy dwóch wyrażeń, z których co najmniej jedno zawiera niewiadomą, przedstawiających tę samą wielkość i stawiamy między nimi znak równości)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Rozwiązanie równania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Sprawdzenie, czy otrzymane rozwiązanie spełnia warunki zadania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pisanie odpowiedzi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Plan rozwiązania zadania z treścią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871560" y="1413000"/>
            <a:ext cx="7408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blicz kiedy mama była od Tomka pięć razy starsza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ypełnijmy </a:t>
            </a:r>
            <a:br>
              <a:rPr sz="2400"/>
            </a:b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tabelkę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I. Metoda prób i błędów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3276720" y="1989000"/>
          <a:ext cx="5256000" cy="4389480"/>
        </p:xfrm>
        <a:graphic>
          <a:graphicData uri="http://schemas.openxmlformats.org/drawingml/2006/table">
            <a:tbl>
              <a:tblPr/>
              <a:tblGrid>
                <a:gridCol w="1751040"/>
                <a:gridCol w="1752480"/>
                <a:gridCol w="17524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Wiek Tom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Wiek mat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bec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ok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6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7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9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 laty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Liczby  6 i 30 spełniają warunki zadania, bo 6 </a:t>
            </a:r>
            <a:r>
              <a:rPr b="0" lang="pl-PL" sz="2400" spc="-1" strike="noStrike">
                <a:solidFill>
                  <a:srgbClr val="073e87"/>
                </a:solidFill>
                <a:latin typeface="Cambria Math"/>
                <a:ea typeface="Cambria Math"/>
              </a:rPr>
              <a:t>∙ 5= 30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tem </a:t>
            </a:r>
            <a:r>
              <a:rPr b="0" lang="pl-PL" sz="2400" spc="-1" strike="noStrike">
                <a:solidFill>
                  <a:srgbClr val="c00000"/>
                </a:solidFill>
                <a:latin typeface="Candara"/>
              </a:rPr>
              <a:t>8 lat temu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mama była 5 razy starsza od Tomk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I. Metoda prób i błędów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871560" y="1484280"/>
            <a:ext cx="7408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 ile lat będzie od niego dwa razy starsza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ypełnijmy tabelkę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I. Metoda prób i błędów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3780000" y="2060640"/>
          <a:ext cx="5111640" cy="4449600"/>
        </p:xfrm>
        <a:graphic>
          <a:graphicData uri="http://schemas.openxmlformats.org/drawingml/2006/table">
            <a:tbl>
              <a:tblPr/>
              <a:tblGrid>
                <a:gridCol w="1704960"/>
                <a:gridCol w="1703160"/>
                <a:gridCol w="17035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Wiek Tom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Wiek mat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bec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r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2 l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3 l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4 l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5 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6 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7 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8 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9 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10 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Liczby z ostatniego wiersza spełniają warunki zadania, gdyż 24 </a:t>
            </a:r>
            <a:r>
              <a:rPr b="0" lang="pl-PL" sz="2400" spc="-1" strike="noStrike">
                <a:solidFill>
                  <a:srgbClr val="073e87"/>
                </a:solidFill>
                <a:latin typeface="Cambria Math"/>
                <a:ea typeface="Cambria Math"/>
              </a:rPr>
              <a:t>∙ 2 = 48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mbria Math"/>
                <a:ea typeface="Cambria Math"/>
              </a:rPr>
              <a:t>Zatem </a:t>
            </a:r>
            <a:r>
              <a:rPr b="0" lang="pl-PL" sz="2400" spc="-1" strike="noStrike">
                <a:solidFill>
                  <a:srgbClr val="c00000"/>
                </a:solidFill>
                <a:latin typeface="Cambria Math"/>
                <a:ea typeface="Cambria Math"/>
              </a:rPr>
              <a:t>za 10 lat mama</a:t>
            </a:r>
            <a:r>
              <a:rPr b="0" lang="pl-PL" sz="2400" spc="-1" strike="noStrike">
                <a:solidFill>
                  <a:srgbClr val="073e87"/>
                </a:solidFill>
                <a:latin typeface="Cambria Math"/>
                <a:ea typeface="Cambria Math"/>
              </a:rPr>
              <a:t> będzie 2 razy starsza od Tomk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I. Metoda prób i błędów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 prezentacji zostały wykorzystane zadania</a:t>
            </a:r>
            <a:br>
              <a:rPr sz="2400"/>
            </a:b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z podręcznika GWO MATEMATYKA Z PLUSEM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pracowała: Anna Jąkalsk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73e87"/>
                </a:solidFill>
                <a:latin typeface="Candara"/>
              </a:rPr>
              <a:t>Zadnia dotyczące wieku sprawiają nie mały kłopot gimnazjalistom. Oto kilka sposobów, które ułatwią zrozumienie </a:t>
            </a:r>
            <a:br>
              <a:rPr sz="3200"/>
            </a:br>
            <a:r>
              <a:rPr b="0" lang="pl-PL" sz="3200" spc="-1" strike="noStrike">
                <a:solidFill>
                  <a:srgbClr val="073e87"/>
                </a:solidFill>
                <a:latin typeface="Candara"/>
              </a:rPr>
              <a:t>i rozwiązanie tego typu zadań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Zadania dotyczące „wieku”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danie 1. Za 3 lata Grześ będzie 3 razy starszy niż 3 lata temu. Ile lat ma Grześ?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Rozwiązanie: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Analiza zadania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Pytania pomocnicze: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Ile osób występuje w zadaniu?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Ile okresów czasu pojawia się w zadaniu?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Co oznaczymy przez niewiadomą?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Uzupełnij tabelkę wykorzystując podane wyrażeni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163520" y="3284640"/>
          <a:ext cx="6096240" cy="10080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04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Grze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352" name="pole tekstowe 5"/>
          <p:cNvSpPr/>
          <p:nvPr/>
        </p:nvSpPr>
        <p:spPr>
          <a:xfrm>
            <a:off x="6875640" y="5299200"/>
            <a:ext cx="136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 3 lata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3" name="pole tekstowe 7"/>
          <p:cNvSpPr/>
          <p:nvPr/>
        </p:nvSpPr>
        <p:spPr>
          <a:xfrm>
            <a:off x="2987640" y="5126040"/>
            <a:ext cx="136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x- 3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4" name="pole tekstowe 8"/>
          <p:cNvSpPr/>
          <p:nvPr/>
        </p:nvSpPr>
        <p:spPr>
          <a:xfrm>
            <a:off x="4859280" y="4724280"/>
            <a:ext cx="136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X+3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5" name="pole tekstowe 9"/>
          <p:cNvSpPr/>
          <p:nvPr/>
        </p:nvSpPr>
        <p:spPr>
          <a:xfrm>
            <a:off x="2843280" y="4570560"/>
            <a:ext cx="136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(x+3)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6" name="pole tekstowe 10"/>
          <p:cNvSpPr/>
          <p:nvPr/>
        </p:nvSpPr>
        <p:spPr>
          <a:xfrm>
            <a:off x="4836960" y="5299200"/>
            <a:ext cx="1368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 lata temu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7" name="pole tekstowe 11"/>
          <p:cNvSpPr/>
          <p:nvPr/>
        </p:nvSpPr>
        <p:spPr>
          <a:xfrm>
            <a:off x="6875640" y="4788000"/>
            <a:ext cx="136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(x-3)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8" name="pole tekstowe 12"/>
          <p:cNvSpPr/>
          <p:nvPr/>
        </p:nvSpPr>
        <p:spPr>
          <a:xfrm>
            <a:off x="1268280" y="5094360"/>
            <a:ext cx="1368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x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9" name="pole tekstowe 13"/>
          <p:cNvSpPr/>
          <p:nvPr/>
        </p:nvSpPr>
        <p:spPr>
          <a:xfrm>
            <a:off x="1268280" y="4573440"/>
            <a:ext cx="1368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0" name="Łącznik prostoliniowy 2"/>
          <p:cNvSpPr/>
          <p:nvPr/>
        </p:nvSpPr>
        <p:spPr>
          <a:xfrm>
            <a:off x="1219320" y="3284640"/>
            <a:ext cx="14176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1" name="Łącznik prostoliniowy 6"/>
          <p:cNvSpPr/>
          <p:nvPr/>
        </p:nvSpPr>
        <p:spPr>
          <a:xfrm flipV="1">
            <a:off x="1219320" y="3284640"/>
            <a:ext cx="14176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Wskaż równanie, które doprowadzi do rozwiązania zadania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x+3=3(x-3)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x-3=3(x+3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x+3=3x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3x=x-3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Rozwiąż równanie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x+3=3(x-3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Sprawdzenie, czy otrzymane rozwiązanie spełnia warunki zadania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pisz odpowiedź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Odp. Grześ ma </a:t>
            </a:r>
            <a:r>
              <a:rPr b="0" lang="pl-PL" sz="2200" spc="-1" strike="noStrike" u="sng">
                <a:solidFill>
                  <a:srgbClr val="073e87"/>
                </a:solidFill>
                <a:uFillTx/>
                <a:latin typeface="Candara"/>
              </a:rPr>
              <a:t>	</a:t>
            </a:r>
            <a:r>
              <a:rPr b="0" lang="pl-PL" sz="2200" spc="-1" strike="noStrike" u="sng">
                <a:solidFill>
                  <a:srgbClr val="073e87"/>
                </a:solidFill>
                <a:uFillTx/>
                <a:latin typeface="Candara"/>
              </a:rPr>
              <a:t>      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 lat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71560" y="1773000"/>
            <a:ext cx="7408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kreślenie niewiadomej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x – obecny wiek Grzesi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Metoda ta, podobnie jak poprzednia, prowadzi do zapisu treści zadania w postaci równ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 treści zadania wiemy, że trzykrotność wieku Grzesia trzy lata temu daje jego wiek za trzy lat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tem: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3(x – 3) = x +3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. Metoda rysunku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403280" y="2708280"/>
          <a:ext cx="3097440" cy="1112760"/>
        </p:xfrm>
        <a:graphic>
          <a:graphicData uri="http://schemas.openxmlformats.org/drawingml/2006/table">
            <a:tbl>
              <a:tblPr/>
              <a:tblGrid>
                <a:gridCol w="1548000"/>
                <a:gridCol w="15494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x – 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x +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x – 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x – 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Spróbujmy rozwiązać to samo zadanie nie zapisując równania. Wykorzystajmy metodę prób i błędów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Dokonajmy analizy zad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Pierwsze zdanie z zadania - za 3 lata Grześ będzie 3 razy starszy niż 3 lata temu – informuje nas, że należy porównać wiek Grzesia sprzed 3 lat i ten, który osiągnie za 3 lata. 3 lata temu Grześ mógł mieć 1 rok lub 2 lata lub 3 lata itd. Wypełnijmy tabelkę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I. Metoda prób i błędów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871560" y="2060280"/>
            <a:ext cx="7408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2. Wypełnijmy tabelkę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. Jak łatwo zauważyć liczby z trzeciego wiersz spełniają warunki zadania. Zatem Grześ ma 6 lat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I. Metoda prób i błędów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012680" y="2565360"/>
            <a:ext cx="7419960" cy="23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16:36:18Z</dcterms:created>
  <dc:creator>Ania</dc:creator>
  <dc:description/>
  <dc:language>en-US</dc:language>
  <cp:lastModifiedBy>Ania</cp:lastModifiedBy>
  <dcterms:modified xsi:type="dcterms:W3CDTF">2013-05-21T20:10:56Z</dcterms:modified>
  <cp:revision>142</cp:revision>
  <dc:subject/>
  <dc:title>Rozwiązywanie zadań tekstowych stosując równania</dc:title>
</cp:coreProperties>
</file>