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BC7-FCEE-447D-81C7-80F6224A24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981-C9F2-47EE-B181-61003624901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8AA-B702-4CAE-979D-28A75E6F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1F-6706-4913-A9A4-77BB04C1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0F7-D33C-48A5-ABC8-61170DD4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8BA-BFAF-4B0D-8FAF-C75236EA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F66C-B692-4B71-A69B-A24D0C76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D043-B403-4397-9695-897993A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ED35-F8CC-4884-B6B6-1BF38F23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A011-C72F-433A-889A-FE88B60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BB58-9089-4C77-8F9D-5AB1E8B3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2EC5-E87B-4E41-810D-C726CFC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5F8D-2F78-4313-9044-B168631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D0A-9E48-455D-84AE-3A2376F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3004-FBD7-4723-9D4A-38571524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975-F357-4D05-AFA1-00D658C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8A7-0E4F-40BC-8153-8C38BC34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870-C727-4F53-8CEA-B81ACF93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D47-52F7-4B44-8C4E-119D7D9E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B960-F80E-4DD2-8ADA-19B0ECD1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85E8-ED72-410E-BF84-C82080A6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7BC5-FF3D-4BB9-B61A-46DFA8AC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5CFC-C6E2-4AFD-B5F8-4F9F52E7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253D-5797-4FFB-9FB6-A70B3B46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3E7-4D13-42BB-98FE-820CFAC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5781-665A-45E6-AEC9-A43966A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7F24-043A-4886-9AE8-D6D25FD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6CE1-C31C-4ADC-B90E-D2DA297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E391-43C4-47B4-BC13-AFEBBB9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95115-8FD9-448C-97A6-273427E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B72C-9E06-42B7-A319-11AD6ED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51A7-03B8-4509-AE6D-924BC09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C68D-1652-493C-BFA7-3A3682A9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2BBF-AF1C-4060-8D9D-A95F056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C7FC-44DC-4E75-B7D3-B4CECE71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7E5-BCB2-43F0-AA06-EB3A60A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14E3-0CDF-4236-BA2F-E6C4D887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C4F5-D46F-493F-859B-C3AB9DC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E8C8-099A-42C1-A147-323D93A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60E46-F4D7-4021-A39C-2DA7CB7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9CF5-1418-4712-B1ED-029E6CE8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8E8B-B57B-4026-9E4F-B6C54A5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E659-D929-4BE5-8A9B-CFE6D40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74C6-34A7-4010-8BB1-2232DC51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444A-1E6C-4115-ABB0-1FE1A4F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2DB-F5A3-4346-8B08-F47425C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20D-5A77-4D43-A64A-65D3335A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6F9-C8D9-4B96-A736-59D474B4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EAB-991A-4324-956F-CD440FF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9B6-64B2-4A5E-A676-40E7E40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2AFF-CE29-46F5-9448-721FB6267894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B56A-4D7C-4A73-ADC3-FE2CE8C8353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8F0-A7CC-4AD0-A6CF-736A0201BAC5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A50-1230-4881-8A52-1663CE92E9FF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731880"/>
            <a:ext cx="717408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to dwa wyrażenia algebraiczne połączone znakiem równośc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 równa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3x + y = 9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y = 3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a – 3 = 15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b = 3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tera w równaniu oznacza liczbę, której nie znamy – </a:t>
            </a: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niewiadom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liczby niewiadomych jakie występują w równaniu, mówimy o równaniach z jedną niewiadomą np. 2x = 15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wiema niewiadomymi np.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+ y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ma niewiadomymi              np. a + b - c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731520"/>
            <a:ext cx="6400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największego wykładnika potęgi, w jakiej występuje niewiadoma, mówimy o równaniach stopnia pierwszego np. 2x = 15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rugiego np. 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ciego np.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2640" y="731520"/>
            <a:ext cx="666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m pierwszego stopnia </a:t>
            </a:r>
            <a:br>
              <a:rPr sz="3200"/>
            </a:b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z jedną niewiadomą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azywamy równość dwóch wyrażeń, w których występuje jedna zmienna (niewiadoma) w pierwszej potędze, np. 3a – 2 = 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524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 służą do zapisywania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rozwiązywania wielu zagadnień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problemów z matematyki, fizyki oraz innych dziedzin wiedzy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87280" y="764640"/>
            <a:ext cx="640080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1.Napisz odpowiednie równ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a o 5 mniejsza od a jest równa 14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aś ma x piątek, dwa razy więcej czwórek i jedną trójkę, razem 19 ocen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klasie liczącej 22 uczniów jest x dziewcząt, a chłopców jest o 4 więcej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2. Podaj cztery inne zdania i poproś kolegę z ławki, aby zapisał je w postaci równ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Vademecum Egzamin gimnazjalny Matematyka; wyd. Operon; Gdynia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Klucz gimnazjalisty; wyd. Croma; Wrocław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5:13Z</dcterms:modified>
  <cp:revision>99</cp:revision>
  <dc:subject/>
  <dc:title>RÓWNANIA</dc:title>
</cp:coreProperties>
</file>