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7651-2233-45D3-8555-56FB1BE7214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25E5-C645-46D4-B279-142AF2A67B3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C4A9-BF5E-496A-B858-959F0D0D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40DE-321D-467E-8C97-FCF143B4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138-0C89-4C77-980F-A367FB40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B539-4AA1-41D6-89EB-89A1D34C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A011-59A1-477E-93C1-12694AE0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0C9E-EB8E-4E28-8EB9-655B3939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4B88-C0B9-40D7-932C-CFC963C6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0E1E-52B2-4FAC-9130-B61055CC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3852-6EB7-4273-B791-0167A171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F747-A393-4490-80ED-7C36A475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19AA-8C66-4E3E-879E-33CBC3D9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86CD-AB66-4A88-B778-69615AD5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B2C5-4ACC-4391-810C-0C94B713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8334-8FAB-4E98-8830-835CF075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DA63-3519-40FB-9C26-B002B05C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623E-0E1C-4E7A-834D-E89F43E7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C2A0-B920-415F-BE7F-96D598F5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DC15-8EDE-459E-9263-AB6B450C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B14-4C05-426C-82EB-F9F617AB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540-1A47-4C87-B267-3F503C46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EFC8-DC29-4BB3-83F8-5DD5E7AC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63AA-8FD4-4E6A-A31E-240BEF65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768-A838-48B9-98CA-EC7BCFFD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FDB-97DF-4DC0-BC8F-DED6AE3C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300A-9569-4CF0-AC0A-9C27031F6231}" type="slidenum">
              <a:rPr b="0" lang="pl-PL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Dowolny kształt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Dowolny kształt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Dowolny kształ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ostokąt ze ściętym i zaokrąglonym rogiem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rójkąt prostokątny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owolny kształt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owolny kształt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A0D4-2323-483A-BA0A-7D9A03D1BF9D}" type="slidenum">
              <a:rPr b="0" lang="pl-PL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ole tekstowe 1" descr=""/>
          <p:cNvPicPr/>
          <p:nvPr/>
        </p:nvPicPr>
        <p:blipFill>
          <a:blip r:embed="rId1"/>
          <a:stretch/>
        </p:blipFill>
        <p:spPr>
          <a:xfrm>
            <a:off x="334800" y="895320"/>
            <a:ext cx="8332920" cy="4687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s://encrypted-tbn1.gstatic.com/images?q=tbn:ANd9GcSVRYlmgnr1d05-Gim7rK21-oSzp-4zFq1FglqTpu3XhFOhW6CGVw"/>
          <p:cNvPicPr/>
          <p:nvPr/>
        </p:nvPicPr>
        <p:blipFill>
          <a:blip r:embed="rId2"/>
          <a:stretch/>
        </p:blipFill>
        <p:spPr>
          <a:xfrm>
            <a:off x="4200480" y="3840120"/>
            <a:ext cx="36752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upload.wikimedia.org/wikipedia/commons/thumb/3/38/Bisection.svg/250px-Bisection.svg.png"/>
          <p:cNvPicPr/>
          <p:nvPr/>
        </p:nvPicPr>
        <p:blipFill>
          <a:blip r:embed="rId1"/>
          <a:stretch/>
        </p:blipFill>
        <p:spPr>
          <a:xfrm>
            <a:off x="1571760" y="3286080"/>
            <a:ext cx="5398920" cy="3110040"/>
          </a:xfrm>
          <a:prstGeom prst="rect">
            <a:avLst/>
          </a:prstGeom>
          <a:ln w="0">
            <a:noFill/>
          </a:ln>
        </p:spPr>
      </p:pic>
      <p:sp>
        <p:nvSpPr>
          <p:cNvPr id="105" name="Prostokąt 4"/>
          <p:cNvSpPr/>
          <p:nvPr/>
        </p:nvSpPr>
        <p:spPr>
          <a:xfrm>
            <a:off x="285840" y="714240"/>
            <a:ext cx="8358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wusieczna kąta, to półprosta 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oczątku w wierzchołku kąta, która dzieli ten kąt na dwa kąty przystają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2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2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1447920" y="1219320"/>
            <a:ext cx="3961440" cy="4086720"/>
            <a:chOff x="1447920" y="1219320"/>
            <a:chExt cx="3961440" cy="4086720"/>
          </a:xfrm>
        </p:grpSpPr>
        <p:sp>
          <p:nvSpPr>
            <p:cNvPr id="107" name="Freeform 3"/>
            <p:cNvSpPr/>
            <p:nvPr/>
          </p:nvSpPr>
          <p:spPr>
            <a:xfrm>
              <a:off x="1890720" y="1683000"/>
              <a:ext cx="3505320" cy="320040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3200400"/>
                <a:gd name="textAreaBottom" fmla="*/ 3200760 h 3200400"/>
              </a:gdLst>
              <a:ahLst/>
              <a:rect l="textAreaLeft" t="textAreaTop" r="textAreaRight" b="textAreaBottom"/>
              <a:pathLst>
                <a:path w="2208" h="2016">
                  <a:moveTo>
                    <a:pt x="0" y="1392"/>
                  </a:moveTo>
                  <a:lnTo>
                    <a:pt x="2208" y="0"/>
                  </a:lnTo>
                  <a:lnTo>
                    <a:pt x="2160" y="2016"/>
                  </a:lnTo>
                  <a:lnTo>
                    <a:pt x="0" y="1392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1447920" y="1219320"/>
              <a:ext cx="3961440" cy="4086720"/>
              <a:chOff x="1447920" y="1219320"/>
              <a:chExt cx="3961440" cy="4086720"/>
            </a:xfrm>
          </p:grpSpPr>
          <p:grpSp>
            <p:nvGrpSpPr>
              <p:cNvPr id="109" name="Group 5"/>
              <p:cNvGrpSpPr/>
              <p:nvPr/>
            </p:nvGrpSpPr>
            <p:grpSpPr>
              <a:xfrm>
                <a:off x="1828800" y="1676520"/>
                <a:ext cx="3580560" cy="3195360"/>
                <a:chOff x="1828800" y="1676520"/>
                <a:chExt cx="3580560" cy="3195360"/>
              </a:xfrm>
            </p:grpSpPr>
            <p:grpSp>
              <p:nvGrpSpPr>
                <p:cNvPr id="110" name="Group 6"/>
                <p:cNvGrpSpPr/>
                <p:nvPr/>
              </p:nvGrpSpPr>
              <p:grpSpPr>
                <a:xfrm>
                  <a:off x="1904400" y="1676520"/>
                  <a:ext cx="3504960" cy="3195360"/>
                  <a:chOff x="1904400" y="1676520"/>
                  <a:chExt cx="3504960" cy="3195360"/>
                </a:xfrm>
              </p:grpSpPr>
              <p:sp>
                <p:nvSpPr>
                  <p:cNvPr id="111" name="Line 7"/>
                  <p:cNvSpPr/>
                  <p:nvPr/>
                </p:nvSpPr>
                <p:spPr>
                  <a:xfrm flipV="1">
                    <a:off x="1904400" y="1676520"/>
                    <a:ext cx="3504960" cy="2208240"/>
                  </a:xfrm>
                  <a:prstGeom prst="line">
                    <a:avLst/>
                  </a:prstGeom>
                  <a:ln w="381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8"/>
                  <p:cNvSpPr/>
                  <p:nvPr/>
                </p:nvSpPr>
                <p:spPr>
                  <a:xfrm>
                    <a:off x="1904400" y="3884760"/>
                    <a:ext cx="3375000" cy="987120"/>
                  </a:xfrm>
                  <a:prstGeom prst="line">
                    <a:avLst/>
                  </a:prstGeom>
                  <a:ln w="381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" name="Oval 9"/>
                <p:cNvSpPr/>
                <p:nvPr/>
              </p:nvSpPr>
              <p:spPr>
                <a:xfrm>
                  <a:off x="4952520" y="1828800"/>
                  <a:ext cx="151920" cy="15264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10"/>
                <p:cNvSpPr/>
                <p:nvPr/>
              </p:nvSpPr>
              <p:spPr>
                <a:xfrm>
                  <a:off x="1828800" y="3810240"/>
                  <a:ext cx="151920" cy="15228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Oval 11"/>
                <p:cNvSpPr/>
                <p:nvPr/>
              </p:nvSpPr>
              <p:spPr>
                <a:xfrm>
                  <a:off x="4419000" y="4572000"/>
                  <a:ext cx="152280" cy="15264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Text Box 12"/>
              <p:cNvSpPr/>
              <p:nvPr/>
            </p:nvSpPr>
            <p:spPr>
              <a:xfrm>
                <a:off x="1447920" y="35816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13"/>
              <p:cNvSpPr/>
              <p:nvPr/>
            </p:nvSpPr>
            <p:spPr>
              <a:xfrm>
                <a:off x="4876560" y="12193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14"/>
              <p:cNvSpPr/>
              <p:nvPr/>
            </p:nvSpPr>
            <p:spPr>
              <a:xfrm>
                <a:off x="4267080" y="4724640"/>
                <a:ext cx="380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Oval 15"/>
          <p:cNvSpPr/>
          <p:nvPr/>
        </p:nvSpPr>
        <p:spPr>
          <a:xfrm>
            <a:off x="152280" y="2057400"/>
            <a:ext cx="3581640" cy="358128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6"/>
          <p:cNvGrpSpPr/>
          <p:nvPr/>
        </p:nvGrpSpPr>
        <p:grpSpPr>
          <a:xfrm>
            <a:off x="3200400" y="2286000"/>
            <a:ext cx="1011240" cy="2858760"/>
            <a:chOff x="3200400" y="2286000"/>
            <a:chExt cx="1011240" cy="2858760"/>
          </a:xfrm>
        </p:grpSpPr>
        <p:sp>
          <p:nvSpPr>
            <p:cNvPr id="121" name="Oval 17"/>
            <p:cNvSpPr/>
            <p:nvPr/>
          </p:nvSpPr>
          <p:spPr>
            <a:xfrm>
              <a:off x="3352680" y="2819520"/>
              <a:ext cx="152280" cy="152280"/>
            </a:xfrm>
            <a:prstGeom prst="ellipse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8"/>
            <p:cNvSpPr/>
            <p:nvPr/>
          </p:nvSpPr>
          <p:spPr>
            <a:xfrm>
              <a:off x="3581280" y="4343400"/>
              <a:ext cx="152280" cy="152640"/>
            </a:xfrm>
            <a:prstGeom prst="ellipse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200400" y="2286000"/>
              <a:ext cx="650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B</a:t>
              </a:r>
              <a:r>
                <a:rPr b="1" lang="pl-PL" sz="3200" spc="-1" strike="noStrike" baseline="-25000">
                  <a:solidFill>
                    <a:srgbClr val="008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3429000" y="4496040"/>
              <a:ext cx="782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A</a:t>
              </a:r>
              <a:r>
                <a:rPr b="1" lang="pl-PL" sz="3200" spc="-1" strike="noStrike" baseline="-25000">
                  <a:solidFill>
                    <a:srgbClr val="008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21"/>
          <p:cNvSpPr/>
          <p:nvPr/>
        </p:nvSpPr>
        <p:spPr>
          <a:xfrm>
            <a:off x="1600200" y="1066680"/>
            <a:ext cx="3651120" cy="3651480"/>
          </a:xfrm>
          <a:prstGeom prst="ellips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2"/>
          <p:cNvSpPr/>
          <p:nvPr/>
        </p:nvSpPr>
        <p:spPr>
          <a:xfrm>
            <a:off x="1828800" y="2590920"/>
            <a:ext cx="3651120" cy="3651120"/>
          </a:xfrm>
          <a:prstGeom prst="ellips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Times New Roman"/>
              </a:rPr>
              <a:t>Konstrukcja dwusiecznej ką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867280" y="7621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3300"/>
                </a:solidFill>
                <a:latin typeface="Times New Roman"/>
              </a:rPr>
              <a:t>Opis konstruk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5791320" y="1071720"/>
            <a:ext cx="33526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. Dany jest kąt A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. Zakreślamy okrąg o środku S  i dowolnym promien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. Otrzymujemy punkty A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i B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przecięcia tego okręgu z ramionami ką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4. Konstruujemy symetralną odcinka A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 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5. Część wspólna tej symetralnej i kąta ASB jest poszukiwaną dwusieczn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Łącznik prosty 31"/>
          <p:cNvSpPr/>
          <p:nvPr/>
        </p:nvSpPr>
        <p:spPr>
          <a:xfrm flipV="1">
            <a:off x="214200" y="3214440"/>
            <a:ext cx="5857920" cy="92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Łącznik prosty 33"/>
          <p:cNvSpPr/>
          <p:nvPr/>
        </p:nvSpPr>
        <p:spPr>
          <a:xfrm>
            <a:off x="3428280" y="2971800"/>
            <a:ext cx="228600" cy="1371600"/>
          </a:xfrm>
          <a:prstGeom prst="line">
            <a:avLst/>
          </a:prstGeom>
          <a:ln w="424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rostokąt 1"/>
          <p:cNvSpPr/>
          <p:nvPr/>
        </p:nvSpPr>
        <p:spPr>
          <a:xfrm>
            <a:off x="357120" y="50004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żdy punkt dwusiecznej kąta jest jednakowo oddalony od ramion tego ką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www.interklasa.pl/portal/dokumenty/geom6/geometria6/prezentacja/obrazki/ka10.gif"/>
          <p:cNvPicPr/>
          <p:nvPr/>
        </p:nvPicPr>
        <p:blipFill>
          <a:blip r:embed="rId1"/>
          <a:stretch/>
        </p:blipFill>
        <p:spPr>
          <a:xfrm>
            <a:off x="500040" y="2359080"/>
            <a:ext cx="7680240" cy="342576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3"/>
          <p:cNvSpPr/>
          <p:nvPr/>
        </p:nvSpPr>
        <p:spPr>
          <a:xfrm>
            <a:off x="714240" y="58579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E| = |CD|, |FH| = |FG|, |KM| = |KL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rostokąt 1"/>
          <p:cNvSpPr/>
          <p:nvPr/>
        </p:nvSpPr>
        <p:spPr>
          <a:xfrm>
            <a:off x="357120" y="100008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adani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en z kątów trójkąta prostokątnego ma miarę 70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wusieczna tego kąta dzieli trójkąt na dwa trójkąty. Oblicz miary kątów tych trójkąt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rostokąt 2"/>
          <p:cNvSpPr/>
          <p:nvPr/>
        </p:nvSpPr>
        <p:spPr>
          <a:xfrm>
            <a:off x="357120" y="2214720"/>
            <a:ext cx="650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wiązanie: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ójkąt prostokątny podany w zadani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://dajspisac.pl/sites/default/files/dajs40.jpg"/>
          <p:cNvPicPr/>
          <p:nvPr/>
        </p:nvPicPr>
        <p:blipFill>
          <a:blip r:embed="rId1"/>
          <a:stretch/>
        </p:blipFill>
        <p:spPr>
          <a:xfrm>
            <a:off x="500040" y="2928960"/>
            <a:ext cx="5643720" cy="2533680"/>
          </a:xfrm>
          <a:prstGeom prst="rect">
            <a:avLst/>
          </a:prstGeom>
          <a:ln w="0">
            <a:noFill/>
          </a:ln>
        </p:spPr>
      </p:pic>
      <p:sp>
        <p:nvSpPr>
          <p:cNvPr id="138" name="Prostokąt 4"/>
          <p:cNvSpPr/>
          <p:nvPr/>
        </p:nvSpPr>
        <p:spPr>
          <a:xfrm>
            <a:off x="85716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=9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=7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=2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dajspisac.pl/sites/default/files/dajs41.jpg"/>
          <p:cNvPicPr/>
          <p:nvPr/>
        </p:nvPicPr>
        <p:blipFill>
          <a:blip r:embed="rId1"/>
          <a:stretch/>
        </p:blipFill>
        <p:spPr>
          <a:xfrm>
            <a:off x="2357280" y="785880"/>
            <a:ext cx="5322960" cy="2450880"/>
          </a:xfrm>
          <a:prstGeom prst="rect">
            <a:avLst/>
          </a:prstGeom>
          <a:ln w="0">
            <a:noFill/>
          </a:ln>
        </p:spPr>
      </p:pic>
      <p:sp>
        <p:nvSpPr>
          <p:cNvPr id="140" name="Prostokąt 2"/>
          <p:cNvSpPr/>
          <p:nvPr/>
        </p:nvSpPr>
        <p:spPr>
          <a:xfrm>
            <a:off x="214200" y="2928960"/>
            <a:ext cx="7858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 - dwusieczna ką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ymy miary kątów trójkąta AB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=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=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½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α=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ry kątów trójkąta AB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5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ymy miary kątów trójkąta AD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=2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½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=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2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ry kątów trójkąta AD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5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2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7T06:42:16Z</dcterms:created>
  <dc:creator>zdzisiek</dc:creator>
  <dc:description/>
  <dc:language>en-US</dc:language>
  <cp:lastModifiedBy>Ania</cp:lastModifiedBy>
  <dcterms:modified xsi:type="dcterms:W3CDTF">2013-07-10T06:21:37Z</dcterms:modified>
  <cp:revision>15</cp:revision>
  <dc:subject/>
  <dc:title>Slajd 1</dc:title>
</cp:coreProperties>
</file>