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0.png" ContentType="image/png"/>
  <Override PartName="/ppt/media/image6.jpeg" ContentType="image/jpeg"/>
  <Override PartName="/ppt/media/image11.wmf" ContentType="image/x-wmf"/>
  <Override PartName="/ppt/media/image3.png" ContentType="image/png"/>
  <Override PartName="/ppt/media/image7.png" ContentType="image/png"/>
  <Override PartName="/ppt/media/image15.wmf" ContentType="image/x-wmf"/>
  <Override PartName="/ppt/media/image12.wmf" ContentType="image/x-wmf"/>
  <Override PartName="/ppt/media/image4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.png" ContentType="image/png"/>
  <Override PartName="/ppt/media/image18.png" ContentType="image/png"/>
  <Override PartName="/ppt/media/image17.wmf" ContentType="image/x-wmf"/>
  <Override PartName="/ppt/media/image14.wmf" ContentType="image/x-wmf"/>
  <Override PartName="/ppt/media/image9.wmf" ContentType="image/x-wmf"/>
  <Override PartName="/ppt/media/image1.png" ContentType="image/png"/>
  <Override PartName="/ppt/media/image5.jpeg" ContentType="image/jpeg"/>
  <Override PartName="/ppt/media/image20.wmf" ContentType="image/x-wmf"/>
  <Override PartName="/ppt/media/image8.png" ContentType="image/png"/>
  <Override PartName="/ppt/media/image16.wmf" ContentType="image/x-wm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BD4B-EAD7-4046-AD61-C5FAD8E1E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15CA-0244-4FF8-9CF4-D27086C5E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8E17-8AA5-4EBC-BFBD-D211253E5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C306-D9B2-4BBD-A7A8-E3BA65269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0FB6F-7222-4079-AB8D-B3B69A6CD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8D67C-0DF9-40D5-A98D-A603B1407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44163-856F-49AC-9ED5-96447728C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2779F-04F8-4E82-8342-5BA9D8400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CF919-2DA2-4425-A6C3-83DA6A046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DFBED-EB61-4266-A92A-37E3341D8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899A1-6A72-4308-BEC2-B728EEA7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EFF9-44DB-4D69-BCFC-FB9735D37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704F0-2C20-4751-8D49-5D21AF850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78A2D-3510-460F-AC5F-DA44F3C72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49F7B-1313-4C7B-92DC-42C1A0544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2E956-D3CF-41E7-8FDA-9AA4FAD3A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55027-4480-473F-9C06-CB18D74C7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72966-825F-4E1D-B942-6D7A92795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BD4B9-0CAD-49EB-BEB6-A310C401B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95C9D-979B-4096-92D2-980A1B766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FF84D-6E44-4A77-91AB-C747C0921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8803B-12F1-43F7-85D4-A24733ABB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06E4-FBCD-4276-8309-90602C59E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B61F6-C208-4789-AFD5-EDD565ABD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9BED1-40DC-4383-81B9-E03D8A2E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454D6-1CDC-4985-AA71-E1D45819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64FEE-FF82-49B1-9454-6976E9D0F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26E62-939F-4E0F-8669-08AC88291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61D34-6EB3-41FD-A352-B08924BF1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4584B-2A1C-4CE8-8A81-EFB1DAF61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0E781-383C-4BCF-A27A-0E6988E7E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32CB2-762F-488D-8378-3329F0498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D80F1-6FA6-4148-A6AF-A4BE91E58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5652-E087-4491-8677-B03472173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DFB66-4DE2-4AC5-8388-773732D68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DF720-DECD-4190-9DF6-00BA91350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D4E4D-B948-4015-AB8B-BBE678B6B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ADD7B-E90C-46AB-8F97-A74ACDD3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25D0D-3C47-4024-A7FF-15F192B2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BCA61-C379-4777-88FA-B3E891444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DE66D-F92D-488A-B4C8-300E6659C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EE99F-AF00-4C6A-998C-008121CBF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FDCA8-3FAA-4B10-8342-83C87BCDB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62AD0E-028D-413B-B14E-C411A60DF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3ADE-B001-4171-8724-40F18462F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3CC4B-589F-4359-9FA5-2B0323CC2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BA44B-0E6C-4FF5-B556-86053E2E4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E12D28-C6EA-42A9-BA39-A6BB7774A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1048FA-C6C7-44D0-8F11-F5CCB9992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132EE-376A-4AB3-920B-94ECA8F84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27835-7BE1-4224-BED2-1677D0D29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ED164-CB3D-464B-9D0C-C5CCCF94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1F0129-6330-47BD-9FEF-C596F9FC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427325-AABA-4A41-B228-CA91F0D9C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BF0B78-9ECF-4680-9C76-0223662C0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2132-83C4-4E1F-8C03-7273054C9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99E2AE-7ADB-4C87-B123-2D82F7C5F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45E084-3208-4989-9C7C-1C9BD2FC4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840CD-6C1E-4AAA-8105-774B69C48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C2A387-3376-497A-B20A-4D3772E5E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53A412-69CB-48E4-B311-F3498461F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76A7CD-35A5-4864-B724-AC1F4D66C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817808-8A4F-4D07-810C-9492B2902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46BD81-75AD-44BD-9D34-2BC49C21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90CD73-87A1-4E52-85A7-5DDB9C920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A62082-52D8-4EB6-8279-8214D115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FB8D-E98B-4E9D-BCC6-3B8DB36A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ACE622-EB0C-4308-904F-E8D1E9647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5871C1-B912-4BA8-B79B-312178544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751AC9-440D-4582-AD6A-3AF2DB1F6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71A464-E9CB-45CD-90CF-F955B4B30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5537C3-4EB1-46EF-B5DD-F6DFF14A9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D101B0-57C7-4EF8-8342-BCB75C5E6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0253B0-427F-4A05-B4ED-3A890E6B4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7594E1-1833-45CF-A840-6915C16BB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21684D-32D9-46C1-AF66-989E71E40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E64A7F-89F8-4FC3-B0B3-303AD006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3987-C0C2-49F4-8C41-83B514F60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57ED6B-9684-4BE1-B26C-6594D7E8F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82828D-B081-4A72-88AD-BBEA7950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2FD0AE-7B49-4BCE-87ED-A929C72BE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E0050A-BA4A-43DC-8D6B-19ACD0FA0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EA9982-0465-4C7A-BC70-9CD6D3791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BD65F6-0327-4ACC-B76B-19B7ABA37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5C872A-E79A-40C2-8F64-E99F640B0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626631-FC43-46B7-B398-00580ADBF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234634-15A9-4CC4-80AA-D88DDA6CB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56CF52-6237-4949-B9CB-C6F1C85AC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0150-4114-4459-8BB2-D7C714A4C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9B57AA-1D0D-46E2-83AD-9924C09F4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5A7250-D5D6-45EA-BFB8-8F7B7D18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DAD388-721B-49EF-95C3-F1108252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89CFA5-208F-4B2B-B756-8880C6D6B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91717C-1204-4E90-B70F-73C16F34F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062155-78FE-4302-BDF7-80DC0E0EB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3FA7F5-578A-4454-A0D5-1768E2A14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Dowolny kształt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Dowolny kształt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Trójkąt prostokątny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Trójkąt prostokątny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Łącznik prostoliniowy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76F14-9513-403B-82A2-86E57E458809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rójkąt prostokątny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upa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Dowolny kształt 16"/>
            <p:cNvSpPr/>
            <p:nvPr/>
          </p:nvSpPr>
          <p:spPr>
            <a:xfrm>
              <a:off x="1694520" y="4952880"/>
              <a:ext cx="7449480" cy="48816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8160"/>
                <a:gd name="textAreaBottom" fmla="*/ 488520 h 48816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Dowolny kształt 18"/>
            <p:cNvSpPr/>
            <p:nvPr/>
          </p:nvSpPr>
          <p:spPr>
            <a:xfrm>
              <a:off x="44280" y="5237640"/>
              <a:ext cx="9099720" cy="788760"/>
            </a:xfrm>
            <a:custGeom>
              <a:avLst/>
              <a:gdLst>
                <a:gd name="textAreaLeft" fmla="*/ 0 w 9099720"/>
                <a:gd name="textAreaRight" fmla="*/ 9100080 w 9099720"/>
                <a:gd name="textAreaTop" fmla="*/ 0 h 788760"/>
                <a:gd name="textAreaBottom" fmla="*/ 789120 h 78876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Dowolny kształt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Dowolny kształt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64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Łącznik prostoliniowy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CA8C1-A189-4290-B6DB-6B1AD8FF0E1E}" type="slidenum"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owolny kształt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Dowolny kształt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Trójkąt prostokątny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Trójkąt prostokątny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Łącznik prostoliniowy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ag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Pag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C134F-B823-4E84-B058-491A60414D7C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Dowolny kształt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Dowolny kształt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Trójkąt prostokątny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Trójkąt prostokątny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Łącznik prostoliniowy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676CE-F585-4CDA-93DE-5A4C117B0861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1E91E-B31D-47CB-BE7D-F50E8D217EF8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Dowolny kształt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Dowolny kształt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Trójkąt prostokątny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Trójkąt prostokątny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Łącznik prostoliniowy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C8454-2C4F-4B0A-A053-4667BC8D5AC1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CD958-5553-46E4-8A0C-D22A4BB9BFDA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Dowolny kształt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Dowolny kształt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Trójkąt prostokątny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Trójkąt prostokątny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Łącznik prostoliniowy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ag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Pag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4BD77-6B6F-4640-87C3-5A1F0C324803}" type="slidenum"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ytuł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808344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3" descr=""/>
          <p:cNvPicPr/>
          <p:nvPr/>
        </p:nvPicPr>
        <p:blipFill>
          <a:blip r:embed="rId2"/>
          <a:stretch/>
        </p:blipFill>
        <p:spPr>
          <a:xfrm>
            <a:off x="825480" y="1481040"/>
            <a:ext cx="74930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2" descr=""/>
          <p:cNvPicPr/>
          <p:nvPr/>
        </p:nvPicPr>
        <p:blipFill>
          <a:blip r:embed="rId2"/>
          <a:stretch/>
        </p:blipFill>
        <p:spPr>
          <a:xfrm>
            <a:off x="825480" y="1481040"/>
            <a:ext cx="74930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2" descr=""/>
          <p:cNvPicPr/>
          <p:nvPr/>
        </p:nvPicPr>
        <p:blipFill>
          <a:blip r:embed="rId2"/>
          <a:stretch/>
        </p:blipFill>
        <p:spPr>
          <a:xfrm>
            <a:off x="1258920" y="1916280"/>
            <a:ext cx="6745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2" descr=""/>
          <p:cNvPicPr/>
          <p:nvPr/>
        </p:nvPicPr>
        <p:blipFill>
          <a:blip r:embed="rId2"/>
          <a:stretch/>
        </p:blipFill>
        <p:spPr>
          <a:xfrm>
            <a:off x="816120" y="1481040"/>
            <a:ext cx="7511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"/>
          <p:cNvPicPr/>
          <p:nvPr/>
        </p:nvPicPr>
        <p:blipFill>
          <a:blip r:embed="rId2"/>
          <a:stretch/>
        </p:blipFill>
        <p:spPr>
          <a:xfrm>
            <a:off x="1158840" y="1481040"/>
            <a:ext cx="6826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2" descr=""/>
          <p:cNvPicPr/>
          <p:nvPr/>
        </p:nvPicPr>
        <p:blipFill>
          <a:blip r:embed="rId2"/>
          <a:stretch/>
        </p:blipFill>
        <p:spPr>
          <a:xfrm>
            <a:off x="457200" y="1625760"/>
            <a:ext cx="8229600" cy="42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"/>
          <p:cNvPicPr/>
          <p:nvPr/>
        </p:nvPicPr>
        <p:blipFill>
          <a:blip r:embed="rId2"/>
          <a:stretch/>
        </p:blipFill>
        <p:spPr>
          <a:xfrm>
            <a:off x="623880" y="1481040"/>
            <a:ext cx="78962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2" descr=""/>
          <p:cNvPicPr/>
          <p:nvPr/>
        </p:nvPicPr>
        <p:blipFill>
          <a:blip r:embed="rId2"/>
          <a:stretch/>
        </p:blipFill>
        <p:spPr>
          <a:xfrm>
            <a:off x="457200" y="1486080"/>
            <a:ext cx="8229600" cy="45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2" descr=""/>
          <p:cNvPicPr/>
          <p:nvPr/>
        </p:nvPicPr>
        <p:blipFill>
          <a:blip r:embed="rId2"/>
          <a:stretch/>
        </p:blipFill>
        <p:spPr>
          <a:xfrm>
            <a:off x="457200" y="2171880"/>
            <a:ext cx="8229600" cy="31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2" descr=""/>
          <p:cNvPicPr/>
          <p:nvPr/>
        </p:nvPicPr>
        <p:blipFill>
          <a:blip r:embed="rId2"/>
          <a:stretch/>
        </p:blipFill>
        <p:spPr>
          <a:xfrm>
            <a:off x="465120" y="1481040"/>
            <a:ext cx="8213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" descr=""/>
          <p:cNvPicPr/>
          <p:nvPr/>
        </p:nvPicPr>
        <p:blipFill>
          <a:blip r:embed="rId2"/>
          <a:stretch/>
        </p:blipFill>
        <p:spPr>
          <a:xfrm>
            <a:off x="457200" y="2271600"/>
            <a:ext cx="822960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2" descr=""/>
          <p:cNvPicPr/>
          <p:nvPr/>
        </p:nvPicPr>
        <p:blipFill>
          <a:blip r:embed="rId2"/>
          <a:stretch/>
        </p:blipFill>
        <p:spPr>
          <a:xfrm>
            <a:off x="457200" y="1798560"/>
            <a:ext cx="8229600" cy="38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2" descr=""/>
          <p:cNvPicPr/>
          <p:nvPr/>
        </p:nvPicPr>
        <p:blipFill>
          <a:blip r:embed="rId2"/>
          <a:stretch/>
        </p:blipFill>
        <p:spPr>
          <a:xfrm>
            <a:off x="1004760" y="1481040"/>
            <a:ext cx="7134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10T06:27:13Z</dcterms:created>
  <dc:creator>Ania</dc:creator>
  <dc:description/>
  <dc:language>en-US</dc:language>
  <cp:lastModifiedBy>Ania</cp:lastModifiedBy>
  <dcterms:modified xsi:type="dcterms:W3CDTF">2013-07-10T06:49:14Z</dcterms:modified>
  <cp:revision>9</cp:revision>
  <dc:subject/>
  <dc:title>POTĘGI I PIERWIASTKI</dc:title>
</cp:coreProperties>
</file>