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ABF-D113-4351-ADCA-F3E433DF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2E5-06DF-47F1-8061-9CEDD4DB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49588-DA04-4875-B09F-530F57E5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91095-1291-46CD-9499-D184B9B0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6C9BB-6723-4FA5-95A9-38CB5C9B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C7959-D95B-4DF5-A3A8-2936F11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3385D-0E07-41C3-B8BE-8C28FA3E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3A02C-FC2B-4CD8-A34B-06B0C379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47867-5196-4236-B71D-953776B8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2FA1D-8B3D-4162-A602-9B45DA13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7F198-41C4-4790-9B8D-1623C0C5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AD800-4D8C-43EF-BC5D-F2672A2F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9E3-0A43-46EB-8E37-ACFAB888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F5297-768C-46EA-969C-0D338FC0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91885-000C-4DEB-9E0A-6293EFED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845C4-8036-4079-A165-69F010CC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65C9A-7C8E-4D52-B3C2-47768D30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41BEE-4405-457D-A246-B2BA033F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B6D33-C6FA-400C-968F-6109AB75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8D40A-A59E-4FD4-A1A4-FE217C29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2B65E-445D-43A2-B0F6-294F317D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1F0A7-A4F8-4090-83D1-7412458A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D4ABA-E92D-4E81-B7E8-15533DC4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29E-C22A-4981-883C-E23F3E79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EC194-1C21-45E2-9D48-0454324C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7B30F-54EB-41F0-9C33-2F83D6B2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85B43-8D8C-48C9-A648-E5308641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1399D-71DE-44F5-A94A-9D98D64F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19F0C-7573-411B-8F53-44C5F438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9BC7D-56E4-4F38-B9DC-680A1867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8A2DC-1CFD-4422-85C7-D967AD49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194EE-7D76-4D6F-8F2C-B6088003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373F8-4B92-44B9-80A0-26966D24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3F173-9907-4D79-8243-F4965ED9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CF31-61C6-43E5-B35D-6CF28519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40383-82DD-4B7D-AB49-6CBCAF97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D84A1-26FA-4616-AB8A-80AD77FC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F70A5-8E40-4626-9B2C-78345C4F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6CD54-CE3E-48B5-BFE6-7E182DA8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0849D-3379-4C1E-8237-2DC1DA4E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5A5F7-1642-44B4-9101-62C090FA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30E33-0647-496C-BDBD-710C6057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FA73C-E9E3-476F-8236-4FD3CA18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BB4C9-DD22-4373-B47F-39F93A69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DA16A-E2D5-4427-9B98-AE5BE148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ADFE-A5DB-49B5-A953-FDC4F233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B0542-067C-4FC5-AE23-4D432762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F8F74-8A80-4A98-A149-933EA136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433F4-0267-4B5A-AE71-45AC91C0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8E2F0-7AC6-4C2B-BD00-F9EF23C3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07709-5C72-476C-9DD6-09FB5E06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C858-EF07-498D-AD9A-6759C6B7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03B5-00DD-4374-AC1B-A92BDF0F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F629-6B68-4ECE-9A68-E5EDE99F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0AC8-61BA-4868-86C0-BD4850BC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5976-2994-4648-BCF2-D632B441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8B5-56AC-4264-B14D-9DEA51F3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8D78-A02C-48D5-BEE3-143DE930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552A-CA37-4E4B-8E2D-7F1CEA9E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302A-967D-4DCC-9A8C-60F587BD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01F8-E822-48E1-AEDE-F85F802E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A6F8-4126-4C9F-A8F8-28AD8145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1A37-E3A3-46C5-9B4A-BAA4A9F2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577FD-A51B-4C08-A646-5ADB41E5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BC1A9-D76C-4DB4-A781-0A2E13B9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16FA3-73AB-4B48-8B5A-CBABE795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7330-7D1E-47DC-9E8B-290BA9D4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B00-0BC5-4FD0-A97B-D0B24791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2B68-6370-403D-BDF8-5325ABBE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E0E61-4AF9-46B1-A246-1DB3F8BB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88BD-3F4D-400C-96FA-BEF0809B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181B-00A0-4088-8C52-A52EDAA2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F45B0-0B53-45C8-B4BC-6169EF34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96EA-BEDA-4AC9-9A4A-DEE13298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23AD-CE03-42F3-963C-B93142E5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8DB27-A065-477D-9DE3-63385549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BC8C-FFD7-4329-A9C6-35D5430A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E2A67-1DD4-4A78-AF13-2F1A5E28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F08-D917-4BE8-8868-6C8701F8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7F382-5C30-4C6A-BB5E-7C6EB8BD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33704-D33F-497E-A97D-F5478C04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F9898-16FD-4BE9-8901-F2951F74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738AE-C5CA-428B-B13D-834DE147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11EDB-D641-4741-A756-6D2E6F74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0970A-B222-4C1B-A7C6-38DF5DED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83A8-94E7-4B35-860F-2FB4E59B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5A625-C1A3-4FF4-8473-5C07269C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0C6E8-3BDB-4187-B3B6-1B0D572D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D3E29-AA71-4175-81FD-15E11C50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028-D9A0-4100-8D8E-FFFDD793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44B0-2342-4458-A712-BD02B23A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CECA8-E63C-4E8A-B1D9-18797DA4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B7120-6F5C-405F-B43D-26ACF126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BAB29-2660-4ADC-A452-2930562B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BE881-22AF-4E5F-95AB-A95BAAAD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A2E73-09B7-4D4E-9366-81435F97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6FD06-1FB6-4A22-AD86-3F83F8A0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12A46-93AA-4D89-92BA-0CB925A5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FF985-E60B-4618-85A6-8A4E0E0D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BD723-A665-43CB-9F5E-0B6984CD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281-F3F6-47CA-AB38-514881BF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A0569-5D4C-4EC5-8542-D152456F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AE085-8A45-42C8-A208-570330F6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C9FD1-051D-45DD-8716-29171AE8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71D65-0A8B-435B-A26D-5ECE1949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49E08-76EE-4A8C-84C6-DA2BA3E5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B83E6-FA4B-4D7C-AA56-BDAC9B2F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E85A3-DE64-42F3-8A36-AD3C69B8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5B928-CEE5-4B14-A786-F3AFCE55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91278-5B26-4A4E-91E4-AF93CCC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E8301-6829-4D75-A8E7-0AB22E62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FEF-0CA2-4242-9055-5EA1C084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4171A-E4F5-46AE-AC9A-B0735A0D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A0828-879F-420E-828A-82EF7D82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9F43-AE26-4184-AAA3-171AC6F0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47119-B302-4B04-BCFD-2A5D8466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F9DC8-0552-4DCA-8763-F9283512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5772F-842D-414A-A0EB-CC8B58C7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293FA-12DF-4329-BC8C-2C1255AB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93E2A-0ADE-4AAE-831F-C2F2AC9D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55019-FA6A-4C60-938C-DD9F44FC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B4725-1DC0-456B-871A-DADC5F18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B3B-2986-4B87-BB28-14F7C88F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4286D-851C-44F6-8928-15230C36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FBA66-5DA8-468F-9459-5740D883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7BFC3-87AD-449C-AFB8-6D6E6081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8F855-B6A1-4359-9A7C-31E0852A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4DEF4-BD35-4503-B4CB-19F2E499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7C8AB-9F73-49EF-A869-EC207559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322F9-8BEF-48F0-85A6-DBB061A2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66F15-45C8-41BC-A333-C81930D0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1510C-5A60-4C7B-87A6-8551FF5F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3C084-059D-42C5-BDD1-6BDF6939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779-5CC5-44AF-B507-ADE198D0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2072B-661E-4D3D-A9C6-A06E9B5D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7BB5C-3777-4036-99F2-3BC81DE1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CDD65-1A77-4EA5-88B5-2A0912D7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22EC7-9942-4AAF-9172-3A506053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01A6A-740F-44CC-BA20-0048E00E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F3D58-7786-4AF0-8ED5-4BD16177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BF1BC-6527-4A4B-8EEB-F00E1D19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A918E-D4FC-471C-8C42-1322C334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BE999-D0BB-4609-A4DE-33588D13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5B142-E26B-432C-BBDA-27CEE046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936C-4485-42EC-BD9D-151A6B4044C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8EBA-A9DA-4FDB-9BF3-A8DD6BA8CAF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1BAF-F178-4988-B8D5-9592C1E187C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A835-4AEA-4C05-83E7-95BA35C396C5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4E27-2824-4E5F-8A58-3BF3BD8AF2F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2B55-8C89-47EC-B9BF-0CCC2EDC17B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600F-3553-44A3-82D9-37C7110C9FDC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DB9E-8B38-4C05-B217-11D69FCC1F75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2673-4C21-47AD-B76C-147C8D6F3D85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4849-8298-4E17-A445-B6A8BF2DE9B5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BF51-6C4F-4661-9179-CA734EDFDFAB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2E3C-9DD9-491F-A2C6-564CB73B9485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&amp;esrc=s&amp;frm=1&amp;source=images&amp;cd=&amp;cad=rja&amp;docid=x3O5PxcZ9wWfUM&amp;tbnid=JHO74gw_xqNUDM:&amp;ved=0CAUQjRw&amp;url=http%3A%2F%2Fwww.cauchy.pl%2Fmatura%2Fp_2006_11_p%2F5%2Findex.php&amp;ei=-qCaUcP2JcfnswbJ84GoBg&amp;bvm=bv.46751780,d.Yms&amp;psig=AFQjCNFssyByw83TLltqo_bdrGcZk9xnLA&amp;ust=1369174614896921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4055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Symetrie w układzie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4"/>
          <p:cNvSpPr/>
          <p:nvPr/>
        </p:nvSpPr>
        <p:spPr>
          <a:xfrm>
            <a:off x="1187280" y="404640"/>
            <a:ext cx="756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y mają równe drugie współrzędne, a pierwsze współrzędne 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i P’=(-x,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y, to punktem symetrycznym do niego względem osi y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początku układu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rostokąt 2"/>
          <p:cNvSpPr/>
          <p:nvPr/>
        </p:nvSpPr>
        <p:spPr>
          <a:xfrm>
            <a:off x="1042920" y="3213000"/>
            <a:ext cx="7561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początku układu współrzędny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29" name="Elipsa 24"/>
          <p:cNvSpPr/>
          <p:nvPr/>
        </p:nvSpPr>
        <p:spPr>
          <a:xfrm>
            <a:off x="4454640" y="1052640"/>
            <a:ext cx="46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25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ipsa 26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27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Elipsa 28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lipsa 29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Łącznik prosty 30"/>
          <p:cNvSpPr/>
          <p:nvPr/>
        </p:nvSpPr>
        <p:spPr>
          <a:xfrm>
            <a:off x="4211640" y="1089000"/>
            <a:ext cx="550800" cy="2664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Elipsa 31"/>
          <p:cNvSpPr/>
          <p:nvPr/>
        </p:nvSpPr>
        <p:spPr>
          <a:xfrm>
            <a:off x="471636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Łącznik prosty 32"/>
          <p:cNvSpPr/>
          <p:nvPr/>
        </p:nvSpPr>
        <p:spPr>
          <a:xfrm flipH="1">
            <a:off x="3924000" y="1628640"/>
            <a:ext cx="1103400" cy="1513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Elipsa 33"/>
          <p:cNvSpPr/>
          <p:nvPr/>
        </p:nvSpPr>
        <p:spPr>
          <a:xfrm>
            <a:off x="392436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Łącznik prosty 34"/>
          <p:cNvSpPr/>
          <p:nvPr/>
        </p:nvSpPr>
        <p:spPr>
          <a:xfrm flipH="1" flipV="1">
            <a:off x="3459240" y="1884240"/>
            <a:ext cx="2031840" cy="1044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Elipsa 35"/>
          <p:cNvSpPr/>
          <p:nvPr/>
        </p:nvSpPr>
        <p:spPr>
          <a:xfrm>
            <a:off x="3419640" y="1844640"/>
            <a:ext cx="4572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Łącznik prosty 36"/>
          <p:cNvSpPr/>
          <p:nvPr/>
        </p:nvSpPr>
        <p:spPr>
          <a:xfrm flipV="1">
            <a:off x="3708360" y="1341000"/>
            <a:ext cx="1584360" cy="2158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Elipsa 37"/>
          <p:cNvSpPr/>
          <p:nvPr/>
        </p:nvSpPr>
        <p:spPr>
          <a:xfrm>
            <a:off x="5292720" y="1268280"/>
            <a:ext cx="442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Elipsa 38"/>
          <p:cNvSpPr/>
          <p:nvPr/>
        </p:nvSpPr>
        <p:spPr>
          <a:xfrm flipH="1">
            <a:off x="291636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Łącznik prosty 39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40"/>
          <p:cNvSpPr/>
          <p:nvPr/>
        </p:nvSpPr>
        <p:spPr>
          <a:xfrm>
            <a:off x="541800" y="4437000"/>
            <a:ext cx="75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początku układu współrzęd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ą punkty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Łącznik prosty 55"/>
          <p:cNvSpPr/>
          <p:nvPr/>
        </p:nvSpPr>
        <p:spPr>
          <a:xfrm flipH="1" flipV="1">
            <a:off x="4460400" y="1091880"/>
            <a:ext cx="39960" cy="2624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Elipsa 59"/>
          <p:cNvSpPr/>
          <p:nvPr/>
        </p:nvSpPr>
        <p:spPr>
          <a:xfrm>
            <a:off x="4454640" y="371628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rostokąt 63" descr=""/>
          <p:cNvPicPr/>
          <p:nvPr/>
        </p:nvPicPr>
        <p:blipFill>
          <a:blip r:embed="rId2"/>
          <a:stretch/>
        </p:blipFill>
        <p:spPr>
          <a:xfrm>
            <a:off x="2249640" y="4979880"/>
            <a:ext cx="4627440" cy="2067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"/>
          <p:cNvSpPr/>
          <p:nvPr/>
        </p:nvSpPr>
        <p:spPr>
          <a:xfrm>
            <a:off x="999720" y="356400"/>
            <a:ext cx="7326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spółrzędne punktów symetrycznych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zględem początku układu współrzędn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 P’=(-x,-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2314"/>
                </a:solidFill>
                <a:latin typeface="Gill Sans MT"/>
              </a:rPr>
              <a:t>Pomysły zadań i ćwiczeń zostały zaczerpnięte z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Prostokąt 2"/>
          <p:cNvSpPr/>
          <p:nvPr/>
        </p:nvSpPr>
        <p:spPr>
          <a:xfrm>
            <a:off x="1042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matematyka.opracowania.pl/gimnazjum/symetrie_w_uk%C5%82adzie_wsp%C3%B3%C5%82rz%C4%99dnyc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rostokąt 3"/>
          <p:cNvSpPr/>
          <p:nvPr/>
        </p:nvSpPr>
        <p:spPr>
          <a:xfrm>
            <a:off x="1042920" y="2276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mana6.pl/tablice_matematyczne/liceum/geometria_analityczna/62-uklad_wspolrze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rostokąt 4"/>
          <p:cNvSpPr/>
          <p:nvPr/>
        </p:nvSpPr>
        <p:spPr>
          <a:xfrm>
            <a:off x="1024200" y="2997360"/>
            <a:ext cx="45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h.edu.pl/uklad-kartezja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rostokąt 5"/>
          <p:cNvSpPr/>
          <p:nvPr/>
        </p:nvSpPr>
        <p:spPr>
          <a:xfrm>
            <a:off x="1008000" y="3357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iki.wolnepodreczniki.pl/Matematyka:Gimnazjum/Kartezja%C5%84ski_uk%C5%82ad_wsp%C3%B3%C5%82rz%C4%99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572314"/>
                </a:solidFill>
                <a:latin typeface="Gill Sans MT"/>
              </a:rPr>
              <a:t>Prostokątny układ współrzędny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ole tekstowe 9"/>
          <p:cNvSpPr/>
          <p:nvPr/>
        </p:nvSpPr>
        <p:spPr>
          <a:xfrm>
            <a:off x="1042920" y="36464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Ćwiczen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kreśl położenie Multik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0"/>
          <p:cNvSpPr/>
          <p:nvPr/>
        </p:nvSpPr>
        <p:spPr>
          <a:xfrm>
            <a:off x="1042920" y="14130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czego służ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układ współrzędny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C:\Users\temp\Desktop\PPWK_Wloclawek_A4.jpg"/>
          <p:cNvPicPr/>
          <p:nvPr/>
        </p:nvPicPr>
        <p:blipFill>
          <a:blip r:embed="rId1"/>
          <a:stretch/>
        </p:blipFill>
        <p:spPr>
          <a:xfrm>
            <a:off x="4427640" y="1284120"/>
            <a:ext cx="4427280" cy="5384880"/>
          </a:xfrm>
          <a:prstGeom prst="rect">
            <a:avLst/>
          </a:prstGeom>
          <a:ln w="0">
            <a:noFill/>
          </a:ln>
        </p:spPr>
      </p:pic>
      <p:sp>
        <p:nvSpPr>
          <p:cNvPr id="563" name="pole tekstowe 5"/>
          <p:cNvSpPr/>
          <p:nvPr/>
        </p:nvSpPr>
        <p:spPr>
          <a:xfrm>
            <a:off x="1698480" y="551664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dpowied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3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8"/>
          <p:cNvSpPr/>
          <p:nvPr/>
        </p:nvSpPr>
        <p:spPr>
          <a:xfrm>
            <a:off x="890280" y="256716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kł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Tesco leży w kwadracie 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ostokąt 2"/>
          <p:cNvSpPr/>
          <p:nvPr/>
        </p:nvSpPr>
        <p:spPr>
          <a:xfrm>
            <a:off x="104292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określenia położenia punktu na płaszczyźnie używamy prostokątnego układu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9"/>
          <p:cNvSpPr/>
          <p:nvPr/>
        </p:nvSpPr>
        <p:spPr>
          <a:xfrm>
            <a:off x="1042920" y="98100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ostokątny układ współrzędnych tworzą dwie prostopadłe osie liczbowe, które dzielą płaszczyznę na cztery ćwiartki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 przecięcia się osi nazywamy początkiem układu współrzę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"/>
          <p:cNvPicPr/>
          <p:nvPr/>
        </p:nvPicPr>
        <p:blipFill>
          <a:blip r:embed="rId4"/>
          <a:stretch/>
        </p:blipFill>
        <p:spPr>
          <a:xfrm>
            <a:off x="3852720" y="981000"/>
            <a:ext cx="4748400" cy="4408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8"/>
          <p:cNvSpPr/>
          <p:nvPr/>
        </p:nvSpPr>
        <p:spPr>
          <a:xfrm>
            <a:off x="1150920" y="5292000"/>
            <a:ext cx="77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ierwszą liczbą  jest  współrzędna x, którą odczytujemy na osi poziomej x (oś odcięty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rugą liczbą jest współrzędna y, którą odczytujemy na osi pionowej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ś rzędnych)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rostokąt 13"/>
          <p:cNvSpPr/>
          <p:nvPr/>
        </p:nvSpPr>
        <p:spPr>
          <a:xfrm>
            <a:off x="1042920" y="375120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ołożenie punktu w układzie współrzędnych określamy za pomocą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pl-PL" sz="1800" spc="-1" strike="noStrike">
                <a:solidFill>
                  <a:srgbClr val="000000"/>
                </a:solidFill>
                <a:latin typeface="Gill Sans MT"/>
              </a:rPr>
              <a:t>P=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http://www.matmana6.pl/zdjecia/szkola_srednia/geometria_analityczna/uklad_wspolrzednych_6.png"/>
          <p:cNvPicPr/>
          <p:nvPr/>
        </p:nvPicPr>
        <p:blipFill>
          <a:blip r:embed="rId1"/>
          <a:stretch/>
        </p:blipFill>
        <p:spPr>
          <a:xfrm>
            <a:off x="2914560" y="262080"/>
            <a:ext cx="3962520" cy="3273120"/>
          </a:xfrm>
          <a:prstGeom prst="rect">
            <a:avLst/>
          </a:prstGeom>
          <a:ln w="0">
            <a:noFill/>
          </a:ln>
        </p:spPr>
      </p:pic>
      <p:sp>
        <p:nvSpPr>
          <p:cNvPr id="571" name="Prostokąt 4"/>
          <p:cNvSpPr/>
          <p:nvPr/>
        </p:nvSpPr>
        <p:spPr>
          <a:xfrm>
            <a:off x="1042920" y="36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pasuj do punktów ich współrzę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B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5"/>
          <p:cNvSpPr/>
          <p:nvPr/>
        </p:nvSpPr>
        <p:spPr>
          <a:xfrm>
            <a:off x="992520" y="18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wiczen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Grupa 5" descr=""/>
          <p:cNvPicPr/>
          <p:nvPr/>
        </p:nvPicPr>
        <p:blipFill>
          <a:blip r:embed="rId2"/>
          <a:stretch/>
        </p:blipFill>
        <p:spPr>
          <a:xfrm>
            <a:off x="184140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4" name="Grupa 8" descr=""/>
          <p:cNvPicPr/>
          <p:nvPr/>
        </p:nvPicPr>
        <p:blipFill>
          <a:blip r:embed="rId3"/>
          <a:stretch/>
        </p:blipFill>
        <p:spPr>
          <a:xfrm>
            <a:off x="184140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75" name="Grupa 14" descr=""/>
          <p:cNvPicPr/>
          <p:nvPr/>
        </p:nvPicPr>
        <p:blipFill>
          <a:blip r:embed="rId4"/>
          <a:stretch/>
        </p:blipFill>
        <p:spPr>
          <a:xfrm>
            <a:off x="1841400" y="421812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6" name="Grupa 17" descr=""/>
          <p:cNvPicPr/>
          <p:nvPr/>
        </p:nvPicPr>
        <p:blipFill>
          <a:blip r:embed="rId5"/>
          <a:stretch/>
        </p:blipFill>
        <p:spPr>
          <a:xfrm>
            <a:off x="42670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7" name="Grupa 20" descr=""/>
          <p:cNvPicPr/>
          <p:nvPr/>
        </p:nvPicPr>
        <p:blipFill>
          <a:blip r:embed="rId6"/>
          <a:stretch/>
        </p:blipFill>
        <p:spPr>
          <a:xfrm>
            <a:off x="4290840" y="4870440"/>
            <a:ext cx="1665360" cy="811080"/>
          </a:xfrm>
          <a:prstGeom prst="rect">
            <a:avLst/>
          </a:prstGeom>
          <a:ln w="0">
            <a:noFill/>
          </a:ln>
        </p:spPr>
      </p:pic>
      <p:pic>
        <p:nvPicPr>
          <p:cNvPr id="578" name="Grupa 23" descr=""/>
          <p:cNvPicPr/>
          <p:nvPr/>
        </p:nvPicPr>
        <p:blipFill>
          <a:blip r:embed="rId7"/>
          <a:stretch/>
        </p:blipFill>
        <p:spPr>
          <a:xfrm>
            <a:off x="4290840" y="4218120"/>
            <a:ext cx="1665360" cy="817560"/>
          </a:xfrm>
          <a:prstGeom prst="rect">
            <a:avLst/>
          </a:prstGeom>
          <a:ln w="0">
            <a:noFill/>
          </a:ln>
        </p:spPr>
      </p:pic>
      <p:pic>
        <p:nvPicPr>
          <p:cNvPr id="579" name="Grupa 26" descr=""/>
          <p:cNvPicPr/>
          <p:nvPr/>
        </p:nvPicPr>
        <p:blipFill>
          <a:blip r:embed="rId8"/>
          <a:stretch/>
        </p:blipFill>
        <p:spPr>
          <a:xfrm>
            <a:off x="66628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80" name="Grupa 29" descr=""/>
          <p:cNvPicPr/>
          <p:nvPr/>
        </p:nvPicPr>
        <p:blipFill>
          <a:blip r:embed="rId9"/>
          <a:stretch/>
        </p:blipFill>
        <p:spPr>
          <a:xfrm>
            <a:off x="666288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81" name="Grupa 32" descr=""/>
          <p:cNvPicPr/>
          <p:nvPr/>
        </p:nvPicPr>
        <p:blipFill>
          <a:blip r:embed="rId10"/>
          <a:stretch/>
        </p:blipFill>
        <p:spPr>
          <a:xfrm>
            <a:off x="6662880" y="4218120"/>
            <a:ext cx="1670040" cy="817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rostokąt 6"/>
          <p:cNvSpPr/>
          <p:nvPr/>
        </p:nvSpPr>
        <p:spPr>
          <a:xfrm>
            <a:off x="1041480" y="2622600"/>
            <a:ext cx="76341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osi 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http://www.cauchy.pl/matura/p_2006_11_p/5/uklad_wspolrzednyc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pic>
        <p:nvPicPr>
          <p:cNvPr id="585" name="Prostokąt 7" descr=""/>
          <p:cNvPicPr/>
          <p:nvPr/>
        </p:nvPicPr>
        <p:blipFill>
          <a:blip r:embed="rId3"/>
          <a:stretch/>
        </p:blipFill>
        <p:spPr>
          <a:xfrm>
            <a:off x="2828880" y="4748040"/>
            <a:ext cx="4619520" cy="2067120"/>
          </a:xfrm>
          <a:prstGeom prst="rect">
            <a:avLst/>
          </a:prstGeom>
          <a:ln w="0">
            <a:noFill/>
          </a:ln>
        </p:spPr>
      </p:pic>
      <p:sp>
        <p:nvSpPr>
          <p:cNvPr id="586" name="Elipsa 10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lipsa 11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lipsa 12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lipsa 13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lipsa 14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lipsa 15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Łącznik prosty 17"/>
          <p:cNvSpPr/>
          <p:nvPr/>
        </p:nvSpPr>
        <p:spPr>
          <a:xfrm>
            <a:off x="4492800" y="1114560"/>
            <a:ext cx="7920" cy="2601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Elipsa 18"/>
          <p:cNvSpPr/>
          <p:nvPr/>
        </p:nvSpPr>
        <p:spPr>
          <a:xfrm>
            <a:off x="4454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Łącznik prosty 20"/>
          <p:cNvSpPr/>
          <p:nvPr/>
        </p:nvSpPr>
        <p:spPr>
          <a:xfrm flipH="1">
            <a:off x="4211640" y="1063800"/>
            <a:ext cx="6480" cy="26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Elipsa 21"/>
          <p:cNvSpPr/>
          <p:nvPr/>
        </p:nvSpPr>
        <p:spPr>
          <a:xfrm>
            <a:off x="4211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Łącznik prosty 23"/>
          <p:cNvSpPr/>
          <p:nvPr/>
        </p:nvSpPr>
        <p:spPr>
          <a:xfrm flipH="1">
            <a:off x="5003640" y="1617840"/>
            <a:ext cx="6480" cy="1595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Elipsa 24"/>
          <p:cNvSpPr/>
          <p:nvPr/>
        </p:nvSpPr>
        <p:spPr>
          <a:xfrm>
            <a:off x="500364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Łącznik prosty 30"/>
          <p:cNvSpPr/>
          <p:nvPr/>
        </p:nvSpPr>
        <p:spPr>
          <a:xfrm flipV="1">
            <a:off x="5573880" y="1844640"/>
            <a:ext cx="6120" cy="109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ipsa 33"/>
          <p:cNvSpPr/>
          <p:nvPr/>
        </p:nvSpPr>
        <p:spPr>
          <a:xfrm>
            <a:off x="5533920" y="184464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Łącznik prosty 35"/>
          <p:cNvSpPr/>
          <p:nvPr/>
        </p:nvSpPr>
        <p:spPr>
          <a:xfrm flipV="1">
            <a:off x="3700440" y="1341360"/>
            <a:ext cx="7920" cy="209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36"/>
          <p:cNvSpPr/>
          <p:nvPr/>
        </p:nvSpPr>
        <p:spPr>
          <a:xfrm>
            <a:off x="3662280" y="1268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rostokąt 37"/>
          <p:cNvSpPr/>
          <p:nvPr/>
        </p:nvSpPr>
        <p:spPr>
          <a:xfrm>
            <a:off x="1246680" y="443880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x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rostokąt 3"/>
          <p:cNvSpPr/>
          <p:nvPr/>
        </p:nvSpPr>
        <p:spPr>
          <a:xfrm>
            <a:off x="1116000" y="189000"/>
            <a:ext cx="7128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Gill Sans MT"/>
              </a:rPr>
              <a:t>Uwag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x mają równe pierwsze współrzędne, a drugie współrzędne są liczbami przeciwnymi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P’=(x,-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x, to punktem symetrycznym do niego względem osi x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772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3900"/>
            </a:b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względem osi 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rostokąt 2"/>
          <p:cNvSpPr/>
          <p:nvPr/>
        </p:nvSpPr>
        <p:spPr>
          <a:xfrm>
            <a:off x="1403280" y="2921040"/>
            <a:ext cx="7416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danie 2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07" name="Elipsa 5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lipsa 6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lipsa 7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lipsa 8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ipsa 9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lipsa 10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Łącznik prosty 13"/>
          <p:cNvSpPr/>
          <p:nvPr/>
        </p:nvSpPr>
        <p:spPr>
          <a:xfrm>
            <a:off x="4211640" y="1089000"/>
            <a:ext cx="550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14"/>
          <p:cNvSpPr/>
          <p:nvPr/>
        </p:nvSpPr>
        <p:spPr>
          <a:xfrm>
            <a:off x="4716360" y="1052640"/>
            <a:ext cx="46080" cy="7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Łącznik prosty 15"/>
          <p:cNvSpPr/>
          <p:nvPr/>
        </p:nvSpPr>
        <p:spPr>
          <a:xfrm flipH="1">
            <a:off x="3995640" y="1617840"/>
            <a:ext cx="1014480" cy="1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lipsa 16"/>
          <p:cNvSpPr/>
          <p:nvPr/>
        </p:nvSpPr>
        <p:spPr>
          <a:xfrm>
            <a:off x="3924360" y="155736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Łącznik prosty 17"/>
          <p:cNvSpPr/>
          <p:nvPr/>
        </p:nvSpPr>
        <p:spPr>
          <a:xfrm flipH="1">
            <a:off x="3425400" y="2935440"/>
            <a:ext cx="2148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Elipsa 18"/>
          <p:cNvSpPr/>
          <p:nvPr/>
        </p:nvSpPr>
        <p:spPr>
          <a:xfrm>
            <a:off x="3419640" y="2924280"/>
            <a:ext cx="4572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Łącznik prosty 19"/>
          <p:cNvSpPr/>
          <p:nvPr/>
        </p:nvSpPr>
        <p:spPr>
          <a:xfrm>
            <a:off x="3708360" y="3465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lipsa 20"/>
          <p:cNvSpPr/>
          <p:nvPr/>
        </p:nvSpPr>
        <p:spPr>
          <a:xfrm>
            <a:off x="5219640" y="342900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lipsa 29"/>
          <p:cNvSpPr/>
          <p:nvPr/>
        </p:nvSpPr>
        <p:spPr>
          <a:xfrm>
            <a:off x="287028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Łącznik prosty 30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rostokąt 33"/>
          <p:cNvSpPr/>
          <p:nvPr/>
        </p:nvSpPr>
        <p:spPr>
          <a:xfrm>
            <a:off x="1116000" y="43671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y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rostokąt 34" descr=""/>
          <p:cNvPicPr/>
          <p:nvPr/>
        </p:nvPicPr>
        <p:blipFill>
          <a:blip r:embed="rId2"/>
          <a:stretch/>
        </p:blipFill>
        <p:spPr>
          <a:xfrm>
            <a:off x="2073240" y="4681440"/>
            <a:ext cx="4619520" cy="2060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8:39:31Z</dcterms:created>
  <dc:creator>temp</dc:creator>
  <dc:description/>
  <dc:language>en-US</dc:language>
  <cp:lastModifiedBy>Ania</cp:lastModifiedBy>
  <dcterms:modified xsi:type="dcterms:W3CDTF">2013-05-27T20:44:52Z</dcterms:modified>
  <cp:revision>58</cp:revision>
  <dc:subject/>
  <dc:title>Symetrie w układzie współrzędnych</dc:title>
</cp:coreProperties>
</file>