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643B-68DE-4E54-9ECD-0DF1127E965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rto zwrócić uwagę uczniów na fakt, że zgodnie z definicją równoważne są dowolne dwa równania sprzeczne oraz dowolne dwa równania równoważ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F9EC-44CB-47DA-9966-6282DF86B12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79F-12C4-4A56-B78E-B81EA3AD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9AA-42F9-471D-AEE8-B8D9FCB7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F53A-0618-4254-AC70-A4BE0147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DEAD-7074-4F4B-B3A4-FB58253C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CDA4-796B-435B-BB1E-E1408FF5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3F76-61EE-4126-A4CB-A6704C36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647C-C06C-4F93-BB68-4AA71799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1A09-26DA-4B01-B24F-CB66B3E4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C302-E5E5-4D8C-9737-6023C680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C133-70ED-4AA7-9FBF-F0129BF4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8335-3301-4715-87D8-109DBEBD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AF4A-1ACA-4A5D-A082-16B06299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B5F6-E699-4D6A-AAAD-67C1F061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6BD7-361C-445D-93DC-53C167BC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47E5-FA13-4572-BE36-0DBEB82C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3427-4205-46B5-9002-2CE83089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65A0-BFBB-4EAF-82DA-62532018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84788-F311-40F8-9F14-D44B27A8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52E48-2A88-47EF-AFC3-B721BA26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5E784-16B0-4091-B66A-39CD6491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222BD-91CA-4ED4-8242-3BFBC4A8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1A393-7E5D-4049-BBF6-DE67C1CF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2357-D734-4B98-95E9-34F6FF5E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04821-B81E-4EEA-9262-C7FCE410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97BA6-D48E-457B-8BD5-B919F2C4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5B961-64DB-4344-8414-25720B0F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AC4D6-AEA9-4D66-95D1-2C89AA20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6D79B-93C3-4B34-A638-85C313F9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C7D2B-EF9A-4737-90BD-91D42088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79AE2-D217-4AC7-B26C-F857FF63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917BB-78E9-498E-87EA-207BB6AE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A506B-F495-4028-A09A-1296BEBC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9DAD4-227A-4D9B-9F56-CEDFD2CC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051-9BCA-4A7C-8FD5-47FDC36D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278D3-BFAE-4028-B3EC-C483D39B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B1426-2547-4173-A70E-A79E03A1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7D6BE-DE92-4F50-BAE8-79F27337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C0EB9-3B1F-4BDC-8D6F-1CA2DB41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228B2-AB73-4B3E-AAC8-1B5E8273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625C9-7204-43D5-903B-F81D85CF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4CDE1-2006-4CC5-AAA8-33E6BFD5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DFBAD-34E6-432B-A1AF-CF299972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1D94B-4969-4DFE-B345-644A812A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881-C335-429E-AA1B-83AB9C9F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EBCD-49B9-4FA3-9085-F06E9193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454B-59F1-4312-A2FD-A8A7EB5D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D54-7C73-4A01-B9C2-93D56E94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0E6-2583-4770-BB81-5A12FB7A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BD59-7F35-4894-AF94-01F2A13E6C80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5A69-F051-4AF3-A016-4A4256C69896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8742-E56D-41BB-B89E-522C47905036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1F2D-8754-4AC8-9B22-F7711ED8CB7C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ytuł 1" descr=""/>
          <p:cNvPicPr/>
          <p:nvPr/>
        </p:nvPicPr>
        <p:blipFill>
          <a:blip r:embed="rId1"/>
          <a:stretch/>
        </p:blipFill>
        <p:spPr>
          <a:xfrm>
            <a:off x="669960" y="3121200"/>
            <a:ext cx="7321680" cy="2377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143000" y="731880"/>
            <a:ext cx="64008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, którego nie spełnia żadna liczba, nazywamy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m sprzecznym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rzykłady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 + 3 = x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 – 4 = x + 4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042920" y="692280"/>
            <a:ext cx="6400800" cy="536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Zbiór rozwiązań równania, 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to zbiór wszystkich liczb spełniających dane równanie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Zadanie: Dwa spośród poniższych równań mają ten sam zbiór rozwiązań. Wskaż te równania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x + 3 = 6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x + 3 = 0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2x = -6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x</a:t>
            </a:r>
            <a:r>
              <a:rPr b="0" lang="pl-PL" sz="25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 = 9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143000" y="731520"/>
            <a:ext cx="64008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Jeśli dwa równania mają ten sam zbiór rozwiązań, to nazywamy je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ami równoważnymi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Napisz po dwa równania równoważne podanym równaniom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y – 5 = 8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0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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a = 6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 + 5 = 5 + x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43000" y="731880"/>
            <a:ext cx="6400800" cy="536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4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. Napisz jakieś skomplikowane równanie, którego rozwiązaniem jest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4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twój numer domu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4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umer twojego buta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4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wymyślona przez ciebie liczba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Bibliografia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Matematyka z plusem 1; wyd. GWO; Gdańsk 2009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Zeszyt ćwiczeń 1; wyd. GWO; Gdańsk 2009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Opracowała: Anna Jąkalsk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143000" y="475920"/>
            <a:ext cx="6400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Liczby, które spełniają równanie nazywamy rozwiązaniem równania lub pierwiastkami równania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4x+2=10 ma jedno rozwiązanie. Pierwiastkiem tego równania jest liczba 2, gdyż 4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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+2=10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ma jedno rozwiązanie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ymbol zastępczy zawartości 2"/>
          <p:cNvSpPr/>
          <p:nvPr/>
        </p:nvSpPr>
        <p:spPr>
          <a:xfrm>
            <a:off x="1403280" y="981000"/>
            <a:ext cx="64008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a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9 ma dwa pierwiastki: 3 i -3, gdyż 3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= 9 </a:t>
            </a:r>
            <a:br>
              <a:rPr sz="3200"/>
            </a:b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i (-3)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9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ma dwa rozwiązania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ymbol zastępczy zawartości 2"/>
          <p:cNvSpPr/>
          <p:nvPr/>
        </p:nvSpPr>
        <p:spPr>
          <a:xfrm>
            <a:off x="1332000" y="692280"/>
            <a:ext cx="6400800" cy="55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x(x+1)(x-2)=0 ma trzy rozwiązania: 0, -1 i 2, gdyż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0(x+1)(x-2)=0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(-1+1)(x-2)=0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(x+1)(2-2)=0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ma trzy rozwiązania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143000" y="731880"/>
            <a:ext cx="6400800" cy="47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odaj równanie które ma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cztery rozwiązani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p. (z+1)(z+2)(z+3)(z+5)=0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ięć pierwiastków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p. (z+1)(z+2)(z+3)(z+5)(z+6)=0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142640" y="404640"/>
            <a:ext cx="6885000" cy="60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3x + 2 = x + 2x + 2 ma nieskończenie wiele rozwiązań (spełnia je każda liczba)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spełnia każda liczba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143000" y="731520"/>
            <a:ext cx="6400800" cy="528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, które spełniają wszystkie liczby, nazywamy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m tożsamościowym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rzykłady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x = x + x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0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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a = 0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99640" y="731520"/>
            <a:ext cx="75596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36040" indent="-49356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x ma nieskończenie wiele rozwiązań (spełniają je liczby nieujemne), np.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1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2,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0 itd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6040" indent="-49356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ie jest to równanie tożsamościowe,          gdyż liczby ujemne nie są jego rozwiązaniem, bo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-1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1,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-4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4 itd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6040" indent="-49356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ma nieskończenie wiele rozwiązań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6040" indent="-49356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143000" y="731880"/>
            <a:ext cx="6400800" cy="543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m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-9 nie ma rozwiązań (żadna liczba go nie spełnia), gdyż kwadrat każdej liczby rzeczywistej jest liczbą nieujemn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nie ma rozwiązań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7:30:30Z</dcterms:created>
  <dc:creator>Ania</dc:creator>
  <dc:description/>
  <dc:language>en-US</dc:language>
  <cp:lastModifiedBy>Ania</cp:lastModifiedBy>
  <dcterms:modified xsi:type="dcterms:W3CDTF">2013-06-11T17:56:16Z</dcterms:modified>
  <cp:revision>102</cp:revision>
  <dc:subject/>
  <dc:title>RÓWNANIA</dc:title>
</cp:coreProperties>
</file>