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B041-C5ED-4293-B1E3-3B8BC03D83F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zwrócić uwagę uczniów, że dwa z podanych wyrażeń pasują do jednego prostoką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3792-7D8B-4887-8248-4E2625BCE1B1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ed przystąpieniem do rozwiązania zadań warto porozmawiać z uczniami na temat ich wieku i wieku ich rodzeństwa oraz rodzic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E26C-2CDA-4E1B-94A4-528148603AD6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nim podamy uczniom zadanie. Zapytajmy ich: ile lat mieli trzy lata temu, a ile będą mieli za trzy lata? Pozwoli to gimnazjalistom lepiej zrozumieć treść zad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AA48-504B-4038-8029-FB07A7D33DE7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zasugerować uczniom, że odrzucimy tylko jedno z podanych wyraże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A768-BCD5-41EE-9B7E-83EB9E74F605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łaściwe rozwiązanie x=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55BD-3A59-4948-8C55-A604D92D2BB6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CE8-B030-4BB4-B8DB-20A17F34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735-7BC2-4A9F-889E-BB4F0B55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DD9-F030-40F6-90FF-AAD05F75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557-EDCD-4588-A703-2038EAC3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3F98-D175-4E45-9E0C-BEAB3A8A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C3C8-8635-4B64-B19A-A3D90FBC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5075-772D-481C-B31A-9994AC9E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CD05-154E-4987-9FA9-0EB3FC87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D5E8-8B45-4F05-B488-3B189D27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4CB8-738F-4B40-A770-C1A97C39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D601-65CC-4DFE-9DB4-71999D9D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3FB-6052-4A22-A29D-7A5940EF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9531-5B4D-47AD-84B0-770D641E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5581-D3BD-45D0-983C-FBEE3F14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46A7-0A8D-4A6C-8B3B-104638A3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A260-246C-4623-9A04-2A78B3B0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5D7B-E023-4D76-802F-B6B24869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5F95-75B0-41E0-81C6-48A1074F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34B1-5DD4-45B6-94A7-0C5B1E77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BF688-044B-4076-AE7E-9AB02BCD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03F16-BC37-49BB-B381-543F9541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108DC-DB65-44D6-A923-015ACD1E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82B-0E26-4E66-9FD5-933B3062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1F1C7-4ED4-4772-9970-ABAA17A1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C9210-300B-4EE2-996E-AF8EB9FE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6F123-84C3-4EAC-98C1-AA0E50D9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F3603-FD7D-44E2-9C6E-339B26A4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0C3B3-B1F0-4E6F-BA00-DE4AF9B6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3C134-7AEA-4F5B-B153-841809FE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B1DF-B165-4460-A4F6-FC745425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83C31-809C-4E7B-9A1F-7E442245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B5F9-8869-497A-A128-D8B31F63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8C9F-4F2E-4531-A6BF-968F7392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A20-C053-4944-A10E-E7638062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C07C6-B5DD-415F-B19D-7ED82769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1997F-7380-484A-A47D-DC1C5443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4431-B117-4C05-B70E-1DAEDAB0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B08D-F84D-4C46-9649-0ADC66B5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D7D84-EBFC-4911-A0AB-813D8A3D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5A22A-88ED-4CEA-8F51-6485353E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8EBB-9EBE-4AB2-9108-09738FAE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90E72-3775-4842-BF61-5C7B844C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C963A-89A9-4EB8-B8AB-2F504472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9E515-7807-406E-94EF-67B1C133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B0F-783E-49E8-9013-B3F48461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D5B1C-BD11-439A-AD23-C73A46E3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E88B4-B42B-4467-ADEA-2ED92324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DC12D-E724-412A-82AE-9A99CF09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2DFB1-384D-408F-A84E-3AB3F130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8C44-789E-4080-83CE-0363D5A4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14CFA-CE14-4C74-A59C-1D1C8BB2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5BAC1-ACA9-4382-B86B-04178281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A40E1-17AA-4499-ABDC-FCBC32F2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F4340-D131-4C40-8568-08AE0719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4BA1-D51B-49FA-8568-FCAC493F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732-EA70-4C79-BAE7-59A9EDBB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E051C-A26A-4F56-B442-FF223962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5A655-382B-40E4-9209-D2F517AE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A7088-A829-4572-9A83-B877CAAA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D62D0-1EB5-4B73-A742-82ED927F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D8FC5-D094-4F09-A89C-B2722097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C05FA-85EC-46AD-A5C8-4075CA16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2F13F-B5D8-4013-BC61-0EE85204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437EC-E030-4321-9079-43AC21FE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801B6-8EA3-45D7-83E3-DE53FC17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2F9D4-0756-4D6A-9F9E-8DBB04A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85E-E863-4EDB-A833-6C4BE285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F5AA6-6782-4969-96CC-E750D974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529E0-86F3-431A-864E-1929602E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2F778-FED7-4137-852A-29898496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730F1-1114-48D8-A925-EE4526C3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51393-19B2-4317-83A0-FB33E1F8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E41C6-BA53-4A56-8849-782F28DA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CB2CA-9A9F-4D86-891D-69DEB107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C6180-1811-45E0-8367-5DCAFA57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7E995-3D6F-43DD-83BB-86254B82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28CD7-7665-469F-9775-D5389D53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B5C-93D5-41EA-B401-8A31A3F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6C45A-BDD7-4773-9788-85C7C262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3805A-DC07-47F4-9DAA-DD888152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2E93F-9AA7-44B4-AAD1-0EEDF553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365A0-DC99-420D-8F27-46D0AA87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5B937-9406-474F-92AA-C8BCC028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8D3-0B79-4810-9D18-0400408E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4430-18EE-480B-B767-5AA21C0DE32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86DB-62E9-4793-B975-9A9072A6573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2C8A-24AA-4626-AEC1-B01A06BB83B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55C1-435B-4997-8399-7E3523C5248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0613-AF8D-4D90-AD46-BDC3B8F9251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DAB9-3E48-4914-B97E-D5BFC1CB3B1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1942-E976-467D-AD10-65753F359C4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Jedno zadanie – kilka rozwiązań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Zadania dotyczące „wieku”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to inny przykład zadania i kilka sposobów jego rozwiąz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danie 2. Tomek ma 14 lat, a jego mama 38. Oblicz kiedy mama była od Tomka pięć razy starsza. 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amiętaj! Jak mamie przybędzie lat, to Tomkowi również i to tyle samo co mamie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71560" y="1700280"/>
            <a:ext cx="740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zanie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. Analiza zadani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arto zadanie to podzielić na dwie części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Tomek ma 14 lat, a jego mama 38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ytania pomocnicze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Ile osób występuje w zadaniu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Ile okresów czasu pojawia się w zadaniu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Co oznaczymy przez niewiadomą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871560" y="2060280"/>
            <a:ext cx="7408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403280" y="3284640"/>
          <a:ext cx="457200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m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78" name="Łącznik prostoliniowy 5"/>
          <p:cNvSpPr/>
          <p:nvPr/>
        </p:nvSpPr>
        <p:spPr>
          <a:xfrm>
            <a:off x="1403280" y="3284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9" name="Łącznik prostoliniowy 7"/>
          <p:cNvSpPr/>
          <p:nvPr/>
        </p:nvSpPr>
        <p:spPr>
          <a:xfrm flipV="1">
            <a:off x="1403280" y="328428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0" name="pole tekstowe 9"/>
          <p:cNvSpPr/>
          <p:nvPr/>
        </p:nvSpPr>
        <p:spPr>
          <a:xfrm>
            <a:off x="1763640" y="479124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 lat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pole tekstowe 10"/>
          <p:cNvSpPr/>
          <p:nvPr/>
        </p:nvSpPr>
        <p:spPr>
          <a:xfrm>
            <a:off x="5796000" y="4822920"/>
            <a:ext cx="129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pole tekstowe 11"/>
          <p:cNvSpPr/>
          <p:nvPr/>
        </p:nvSpPr>
        <p:spPr>
          <a:xfrm>
            <a:off x="1692360" y="553572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-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pole tekstowe 12"/>
          <p:cNvSpPr/>
          <p:nvPr/>
        </p:nvSpPr>
        <p:spPr>
          <a:xfrm>
            <a:off x="3851280" y="4791240"/>
            <a:ext cx="129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7960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ole tekstowe 14"/>
          <p:cNvSpPr/>
          <p:nvPr/>
        </p:nvSpPr>
        <p:spPr>
          <a:xfrm>
            <a:off x="3564000" y="571500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x lat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6" name="pole tekstowe 15"/>
          <p:cNvSpPr/>
          <p:nvPr/>
        </p:nvSpPr>
        <p:spPr>
          <a:xfrm>
            <a:off x="5580000" y="553572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+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7" name="pole tekstowe 16"/>
          <p:cNvSpPr/>
          <p:nvPr/>
        </p:nvSpPr>
        <p:spPr>
          <a:xfrm>
            <a:off x="7164360" y="534528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+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8" name="pole tekstowe 17"/>
          <p:cNvSpPr/>
          <p:nvPr/>
        </p:nvSpPr>
        <p:spPr>
          <a:xfrm>
            <a:off x="7380360" y="47912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-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9" name="pole tekstowe 18"/>
          <p:cNvSpPr/>
          <p:nvPr/>
        </p:nvSpPr>
        <p:spPr>
          <a:xfrm>
            <a:off x="6438960" y="363708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(14-x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pole tekstowe 19"/>
          <p:cNvSpPr/>
          <p:nvPr/>
        </p:nvSpPr>
        <p:spPr>
          <a:xfrm>
            <a:off x="7304040" y="419256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(38-x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8360" y="1916280"/>
            <a:ext cx="842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=5(14 – x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x = 5(38 – x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x = 5(14+x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+x = 38 – x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=5(14 – x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dp. Mama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     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lat temu była 5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684360" y="1557000"/>
            <a:ext cx="74088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332000" y="2655720"/>
          <a:ext cx="4572000" cy="1113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m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96" name="Łącznik prostoliniowy 7"/>
          <p:cNvSpPr/>
          <p:nvPr/>
        </p:nvSpPr>
        <p:spPr>
          <a:xfrm>
            <a:off x="1346040" y="2690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Łącznik prostoliniowy 15"/>
          <p:cNvSpPr/>
          <p:nvPr/>
        </p:nvSpPr>
        <p:spPr>
          <a:xfrm flipH="1">
            <a:off x="1318680" y="2690640"/>
            <a:ext cx="151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8" name="pole tekstowe 9"/>
          <p:cNvSpPr/>
          <p:nvPr/>
        </p:nvSpPr>
        <p:spPr>
          <a:xfrm>
            <a:off x="1427040" y="407664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 + y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9" name="pole tekstowe 9"/>
          <p:cNvSpPr/>
          <p:nvPr/>
        </p:nvSpPr>
        <p:spPr>
          <a:xfrm>
            <a:off x="1427040" y="4869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 – y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0" name="pole tekstowe 9"/>
          <p:cNvSpPr/>
          <p:nvPr/>
        </p:nvSpPr>
        <p:spPr>
          <a:xfrm>
            <a:off x="142704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+y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1" name="pole tekstowe 9"/>
          <p:cNvSpPr/>
          <p:nvPr/>
        </p:nvSpPr>
        <p:spPr>
          <a:xfrm>
            <a:off x="327672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– y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2" name="pole tekstowe 9"/>
          <p:cNvSpPr/>
          <p:nvPr/>
        </p:nvSpPr>
        <p:spPr>
          <a:xfrm>
            <a:off x="3429000" y="486900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ecnie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3" name="pole tekstowe 9"/>
          <p:cNvSpPr/>
          <p:nvPr/>
        </p:nvSpPr>
        <p:spPr>
          <a:xfrm>
            <a:off x="5437080" y="4869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4" name="pole tekstowe 9"/>
          <p:cNvSpPr/>
          <p:nvPr/>
        </p:nvSpPr>
        <p:spPr>
          <a:xfrm>
            <a:off x="358128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5" name="pole tekstowe 9"/>
          <p:cNvSpPr/>
          <p:nvPr/>
        </p:nvSpPr>
        <p:spPr>
          <a:xfrm>
            <a:off x="529272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y lat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6" name="pole tekstowe 9"/>
          <p:cNvSpPr/>
          <p:nvPr/>
        </p:nvSpPr>
        <p:spPr>
          <a:xfrm>
            <a:off x="543708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y lat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7" name="pole tekstowe 9"/>
          <p:cNvSpPr/>
          <p:nvPr/>
        </p:nvSpPr>
        <p:spPr>
          <a:xfrm>
            <a:off x="716436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(14 + y)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8" name="pole tekstowe 9"/>
          <p:cNvSpPr/>
          <p:nvPr/>
        </p:nvSpPr>
        <p:spPr>
          <a:xfrm>
            <a:off x="7164360" y="489096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(38 + y)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4920" y="1844280"/>
            <a:ext cx="8497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y =2(14 – y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y = 2(38 – 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= 2(14+y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+y = 38 – y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= 2(14+y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dp. Za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lat mama będzie 2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1557000"/>
            <a:ext cx="740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obecny wiek mam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obecny wiek Tom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– wiek mamy x lat temu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x – wiek Tomka x lat temu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627280" y="4292640"/>
          <a:ext cx="3097080" cy="1828800"/>
        </p:xfrm>
        <a:graphic>
          <a:graphicData uri="http://schemas.openxmlformats.org/drawingml/2006/table">
            <a:tbl>
              <a:tblPr/>
              <a:tblGrid>
                <a:gridCol w="1549440"/>
                <a:gridCol w="154764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rowSpan="5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38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x lat temu mama była 5 razy starsza od Tomka. Zatem pięciokrotność wieku Tomka x lat temu daje wiek matki x lat temu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tąd: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5(14 – x) = 38 – x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obecny wiek mam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obecny wiek Tom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– wiek mamy za y l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+ y – wiek Tomka za y l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92360" y="5013360"/>
          <a:ext cx="3024000" cy="74124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14 +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38 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za y lat mama będzie 2 razy starsza od Tomka. Zatem dwukrotność wieku Tomka za y lat daje wiek matki za y la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tąd: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(14 + y) = 38 + y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1700280"/>
            <a:ext cx="740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Analiza treści zadania (po dokładnym zapoznaniu się 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 treścią zadania ustalamy niewiadomą, wykorzystując ją 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 używając danych układamy wyrażenia arytmetyczne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 algebraiczne, które ilustrują treść zadania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Ułożenie równania (szukamy dwóch wyrażeń, z których co najmniej jedno zawiera niewiadomą, przedstawiających tę samą wielkość i stawiamy między nimi znak równości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zanie równ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pisanie odpowiedzi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Plan rozwiązania zadania z treści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871560" y="1413000"/>
            <a:ext cx="7408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ypełnijmy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tabelkę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276720" y="1989000"/>
          <a:ext cx="5256000" cy="4389480"/>
        </p:xfrm>
        <a:graphic>
          <a:graphicData uri="http://schemas.openxmlformats.org/drawingml/2006/table">
            <a:tbl>
              <a:tblPr/>
              <a:tblGrid>
                <a:gridCol w="1751040"/>
                <a:gridCol w="1752480"/>
                <a:gridCol w="1752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Tom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ma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bec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ok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 laty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Liczby  6 i 30 spełniają warunki zadania, bo 6 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∙ 5= 30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tem </a:t>
            </a:r>
            <a:r>
              <a:rPr b="0" lang="pl-PL" sz="2400" spc="-1" strike="noStrike">
                <a:solidFill>
                  <a:srgbClr val="c00000"/>
                </a:solidFill>
                <a:latin typeface="Candara"/>
              </a:rPr>
              <a:t>8 lat temu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ama była 5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71560" y="1484280"/>
            <a:ext cx="7408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ypełnijmy tabelkę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780000" y="2060640"/>
          <a:ext cx="5111640" cy="4449600"/>
        </p:xfrm>
        <a:graphic>
          <a:graphicData uri="http://schemas.openxmlformats.org/drawingml/2006/table">
            <a:tbl>
              <a:tblPr/>
              <a:tblGrid>
                <a:gridCol w="1704960"/>
                <a:gridCol w="1703160"/>
                <a:gridCol w="17035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Tom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ma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bec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2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3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4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5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6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7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8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9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10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Liczby z ostatniego wiersza spełniają warunki zadania, gdyż 24 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∙ 2 = 4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Zatem </a:t>
            </a:r>
            <a:r>
              <a:rPr b="0" lang="pl-PL" sz="2400" spc="-1" strike="noStrike">
                <a:solidFill>
                  <a:srgbClr val="c00000"/>
                </a:solidFill>
                <a:latin typeface="Cambria Math"/>
                <a:ea typeface="Cambria Math"/>
              </a:rPr>
              <a:t>za 10 lat mama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 będzie 2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ezentacji zostały wykorzystane zadania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z podręcznika GWO MATEMATYKA Z PLUSE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pracowała: Anna Jąkals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73e87"/>
                </a:solidFill>
                <a:latin typeface="Candara"/>
              </a:rPr>
              <a:t>Zadnia dotyczące wieku sprawiają nie mały kłopot gimnazjalistom. Oto kilka sposobów, które ułatwią zrozumienie </a:t>
            </a:r>
            <a:br>
              <a:rPr sz="3200"/>
            </a:br>
            <a:r>
              <a:rPr b="0" lang="pl-PL" sz="3200" spc="-1" strike="noStrike">
                <a:solidFill>
                  <a:srgbClr val="073e87"/>
                </a:solidFill>
                <a:latin typeface="Candara"/>
              </a:rPr>
              <a:t>i rozwiązanie tego typu zadań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Zadania dotyczące „wieku”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danie 1. Za 3 lata Grześ będzie 3 razy starszy niż 3 lata temu. Ile lat ma Grześ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zanie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Analiza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Pytania pomocnicze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le osób występuje w zadaniu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le okresów czasu pojawia się w zadaniu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Co oznaczymy przez niewiadomą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163520" y="3284640"/>
          <a:ext cx="6096240" cy="10080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rze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352" name="pole tekstowe 5"/>
          <p:cNvSpPr/>
          <p:nvPr/>
        </p:nvSpPr>
        <p:spPr>
          <a:xfrm>
            <a:off x="6875640" y="529920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3 lat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3" name="pole tekstowe 7"/>
          <p:cNvSpPr/>
          <p:nvPr/>
        </p:nvSpPr>
        <p:spPr>
          <a:xfrm>
            <a:off x="2987640" y="512604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- 3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pole tekstowe 8"/>
          <p:cNvSpPr/>
          <p:nvPr/>
        </p:nvSpPr>
        <p:spPr>
          <a:xfrm>
            <a:off x="4859280" y="472428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+3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5" name="pole tekstowe 9"/>
          <p:cNvSpPr/>
          <p:nvPr/>
        </p:nvSpPr>
        <p:spPr>
          <a:xfrm>
            <a:off x="2843280" y="457056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(x+3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6" name="pole tekstowe 10"/>
          <p:cNvSpPr/>
          <p:nvPr/>
        </p:nvSpPr>
        <p:spPr>
          <a:xfrm>
            <a:off x="4836960" y="5299200"/>
            <a:ext cx="1368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 lata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pole tekstowe 11"/>
          <p:cNvSpPr/>
          <p:nvPr/>
        </p:nvSpPr>
        <p:spPr>
          <a:xfrm>
            <a:off x="6875640" y="478800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(x-3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pole tekstowe 12"/>
          <p:cNvSpPr/>
          <p:nvPr/>
        </p:nvSpPr>
        <p:spPr>
          <a:xfrm>
            <a:off x="1268280" y="5094360"/>
            <a:ext cx="1368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pole tekstowe 13"/>
          <p:cNvSpPr/>
          <p:nvPr/>
        </p:nvSpPr>
        <p:spPr>
          <a:xfrm>
            <a:off x="1268280" y="4573440"/>
            <a:ext cx="1368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Łącznik prostoliniowy 2"/>
          <p:cNvSpPr/>
          <p:nvPr/>
        </p:nvSpPr>
        <p:spPr>
          <a:xfrm>
            <a:off x="1219320" y="3284640"/>
            <a:ext cx="14176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1" name="Łącznik prostoliniowy 6"/>
          <p:cNvSpPr/>
          <p:nvPr/>
        </p:nvSpPr>
        <p:spPr>
          <a:xfrm flipV="1">
            <a:off x="1219320" y="3284640"/>
            <a:ext cx="14176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(x-3)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-3=3(x+3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x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3x=x-3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(x-3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Odp. Grześ ma 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     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 lat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1773000"/>
            <a:ext cx="7408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x – obecny wiek Grzes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trzykrotność wieku Grzesia trzy lata temu daje jego wiek za trzy lat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tem: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3(x – 3) = x +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403280" y="2708280"/>
          <a:ext cx="3097440" cy="1112760"/>
        </p:xfrm>
        <a:graphic>
          <a:graphicData uri="http://schemas.openxmlformats.org/drawingml/2006/table">
            <a:tbl>
              <a:tblPr/>
              <a:tblGrid>
                <a:gridCol w="1548000"/>
                <a:gridCol w="15494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 +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óbujmy rozwiązać to samo zadanie nie zapisując równania. Wykorzystajmy metodę prób i błędów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Dokonajmy analizy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ierwsze zdanie z zadania - za 3 lata Grześ będzie 3 razy starszy niż 3 lata temu – informuje nas, że należy porównać wiek Grzesia sprzed 3 lat i ten, który osiągnie za 3 lata. 3 lata temu Grześ mógł mieć 1 rok lub 2 lata lub 3 lata itd. Wypełnijmy tabelkę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060280"/>
            <a:ext cx="7408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. Wypełnijmy tabelkę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. Jak łatwo zauważyć liczby z trzeciego wiersz spełniają warunki zadania. Zatem Grześ ma 6 la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12680" y="2565360"/>
            <a:ext cx="7419960" cy="23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6:36:18Z</dcterms:created>
  <dc:creator>Ania</dc:creator>
  <dc:description/>
  <dc:language>en-US</dc:language>
  <cp:lastModifiedBy>Ania</cp:lastModifiedBy>
  <dcterms:modified xsi:type="dcterms:W3CDTF">2013-05-21T20:10:56Z</dcterms:modified>
  <cp:revision>142</cp:revision>
  <dc:subject/>
  <dc:title>Rozwiązywanie zadań tekstowych stosując równania</dc:title>
</cp:coreProperties>
</file>