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B79-39FA-43D3-8953-802FC09F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0EF-1D6C-4688-AC32-A17C42D8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0B4-AA57-4E0E-9B23-AB328A03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833-FDC8-456A-A39B-14D15AAA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246-40F0-4E51-BF98-8C0C46F6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E5AF-C71B-48FB-961C-86CDCCFB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8A8A-85D3-4C85-9BB2-BD7831C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275D-47B7-48E6-9037-7C07355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51A-C5A8-4803-9575-482E5440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E561-4A69-4BDA-BB95-1916696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1C5A-6431-4F58-8E47-937DCC8B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A1D-8EFD-4CDC-A3D9-F13D4A7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AB1-AE0C-4BA8-AEEC-F18F971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55C-7ECC-4D97-AE7B-BC03C22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0707-831F-4370-A971-5B23A5C5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D10-1F8F-4B91-A8F9-D45ECF19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EAFC-11BC-4730-BC59-CD890F4F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2CA3-DEA8-46D8-AE46-A1AC87AC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7E93-ED73-427A-8933-D5CC59D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755C4-ECA0-4902-94DD-C9D204A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9EDA-85FA-4095-8B76-20F81AF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92C9-2FCB-4B6C-999C-BEE03F90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1EE-3E8D-4F55-95A5-B50BBE4C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D25D-FACF-41BD-8127-8FF4057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9D23-440C-4D9D-8894-ABD3A2E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8E94-6DD3-4D1C-BE36-D63AE59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8871-4AF6-4BA4-9B71-63F26F8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6EFC-3C2E-4A9C-ABCD-E5E5A70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B8B8-21F1-41ED-982E-078F6380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3863-D491-4AD1-89D9-52019683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1226-8FC6-49FA-A93C-596F8FD3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788B-8841-4EBF-8FD4-60844995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A3ED-FEF6-4043-A5A9-D24B486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38F-5F8B-4C6A-AAC7-1ACAA02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9DF9-D30A-4AB7-9659-1C81C1C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853DA-B8C2-4EE3-A476-768A645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F799-3C34-4C15-A133-1AA00D9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AC4A-518C-46CA-BADB-0632285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BA8C6-40DD-42DC-8D9A-6B98ABD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92F8-5029-40F5-B881-64D178B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5106-F2E9-4ABD-974A-E8494000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DBCC-41C3-40B2-842B-81984407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B7D0-8725-4735-9159-511699FA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A353-B98D-42CA-8E74-D3DFF64F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EAA-2391-4F03-B560-E7DAA500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775C-EAB0-4224-9884-258508C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63FB-38DE-4F8E-9EB0-94ABF11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715A-7B83-45EC-95A2-2F72E6D6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3705D-DAD2-47D0-A99E-4E78FC98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575DA-8C37-4BB8-B422-D0B4464D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D46BC-6030-4615-B2D1-0954B39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B4AC-AFCB-40B0-932E-9E877DBE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6324-FBBE-416B-8D7A-2F715BE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CC635-6245-4BB4-B356-BDE9041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AA01-9C85-4461-8F89-FB30E033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83F-EBA4-4405-BD03-F258C79A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4E46E-3D6C-40C5-B64C-46B32516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7E6F4-542B-4B7E-928A-1F3646A8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13571-0B55-4167-B435-4673711B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F74D-AF58-423B-9AF5-B9F99C35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9A8CC-AD92-43D5-891F-9E22B77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022D-BDF7-4367-8A65-F97BEA3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66DD4-A354-4991-A96B-4822BE9D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4868-20E2-4D39-973A-BFB6094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F50C-F4E8-4259-A01B-5909C5B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6687-FD4A-45E1-ABA7-E80500F9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729-F9A8-40BC-BDD2-83F84DB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AFDC-084C-46A7-9FA1-F49C76CF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016E-D331-4E7B-8308-5C14E335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739B1-EED7-49A5-8C04-BD51BBD5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21D3-4AD9-4E5D-9107-F17DE0BE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285E-0185-40FD-A681-A74C8CB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7E18-D688-48EC-AA01-EBC1706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6FC4-F352-4575-BAC6-BDED9A33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DE82-FD02-4A6B-99AC-45E5BC2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BDEB-84C0-4DC6-ADB3-B14A6D3D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258F-D43C-4A51-AE8B-8757AE8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085-3B11-4A21-8F48-3BD16CD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E7E5-4B98-4F26-ADED-8D938DC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FD48-C7B5-4484-B09D-DCDD77FB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79E4-1329-4D2B-B79C-30ED8E9A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C6343-AE93-4269-BBE1-D4FFFDF6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77F5-FFBD-483E-8133-5B68451C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13B-4F3F-4662-8B9B-E72A93D2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6FEC-DF07-4854-836E-66220CA6D001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A2F5-9902-4996-A95F-2F1C8D61550A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571-F039-4424-B893-84424FB339C0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84E6-1B64-4544-B2D9-B38C40AA5D7A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3B3-1439-413D-9B4E-E25E3BF8FF93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935D-EB66-4CAA-B8A3-C5A8D11C381E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D9F4-E7B9-47F8-BE6E-59FBEBB2281C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Symetria względem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pun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Symetria środkow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(względ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) jest to przekształcenie przyporządkowujące każdemu punktowi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punkt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’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niego symetryczny względem ustalonego 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ole tekstowe 2"/>
          <p:cNvSpPr/>
          <p:nvPr/>
        </p:nvSpPr>
        <p:spPr>
          <a:xfrm>
            <a:off x="971640" y="3284640"/>
            <a:ext cx="81723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2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czworokąt i skonstruuj figurę symetryczną do niego w symetrii względ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dnego z wierzchoł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a jednego z bo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u leżącego poza czworoką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3"/>
          <p:cNvSpPr/>
          <p:nvPr/>
        </p:nvSpPr>
        <p:spPr>
          <a:xfrm>
            <a:off x="971640" y="333360"/>
            <a:ext cx="817236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odcinek i punkt S. Skonstruuj odcinek symetryczny do danego odcinka w symetrii względem punktu S. Rozważ różne położenia punktu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1"/>
          <p:cNvSpPr/>
          <p:nvPr/>
        </p:nvSpPr>
        <p:spPr>
          <a:xfrm>
            <a:off x="1042920" y="115920"/>
            <a:ext cx="792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3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a figura jest symetryczna do figury A względem punktu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Users\Home\AppData\Local\Microsoft\Windows\Temporary Internet Files\Content.IE5\NU2RHS0H\MC900413608[1].wmf"/>
          <p:cNvPicPr/>
          <p:nvPr/>
        </p:nvPicPr>
        <p:blipFill>
          <a:blip r:embed="rId1"/>
          <a:stretch/>
        </p:blipFill>
        <p:spPr>
          <a:xfrm>
            <a:off x="2556000" y="2276640"/>
            <a:ext cx="1355760" cy="150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Home\AppData\Local\Microsoft\Windows\Temporary Internet Files\Content.IE5\NU2RHS0H\MC900413608[1].wmf"/>
          <p:cNvPicPr/>
          <p:nvPr/>
        </p:nvPicPr>
        <p:blipFill>
          <a:blip r:embed="rId2"/>
          <a:stretch/>
        </p:blipFill>
        <p:spPr>
          <a:xfrm rot="4597200">
            <a:off x="2333520" y="4447800"/>
            <a:ext cx="1355760" cy="1501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Home\AppData\Local\Microsoft\Windows\Temporary Internet Files\Content.IE5\NU2RHS0H\MC900413608[1].wmf"/>
          <p:cNvPicPr/>
          <p:nvPr/>
        </p:nvPicPr>
        <p:blipFill>
          <a:blip r:embed="rId3"/>
          <a:stretch/>
        </p:blipFill>
        <p:spPr>
          <a:xfrm rot="10800000">
            <a:off x="4870440" y="471780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Home\AppData\Local\Microsoft\Windows\Temporary Internet Files\Content.IE5\NU2RHS0H\MC900413608[1].wmf"/>
          <p:cNvPicPr/>
          <p:nvPr/>
        </p:nvPicPr>
        <p:blipFill>
          <a:blip r:embed="rId4"/>
          <a:stretch/>
        </p:blipFill>
        <p:spPr>
          <a:xfrm rot="4171800">
            <a:off x="4905720" y="235188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Home\AppData\Local\Microsoft\Windows\Temporary Internet Files\Content.IE5\NU2RHS0H\MC900413608[1].wmf"/>
          <p:cNvPicPr/>
          <p:nvPr/>
        </p:nvPicPr>
        <p:blipFill>
          <a:blip r:embed="rId5"/>
          <a:stretch/>
        </p:blipFill>
        <p:spPr>
          <a:xfrm rot="10800000">
            <a:off x="6561000" y="3605040"/>
            <a:ext cx="1355760" cy="1501920"/>
          </a:xfrm>
          <a:prstGeom prst="rect">
            <a:avLst/>
          </a:prstGeom>
          <a:ln w="0">
            <a:noFill/>
          </a:ln>
        </p:spPr>
      </p:pic>
      <p:sp>
        <p:nvSpPr>
          <p:cNvPr id="383" name="Elipsa 23"/>
          <p:cNvSpPr/>
          <p:nvPr/>
        </p:nvSpPr>
        <p:spPr>
          <a:xfrm flipH="1">
            <a:off x="4355280" y="422100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ole tekstowe 24"/>
          <p:cNvSpPr/>
          <p:nvPr/>
        </p:nvSpPr>
        <p:spPr>
          <a:xfrm>
            <a:off x="2413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25"/>
          <p:cNvSpPr/>
          <p:nvPr/>
        </p:nvSpPr>
        <p:spPr>
          <a:xfrm>
            <a:off x="4430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ole tekstowe 29"/>
          <p:cNvSpPr/>
          <p:nvPr/>
        </p:nvSpPr>
        <p:spPr>
          <a:xfrm>
            <a:off x="2990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ole tekstowe 30"/>
          <p:cNvSpPr/>
          <p:nvPr/>
        </p:nvSpPr>
        <p:spPr>
          <a:xfrm>
            <a:off x="781560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ole tekstowe 31"/>
          <p:cNvSpPr/>
          <p:nvPr/>
        </p:nvSpPr>
        <p:spPr>
          <a:xfrm>
            <a:off x="608760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ole tekstowe 32"/>
          <p:cNvSpPr/>
          <p:nvPr/>
        </p:nvSpPr>
        <p:spPr>
          <a:xfrm>
            <a:off x="6158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rostokąt 1"/>
          <p:cNvSpPr/>
          <p:nvPr/>
        </p:nvSpPr>
        <p:spPr>
          <a:xfrm>
            <a:off x="971640" y="549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zględem którego punktu figury B i B’ są symetrycz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Home\AppData\Local\Microsoft\Windows\Temporary Internet Files\Content.IE5\G0S2MCRD\MC900030629[1].wmf"/>
          <p:cNvPicPr/>
          <p:nvPr/>
        </p:nvPicPr>
        <p:blipFill>
          <a:blip r:embed="rId1"/>
          <a:stretch/>
        </p:blipFill>
        <p:spPr>
          <a:xfrm>
            <a:off x="1908000" y="1844640"/>
            <a:ext cx="1473480" cy="177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Home\AppData\Local\Microsoft\Windows\Temporary Internet Files\Content.IE5\G0S2MCRD\MC900030629[1].wmf"/>
          <p:cNvPicPr/>
          <p:nvPr/>
        </p:nvPicPr>
        <p:blipFill>
          <a:blip r:embed="rId2"/>
          <a:stretch/>
        </p:blipFill>
        <p:spPr>
          <a:xfrm rot="10800000">
            <a:off x="6227280" y="3500280"/>
            <a:ext cx="1474920" cy="1773360"/>
          </a:xfrm>
          <a:prstGeom prst="rect">
            <a:avLst/>
          </a:prstGeom>
          <a:ln w="0">
            <a:noFill/>
          </a:ln>
        </p:spPr>
      </p:pic>
      <p:sp>
        <p:nvSpPr>
          <p:cNvPr id="393" name="pole tekstowe 4"/>
          <p:cNvSpPr/>
          <p:nvPr/>
        </p:nvSpPr>
        <p:spPr>
          <a:xfrm>
            <a:off x="183852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ole tekstowe 5"/>
          <p:cNvSpPr/>
          <p:nvPr/>
        </p:nvSpPr>
        <p:spPr>
          <a:xfrm>
            <a:off x="759960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lipsa 6"/>
          <p:cNvSpPr/>
          <p:nvPr/>
        </p:nvSpPr>
        <p:spPr>
          <a:xfrm>
            <a:off x="3924360" y="371628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lipsa 7"/>
          <p:cNvSpPr/>
          <p:nvPr/>
        </p:nvSpPr>
        <p:spPr>
          <a:xfrm>
            <a:off x="4716360" y="350028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8"/>
          <p:cNvSpPr/>
          <p:nvPr/>
        </p:nvSpPr>
        <p:spPr>
          <a:xfrm>
            <a:off x="4427640" y="2708280"/>
            <a:ext cx="73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ipsa 9"/>
          <p:cNvSpPr/>
          <p:nvPr/>
        </p:nvSpPr>
        <p:spPr>
          <a:xfrm>
            <a:off x="5076720" y="407664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ipsa 10"/>
          <p:cNvSpPr/>
          <p:nvPr/>
        </p:nvSpPr>
        <p:spPr>
          <a:xfrm>
            <a:off x="5148360" y="306864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ole tekstowe 19"/>
          <p:cNvSpPr/>
          <p:nvPr/>
        </p:nvSpPr>
        <p:spPr>
          <a:xfrm>
            <a:off x="378252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ole tekstowe 20"/>
          <p:cNvSpPr/>
          <p:nvPr/>
        </p:nvSpPr>
        <p:spPr>
          <a:xfrm>
            <a:off x="45032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ole tekstowe 21"/>
          <p:cNvSpPr/>
          <p:nvPr/>
        </p:nvSpPr>
        <p:spPr>
          <a:xfrm>
            <a:off x="435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ole tekstowe 22"/>
          <p:cNvSpPr/>
          <p:nvPr/>
        </p:nvSpPr>
        <p:spPr>
          <a:xfrm>
            <a:off x="515088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23"/>
          <p:cNvSpPr/>
          <p:nvPr/>
        </p:nvSpPr>
        <p:spPr>
          <a:xfrm>
            <a:off x="51505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Wnios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dcinki symetryczne do siebie względem punktu mają jednakową długość i są równoległ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Symetryczne kąty mają jednakowe mia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 symetryczne do siebie względem punktu są przystają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mysły zadań zostały zaczerpnię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z podręcznika do 1 klasy gimnazjum „Matematyka z plusem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Czy istnieje pewna prosta względem , której elementy na rysunku są symetryczn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4809600"/>
            <a:ext cx="810108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Elementy na rysunku wydają się symetryczne, jednak nie jest to symetria względem żadnej prostej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6341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530064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Połączmy odcinkami odpowiadające sobie punkty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4723920"/>
            <a:ext cx="8101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Zauważmy, że odcinki te przecinają się w jednym punkc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 przecięcia się odcinków jest środkiem każdego z ni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321680" cy="3382920"/>
          </a:xfrm>
          <a:prstGeom prst="rect">
            <a:avLst/>
          </a:prstGeom>
          <a:ln w="0">
            <a:noFill/>
          </a:ln>
        </p:spPr>
      </p:pic>
      <p:sp>
        <p:nvSpPr>
          <p:cNvPr id="330" name="Łącznik prosty 5"/>
          <p:cNvSpPr/>
          <p:nvPr/>
        </p:nvSpPr>
        <p:spPr>
          <a:xfrm flipV="1">
            <a:off x="3059280" y="1915920"/>
            <a:ext cx="3816360" cy="2160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Łącznik prosty 7"/>
          <p:cNvSpPr/>
          <p:nvPr/>
        </p:nvSpPr>
        <p:spPr>
          <a:xfrm>
            <a:off x="2627280" y="2924280"/>
            <a:ext cx="468144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Łącznik prosty 9"/>
          <p:cNvSpPr/>
          <p:nvPr/>
        </p:nvSpPr>
        <p:spPr>
          <a:xfrm flipH="1">
            <a:off x="3276360" y="1700280"/>
            <a:ext cx="338292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Łącznik prosty 18"/>
          <p:cNvSpPr/>
          <p:nvPr/>
        </p:nvSpPr>
        <p:spPr>
          <a:xfrm flipV="1">
            <a:off x="2916360" y="2565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8101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O takich figurach mówimy, że są do siebie symetryczne względem punkt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7321680" cy="3381480"/>
          </a:xfrm>
          <a:prstGeom prst="rect">
            <a:avLst/>
          </a:prstGeom>
          <a:ln w="0">
            <a:noFill/>
          </a:ln>
        </p:spPr>
      </p:pic>
      <p:sp>
        <p:nvSpPr>
          <p:cNvPr id="337" name="Łącznik prosty 9"/>
          <p:cNvSpPr/>
          <p:nvPr/>
        </p:nvSpPr>
        <p:spPr>
          <a:xfrm>
            <a:off x="2771640" y="2708280"/>
            <a:ext cx="468000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Łącznik prosty 11"/>
          <p:cNvSpPr/>
          <p:nvPr/>
        </p:nvSpPr>
        <p:spPr>
          <a:xfrm flipH="1">
            <a:off x="3419280" y="1484280"/>
            <a:ext cx="338436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4"/>
          <p:cNvSpPr/>
          <p:nvPr/>
        </p:nvSpPr>
        <p:spPr>
          <a:xfrm flipV="1">
            <a:off x="3059280" y="2349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971280" y="4652640"/>
            <a:ext cx="81723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y A i A’ są symetryczne względem punktu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, jeżeli punkt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jest środkiem odcinka łączącego te punk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Łącznik prosty 10"/>
          <p:cNvSpPr/>
          <p:nvPr/>
        </p:nvSpPr>
        <p:spPr>
          <a:xfrm>
            <a:off x="1476360" y="1773360"/>
            <a:ext cx="6696000" cy="100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4"/>
          <p:cNvSpPr/>
          <p:nvPr/>
        </p:nvSpPr>
        <p:spPr>
          <a:xfrm flipV="1">
            <a:off x="2195640" y="1843920"/>
            <a:ext cx="14436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5"/>
          <p:cNvSpPr/>
          <p:nvPr/>
        </p:nvSpPr>
        <p:spPr>
          <a:xfrm flipV="1">
            <a:off x="4643280" y="2204280"/>
            <a:ext cx="14472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6"/>
          <p:cNvSpPr/>
          <p:nvPr/>
        </p:nvSpPr>
        <p:spPr>
          <a:xfrm flipV="1">
            <a:off x="7093080" y="2564640"/>
            <a:ext cx="142920" cy="142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Łącznik prosty ze strzałką 17"/>
          <p:cNvCxnSpPr>
            <a:stCxn id="342" idx="7"/>
            <a:endCxn id="343" idx="1"/>
          </p:cNvCxnSpPr>
          <p:nvPr/>
        </p:nvCxnSpPr>
        <p:spPr>
          <a:xfrm>
            <a:off x="2319120" y="1968120"/>
            <a:ext cx="2345040" cy="361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Łącznik prosty ze strzałką 19"/>
          <p:cNvCxnSpPr>
            <a:stCxn id="343" idx="7"/>
            <a:endCxn id="344" idx="1"/>
          </p:cNvCxnSpPr>
          <p:nvPr/>
        </p:nvCxnSpPr>
        <p:spPr>
          <a:xfrm>
            <a:off x="4767120" y="2328480"/>
            <a:ext cx="2347200" cy="359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47" name="pole tekstowe 27"/>
          <p:cNvSpPr/>
          <p:nvPr/>
        </p:nvSpPr>
        <p:spPr>
          <a:xfrm>
            <a:off x="212400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8"/>
          <p:cNvSpPr/>
          <p:nvPr/>
        </p:nvSpPr>
        <p:spPr>
          <a:xfrm>
            <a:off x="70930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ole tekstowe 29"/>
          <p:cNvSpPr/>
          <p:nvPr/>
        </p:nvSpPr>
        <p:spPr>
          <a:xfrm>
            <a:off x="450072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00"/>
                </a:solidFill>
                <a:latin typeface="Book Antiqu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8487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punkt A’ symetryczny do punktu A względem punktu S, wystarczy narysować półprostą AS i znaleźć na niej punkt A’ taki, że |AS|=|A’S|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Elipsa 8"/>
          <p:cNvSpPr/>
          <p:nvPr/>
        </p:nvSpPr>
        <p:spPr>
          <a:xfrm>
            <a:off x="2916360" y="4365720"/>
            <a:ext cx="712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9"/>
          <p:cNvSpPr/>
          <p:nvPr/>
        </p:nvSpPr>
        <p:spPr>
          <a:xfrm>
            <a:off x="4140360" y="4581360"/>
            <a:ext cx="7128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10"/>
          <p:cNvSpPr/>
          <p:nvPr/>
        </p:nvSpPr>
        <p:spPr>
          <a:xfrm>
            <a:off x="5364000" y="479736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12"/>
          <p:cNvSpPr/>
          <p:nvPr/>
        </p:nvSpPr>
        <p:spPr>
          <a:xfrm>
            <a:off x="2987640" y="4437000"/>
            <a:ext cx="4238640" cy="658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a 13"/>
          <p:cNvSpPr/>
          <p:nvPr/>
        </p:nvSpPr>
        <p:spPr>
          <a:xfrm>
            <a:off x="2916360" y="3357720"/>
            <a:ext cx="2519280" cy="25192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ole tekstowe 14"/>
          <p:cNvSpPr/>
          <p:nvPr/>
        </p:nvSpPr>
        <p:spPr>
          <a:xfrm>
            <a:off x="2774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5"/>
          <p:cNvSpPr/>
          <p:nvPr/>
        </p:nvSpPr>
        <p:spPr>
          <a:xfrm>
            <a:off x="392688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16"/>
          <p:cNvSpPr/>
          <p:nvPr/>
        </p:nvSpPr>
        <p:spPr>
          <a:xfrm>
            <a:off x="543528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ole tekstowe 1"/>
          <p:cNvSpPr/>
          <p:nvPr/>
        </p:nvSpPr>
        <p:spPr>
          <a:xfrm>
            <a:off x="1187280" y="90792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figurę symetryczną do wielokąta względem danego punktu S, wystarczy znaleźć punkty symetryczne do wierzchołków wielokąta , po czym należy odpowiednio połączyć znalezione pun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rójkąt równoramienny 2"/>
          <p:cNvSpPr/>
          <p:nvPr/>
        </p:nvSpPr>
        <p:spPr>
          <a:xfrm rot="637200">
            <a:off x="1577880" y="3610080"/>
            <a:ext cx="2087640" cy="1296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3"/>
          <p:cNvSpPr/>
          <p:nvPr/>
        </p:nvSpPr>
        <p:spPr>
          <a:xfrm>
            <a:off x="5003640" y="4365720"/>
            <a:ext cx="73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Łącznik prosty 5"/>
          <p:cNvSpPr/>
          <p:nvPr/>
        </p:nvSpPr>
        <p:spPr>
          <a:xfrm flipV="1">
            <a:off x="3527280" y="3662280"/>
            <a:ext cx="3140280" cy="14256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Łącznik prosty 7"/>
          <p:cNvSpPr/>
          <p:nvPr/>
        </p:nvSpPr>
        <p:spPr>
          <a:xfrm>
            <a:off x="2741760" y="3621240"/>
            <a:ext cx="4692600" cy="1517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Łącznik prosty 9"/>
          <p:cNvSpPr/>
          <p:nvPr/>
        </p:nvSpPr>
        <p:spPr>
          <a:xfrm flipV="1">
            <a:off x="1476360" y="4076640"/>
            <a:ext cx="7209000" cy="625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rójkąt równoramienny 10"/>
          <p:cNvSpPr/>
          <p:nvPr/>
        </p:nvSpPr>
        <p:spPr>
          <a:xfrm rot="11486400">
            <a:off x="6517800" y="3855240"/>
            <a:ext cx="208764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ole tekstowe 24"/>
          <p:cNvSpPr/>
          <p:nvPr/>
        </p:nvSpPr>
        <p:spPr>
          <a:xfrm>
            <a:off x="118980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ole tekstowe 25"/>
          <p:cNvSpPr/>
          <p:nvPr/>
        </p:nvSpPr>
        <p:spPr>
          <a:xfrm>
            <a:off x="255852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ole tekstowe 26"/>
          <p:cNvSpPr/>
          <p:nvPr/>
        </p:nvSpPr>
        <p:spPr>
          <a:xfrm>
            <a:off x="342288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ole tekstowe 27"/>
          <p:cNvSpPr/>
          <p:nvPr/>
        </p:nvSpPr>
        <p:spPr>
          <a:xfrm>
            <a:off x="4862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28"/>
          <p:cNvSpPr/>
          <p:nvPr/>
        </p:nvSpPr>
        <p:spPr>
          <a:xfrm>
            <a:off x="86040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ole tekstowe 29"/>
          <p:cNvSpPr/>
          <p:nvPr/>
        </p:nvSpPr>
        <p:spPr>
          <a:xfrm>
            <a:off x="7455240" y="5157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ole tekstowe 30"/>
          <p:cNvSpPr/>
          <p:nvPr/>
        </p:nvSpPr>
        <p:spPr>
          <a:xfrm>
            <a:off x="6519240" y="32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1:30:16Z</dcterms:created>
  <dc:creator>Batonixxx</dc:creator>
  <dc:description/>
  <dc:language>en-US</dc:language>
  <cp:lastModifiedBy>Ania</cp:lastModifiedBy>
  <dcterms:modified xsi:type="dcterms:W3CDTF">2013-06-11T22:03:13Z</dcterms:modified>
  <cp:revision>101</cp:revision>
  <dc:subject/>
  <dc:title>Symetria względem punktu</dc:title>
</cp:coreProperties>
</file>