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B538-D90A-4ECE-8027-D936DC860D5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rto zwrócić uwagę uczniów na fakt, że zgodnie z definicją równoważne są dowolne dwa równania sprzeczne oraz dowolne dwa równania równoważ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ACDD-BEAB-4379-AC1C-D4B356D277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B98-40BF-48E3-8CE4-422B4921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011-1783-41D3-AD41-E6C754B5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85E-9023-4651-A940-2BB7E6C8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E97-5622-4254-BF83-746948CC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5D51-1878-48F4-8A16-53E93B72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196F-82C6-40F5-A71C-3FD0265C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914A-4CB2-42A1-911E-E3BAEEA6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970C-5B3F-46D5-B306-C49D049B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F8D4-6A2F-40F5-8C8A-0B47FF6D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B2E9-9A8B-4C4D-A499-2C770068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8375-F970-4D05-95A6-AE4CD189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5C1-77E5-4DB6-89C3-7486AB70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2E35-5980-40C2-BB8B-D4A1EB5A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24B9-45D2-4DE6-9CC5-CD28D0E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5D04-08C1-4C45-A61F-37E12677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444D-B24A-4025-975F-362DFE2A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B388-0AFE-499D-8562-9C9D6A4F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F9A2-E3FC-44B4-A31A-466758B6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8A58-FD35-4C03-A91F-693F2BF3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A5B7-5CA8-44C0-A468-5F154492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0D06-7CA3-418F-85DA-0A5539E1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7D57-8165-41C2-AE61-5F234F3B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16B-973D-423A-80DE-C683090D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9544-413B-4C95-B41A-E6D9684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1BE0-83A8-49BE-97EC-AD200718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29A0-79C2-4ABD-A423-D8899313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0C09-93EB-4CC5-9654-CA5D6B95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5CA2-FFE6-4860-B89C-FFCE6759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009D1-7293-43CC-832E-D4419EB8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24F3-4061-48BE-AF41-196D4172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A4B48-62E6-4EB0-973B-F5BFF1DD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76968-6F46-412B-AF62-D0335A9A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2C5BE-0CC6-4BC7-BFA0-BBBF5C92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553-F0AB-4ED3-A022-CDAD85C5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04B68-445A-46F0-9834-64DD9518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CA3D-B8E9-46F1-8964-1F9EC0BC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B584-9C63-4BFD-999E-D7A37F35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E552D-1673-47AB-BCC2-811D4357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0C05-04FB-406F-BD12-1DF54B2D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C4F7E-B7F1-4320-960C-85D2B77B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3DCAE-49D8-4AD9-B000-23FE93A1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7B7F2-0A8E-48E8-A682-A84EAD40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4D34-0471-4826-B081-85CDB802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5E0-F92C-4445-A8CE-CE5486E4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75A-1D25-4DF0-9C86-153D95B1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26B-8868-492A-BBE0-61546497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78D-1BFB-4EFD-8D57-5BFA889C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AAD-5664-4A8F-8A69-E38F439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E04A-07AC-448B-B569-7D63359C4C5E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ACCD-0307-41B2-9A21-00D284082049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9C58-0AF3-42DE-AC8F-C3FD22C1B47C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E82B-7D3D-4E53-A50B-4BCC4C9974B1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669960" y="3121200"/>
            <a:ext cx="7321680" cy="237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43000" y="73188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, którego nie spełnia żadna liczba, nazywamy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m sprzecznym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+ 3 = x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– 4 = x +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042920" y="692280"/>
            <a:ext cx="6400800" cy="53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Zbiór rozwiązań równania, 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to zbiór wszystkich liczb spełniających dane równanie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Zadanie: Dwa spośród poniższych równań mają ten sam zbiór rozwiązań. Wskaż te równania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 + 3 = 6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 + 3 = 0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2x = -6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25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 = 9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Jeśli dwa równania mają ten sam zbiór rozwiązań, to nazywamy je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ami równoważnymi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Napisz po dwa równania równoważne podanym równaniom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y – 5 = 8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a = 6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+ 5 = 5 + x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43000" y="731880"/>
            <a:ext cx="640080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. Napisz jakieś skomplikowane równanie, którego rozwiązaniem jest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wój numer domu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umer twojego buta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ymyślona przez ciebie liczb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Bibliografi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Matematyka z plusem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Zeszyt ćwiczeń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Opracowała: Anna Jąkalsk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475920"/>
            <a:ext cx="6400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czby, które spełniają równanie nazywamy rozwiązaniem równania lub pierwiastkami równani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4x+2=10 ma jedno rozwiązanie. Pierwiastkiem tego równania jest liczba 2, gdyż 4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+2=10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jedno rozwiązani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ymbol zastępczy zawartości 2"/>
          <p:cNvSpPr/>
          <p:nvPr/>
        </p:nvSpPr>
        <p:spPr>
          <a:xfrm>
            <a:off x="1403280" y="981000"/>
            <a:ext cx="64008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 ma dwa pierwiastki: 3 i -3, gdyż 3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= 9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(-3)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dwa rozwiązani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ymbol zastępczy zawartości 2"/>
          <p:cNvSpPr/>
          <p:nvPr/>
        </p:nvSpPr>
        <p:spPr>
          <a:xfrm>
            <a:off x="1332000" y="692280"/>
            <a:ext cx="6400800" cy="55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x(x+1)(x-2)=0 ma trzy rozwiązania: 0, -1 i 2, gdyż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(x+1)(x-2)=0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(-1+1)(x-2)=0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(x+1)(2-2)=0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trzy rozwiązani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3000" y="731880"/>
            <a:ext cx="6400800" cy="47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odaj równanie które ma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cztery rozwiązani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p. (z+1)(z+2)(z+3)(z+5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ięć pierwiastków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p. (z+1)(z+2)(z+3)(z+5)(z+6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2640" y="404640"/>
            <a:ext cx="688500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3x + 2 = x + 2x + 2 ma nieskończenie wiele rozwiązań (spełnia je każda liczba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spełnia każda liczb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43000" y="731520"/>
            <a:ext cx="6400800" cy="52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, które spełniają wszystkie liczby, nazywamy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m tożsamościowym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x = x + x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a = 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99640" y="731520"/>
            <a:ext cx="7559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6040" indent="-4935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x ma nieskończenie wiele rozwiązań (spełniają je liczby nieujemne), np.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1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2,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0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ie jest to równanie tożsamościowe,          gdyż liczby ujemne nie są jego rozwiązaniem, bo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-1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1,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-4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4 itd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nieskończenie wiele rozwiąz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731880"/>
            <a:ext cx="6400800" cy="54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m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-9 nie ma rozwiązań (żadna liczba go nie spełnia), gdyż kwadrat każdej liczby rzeczywistej jest liczbą nieujemn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nie ma rozwiąz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30:30Z</dcterms:created>
  <dc:creator>Ania</dc:creator>
  <dc:description/>
  <dc:language>en-US</dc:language>
  <cp:lastModifiedBy>Ania</cp:lastModifiedBy>
  <dcterms:modified xsi:type="dcterms:W3CDTF">2013-06-11T17:56:16Z</dcterms:modified>
  <cp:revision>102</cp:revision>
  <dc:subject/>
  <dc:title>RÓWNANIA</dc:title>
</cp:coreProperties>
</file>