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6A9C-D4E0-4FD0-80EF-F51A041110F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zwrócić uwagę uczniów, że dwa z podanych wyrażeń pasują do jednego prostoką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F3B0-4AAC-4FD3-BBF0-1D9406E6E3EE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ed przystąpieniem do rozwiązania zadań warto porozmawiać z uczniami na temat ich wieku i wieku ich rodzeństwa oraz rodzic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CB50-6C1E-454B-B21C-4DAB922F0CFE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nim podamy uczniom zadanie. Zapytajmy ich: ile lat mieli trzy lata temu, a ile będą mieli za trzy lata? Pozwoli to gimnazjalistom lepiej zrozumieć treść zad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5C0-211C-4BEE-8C4C-FDD1AC594683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zasugerować uczniom, że odrzucimy tylko jedno z podanych wyraże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BD30-0E7F-4569-B02B-4AF6413587C0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łaściwe rozwiązanie x=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8000-160C-4DCF-B9F4-2489DB13F255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0C3-A854-4E14-A18F-C214DC01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778-75C5-40D8-BA40-AD3EB66F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C75-67B8-4F90-A0CA-24DEC825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12C-7B0F-4F4A-A71D-CB2BC188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5D66-3A1E-4A70-9481-6BFC9A98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F876-8513-49CF-A427-10CE3A83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CDBC-1F7A-482E-A836-84009EE1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F0C2-FEA8-4FE0-AAA6-B197A767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066A-00BE-42EF-9A1B-27F1D935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C54C-AE6B-482D-9FE7-4D7332A7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B14A-086A-4DFF-BEDC-7AECAF8C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0E7-2AC2-4515-8716-FBCE5CC7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17A9-913B-4F59-8821-46D25BD9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05B2-2D97-4BEE-A55B-A076C053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951A-8C4A-4E97-A29E-7E8047AD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6BA3-6FAA-4024-BFDB-375F5E66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47A3-0815-4D30-9441-0BCE89B6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4713-00C4-4F96-9BF1-CEFF8E4A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09C6-15F0-4F71-90AD-914DDFB2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38EC-81B7-44C5-A9B7-4541FC40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251D-DACC-4A69-B5A2-59EB2348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0A5F7-BDC1-4342-A558-007DE29E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249-D9BE-4636-9C39-BB732A1D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15BD-9403-46A9-B27A-37ECED84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AAA4-5936-415B-948C-0C7CC46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3E01-9141-4C0B-AB0A-3A3706A1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5436-7BA1-4417-969A-B28C5F5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8C2A5-41E2-4660-8104-74D16836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4210-3883-4C83-A972-26EC271E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64ED-8FD9-4237-9246-6C1555D5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49B9-6F13-4D45-9357-6C68F415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6B42-02C5-4B29-BBAF-D5EB153A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58B8E-1F3B-4548-AD89-18112869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36C-D2C2-4009-9ACB-E5D41948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78CD6-E0FE-4B97-8FA9-B50DCF66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823FF-F6A0-46C0-A119-74BE2244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204A-8D52-466F-9262-0113FB09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822C1-EE88-487B-B5DB-7E3B3669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D36D7-7B88-4E8A-B6EC-4199EF91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85AB-CD58-459E-80F6-D1F1EA09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3A209-7297-4B7A-BE42-48D23E05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3FEF-7E2C-4503-8FEF-F8559454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3A69-DD3B-41E2-9236-DAC4D5F5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F8E65-E653-4366-B26A-E7C49726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E25-C0C2-4936-93EC-D9977550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E070A-4EE2-43B0-A641-C6548AFB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4FB51-4193-439A-A90B-A519C1C6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CCA3D-B25A-4189-99D9-7DC95D22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B56D1-4A0A-4F5C-BC86-CF49CF9C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9132F-471F-4857-97C8-6434831F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BE42B-FA1B-482F-AB23-55005A05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C775-04CD-4CC7-AA45-01FB66D1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1FD10-661F-4293-979A-D7D516C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E411B-76AD-4F3F-9844-8836985E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14B97-5A65-4B48-9786-C35B7D64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40A-9336-4B82-869F-B13CCD31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9E7A9-EE7E-4DB1-BFC0-E24AF9BB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79BDB-BACE-4495-84AD-AD15E6B6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2D4B2-3312-4D67-ABAA-73A2F2B6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4B228-EA7F-43D6-B0E9-2AF9E18F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0FAE-A66F-4FBE-8E4B-227B0FA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4C58-DDE2-4992-9F70-9F9375E1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67E9F-2854-4D33-99E5-AA112AAA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D7303-E772-4B35-B314-138E2ED1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6E87-9C69-4E23-ACE8-AF64010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149A2-DB4C-486E-80E1-F06CA6F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014-6AA1-42B9-BBD5-D4FABBAF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01FFE-871D-4E3C-922A-3EFB66A6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45085-088A-4055-B5ED-4B355C1A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381F5-854F-4431-88B8-84BEAAE9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EB77C-1883-4887-9D08-E0567E59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E92A7-BE27-4C5E-A8A2-67A99EA7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ABAAE-C2D9-4A76-BB06-87F9FFB7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F4464-DEE5-43A0-882C-90E3328F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0151C-0283-4081-AF40-3AAEF45A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CAA6D-A5F2-486A-931C-EF08D270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F734B-6E25-4B49-9EFF-00648840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59F-E3FF-4D4B-B66B-A5BA256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8431F-37C4-4AD1-9DD5-5AFD1F8C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48602-A41B-4E68-AD8A-D9643CD0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DB746-B55C-45C2-9F1C-F0EE762E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C0176-C178-4FFD-9E55-9B205B59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FC4C7-B424-4824-912B-ED9A8A7D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E77-FCE6-46CB-BFC4-DC248B6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D5AE-7CFF-4927-BF5E-40DDF29F4AD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3EF2-351C-4CF7-BB72-DCE01352EFF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6044-260F-4130-AB4A-178EECC7E5D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5F81-8CAF-40C7-BFC4-45E3CE08269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BF3F-6008-4BCE-AFD5-406D03759DB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8EC3-6153-4854-A9A4-E5D94FC6B13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E9DB-FCA9-44DB-8616-7346829D9F9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Jedno zadanie – kilka rozwiązań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Zadania dotyczące „wieku”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to inny przykład zadania i kilka sposobów jego rozwiąz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danie 2. Tomek ma 14 lat, a jego mama 38. Oblicz kiedy mama była od Tomka pięć razy starsza. 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amiętaj! Jak mamie przybędzie lat, to Tomkowi również i to tyle samo co mamie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zanie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. Analiza zadani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arto zadanie to podzielić na dwie części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Tomek ma 14 lat, a jego mama 38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ytania pomocnicze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le osób występuje w zadaniu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le okresów czasu pojawia się w zadaniu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Co oznaczymy przez niewiadomą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871560" y="2060280"/>
            <a:ext cx="7408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403280" y="3284640"/>
          <a:ext cx="457200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78" name="Łącznik prostoliniowy 5"/>
          <p:cNvSpPr/>
          <p:nvPr/>
        </p:nvSpPr>
        <p:spPr>
          <a:xfrm>
            <a:off x="1403280" y="3284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9" name="Łącznik prostoliniowy 7"/>
          <p:cNvSpPr/>
          <p:nvPr/>
        </p:nvSpPr>
        <p:spPr>
          <a:xfrm flipV="1">
            <a:off x="1403280" y="328428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pole tekstowe 9"/>
          <p:cNvSpPr/>
          <p:nvPr/>
        </p:nvSpPr>
        <p:spPr>
          <a:xfrm>
            <a:off x="1763640" y="479124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 lat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pole tekstowe 10"/>
          <p:cNvSpPr/>
          <p:nvPr/>
        </p:nvSpPr>
        <p:spPr>
          <a:xfrm>
            <a:off x="5796000" y="4822920"/>
            <a:ext cx="129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pole tekstowe 11"/>
          <p:cNvSpPr/>
          <p:nvPr/>
        </p:nvSpPr>
        <p:spPr>
          <a:xfrm>
            <a:off x="1692360" y="553572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-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pole tekstowe 12"/>
          <p:cNvSpPr/>
          <p:nvPr/>
        </p:nvSpPr>
        <p:spPr>
          <a:xfrm>
            <a:off x="3851280" y="4791240"/>
            <a:ext cx="129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7960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ole tekstowe 14"/>
          <p:cNvSpPr/>
          <p:nvPr/>
        </p:nvSpPr>
        <p:spPr>
          <a:xfrm>
            <a:off x="3564000" y="571500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x lat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6" name="pole tekstowe 15"/>
          <p:cNvSpPr/>
          <p:nvPr/>
        </p:nvSpPr>
        <p:spPr>
          <a:xfrm>
            <a:off x="5580000" y="553572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+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7" name="pole tekstowe 16"/>
          <p:cNvSpPr/>
          <p:nvPr/>
        </p:nvSpPr>
        <p:spPr>
          <a:xfrm>
            <a:off x="7164360" y="534528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+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pole tekstowe 17"/>
          <p:cNvSpPr/>
          <p:nvPr/>
        </p:nvSpPr>
        <p:spPr>
          <a:xfrm>
            <a:off x="7380360" y="47912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-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pole tekstowe 18"/>
          <p:cNvSpPr/>
          <p:nvPr/>
        </p:nvSpPr>
        <p:spPr>
          <a:xfrm>
            <a:off x="6438960" y="363708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(14-x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pole tekstowe 19"/>
          <p:cNvSpPr/>
          <p:nvPr/>
        </p:nvSpPr>
        <p:spPr>
          <a:xfrm>
            <a:off x="7304040" y="419256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(38-x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1916280"/>
            <a:ext cx="842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=5(14 – x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x = 5(38 – x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x = 5(14+x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+x = 38 – x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=5(14 – x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dp. Mama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     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lat temu była 5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684360" y="1557000"/>
            <a:ext cx="74088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332000" y="2655720"/>
          <a:ext cx="4572000" cy="1113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96" name="Łącznik prostoliniowy 7"/>
          <p:cNvSpPr/>
          <p:nvPr/>
        </p:nvSpPr>
        <p:spPr>
          <a:xfrm>
            <a:off x="1346040" y="2690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Łącznik prostoliniowy 15"/>
          <p:cNvSpPr/>
          <p:nvPr/>
        </p:nvSpPr>
        <p:spPr>
          <a:xfrm flipH="1">
            <a:off x="1318680" y="2690640"/>
            <a:ext cx="151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8" name="pole tekstowe 9"/>
          <p:cNvSpPr/>
          <p:nvPr/>
        </p:nvSpPr>
        <p:spPr>
          <a:xfrm>
            <a:off x="1427040" y="407664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 + y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9" name="pole tekstowe 9"/>
          <p:cNvSpPr/>
          <p:nvPr/>
        </p:nvSpPr>
        <p:spPr>
          <a:xfrm>
            <a:off x="1427040" y="4869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 – y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0" name="pole tekstowe 9"/>
          <p:cNvSpPr/>
          <p:nvPr/>
        </p:nvSpPr>
        <p:spPr>
          <a:xfrm>
            <a:off x="142704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+y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1" name="pole tekstowe 9"/>
          <p:cNvSpPr/>
          <p:nvPr/>
        </p:nvSpPr>
        <p:spPr>
          <a:xfrm>
            <a:off x="327672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– y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2" name="pole tekstowe 9"/>
          <p:cNvSpPr/>
          <p:nvPr/>
        </p:nvSpPr>
        <p:spPr>
          <a:xfrm>
            <a:off x="3429000" y="486900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ecnie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3" name="pole tekstowe 9"/>
          <p:cNvSpPr/>
          <p:nvPr/>
        </p:nvSpPr>
        <p:spPr>
          <a:xfrm>
            <a:off x="5437080" y="4869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4" name="pole tekstowe 9"/>
          <p:cNvSpPr/>
          <p:nvPr/>
        </p:nvSpPr>
        <p:spPr>
          <a:xfrm>
            <a:off x="358128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5" name="pole tekstowe 9"/>
          <p:cNvSpPr/>
          <p:nvPr/>
        </p:nvSpPr>
        <p:spPr>
          <a:xfrm>
            <a:off x="529272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y lat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6" name="pole tekstowe 9"/>
          <p:cNvSpPr/>
          <p:nvPr/>
        </p:nvSpPr>
        <p:spPr>
          <a:xfrm>
            <a:off x="543708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y lat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7" name="pole tekstowe 9"/>
          <p:cNvSpPr/>
          <p:nvPr/>
        </p:nvSpPr>
        <p:spPr>
          <a:xfrm>
            <a:off x="716436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(14 + y)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8" name="pole tekstowe 9"/>
          <p:cNvSpPr/>
          <p:nvPr/>
        </p:nvSpPr>
        <p:spPr>
          <a:xfrm>
            <a:off x="7164360" y="489096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(38 + y)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4920" y="1844280"/>
            <a:ext cx="8497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y =2(14 – y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y = 2(38 – 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= 2(14+y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+y = 38 – 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= 2(14+y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dp. Za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lat mama będzie 2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1557000"/>
            <a:ext cx="740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obecny wiek mam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obecny wiek Tom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– wiek mamy x lat tem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x – wiek Tomka x lat tem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627280" y="4292640"/>
          <a:ext cx="3097080" cy="1828800"/>
        </p:xfrm>
        <a:graphic>
          <a:graphicData uri="http://schemas.openxmlformats.org/drawingml/2006/table">
            <a:tbl>
              <a:tblPr/>
              <a:tblGrid>
                <a:gridCol w="1549440"/>
                <a:gridCol w="15476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rowSpan="5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8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x lat temu mama była 5 razy starsza od Tomka. Zatem pięciokrotność wieku Tomka x lat temu daje wiek matki x lat temu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tąd: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5(14 – x) = 38 – x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obecny wiek mam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obecny wiek Tom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– wiek mamy za y l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+ y – wiek Tomka za y l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5013360"/>
          <a:ext cx="3024000" cy="74124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14 +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8 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za y lat mama będzie 2 razy starsza od Tomka. Zatem dwukrotność wieku Tomka za y lat daje wiek matki za y la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tąd: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(14 + y) = 38 + 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Analiza treści zadania (po dokładnym zapoznaniu się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 treścią zadania ustalamy niewiadomą, wykorzystując ją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 używając danych układamy wyrażenia arytmetyczne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 algebraiczne, które ilustrują treść zadania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Ułożenie równania (szukamy dwóch wyrażeń, z których co najmniej jedno zawiera niewiadomą, przedstawiających tę samą wielkość i stawiamy między nimi znak równości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zanie równ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pisanie odpowiedzi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Plan rozwiązania zadania z treści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871560" y="1413000"/>
            <a:ext cx="7408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ypełnijmy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tabelkę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276720" y="1989000"/>
          <a:ext cx="5256000" cy="4389480"/>
        </p:xfrm>
        <a:graphic>
          <a:graphicData uri="http://schemas.openxmlformats.org/drawingml/2006/table">
            <a:tbl>
              <a:tblPr/>
              <a:tblGrid>
                <a:gridCol w="1751040"/>
                <a:gridCol w="1752480"/>
                <a:gridCol w="1752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To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ma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bec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ok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 laty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Liczby  6 i 30 spełniają warunki zadania, bo 6 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∙ 5= 30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tem </a:t>
            </a:r>
            <a:r>
              <a:rPr b="0" lang="pl-PL" sz="2400" spc="-1" strike="noStrike">
                <a:solidFill>
                  <a:srgbClr val="c00000"/>
                </a:solidFill>
                <a:latin typeface="Candara"/>
              </a:rPr>
              <a:t>8 lat temu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ama była 5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71560" y="1484280"/>
            <a:ext cx="740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ypełnijmy tabelkę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780000" y="2060640"/>
          <a:ext cx="5111640" cy="4449600"/>
        </p:xfrm>
        <a:graphic>
          <a:graphicData uri="http://schemas.openxmlformats.org/drawingml/2006/table">
            <a:tbl>
              <a:tblPr/>
              <a:tblGrid>
                <a:gridCol w="1704960"/>
                <a:gridCol w="1703160"/>
                <a:gridCol w="17035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To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ma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bec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2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3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4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5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6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7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8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9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10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Liczby z ostatniego wiersza spełniają warunki zadania, gdyż 24 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∙ 2 = 4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Zatem </a:t>
            </a:r>
            <a:r>
              <a:rPr b="0" lang="pl-PL" sz="2400" spc="-1" strike="noStrike">
                <a:solidFill>
                  <a:srgbClr val="c00000"/>
                </a:solidFill>
                <a:latin typeface="Cambria Math"/>
                <a:ea typeface="Cambria Math"/>
              </a:rPr>
              <a:t>za 10 lat mama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 będzie 2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ezentacji zostały wykorzystane zadania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z podręcznika GWO MATEMATYKA Z PLUSE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pracowała: Anna Jąkals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73e87"/>
                </a:solidFill>
                <a:latin typeface="Candara"/>
              </a:rPr>
              <a:t>Zadnia dotyczące wieku sprawiają nie mały kłopot gimnazjalistom. Oto kilka sposobów, które ułatwią zrozumienie </a:t>
            </a:r>
            <a:br>
              <a:rPr sz="3200"/>
            </a:br>
            <a:r>
              <a:rPr b="0" lang="pl-PL" sz="3200" spc="-1" strike="noStrike">
                <a:solidFill>
                  <a:srgbClr val="073e87"/>
                </a:solidFill>
                <a:latin typeface="Candara"/>
              </a:rPr>
              <a:t>i rozwiązanie tego typu zadań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Zadania dotyczące „wieku”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danie 1. Za 3 lata Grześ będzie 3 razy starszy niż 3 lata temu. Ile lat ma Grześ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zani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Analiza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Pytania pomocnicz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le osób występuje w zadaniu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le okresów czasu pojawia się w zadaniu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Co oznaczymy przez niewiadomą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163520" y="3284640"/>
          <a:ext cx="6096240" cy="10080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rze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52" name="pole tekstowe 5"/>
          <p:cNvSpPr/>
          <p:nvPr/>
        </p:nvSpPr>
        <p:spPr>
          <a:xfrm>
            <a:off x="6875640" y="529920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3 lat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3" name="pole tekstowe 7"/>
          <p:cNvSpPr/>
          <p:nvPr/>
        </p:nvSpPr>
        <p:spPr>
          <a:xfrm>
            <a:off x="2987640" y="512604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- 3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pole tekstowe 8"/>
          <p:cNvSpPr/>
          <p:nvPr/>
        </p:nvSpPr>
        <p:spPr>
          <a:xfrm>
            <a:off x="4859280" y="472428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+3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5" name="pole tekstowe 9"/>
          <p:cNvSpPr/>
          <p:nvPr/>
        </p:nvSpPr>
        <p:spPr>
          <a:xfrm>
            <a:off x="2843280" y="457056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(x+3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6" name="pole tekstowe 10"/>
          <p:cNvSpPr/>
          <p:nvPr/>
        </p:nvSpPr>
        <p:spPr>
          <a:xfrm>
            <a:off x="4836960" y="5299200"/>
            <a:ext cx="1368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 lata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pole tekstowe 11"/>
          <p:cNvSpPr/>
          <p:nvPr/>
        </p:nvSpPr>
        <p:spPr>
          <a:xfrm>
            <a:off x="6875640" y="478800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(x-3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pole tekstowe 12"/>
          <p:cNvSpPr/>
          <p:nvPr/>
        </p:nvSpPr>
        <p:spPr>
          <a:xfrm>
            <a:off x="1268280" y="5094360"/>
            <a:ext cx="1368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pole tekstowe 13"/>
          <p:cNvSpPr/>
          <p:nvPr/>
        </p:nvSpPr>
        <p:spPr>
          <a:xfrm>
            <a:off x="1268280" y="4573440"/>
            <a:ext cx="1368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Łącznik prostoliniowy 2"/>
          <p:cNvSpPr/>
          <p:nvPr/>
        </p:nvSpPr>
        <p:spPr>
          <a:xfrm>
            <a:off x="1219320" y="3284640"/>
            <a:ext cx="14176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Łącznik prostoliniowy 6"/>
          <p:cNvSpPr/>
          <p:nvPr/>
        </p:nvSpPr>
        <p:spPr>
          <a:xfrm flipV="1">
            <a:off x="1219320" y="3284640"/>
            <a:ext cx="14176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(x-3)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-3=3(x+3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x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3x=x-3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(x-3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Odp. Grześ ma 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     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 lat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1773000"/>
            <a:ext cx="740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x – obecny wiek Grzes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trzykrotność wieku Grzesia trzy lata temu daje jego wiek za trzy lat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tem: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3(x – 3) = x +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403280" y="2708280"/>
          <a:ext cx="3097440" cy="1112760"/>
        </p:xfrm>
        <a:graphic>
          <a:graphicData uri="http://schemas.openxmlformats.org/drawingml/2006/table">
            <a:tbl>
              <a:tblPr/>
              <a:tblGrid>
                <a:gridCol w="1548000"/>
                <a:gridCol w="1549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 +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óbujmy rozwiązać to samo zadanie nie zapisując równania. Wykorzystajmy metodę prób i błędów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Dokonajmy analizy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ierwsze zdanie z zadania - za 3 lata Grześ będzie 3 razy starszy niż 3 lata temu – informuje nas, że należy porównać wiek Grzesia sprzed 3 lat i ten, który osiągnie za 3 lata. 3 lata temu Grześ mógł mieć 1 rok lub 2 lata lub 3 lata itd. Wypełnijmy tabelkę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060280"/>
            <a:ext cx="7408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. Wypełnijmy tabelkę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. Jak łatwo zauważyć liczby z trzeciego wiersz spełniają warunki zadania. Zatem Grześ ma 6 la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12680" y="2565360"/>
            <a:ext cx="7419960" cy="23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6:36:18Z</dcterms:created>
  <dc:creator>Ania</dc:creator>
  <dc:description/>
  <dc:language>en-US</dc:language>
  <cp:lastModifiedBy>Ania</cp:lastModifiedBy>
  <dcterms:modified xsi:type="dcterms:W3CDTF">2013-05-21T20:10:56Z</dcterms:modified>
  <cp:revision>142</cp:revision>
  <dc:subject/>
  <dc:title>Rozwiązywanie zadań tekstowych stosując równania</dc:title>
</cp:coreProperties>
</file>