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4.png" ContentType="image/png"/>
  <Override PartName="/ppt/media/image3.png" ContentType="image/png"/>
  <Override PartName="/ppt/media/image2.png" ContentType="image/png"/>
  <Override PartName="/ppt/media/image25.jpeg" ContentType="image/jpeg"/>
  <Override PartName="/ppt/media/image26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png" ContentType="image/png"/>
  <Override PartName="/ppt/media/image17.png" ContentType="image/png"/>
  <Override PartName="/ppt/media/image28.png" ContentType="image/png"/>
  <Override PartName="/ppt/media/image5.png" ContentType="image/png"/>
  <Override PartName="/ppt/media/image27.jpeg" ContentType="image/jpeg"/>
  <Override PartName="/ppt/media/image10.png" ContentType="image/png"/>
  <Override PartName="/ppt/media/image24.jpeg" ContentType="image/jpeg"/>
  <Override PartName="/ppt/media/image15.png" ContentType="image/png"/>
  <Override PartName="/ppt/media/image14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52648-F14B-4EBB-A16B-C71CE40659D8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F6044-948C-4642-8585-DB9D77A3078A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40F4A-3E9D-4974-AD8B-95FFA5E1F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F0EB6-5E34-4C81-BF2C-5B6B137CA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01287-8618-4B12-A283-DDA501542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7F511-36CC-4011-8D3D-EEEA45519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3E5F4-3F99-4BBC-8E08-26D3F54C3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B81BA-5029-4360-95D0-98ECE4110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0303F-A6B2-422F-AD68-BBCCC74AE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99F19-98E5-46E4-BB7C-EE3DED426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D74C2-BFF4-4164-B7FF-145C49C03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011C1-93C5-4228-B06D-1885AFAFC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96BEE-4CB3-4B1A-A672-047AEFA4C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75537-9B36-401E-B840-9780C68A7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1B60C-648C-432F-ADDB-0C89C3D4F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1B83E-FF2F-4561-AF1B-D5FED5A81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2C817-EF38-470C-8A6E-ECCCBEF04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F8C06-F59F-4A17-97B6-A1FFA194B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D71B6-13EC-4190-9413-B80F4ABF5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8400A9-1567-4263-9421-D04207FE8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368DE0-3E0E-4E31-992E-ECC31648B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B1529A-4D86-46F7-82C1-821C840A3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D7D3C0-38C6-4011-A4E1-5BE0A385C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1611BE-8E8E-42DA-AFFC-611968DB3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9F369-4141-4397-8C4A-FA6B980E9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6CD6FD-BB95-4778-A59D-082CDFC8E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BE03B9-C5A2-4E9C-ADB5-24191A5A6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C44C4D-6FEF-4572-B121-7E77B4337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24BC5E-1DF3-488F-978A-23C6ABE8F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2EDC4E-0C2D-483E-A6E0-AAF999F17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D4B23F-AE39-4190-8D67-17A349A7C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9FE996-03EA-41A1-8607-16B898159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C9E139-4387-417E-9F7B-7E1AD152D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C9A76A-E2A9-4680-87C1-30D7E4CFB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3A951F-455D-4216-8B31-804FBA01F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F9144-F7E0-4DC1-9C63-023B17639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E78B20-A286-408E-8E1B-B00A03680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02F91C-82E0-4DDA-B27A-09174DB10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142F61-6492-4740-9A11-AE5E02145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59EA0D-C547-4977-AF8B-D0A380D9E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B8F458-CDC3-4AEE-8C56-4A35813A4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B5A4D1-B200-466F-8A9D-083F769F1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B09554-5A17-41F3-A9DD-41E1D642B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BE9625-9016-4B6F-9D5C-38DB0CB08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2FC987-BC65-4748-A5E6-83B6EE18B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DCEBFE-DB39-4F93-9CFC-0D6279053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2B184-A22B-4C85-9708-2505C9530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3D2E3D-1523-48FB-BFB6-47FAA80BA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1401DF-C41C-4E66-925D-1D864884E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DC0757-7B26-450B-B7ED-57E3626F1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47FA33-BEF5-40FD-810F-A76973C2E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494DA0-2A31-4479-9CDC-102733E7C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A7E513-ABF0-4FDA-890E-FDBD0876D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3F5A23-F886-4ED8-A8A6-69DA416B2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32B9D2-3547-4352-8875-CD587D65A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6B088C-78C6-45B1-A9AB-33F8E0A6D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492522-749A-48A3-9098-9F4BD8B11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F83E9-71A2-485B-AC4F-D190716E9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F9256F-1654-4BE9-AAA4-09E7A53A9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52DEB2-5CA1-4418-9983-35F406393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77D91C-4878-4EE2-809D-E8B36CDA6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D77B89-2527-4091-8FE3-6D318BC12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B9B640-FB18-42A5-A354-5686630DB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3DBB19-5AD1-481A-8D2A-F33475544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7E1255-CE9E-4526-88FF-47BCE11D3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7E45D8-9D19-418B-BE2C-EADF61302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33A64C-A63B-4A2E-B721-BF3260973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ADE419-A03D-4AC9-A552-72CCB8AB6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B8DC8-5A15-4968-819C-D7D01BE8A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CA6D4C-2729-49AD-A4E9-E9C60E6DE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8D797A-BBF6-4928-A301-C9EA97160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1D7310-2B84-4C17-A7CC-0EA812E6F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20D463-CBF3-463A-8867-D0379D1AA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86DA72-2C68-4EF6-B81A-9E2854A5A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D665A2-83E8-4A80-BB4F-8F23BD55D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F6911F-E90D-41BD-9058-380318A9C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CE0DDB-8C38-4FC0-AD39-CDC5BDE51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D51E2E-D850-4029-AC1D-A67D03329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FE3DF6-26C6-4C17-AD5D-2976A2EA3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8EBAD-8DAF-4862-B9A5-D7D52B2A9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160D44-4610-4E50-8A08-AE4C393E2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CA02A1-3CEB-4693-B9AA-2531AB0CB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D4902C-1AD9-4B21-970D-5196DB6F0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003F8B-6F16-42F0-9D11-0F1B289DE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304C0E-4CF0-4ECD-80D1-F3D80EE3C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8B22E-FE6F-47F4-B257-5F1FB4C91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Wycinek koła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Elipsa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Pierścień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Pierścień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Prostokąt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F6623-57E1-4922-B637-2E1E50F74200}" type="slidenum">
              <a:rPr b="0" lang="pl-P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rostokąt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ycinek koła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Elipsa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Pierścień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Pierścień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rostokąt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rostokąt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Elipsa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Elipsa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Elipsa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85D36-7F9D-4298-83AE-DB86A5FFF6E3}" type="slidenum">
              <a:rPr b="0" lang="pl-P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rostokąt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rostokąt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Elipsa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Elipsa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Elipsa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8C0CA-7FE4-44D4-9422-2F85285792B7}" type="slidenum">
              <a:rPr b="0" lang="pl-P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F6864-4C53-4D48-BF37-30ACC406E19D}" type="slidenum">
              <a:rPr b="0" lang="pl-P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rostokąt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rostokąt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CDCF5-B7B0-4E9C-ACA8-38E56F876B59}" type="slidenum">
              <a:rPr b="0" lang="pl-P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85BC6-D5F2-436E-802E-4FADC245B0BE}" type="slidenum">
              <a:rPr b="0" lang="pl-P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Prostokąt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Prostokąt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Schemat blokowy: proce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Schemat blokowy: proce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4E645-BA0C-44A2-80E0-DC3D3878C398}" type="slidenum">
              <a:rPr b="0" lang="pl-P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4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4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4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4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49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4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image" Target="../media/image16.png"/><Relationship Id="rId12" Type="http://schemas.openxmlformats.org/officeDocument/2006/relationships/image" Target="../media/image17.png"/><Relationship Id="rId1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914040" y="2204640"/>
            <a:ext cx="7545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300" spc="-1" strike="noStrike">
                <a:solidFill>
                  <a:srgbClr val="572314"/>
                </a:solidFill>
                <a:latin typeface="Book Antiqua"/>
              </a:rPr>
              <a:t>Figury </a:t>
            </a:r>
            <a:br>
              <a:rPr sz="4300"/>
            </a:br>
            <a:r>
              <a:rPr b="1" lang="pl-PL" sz="4300" spc="-1" strike="noStrike">
                <a:solidFill>
                  <a:srgbClr val="572314"/>
                </a:solidFill>
                <a:latin typeface="Book Antiqua"/>
              </a:rPr>
              <a:t>środkowosymetryczn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p:transition advTm="5000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042560" y="836280"/>
            <a:ext cx="8101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300" spc="-1" strike="noStrike">
                <a:solidFill>
                  <a:srgbClr val="572314"/>
                </a:solidFill>
                <a:latin typeface="Book Antiqua"/>
              </a:rPr>
              <a:t>Twierdzeni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1042560" y="2565000"/>
            <a:ext cx="8101080" cy="28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pl-PL" sz="3200" spc="-1" strike="noStrike">
                <a:solidFill>
                  <a:srgbClr val="000000"/>
                </a:solidFill>
                <a:latin typeface="Book Antiqua"/>
              </a:rPr>
              <a:t>Jeżeli figura ma dwie prostopadłe </a:t>
            </a:r>
            <a:br>
              <a:rPr sz="3200"/>
            </a:br>
            <a:r>
              <a:rPr b="0" lang="pl-PL" sz="3200" spc="-1" strike="noStrike">
                <a:solidFill>
                  <a:srgbClr val="000000"/>
                </a:solidFill>
                <a:latin typeface="Book Antiqua"/>
              </a:rPr>
              <a:t>do siebie osie symetrii, to punkt przecięcia się tych osi jest środkiem symetrii figury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9" name="Symbol zastępczy numeru slajdu 5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55437-4193-4E2E-8590-BED203BD75BB}" type="slidenum">
              <a:rPr b="0" lang="pl-P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zoom dir="out"/>
  </p:transition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2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2000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971280" y="274320"/>
            <a:ext cx="79628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300" spc="-1" strike="noStrike">
                <a:solidFill>
                  <a:srgbClr val="572314"/>
                </a:solidFill>
                <a:latin typeface="Book Antiqua"/>
              </a:rPr>
              <a:t>Zadanie 7.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1042560" y="980640"/>
            <a:ext cx="78598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Book Antiqu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pl-PL" sz="3200" spc="-1" strike="noStrike">
                <a:solidFill>
                  <a:srgbClr val="000000"/>
                </a:solidFill>
                <a:latin typeface="Book Antiqua"/>
              </a:rPr>
              <a:t>Podaj przykłady kilku figur, które mają środek symetrii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pl-PL" sz="3200" spc="-1" strike="noStrike">
                <a:solidFill>
                  <a:srgbClr val="000000"/>
                </a:solidFill>
                <a:latin typeface="Book Antiqua"/>
              </a:rPr>
              <a:t>(Możesz wykorzystać powyższe twierdzenie)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 advTm="7000">
    <p:zoom dir="out"/>
  </p:transition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2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2000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2000"/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2000"/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042560" y="274320"/>
            <a:ext cx="8101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300" spc="-1" strike="noStrike">
                <a:solidFill>
                  <a:srgbClr val="572314"/>
                </a:solidFill>
                <a:latin typeface="Book Antiqua"/>
              </a:rPr>
              <a:t>Przykład 5.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1042560" y="4653000"/>
            <a:ext cx="7921800" cy="143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Book Antiqua"/>
              </a:rPr>
              <a:t>Dowolna prosta przechodząca przez środek okręgu jest jego osią symetrii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4" name="Symbol zastępczy numeru slajdu 5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DFCF3-E5FE-4742-9C28-EB6EA165C796}" type="slidenum">
              <a:rPr b="0" lang="pl-P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Elipsa 5"/>
          <p:cNvSpPr/>
          <p:nvPr/>
        </p:nvSpPr>
        <p:spPr>
          <a:xfrm>
            <a:off x="4716360" y="1197000"/>
            <a:ext cx="3024360" cy="30240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Łącznik prosty 7"/>
          <p:cNvSpPr/>
          <p:nvPr/>
        </p:nvSpPr>
        <p:spPr>
          <a:xfrm>
            <a:off x="3924360" y="1700280"/>
            <a:ext cx="5040360" cy="2233440"/>
          </a:xfrm>
          <a:prstGeom prst="line">
            <a:avLst/>
          </a:prstGeom>
          <a:ln w="93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Łącznik prosty 9"/>
          <p:cNvSpPr/>
          <p:nvPr/>
        </p:nvSpPr>
        <p:spPr>
          <a:xfrm flipH="1">
            <a:off x="5363640" y="549360"/>
            <a:ext cx="1800360" cy="4103640"/>
          </a:xfrm>
          <a:prstGeom prst="line">
            <a:avLst/>
          </a:prstGeom>
          <a:ln w="93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zoom dir="out"/>
  </p:transition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042560" y="274320"/>
            <a:ext cx="789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300" spc="-1" strike="noStrike">
                <a:solidFill>
                  <a:srgbClr val="572314"/>
                </a:solidFill>
                <a:latin typeface="Book Antiqua"/>
              </a:rPr>
              <a:t>Przykład 6.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971280" y="4941360"/>
            <a:ext cx="7715160" cy="11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pl-PL" sz="2800" spc="-1" strike="noStrike">
                <a:solidFill>
                  <a:srgbClr val="000000"/>
                </a:solidFill>
                <a:latin typeface="Book Antiqua"/>
              </a:rPr>
              <a:t>Proste, które zawierają  przekątne kwadratu są jego osiami symetrii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0" name="Symbol zastępczy numeru slajdu 5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849A5-A0BB-45FF-93DC-20B9442C847B}" type="slidenum">
              <a:rPr b="0" lang="pl-P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rostokąt 15"/>
          <p:cNvSpPr/>
          <p:nvPr/>
        </p:nvSpPr>
        <p:spPr>
          <a:xfrm rot="1223400">
            <a:off x="5138280" y="1363680"/>
            <a:ext cx="2173320" cy="21430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Łącznik prosty 29"/>
          <p:cNvSpPr/>
          <p:nvPr/>
        </p:nvSpPr>
        <p:spPr>
          <a:xfrm>
            <a:off x="5292720" y="476280"/>
            <a:ext cx="194328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Łącznik prosty 33"/>
          <p:cNvSpPr/>
          <p:nvPr/>
        </p:nvSpPr>
        <p:spPr>
          <a:xfrm flipV="1">
            <a:off x="4067280" y="1197000"/>
            <a:ext cx="4825800" cy="22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zoom dir="out"/>
  </p:transition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2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2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2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2000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971280" y="274320"/>
            <a:ext cx="7962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300" spc="-1" strike="noStrike">
                <a:solidFill>
                  <a:srgbClr val="572314"/>
                </a:solidFill>
                <a:latin typeface="Book Antiqua"/>
              </a:rPr>
              <a:t>Przykład 7.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5" name="Schemat blokowy: proces 3"/>
          <p:cNvSpPr/>
          <p:nvPr/>
        </p:nvSpPr>
        <p:spPr>
          <a:xfrm>
            <a:off x="3635280" y="1773360"/>
            <a:ext cx="3313080" cy="1726920"/>
          </a:xfrm>
          <a:prstGeom prst="flowChartProcess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Łącznik prosty 5"/>
          <p:cNvSpPr/>
          <p:nvPr/>
        </p:nvSpPr>
        <p:spPr>
          <a:xfrm>
            <a:off x="5292720" y="907920"/>
            <a:ext cx="0" cy="345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Łącznik prosty 7"/>
          <p:cNvSpPr/>
          <p:nvPr/>
        </p:nvSpPr>
        <p:spPr>
          <a:xfrm flipH="1">
            <a:off x="2700000" y="2637000"/>
            <a:ext cx="525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rostokąt 10"/>
          <p:cNvSpPr/>
          <p:nvPr/>
        </p:nvSpPr>
        <p:spPr>
          <a:xfrm>
            <a:off x="1042920" y="5157720"/>
            <a:ext cx="810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Book Antiqua"/>
              </a:rPr>
              <a:t>Symetralne boków prostokąta są jego osiami symetri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zoom dir="out"/>
  </p:transition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2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2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2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2000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042560" y="274320"/>
            <a:ext cx="789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300" spc="-1" strike="noStrike">
                <a:solidFill>
                  <a:srgbClr val="572314"/>
                </a:solidFill>
                <a:latin typeface="Book Antiqua"/>
              </a:rPr>
              <a:t>Przykład 8.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1042560" y="5013000"/>
            <a:ext cx="7777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pl-PL" sz="2800" spc="-1" strike="noStrike">
                <a:solidFill>
                  <a:srgbClr val="000000"/>
                </a:solidFill>
                <a:latin typeface="Book Antiqua"/>
              </a:rPr>
              <a:t>Istnieją figury środkowosymetryczne nieposiadające żadnej osi symetrii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1" name="Symbol zastępczy numeru slajdu 5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57F06-4C7B-47F2-ADE5-F3D291AA75A4}" type="slidenum">
              <a:rPr b="0" lang="pl-P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Schemat blokowy: proces 51"/>
          <p:cNvSpPr/>
          <p:nvPr/>
        </p:nvSpPr>
        <p:spPr>
          <a:xfrm>
            <a:off x="3564000" y="2205000"/>
            <a:ext cx="3456000" cy="863640"/>
          </a:xfrm>
          <a:prstGeom prst="flowChartProcess">
            <a:avLst/>
          </a:prstGeom>
          <a:solidFill>
            <a:srgbClr val="ffc0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Schemat blokowy: proces 52"/>
          <p:cNvSpPr/>
          <p:nvPr/>
        </p:nvSpPr>
        <p:spPr>
          <a:xfrm>
            <a:off x="3851280" y="3068640"/>
            <a:ext cx="576360" cy="431640"/>
          </a:xfrm>
          <a:prstGeom prst="flowChartProcess">
            <a:avLst/>
          </a:prstGeom>
          <a:solidFill>
            <a:srgbClr val="ffc0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Schemat blokowy: proces 53"/>
          <p:cNvSpPr/>
          <p:nvPr/>
        </p:nvSpPr>
        <p:spPr>
          <a:xfrm>
            <a:off x="6156360" y="1773360"/>
            <a:ext cx="576360" cy="431640"/>
          </a:xfrm>
          <a:prstGeom prst="flowChartProcess">
            <a:avLst/>
          </a:prstGeom>
          <a:solidFill>
            <a:srgbClr val="ffc0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Elipsa 8"/>
          <p:cNvSpPr/>
          <p:nvPr/>
        </p:nvSpPr>
        <p:spPr>
          <a:xfrm flipV="1">
            <a:off x="5219640" y="2637000"/>
            <a:ext cx="73080" cy="712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7000">
    <p:zoom dir="out"/>
  </p:transition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2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2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2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2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2000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300" spc="-1" strike="noStrike">
                <a:solidFill>
                  <a:srgbClr val="572314"/>
                </a:solidFill>
                <a:latin typeface="Book Antiqua"/>
              </a:rPr>
              <a:t>Zadanie 8.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96880" indent="-5144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Book Antiqu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Book Antiqua"/>
              </a:rPr>
              <a:t>Jeśli czworokąt ma środek symetrii, podaj jaki warunek muszą spełniać jego przekątne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96880" indent="-5144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Book Antiqu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Book Antiqua"/>
              </a:rPr>
              <a:t>Czy znasz figurę, która ma więcej niż jeden środek symetrii? </a:t>
            </a:r>
            <a:br>
              <a:rPr sz="3200"/>
            </a:br>
            <a:r>
              <a:rPr b="0" lang="pl-PL" sz="3200" spc="-1" strike="noStrike">
                <a:solidFill>
                  <a:srgbClr val="000000"/>
                </a:solidFill>
                <a:latin typeface="Book Antiqua"/>
              </a:rPr>
              <a:t>Jeśli tak, podaj przykład takiej figury</a:t>
            </a:r>
            <a:r>
              <a:rPr b="0" lang="pl-PL" sz="32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 advTm="12000">
    <p:zoom dir="out"/>
  </p:transition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2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2000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2000"/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900000" y="6919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300" spc="-1" strike="noStrike">
                <a:solidFill>
                  <a:srgbClr val="572314"/>
                </a:solidFill>
                <a:latin typeface="Book Antiqua"/>
              </a:rPr>
              <a:t>Uwaga !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971280" y="2060280"/>
            <a:ext cx="817236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pl-PL" sz="3200" spc="-1" strike="noStrike">
                <a:solidFill>
                  <a:srgbClr val="000000"/>
                </a:solidFill>
                <a:latin typeface="Book Antiqua"/>
              </a:rPr>
              <a:t>Jeśli figura ma więcej niż jeden środek symetrii, to ma ich nieskończenie wiele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pl-PL" sz="3200" spc="-1" strike="noStrike">
                <a:solidFill>
                  <a:srgbClr val="000000"/>
                </a:solidFill>
                <a:latin typeface="Book Antiqua"/>
              </a:rPr>
              <a:t>Przykłady: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pl-PL" sz="3200" spc="-1" strike="noStrike">
                <a:solidFill>
                  <a:srgbClr val="000000"/>
                </a:solidFill>
                <a:latin typeface="Book Antiqua"/>
              </a:rPr>
              <a:t>prosta, płaszczyzna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0" name="Symbol zastępczy numeru slajdu 5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7014F-33AE-4569-A9D9-D13A182187DE}" type="slidenum">
              <a:rPr b="0" lang="pl-P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zoom dir="out"/>
  </p:transition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2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2000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2000"/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2000"/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042920" y="115560"/>
            <a:ext cx="7850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300" spc="-1" strike="noStrike">
                <a:solidFill>
                  <a:srgbClr val="572314"/>
                </a:solidFill>
                <a:latin typeface="Book Antiqua"/>
              </a:rPr>
              <a:t>Zadanie 9.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971280" y="1125360"/>
            <a:ext cx="817236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Book Antiqua"/>
              </a:rPr>
              <a:t>Które zdanie jest prawdziwe?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Book Antiqua"/>
              </a:rPr>
              <a:t>Jeżeli czworokąt ma środek symetrii, to jest równoległobokiem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Book Antiqua"/>
              </a:rPr>
              <a:t>Trójkąt ma środek symetrii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Book Antiqua"/>
              </a:rPr>
              <a:t>Para prostych równoległych ma nieskończenie wiele środków symetrii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Book Antiqua"/>
              </a:rPr>
              <a:t>Środek symetrii figury zawsze do niej należy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Book Antiqua"/>
              </a:rPr>
              <a:t>Wielokąt, który ma parzystą liczbę boków ma dwa środki symetrii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Book Antiqua"/>
              </a:rPr>
              <a:t>Żaden siedmiokąt nie ma środka symetrii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 advTm="26000">
    <p:zoom dir="out"/>
  </p:transition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2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2000"/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2000"/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2000"/>
                                        <p:tgtEl>
                                          <p:spTgt spid="4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2000"/>
                                        <p:tgtEl>
                                          <p:spTgt spid="4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2000"/>
                                        <p:tgtEl>
                                          <p:spTgt spid="4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2000"/>
                                        <p:tgtEl>
                                          <p:spTgt spid="4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2000"/>
                                        <p:tgtEl>
                                          <p:spTgt spid="4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971280" y="274320"/>
            <a:ext cx="7962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300" spc="-1" strike="noStrike">
                <a:solidFill>
                  <a:srgbClr val="572314"/>
                </a:solidFill>
                <a:latin typeface="Book Antiqua"/>
              </a:rPr>
              <a:t>Przykłady </a:t>
            </a:r>
            <a:br>
              <a:rPr sz="4300"/>
            </a:br>
            <a:r>
              <a:rPr b="0" lang="pl-PL" sz="4300" spc="-1" strike="noStrike">
                <a:solidFill>
                  <a:srgbClr val="572314"/>
                </a:solidFill>
                <a:latin typeface="Book Antiqua"/>
              </a:rPr>
              <a:t>symetrii środkowej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414" name="Picture 2" descr="http://dogin.blox.pl/resource/plateklod.jpg"/>
          <p:cNvPicPr/>
          <p:nvPr/>
        </p:nvPicPr>
        <p:blipFill>
          <a:blip r:embed="rId1"/>
          <a:stretch/>
        </p:blipFill>
        <p:spPr>
          <a:xfrm>
            <a:off x="2987640" y="1700280"/>
            <a:ext cx="4362480" cy="4800600"/>
          </a:xfrm>
          <a:prstGeom prst="rect">
            <a:avLst/>
          </a:prstGeom>
          <a:ln w="0">
            <a:noFill/>
          </a:ln>
        </p:spPr>
      </p:pic>
    </p:spTree>
  </p:cSld>
  <p:transition advTm="8000">
    <p:zoom dir="out"/>
  </p:transition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4" dur="2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2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042560" y="274320"/>
            <a:ext cx="8101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300" spc="-1" strike="noStrike">
                <a:solidFill>
                  <a:srgbClr val="572314"/>
                </a:solidFill>
                <a:latin typeface="Book Antiqua"/>
              </a:rPr>
              <a:t>Definicj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1042560" y="2276640"/>
            <a:ext cx="810108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pl-PL" sz="3200" spc="-1" strike="noStrike">
                <a:solidFill>
                  <a:srgbClr val="000000"/>
                </a:solidFill>
                <a:latin typeface="Book Antiqua"/>
              </a:rPr>
              <a:t>Jeśli figura jest symetryczna sama do siebie względem pewnego punktu </a:t>
            </a:r>
            <a:r>
              <a:rPr b="1" lang="pl-PL" sz="3200" spc="-1" strike="noStrike">
                <a:solidFill>
                  <a:srgbClr val="ff0000"/>
                </a:solidFill>
                <a:latin typeface="Book Antiqua"/>
              </a:rPr>
              <a:t>S</a:t>
            </a:r>
            <a:r>
              <a:rPr b="0" lang="pl-PL" sz="3200" spc="-1" strike="noStrike">
                <a:solidFill>
                  <a:srgbClr val="000000"/>
                </a:solidFill>
                <a:latin typeface="Book Antiqua"/>
              </a:rPr>
              <a:t>, to punkt </a:t>
            </a:r>
            <a:r>
              <a:rPr b="1" lang="pl-PL" sz="3200" spc="-1" strike="noStrike">
                <a:solidFill>
                  <a:srgbClr val="ff0000"/>
                </a:solidFill>
                <a:latin typeface="Book Antiqua"/>
              </a:rPr>
              <a:t>S</a:t>
            </a:r>
            <a:r>
              <a:rPr b="0" lang="pl-PL" sz="3200" spc="-1" strike="noStrike">
                <a:solidFill>
                  <a:srgbClr val="ff0000"/>
                </a:solidFill>
                <a:latin typeface="Book Antiqua"/>
              </a:rPr>
              <a:t> </a:t>
            </a:r>
            <a:r>
              <a:rPr b="0" lang="pl-PL" sz="3200" spc="-1" strike="noStrike">
                <a:solidFill>
                  <a:srgbClr val="000000"/>
                </a:solidFill>
                <a:latin typeface="Book Antiqua"/>
              </a:rPr>
              <a:t>nazywamy </a:t>
            </a:r>
            <a:r>
              <a:rPr b="1" lang="pl-PL" sz="3200" spc="-1" strike="noStrike">
                <a:solidFill>
                  <a:srgbClr val="000000"/>
                </a:solidFill>
                <a:latin typeface="Book Antiqua"/>
              </a:rPr>
              <a:t>środkiem symetrii </a:t>
            </a:r>
            <a:r>
              <a:rPr b="0" lang="pl-PL" sz="3200" spc="-1" strike="noStrike">
                <a:solidFill>
                  <a:srgbClr val="000000"/>
                </a:solidFill>
                <a:latin typeface="Book Antiqua"/>
              </a:rPr>
              <a:t>figury, a taką figurę nazywamy</a:t>
            </a:r>
            <a:r>
              <a:rPr b="0" i="1" lang="pl-PL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i="1" lang="pl-PL" sz="3200" spc="-1" strike="noStrike" u="sng">
                <a:solidFill>
                  <a:srgbClr val="000000"/>
                </a:solidFill>
                <a:uFillTx/>
                <a:latin typeface="Book Antiqua"/>
              </a:rPr>
              <a:t>środkowosymetryczną</a:t>
            </a:r>
            <a:r>
              <a:rPr b="0" lang="pl-PL" sz="3200" spc="-1" strike="noStrike">
                <a:solidFill>
                  <a:srgbClr val="000000"/>
                </a:solidFill>
                <a:latin typeface="Book Antiqu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Symbol zastępczy numeru slajdu 5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32C32-6832-4104-8FD5-3639DEAE5002}" type="slidenum">
              <a:rPr b="0" lang="pl-P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2000">
    <p:zoom dir="ou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Picture 4" descr="snow_flake_01"/>
          <p:cNvPicPr/>
          <p:nvPr/>
        </p:nvPicPr>
        <p:blipFill>
          <a:blip r:embed="rId1"/>
          <a:stretch/>
        </p:blipFill>
        <p:spPr>
          <a:xfrm>
            <a:off x="1692360" y="549360"/>
            <a:ext cx="6335640" cy="5840280"/>
          </a:xfrm>
          <a:prstGeom prst="rect">
            <a:avLst/>
          </a:prstGeom>
          <a:ln w="0">
            <a:solidFill>
              <a:srgbClr val="daccab"/>
            </a:solidFill>
          </a:ln>
        </p:spPr>
      </p:pic>
    </p:spTree>
  </p:cSld>
  <p:transition advTm="3000">
    <p:zoom dir="out"/>
  </p:transition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2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Picture 4" descr="http://bialczynski.files.wordpress.com/2010/02/0-pipewort1.jpg"/>
          <p:cNvPicPr/>
          <p:nvPr/>
        </p:nvPicPr>
        <p:blipFill>
          <a:blip r:embed="rId1"/>
          <a:stretch/>
        </p:blipFill>
        <p:spPr>
          <a:xfrm>
            <a:off x="1258920" y="404640"/>
            <a:ext cx="7493040" cy="5616720"/>
          </a:xfrm>
          <a:prstGeom prst="rect">
            <a:avLst/>
          </a:prstGeom>
          <a:ln w="0">
            <a:noFill/>
          </a:ln>
        </p:spPr>
      </p:pic>
    </p:spTree>
  </p:cSld>
  <p:transition advTm="5000"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Picture 5" descr="Rozeta"/>
          <p:cNvPicPr/>
          <p:nvPr/>
        </p:nvPicPr>
        <p:blipFill>
          <a:blip r:embed="rId1"/>
          <a:stretch/>
        </p:blipFill>
        <p:spPr>
          <a:xfrm>
            <a:off x="1476360" y="692280"/>
            <a:ext cx="7099200" cy="532584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</p:spTree>
  </p:cSld>
  <p:transition advTm="4000">
    <p:zoom dir="out"/>
  </p:transition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2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Picture 2" descr="http://e-witraze.pl/user_uploaded/1286452927.jpg"/>
          <p:cNvPicPr/>
          <p:nvPr/>
        </p:nvPicPr>
        <p:blipFill>
          <a:blip r:embed="rId1"/>
          <a:stretch/>
        </p:blipFill>
        <p:spPr>
          <a:xfrm>
            <a:off x="1835280" y="189000"/>
            <a:ext cx="6192720" cy="6192720"/>
          </a:xfrm>
          <a:prstGeom prst="rect">
            <a:avLst/>
          </a:prstGeom>
          <a:ln w="0">
            <a:noFill/>
          </a:ln>
        </p:spPr>
      </p:pic>
    </p:spTree>
  </p:cSld>
  <p:transition advTm="5000">
    <p:zoom dir="out"/>
  </p:transition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2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Picture 4" descr="rozeta3_d"/>
          <p:cNvPicPr/>
          <p:nvPr/>
        </p:nvPicPr>
        <p:blipFill>
          <a:blip r:embed="rId1"/>
          <a:stretch/>
        </p:blipFill>
        <p:spPr>
          <a:xfrm>
            <a:off x="2268360" y="404640"/>
            <a:ext cx="5904000" cy="590400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</p:spTree>
  </p:cSld>
  <p:transition advTm="4000">
    <p:zoom dir="out"/>
  </p:transition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7" dur="2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Picture 2" descr="http://us.123rf.com/400wm/400/400/evdoha/evdoha1012/evdoha101200407/8422448-mozaiki.jpg"/>
          <p:cNvPicPr/>
          <p:nvPr/>
        </p:nvPicPr>
        <p:blipFill>
          <a:blip r:embed="rId1"/>
          <a:stretch/>
        </p:blipFill>
        <p:spPr>
          <a:xfrm>
            <a:off x="1835280" y="549360"/>
            <a:ext cx="6481800" cy="5832360"/>
          </a:xfrm>
          <a:prstGeom prst="rect">
            <a:avLst/>
          </a:prstGeom>
          <a:ln w="0">
            <a:noFill/>
          </a:ln>
        </p:spPr>
      </p:pic>
    </p:spTree>
  </p:cSld>
  <p:transition advTm="6000">
    <p:zoom dir="out"/>
  </p:transition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4" dur="2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4" descr="moja_koszyczkowa"/>
          <p:cNvPicPr/>
          <p:nvPr/>
        </p:nvPicPr>
        <p:blipFill>
          <a:blip r:embed="rId1"/>
          <a:stretch/>
        </p:blipFill>
        <p:spPr>
          <a:xfrm>
            <a:off x="1547640" y="333360"/>
            <a:ext cx="6985080" cy="612144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</p:spTree>
  </p:cSld>
  <p:transition advTm="4000">
    <p:zoom dir="out"/>
  </p:transition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1" dur="2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Picture 2" descr="http://us.123rf.com/400wm/400/400/markovka/markovka1209/markovka120900050/15442671-ozdobny-wzor-koronki-runda-tlo-kolo-z-wieloma-szczegolami-wyglada-jak-szydelkowanie-recznie-koronki.jpg"/>
          <p:cNvPicPr/>
          <p:nvPr/>
        </p:nvPicPr>
        <p:blipFill>
          <a:blip r:embed="rId1"/>
          <a:stretch/>
        </p:blipFill>
        <p:spPr>
          <a:xfrm>
            <a:off x="2050920" y="549360"/>
            <a:ext cx="6143760" cy="6019560"/>
          </a:xfrm>
          <a:prstGeom prst="rect">
            <a:avLst/>
          </a:prstGeom>
          <a:ln w="0">
            <a:noFill/>
          </a:ln>
        </p:spPr>
      </p:pic>
    </p:spTree>
  </p:cSld>
  <p:transition advTm="3000">
    <p:zoom dir="out"/>
  </p:transition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8" dur="2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Picture 4" descr="http://www.piatnik.pl/Obrazy/karty_kodowane.jpg"/>
          <p:cNvPicPr/>
          <p:nvPr/>
        </p:nvPicPr>
        <p:blipFill>
          <a:blip r:embed="rId1"/>
          <a:stretch/>
        </p:blipFill>
        <p:spPr>
          <a:xfrm>
            <a:off x="1187280" y="476280"/>
            <a:ext cx="7777440" cy="5846760"/>
          </a:xfrm>
          <a:prstGeom prst="rect">
            <a:avLst/>
          </a:prstGeom>
          <a:ln w="0">
            <a:noFill/>
          </a:ln>
        </p:spPr>
      </p:pic>
    </p:spTree>
  </p:cSld>
  <p:transition advTm="5000">
    <p:zoom dir="out"/>
  </p:transition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2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Picture 5" descr=""/>
          <p:cNvPicPr/>
          <p:nvPr/>
        </p:nvPicPr>
        <p:blipFill>
          <a:blip r:embed="rId1"/>
          <a:stretch/>
        </p:blipFill>
        <p:spPr>
          <a:xfrm>
            <a:off x="2411280" y="260280"/>
            <a:ext cx="5256360" cy="5419800"/>
          </a:xfrm>
          <a:prstGeom prst="rect">
            <a:avLst/>
          </a:prstGeom>
          <a:ln w="0">
            <a:noFill/>
          </a:ln>
        </p:spPr>
      </p:pic>
      <p:sp>
        <p:nvSpPr>
          <p:cNvPr id="425" name="Prostokąt 2"/>
          <p:cNvSpPr/>
          <p:nvPr/>
        </p:nvSpPr>
        <p:spPr>
          <a:xfrm>
            <a:off x="1187280" y="5904000"/>
            <a:ext cx="7561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Tempietto kaplica na dziedzińcu kościoła </a:t>
            </a:r>
            <a:r>
              <a:rPr b="1" i="1" lang="pl-PL" sz="2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San Pietro</a:t>
            </a:r>
            <a:r>
              <a:rPr b="1" lang="pl-PL" sz="2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 w Rzym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zoom dir="out"/>
  </p:transition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2" dur="2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7" dur="2000"/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042560" y="274320"/>
            <a:ext cx="789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300" spc="-1" strike="noStrike">
                <a:solidFill>
                  <a:srgbClr val="572314"/>
                </a:solidFill>
                <a:latin typeface="Book Antiqua"/>
              </a:rPr>
              <a:t>Przykład 1.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1042560" y="5229000"/>
            <a:ext cx="7489800" cy="143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pl-PL" sz="2800" spc="-1" strike="noStrike">
                <a:solidFill>
                  <a:srgbClr val="000000"/>
                </a:solidFill>
                <a:latin typeface="Book Antiqua"/>
              </a:rPr>
              <a:t>Środkiem symetrii okręgu jest jego środek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1" name="Symbol zastępczy numeru slajdu 5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1CEE0-FEA7-4314-BB4A-434CC0557432}" type="slidenum">
              <a:rPr b="0" lang="pl-P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Elipsa 5"/>
          <p:cNvSpPr/>
          <p:nvPr/>
        </p:nvSpPr>
        <p:spPr>
          <a:xfrm>
            <a:off x="3419640" y="1773360"/>
            <a:ext cx="3168360" cy="3168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Elipsa 6"/>
          <p:cNvSpPr/>
          <p:nvPr/>
        </p:nvSpPr>
        <p:spPr>
          <a:xfrm flipH="1" flipV="1">
            <a:off x="5003640" y="3357000"/>
            <a:ext cx="46080" cy="442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ole tekstowe 7"/>
          <p:cNvSpPr/>
          <p:nvPr/>
        </p:nvSpPr>
        <p:spPr>
          <a:xfrm>
            <a:off x="4948560" y="2924280"/>
            <a:ext cx="30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0000"/>
                </a:solidFill>
                <a:latin typeface="Gill Sans MT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zoom dir="out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 txBox="1"/>
          <p:nvPr/>
        </p:nvSpPr>
        <p:spPr>
          <a:xfrm>
            <a:off x="1476360" y="3068640"/>
            <a:ext cx="7221600" cy="28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96880" indent="-5144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Book Antiqua"/>
              </a:rPr>
              <a:t>Pomysły zadań zostały zaczerpnięte z podręcznika do 1 klasy gimnazjum „Matematyka z plusem”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596880" indent="-5144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Book Antiqua"/>
              </a:rPr>
              <a:t>Adresy stron internetowych: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871560" indent="-51444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 u="sng">
                <a:solidFill>
                  <a:srgbClr val="000000"/>
                </a:solidFill>
                <a:uFillTx/>
                <a:latin typeface="Book Antiqua"/>
              </a:rPr>
              <a:t>SnowCrystals.com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871560" indent="-51444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Book Antiqua"/>
              </a:rPr>
              <a:t>www.hiren.info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871560" indent="-51444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 u="sng">
                <a:solidFill>
                  <a:srgbClr val="000000"/>
                </a:solidFill>
                <a:uFillTx/>
                <a:latin typeface="Book Antiqua"/>
              </a:rPr>
              <a:t>e-witraze.pl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871560" indent="-51444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Book Antiqua"/>
              </a:rPr>
              <a:t>pl.123rf.com 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871560" indent="-51444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Book Antiqua"/>
              </a:rPr>
              <a:t>www.greatbuildings.com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871560" indent="-5144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871560" indent="-51444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871560" indent="-51444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7" name="Symbol zastępczy numeru slajdu 5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546D6-FC28-4723-A3FA-8673DB812E24}" type="slidenum">
              <a:rPr b="0" lang="pl-P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AutoShape 7"/>
          <p:cNvSpPr/>
          <p:nvPr/>
        </p:nvSpPr>
        <p:spPr>
          <a:xfrm>
            <a:off x="1692360" y="981000"/>
            <a:ext cx="6480000" cy="1584360"/>
          </a:xfrm>
          <a:prstGeom prst="horizontalScroll">
            <a:avLst>
              <a:gd name="adj" fmla="val 12500"/>
            </a:avLst>
          </a:prstGeom>
          <a:solidFill>
            <a:srgbClr val="feb80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4f271c"/>
                </a:solidFill>
                <a:latin typeface="Gill Sans MT"/>
              </a:rPr>
              <a:t>Dziękuj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9000">
    <p:zoom dir="out"/>
  </p:transition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2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7" dur="2000"/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2000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2000"/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0" dur="2000"/>
                                        <p:tgtEl>
                                          <p:spTgt spid="4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3" dur="2000"/>
                                        <p:tgtEl>
                                          <p:spTgt spid="4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6" dur="2000"/>
                                        <p:tgtEl>
                                          <p:spTgt spid="4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9" dur="2000"/>
                                        <p:tgtEl>
                                          <p:spTgt spid="4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2" dur="2000"/>
                                        <p:tgtEl>
                                          <p:spTgt spid="4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042560" y="274320"/>
            <a:ext cx="789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300" spc="-1" strike="noStrike">
                <a:solidFill>
                  <a:srgbClr val="572314"/>
                </a:solidFill>
                <a:latin typeface="Book Antiqua"/>
              </a:rPr>
              <a:t>Przykład 2.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1042560" y="4797360"/>
            <a:ext cx="8101080" cy="133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pl-PL" sz="2800" spc="-1" strike="noStrike">
                <a:solidFill>
                  <a:srgbClr val="000000"/>
                </a:solidFill>
                <a:latin typeface="Book Antiqua"/>
              </a:rPr>
              <a:t>Środkiem symetrii kwadratu jest punkt przecięcia jego przekątnych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7" name="Symbol zastępczy numeru slajdu 5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DE7F5-EC84-46EF-B7CE-2B91113C4450}" type="slidenum">
              <a:rPr b="0" lang="pl-P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rostokąt 5"/>
          <p:cNvSpPr/>
          <p:nvPr/>
        </p:nvSpPr>
        <p:spPr>
          <a:xfrm>
            <a:off x="4716360" y="1268280"/>
            <a:ext cx="2664000" cy="2881440"/>
          </a:xfrm>
          <a:prstGeom prst="rect">
            <a:avLst/>
          </a:prstGeom>
          <a:solidFill>
            <a:srgbClr val="feb80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Łącznik prosty 11"/>
          <p:cNvSpPr/>
          <p:nvPr/>
        </p:nvSpPr>
        <p:spPr>
          <a:xfrm flipV="1">
            <a:off x="4716360" y="1268280"/>
            <a:ext cx="2664000" cy="288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Łącznik prosty 13"/>
          <p:cNvSpPr/>
          <p:nvPr/>
        </p:nvSpPr>
        <p:spPr>
          <a:xfrm>
            <a:off x="4716360" y="1268280"/>
            <a:ext cx="2664000" cy="288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ole tekstowe 8"/>
          <p:cNvSpPr/>
          <p:nvPr/>
        </p:nvSpPr>
        <p:spPr>
          <a:xfrm>
            <a:off x="5884200" y="2276640"/>
            <a:ext cx="30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0000"/>
                </a:solidFill>
                <a:latin typeface="Gill Sans MT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zoom dir="out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042560" y="274320"/>
            <a:ext cx="789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300" spc="-1" strike="noStrike">
                <a:solidFill>
                  <a:srgbClr val="572314"/>
                </a:solidFill>
                <a:latin typeface="Book Antiqua"/>
              </a:rPr>
              <a:t>Przykład 3.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3" name="Schemat blokowy: proces 3"/>
          <p:cNvSpPr/>
          <p:nvPr/>
        </p:nvSpPr>
        <p:spPr>
          <a:xfrm>
            <a:off x="3635280" y="1773360"/>
            <a:ext cx="3313080" cy="1726920"/>
          </a:xfrm>
          <a:prstGeom prst="flowChartProcess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Łącznik prosty 5"/>
          <p:cNvSpPr/>
          <p:nvPr/>
        </p:nvSpPr>
        <p:spPr>
          <a:xfrm>
            <a:off x="5292720" y="907920"/>
            <a:ext cx="0" cy="345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Łącznik prosty 7"/>
          <p:cNvSpPr/>
          <p:nvPr/>
        </p:nvSpPr>
        <p:spPr>
          <a:xfrm flipH="1">
            <a:off x="2700000" y="2637000"/>
            <a:ext cx="525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rostokąt 10"/>
          <p:cNvSpPr/>
          <p:nvPr/>
        </p:nvSpPr>
        <p:spPr>
          <a:xfrm>
            <a:off x="1042920" y="5157720"/>
            <a:ext cx="810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Book Antiqua"/>
              </a:rPr>
              <a:t>Środkiem symetrii prostokąta jest punkt przecięcia jego osi symetri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ole tekstowe 6"/>
          <p:cNvSpPr/>
          <p:nvPr/>
        </p:nvSpPr>
        <p:spPr>
          <a:xfrm>
            <a:off x="5235840" y="2276640"/>
            <a:ext cx="30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0000"/>
                </a:solidFill>
                <a:latin typeface="Gill Sans MT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zoom dir="out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042560" y="259920"/>
            <a:ext cx="789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300" spc="-1" strike="noStrike">
                <a:solidFill>
                  <a:srgbClr val="572314"/>
                </a:solidFill>
                <a:latin typeface="Book Antiqua"/>
              </a:rPr>
              <a:t>Przykład 4.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1042560" y="5013000"/>
            <a:ext cx="7777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Book Antiqua"/>
              </a:rPr>
              <a:t>F</a:t>
            </a:r>
            <a:r>
              <a:rPr b="0" lang="pl-PL" sz="2800" spc="-1" strike="noStrike">
                <a:solidFill>
                  <a:srgbClr val="000000"/>
                </a:solidFill>
                <a:latin typeface="Book Antiqua"/>
              </a:rPr>
              <a:t>igura środkowosymetryczna nieposiadająca żadnej osi symetrii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Symbol zastępczy numeru slajdu 5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26584-ADFD-4398-8B40-106A0BD4C5B1}" type="slidenum">
              <a:rPr b="0" lang="pl-P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Schemat blokowy: proces 51"/>
          <p:cNvSpPr/>
          <p:nvPr/>
        </p:nvSpPr>
        <p:spPr>
          <a:xfrm>
            <a:off x="3564000" y="2205000"/>
            <a:ext cx="3456000" cy="863640"/>
          </a:xfrm>
          <a:prstGeom prst="flowChartProcess">
            <a:avLst/>
          </a:prstGeom>
          <a:solidFill>
            <a:srgbClr val="ffc0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Schemat blokowy: proces 52"/>
          <p:cNvSpPr/>
          <p:nvPr/>
        </p:nvSpPr>
        <p:spPr>
          <a:xfrm>
            <a:off x="3851280" y="3068640"/>
            <a:ext cx="576360" cy="431640"/>
          </a:xfrm>
          <a:prstGeom prst="flowChartProcess">
            <a:avLst/>
          </a:prstGeom>
          <a:solidFill>
            <a:srgbClr val="ffc0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Schemat blokowy: proces 53"/>
          <p:cNvSpPr/>
          <p:nvPr/>
        </p:nvSpPr>
        <p:spPr>
          <a:xfrm>
            <a:off x="6156360" y="1773360"/>
            <a:ext cx="576360" cy="431640"/>
          </a:xfrm>
          <a:prstGeom prst="flowChartProcess">
            <a:avLst/>
          </a:prstGeom>
          <a:solidFill>
            <a:srgbClr val="ffc0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Łącznik prosty 9"/>
          <p:cNvSpPr/>
          <p:nvPr/>
        </p:nvSpPr>
        <p:spPr>
          <a:xfrm>
            <a:off x="3564000" y="2205000"/>
            <a:ext cx="345600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Łącznik prosty 11"/>
          <p:cNvSpPr/>
          <p:nvPr/>
        </p:nvSpPr>
        <p:spPr>
          <a:xfrm flipV="1">
            <a:off x="3564000" y="2204640"/>
            <a:ext cx="345600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Łącznik prosty 13"/>
          <p:cNvSpPr/>
          <p:nvPr/>
        </p:nvSpPr>
        <p:spPr>
          <a:xfrm flipV="1">
            <a:off x="3851280" y="1773000"/>
            <a:ext cx="2881440" cy="1726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ole tekstowe 14"/>
          <p:cNvSpPr/>
          <p:nvPr/>
        </p:nvSpPr>
        <p:spPr>
          <a:xfrm>
            <a:off x="5164560" y="2349360"/>
            <a:ext cx="30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0000"/>
                </a:solidFill>
                <a:latin typeface="Gill Sans MT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1000">
    <p:zoom dir="out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356000" y="475920"/>
            <a:ext cx="4484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300" spc="-1" strike="noStrike">
                <a:solidFill>
                  <a:srgbClr val="572314"/>
                </a:solidFill>
                <a:latin typeface="Book Antiqua"/>
              </a:rPr>
              <a:t>Uwaga !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4067280" y="1988640"/>
            <a:ext cx="4680000" cy="283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pl-PL" sz="3200" spc="-1" strike="noStrike">
                <a:solidFill>
                  <a:srgbClr val="000000"/>
                </a:solidFill>
                <a:latin typeface="Book Antiqua"/>
              </a:rPr>
              <a:t>Obracając figurę środkowosymetryczną o 180</a:t>
            </a:r>
            <a:r>
              <a:rPr b="0" lang="pl-PL" sz="3200" spc="-1" strike="noStrike" baseline="30000">
                <a:solidFill>
                  <a:srgbClr val="000000"/>
                </a:solidFill>
                <a:latin typeface="Book Antiqua"/>
              </a:rPr>
              <a:t>0 </a:t>
            </a:r>
            <a:r>
              <a:rPr b="0" lang="pl-PL" sz="3200" spc="-1" strike="noStrike">
                <a:solidFill>
                  <a:srgbClr val="000000"/>
                </a:solidFill>
                <a:latin typeface="Book Antiqua"/>
              </a:rPr>
              <a:t>wokół środka symetrii, otrzymamy tę samą figurę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0" name="Symbol zastępczy numeru slajdu 5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F9B3A-A355-41EA-A650-8491C4719AEA}" type="slidenum">
              <a:rPr b="0" lang="pl-P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1" name="Picture 5" descr=""/>
          <p:cNvPicPr/>
          <p:nvPr/>
        </p:nvPicPr>
        <p:blipFill>
          <a:blip r:embed="rId1"/>
          <a:stretch/>
        </p:blipFill>
        <p:spPr>
          <a:xfrm>
            <a:off x="1116000" y="1268280"/>
            <a:ext cx="3274920" cy="3888000"/>
          </a:xfrm>
          <a:prstGeom prst="rect">
            <a:avLst/>
          </a:prstGeom>
          <a:ln w="0">
            <a:noFill/>
          </a:ln>
        </p:spPr>
      </p:pic>
    </p:spTree>
  </p:cSld>
  <p:transition advTm="7000">
    <p:zoom dir="out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 txBox="1"/>
          <p:nvPr/>
        </p:nvSpPr>
        <p:spPr>
          <a:xfrm>
            <a:off x="1042560" y="189000"/>
            <a:ext cx="7891560" cy="134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572314"/>
                </a:solidFill>
                <a:latin typeface="Book Antiqua"/>
              </a:rPr>
              <a:t>	</a:t>
            </a:r>
            <a:r>
              <a:rPr b="0" lang="pl-PL" sz="4000" spc="-1" strike="noStrike">
                <a:solidFill>
                  <a:srgbClr val="572314"/>
                </a:solidFill>
                <a:latin typeface="Book Antiqua"/>
              </a:rPr>
              <a:t>Zadanie 4.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pl-PL" sz="2600" spc="-1" strike="noStrike">
                <a:solidFill>
                  <a:srgbClr val="000000"/>
                </a:solidFill>
                <a:latin typeface="Book Antiqua"/>
              </a:rPr>
              <a:t>Które ze znaków drogowych mają środki symetrii?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63" name="Picture 2" descr="C:\Users\Operator\Desktop\przykłady_symetrii\znaki drogowe\a_07.png"/>
          <p:cNvPicPr/>
          <p:nvPr/>
        </p:nvPicPr>
        <p:blipFill>
          <a:blip r:embed="rId1"/>
          <a:stretch/>
        </p:blipFill>
        <p:spPr>
          <a:xfrm>
            <a:off x="3132000" y="3068640"/>
            <a:ext cx="1143000" cy="101592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3" descr="C:\Users\Operator\Desktop\przykłady_symetrii\znaki drogowe\a_32.png"/>
          <p:cNvPicPr/>
          <p:nvPr/>
        </p:nvPicPr>
        <p:blipFill>
          <a:blip r:embed="rId2"/>
          <a:stretch/>
        </p:blipFill>
        <p:spPr>
          <a:xfrm>
            <a:off x="1403280" y="1628640"/>
            <a:ext cx="1143000" cy="101628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5" descr="C:\Users\Operator\Desktop\przykłady_symetrii\znaki drogowe\b_03.png"/>
          <p:cNvPicPr/>
          <p:nvPr/>
        </p:nvPicPr>
        <p:blipFill>
          <a:blip r:embed="rId3"/>
          <a:stretch/>
        </p:blipFill>
        <p:spPr>
          <a:xfrm>
            <a:off x="1476360" y="299736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4" descr="C:\Users\Operator\Desktop\przykłady_symetrii\znaki drogowe\b_01.png"/>
          <p:cNvPicPr/>
          <p:nvPr/>
        </p:nvPicPr>
        <p:blipFill>
          <a:blip r:embed="rId4"/>
          <a:stretch/>
        </p:blipFill>
        <p:spPr>
          <a:xfrm>
            <a:off x="3132000" y="155736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9" descr="C:\Users\Operator\Desktop\przykłady_symetrii\znaki drogowe\d_01.png"/>
          <p:cNvPicPr/>
          <p:nvPr/>
        </p:nvPicPr>
        <p:blipFill>
          <a:blip r:embed="rId5"/>
          <a:stretch/>
        </p:blipFill>
        <p:spPr>
          <a:xfrm>
            <a:off x="3203640" y="4508640"/>
            <a:ext cx="1092240" cy="109224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14" descr="C:\Users\Operator\AppData\Local\Microsoft\Windows\Temporary Internet Files\Content.IE5\A4KG3B2Y\MC900346301[1].wmf"/>
          <p:cNvPicPr/>
          <p:nvPr/>
        </p:nvPicPr>
        <p:blipFill>
          <a:blip r:embed="rId6"/>
          <a:stretch/>
        </p:blipFill>
        <p:spPr>
          <a:xfrm>
            <a:off x="4716360" y="1557360"/>
            <a:ext cx="1071720" cy="107172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7" descr="C:\Users\Operator\Desktop\przykłady_symetrii\znaki drogowe\b_36.png"/>
          <p:cNvPicPr/>
          <p:nvPr/>
        </p:nvPicPr>
        <p:blipFill>
          <a:blip r:embed="rId7"/>
          <a:stretch/>
        </p:blipFill>
        <p:spPr>
          <a:xfrm>
            <a:off x="6300720" y="1557360"/>
            <a:ext cx="1079640" cy="107964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18" descr="C:\Users\Operator\AppData\Local\Microsoft\Windows\Temporary Internet Files\Content.IE5\ICFVKMCT\MC900411382[1].wmf"/>
          <p:cNvPicPr/>
          <p:nvPr/>
        </p:nvPicPr>
        <p:blipFill>
          <a:blip r:embed="rId8"/>
          <a:stretch/>
        </p:blipFill>
        <p:spPr>
          <a:xfrm>
            <a:off x="4643280" y="4437000"/>
            <a:ext cx="1432080" cy="115092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19" descr="C:\Users\Operator\AppData\Local\Microsoft\Windows\Temporary Internet Files\Content.IE5\ZJ902C1U\MC900411258[1].wmf"/>
          <p:cNvPicPr/>
          <p:nvPr/>
        </p:nvPicPr>
        <p:blipFill>
          <a:blip r:embed="rId9"/>
          <a:stretch/>
        </p:blipFill>
        <p:spPr>
          <a:xfrm>
            <a:off x="1476360" y="4437000"/>
            <a:ext cx="1233360" cy="115884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2" descr="http://library.kiwix.org/wikipedia_pl_dvd_2006_beta1/I/ZNAK_B_2.PNG"/>
          <p:cNvPicPr/>
          <p:nvPr/>
        </p:nvPicPr>
        <p:blipFill>
          <a:blip r:embed="rId10"/>
          <a:stretch/>
        </p:blipFill>
        <p:spPr>
          <a:xfrm>
            <a:off x="6300720" y="2924280"/>
            <a:ext cx="1135080" cy="113652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4" descr="http://library.kiwix.org/wikipedia_pl_dvd_2006_beta1/I/ZNAK_C12.PNG"/>
          <p:cNvPicPr/>
          <p:nvPr/>
        </p:nvPicPr>
        <p:blipFill>
          <a:blip r:embed="rId11"/>
          <a:stretch/>
        </p:blipFill>
        <p:spPr>
          <a:xfrm>
            <a:off x="6227640" y="4365720"/>
            <a:ext cx="1224000" cy="122400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6" descr="http://library.kiwix.org/wikipedia_pl_dvd_2006_beta1/I/ZNAK_A_5.PNG"/>
          <p:cNvPicPr/>
          <p:nvPr/>
        </p:nvPicPr>
        <p:blipFill>
          <a:blip r:embed="rId12"/>
          <a:stretch/>
        </p:blipFill>
        <p:spPr>
          <a:xfrm>
            <a:off x="4716360" y="3068640"/>
            <a:ext cx="1224000" cy="1060560"/>
          </a:xfrm>
          <a:prstGeom prst="rect">
            <a:avLst/>
          </a:prstGeom>
          <a:ln w="0">
            <a:noFill/>
          </a:ln>
        </p:spPr>
      </p:pic>
    </p:spTree>
  </p:cSld>
  <p:transition advTm="8000">
    <p:zoom dir="out"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2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 txBox="1"/>
          <p:nvPr/>
        </p:nvSpPr>
        <p:spPr>
          <a:xfrm>
            <a:off x="1042920" y="0"/>
            <a:ext cx="785016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3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pl-PL" sz="4300" spc="-1" strike="noStrike">
                <a:solidFill>
                  <a:srgbClr val="572314"/>
                </a:solidFill>
                <a:latin typeface="Book Antiqua"/>
              </a:rPr>
              <a:t>Zadanie 5.</a:t>
            </a:r>
            <a:endParaRPr b="0" lang="en-US" sz="43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572314"/>
                </a:solidFill>
                <a:latin typeface="Book Antiqua"/>
              </a:rPr>
              <a:t>	</a:t>
            </a:r>
            <a:r>
              <a:rPr b="0" lang="pl-PL" sz="2800" spc="-1" strike="noStrike">
                <a:solidFill>
                  <a:srgbClr val="000000"/>
                </a:solidFill>
                <a:latin typeface="Book Antiqua"/>
              </a:rPr>
              <a:t>Wskaż litery i liczby, które posiadają środki symetrii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pl-PL" sz="4800" spc="-1" strike="noStrike">
                <a:solidFill>
                  <a:srgbClr val="000000"/>
                </a:solidFill>
                <a:latin typeface="Gill Sans MT"/>
              </a:rPr>
              <a:t>A, B, C, D, E, F, H, I, M,</a:t>
            </a:r>
            <a:br>
              <a:rPr sz="4800"/>
            </a:br>
            <a:r>
              <a:rPr b="0" lang="pl-PL" sz="4800" spc="-1" strike="noStrike">
                <a:solidFill>
                  <a:srgbClr val="000000"/>
                </a:solidFill>
                <a:latin typeface="Gill Sans MT"/>
              </a:rPr>
              <a:t>N, O, S, T, U, W, X, Y, Z  </a:t>
            </a:r>
            <a:endParaRPr b="0" lang="en-US" sz="4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pl-PL" sz="4800" spc="-1" strike="noStrike">
                <a:solidFill>
                  <a:srgbClr val="000000"/>
                </a:solidFill>
                <a:latin typeface="Gill Sans MT"/>
              </a:rPr>
              <a:t>0,1, 8, 11, 33, 66, 69, </a:t>
            </a:r>
            <a:endParaRPr b="0" lang="en-US" sz="4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pl-PL" sz="4800" spc="-1" strike="noStrike">
                <a:solidFill>
                  <a:srgbClr val="000000"/>
                </a:solidFill>
                <a:latin typeface="Gill Sans MT"/>
              </a:rPr>
              <a:t>88, 96 101, 609, </a:t>
            </a:r>
            <a:endParaRPr b="0" lang="en-US" sz="4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Gill Sans MT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6" name="Symbol zastępczy numeru slajdu 5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23DEC-6766-4B88-8128-1DAC5CADEBD3}" type="slidenum">
              <a:rPr b="0" lang="pl-P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zoom dir="out"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2000"/>
                                        <p:tgtEl>
                                          <p:spTgt spid="3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3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2000"/>
                                        <p:tgtEl>
                                          <p:spTgt spid="3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2000"/>
                                        <p:tgtEl>
                                          <p:spTgt spid="3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9T16:08:14Z</dcterms:created>
  <dc:creator>Home</dc:creator>
  <dc:description/>
  <dc:language>en-US</dc:language>
  <cp:lastModifiedBy>Ania</cp:lastModifiedBy>
  <dcterms:modified xsi:type="dcterms:W3CDTF">2013-06-11T22:03:48Z</dcterms:modified>
  <cp:revision>18</cp:revision>
  <dc:subject/>
  <dc:title>Figury  środkowosymetryczne</dc:title>
</cp:coreProperties>
</file>