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EC6A-C724-4B7C-883A-28756026C7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rto zwrócić uwagę uczniów na fakt, że zgodnie z definicją równoważne są dowolne dwa równania sprzeczne oraz dowolne dwa równania równoważ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9F5A-BA43-4F35-B280-45E477FCAC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EFE-A057-4042-9F0B-8BA0A174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9C2-B36A-446E-8D82-B28D2F5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5F8-18E8-4A00-A313-E626CAEB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A8A-6C5D-4FF5-B63C-3B3E7190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855E-5EC8-4B93-AB6A-C0229065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B859-A0D8-4F8B-97B0-7C2C4BDE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F22-BDB9-45BD-A288-3626CC04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BCF3-60E4-416A-8BCB-EDDE7F4E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E519-D4F9-4077-B818-B40504A3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0C2C-BE4B-40FD-A1BB-4C37FAC8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2C7B-6252-4BA2-A225-FA7A5C17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4C6-0614-4BF5-8C87-238A4FDC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068F-0EA1-4BE0-AAE1-309E0911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E4B8-85C0-481E-BAC1-E2AFE18A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BB47-D0EC-494D-9EC7-92089C65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F289-0C77-4C31-BE65-0F51423A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96C7-5B45-4520-BF5B-0ECBE1BD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F4B1-0108-4DB9-BA57-9E1B95C2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23CF-F97E-4C4D-9F1D-7CD751D6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6825-1279-4458-BA6E-47197F79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4304-8D76-41B7-B174-2CC16D2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38F5-7C9A-4C9A-8CB8-1BFCF23F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8FA8-CEA7-4555-8E18-B33DC406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D3D93-C282-41A1-A8CC-264BFF53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BAD6D-7F45-4C85-8880-A55749E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5901-5FF9-4C49-9DBE-83D2A8D4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1EB2-84DC-4632-835F-0546E7A4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0B36-9798-48D2-BCC9-BAB825E5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5C39-42D1-4C55-B66B-5E4D771F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6907-5401-4224-BC99-B98E25A7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3A72-B6B9-4286-B415-1FBAA459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AD804-1E9C-4D73-9960-AED7777E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5E650-B4D6-409D-A652-0DAF619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E4B-F364-4CC2-A47F-994EB2F5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D1F5-0838-4F86-96E8-F3F3E671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8455-F30C-42DE-AA79-19F64E12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3B78-A5B9-4B61-98FB-AA4D3959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F930C-DFCE-46E4-B940-F4B0983E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2439-D810-45C2-B6ED-BC921902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36A6-247D-485B-B034-D3FF407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77DD-75D3-4879-856A-9485ADD4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1631-55B7-4B8E-8692-E7739D33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D0B3E-3D68-4577-8499-23170B14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BBF-1512-40F6-AC05-3423087C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206-C836-4201-9921-9B68717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C48-7F99-4ED6-8F05-11DECC52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641-4DDC-4DB0-B1D6-C3994BE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86C-3E31-48AB-BB0E-4EE55BE0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E5C1-3C02-469E-9B7B-CAA68287B273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80B4-0F16-403B-8C05-C4D6BD944C59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CEB8-A968-4268-90F7-D61E575B2505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248E-E4A9-490F-AA9D-973C5C672158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3121200"/>
            <a:ext cx="7321680" cy="237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43000" y="73188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go nie spełnia żadna liczba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sprzeczn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3 =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– 4 = x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42920" y="692280"/>
            <a:ext cx="6400800" cy="53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biór rozwiązań równania, 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to zbiór wszystkich liczb spełniających dane równanie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adanie: Dwa spośród poniższych równań mają ten sam zbiór rozwiązań. Wskaż te równania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0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2x = -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25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 = 9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eśli dwa równania mają ten sam zbiór rozwiązań, to nazywamy je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mi równoważnymi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Napisz po dwa równania równoważne podanym równaniom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y – 5 = 8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6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5 = 5 + x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731880"/>
            <a:ext cx="640080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. Napisz jakieś skomplikowane równanie, którego rozwiązaniem jest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wój numer domu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umer twojego buta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ymyślona przez ciebie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Zeszyt ćwiczeń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47592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y, które spełniają równanie nazywamy rozwiązaniem równania lub pierwiastkami równani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4x+2=10 ma jedno rozwiązanie. Pierwiastkiem tego równania jest liczba 2, gdyż 4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+2=10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jedno rozwiąz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zawartości 2"/>
          <p:cNvSpPr/>
          <p:nvPr/>
        </p:nvSpPr>
        <p:spPr>
          <a:xfrm>
            <a:off x="1403280" y="981000"/>
            <a:ext cx="6400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 ma dwa pierwiastki: 3 i -3, gdyż 3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= 9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(-3)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dwa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ymbol zastępczy zawartości 2"/>
          <p:cNvSpPr/>
          <p:nvPr/>
        </p:nvSpPr>
        <p:spPr>
          <a:xfrm>
            <a:off x="1332000" y="692280"/>
            <a:ext cx="6400800" cy="55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x(x+1)(x-2)=0 ma trzy rozwiązania: 0, -1 i 2, gdyż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(x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-1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x+1)(2-2)=0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trzy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3000" y="731880"/>
            <a:ext cx="6400800" cy="47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odaj równanie które ma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cztery rozwiązani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ięć pierwiastków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(z+6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404640"/>
            <a:ext cx="68850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3x + 2 = x + 2x + 2 ma nieskończenie wiele rozwiązań (spełnia je każda liczba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spełnia każda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43000" y="731520"/>
            <a:ext cx="6400800" cy="52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 spełniają wszystkie liczby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tożsamościow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x = x +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99640" y="731520"/>
            <a:ext cx="7559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x ma nieskończenie wiele rozwiązań (spełniają je liczby nieujemne), np.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2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0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ie jest to równanie tożsamościowe,          gdyż liczby ujemne nie są jego rozwiązaniem, bo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4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4 itd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nieskończenie wiele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880"/>
            <a:ext cx="6400800" cy="54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m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-9 nie ma rozwiązań (żadna liczba go nie spełnia), gdyż kwadrat każdej liczby rzeczywistej jest liczbą nieujemn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nie ma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6:16Z</dcterms:modified>
  <cp:revision>102</cp:revision>
  <dc:subject/>
  <dc:title>RÓWNANIA</dc:title>
</cp:coreProperties>
</file>