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F95D-8B7D-4FC6-86D2-F1F9840CEE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0758-53ED-4AD3-A2F0-48B80D5838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2A2-4252-4123-8676-6457C982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92A-015C-4643-98FE-F0EF51D0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8BB-339B-4487-A2FB-50403A58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26A-8B2F-42AC-AE1A-ABE6779D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ACBE-C135-4011-883B-02469F9D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815F-21F4-48C8-8155-A1849EE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34CD-5187-43A6-BEEF-2AA60987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4A42-F399-4FA5-AA17-B945D7E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A950-B1EA-43AE-8A25-1339ACE0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571D-1481-44F7-ABEC-3805EFA5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7240-356A-4D6E-8861-1B707B4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B67-7865-4E88-ACDB-A5836314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8758-D15B-47C2-8DDF-7F089F1D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946E-33CD-46F1-AC86-E56E9F98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0296-EA26-406B-9ADA-9D56830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26C4-F278-46EF-8FED-EA4ABD8A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8A0E-66F5-422E-9239-C4FA0108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6AAE-0E7B-4F9A-AAD0-236B766D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C3D9-C6B2-483D-AE5B-FABE5B71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A394-5E48-48BC-B3F1-6E1FC08A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80F48-F915-40B0-AFFF-392BE969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4489-20A1-4AE7-82F1-61F710A6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DC8-62DF-4AD3-87DB-6B88D996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01D4-9121-4CA6-B08B-13C38865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D6396-BFE9-4338-9D64-CDD22D72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2D10-B767-4523-976C-39CB7E4C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1B08-4FA9-46C4-86E4-C5454561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4A8D-4F1B-434F-996C-00AB0F58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8505-239E-46A3-BCE7-26A6A8D7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E329-5305-4517-ADD3-50724176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D25BA-2F07-4E97-8D82-DA7F0D21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019D1-0CD5-4854-A42B-8D3187DC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45D6A-1BA1-4718-9695-BFBD203C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37E-E13C-4A94-9A57-C9A11597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3D65-AE72-47BD-BAAD-3A8C1D72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E7477-00CF-4886-8EF5-536C82B9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E8C1-C993-4E54-A940-58EA404A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C66A7-9DC7-419C-8A0A-81B0D1DA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AD6B9-EE1C-41D4-9042-D1E95CB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7CCE-255E-48AC-8CD5-081B9DE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214E4-B53E-413C-92A1-B5E81074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473D4-EAF9-4869-9909-FBC4277D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D3BB3-3F58-46EA-A1B3-4D2F013D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CBE23-218E-46DE-B79D-B63A896D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B6D-E757-466F-912F-94FD2FCD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3A44E-6B34-4356-AB98-B7A99D64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76F8-5FD9-4FD7-9900-44DFB153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B1DE4-7462-4D53-A1A7-66F935B2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4E821-41D2-4AB9-BBC4-FEDA7FE0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0E02B-31D9-4C32-9660-408F2D3A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E5BBE-0EAA-4BB8-A7A5-6701045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AAE8E-1B5E-4032-ABE2-976675F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CF14-4FEB-408E-A942-D8DB4733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529B-348E-4A17-928F-C44E7F77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D07A1-34DE-483A-A6D9-C48CB05F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4C1-E21D-49B8-A14D-BB7DFE25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4416A-D608-4C3F-9C6D-8A8E09E3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B4CF-23EA-4F1C-9CC8-CDB2BD3C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B4BD7-EB8B-4A0B-B38F-A9445A01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BBF3E-8137-4302-9F4D-5BAEE057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7CB87-BD2A-47D7-9641-C8024046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2A159-7B6A-4507-BEA4-6FC603A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60277-D900-4DFC-AA5D-97AAA932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35E90-FE5E-48CC-A501-8CA2C722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73029-3E6C-49B5-8287-6FA8F09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F9B0-7F6D-4B55-8BA6-7DD2C5F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B53-3F1D-47D7-B521-332B28F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53DCB-131E-4CB7-B1E4-987A949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1A8A-2A97-4EE1-8F63-B8F62774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A869E-D7A2-413A-8C8E-32254613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07021-CF8B-4906-875B-B80C5304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125E-AA37-4F2C-A3E2-97473281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E88ED-1E06-4AAB-AB3F-E3653775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29F30-F68B-4946-851E-ED6659F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F7DDD-0F64-4243-ACE9-6E52E294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ACEC-EFFB-445B-BD41-9AD75EF1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D73A9-341E-418D-B539-2F42784F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A91-15F9-40EE-8881-681F0A1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705E-9F0B-49C8-AA8F-2583A75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D508D-A545-46A5-AEFE-F1CA7CCA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F9E69-4816-4D7C-BDF8-A125F703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2196A-90CA-4715-9DAE-02BC6E53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2703C-C5A6-4DAC-999B-B1C50775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B27-E84B-48FE-998D-A0BF3FDC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9549-6619-4EBE-878B-D98790A7B26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A159-01D1-4590-B5B6-0BB75DC8B99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3852-5F33-4F39-BBC7-127036D522C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6A8E-8E89-421A-B703-565DF78BA42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A8DD-6B4C-4FC8-BFDD-0287733F30A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F581-0561-4EE8-AEB0-3FDE9CCB01A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1762-2573-4732-B930-92ACB84B82F1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22046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Figury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środkowosymetrycz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Twierdzen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565000"/>
            <a:ext cx="8101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żeli figura ma dwie prostopadł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siebie osie symetrii, to punkt przecięcia się tych osi jest środkiem symetrii figu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3DFA-4C57-496B-B2AB-5AC578F8341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980640"/>
            <a:ext cx="785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daj przykłady kilku figur, które mają środek symet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(Możesz wykorzystać powyższe twierdzenie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7000">
    <p:zoom dir="ou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5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2560" y="4653000"/>
            <a:ext cx="792180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Dowolna prosta przechodząca przez środek okręgu jest jego osią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9B0-453D-41E4-BD44-F8BB51BB45D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lipsa 5"/>
          <p:cNvSpPr/>
          <p:nvPr/>
        </p:nvSpPr>
        <p:spPr>
          <a:xfrm>
            <a:off x="4716360" y="1197000"/>
            <a:ext cx="3024360" cy="30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Łącznik prosty 7"/>
          <p:cNvSpPr/>
          <p:nvPr/>
        </p:nvSpPr>
        <p:spPr>
          <a:xfrm>
            <a:off x="3924360" y="1700280"/>
            <a:ext cx="5040360" cy="2233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Łącznik prosty 9"/>
          <p:cNvSpPr/>
          <p:nvPr/>
        </p:nvSpPr>
        <p:spPr>
          <a:xfrm flipH="1">
            <a:off x="5363640" y="549360"/>
            <a:ext cx="1800360" cy="41036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6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71280" y="4941360"/>
            <a:ext cx="77151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roste, które zawierają  przekątne kwadratu są jego osiam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941A-FF74-4696-BFDB-F82954B2FD4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rostokąt 15"/>
          <p:cNvSpPr/>
          <p:nvPr/>
        </p:nvSpPr>
        <p:spPr>
          <a:xfrm rot="1223400">
            <a:off x="5138280" y="1363680"/>
            <a:ext cx="2173320" cy="21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Łącznik prosty 29"/>
          <p:cNvSpPr/>
          <p:nvPr/>
        </p:nvSpPr>
        <p:spPr>
          <a:xfrm>
            <a:off x="5292720" y="476280"/>
            <a:ext cx="194328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Łącznik prosty 33"/>
          <p:cNvSpPr/>
          <p:nvPr/>
        </p:nvSpPr>
        <p:spPr>
          <a:xfrm flipV="1">
            <a:off x="4067280" y="1197000"/>
            <a:ext cx="4825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Symetralne boków prostokąta są jego osiam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stnieją figury środkowosymetryczne nieposiadające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9B81-61B7-476F-900D-37C42414F45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lipsa 8"/>
          <p:cNvSpPr/>
          <p:nvPr/>
        </p:nvSpPr>
        <p:spPr>
          <a:xfrm flipV="1">
            <a:off x="5219640" y="263700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czworokąt ma środek symetrii, podaj jaki warunek muszą spełniać jego przekątn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Czy znasz figurę, która ma więcej niż jeden środek symetrii?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tak, podaj przykład takiej figury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12000"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71280" y="2060280"/>
            <a:ext cx="81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ma więcej niż jeden środek symetrii, to ma ich nieskończenie wie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Przykłady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rosta, płaszczyzn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5B1B-8484-4FEE-A236-B550B64F290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9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71280" y="1125360"/>
            <a:ext cx="81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e zdanie jest prawdziw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żeli czworokąt ma środek symetrii, to jest równoległoboki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Trójkąt ma środek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ara prostych równoległych ma nieskończenie wiele środków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ek symetrii figury zawsze do niej należ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ielokąt, który ma parzystą liczbę boków ma dwa środk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Żaden siedmiokąt nie ma środka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26000">
    <p:zoom dir="ou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y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i środkowe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4" name="Picture 2" descr="http://dogin.blox.pl/resource/plateklod.jpg"/>
          <p:cNvPicPr/>
          <p:nvPr/>
        </p:nvPicPr>
        <p:blipFill>
          <a:blip r:embed="rId1"/>
          <a:stretch/>
        </p:blipFill>
        <p:spPr>
          <a:xfrm>
            <a:off x="2987640" y="1700280"/>
            <a:ext cx="4362480" cy="480060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42560" y="2276640"/>
            <a:ext cx="8101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jest symetryczna sama do siebie względem pewnego punktu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, to punkt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nazywamy 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środkiem symetrii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, a taką figurę nazywamy</a:t>
            </a:r>
            <a:r>
              <a:rPr b="0" i="1" lang="pl-PL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środkowosymetryczną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31F0-602D-4E22-A549-2CFC7BE0864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snow_flake_01"/>
          <p:cNvPicPr/>
          <p:nvPr/>
        </p:nvPicPr>
        <p:blipFill>
          <a:blip r:embed="rId1"/>
          <a:stretch/>
        </p:blipFill>
        <p:spPr>
          <a:xfrm>
            <a:off x="1692360" y="549360"/>
            <a:ext cx="6335640" cy="5840280"/>
          </a:xfrm>
          <a:prstGeom prst="rect">
            <a:avLst/>
          </a:prstGeom>
          <a:ln w="0">
            <a:solidFill>
              <a:srgbClr val="daccab"/>
            </a:solidFill>
          </a:ln>
        </p:spPr>
      </p:pic>
    </p:spTree>
  </p:cSld>
  <p:transition advTm="3000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http://bialczynski.files.wordpress.com/2010/02/0-pipewort1.jpg"/>
          <p:cNvPicPr/>
          <p:nvPr/>
        </p:nvPicPr>
        <p:blipFill>
          <a:blip r:embed="rId1"/>
          <a:stretch/>
        </p:blipFill>
        <p:spPr>
          <a:xfrm>
            <a:off x="1258920" y="404640"/>
            <a:ext cx="7493040" cy="5616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Rozeta"/>
          <p:cNvPicPr/>
          <p:nvPr/>
        </p:nvPicPr>
        <p:blipFill>
          <a:blip r:embed="rId1"/>
          <a:stretch/>
        </p:blipFill>
        <p:spPr>
          <a:xfrm>
            <a:off x="1476360" y="692280"/>
            <a:ext cx="7099200" cy="532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e-witraze.pl/user_uploaded/1286452927.jpg"/>
          <p:cNvPicPr/>
          <p:nvPr/>
        </p:nvPicPr>
        <p:blipFill>
          <a:blip r:embed="rId1"/>
          <a:stretch/>
        </p:blipFill>
        <p:spPr>
          <a:xfrm>
            <a:off x="1835280" y="18900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rozeta3_d"/>
          <p:cNvPicPr/>
          <p:nvPr/>
        </p:nvPicPr>
        <p:blipFill>
          <a:blip r:embed="rId1"/>
          <a:stretch/>
        </p:blipFill>
        <p:spPr>
          <a:xfrm>
            <a:off x="2268360" y="404640"/>
            <a:ext cx="5904000" cy="590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http://us.123rf.com/400wm/400/400/evdoha/evdoha1012/evdoha101200407/8422448-mozaiki.jpg"/>
          <p:cNvPicPr/>
          <p:nvPr/>
        </p:nvPicPr>
        <p:blipFill>
          <a:blip r:embed="rId1"/>
          <a:stretch/>
        </p:blipFill>
        <p:spPr>
          <a:xfrm>
            <a:off x="1835280" y="549360"/>
            <a:ext cx="6481800" cy="58323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moja_koszyczkowa"/>
          <p:cNvPicPr/>
          <p:nvPr/>
        </p:nvPicPr>
        <p:blipFill>
          <a:blip r:embed="rId1"/>
          <a:stretch/>
        </p:blipFill>
        <p:spPr>
          <a:xfrm>
            <a:off x="1547640" y="333360"/>
            <a:ext cx="6985080" cy="612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://us.123rf.com/400wm/400/400/markovka/markovka1209/markovka120900050/15442671-ozdobny-wzor-koronki-runda-tlo-kolo-z-wieloma-szczegolami-wyglada-jak-szydelkowanie-recznie-koronki.jpg"/>
          <p:cNvPicPr/>
          <p:nvPr/>
        </p:nvPicPr>
        <p:blipFill>
          <a:blip r:embed="rId1"/>
          <a:stretch/>
        </p:blipFill>
        <p:spPr>
          <a:xfrm>
            <a:off x="2050920" y="549360"/>
            <a:ext cx="6143760" cy="60195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http://www.piatnik.pl/Obrazy/karty_kodowane.jpg"/>
          <p:cNvPicPr/>
          <p:nvPr/>
        </p:nvPicPr>
        <p:blipFill>
          <a:blip r:embed="rId1"/>
          <a:stretch/>
        </p:blipFill>
        <p:spPr>
          <a:xfrm>
            <a:off x="1187280" y="476280"/>
            <a:ext cx="7777440" cy="58467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56360" cy="5419800"/>
          </a:xfrm>
          <a:prstGeom prst="rect">
            <a:avLst/>
          </a:prstGeom>
          <a:ln w="0">
            <a:noFill/>
          </a:ln>
        </p:spPr>
      </p:pic>
      <p:sp>
        <p:nvSpPr>
          <p:cNvPr id="425" name="Prostokąt 2"/>
          <p:cNvSpPr/>
          <p:nvPr/>
        </p:nvSpPr>
        <p:spPr>
          <a:xfrm>
            <a:off x="1187280" y="5904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empietto kaplica na dziedzińcu kościoła </a:t>
            </a:r>
            <a:r>
              <a:rPr b="1" i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an Pietro</a:t>
            </a: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w Rzy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1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42560" y="5229000"/>
            <a:ext cx="7489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okręgu jest jego środe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CD48-A3DA-481A-B10A-A12D0E19949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lipsa 5"/>
          <p:cNvSpPr/>
          <p:nvPr/>
        </p:nvSpPr>
        <p:spPr>
          <a:xfrm>
            <a:off x="3419640" y="1773360"/>
            <a:ext cx="3168360" cy="3168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ipsa 6"/>
          <p:cNvSpPr/>
          <p:nvPr/>
        </p:nvSpPr>
        <p:spPr>
          <a:xfrm flipH="1" flipV="1">
            <a:off x="5003640" y="3357000"/>
            <a:ext cx="46080" cy="44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ole tekstowe 7"/>
          <p:cNvSpPr/>
          <p:nvPr/>
        </p:nvSpPr>
        <p:spPr>
          <a:xfrm>
            <a:off x="4948560" y="2924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76360" y="3068640"/>
            <a:ext cx="7221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omysły zadań zostały zaczerpnięte z podręcznika do 1 klasy gimnazjum „Matematyka z plusem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dresy stron internetowych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SnowCrystal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hiren.inf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e-witraze.p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l.123rf.com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greatbuilding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A1AF-ABF8-46BE-B468-D62403835B8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1692360" y="981000"/>
            <a:ext cx="6480000" cy="1584360"/>
          </a:xfrm>
          <a:prstGeom prst="horizontalScroll">
            <a:avLst>
              <a:gd name="adj" fmla="val 12500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f271c"/>
                </a:solidFill>
                <a:latin typeface="Gill Sans MT"/>
              </a:rPr>
              <a:t>Dziękuj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2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4797360"/>
            <a:ext cx="810108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kwadratu jest punkt przecięcia jego przekątny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1B43-1A10-49DC-B4A8-1930BAA264F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rostokąt 5"/>
          <p:cNvSpPr/>
          <p:nvPr/>
        </p:nvSpPr>
        <p:spPr>
          <a:xfrm>
            <a:off x="4716360" y="1268280"/>
            <a:ext cx="2664000" cy="2881440"/>
          </a:xfrm>
          <a:prstGeom prst="rect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1"/>
          <p:cNvSpPr/>
          <p:nvPr/>
        </p:nvSpPr>
        <p:spPr>
          <a:xfrm flipV="1"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Łącznik prosty 13"/>
          <p:cNvSpPr/>
          <p:nvPr/>
        </p:nvSpPr>
        <p:spPr>
          <a:xfrm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ole tekstowe 8"/>
          <p:cNvSpPr/>
          <p:nvPr/>
        </p:nvSpPr>
        <p:spPr>
          <a:xfrm>
            <a:off x="588420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3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prostokąta jest punkt przecięcia jego os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6"/>
          <p:cNvSpPr/>
          <p:nvPr/>
        </p:nvSpPr>
        <p:spPr>
          <a:xfrm>
            <a:off x="523584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4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gura środkowosymetryczna nieposiadająca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3E37-4C58-4384-886A-E939CB1E53B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9"/>
          <p:cNvSpPr/>
          <p:nvPr/>
        </p:nvSpPr>
        <p:spPr>
          <a:xfrm>
            <a:off x="3564000" y="220500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Łącznik prosty 11"/>
          <p:cNvSpPr/>
          <p:nvPr/>
        </p:nvSpPr>
        <p:spPr>
          <a:xfrm flipV="1">
            <a:off x="3564000" y="220464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Łącznik prosty 13"/>
          <p:cNvSpPr/>
          <p:nvPr/>
        </p:nvSpPr>
        <p:spPr>
          <a:xfrm flipV="1">
            <a:off x="3851280" y="1773000"/>
            <a:ext cx="288144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4"/>
          <p:cNvSpPr/>
          <p:nvPr/>
        </p:nvSpPr>
        <p:spPr>
          <a:xfrm>
            <a:off x="5164560" y="234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56000" y="475920"/>
            <a:ext cx="44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67280" y="1988640"/>
            <a:ext cx="46800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bracając figurę środkowosymetryczną o 18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Book Antiqua"/>
              </a:rPr>
              <a:t>0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wokół środka symetrii, otrzymamy tę samą figurę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8183-7513-43D0-98C0-57C062F6CCD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274920" cy="38880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42560" y="189000"/>
            <a:ext cx="789156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Zadanie 4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Które ze znaków drogowych mają środki symetrii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2" descr="C:\Users\Operator\Desktop\przykłady_symetrii\znaki drogowe\a_07.png"/>
          <p:cNvPicPr/>
          <p:nvPr/>
        </p:nvPicPr>
        <p:blipFill>
          <a:blip r:embed="rId1"/>
          <a:stretch/>
        </p:blipFill>
        <p:spPr>
          <a:xfrm>
            <a:off x="3132000" y="306864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C:\Users\Operator\Desktop\przykłady_symetrii\znaki drogowe\a_32.png"/>
          <p:cNvPicPr/>
          <p:nvPr/>
        </p:nvPicPr>
        <p:blipFill>
          <a:blip r:embed="rId2"/>
          <a:stretch/>
        </p:blipFill>
        <p:spPr>
          <a:xfrm>
            <a:off x="1403280" y="1628640"/>
            <a:ext cx="1143000" cy="1016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Operator\Desktop\przykłady_symetrii\znaki drogowe\b_03.png"/>
          <p:cNvPicPr/>
          <p:nvPr/>
        </p:nvPicPr>
        <p:blipFill>
          <a:blip r:embed="rId3"/>
          <a:stretch/>
        </p:blipFill>
        <p:spPr>
          <a:xfrm>
            <a:off x="1476360" y="299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Operator\Desktop\przykłady_symetrii\znaki drogowe\b_01.png"/>
          <p:cNvPicPr/>
          <p:nvPr/>
        </p:nvPicPr>
        <p:blipFill>
          <a:blip r:embed="rId4"/>
          <a:stretch/>
        </p:blipFill>
        <p:spPr>
          <a:xfrm>
            <a:off x="3132000" y="155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C:\Users\Operator\Desktop\przykłady_symetrii\znaki drogowe\d_01.png"/>
          <p:cNvPicPr/>
          <p:nvPr/>
        </p:nvPicPr>
        <p:blipFill>
          <a:blip r:embed="rId5"/>
          <a:stretch/>
        </p:blipFill>
        <p:spPr>
          <a:xfrm>
            <a:off x="3203640" y="450864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C:\Users\Operator\AppData\Local\Microsoft\Windows\Temporary Internet Files\Content.IE5\A4KG3B2Y\MC900346301[1].wmf"/>
          <p:cNvPicPr/>
          <p:nvPr/>
        </p:nvPicPr>
        <p:blipFill>
          <a:blip r:embed="rId6"/>
          <a:stretch/>
        </p:blipFill>
        <p:spPr>
          <a:xfrm>
            <a:off x="4716360" y="1557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C:\Users\Operator\Desktop\przykłady_symetrii\znaki drogowe\b_36.png"/>
          <p:cNvPicPr/>
          <p:nvPr/>
        </p:nvPicPr>
        <p:blipFill>
          <a:blip r:embed="rId7"/>
          <a:stretch/>
        </p:blipFill>
        <p:spPr>
          <a:xfrm>
            <a:off x="6300720" y="1557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8" descr="C:\Users\Operator\AppData\Local\Microsoft\Windows\Temporary Internet Files\Content.IE5\ICFVKMCT\MC900411382[1].wmf"/>
          <p:cNvPicPr/>
          <p:nvPr/>
        </p:nvPicPr>
        <p:blipFill>
          <a:blip r:embed="rId8"/>
          <a:stretch/>
        </p:blipFill>
        <p:spPr>
          <a:xfrm>
            <a:off x="4643280" y="4437000"/>
            <a:ext cx="1432080" cy="1150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9" descr="C:\Users\Operator\AppData\Local\Microsoft\Windows\Temporary Internet Files\Content.IE5\ZJ902C1U\MC900411258[1].wmf"/>
          <p:cNvPicPr/>
          <p:nvPr/>
        </p:nvPicPr>
        <p:blipFill>
          <a:blip r:embed="rId9"/>
          <a:stretch/>
        </p:blipFill>
        <p:spPr>
          <a:xfrm>
            <a:off x="1476360" y="4437000"/>
            <a:ext cx="12333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http://library.kiwix.org/wikipedia_pl_dvd_2006_beta1/I/ZNAK_B_2.PNG"/>
          <p:cNvPicPr/>
          <p:nvPr/>
        </p:nvPicPr>
        <p:blipFill>
          <a:blip r:embed="rId10"/>
          <a:stretch/>
        </p:blipFill>
        <p:spPr>
          <a:xfrm>
            <a:off x="6300720" y="2924280"/>
            <a:ext cx="1135080" cy="1136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://library.kiwix.org/wikipedia_pl_dvd_2006_beta1/I/ZNAK_C12.PNG"/>
          <p:cNvPicPr/>
          <p:nvPr/>
        </p:nvPicPr>
        <p:blipFill>
          <a:blip r:embed="rId11"/>
          <a:stretch/>
        </p:blipFill>
        <p:spPr>
          <a:xfrm>
            <a:off x="622764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http://library.kiwix.org/wikipedia_pl_dvd_2006_beta1/I/ZNAK_A_5.PNG"/>
          <p:cNvPicPr/>
          <p:nvPr/>
        </p:nvPicPr>
        <p:blipFill>
          <a:blip r:embed="rId12"/>
          <a:stretch/>
        </p:blipFill>
        <p:spPr>
          <a:xfrm>
            <a:off x="4716360" y="3068640"/>
            <a:ext cx="1224000" cy="106056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42920" y="0"/>
            <a:ext cx="78501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5.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skaż litery i liczby, które posiadają środki symetrii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A, B, C, D, E, F, H, I, M,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N, O, S, T, U, W, X, Y, Z 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0,1, 8, 11, 33, 66, 6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88, 96 101, 60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4403-3A1B-48A5-B90A-3283C5181BC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8:14Z</dcterms:created>
  <dc:creator>Home</dc:creator>
  <dc:description/>
  <dc:language>en-US</dc:language>
  <cp:lastModifiedBy>Ania</cp:lastModifiedBy>
  <dcterms:modified xsi:type="dcterms:W3CDTF">2013-06-11T22:03:48Z</dcterms:modified>
  <cp:revision>18</cp:revision>
  <dc:subject/>
  <dc:title>Figury  środkowosymetryczne</dc:title>
</cp:coreProperties>
</file>