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png" ContentType="image/png"/>
  <Override PartName="/ppt/media/image6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12.wmf" ContentType="image/x-wmf"/>
  <Override PartName="/ppt/media/image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18.png" ContentType="image/png"/>
  <Override PartName="/ppt/media/image17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5.jpeg" ContentType="image/jpeg"/>
  <Override PartName="/ppt/media/image20.wmf" ContentType="image/x-wmf"/>
  <Override PartName="/ppt/media/image8.png" ContentType="image/png"/>
  <Override PartName="/ppt/media/image16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B498-B630-4DCE-AB72-97AF46D3A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ABCC-158C-4591-95DA-F685C953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8D6F-082D-4D5E-AF5A-D8C004AD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A746-1FAF-4C9E-9B9C-9AC89F4AF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E9ED-E95A-42CF-93B7-608248478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E517-E21D-4470-ACFD-9926261D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4BA9-01FB-4559-941B-E7D3F59E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3049-6EE8-4A4D-9CC3-67BFE056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8C8E-A289-42EF-8032-1F2D1701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D4EA-78E9-4E0C-A638-9CBC1553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B735-98D2-4458-B9E0-00CD0807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EBB9-3725-49AD-A7FA-601ED9D8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D7D3-1C2D-48EE-A8D3-DADC764F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99B9-4293-4CD8-B8D9-F9C110AB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9583-A1ED-4B10-8A95-9588A8CB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4992-0292-46B6-B4EB-644F8627E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3A34-5023-40E8-A362-FF800932A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D280E-E3E6-4035-B44D-245D04A6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40ACA-CB86-4D41-8276-C433C484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36F48-9BAB-4FC4-AC18-103597D4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4274C-7E8A-4291-9EAE-7A52532A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87FD5-47B0-4FC8-AD12-8295585E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9929-09C8-44AD-BC4D-242A076E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A0D44-AB8D-4833-902B-3E6CA251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9C0B1-897F-4AAF-B314-D30F6E1F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5CA72-F7E0-4A10-A259-CEC10887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41FCB-5FDC-4DCC-99C9-3DA7EEE2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5B1F8-2564-44D2-8188-AAA9C319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1508C-8038-4D6B-9AF6-0527A95EC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B7D27-CD2B-4C8A-8663-23152B1A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E1E24-3145-4C85-B71B-EBD8B97F9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0A10D-B51F-488E-B5C5-DDE42E3B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933A0-6BC2-4F87-A844-F2FE9076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5D03-BDEF-47F9-BBBB-9F7071BE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C7612-1690-4E10-93E1-F44A8BB6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32D89-433D-496C-BA58-BC565DD4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85938-156F-4B36-AA8A-0E957E28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36B0C-CDF3-49EA-9ACA-4E87B2C9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5EDBE-EF3F-4962-B8FD-36D86967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484C1-C3DE-42B9-9072-4F70D0AC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CDF66-921B-4DB4-B24C-5C0C8063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6D381-9FD9-49ED-9336-39E8D53D1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CB0EF-3019-4A49-AA03-543E9E373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2A779-FF00-48A4-845E-B4F6EF679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1DAD-3A1E-4E14-8C3F-E87C544B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C48C2-1559-460D-B0D3-29C3EB79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9193D-2C44-4E7C-8489-EA484CB1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8780E-DBF0-49C0-A339-59B1BEF5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D4B60-A7F4-4C64-8F17-484A6F9D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4D35E-6987-453D-BC88-541A3BAE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8A283-5CC7-4C99-8CD0-6532E73E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269DC-BF72-4187-BB13-EEEA5BDB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CA34D-E5B4-459E-8B41-C0B58F03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4A006-911F-451D-90BC-531D0DF2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4A645-1068-4164-9A41-20595A677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8EE3-7AF5-4E56-9263-87A0D92F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AC8F4-EBE1-4BD1-8011-9E45BB453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3E845-4B66-44C6-A45A-4B3514823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FAE40-98E6-4917-BDCA-A053C828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76F3A-7D7F-4453-A24A-B166130D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51EEE-F65E-45F4-88C8-38D02C99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27658-892D-4490-88B9-D6256F20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CCABD-E4C7-440B-BC0E-2AD530A7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6D846-0877-4710-9D50-2A5E35E9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1CD35-0E6F-4300-B87F-92FF2998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666F5-310B-47D4-A3C2-A911C2EF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E9BA-15EB-4077-BA55-CA19EED3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E85ED-75B8-44C1-A145-8DB0C51D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F4A2A-D838-4C5E-8134-839BF6B4D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BCEC2-AAEC-493B-9742-2E27727FA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612C3-4A98-486E-BD3C-F6D1B280A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F23AF-5703-4DC1-B368-677043B3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4C9FF-D06C-41DE-97C7-164BB7DD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7B657-EEB3-44CB-9EE5-092035CF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86DAA-571D-459A-BD1D-B6E2E68D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619B9-2D76-4F01-8F7E-73443149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66B48-5047-4F7D-82DB-220E846E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51F6-2F9A-4B93-B080-37E45B1D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DAA1C-3E1B-437F-A635-A0011DE5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0CB7A-8ACD-4C26-8DE1-D7CEC2D5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BA91F-3B64-4775-BB68-9F611F5D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D4DF9-25D2-4BA3-96B2-F1CC93E70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75638-47AF-4D39-A38C-EA0D60F47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CED57-C473-4EBE-B98B-3EF63FADA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2F528-51E6-4BC3-8550-2772169E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16103-036F-46AF-9343-0B8EECAC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DE17A-7557-435C-A5C4-93C095D6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ED165-2FB0-4A6D-9F2E-ED841844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5D91-FC86-4E6C-B282-46767BCE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65992-C424-4889-A824-4B8EF9C6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A3F1D-398B-4108-9825-6E97D68C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D6822-484F-4510-BC08-546517A7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137A3-E793-4E70-A5EB-52CE8F54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D89E8-6C4A-4B1E-857A-148A7AA4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CF489-BD2B-4BD8-B683-9030978F7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800E9-4A82-4980-B062-3734FBC4A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Trójkąt prostokątny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Trójkąt prostokątny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Łącznik prostoliniowy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5B9B-1341-4035-855E-76FA4600E7DE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ójkąt prostokątny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upa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Dowolny kształt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Dowolny kształt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Dowolny kształt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Dowolny kształt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Łącznik prostoliniowy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9F40-0D50-491E-8945-F1709008A39F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Trójkąt prostokątny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Łącznik prostoliniowy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ag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ag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BD25-CD48-4F7D-A419-D8E302ACB697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Trójkąt prostokątny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Łącznik prostoliniowy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F48B-8C50-4DC4-BAAB-99D921E82D70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47ED-6236-4232-BDC4-8A18EA807618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Trójkąt prostokątny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Łącznik prostoliniowy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455E-611A-4379-BA12-67D2459E2C44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00EA-B0D5-4C0A-9DB4-7F739A921879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Dowolny kształt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Dowolny kształt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Trójkąt prostokątny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Trójkąt prostokątny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Łącznik prostoliniowy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ag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ag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DE43-A0E0-4884-B9CD-B7E29F13BEBA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ytuł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"/>
          <p:cNvPicPr/>
          <p:nvPr/>
        </p:nvPicPr>
        <p:blipFill>
          <a:blip r:embed="rId2"/>
          <a:stretch/>
        </p:blipFill>
        <p:spPr>
          <a:xfrm>
            <a:off x="825480" y="1481040"/>
            <a:ext cx="7493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"/>
          <p:cNvPicPr/>
          <p:nvPr/>
        </p:nvPicPr>
        <p:blipFill>
          <a:blip r:embed="rId2"/>
          <a:stretch/>
        </p:blipFill>
        <p:spPr>
          <a:xfrm>
            <a:off x="825480" y="1481040"/>
            <a:ext cx="7493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2"/>
          <a:stretch/>
        </p:blipFill>
        <p:spPr>
          <a:xfrm>
            <a:off x="1258920" y="1916280"/>
            <a:ext cx="6745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"/>
          <p:cNvPicPr/>
          <p:nvPr/>
        </p:nvPicPr>
        <p:blipFill>
          <a:blip r:embed="rId2"/>
          <a:stretch/>
        </p:blipFill>
        <p:spPr>
          <a:xfrm>
            <a:off x="816120" y="1481040"/>
            <a:ext cx="7511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1158840" y="1481040"/>
            <a:ext cx="6826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457200" y="1625760"/>
            <a:ext cx="822960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623880" y="1481040"/>
            <a:ext cx="7896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" descr=""/>
          <p:cNvPicPr/>
          <p:nvPr/>
        </p:nvPicPr>
        <p:blipFill>
          <a:blip r:embed="rId2"/>
          <a:stretch/>
        </p:blipFill>
        <p:spPr>
          <a:xfrm>
            <a:off x="457200" y="1486080"/>
            <a:ext cx="8229600" cy="45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457200" y="2171880"/>
            <a:ext cx="822960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"/>
          <p:cNvPicPr/>
          <p:nvPr/>
        </p:nvPicPr>
        <p:blipFill>
          <a:blip r:embed="rId2"/>
          <a:stretch/>
        </p:blipFill>
        <p:spPr>
          <a:xfrm>
            <a:off x="465120" y="1481040"/>
            <a:ext cx="8213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"/>
          <p:cNvPicPr/>
          <p:nvPr/>
        </p:nvPicPr>
        <p:blipFill>
          <a:blip r:embed="rId2"/>
          <a:stretch/>
        </p:blipFill>
        <p:spPr>
          <a:xfrm>
            <a:off x="457200" y="2271600"/>
            <a:ext cx="822960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"/>
          <p:cNvPicPr/>
          <p:nvPr/>
        </p:nvPicPr>
        <p:blipFill>
          <a:blip r:embed="rId2"/>
          <a:stretch/>
        </p:blipFill>
        <p:spPr>
          <a:xfrm>
            <a:off x="457200" y="1798560"/>
            <a:ext cx="822960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" descr=""/>
          <p:cNvPicPr/>
          <p:nvPr/>
        </p:nvPicPr>
        <p:blipFill>
          <a:blip r:embed="rId2"/>
          <a:stretch/>
        </p:blipFill>
        <p:spPr>
          <a:xfrm>
            <a:off x="1004760" y="1481040"/>
            <a:ext cx="7134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0T06:27:13Z</dcterms:created>
  <dc:creator>Ania</dc:creator>
  <dc:description/>
  <dc:language>en-US</dc:language>
  <cp:lastModifiedBy>Ania</cp:lastModifiedBy>
  <dcterms:modified xsi:type="dcterms:W3CDTF">2013-07-10T06:49:14Z</dcterms:modified>
  <cp:revision>9</cp:revision>
  <dc:subject/>
  <dc:title>POTĘGI I PIERWIASTKI</dc:title>
</cp:coreProperties>
</file>