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D2ABF-CD4C-4BF5-AF51-E014061DE40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B0C07-9DF7-4EE4-9E6B-93F5CD9801C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9F8A-9840-48D1-8853-F5FA1271E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69EB-AD6B-40C3-ACFF-4D4204E7D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7377-9F52-4064-A708-688748095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9292-2A7E-4121-959C-6BE7DD5A7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05FC1-061C-4FA2-B010-CD25DB72F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63A33-E7AF-4BE3-962E-87D860884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241D3-E725-4D41-AD28-0AC54985F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FFDD2-ABFC-40DB-B72B-58D94A526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A494C-45A0-4B50-9962-B570E3F7B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4D3AD-2AEA-4ABC-8F8F-6F2416C8A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C6547-143D-4368-8EF4-EC26E8B1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C400-C913-4C48-ABDD-4AB401C66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5EBC5-9870-4AFF-847A-B30765E6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20A52-9A55-44EE-8C06-6F07F764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EB91F-36BF-485C-A926-515B450F9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D6C68-1731-4D35-8883-A7E347B3B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AB233-BEDE-45F6-A439-1A928CA1C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444CA-E31E-4466-A6C6-3B9D0A017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43F67-6B7D-45C7-8188-844EE861D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99A79-23C4-4E26-A93F-EAC50BCAA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6926D-4355-4F3E-8C6E-28166A121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66F07-0F0E-4AF8-B787-30219AED3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06C0-7F26-47A9-8012-868B6DB8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A1017-CC45-4311-801C-2EE38E722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A43D3-772E-456C-B9B9-2F8FF869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D885A-EF48-40AB-9A85-8223C2A6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A564E-7F4A-4171-9C1B-1C865433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B68B9-F07C-4DBE-A2AD-AC32550CE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0487E-D30E-444E-85B0-D2E2E3881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94D24-0D62-4DBA-A75D-B3F4BD4B2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B1425-C03B-41C8-B960-32ABBAD2E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05279-1135-4056-AF63-4FDB5C6A2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F376A-66B5-4A25-A425-F5D287D9B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288A-252F-4D6D-AEB2-2C1633EF5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CED45-A3E9-4B6F-9684-CBEA095F2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58812-EB40-4874-AFB1-040471147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C3179-EF44-483F-93FA-4BAED8F39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36682-15FC-4A60-AAC2-FE21A456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50225-8489-43EE-9F17-40026B71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5B43B-AC6D-4FC0-AF1F-2AC344FF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1042C-2416-4FC2-BE39-F623A2597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824A7-BB74-4AC6-A3D4-20123D1A5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78516-2505-4425-BA31-02034032B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E366-B92A-48E3-91A3-7969DB5D5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4243-A7E8-4173-9A6E-7A5AEC824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2D73-5773-4007-BCAF-596742F2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626F-4F9D-4AC9-9666-C981EF0D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DE3D-7A7A-44D7-AE1F-AAD3A613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60607-6D90-4903-B1F0-268032532E62}" type="slidenum">
              <a:rPr b="1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F8201-0D4D-42F2-8766-B98E9C66C7CB}" type="slidenum">
              <a:rPr b="1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59DEB-378F-4A22-81F9-C88E818717F6}" type="slidenum">
              <a:rPr b="1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BCF1C-34B5-44CA-9EC9-F9F5F5C44E5E}" type="slidenum">
              <a:rPr b="1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Tytuł 1" descr=""/>
          <p:cNvPicPr/>
          <p:nvPr/>
        </p:nvPicPr>
        <p:blipFill>
          <a:blip r:embed="rId1"/>
          <a:stretch/>
        </p:blipFill>
        <p:spPr>
          <a:xfrm>
            <a:off x="669960" y="2962440"/>
            <a:ext cx="7321680" cy="19634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1143000" y="731880"/>
            <a:ext cx="7174080" cy="536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428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404040"/>
                </a:solidFill>
                <a:latin typeface="Trebuchet MS"/>
              </a:rPr>
              <a:t>Równanie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 to dwa wyrażenia algebraiczne połączone znakiem równości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Przykłady równań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3x + y = 9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2y = 3a</a:t>
            </a:r>
            <a:r>
              <a:rPr b="0" lang="pl-PL" sz="3200" spc="-1" strike="noStrike" baseline="30000">
                <a:solidFill>
                  <a:srgbClr val="404040"/>
                </a:solidFill>
                <a:latin typeface="Trebuchet MS"/>
              </a:rPr>
              <a:t>2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 + 4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2a – 3 = 15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b = 32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Litera w równaniu oznacza liczbę, której nie znamy – </a:t>
            </a:r>
            <a:r>
              <a:rPr b="1" lang="pl-PL" sz="3200" spc="-1" strike="noStrike">
                <a:solidFill>
                  <a:srgbClr val="404040"/>
                </a:solidFill>
                <a:latin typeface="Trebuchet MS"/>
              </a:rPr>
              <a:t>niewiadomą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1143000" y="731880"/>
            <a:ext cx="6400800" cy="514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2000"/>
          </a:bodyPr>
          <a:p>
            <a:pPr marL="36000">
              <a:lnSpc>
                <a:spcPct val="15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W zależności od liczby niewiadomych jakie występują w równaniu, mówimy o równaniach z jedną niewiadomą np. 2x = 15,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6000">
              <a:lnSpc>
                <a:spcPct val="15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dwiema niewiadomymi np. </a:t>
            </a:r>
            <a:br>
              <a:rPr sz="3200"/>
            </a:b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x</a:t>
            </a:r>
            <a:r>
              <a:rPr b="0" lang="pl-PL" sz="3200" spc="-1" strike="noStrike" baseline="30000">
                <a:solidFill>
                  <a:srgbClr val="404040"/>
                </a:solidFill>
                <a:latin typeface="Trebuchet MS"/>
              </a:rPr>
              <a:t> 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+ y = 9,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6000">
              <a:lnSpc>
                <a:spcPct val="15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trzema niewiadomymi              np. a + b - c = 8 itd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600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1143000" y="731520"/>
            <a:ext cx="6400800" cy="500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marL="39600">
              <a:lnSpc>
                <a:spcPct val="15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W zależności od największego wykładnika potęgi, w jakiej występuje niewiadoma, mówimy o równaniach stopnia pierwszego np. 2x = 15,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9600">
              <a:lnSpc>
                <a:spcPct val="15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drugiego np. x</a:t>
            </a:r>
            <a:r>
              <a:rPr b="0" lang="pl-PL" sz="3200" spc="-1" strike="noStrike" baseline="30000">
                <a:solidFill>
                  <a:srgbClr val="404040"/>
                </a:solidFill>
                <a:latin typeface="Trebuchet MS"/>
              </a:rPr>
              <a:t>2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 = 9,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9600">
              <a:lnSpc>
                <a:spcPct val="15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trzeciego np. a</a:t>
            </a:r>
            <a:r>
              <a:rPr b="0" lang="pl-PL" sz="3200" spc="-1" strike="noStrike" baseline="30000">
                <a:solidFill>
                  <a:srgbClr val="404040"/>
                </a:solidFill>
                <a:latin typeface="Trebuchet MS"/>
              </a:rPr>
              <a:t>3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 = 8 itd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split dir="out" orient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1142640" y="731520"/>
            <a:ext cx="66690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15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404040"/>
                </a:solidFill>
                <a:latin typeface="Trebuchet MS"/>
              </a:rPr>
              <a:t>Równaniem pierwszego stopnia </a:t>
            </a:r>
            <a:br>
              <a:rPr sz="3200"/>
            </a:br>
            <a:r>
              <a:rPr b="0" i="1" lang="pl-PL" sz="3200" spc="-1" strike="noStrike">
                <a:solidFill>
                  <a:srgbClr val="404040"/>
                </a:solidFill>
                <a:latin typeface="Trebuchet MS"/>
              </a:rPr>
              <a:t>z jedną niewiadomą 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nazywamy równość dwóch wyrażeń, w których występuje jedna zmienna (niewiadoma) w pierwszej potędze, np. 3a – 2 = 11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1143000" y="731520"/>
            <a:ext cx="6524640" cy="507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4280">
              <a:lnSpc>
                <a:spcPct val="15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Równania służą do zapisywania </a:t>
            </a:r>
            <a:br>
              <a:rPr sz="3200"/>
            </a:b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i rozwiązywania wielu zagadnień </a:t>
            </a:r>
            <a:br>
              <a:rPr sz="3200"/>
            </a:b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i problemów z matematyki, fizyki oraz innych dziedzin wiedzy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split dir="out" orient="ver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1187280" y="764640"/>
            <a:ext cx="6400800" cy="521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7000"/>
          </a:bodyPr>
          <a:p>
            <a:pPr marL="3852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Zadanie 1.Napisz odpowiednie równanie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852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Liczba o 5 mniejsza od a jest równa 14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852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Jaś ma x piątek, dwa razy więcej czwórek i jedną trójkę, razem 19 ocen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852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W klasie liczącej 22 uczniów jest x dziewcząt, a chłopców jest o 4 więcej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852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split dir="out" orient="ver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1143000" y="731880"/>
            <a:ext cx="6400800" cy="514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4280">
              <a:lnSpc>
                <a:spcPct val="15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Zadanie 2. Podaj cztery inne zdania i poproś kolegę z ławki, aby zapisał je w postaci równań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284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404040"/>
                </a:solidFill>
                <a:latin typeface="Trebuchet MS"/>
              </a:rPr>
              <a:t>BIBLIOGRAFIA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284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404040"/>
                </a:solidFill>
                <a:latin typeface="Trebuchet MS"/>
              </a:rPr>
              <a:t>Matematyka z plusem 1; wyd. GWO; Gdańsk 2009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284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404040"/>
                </a:solidFill>
                <a:latin typeface="Trebuchet MS"/>
              </a:rPr>
              <a:t>Vademecum Egzamin gimnazjalny Matematyka; wyd. Operon; Gdynia 2008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284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404040"/>
                </a:solidFill>
                <a:latin typeface="Trebuchet MS"/>
              </a:rPr>
              <a:t>Klucz gimnazjalisty; wyd. Croma; Wrocław 2002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284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284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404040"/>
                </a:solidFill>
                <a:latin typeface="Trebuchet MS"/>
              </a:rPr>
              <a:t>Opracowała: Anna Jąkalska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4T17:30:30Z</dcterms:created>
  <dc:creator>Ania</dc:creator>
  <dc:description/>
  <dc:language>en-US</dc:language>
  <cp:lastModifiedBy>Ania</cp:lastModifiedBy>
  <dcterms:modified xsi:type="dcterms:W3CDTF">2013-06-11T17:55:13Z</dcterms:modified>
  <cp:revision>99</cp:revision>
  <dc:subject/>
  <dc:title>RÓWNANIA</dc:title>
</cp:coreProperties>
</file>