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9DA-543D-43D6-A4E2-3071412764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008-8710-488B-AE43-56C049B8AE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1B0-E375-425B-8CE2-5826A7B3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D6D-DEA7-44CD-8BAB-0462DCDE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210-F1C1-44F9-B251-0285B28C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FB1-921C-493C-8E73-9C5ED241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635-4049-40F0-AD9D-F4DEE80F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F783-E7EA-4D7F-B9C9-60F8FD9F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88C2-245D-4E53-B430-DE9E391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F92-D069-48C9-949D-2E68011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A2CA-A23A-4FE5-8F5D-26DC44EE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FA91-9E5A-433E-B38D-670EC61C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5D08-5BB0-4576-89FB-C7A8CFE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C04-9F51-4669-B25D-2580E91C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9834-E1E3-4C68-8A49-3C35186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B74-078B-4059-95DB-431580BC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2C33-32C7-42E3-BE25-18B1266E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E4BA-2680-4E39-AC15-251D686C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289C-E1F5-491C-9BB4-2356291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2720-9F7E-4D6E-A6E3-AF6F8055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A648-68DD-4452-A02A-74F8210B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AF05-03FC-4D49-A74D-71079E5F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FCC2-67A3-4C1A-8004-E6CA764D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B047-9F84-4596-BFF4-AE4EA6E3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A47-9DCE-4F26-909B-350ED95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759D-7C05-4605-B502-031C8DD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9784-DCED-49E9-9E23-F647C9CC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145A-F8A2-4AA5-B56E-9D26121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F5E5-E74B-4111-84AA-7EDBA40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3480-6B90-4CBD-B720-9FF6372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FA5F-1516-4624-BFEC-82DB83AC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600F-F787-4D7C-9F0B-95924B63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18CE-B22D-4DE7-92DA-70FE6CFC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A814-3754-48DE-BFB0-28AEB15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830A-1FBB-4862-A8D1-61F7FD42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195-25D4-4B8F-8582-A478CCE2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BCBE-0700-429F-AF7F-1C540CC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4E4B-BD7D-4335-8F50-1CD1524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DCE5-3067-4F9B-93AB-AE01C0B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2374-459E-435B-B4C9-EC0209E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3FA9-15C5-4537-B1ED-4D2CB51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22DBC-FA9E-4764-B91E-8D69D78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E374-A511-4FD3-8B06-788977D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C220-E881-4CA6-BF95-3D6E7C5F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9BCC-3477-41AF-9A75-B9ACAF9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988-F3BC-4ACF-A266-4A20E835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216-E575-4733-B8B7-EF8E9339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A4A-D52B-4883-9250-B8FC1082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716-94F7-4A03-B865-BB413F4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D5D-D531-4908-B54F-CB379BD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56A7-C4C7-4174-82EE-810B3DFF17B5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790-90F8-4B5B-A59D-C789B2603BDF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0271-69F9-49B9-B0CC-D7442139E113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A21-0A6E-4510-825C-B6018C185D63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2962440"/>
            <a:ext cx="732168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731880"/>
            <a:ext cx="717408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to dwa wyrażenia algebraiczne połączone znakiem równości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 równań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3x + y = 9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y = 3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a – 3 = 15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b = 3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tera w równaniu oznacza liczbę, której nie znamy – </a:t>
            </a: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niewiadom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liczby niewiadomych jakie występują w równaniu, mówimy o równaniach z jedną niewiadomą np. 2x = 15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wiema niewiadomymi np.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+ y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ma niewiadomymi              np. a + b - c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731520"/>
            <a:ext cx="6400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największego wykładnika potęgi, w jakiej występuje niewiadoma, mówimy o równaniach stopnia pierwszego np. 2x = 15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rugiego np. 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ciego np.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2640" y="731520"/>
            <a:ext cx="6669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m pierwszego stopnia </a:t>
            </a:r>
            <a:br>
              <a:rPr sz="3200"/>
            </a:b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z jedną niewiadomą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azywamy równość dwóch wyrażeń, w których występuje jedna zmienna (niewiadoma) w pierwszej potędze, np. 3a – 2 = 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3000" y="731520"/>
            <a:ext cx="6524640" cy="50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 służą do zapisywania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rozwiązywania wielu zagadnień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problemów z matematyki, fizyki oraz innych dziedzin wiedzy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87280" y="764640"/>
            <a:ext cx="640080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1.Napisz odpowiednie równ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a o 5 mniejsza od a jest równa 14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aś ma x piątek, dwa razy więcej czwórek i jedną trójkę, razem 19 ocen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klasie liczącej 22 uczniów jest x dziewcząt, a chłopców jest o 4 więcej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2. Podaj cztery inne zdania i poproś kolegę z ławki, aby zapisał je w postaci równ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Vademecum Egzamin gimnazjalny Matematyka; wyd. Operon; Gdynia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Klucz gimnazjalisty; wyd. Croma; Wrocław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5:13Z</dcterms:modified>
  <cp:revision>99</cp:revision>
  <dc:subject/>
  <dc:title>RÓWNANIA</dc:title>
</cp:coreProperties>
</file>