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43E-84B4-445E-A6A5-39076DEF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4DF-D96B-4E32-AEBD-68C35C6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F8E-439E-4BF8-9414-E194D2C1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B98-0CE2-402D-8992-5EADCCE7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3F04-7566-47DD-BF0B-28F55B1D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F6E-87EF-4CCA-A2BC-4A331E83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B2DE-68CE-431F-8BB1-C0BC083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8A0D-0AE4-4215-BD3C-8F4358E1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5DF4-4B03-4B4E-9047-A021FA10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54FA-53E8-4195-8F28-901182A5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FD8-97DF-439D-BAF9-68526BFE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3DE-7A70-4399-8BD1-C9823B84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8015-B325-438A-8FB9-CFDA42E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0CDC-35E8-4149-8E88-97F9BA6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5894-1C6E-4362-9EA7-B0A2C33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FAEF-FD84-4434-B6D2-7C9B3D37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43A-D365-43FB-B314-6BC5EE59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FF7A-7D17-448D-ACD3-2F36BB61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21B2-3FEA-46CB-8652-DE70D53C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ED68E-B6CD-4BDA-835E-4333D432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1548-EDD1-4FD6-952D-58AFFFC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3E20-FCD2-4ED4-A776-9DD1689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BFE-8F91-4834-88A9-623CAC1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BF00-E0B3-4C5C-AC66-0A3B5C45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06C3-8ED6-406F-8A0F-450DA766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EA93-9A5D-4BBB-8248-A2D7DE6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FB2C-75DC-4AFF-B002-A2245669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583C-CED5-4063-B3A7-272FF043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5EA8-3244-4E9C-A61D-2D936621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02DF7-AC6C-4F76-8BF4-E9ED53F9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AB7DF-25BA-4B84-8938-C65E596B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4F22-AC4A-4601-8B21-EE8120D1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2AD4-DF83-4804-A017-6406842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9A3-763D-40FF-8AAA-5A01B05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F138-F5B6-4619-A1A7-C7743FA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9E4DB-5D70-48E9-8801-3819DA1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00F9-26CC-4B25-B809-3468000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77BD-23B5-42A9-B4B2-D3BF30D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F22E-EBEF-4061-85C9-D6320D9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C3A8D-9EC1-4948-83A4-C694138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8AF4-BC48-42C1-B9CC-865FE14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751C-59B9-495A-98DD-9D34E90E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8543-83C8-4157-8A8D-8F9267C7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EC42F-E1A3-474E-BD27-CE038978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495-A156-4809-849C-7B2D8D3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D40E8-4B0A-424D-A1AF-4A92C664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E4F0A-5440-4F06-A313-312394AA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EE7C7-9EF2-4630-A7CA-02C09A8D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88BD-62D2-454A-8E6A-E595252A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1F807-F86A-4EFE-B3EF-1F612B3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0CC9-3D10-4721-B349-DE7C195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724EE-81A3-4844-A2BB-14482C1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A7F7-E9DA-4A7D-8990-B6E3FC0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E1D4-6D60-494B-8929-1F206499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CEB77-5FA1-4FE8-8FD4-FB8E98FE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425-B5D0-44D3-9630-EC321DA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818C-9D34-45CC-9872-9480503E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25962-2C4D-4D2E-B53A-78545824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6438-DFA3-4410-AED1-C6BCF587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5330-27BF-4F2D-9F15-90E42E0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D233-9320-4913-9E65-3BE772CE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A9DA-0CB2-45D7-8982-E18184B9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BED4-28DE-4419-876D-1F102851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FF35-3CB3-4688-9B74-712D574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2D42-6DDB-4C3D-894E-D03A981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766D3-8C90-42F4-AF4E-8F7C5F7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D87-49EA-49DB-8A49-8E718741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579C-842F-4438-8DF9-432394CB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E371-2EE8-4745-A99F-0E78C2C4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B30B-5FC1-4DB5-941A-1E0C1562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8592E-AFE5-474F-BB96-066178FD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0A87-004B-4FCE-AD3C-A443F2C7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563FC-A917-469B-9907-F1A69A52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4C838-9073-4BFD-B5A4-D1BF47BB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6FD38-1BB7-4D29-BCA7-63C42404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AFF7-CA92-4964-B9F4-1ECE8BB3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9CA8A-3DA1-4F3F-9860-21815BB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BAC-5406-44DC-8713-23F74DB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152FD-61B2-4106-9A52-B5E8B1C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BD3E-E847-44BB-B981-B8AA980C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CE00-4341-4126-8504-0FC04A3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48052-8958-4AE4-8826-D4752542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CE013-F50C-448D-BEB6-04D7317F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AFA-3908-43F4-9435-332B214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1AE9-51FF-453C-B2F3-22640ABE537C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BACF-175D-48F1-8A96-5C6B09C63BA4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E66-29D7-42E6-B7FA-3B987B39EB62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FA8-DA3C-44C1-80D2-033D7888806B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C6AA-F853-48AA-BEDC-A0F4B0AB51A4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E82D-0181-47C9-8F4A-56D8846CF3B2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6B2-1B69-4181-8673-ABB3B4371236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Symetria względem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pun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Symetria środkow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(względ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) jest to przekształcenie przyporządkowujące każdemu punktowi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punkt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’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niego symetryczny względem ustalonego 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ole tekstowe 2"/>
          <p:cNvSpPr/>
          <p:nvPr/>
        </p:nvSpPr>
        <p:spPr>
          <a:xfrm>
            <a:off x="971640" y="3284640"/>
            <a:ext cx="81723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2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czworokąt i skonstruuj figurę symetryczną do niego w symetrii względ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dnego z wierzchoł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a jednego z bo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u leżącego poza czworoką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3"/>
          <p:cNvSpPr/>
          <p:nvPr/>
        </p:nvSpPr>
        <p:spPr>
          <a:xfrm>
            <a:off x="971640" y="333360"/>
            <a:ext cx="817236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odcinek i punkt S. Skonstruuj odcinek symetryczny do danego odcinka w symetrii względem punktu S. Rozważ różne położenia punktu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1"/>
          <p:cNvSpPr/>
          <p:nvPr/>
        </p:nvSpPr>
        <p:spPr>
          <a:xfrm>
            <a:off x="1042920" y="115920"/>
            <a:ext cx="792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3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a figura jest symetryczna do figury A względem punktu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Home\AppData\Local\Microsoft\Windows\Temporary Internet Files\Content.IE5\NU2RHS0H\MC900413608[1].wmf"/>
          <p:cNvPicPr/>
          <p:nvPr/>
        </p:nvPicPr>
        <p:blipFill>
          <a:blip r:embed="rId1"/>
          <a:stretch/>
        </p:blipFill>
        <p:spPr>
          <a:xfrm>
            <a:off x="2556000" y="2276640"/>
            <a:ext cx="1355760" cy="150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Home\AppData\Local\Microsoft\Windows\Temporary Internet Files\Content.IE5\NU2RHS0H\MC900413608[1].wmf"/>
          <p:cNvPicPr/>
          <p:nvPr/>
        </p:nvPicPr>
        <p:blipFill>
          <a:blip r:embed="rId2"/>
          <a:stretch/>
        </p:blipFill>
        <p:spPr>
          <a:xfrm rot="4597200">
            <a:off x="2333520" y="4447800"/>
            <a:ext cx="1355760" cy="1501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Home\AppData\Local\Microsoft\Windows\Temporary Internet Files\Content.IE5\NU2RHS0H\MC900413608[1].wmf"/>
          <p:cNvPicPr/>
          <p:nvPr/>
        </p:nvPicPr>
        <p:blipFill>
          <a:blip r:embed="rId3"/>
          <a:stretch/>
        </p:blipFill>
        <p:spPr>
          <a:xfrm rot="10800000">
            <a:off x="4870440" y="471780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Home\AppData\Local\Microsoft\Windows\Temporary Internet Files\Content.IE5\NU2RHS0H\MC900413608[1].wmf"/>
          <p:cNvPicPr/>
          <p:nvPr/>
        </p:nvPicPr>
        <p:blipFill>
          <a:blip r:embed="rId4"/>
          <a:stretch/>
        </p:blipFill>
        <p:spPr>
          <a:xfrm rot="4171800">
            <a:off x="4905720" y="235188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Home\AppData\Local\Microsoft\Windows\Temporary Internet Files\Content.IE5\NU2RHS0H\MC900413608[1].wmf"/>
          <p:cNvPicPr/>
          <p:nvPr/>
        </p:nvPicPr>
        <p:blipFill>
          <a:blip r:embed="rId5"/>
          <a:stretch/>
        </p:blipFill>
        <p:spPr>
          <a:xfrm rot="10800000">
            <a:off x="6561000" y="3605040"/>
            <a:ext cx="1355760" cy="1501920"/>
          </a:xfrm>
          <a:prstGeom prst="rect">
            <a:avLst/>
          </a:prstGeom>
          <a:ln w="0">
            <a:noFill/>
          </a:ln>
        </p:spPr>
      </p:pic>
      <p:sp>
        <p:nvSpPr>
          <p:cNvPr id="383" name="Elipsa 23"/>
          <p:cNvSpPr/>
          <p:nvPr/>
        </p:nvSpPr>
        <p:spPr>
          <a:xfrm flipH="1">
            <a:off x="4355280" y="422100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24"/>
          <p:cNvSpPr/>
          <p:nvPr/>
        </p:nvSpPr>
        <p:spPr>
          <a:xfrm>
            <a:off x="2413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25"/>
          <p:cNvSpPr/>
          <p:nvPr/>
        </p:nvSpPr>
        <p:spPr>
          <a:xfrm>
            <a:off x="4430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ole tekstowe 29"/>
          <p:cNvSpPr/>
          <p:nvPr/>
        </p:nvSpPr>
        <p:spPr>
          <a:xfrm>
            <a:off x="2990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ole tekstowe 30"/>
          <p:cNvSpPr/>
          <p:nvPr/>
        </p:nvSpPr>
        <p:spPr>
          <a:xfrm>
            <a:off x="78156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ole tekstowe 31"/>
          <p:cNvSpPr/>
          <p:nvPr/>
        </p:nvSpPr>
        <p:spPr>
          <a:xfrm>
            <a:off x="60876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ole tekstowe 32"/>
          <p:cNvSpPr/>
          <p:nvPr/>
        </p:nvSpPr>
        <p:spPr>
          <a:xfrm>
            <a:off x="6158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rostokąt 1"/>
          <p:cNvSpPr/>
          <p:nvPr/>
        </p:nvSpPr>
        <p:spPr>
          <a:xfrm>
            <a:off x="97164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zględem którego punktu figury B i B’ są symetr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Home\AppData\Local\Microsoft\Windows\Temporary Internet Files\Content.IE5\G0S2MCRD\MC900030629[1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473480" cy="177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Home\AppData\Local\Microsoft\Windows\Temporary Internet Files\Content.IE5\G0S2MCRD\MC900030629[1].wmf"/>
          <p:cNvPicPr/>
          <p:nvPr/>
        </p:nvPicPr>
        <p:blipFill>
          <a:blip r:embed="rId2"/>
          <a:stretch/>
        </p:blipFill>
        <p:spPr>
          <a:xfrm rot="10800000">
            <a:off x="6227280" y="3500280"/>
            <a:ext cx="1474920" cy="17733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4"/>
          <p:cNvSpPr/>
          <p:nvPr/>
        </p:nvSpPr>
        <p:spPr>
          <a:xfrm>
            <a:off x="183852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ole tekstowe 5"/>
          <p:cNvSpPr/>
          <p:nvPr/>
        </p:nvSpPr>
        <p:spPr>
          <a:xfrm>
            <a:off x="759960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lipsa 6"/>
          <p:cNvSpPr/>
          <p:nvPr/>
        </p:nvSpPr>
        <p:spPr>
          <a:xfrm>
            <a:off x="3924360" y="371628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ipsa 7"/>
          <p:cNvSpPr/>
          <p:nvPr/>
        </p:nvSpPr>
        <p:spPr>
          <a:xfrm>
            <a:off x="4716360" y="350028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8"/>
          <p:cNvSpPr/>
          <p:nvPr/>
        </p:nvSpPr>
        <p:spPr>
          <a:xfrm>
            <a:off x="4427640" y="2708280"/>
            <a:ext cx="73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9"/>
          <p:cNvSpPr/>
          <p:nvPr/>
        </p:nvSpPr>
        <p:spPr>
          <a:xfrm>
            <a:off x="5076720" y="407664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0"/>
          <p:cNvSpPr/>
          <p:nvPr/>
        </p:nvSpPr>
        <p:spPr>
          <a:xfrm>
            <a:off x="5148360" y="306864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ole tekstowe 19"/>
          <p:cNvSpPr/>
          <p:nvPr/>
        </p:nvSpPr>
        <p:spPr>
          <a:xfrm>
            <a:off x="3782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ole tekstowe 20"/>
          <p:cNvSpPr/>
          <p:nvPr/>
        </p:nvSpPr>
        <p:spPr>
          <a:xfrm>
            <a:off x="4503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ole tekstowe 21"/>
          <p:cNvSpPr/>
          <p:nvPr/>
        </p:nvSpPr>
        <p:spPr>
          <a:xfrm>
            <a:off x="435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ole tekstowe 22"/>
          <p:cNvSpPr/>
          <p:nvPr/>
        </p:nvSpPr>
        <p:spPr>
          <a:xfrm>
            <a:off x="515088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23"/>
          <p:cNvSpPr/>
          <p:nvPr/>
        </p:nvSpPr>
        <p:spPr>
          <a:xfrm>
            <a:off x="51505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Wnios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dcinki symetryczne do siebie względem punktu mają jednakową długość i są równoległ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Symetryczne kąty mają jednakowe mia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 symetryczne do siebie względem punktu są przystają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mysły zadań zostały zaczerpnię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z podręcznika do 1 klasy gimnazjum „Matematyka z pluse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Czy istnieje pewna prosta względem , której elementy na rysunku są symetryczn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4809600"/>
            <a:ext cx="810108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Elementy na rysunku wydają się symetryczne, jednak nie jest to symetria względem żadnej prostej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6341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530064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Połączmy odcinkami odpowiadające sobie punkty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4723920"/>
            <a:ext cx="8101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Zauważmy, że odcinki te przecinają się w jednym punkc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 przecięcia się odcinków jest środkiem każdego z ni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321680" cy="3382920"/>
          </a:xfrm>
          <a:prstGeom prst="rect">
            <a:avLst/>
          </a:prstGeom>
          <a:ln w="0">
            <a:noFill/>
          </a:ln>
        </p:spPr>
      </p:pic>
      <p:sp>
        <p:nvSpPr>
          <p:cNvPr id="330" name="Łącznik prosty 5"/>
          <p:cNvSpPr/>
          <p:nvPr/>
        </p:nvSpPr>
        <p:spPr>
          <a:xfrm flipV="1">
            <a:off x="3059280" y="1915920"/>
            <a:ext cx="3816360" cy="2160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Łącznik prosty 7"/>
          <p:cNvSpPr/>
          <p:nvPr/>
        </p:nvSpPr>
        <p:spPr>
          <a:xfrm>
            <a:off x="2627280" y="2924280"/>
            <a:ext cx="468144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Łącznik prosty 9"/>
          <p:cNvSpPr/>
          <p:nvPr/>
        </p:nvSpPr>
        <p:spPr>
          <a:xfrm flipH="1">
            <a:off x="3276360" y="1700280"/>
            <a:ext cx="338292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Łącznik prosty 18"/>
          <p:cNvSpPr/>
          <p:nvPr/>
        </p:nvSpPr>
        <p:spPr>
          <a:xfrm flipV="1">
            <a:off x="2916360" y="2565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8101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O takich figurach mówimy, że są do siebie symetryczne względem punkt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321680" cy="3381480"/>
          </a:xfrm>
          <a:prstGeom prst="rect">
            <a:avLst/>
          </a:prstGeom>
          <a:ln w="0">
            <a:noFill/>
          </a:ln>
        </p:spPr>
      </p:pic>
      <p:sp>
        <p:nvSpPr>
          <p:cNvPr id="337" name="Łącznik prosty 9"/>
          <p:cNvSpPr/>
          <p:nvPr/>
        </p:nvSpPr>
        <p:spPr>
          <a:xfrm>
            <a:off x="2771640" y="2708280"/>
            <a:ext cx="468000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Łącznik prosty 11"/>
          <p:cNvSpPr/>
          <p:nvPr/>
        </p:nvSpPr>
        <p:spPr>
          <a:xfrm flipH="1">
            <a:off x="3419280" y="1484280"/>
            <a:ext cx="338436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4"/>
          <p:cNvSpPr/>
          <p:nvPr/>
        </p:nvSpPr>
        <p:spPr>
          <a:xfrm flipV="1">
            <a:off x="3059280" y="2349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71280" y="4652640"/>
            <a:ext cx="8172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y A i A’ są symetryczne względem punktu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, jeżeli punkt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jest środkiem odcinka łączącego te punk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Łącznik prosty 10"/>
          <p:cNvSpPr/>
          <p:nvPr/>
        </p:nvSpPr>
        <p:spPr>
          <a:xfrm>
            <a:off x="1476360" y="1773360"/>
            <a:ext cx="6696000" cy="100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4"/>
          <p:cNvSpPr/>
          <p:nvPr/>
        </p:nvSpPr>
        <p:spPr>
          <a:xfrm flipV="1">
            <a:off x="2195640" y="1843920"/>
            <a:ext cx="14436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5"/>
          <p:cNvSpPr/>
          <p:nvPr/>
        </p:nvSpPr>
        <p:spPr>
          <a:xfrm flipV="1">
            <a:off x="4643280" y="2204280"/>
            <a:ext cx="14472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6"/>
          <p:cNvSpPr/>
          <p:nvPr/>
        </p:nvSpPr>
        <p:spPr>
          <a:xfrm flipV="1">
            <a:off x="7093080" y="2564640"/>
            <a:ext cx="142920" cy="142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Łącznik prosty ze strzałką 17"/>
          <p:cNvCxnSpPr>
            <a:stCxn id="342" idx="7"/>
            <a:endCxn id="343" idx="1"/>
          </p:cNvCxnSpPr>
          <p:nvPr/>
        </p:nvCxnSpPr>
        <p:spPr>
          <a:xfrm>
            <a:off x="2319120" y="1968120"/>
            <a:ext cx="2345040" cy="361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Łącznik prosty ze strzałką 19"/>
          <p:cNvCxnSpPr>
            <a:stCxn id="343" idx="7"/>
            <a:endCxn id="344" idx="1"/>
          </p:cNvCxnSpPr>
          <p:nvPr/>
        </p:nvCxnSpPr>
        <p:spPr>
          <a:xfrm>
            <a:off x="4767120" y="2328480"/>
            <a:ext cx="2347200" cy="359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47" name="pole tekstowe 27"/>
          <p:cNvSpPr/>
          <p:nvPr/>
        </p:nvSpPr>
        <p:spPr>
          <a:xfrm>
            <a:off x="2124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8"/>
          <p:cNvSpPr/>
          <p:nvPr/>
        </p:nvSpPr>
        <p:spPr>
          <a:xfrm>
            <a:off x="70930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ole tekstowe 29"/>
          <p:cNvSpPr/>
          <p:nvPr/>
        </p:nvSpPr>
        <p:spPr>
          <a:xfrm>
            <a:off x="450072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00"/>
                </a:solidFill>
                <a:latin typeface="Book Antiqu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punkt A’ symetryczny do punktu A względem punktu S, wystarczy narysować półprostą AS i znaleźć na niej punkt A’ taki, że |AS|=|A’S|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Elipsa 8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9"/>
          <p:cNvSpPr/>
          <p:nvPr/>
        </p:nvSpPr>
        <p:spPr>
          <a:xfrm>
            <a:off x="4140360" y="4581360"/>
            <a:ext cx="7128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0"/>
          <p:cNvSpPr/>
          <p:nvPr/>
        </p:nvSpPr>
        <p:spPr>
          <a:xfrm>
            <a:off x="5364000" y="479736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12"/>
          <p:cNvSpPr/>
          <p:nvPr/>
        </p:nvSpPr>
        <p:spPr>
          <a:xfrm>
            <a:off x="2987640" y="4437000"/>
            <a:ext cx="4238640" cy="658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a 13"/>
          <p:cNvSpPr/>
          <p:nvPr/>
        </p:nvSpPr>
        <p:spPr>
          <a:xfrm>
            <a:off x="2916360" y="3357720"/>
            <a:ext cx="2519280" cy="25192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ole tekstowe 14"/>
          <p:cNvSpPr/>
          <p:nvPr/>
        </p:nvSpPr>
        <p:spPr>
          <a:xfrm>
            <a:off x="2774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5"/>
          <p:cNvSpPr/>
          <p:nvPr/>
        </p:nvSpPr>
        <p:spPr>
          <a:xfrm>
            <a:off x="392688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16"/>
          <p:cNvSpPr/>
          <p:nvPr/>
        </p:nvSpPr>
        <p:spPr>
          <a:xfrm>
            <a:off x="543528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ole tekstowe 1"/>
          <p:cNvSpPr/>
          <p:nvPr/>
        </p:nvSpPr>
        <p:spPr>
          <a:xfrm>
            <a:off x="1187280" y="90792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figurę symetryczną do wielokąta względem danego punktu S, wystarczy znaleźć punkty symetryczne do wierzchołków wielokąta , po czym należy odpowiednio połączyć znalezione pun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ójkąt równoramienny 2"/>
          <p:cNvSpPr/>
          <p:nvPr/>
        </p:nvSpPr>
        <p:spPr>
          <a:xfrm rot="637200">
            <a:off x="1577880" y="3610080"/>
            <a:ext cx="2087640" cy="1296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"/>
          <p:cNvSpPr/>
          <p:nvPr/>
        </p:nvSpPr>
        <p:spPr>
          <a:xfrm>
            <a:off x="5003640" y="4365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Łącznik prosty 5"/>
          <p:cNvSpPr/>
          <p:nvPr/>
        </p:nvSpPr>
        <p:spPr>
          <a:xfrm flipV="1">
            <a:off x="3527280" y="3662280"/>
            <a:ext cx="3140280" cy="1425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Łącznik prosty 7"/>
          <p:cNvSpPr/>
          <p:nvPr/>
        </p:nvSpPr>
        <p:spPr>
          <a:xfrm>
            <a:off x="2741760" y="3621240"/>
            <a:ext cx="4692600" cy="1517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Łącznik prosty 9"/>
          <p:cNvSpPr/>
          <p:nvPr/>
        </p:nvSpPr>
        <p:spPr>
          <a:xfrm flipV="1">
            <a:off x="1476360" y="4076640"/>
            <a:ext cx="7209000" cy="625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rójkąt równoramienny 10"/>
          <p:cNvSpPr/>
          <p:nvPr/>
        </p:nvSpPr>
        <p:spPr>
          <a:xfrm rot="11486400">
            <a:off x="6517800" y="3855240"/>
            <a:ext cx="208764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ole tekstowe 24"/>
          <p:cNvSpPr/>
          <p:nvPr/>
        </p:nvSpPr>
        <p:spPr>
          <a:xfrm>
            <a:off x="118980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ole tekstowe 25"/>
          <p:cNvSpPr/>
          <p:nvPr/>
        </p:nvSpPr>
        <p:spPr>
          <a:xfrm>
            <a:off x="25585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ole tekstowe 26"/>
          <p:cNvSpPr/>
          <p:nvPr/>
        </p:nvSpPr>
        <p:spPr>
          <a:xfrm>
            <a:off x="342288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ole tekstowe 27"/>
          <p:cNvSpPr/>
          <p:nvPr/>
        </p:nvSpPr>
        <p:spPr>
          <a:xfrm>
            <a:off x="4862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28"/>
          <p:cNvSpPr/>
          <p:nvPr/>
        </p:nvSpPr>
        <p:spPr>
          <a:xfrm>
            <a:off x="86040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ole tekstowe 29"/>
          <p:cNvSpPr/>
          <p:nvPr/>
        </p:nvSpPr>
        <p:spPr>
          <a:xfrm>
            <a:off x="7455240" y="5157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ole tekstowe 30"/>
          <p:cNvSpPr/>
          <p:nvPr/>
        </p:nvSpPr>
        <p:spPr>
          <a:xfrm>
            <a:off x="651924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1:30:16Z</dcterms:created>
  <dc:creator>Batonixxx</dc:creator>
  <dc:description/>
  <dc:language>en-US</dc:language>
  <cp:lastModifiedBy>Ania</cp:lastModifiedBy>
  <dcterms:modified xsi:type="dcterms:W3CDTF">2013-06-11T22:03:13Z</dcterms:modified>
  <cp:revision>101</cp:revision>
  <dc:subject/>
  <dc:title>Symetria względem punktu</dc:title>
</cp:coreProperties>
</file>