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E03-A744-4A66-8FF9-32F31855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7C8-1208-4087-815B-3F858829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0A7-2EA9-454B-B42C-E9BD56C3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2AB-355F-4563-8A12-DF38B8DB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58C2-F757-4B42-ADA6-9190AEAA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B31A-D389-498F-BBFE-824273DD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811A-1F7E-404A-A362-01AE63D1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E912-0401-4BB8-97CA-1A8B26C9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4799-0466-4557-B003-EC5BFCE9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6A85-1295-487C-911B-AD3EA038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2719-0B53-4C3E-9AB8-386C27CA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563-DD4F-42CA-8C98-3729F556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7ED7-CE80-4F9E-867C-DE435574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A5D4-43F9-4F10-9C06-420F4A00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5862-7230-4A54-B124-433A1652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4C06-A903-4029-8417-893DE012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7794-7D3F-4E86-A374-6F4376B4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F5B6-9450-4A12-B318-B6879BA5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1769-4929-4C4B-9E28-3140DE5E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D6B6-FCAB-4884-944C-14CF0C28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A71C7-7F33-47B3-BD6A-3832034A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888C-B1F8-42CC-876B-E36179F2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981-8242-4384-9E7E-7E6CE71B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25E8-B89D-4B1E-84D7-81F61EFC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7C52-073D-423D-9B93-7F7BDB47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270A-B1B5-4C54-878C-497446B3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31C9-30A1-474E-88F9-B7464C47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9D36-738C-4C77-B7C1-7660E93C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856A-3208-4AB0-844A-AE2E0DA5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D2187-DD49-4B9D-95C9-1A88CA33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5A7E3-5D1A-426F-8236-3EED1DA5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D9785-9520-420F-B8DF-0A1C7F80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149F-8B97-4640-9B16-986677E9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2C0-7A9A-4985-A1B9-7B73BE92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5007C-24BE-4E32-B2BE-C38A180E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8E1F-0987-44B9-81D5-B378B73D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DDC13-00FB-4EDD-9FC4-8773EC61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5F2D5-D4E9-4A2F-AC1E-4F383451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16060-1919-4669-A3A8-E421A6F5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4D1A-44C5-4585-944E-312F266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A69AA-2446-46BB-BC24-CECA5DF1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B8222-C9F0-46E6-978D-89C7C5CF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6DB00-888C-4987-9C8E-B14039D2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1D9AA-8D29-499E-8811-8A8F0F3D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28E-E3AC-41D2-8EEF-D6A4D419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E7633-C14C-4CA7-A229-D50479C0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2CB51-F58E-41A7-8165-285E0335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C726E-1DC3-460B-843A-59A29766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8FC28-47D4-4700-9792-D9158EBA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74549-936A-4FA9-82F6-F7F6F3F8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5D098-0786-497C-B82E-FAB8C267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87458-E46D-42B9-A510-AC1C1A3E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80AB7-8848-444D-B0DD-E37F5A26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D6C9C-4D28-4FC9-99B7-0D01409A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D3A70-8332-42F4-809A-BEBE7B33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FF4-C69A-4CDA-8FC0-1F359420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037D-937C-4B89-9554-5B9EA3A5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C9120-4BEF-4145-A6B3-7EFC9C39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A3C83-D715-41BD-930F-46D1125B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ACEC4-141F-4E2F-90F1-07877C53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8DF84-F7B6-4E21-AFB5-615061B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E716B-DC32-4186-A87D-F283B16B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522A7-86EA-4E05-956F-818972CC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518F2-A5B5-43D5-A813-A0F203A6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00FCD-52A7-4646-835D-2FF2A03B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B658D-4B45-4431-A256-D583D55D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DF8-E8AC-4F4F-8F10-FE23D2C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A1D6D-E597-4CE0-AD56-8043FBD8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612E-3CE0-43BB-8D96-519F30F0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46E08-F352-4000-B023-A26CD063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A202D-2421-4C42-83EF-A3034181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AFB1D-04F6-441D-8652-7C661408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4E6B4-13CA-4AFB-8569-220C26C3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A6CA8-33B8-4015-87D8-6D52DFD1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4CFEE-D4FF-4030-A9C7-2120F38E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FC417-6C05-4388-B7C8-764FB3AB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CBEF6-5F97-420B-BB52-4D4D6DF1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7F0-69FB-47D6-AFBC-C82981DC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1B2A2-BB65-4847-8B99-A7E5F91D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61CE9-0C44-41F6-86ED-E3380E4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EE30D-06F7-433C-8BD2-1CCEECD4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BA2EF-9F2C-43FB-9FE4-C0B159DD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5E780-8B96-4D37-B94A-18D462BA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81A-6F4E-48F3-ADF3-54616EB8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2E59-2BAA-4854-8194-C0AA1324A4CE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30D7-19DA-485F-B617-DFF2968E9113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B834-5E54-4FDF-BB99-B212DFE5DF36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54EC-F429-4788-A418-3302C308BB20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D5F5-31D7-4DA4-B4BB-26D8F09C1FED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6DD4-003E-4CF1-A7AD-0EF2F9A08146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D035-C652-4C89-ABFD-C34D54EF6343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Symetria względem </a:t>
            </a:r>
            <a:br>
              <a:rPr sz="4300"/>
            </a:b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punkt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Definic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 u="sng">
                <a:solidFill>
                  <a:srgbClr val="000000"/>
                </a:solidFill>
                <a:uFillTx/>
                <a:latin typeface="Book Antiqua"/>
              </a:rPr>
              <a:t>Symetria środkowa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 (względe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unktu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cc0000"/>
                </a:solidFill>
                <a:latin typeface="Book Antiqu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) jest to przekształcenie przyporządkowujące każdemu punktowi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A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 punkt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A’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do niego symetryczny względem ustalonego punktu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zoom dir="ou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ole tekstowe 2"/>
          <p:cNvSpPr/>
          <p:nvPr/>
        </p:nvSpPr>
        <p:spPr>
          <a:xfrm>
            <a:off x="971640" y="3284640"/>
            <a:ext cx="817236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2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Narysuj dowolny czworokąt i skonstruuj figurę symetryczną do niego w symetrii względ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jednego z wierzchołkó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a jednego z bokó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u leżącego poza czworoką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3"/>
          <p:cNvSpPr/>
          <p:nvPr/>
        </p:nvSpPr>
        <p:spPr>
          <a:xfrm>
            <a:off x="971640" y="333360"/>
            <a:ext cx="8172360" cy="24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1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Narysuj dowolny odcinek i punkt S. Skonstruuj odcinek symetryczny do danego odcinka w symetrii względem punktu S. Rozważ różne położenia punktu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rostokąt 1"/>
          <p:cNvSpPr/>
          <p:nvPr/>
        </p:nvSpPr>
        <p:spPr>
          <a:xfrm>
            <a:off x="1042920" y="115920"/>
            <a:ext cx="79218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3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Która figura jest symetryczna do figury A względem punktu 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C:\Users\Home\AppData\Local\Microsoft\Windows\Temporary Internet Files\Content.IE5\NU2RHS0H\MC900413608[1].wmf"/>
          <p:cNvPicPr/>
          <p:nvPr/>
        </p:nvPicPr>
        <p:blipFill>
          <a:blip r:embed="rId1"/>
          <a:stretch/>
        </p:blipFill>
        <p:spPr>
          <a:xfrm>
            <a:off x="2556000" y="2276640"/>
            <a:ext cx="1355760" cy="150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Home\AppData\Local\Microsoft\Windows\Temporary Internet Files\Content.IE5\NU2RHS0H\MC900413608[1].wmf"/>
          <p:cNvPicPr/>
          <p:nvPr/>
        </p:nvPicPr>
        <p:blipFill>
          <a:blip r:embed="rId2"/>
          <a:stretch/>
        </p:blipFill>
        <p:spPr>
          <a:xfrm rot="4597200">
            <a:off x="2333520" y="4447800"/>
            <a:ext cx="1355760" cy="1501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Home\AppData\Local\Microsoft\Windows\Temporary Internet Files\Content.IE5\NU2RHS0H\MC900413608[1].wmf"/>
          <p:cNvPicPr/>
          <p:nvPr/>
        </p:nvPicPr>
        <p:blipFill>
          <a:blip r:embed="rId3"/>
          <a:stretch/>
        </p:blipFill>
        <p:spPr>
          <a:xfrm rot="10800000">
            <a:off x="4870440" y="4717800"/>
            <a:ext cx="1357200" cy="1501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Home\AppData\Local\Microsoft\Windows\Temporary Internet Files\Content.IE5\NU2RHS0H\MC900413608[1].wmf"/>
          <p:cNvPicPr/>
          <p:nvPr/>
        </p:nvPicPr>
        <p:blipFill>
          <a:blip r:embed="rId4"/>
          <a:stretch/>
        </p:blipFill>
        <p:spPr>
          <a:xfrm rot="4171800">
            <a:off x="4905720" y="2351880"/>
            <a:ext cx="1357200" cy="1501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Users\Home\AppData\Local\Microsoft\Windows\Temporary Internet Files\Content.IE5\NU2RHS0H\MC900413608[1].wmf"/>
          <p:cNvPicPr/>
          <p:nvPr/>
        </p:nvPicPr>
        <p:blipFill>
          <a:blip r:embed="rId5"/>
          <a:stretch/>
        </p:blipFill>
        <p:spPr>
          <a:xfrm rot="10800000">
            <a:off x="6561000" y="3605040"/>
            <a:ext cx="1355760" cy="1501920"/>
          </a:xfrm>
          <a:prstGeom prst="rect">
            <a:avLst/>
          </a:prstGeom>
          <a:ln w="0">
            <a:noFill/>
          </a:ln>
        </p:spPr>
      </p:pic>
      <p:sp>
        <p:nvSpPr>
          <p:cNvPr id="383" name="Elipsa 23"/>
          <p:cNvSpPr/>
          <p:nvPr/>
        </p:nvSpPr>
        <p:spPr>
          <a:xfrm flipH="1">
            <a:off x="4355280" y="4221000"/>
            <a:ext cx="7164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ole tekstowe 24"/>
          <p:cNvSpPr/>
          <p:nvPr/>
        </p:nvSpPr>
        <p:spPr>
          <a:xfrm>
            <a:off x="241380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25"/>
          <p:cNvSpPr/>
          <p:nvPr/>
        </p:nvSpPr>
        <p:spPr>
          <a:xfrm>
            <a:off x="443088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ole tekstowe 29"/>
          <p:cNvSpPr/>
          <p:nvPr/>
        </p:nvSpPr>
        <p:spPr>
          <a:xfrm>
            <a:off x="299016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ole tekstowe 30"/>
          <p:cNvSpPr/>
          <p:nvPr/>
        </p:nvSpPr>
        <p:spPr>
          <a:xfrm>
            <a:off x="781560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ole tekstowe 31"/>
          <p:cNvSpPr/>
          <p:nvPr/>
        </p:nvSpPr>
        <p:spPr>
          <a:xfrm>
            <a:off x="6087600" y="50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ole tekstowe 32"/>
          <p:cNvSpPr/>
          <p:nvPr/>
        </p:nvSpPr>
        <p:spPr>
          <a:xfrm>
            <a:off x="615888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rostokąt 1"/>
          <p:cNvSpPr/>
          <p:nvPr/>
        </p:nvSpPr>
        <p:spPr>
          <a:xfrm>
            <a:off x="971640" y="5493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zględem którego punktu figury B i B’ są symetrycz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C:\Users\Home\AppData\Local\Microsoft\Windows\Temporary Internet Files\Content.IE5\G0S2MCRD\MC900030629[1].wmf"/>
          <p:cNvPicPr/>
          <p:nvPr/>
        </p:nvPicPr>
        <p:blipFill>
          <a:blip r:embed="rId1"/>
          <a:stretch/>
        </p:blipFill>
        <p:spPr>
          <a:xfrm>
            <a:off x="1908000" y="1844640"/>
            <a:ext cx="1473480" cy="1771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Users\Home\AppData\Local\Microsoft\Windows\Temporary Internet Files\Content.IE5\G0S2MCRD\MC900030629[1].wmf"/>
          <p:cNvPicPr/>
          <p:nvPr/>
        </p:nvPicPr>
        <p:blipFill>
          <a:blip r:embed="rId2"/>
          <a:stretch/>
        </p:blipFill>
        <p:spPr>
          <a:xfrm rot="10800000">
            <a:off x="6227280" y="3500280"/>
            <a:ext cx="1474920" cy="1773360"/>
          </a:xfrm>
          <a:prstGeom prst="rect">
            <a:avLst/>
          </a:prstGeom>
          <a:ln w="0">
            <a:noFill/>
          </a:ln>
        </p:spPr>
      </p:pic>
      <p:sp>
        <p:nvSpPr>
          <p:cNvPr id="393" name="pole tekstowe 4"/>
          <p:cNvSpPr/>
          <p:nvPr/>
        </p:nvSpPr>
        <p:spPr>
          <a:xfrm>
            <a:off x="183852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ole tekstowe 5"/>
          <p:cNvSpPr/>
          <p:nvPr/>
        </p:nvSpPr>
        <p:spPr>
          <a:xfrm>
            <a:off x="7599600" y="4005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lipsa 6"/>
          <p:cNvSpPr/>
          <p:nvPr/>
        </p:nvSpPr>
        <p:spPr>
          <a:xfrm>
            <a:off x="3924360" y="3716280"/>
            <a:ext cx="712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Elipsa 7"/>
          <p:cNvSpPr/>
          <p:nvPr/>
        </p:nvSpPr>
        <p:spPr>
          <a:xfrm>
            <a:off x="4716360" y="3500280"/>
            <a:ext cx="7164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lipsa 8"/>
          <p:cNvSpPr/>
          <p:nvPr/>
        </p:nvSpPr>
        <p:spPr>
          <a:xfrm>
            <a:off x="4427640" y="2708280"/>
            <a:ext cx="73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lipsa 9"/>
          <p:cNvSpPr/>
          <p:nvPr/>
        </p:nvSpPr>
        <p:spPr>
          <a:xfrm>
            <a:off x="5076720" y="4076640"/>
            <a:ext cx="7164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lipsa 10"/>
          <p:cNvSpPr/>
          <p:nvPr/>
        </p:nvSpPr>
        <p:spPr>
          <a:xfrm>
            <a:off x="5148360" y="3068640"/>
            <a:ext cx="712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ole tekstowe 19"/>
          <p:cNvSpPr/>
          <p:nvPr/>
        </p:nvSpPr>
        <p:spPr>
          <a:xfrm>
            <a:off x="3782520" y="37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ole tekstowe 20"/>
          <p:cNvSpPr/>
          <p:nvPr/>
        </p:nvSpPr>
        <p:spPr>
          <a:xfrm>
            <a:off x="450324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ole tekstowe 21"/>
          <p:cNvSpPr/>
          <p:nvPr/>
        </p:nvSpPr>
        <p:spPr>
          <a:xfrm>
            <a:off x="435888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ole tekstowe 22"/>
          <p:cNvSpPr/>
          <p:nvPr/>
        </p:nvSpPr>
        <p:spPr>
          <a:xfrm>
            <a:off x="515088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23"/>
          <p:cNvSpPr/>
          <p:nvPr/>
        </p:nvSpPr>
        <p:spPr>
          <a:xfrm>
            <a:off x="515052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Wniosk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Odcinki symetryczne do siebie względem punktu mają jednakową długość i są równoległ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Symetryczne kąty mają jednakowe miar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igury symetryczne do siebie względem punktu są przystają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omysły zadań zostały zaczerpnięt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z podręcznika do 1 klasy gimnazjum „Matematyka z plusem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572314"/>
                </a:solidFill>
                <a:latin typeface="Book Antiqua"/>
              </a:rPr>
              <a:t>Czy istnieje pewna prosta względem , której elementy na rysunku są symetryczne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731988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42560" y="4809600"/>
            <a:ext cx="8101080" cy="20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Elementy na rysunku wydają się symetryczne, jednak nie jest to symetria względem żadnej prostej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634160" cy="352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5300640"/>
            <a:ext cx="810108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Połączmy odcinkami odpowiadające sobie punkty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31988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.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4723920"/>
            <a:ext cx="81010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Zauważmy, że odcinki te przecinają się w jednym punkc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 przecięcia się odcinków jest środkiem każdego z ni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7321680" cy="3382920"/>
          </a:xfrm>
          <a:prstGeom prst="rect">
            <a:avLst/>
          </a:prstGeom>
          <a:ln w="0">
            <a:noFill/>
          </a:ln>
        </p:spPr>
      </p:pic>
      <p:sp>
        <p:nvSpPr>
          <p:cNvPr id="330" name="Łącznik prosty 5"/>
          <p:cNvSpPr/>
          <p:nvPr/>
        </p:nvSpPr>
        <p:spPr>
          <a:xfrm flipV="1">
            <a:off x="3059280" y="1915920"/>
            <a:ext cx="3816360" cy="2160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Łącznik prosty 7"/>
          <p:cNvSpPr/>
          <p:nvPr/>
        </p:nvSpPr>
        <p:spPr>
          <a:xfrm>
            <a:off x="2627280" y="2924280"/>
            <a:ext cx="4681440" cy="144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Łącznik prosty 9"/>
          <p:cNvSpPr/>
          <p:nvPr/>
        </p:nvSpPr>
        <p:spPr>
          <a:xfrm flipH="1">
            <a:off x="3276360" y="1700280"/>
            <a:ext cx="3382920" cy="2592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Łącznik prosty 18"/>
          <p:cNvSpPr/>
          <p:nvPr/>
        </p:nvSpPr>
        <p:spPr>
          <a:xfrm flipV="1">
            <a:off x="2916360" y="2565000"/>
            <a:ext cx="4176720" cy="8636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560" y="4868640"/>
            <a:ext cx="810108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O takich figurach mówimy, że są do siebie symetryczne względem punktu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7321680" cy="3381480"/>
          </a:xfrm>
          <a:prstGeom prst="rect">
            <a:avLst/>
          </a:prstGeom>
          <a:ln w="0">
            <a:noFill/>
          </a:ln>
        </p:spPr>
      </p:pic>
      <p:sp>
        <p:nvSpPr>
          <p:cNvPr id="337" name="Łącznik prosty 9"/>
          <p:cNvSpPr/>
          <p:nvPr/>
        </p:nvSpPr>
        <p:spPr>
          <a:xfrm>
            <a:off x="2771640" y="2708280"/>
            <a:ext cx="4680000" cy="144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Łącznik prosty 11"/>
          <p:cNvSpPr/>
          <p:nvPr/>
        </p:nvSpPr>
        <p:spPr>
          <a:xfrm flipH="1">
            <a:off x="3419280" y="1484280"/>
            <a:ext cx="3384360" cy="2592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Łącznik prosty 14"/>
          <p:cNvSpPr/>
          <p:nvPr/>
        </p:nvSpPr>
        <p:spPr>
          <a:xfrm flipV="1">
            <a:off x="3059280" y="2349000"/>
            <a:ext cx="4176720" cy="8636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971280" y="4652640"/>
            <a:ext cx="81723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y A i A’ są symetryczne względem punktu </a:t>
            </a:r>
            <a:r>
              <a:rPr b="0" lang="pl-PL" sz="2800" spc="-1" strike="noStrike">
                <a:solidFill>
                  <a:srgbClr val="cc0000"/>
                </a:solidFill>
                <a:latin typeface="Book Antiqua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, jeżeli punkt </a:t>
            </a:r>
            <a:r>
              <a:rPr b="0" lang="pl-PL" sz="2800" spc="-1" strike="noStrike">
                <a:solidFill>
                  <a:srgbClr val="cc0000"/>
                </a:solidFill>
                <a:latin typeface="Book Antiqua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jest środkiem odcinka łączącego te punk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Łącznik prosty 10"/>
          <p:cNvSpPr/>
          <p:nvPr/>
        </p:nvSpPr>
        <p:spPr>
          <a:xfrm>
            <a:off x="1476360" y="1773360"/>
            <a:ext cx="6696000" cy="100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lipsa 4"/>
          <p:cNvSpPr/>
          <p:nvPr/>
        </p:nvSpPr>
        <p:spPr>
          <a:xfrm flipV="1">
            <a:off x="2195640" y="1843920"/>
            <a:ext cx="144360" cy="144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5"/>
          <p:cNvSpPr/>
          <p:nvPr/>
        </p:nvSpPr>
        <p:spPr>
          <a:xfrm flipV="1">
            <a:off x="4643280" y="2204280"/>
            <a:ext cx="144720" cy="144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ipsa 6"/>
          <p:cNvSpPr/>
          <p:nvPr/>
        </p:nvSpPr>
        <p:spPr>
          <a:xfrm flipV="1">
            <a:off x="7093080" y="2564640"/>
            <a:ext cx="142920" cy="142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Łącznik prosty ze strzałką 17"/>
          <p:cNvCxnSpPr>
            <a:stCxn id="342" idx="7"/>
            <a:endCxn id="343" idx="1"/>
          </p:cNvCxnSpPr>
          <p:nvPr/>
        </p:nvCxnSpPr>
        <p:spPr>
          <a:xfrm>
            <a:off x="2319120" y="1968120"/>
            <a:ext cx="2345040" cy="36108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6" name="Łącznik prosty ze strzałką 19"/>
          <p:cNvCxnSpPr>
            <a:stCxn id="343" idx="7"/>
            <a:endCxn id="344" idx="1"/>
          </p:cNvCxnSpPr>
          <p:nvPr/>
        </p:nvCxnSpPr>
        <p:spPr>
          <a:xfrm>
            <a:off x="4767120" y="2328480"/>
            <a:ext cx="2347200" cy="359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47" name="pole tekstowe 27"/>
          <p:cNvSpPr/>
          <p:nvPr/>
        </p:nvSpPr>
        <p:spPr>
          <a:xfrm>
            <a:off x="212400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28"/>
          <p:cNvSpPr/>
          <p:nvPr/>
        </p:nvSpPr>
        <p:spPr>
          <a:xfrm>
            <a:off x="709308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ole tekstowe 29"/>
          <p:cNvSpPr/>
          <p:nvPr/>
        </p:nvSpPr>
        <p:spPr>
          <a:xfrm>
            <a:off x="4500720" y="17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00"/>
                </a:solidFill>
                <a:latin typeface="Book Antiqu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8487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Aby znaleźć punkt A’ symetryczny do punktu A względem punktu S, wystarczy narysować półprostą AS i znaleźć na niej punkt A’ taki, że |AS|=|A’S|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Elipsa 8"/>
          <p:cNvSpPr/>
          <p:nvPr/>
        </p:nvSpPr>
        <p:spPr>
          <a:xfrm>
            <a:off x="2916360" y="4365720"/>
            <a:ext cx="712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lipsa 9"/>
          <p:cNvSpPr/>
          <p:nvPr/>
        </p:nvSpPr>
        <p:spPr>
          <a:xfrm>
            <a:off x="4140360" y="4581360"/>
            <a:ext cx="7128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lipsa 10"/>
          <p:cNvSpPr/>
          <p:nvPr/>
        </p:nvSpPr>
        <p:spPr>
          <a:xfrm>
            <a:off x="5364000" y="4797360"/>
            <a:ext cx="7164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Łącznik prosty 12"/>
          <p:cNvSpPr/>
          <p:nvPr/>
        </p:nvSpPr>
        <p:spPr>
          <a:xfrm>
            <a:off x="2987640" y="4437000"/>
            <a:ext cx="4238640" cy="658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lipsa 13"/>
          <p:cNvSpPr/>
          <p:nvPr/>
        </p:nvSpPr>
        <p:spPr>
          <a:xfrm>
            <a:off x="2916360" y="3357720"/>
            <a:ext cx="2519280" cy="25192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ole tekstowe 14"/>
          <p:cNvSpPr/>
          <p:nvPr/>
        </p:nvSpPr>
        <p:spPr>
          <a:xfrm>
            <a:off x="277416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ole tekstowe 15"/>
          <p:cNvSpPr/>
          <p:nvPr/>
        </p:nvSpPr>
        <p:spPr>
          <a:xfrm>
            <a:off x="3926880" y="414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ole tekstowe 16"/>
          <p:cNvSpPr/>
          <p:nvPr/>
        </p:nvSpPr>
        <p:spPr>
          <a:xfrm>
            <a:off x="5435280" y="43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ole tekstowe 1"/>
          <p:cNvSpPr/>
          <p:nvPr/>
        </p:nvSpPr>
        <p:spPr>
          <a:xfrm>
            <a:off x="1187280" y="90792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Aby znaleźć figurę symetryczną do wielokąta względem danego punktu S, wystarczy znaleźć punkty symetryczne do wierzchołków wielokąta , po czym należy odpowiednio połączyć znalezione punk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rójkąt równoramienny 2"/>
          <p:cNvSpPr/>
          <p:nvPr/>
        </p:nvSpPr>
        <p:spPr>
          <a:xfrm rot="637200">
            <a:off x="1577880" y="3610080"/>
            <a:ext cx="2087640" cy="1296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lipsa 3"/>
          <p:cNvSpPr/>
          <p:nvPr/>
        </p:nvSpPr>
        <p:spPr>
          <a:xfrm>
            <a:off x="5003640" y="4365720"/>
            <a:ext cx="73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Łącznik prosty 5"/>
          <p:cNvSpPr/>
          <p:nvPr/>
        </p:nvSpPr>
        <p:spPr>
          <a:xfrm flipV="1">
            <a:off x="3527280" y="3662280"/>
            <a:ext cx="3140280" cy="14256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Łącznik prosty 7"/>
          <p:cNvSpPr/>
          <p:nvPr/>
        </p:nvSpPr>
        <p:spPr>
          <a:xfrm>
            <a:off x="2741760" y="3621240"/>
            <a:ext cx="4692600" cy="15174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Łącznik prosty 9"/>
          <p:cNvSpPr/>
          <p:nvPr/>
        </p:nvSpPr>
        <p:spPr>
          <a:xfrm flipV="1">
            <a:off x="1476360" y="4076640"/>
            <a:ext cx="7209000" cy="625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rójkąt równoramienny 10"/>
          <p:cNvSpPr/>
          <p:nvPr/>
        </p:nvSpPr>
        <p:spPr>
          <a:xfrm rot="11486400">
            <a:off x="6517800" y="3855240"/>
            <a:ext cx="2087640" cy="129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ole tekstowe 24"/>
          <p:cNvSpPr/>
          <p:nvPr/>
        </p:nvSpPr>
        <p:spPr>
          <a:xfrm>
            <a:off x="1189800" y="429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ole tekstowe 25"/>
          <p:cNvSpPr/>
          <p:nvPr/>
        </p:nvSpPr>
        <p:spPr>
          <a:xfrm>
            <a:off x="255852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ole tekstowe 26"/>
          <p:cNvSpPr/>
          <p:nvPr/>
        </p:nvSpPr>
        <p:spPr>
          <a:xfrm>
            <a:off x="342288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ole tekstowe 27"/>
          <p:cNvSpPr/>
          <p:nvPr/>
        </p:nvSpPr>
        <p:spPr>
          <a:xfrm>
            <a:off x="486252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28"/>
          <p:cNvSpPr/>
          <p:nvPr/>
        </p:nvSpPr>
        <p:spPr>
          <a:xfrm>
            <a:off x="86040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ole tekstowe 29"/>
          <p:cNvSpPr/>
          <p:nvPr/>
        </p:nvSpPr>
        <p:spPr>
          <a:xfrm>
            <a:off x="7455240" y="51577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ole tekstowe 30"/>
          <p:cNvSpPr/>
          <p:nvPr/>
        </p:nvSpPr>
        <p:spPr>
          <a:xfrm>
            <a:off x="6519240" y="3284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21:30:16Z</dcterms:created>
  <dc:creator>Batonixxx</dc:creator>
  <dc:description/>
  <dc:language>en-US</dc:language>
  <cp:lastModifiedBy>Ania</cp:lastModifiedBy>
  <dcterms:modified xsi:type="dcterms:W3CDTF">2013-06-11T22:03:13Z</dcterms:modified>
  <cp:revision>101</cp:revision>
  <dc:subject/>
  <dc:title>Symetria względem punktu</dc:title>
</cp:coreProperties>
</file>