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E50-2D87-4BB9-9551-CD07F9AA2D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E5E-0AAA-4C00-B420-3AE3CEE11A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4A0-FAAD-4BA2-BFEB-8F457B4E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777-5063-43A4-84AA-B324ED42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80A-3EF1-49E7-BCDE-D740FC5C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B37-CBCF-4EC1-8004-3E2C35C2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361-2F2D-46F5-ACBD-EFC7CD4A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D78F-9EB0-469E-9D39-52C57A6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5041-E737-4093-83DB-2D4AC919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43B8-F5BC-468A-BE46-88D26283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37C3-0E12-402D-8882-C05C95A3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36D4-FE19-4688-AF05-A4AD710F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FBBD-AEF8-43FC-BB83-A9F40FCA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683-F8A7-47DB-A7CD-6C546E2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061-20BD-4D6E-B6C5-0885527F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DE76-B041-4B90-BB0A-7BC8E80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0572-B0FF-40E8-A85E-B5E4FD2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CA60-07A6-4C14-B01A-331BF6F8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5450-FDF4-4947-9A97-DD0E78DA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8ECC-C597-433F-98EA-55B88E1A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CE271-8110-40DC-A40A-F94FC66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57F6-2678-48F9-B5E4-324213E9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A994-EAF6-40C9-9532-0533C14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BD4E-6193-488B-B234-BD136EE7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1FC-A36E-49C9-85E2-F82FA11A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A008-2644-424F-B29F-94B6E05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5C00-0066-4B89-89B6-EFD7384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9CAD-B9B6-48D4-8B18-7C5C2FED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3114-4F10-4E13-9A24-E313047D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AEAB-9C7F-411F-B715-3714130E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47F4-1AD1-405F-958A-BED5B79C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45206-A4CC-49E6-B9AC-3AF40690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8EE2-AC7B-4215-A40E-3C21D3EF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183E-5EBE-47F1-9F10-AE6BF4C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0294-51A4-4B5B-B00C-404F7723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6D0-9837-445B-AEA4-19BE2835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9EEF-58B3-4597-A0C4-0B0376D6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5536-463A-478B-A892-410903F7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EC76A-2BAA-4586-96C0-9C0E49E7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07DB7-1CA9-467D-A73B-59631CE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43E2-900A-4E01-94D0-4CBEEA12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FB1D-81B7-4CD4-AB99-FB4CC46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7F6B-7ABD-408A-B28F-5005AA9B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E52C-3684-48A3-AC02-4ABDBFEF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2544-762C-485F-8A74-4E447886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0859-0A1B-4AF9-B7F3-CE5F35F7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086-00D2-4D31-A685-FEAAE58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4DBD-86A6-42E6-8BCA-7534B928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1FEC-4BA0-495A-9735-5D5DDE8F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31FC-34A3-4D38-A233-4355231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C210-7D6E-4EDB-B511-949CDB40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40EF-5ECC-486E-BF41-8848A3FE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4993-B46E-4704-83F5-B7EEA3F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17C0-162F-4EA6-A5CA-20138FF4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014E0-F15E-4D39-9B09-A5B14F0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66D0-5537-4AC7-A820-B59CF24E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9542D-8BEB-4BF9-AFAD-2919A541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6E0-806E-4FD1-A50D-805E545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AAA7-C08F-428C-84DF-2CD0892B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81ED5-26A7-4EFF-BB0C-A4327C60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0E97-36E0-4AF0-B387-BE6AA9BF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35FE-BB57-4ABD-B27B-6A8C0BA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19F4-5CBC-4977-8C98-5E87E0A4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51086-588A-45F1-B8F3-3E207B36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4CEF-F62E-40B4-B468-858A20C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D49F-6DBA-4336-BD0F-BC1B078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4E34F-3408-4B03-BC74-61538DC8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E7914-46F1-4BF2-A6DA-0240D09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D79-671F-402A-BE30-A6D1A68A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3A61-7A00-4349-B643-2689A0BA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CEEE7-E759-4BC6-9050-55F1B6B0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40E64-1AFE-471E-9DD7-F19B4EB1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63CB1-D793-4C38-8CD1-29122491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ECCF4-EFA9-4290-9D01-6AEB992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05C1-F354-4EAF-9249-86BCD89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F862-CFB0-441F-8EC1-EC578BC3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18F39-C334-43E3-BEB2-4E5A4B7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C59A-DF09-4376-8584-A19F39A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B43DC-2EB8-4233-A6F6-D74C53F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A5A-ECD6-4509-9241-96B12265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EC9C8-9F06-4107-8702-84D0334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7F07-F0F1-4A9D-915E-7A3267C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5CAAC-7637-4ED0-A3F6-10E5F79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49C5-E5A3-4E27-B822-CFA804CD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CBE84-6B98-4834-8413-92144EBF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6FB-9503-4474-8763-424CF58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D22-3880-464D-872D-D53EE545B21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8EE9-50EB-41A3-ABF6-E2F637E4047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D6B4-3031-49C4-A033-7A892AD673C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049A-8EA0-4DE7-B7B6-E261FCD419E2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D46A-41F5-4A1C-A181-B3F53BD2C6E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57E-F4AD-4406-A720-577236AA4F9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9E2-DEC8-455D-B95C-2354AC94837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22046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Figury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środkowosymetrycz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Twierdzen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56500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żeli figura ma dwie prostopadł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siebie osie symetrii, to punkt przecięcia się tych osi jest środkiem symetrii figu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D4B-CCC2-46C9-B2C6-7C64AD74BC2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980640"/>
            <a:ext cx="785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daj przykłady kilku figur, które mają środek symet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(Możesz wykorzystać powyższe twierdzenie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7000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5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4653000"/>
            <a:ext cx="79218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Dowolna prosta przechodząca przez środek okręgu jest jego osią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DF78-B344-46BF-8FD1-B98BEF41F59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lipsa 5"/>
          <p:cNvSpPr/>
          <p:nvPr/>
        </p:nvSpPr>
        <p:spPr>
          <a:xfrm>
            <a:off x="4716360" y="1197000"/>
            <a:ext cx="3024360" cy="30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Łącznik prosty 7"/>
          <p:cNvSpPr/>
          <p:nvPr/>
        </p:nvSpPr>
        <p:spPr>
          <a:xfrm>
            <a:off x="3924360" y="1700280"/>
            <a:ext cx="5040360" cy="2233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Łącznik prosty 9"/>
          <p:cNvSpPr/>
          <p:nvPr/>
        </p:nvSpPr>
        <p:spPr>
          <a:xfrm flipH="1">
            <a:off x="5363640" y="549360"/>
            <a:ext cx="1800360" cy="41036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6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71280" y="4941360"/>
            <a:ext cx="7715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roste, które zawierają  przekątne kwadratu są jego osiam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4D8-6736-4F30-A882-F59115EFEEF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rostokąt 15"/>
          <p:cNvSpPr/>
          <p:nvPr/>
        </p:nvSpPr>
        <p:spPr>
          <a:xfrm rot="1223400">
            <a:off x="5138280" y="1363680"/>
            <a:ext cx="2173320" cy="21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Łącznik prosty 29"/>
          <p:cNvSpPr/>
          <p:nvPr/>
        </p:nvSpPr>
        <p:spPr>
          <a:xfrm>
            <a:off x="5292720" y="476280"/>
            <a:ext cx="194328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Łącznik prosty 33"/>
          <p:cNvSpPr/>
          <p:nvPr/>
        </p:nvSpPr>
        <p:spPr>
          <a:xfrm flipV="1">
            <a:off x="4067280" y="1197000"/>
            <a:ext cx="4825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Symetralne boków prostokąta są jego osiam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stnieją figury środkowosymetryczne nieposiadające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46F2-D551-491F-90D9-0CD39C15E01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8"/>
          <p:cNvSpPr/>
          <p:nvPr/>
        </p:nvSpPr>
        <p:spPr>
          <a:xfrm flipV="1">
            <a:off x="5219640" y="263700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czworokąt ma środek symetrii, podaj jaki warunek muszą spełniać jego przekątn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Czy znasz figurę, która ma więcej niż jeden środek symetrii?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tak, podaj przykład takiej figury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12000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2060280"/>
            <a:ext cx="81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ma więcej niż jeden środek symetrii, to ma ich nieskończenie wie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Przykład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rosta, płaszczyzn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4F6-1BB0-461A-BF79-B140DCB358E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9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1280" y="1125360"/>
            <a:ext cx="81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e zdanie jest prawdziw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żeli czworokąt ma środek symetrii, to jest równoległoboki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Trójkąt ma środek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ara prostych równoległych ma nieskończenie wiele środków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ek symetrii figury zawsze do niej należ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ielokąt, który ma parzystą liczbę boków ma dwa środk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Żaden siedmiokąt nie ma środka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26000"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y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i środkowe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4" name="Picture 2" descr="http://dogin.blox.pl/resource/plateklod.jpg"/>
          <p:cNvPicPr/>
          <p:nvPr/>
        </p:nvPicPr>
        <p:blipFill>
          <a:blip r:embed="rId1"/>
          <a:stretch/>
        </p:blipFill>
        <p:spPr>
          <a:xfrm>
            <a:off x="2987640" y="1700280"/>
            <a:ext cx="43624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227664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jest symetryczna sama do siebie względem pewnego punktu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, to punkt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nazywamy 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środkiem symetrii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, a taką figurę nazywamy</a:t>
            </a:r>
            <a:r>
              <a:rPr b="0" i="1" lang="pl-PL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środkowosymetryczną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9D2-7E41-45D3-AAEF-755657D3D07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snow_flake_01"/>
          <p:cNvPicPr/>
          <p:nvPr/>
        </p:nvPicPr>
        <p:blipFill>
          <a:blip r:embed="rId1"/>
          <a:stretch/>
        </p:blipFill>
        <p:spPr>
          <a:xfrm>
            <a:off x="1692360" y="549360"/>
            <a:ext cx="6335640" cy="5840280"/>
          </a:xfrm>
          <a:prstGeom prst="rect">
            <a:avLst/>
          </a:prstGeom>
          <a:ln w="0">
            <a:solidFill>
              <a:srgbClr val="daccab"/>
            </a:solidFill>
          </a:ln>
        </p:spPr>
      </p:pic>
    </p:spTree>
  </p:cSld>
  <p:transition advTm="3000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http://bialczynski.files.wordpress.com/2010/02/0-pipewort1.jpg"/>
          <p:cNvPicPr/>
          <p:nvPr/>
        </p:nvPicPr>
        <p:blipFill>
          <a:blip r:embed="rId1"/>
          <a:stretch/>
        </p:blipFill>
        <p:spPr>
          <a:xfrm>
            <a:off x="1258920" y="404640"/>
            <a:ext cx="749304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Rozeta"/>
          <p:cNvPicPr/>
          <p:nvPr/>
        </p:nvPicPr>
        <p:blipFill>
          <a:blip r:embed="rId1"/>
          <a:stretch/>
        </p:blipFill>
        <p:spPr>
          <a:xfrm>
            <a:off x="1476360" y="692280"/>
            <a:ext cx="7099200" cy="532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e-witraze.pl/user_uploaded/1286452927.jpg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rozeta3_d"/>
          <p:cNvPicPr/>
          <p:nvPr/>
        </p:nvPicPr>
        <p:blipFill>
          <a:blip r:embed="rId1"/>
          <a:stretch/>
        </p:blipFill>
        <p:spPr>
          <a:xfrm>
            <a:off x="2268360" y="404640"/>
            <a:ext cx="590400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http://us.123rf.com/400wm/400/400/evdoha/evdoha1012/evdoha101200407/8422448-mozaiki.jpg"/>
          <p:cNvPicPr/>
          <p:nvPr/>
        </p:nvPicPr>
        <p:blipFill>
          <a:blip r:embed="rId1"/>
          <a:stretch/>
        </p:blipFill>
        <p:spPr>
          <a:xfrm>
            <a:off x="1835280" y="549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moja_koszyczkowa"/>
          <p:cNvPicPr/>
          <p:nvPr/>
        </p:nvPicPr>
        <p:blipFill>
          <a:blip r:embed="rId1"/>
          <a:stretch/>
        </p:blipFill>
        <p:spPr>
          <a:xfrm>
            <a:off x="1547640" y="333360"/>
            <a:ext cx="6985080" cy="612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://us.123rf.com/400wm/400/400/markovka/markovka1209/markovka120900050/15442671-ozdobny-wzor-koronki-runda-tlo-kolo-z-wieloma-szczegolami-wyglada-jak-szydelkowanie-recznie-koronki.jpg"/>
          <p:cNvPicPr/>
          <p:nvPr/>
        </p:nvPicPr>
        <p:blipFill>
          <a:blip r:embed="rId1"/>
          <a:stretch/>
        </p:blipFill>
        <p:spPr>
          <a:xfrm>
            <a:off x="2050920" y="549360"/>
            <a:ext cx="6143760" cy="60195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http://www.piatnik.pl/Obrazy/karty_kodowane.jpg"/>
          <p:cNvPicPr/>
          <p:nvPr/>
        </p:nvPicPr>
        <p:blipFill>
          <a:blip r:embed="rId1"/>
          <a:stretch/>
        </p:blipFill>
        <p:spPr>
          <a:xfrm>
            <a:off x="1187280" y="476280"/>
            <a:ext cx="7777440" cy="58467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56360" cy="5419800"/>
          </a:xfrm>
          <a:prstGeom prst="rect">
            <a:avLst/>
          </a:prstGeom>
          <a:ln w="0">
            <a:noFill/>
          </a:ln>
        </p:spPr>
      </p:pic>
      <p:sp>
        <p:nvSpPr>
          <p:cNvPr id="425" name="Prostokąt 2"/>
          <p:cNvSpPr/>
          <p:nvPr/>
        </p:nvSpPr>
        <p:spPr>
          <a:xfrm>
            <a:off x="1187280" y="5904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pietto kaplica na dziedzińcu kościoła </a:t>
            </a:r>
            <a:r>
              <a:rPr b="1" i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n Pietro</a:t>
            </a: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w Rzy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1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5229000"/>
            <a:ext cx="7489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okręgu jest jego środe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349-E643-46F4-B1C4-25E9F14E2E6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5"/>
          <p:cNvSpPr/>
          <p:nvPr/>
        </p:nvSpPr>
        <p:spPr>
          <a:xfrm>
            <a:off x="3419640" y="1773360"/>
            <a:ext cx="3168360" cy="31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6"/>
          <p:cNvSpPr/>
          <p:nvPr/>
        </p:nvSpPr>
        <p:spPr>
          <a:xfrm flipH="1" flipV="1">
            <a:off x="5003640" y="3357000"/>
            <a:ext cx="46080" cy="4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7"/>
          <p:cNvSpPr/>
          <p:nvPr/>
        </p:nvSpPr>
        <p:spPr>
          <a:xfrm>
            <a:off x="4948560" y="2924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76360" y="3068640"/>
            <a:ext cx="7221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omysły zadań zostały zaczerpnięte z podręcznika do 1 klasy gimnazjum „Matematyka z plusem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dresy stron internetowych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SnowCrystal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hiren.inf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e-witraze.p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l.123rf.com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greatbuilding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59D8-C2F7-419A-BBE2-698A8F82D7F5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692360" y="981000"/>
            <a:ext cx="6480000" cy="1584360"/>
          </a:xfrm>
          <a:prstGeom prst="horizontalScroll">
            <a:avLst>
              <a:gd name="adj" fmla="val 12500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f271c"/>
                </a:solidFill>
                <a:latin typeface="Gill Sans MT"/>
              </a:rPr>
              <a:t>Dziękuj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2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4797360"/>
            <a:ext cx="810108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kwadratu jest punkt przecięcia jego przekątny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B310-B4B9-48A3-94BE-19603797A453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rostokąt 5"/>
          <p:cNvSpPr/>
          <p:nvPr/>
        </p:nvSpPr>
        <p:spPr>
          <a:xfrm>
            <a:off x="4716360" y="1268280"/>
            <a:ext cx="2664000" cy="2881440"/>
          </a:xfrm>
          <a:prstGeom prst="rect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1"/>
          <p:cNvSpPr/>
          <p:nvPr/>
        </p:nvSpPr>
        <p:spPr>
          <a:xfrm flipV="1"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Łącznik prosty 13"/>
          <p:cNvSpPr/>
          <p:nvPr/>
        </p:nvSpPr>
        <p:spPr>
          <a:xfrm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ole tekstowe 8"/>
          <p:cNvSpPr/>
          <p:nvPr/>
        </p:nvSpPr>
        <p:spPr>
          <a:xfrm>
            <a:off x="588420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3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prostokąta jest punkt przecięcia jego os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6"/>
          <p:cNvSpPr/>
          <p:nvPr/>
        </p:nvSpPr>
        <p:spPr>
          <a:xfrm>
            <a:off x="523584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4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gura środkowosymetryczna nieposiadająca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224E-67CF-47C2-9977-661B2DF4BC3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9"/>
          <p:cNvSpPr/>
          <p:nvPr/>
        </p:nvSpPr>
        <p:spPr>
          <a:xfrm>
            <a:off x="3564000" y="220500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Łącznik prosty 11"/>
          <p:cNvSpPr/>
          <p:nvPr/>
        </p:nvSpPr>
        <p:spPr>
          <a:xfrm flipV="1">
            <a:off x="3564000" y="220464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Łącznik prosty 13"/>
          <p:cNvSpPr/>
          <p:nvPr/>
        </p:nvSpPr>
        <p:spPr>
          <a:xfrm flipV="1">
            <a:off x="3851280" y="1773000"/>
            <a:ext cx="2881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4"/>
          <p:cNvSpPr/>
          <p:nvPr/>
        </p:nvSpPr>
        <p:spPr>
          <a:xfrm>
            <a:off x="5164560" y="234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7280" y="1988640"/>
            <a:ext cx="46800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bracając figurę środkowosymetryczną o 18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wokół środka symetrii, otrzymamy tę samą figurę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418-1B81-4486-8F90-367C2F035EA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74920" cy="388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42560" y="189000"/>
            <a:ext cx="78915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Zadanie 4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Które ze znaków drogowych mają środki symetrii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Users\Operator\Desktop\przykłady_symetrii\znaki drogowe\a_07.png"/>
          <p:cNvPicPr/>
          <p:nvPr/>
        </p:nvPicPr>
        <p:blipFill>
          <a:blip r:embed="rId1"/>
          <a:stretch/>
        </p:blipFill>
        <p:spPr>
          <a:xfrm>
            <a:off x="3132000" y="306864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Operator\Desktop\przykłady_symetrii\znaki drogowe\a_32.png"/>
          <p:cNvPicPr/>
          <p:nvPr/>
        </p:nvPicPr>
        <p:blipFill>
          <a:blip r:embed="rId2"/>
          <a:stretch/>
        </p:blipFill>
        <p:spPr>
          <a:xfrm>
            <a:off x="1403280" y="1628640"/>
            <a:ext cx="1143000" cy="101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Operator\Desktop\przykłady_symetrii\znaki drogowe\b_03.png"/>
          <p:cNvPicPr/>
          <p:nvPr/>
        </p:nvPicPr>
        <p:blipFill>
          <a:blip r:embed="rId3"/>
          <a:stretch/>
        </p:blipFill>
        <p:spPr>
          <a:xfrm>
            <a:off x="1476360" y="299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Operator\Desktop\przykłady_symetrii\znaki drogowe\b_01.png"/>
          <p:cNvPicPr/>
          <p:nvPr/>
        </p:nvPicPr>
        <p:blipFill>
          <a:blip r:embed="rId4"/>
          <a:stretch/>
        </p:blipFill>
        <p:spPr>
          <a:xfrm>
            <a:off x="3132000" y="155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C:\Users\Operator\Desktop\przykłady_symetrii\znaki drogowe\d_01.png"/>
          <p:cNvPicPr/>
          <p:nvPr/>
        </p:nvPicPr>
        <p:blipFill>
          <a:blip r:embed="rId5"/>
          <a:stretch/>
        </p:blipFill>
        <p:spPr>
          <a:xfrm>
            <a:off x="3203640" y="450864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C:\Users\Operator\AppData\Local\Microsoft\Windows\Temporary Internet Files\Content.IE5\A4KG3B2Y\MC900346301[1].wmf"/>
          <p:cNvPicPr/>
          <p:nvPr/>
        </p:nvPicPr>
        <p:blipFill>
          <a:blip r:embed="rId6"/>
          <a:stretch/>
        </p:blipFill>
        <p:spPr>
          <a:xfrm>
            <a:off x="4716360" y="1557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Operator\Desktop\przykłady_symetrii\znaki drogowe\b_36.png"/>
          <p:cNvPicPr/>
          <p:nvPr/>
        </p:nvPicPr>
        <p:blipFill>
          <a:blip r:embed="rId7"/>
          <a:stretch/>
        </p:blipFill>
        <p:spPr>
          <a:xfrm>
            <a:off x="630072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8" descr="C:\Users\Operator\AppData\Local\Microsoft\Windows\Temporary Internet Files\Content.IE5\ICFVKMCT\MC900411382[1].wmf"/>
          <p:cNvPicPr/>
          <p:nvPr/>
        </p:nvPicPr>
        <p:blipFill>
          <a:blip r:embed="rId8"/>
          <a:stretch/>
        </p:blipFill>
        <p:spPr>
          <a:xfrm>
            <a:off x="4643280" y="4437000"/>
            <a:ext cx="1432080" cy="115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C:\Users\Operator\AppData\Local\Microsoft\Windows\Temporary Internet Files\Content.IE5\ZJ902C1U\MC900411258[1].wmf"/>
          <p:cNvPicPr/>
          <p:nvPr/>
        </p:nvPicPr>
        <p:blipFill>
          <a:blip r:embed="rId9"/>
          <a:stretch/>
        </p:blipFill>
        <p:spPr>
          <a:xfrm>
            <a:off x="1476360" y="4437000"/>
            <a:ext cx="12333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library.kiwix.org/wikipedia_pl_dvd_2006_beta1/I/ZNAK_B_2.PNG"/>
          <p:cNvPicPr/>
          <p:nvPr/>
        </p:nvPicPr>
        <p:blipFill>
          <a:blip r:embed="rId10"/>
          <a:stretch/>
        </p:blipFill>
        <p:spPr>
          <a:xfrm>
            <a:off x="6300720" y="2924280"/>
            <a:ext cx="1135080" cy="113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library.kiwix.org/wikipedia_pl_dvd_2006_beta1/I/ZNAK_C12.PNG"/>
          <p:cNvPicPr/>
          <p:nvPr/>
        </p:nvPicPr>
        <p:blipFill>
          <a:blip r:embed="rId11"/>
          <a:stretch/>
        </p:blipFill>
        <p:spPr>
          <a:xfrm>
            <a:off x="62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library.kiwix.org/wikipedia_pl_dvd_2006_beta1/I/ZNAK_A_5.PNG"/>
          <p:cNvPicPr/>
          <p:nvPr/>
        </p:nvPicPr>
        <p:blipFill>
          <a:blip r:embed="rId12"/>
          <a:stretch/>
        </p:blipFill>
        <p:spPr>
          <a:xfrm>
            <a:off x="4716360" y="3068640"/>
            <a:ext cx="1224000" cy="10605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920" y="0"/>
            <a:ext cx="7850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5.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skaż litery i liczby, które posiadają środki symetri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A, B, C, D, E, F, H, I, M,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N, O, S, T, U, W, X, Y, Z 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0,1, 8, 11, 33, 66, 6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88, 96 101, 60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DAF-EC49-4BA0-B61D-E188274D6BF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8:14Z</dcterms:created>
  <dc:creator>Home</dc:creator>
  <dc:description/>
  <dc:language>en-US</dc:language>
  <cp:lastModifiedBy>Ania</cp:lastModifiedBy>
  <dcterms:modified xsi:type="dcterms:W3CDTF">2013-06-11T22:03:48Z</dcterms:modified>
  <cp:revision>18</cp:revision>
  <dc:subject/>
  <dc:title>Figury  środkowosymetryczne</dc:title>
</cp:coreProperties>
</file>