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BD33-F285-401B-A061-DE99322060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0B56-8222-4096-9A9C-074CF1D1E1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458-1858-48AF-AAC3-249CCF67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248-C638-4A71-BC96-75FEE516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4AE-22A0-4F2F-ACDC-CA3C116B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0BA-D164-45BF-AA86-97798ADC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57AE-8C0B-41F0-8CC7-1A4F94DC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9811-52EE-4073-9C21-938E7D44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4348-D3AD-44A3-A3FD-B03C54ED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FB4-6673-4E87-9671-CEA38FC4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89D5-DF2C-46FC-A97C-87539C7D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177C-8158-4F70-9D48-B0722AB6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7D6-27CD-4F71-9C36-A7AC0306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494-8C07-46D1-A92A-75BAC3C0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90C6-64BA-4067-8ABE-94C6582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0CAF-581C-459E-8F7E-9C0E546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1F35-D9E8-4DA3-826F-7944DE39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F7D7-3B26-4507-8235-BD22E289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0893-3CCB-420E-B5CA-D2FF561C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62C5-0E08-47E3-8A93-9E030143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9526-06E7-43CA-A319-ADCF3B50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0881-C5CD-4920-B3CB-7E46BEBA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5A16-8462-4973-A030-A68F0CC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4C84-934F-4972-8610-CCD78AB6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FFC-A4F4-4D8A-B1B7-36578F0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199D-0E57-4DB8-B431-41B807A5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FEFB-2766-4903-BA81-FA87A5A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B308-6B8C-4DD0-83A1-FB64AC9A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E507-7E72-44DD-BDF0-8420967B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1ED3-3A64-411C-B4EC-04F703BD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BE3D-825E-4C25-9FC2-2ECC0570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618E-2050-4AC5-9334-E659CFED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13D9-A7DA-49C9-9F09-C18E0A34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FF01-1C2C-4C4B-992F-0290BD75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6E47A-80F9-4944-AEC0-5D7B5D1D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D57-EFE8-4EC3-80EB-4740534A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7AF3B-8E8B-4A65-AE35-EE289DED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EA1D-BAEC-4969-BA23-31B58650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9C68-79A0-49B8-B27A-32688869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D538-8BEC-47B3-AC19-E35F98B8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933D-71A7-49BD-8797-7A61549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54519-1073-4480-814A-2B1BE5DE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C91F-F8EE-429D-857D-85E2648E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2DEDD-B6AD-4685-817D-E559959D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B554-7ABE-42C5-9BDE-A56C0438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097-3616-4CC2-99EE-E4696DB5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A22-82E8-42C1-A134-8E8C4667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308-D98E-4328-8D7E-291D4ACD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B7E-EACF-4755-8ABD-5AE366B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D3C-5AD2-41BA-8569-6D4AC59C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D60A-0519-4377-B423-F305248FD51A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86C-D45E-4AC3-B389-E58D8B8AA068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2CB0-A3AB-445F-8EC3-F56CC352C646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E7AB-ACB0-4E95-9C90-38B714C09157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2962440"/>
            <a:ext cx="732168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731880"/>
            <a:ext cx="717408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to dwa wyrażenia algebraiczne połączone znakiem równości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 równań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3x + y = 9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y = 3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a – 3 = 15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b = 32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tera w równaniu oznacza liczbę, której nie znamy – </a:t>
            </a:r>
            <a:r>
              <a:rPr b="1" lang="pl-PL" sz="3200" spc="-1" strike="noStrike">
                <a:solidFill>
                  <a:srgbClr val="404040"/>
                </a:solidFill>
                <a:latin typeface="Trebuchet MS"/>
              </a:rPr>
              <a:t>niewiadom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liczby niewiadomych jakie występują w równaniu, mówimy o równaniach z jedną niewiadomą np. 2x = 15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wiema niewiadomymi np.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+ y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ma niewiadomymi              np. a + b - c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143000" y="731520"/>
            <a:ext cx="64008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największego wykładnika potęgi, w jakiej występuje niewiadoma, mówimy o równaniach stopnia pierwszego np. 2x = 15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rugiego np. 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ciego np.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2640" y="731520"/>
            <a:ext cx="6669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m pierwszego stopnia </a:t>
            </a:r>
            <a:br>
              <a:rPr sz="3200"/>
            </a:b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z jedną niewiadomą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azywamy równość dwóch wyrażeń, w których występuje jedna zmienna (niewiadoma) w pierwszej potędze, np. 3a – 2 = 1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3000" y="731520"/>
            <a:ext cx="6524640" cy="50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 służą do zapisywania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rozwiązywania wielu zagadnień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problemów z matematyki, fizyki oraz innych dziedzin wiedzy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87280" y="764640"/>
            <a:ext cx="640080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1.Napisz odpowiednie równ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a o 5 mniejsza od a jest równa 14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aś ma x piątek, dwa razy więcej czwórek i jedną trójkę, razem 19 ocen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klasie liczącej 22 uczniów jest x dziewcząt, a chłopców jest o 4 więcej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2. Podaj cztery inne zdania i poproś kolegę z ławki, aby zapisał je w postaci równ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Vademecum Egzamin gimnazjalny Matematyka; wyd. Operon; Gdynia 2008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Klucz gimnazjalisty; wyd. Croma; Wrocław 2002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5:13Z</dcterms:modified>
  <cp:revision>99</cp:revision>
  <dc:subject/>
  <dc:title>RÓWNANIA</dc:title>
</cp:coreProperties>
</file>