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AFA-B1D6-4247-AF36-638B701DB8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07FE-4CF5-42E4-9078-1CF5D21732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3FBB-5391-44F0-9B00-228FA1C5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EB1-BCC5-4ECB-BA24-49524FE6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25A-5795-4487-91BF-9D9B81DD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CBDF-CCBC-4192-9BE4-05E7E858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192-D3A8-49FE-B323-3282F689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C2C-7446-4967-8574-3EFF4CEF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1910-4A7A-4657-B64C-F60490E3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C6C3-08B2-4801-A2FE-DD4F8119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AE48-B963-4BC4-A903-8FEB2C52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91ED-CCE7-4EAC-8B81-5CFB6529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75E-DB81-4CF7-ABAB-6E4D2F7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A89-C1E7-4EF6-AF65-9D18D8D3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5FE7-D16A-474F-B146-5F4858F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4C8D-7450-42BE-A26C-D29CE94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B118-D5C8-4A33-AA04-745474D5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1093-DABB-4C64-84D8-185AAD30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5DE5-70AD-4F51-801C-F08AB969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8F2D-CBCB-4173-997F-30F2656F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668C-93E1-4256-9AAE-EEDDCC1B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1E585-0AA9-4D77-8B23-82B7A95C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2358-27CC-4556-B9DF-054ACAA9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B031-A438-42C1-B9F3-74E9B77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472-CA72-4F39-975F-231DB172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17B49-04D8-4FFA-A799-1767BDD5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C26A-ED3B-4CCF-A5FD-F09A541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2B15-8DD1-4C6B-BDD4-0674DB0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4009-33E3-431A-B549-6DA6DE23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3711-3732-4C6C-9E32-A0E01B52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B8D90-F6F9-4FBE-9D78-96675B88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C5CE-10D3-40F4-B71E-FC04BE4B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4B229-2105-4DB5-9825-96C90230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C252-35D5-4005-8B14-967BB423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74EA3-993F-4918-B790-BEFC887D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146-A6F0-471A-933C-8DD7BE8F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C2E30-F43B-40DE-9CA1-C8288291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7C6D-1F79-45A1-A2F4-AE34F7B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31FE-8520-40EA-8882-EC31B75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2587-406B-415E-9C63-B81977D6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C4D3B-0E5D-4087-98CA-6DAA4E9B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AF4E7-A17C-4BC2-BEF6-1161E11D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A83A3-A9FA-4BF0-8F63-A4044E6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030A-E766-429C-AC88-C450ED04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F6AB-F0F6-49E6-8D16-35CB13D1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78A-408C-4BE2-990F-324856A9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F7E1-F1EC-420F-A43E-300D4B72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7527-08CB-4EF4-BF97-DA116B0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432-07A4-40F5-AC04-DCA53B66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519-51B0-4EBB-81DF-26079082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7767-BCC2-43D4-AF52-83A0164359C9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2C56-A7F7-4FA6-B553-5602273BAF74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9F76-ECAE-46E2-8AC7-3E98228CC4C3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EE75-3E19-42D7-9F78-B1E2BFBF7704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2962440"/>
            <a:ext cx="7321680" cy="1963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731880"/>
            <a:ext cx="717408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to dwa wyrażenia algebraiczne połączone znakiem równości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 równań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3x + y = 9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y = 3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a – 3 = 15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b = 3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tera w równaniu oznacza liczbę, której nie znamy – </a:t>
            </a:r>
            <a:r>
              <a:rPr b="1" lang="pl-PL" sz="3200" spc="-1" strike="noStrike">
                <a:solidFill>
                  <a:srgbClr val="404040"/>
                </a:solidFill>
                <a:latin typeface="Trebuchet MS"/>
              </a:rPr>
              <a:t>niewiadom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liczby niewiadomych jakie występują w równaniu, mówimy o równaniach z jedną niewiadomą np. 2x = 15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wiema niewiadomymi np.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+ y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ma niewiadomymi              np. a + b - c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60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143000" y="731520"/>
            <a:ext cx="6400800" cy="500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zależności od największego wykładnika potęgi, w jakiej występuje niewiadoma, mówimy o równaniach stopnia pierwszego np. 2x = 15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drugiego np. x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,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rzeciego np.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3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8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2640" y="731520"/>
            <a:ext cx="6669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Równaniem pierwszego stopnia </a:t>
            </a:r>
            <a:br>
              <a:rPr sz="3200"/>
            </a:br>
            <a:r>
              <a:rPr b="0" i="1" lang="pl-PL" sz="3200" spc="-1" strike="noStrike">
                <a:solidFill>
                  <a:srgbClr val="404040"/>
                </a:solidFill>
                <a:latin typeface="Trebuchet MS"/>
              </a:rPr>
              <a:t>z jedną niewiadomą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azywamy równość dwóch wyrażeń, w których występuje jedna zmienna (niewiadoma) w pierwszej potędze, np. 3a – 2 = 11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524640" cy="50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 służą do zapisywania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rozwiązywania wielu zagadnień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problemów z matematyki, fizyki oraz innych dziedzin wiedzy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87280" y="764640"/>
            <a:ext cx="6400800" cy="521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1.Napisz odpowiednie równ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a o 5 mniejsza od a jest równa 14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aś ma x piątek, dwa razy więcej czwórek i jedną trójkę, razem 19 ocen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 klasie liczącej 22 uczniów jest x dziewcząt, a chłopców jest o 4 więcej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143000" y="731880"/>
            <a:ext cx="6400800" cy="514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 2. Podaj cztery inne zdania i poproś kolegę z ławki, aby zapisał je w postaci równ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Vademecum Egzamin gimnazjalny Matematyka; wyd. Operon; Gdynia 2008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Klucz gimnazjalisty; wyd. Croma; Wrocław 2002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284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5:13Z</dcterms:modified>
  <cp:revision>99</cp:revision>
  <dc:subject/>
  <dc:title>RÓWNANIA</dc:title>
</cp:coreProperties>
</file>