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53B-E7F9-4776-96BD-C0809BD5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19B-C5EB-4735-B30D-828D8E16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AF3-4BD8-4F52-AF1F-013CD3FD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E87-E6F4-4FA5-938C-AC14127E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F4E2-F9A5-42EB-8D0D-31ECBFC2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2484-2F59-4982-942B-74C24B36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EE89-247E-430B-8074-2E506070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3508-AE88-4A3B-9384-A9A44FA6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0F59-8CE2-430F-A1D2-021566E6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B159-17E9-41ED-9073-088B0AFE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FF45-3D17-413F-92C9-0723BD83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401-61B5-4530-9567-8AF67DB3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C819-9332-46C8-80C6-E5B48D4F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172A-BC80-4504-93AA-908E7101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4F38-92D4-4AB0-94C2-55464992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BDE6-FF11-44F9-B7F0-D7320FB8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46E7-056D-41B4-ACA9-1DE32299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935E-F819-4F4E-BBDA-0C939A57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323-007D-4CBD-B3B7-E73756D9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87C-BF48-4523-BE8D-9E843D37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DA1-ED05-4AED-BD9D-AF66E2B0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16F-25AF-473B-964A-AC9BE2C6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AF6-2FC3-4FD8-8E54-0208D566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408-D22C-415C-909A-51069CE7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C806-5F05-4F7A-9A47-C25D63FC7EC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3CFC-D645-4D25-B29C-5520E1FDE3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2000" y="834120"/>
            <a:ext cx="7475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 zasada dynamiki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 zasada dynamiki Newtona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na ciało działa niezrównoważona siła, to porusza się ono ruchem zmiennym           z przyspieszeniem wprost proporcjonalnym do działającej siły. Przyspieszenie ciała,     na które działa stała niezrównoważona siła, jest tym mniejsze, im większa jest jego m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 = m ∙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 jest podstawowa jednostka sił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nostką siły jest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 niuton (1 N)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finiuje się ja na podstawie II zasady dynamiki Newt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[F] = 1kg∙1m/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= 1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N to siła, która ciału o masie 1 kg nadaje przyspieszenie 1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obodne spadanie cia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7400" y="2514240"/>
            <a:ext cx="755028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iała spadające swobodnie na Ziemię poruszają się ruchem jednostajnie przyspieszo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as swobodnego spadania ciała nie zależy od jego ma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spieszenie, z jakim porusza się ciało spadające swobodnie na Ziemię to przyspieszenie ziemskie (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. Wynosi ono około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1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II zasady dynamiki mamy: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F = m ∙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waga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zadaniach, w celu ułatwienia obliczeń, często przyjmuje się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10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spieszenie ziemskie nie jest takie samo             w każdym punkcie Ziemi – wynosi od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78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na równiku d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3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a biegunach.                     W Polsce ma wartość okoł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1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Księżycu przyspieszenie, z jakim spadają swobodnie ciała jest około sześć razy mniejsze     niż na Zie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55:4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