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D3F-027A-4B5F-9347-83BB1215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9BC2-4302-40DB-A292-B77939B7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2C3E-2F5C-4773-A7B8-B9F6228E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81CA-F2BB-4D71-AEA8-3AC48A31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D976-FCD6-48BF-A627-4C43852F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E4AD-4208-4336-B712-9FA5781F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B9AF-4097-4053-B403-3E29056E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75BB-CF77-4642-9B77-B31D3A3C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DC4C-04D9-40B5-825A-1C97A6C5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D82D-454B-4307-8490-FAD4F42A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D680-BFE1-4C17-A98A-FBCCDC65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AA93-57BD-4F69-8DA5-9371B045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1144-BD1A-481B-BBB4-5EE52664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A41D-310A-4DE2-A38D-E5F9FB28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FFC5-C3F6-4684-AA27-D665B060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089D-AE7A-4C34-B23D-92FE3A37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C8B3-3FFA-4B02-AA81-77BF0387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324-339D-4CB2-93D0-EB66514A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590-E3EE-4F35-AA6C-465A6155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964-C70E-41B2-BA3B-143F8880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CFD-3C9F-41E9-A4A8-2C24C643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E342-BDE2-4756-A438-5E7E40E1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748-98F4-49C0-B5C1-568B62D8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309-0AFC-47FE-B8A7-DE72E87C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2610-3BA3-4714-A759-B350EE7628E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CC34-832E-4BC6-89E7-CA25E73312E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SADY DYNAMIKI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5334120"/>
            <a:ext cx="401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r Dorota Szczerbe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2000" y="834120"/>
            <a:ext cx="7475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 zasada dynamiki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 zasada dynamiki Newtona</a:t>
            </a:r>
            <a:br>
              <a:rPr sz="32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żeli na ciało działa niezrównoważona siła, to porusza się ono ruchem zmiennym           z przyspieszeniem wprost proporcjonalnym do działającej siły. Przyspieszenie ciała,     na które działa stała niezrównoważona siła, jest tym mniejsze, im większa jest jego m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 = m ∙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 jest podstawowa jednostka sił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6932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nostką siły jest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1 niuton (1 N)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finiuje się ja na podstawie II zasady dynamiki Newt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[F] = 1kg∙1m/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= 1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N to siła, która ciału o masie 1 kg nadaje przyspieszenie 1m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obodne spadanie cia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7400" y="2514240"/>
            <a:ext cx="755028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iała spadające swobodnie na Ziemię poruszają się ruchem jednostajnie przyspieszon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as swobodnego spadania ciała nie zależy od jego ma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spieszenie, z jakim porusza się ciało spadające swobodnie na Ziemię to przyspieszenie ziemskie (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. Wynosi ono około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81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 II zasady dynamiki mamy: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F = m ∙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waga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6932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zadaniach, w celu ułatwienia obliczeń, często przyjmuje się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10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spieszenie ziemskie nie jest takie samo             w każdym punkcie Ziemi – wynosi od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78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na równiku do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83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a biegunach.                     W Polsce ma wartość około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81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Księżycu przyspieszenie, z jakim spadają swobodnie ciała jest około sześć razy mniejsze     niż na Zie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29440" y="12103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.Francuz – Ornat, T.Kulawik, M.Nowotny – Różańska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potkania z fizyką, podręcznik dla gimnazjum, część 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Nowa Era, Warszaw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ttps://www.googl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21:46:26Z</dcterms:created>
  <dc:creator>admin</dc:creator>
  <dc:description/>
  <dc:language>en-US</dc:language>
  <cp:lastModifiedBy>Badyl</cp:lastModifiedBy>
  <dcterms:modified xsi:type="dcterms:W3CDTF">2014-04-28T12:55:4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