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C28-1AF8-4E79-AA83-C2691D8A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0B84-5FAC-45EF-A51F-F538CF12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757-01B4-47A2-B2BE-0215933F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93D-BCE9-4050-84F4-ED6EE28F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BD15-964D-4D57-9FF0-F2C474D2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0EAF-1B15-4944-9D18-EFEDBD3C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1214-6358-4A53-86DC-D6103966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2AAB-DBE4-45FB-A599-A57587D3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5D3D-E806-448C-A148-B8D1F7D4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D79A-9612-4DC7-B1E7-82D9B716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5165-EFF8-4ACC-8710-73967BBF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E99C-4E05-4293-AA1E-838B0BDF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7F8D-F1F1-472E-A94F-662DAF88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1E86-A5BA-4552-A924-27BC5BC6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F888-CC85-4B49-85DB-5335334E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E760-D8F5-4764-8CBF-B20A40A0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3B97-B843-41A8-AB1D-09690813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6684-4A0F-438B-AC99-91109592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667-0ADD-4D36-A259-5D10D792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01DB-8490-49F7-8A76-D36FFC15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040-2DA5-4084-9DF3-D1909F45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ADF-8F42-490A-A72E-296FD77D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0BE-36B6-440D-86F0-CAFE4F78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B46-D360-4A98-B544-CF0D0789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739D-2C49-4B19-AADE-772EED6698E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2ACC-4211-4B00-B0A4-C3998C70B72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odzaje ruchó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685800"/>
            <a:ext cx="4038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</a:rPr>
              <a:t>jednostajny prostoliniow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tor ruchu jest linią prostą, prędkość ma stałą wartość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droga jest wprost proporcjonalna do czasu trwania ruc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6858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jednostajnie przyspieszony prostoliniow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tor ruchu jest linią prostą, przyspieszenie ma stałą wartość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wartość prędkości jest wprost proporcjonalna do czasu trwania ruc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droga jest wprost proporcjonalna do kwadratu czasu trwania ruc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3047760" cy="1225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086600" y="4495680"/>
            <a:ext cx="685800" cy="546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638680" y="4495680"/>
            <a:ext cx="600120" cy="561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467480" y="5334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irc_mi" descr=""/>
          <p:cNvPicPr/>
          <p:nvPr/>
        </p:nvPicPr>
        <p:blipFill>
          <a:blip r:embed="rId5"/>
          <a:stretch/>
        </p:blipFill>
        <p:spPr>
          <a:xfrm>
            <a:off x="6172200" y="5105520"/>
            <a:ext cx="1160640" cy="990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648320" y="541008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1600200" y="3352680"/>
            <a:ext cx="68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956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odstawowe jednostki wielkości fizycznyc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Droga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1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za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Prędkość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1m/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000" spc="-1" strike="noStrike">
                <a:solidFill>
                  <a:srgbClr val="703dff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Przyspieszenie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1 m/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7:55:17Z</dcterms:created>
  <dc:creator>admin</dc:creator>
  <dc:description/>
  <dc:language>en-US</dc:language>
  <cp:lastModifiedBy>Badyl</cp:lastModifiedBy>
  <dcterms:modified xsi:type="dcterms:W3CDTF">2013-03-28T15:29:5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