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65E-45C9-4270-B42C-8E0B07A3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23E-F368-429E-8052-13955D7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39D-D226-4630-8666-2B195242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A37-728A-4E5F-8C21-AA83F983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3E2-0B97-472E-A8B9-850D73F1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3D04-6A01-40C9-B3D0-C2EBA4C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0FEA-C288-41FA-A3F3-2AB2B4E6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68B5-1842-4F8D-9376-4FC3AD6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C477-B586-4731-BBC3-4B7F2836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3C63-B813-4253-8769-61B06A6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A1D-3BEE-4B87-8FBE-3558E11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48B-4472-472C-A550-D681F4B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7378-67F4-4521-B950-65597BD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BDE9-426B-4E2E-B938-B3536F3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69E-60AF-4C2B-8E50-31007EA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575D-7796-4C44-82EF-5C7A4AAB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0CC-CAE3-4D92-9F80-A128DF5D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4CD-A449-4D52-882F-EEC40F91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7AA-D447-4FE8-9C24-7092462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BF3-5EC2-4BDC-89B6-124466D9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095-3055-47E6-BDD2-6226B51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B2E-6555-4045-925F-0E41B07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FAD-C97B-44F4-95F7-D1EE744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B54-5C18-43A8-90ED-3288FA1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E70-EAF3-4391-BC66-7BA36205E2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63CC-B4EC-4AF6-B3DE-CE5348B7BB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SADY DYNAMIKI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01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r Dorota Szczerbe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000" y="834120"/>
            <a:ext cx="7475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 zasada dynamiki Newtona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żeli na ciało działa niezrównoważona siła, to porusza się ono ruchem zmiennym           z przyspieszeniem wprost proporcjonalnym do działającej siły. Przyspieszenie ciała,     na które działa stała niezrównoważona siła, jest tym mniejsze, im większa jest jego m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 = m ∙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 jest podstawowa jednostka sił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ą siły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niuton (1 N)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finiuje się ja na podstawie II zasady dynamiki Newt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[F] = 1kg∙1m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= 1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N to siła, która ciału o masie 1 kg nadaje przyspieszenie 1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bodne spadanie cia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400" y="2514240"/>
            <a:ext cx="755028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ała spadające swobodnie na Ziemię poruszają się ruchem jednostajnie przyspieszo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swobodnego spadania ciała nie zależy od jego m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, z jakim porusza się ciało spadające swobodnie na Ziemię to przyspieszenie ziemskie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 Wynosi ono około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II zasady dynamiki mamy: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F = m ∙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waga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693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daniach, w celu ułatwienia obliczeń, często przyjmuje się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10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spieszenie ziemskie nie jest takie samo             w każdym punkcie Ziemi – wynosi od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78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na równiku 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3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biegunach.                     W Polsce ma wartość okoł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9,81 m/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Księżycu przyspieszenie, z jakim spadają swobodnie ciała jest około sześć razy mniejsze     niż na Zie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12103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.Francuz – Ornat, T.Kulawik, M.Nowotny – Różańska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potkania z fizyką, podręcznik dla gimnazjum, część 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Nowa Era, Warszaw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ttps://www.googl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21:46:26Z</dcterms:created>
  <dc:creator>admin</dc:creator>
  <dc:description/>
  <dc:language>en-US</dc:language>
  <cp:lastModifiedBy>Badyl</cp:lastModifiedBy>
  <dcterms:modified xsi:type="dcterms:W3CDTF">2014-04-28T12:55:4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