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882-3A14-4C79-842C-10327260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8EB-1505-4668-8199-C79881A7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522-06DC-4C85-AA28-F04ABAC5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DAC-8F8B-49F5-A4AE-30EAA354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45A5-80D7-4116-A91A-AB98E2B9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53EE-7C97-4D9B-B589-7C0D8C21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8E3D-B403-45DC-8E8B-22D2C653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FA28-FC3F-4A49-9F12-1470AF5F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A99A-E3CD-4A68-BF5F-FD77272A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9D0A-A39B-49C5-A359-8FF3D380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DBC2-937F-4BED-9310-F1B1AE23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2B9-D2CB-44FB-82FD-C65511EA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18D0-B7E3-48C0-B645-54917E8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C329-2E94-4EC3-B8B2-C983306D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F506-31BD-42C1-BFBF-6456362E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5B6D-637C-421B-8915-5273003E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80A1-BE9A-484C-9579-C3D7CBAD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D52A-B3AC-48A9-8262-E784B46C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682-F5EF-4261-9015-A4FF4557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51C-4A3A-4181-8B42-B6420223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1BB-E91C-4D89-A6DB-4325938A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F76-DD2E-4205-B627-91ECC09A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50A-8FDC-46EE-9E7C-3640C0BF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FD4-1489-4980-8BF4-E14D90FD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B105-F994-4E70-B991-E45D66005D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C5F1-8E33-41A9-AFCC-29481FECC2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4680" y="414720"/>
            <a:ext cx="763884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71629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świadczeni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stole połóż kartkę (np. A4), a na niej książkę z fizyki (lub piórnik). Następnie wyciągnij (poziomo) kartkę. Najpierw powoli, a potem dość energicz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48816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924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kartkę wyciągasz powoli, to przesuwa się ona wraz z książką (lub piórniki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kartkę wyciągniesz dość energicznie, to książka (lub piórnik) pozostanie na swoim miejsc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ieważ książka (lub piórnik) „nie chce” zmieniać swojego dotychczasowego stanu – była w spoczynku      i chce w nim pozosta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33552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304920"/>
            <a:ext cx="7924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świadczeni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waga! Do tego doświadczenia potrzebna jest wpraw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stole połóż obrus, a na nim talerze i/lub kubki. Następnie dość energicznie pociągnij za obru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erze i/lub kubki zostają na miejsc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k to wyjaśnisz?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że potrafisz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 ten mężczyz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522600" y="4648320"/>
            <a:ext cx="1459080" cy="19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3552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456840"/>
            <a:ext cx="7772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świadczeni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szklance połóż kartę, a na niej monetę. Następnie szybko wyciągnij kart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 obserwuje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ta wpada do szklan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k to wyjaśnis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151308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(zasada bezwładności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3177720"/>
            <a:ext cx="76932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na ciało nie działają żadne siły lub działające siły równoważą się, to ciało pozostaje w spoczynku lub porusza się ruchem jednostajnym prostoliniow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3505320"/>
            <a:ext cx="2077920" cy="2438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kładem sytuacji, w której siły działające na ciało równoważą się, a ciało porusza się ruchem jednostajnym, jest opadanie skoczka z otwartym spadochronem.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opadającego w powietrz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oczka ze spadochron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ziała skierowana w dół sił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ciężaru oraz skierowana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górę siła oporu powietrz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ły te równoważą się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padochroniarz opad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chem jednostajny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zasada dynamiki Newton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t nazywana zasadą bezwładnoś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3652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zwładnoś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echa ciała polegająca na tym, że ciało dąży do zachowania stanu (ruchu lub spoczynku),         w którym się znajd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3280" y="2361960"/>
            <a:ext cx="3348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a jest miarą bezwładności ciał (łatwiej jest zatrzymać czy wprawić w ruch piłkę niż samochó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906200" y="2863440"/>
            <a:ext cx="569772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zwładność obserwuj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emal codzien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4200"/>
            <a:ext cx="8839440" cy="4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0920" y="1066680"/>
            <a:ext cx="5410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mowanie podczas jazdy samochodem lub autobu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śli poruszamy się przodem do kierunku jazdy i kierowca zacznie hamować, to nasze ciało przesunie się do przo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ieważ poruszało się do przodu  i nadal chce zachować swój stan – ruch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4680" y="305280"/>
            <a:ext cx="76388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33920" y="837720"/>
            <a:ext cx="4952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zas ruszania auta               z miejs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y samochód rusza, to nasze ciało zostaje „wciśnięte” w fot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ze ciało było                   w spoczynku i nadal chce pozostać w tym stani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2819160" cy="18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2743200"/>
            <a:ext cx="793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zwładność możemy zaobserwowa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 wielu doświadczeni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41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