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88CB-8F27-4329-95E0-2628234B1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3E15-A1C7-48E7-9187-4FD85C9B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32CB-7C05-431B-824F-93B9E3F9E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9391-F0F8-44A4-A56C-84D018491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5E9A-43D1-4856-9EF6-F05982D39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391F9-527D-469D-8992-C8DFABAA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1F72-3439-4926-979D-4B8DFAB1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451C-457E-4833-A8A6-3B2B2EF1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BABD-13C4-451E-96A5-04DFDF47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BF9E-0883-4EC1-BC4B-8703E7E8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1A75-EBAF-4B5A-ADBF-380A437C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DCB0-252D-455C-9F42-44979FE6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9B29-F9DC-44C8-9721-31A68A00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405C-B2BA-4A85-9D0D-0CFEB2C7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4F8C-8B26-4DB9-89CB-21CC0915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4E3B4-FAC9-4575-8A51-12891FE83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E70C-C4E2-4E15-8C18-011A5BC1E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121F-17E8-48D3-A788-C85E2FF3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EE98-F86A-477E-B976-607D38E2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9433-2983-416A-916A-42F776CF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FE18-AA1E-4A04-B1B0-2BAA487E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3453-D732-4686-8C94-5D6B4BAC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B5F7-0F87-4DD6-97E2-D3B39E8D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3DBF-AB67-4165-A9D3-25EEE9F8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C6E2-0243-47B5-87A4-FA23A3DEED7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2926-E335-4B68-9998-A2389397316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ASADY DYNAMIKI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NEWTON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7960" y="5334120"/>
            <a:ext cx="4012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r Dorota Szczerbet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04680" y="414720"/>
            <a:ext cx="7638840" cy="4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914040"/>
            <a:ext cx="716292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świadczeni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 stole połóż kartkę (np. A4), a na niej książkę z fizyki (lub piórnik). Następnie wyciągnij (poziomo) kartkę. Najpierw powoli, a potem dość energiczn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Co obserwujesz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488160"/>
            <a:ext cx="79246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1760" y="762120"/>
            <a:ext cx="792468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śli kartkę wyciągasz powoli, to przesuwa się ona wraz z książką (lub piórnikie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śli kartkę wyciągniesz dość energicznie, to książka (lub piórnik) pozostanie na swoim miejsc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laczeg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nieważ książka (lub piórnik) „nie chce” zmieniać swojego dotychczasowego stanu – była w spoczynku      i chce w nim pozosta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335520"/>
            <a:ext cx="79246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1760" y="304920"/>
            <a:ext cx="79246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świadczeni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waga! Do tego doświadczenia potrzebna jest wpraw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stole połóż obrus, a na nim talerze i/lub kubki. Następnie dość energicznie pociągnij za obrus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 obserwujesz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erze i/lub kubki zostają na miejsc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ak to wyjaśnisz?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że potrafisz ta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k ten mężczyz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522600" y="4648320"/>
            <a:ext cx="1459080" cy="195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335520"/>
            <a:ext cx="79246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456840"/>
            <a:ext cx="77724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świadczeni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szklance połóż kartę, a na niej monetę. Następnie szybko wyciągnij kart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 obserwujesz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ta wpada do szklank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ak to wyjaśnisz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038480" y="2438280"/>
            <a:ext cx="1513080" cy="1676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29440" y="121032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bliografia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62120" y="251460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.Francuz – Ornat, T.Kulawik, M.Nowotny – Różańska,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Spotkania z fizyką, podręcznik dla gimnazjum, część 3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Nowa Era, Warszawa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ttps://www.googl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 zasada dynamiki Newton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(zasada bezwładności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 zasada dynamiki Newtona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3177720"/>
            <a:ext cx="76932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żeli na ciało nie działają żadne siły lub działające siły równoważą się, to ciało pozostaje w spoczynku lub porusza się ruchem jednostajnym prostoliniowy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47920" y="3505320"/>
            <a:ext cx="2077920" cy="24382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8390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zykładem sytuacji, w której siły działające na ciało równoważą się, a ciało porusza się ruchem jednostajnym, jest opadanie skoczka z otwartym spadochronem.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opadającego w powietrz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oczka ze spadochrone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ziała skierowana w dół sił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h ciężaru oraz skierowana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górę siła oporu powietrza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ły te równoważą się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spadochroniarz opad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chem jednostajny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zasada dynamiki Newton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est nazywana zasadą bezwładnoś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2361960"/>
            <a:ext cx="36525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zwładnoś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cecha ciała polegająca na tym, że ciało dąży do zachowania stanu (ruchu lub spoczynku),         w którym się znajdu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83280" y="2361960"/>
            <a:ext cx="3348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a jest miarą bezwładności ciał (łatwiej jest zatrzymać czy wprawić w ruch piłkę niż samochó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906200" y="2863440"/>
            <a:ext cx="5697720" cy="16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zwładność obserwuje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iemal codzienn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4200"/>
            <a:ext cx="8839440" cy="4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80920" y="1066680"/>
            <a:ext cx="5410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mowanie podczas jazdy samochodem lub autobus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śli poruszamy się przodem do kierunku jazdy i kierowca zacznie hamować, to nasze ciało przesunie się do przod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laczego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nieważ poruszało się do przodu  i nadal chce zachować swój stan – ruch do przo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90720" y="2514600"/>
            <a:ext cx="2743200" cy="183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4680" y="305280"/>
            <a:ext cx="76388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733920" y="837720"/>
            <a:ext cx="49528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zas ruszania auta               z miejs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dy samochód rusza, to nasze ciało zostaje „wciśnięte” w fot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laczeg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sze ciało było                   w spoczynku i nadal chce pozostać w tym stani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2819160" cy="188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2743200"/>
            <a:ext cx="793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zwładność możemy zaobserwowa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 wielu doświadczeni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31T21:46:26Z</dcterms:created>
  <dc:creator>admin</dc:creator>
  <dc:description/>
  <dc:language>en-US</dc:language>
  <cp:lastModifiedBy>Badyl</cp:lastModifiedBy>
  <dcterms:modified xsi:type="dcterms:W3CDTF">2014-04-28T12:41:46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