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C990-F2F3-4196-88ED-226EA0190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1B3E-CC20-4C8A-9098-3F13004DE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7EF9-347D-4E19-A45F-35614B8C6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3BE4-99DE-4601-B7B1-7C4B565A1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5B0F2-51AF-495D-A687-E537EC4CD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69A56-A29E-483E-9D75-8460D36D4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5C50B-372E-40F9-94E4-8825F97A6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063A8-4688-4F29-9911-EA31CCCB4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9C028-5D09-4208-B806-63D0C071E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1266A-51A9-43F4-B24B-FB94D32DA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A535E-A318-44A4-9A6E-2F19A5ACB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0F3A-40D6-4D7F-945B-29FD8CCA3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AE0F7-89FC-47E8-8BF0-7DE37EE0E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AABFE-0C13-4CDE-B936-60C92C607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E179D-ED34-4248-8CF3-91263CA22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0A491-619B-491A-8E1A-B7E45C41C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45BA3-F107-47D3-B0EC-8C19FFB75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605F-BD50-41DF-B202-CF869AFC1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0E7C-718B-4530-8B23-38EFFEA9E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A834-E3E5-4FA4-80BE-2D7BEF994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43E9-4D6D-4F84-8785-C2E317C66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E7CD-BA43-4723-95BB-704AFB68F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4031-6862-4A9B-8D17-94B09060A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6757-556E-4DE0-908E-18CDB0CF6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75D7E-74DD-4616-A3DD-E7F2F927B5F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E5CE1-0AA2-4706-A57D-0C58F9B123B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ZASADY DYNAMIKI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NEWTON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47960" y="5334120"/>
            <a:ext cx="40129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gr Dorota Szczerbet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04680" y="414720"/>
            <a:ext cx="7638840" cy="4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914040"/>
            <a:ext cx="716292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oświadczeni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a stole połóż kartkę (np. A4), a na niej książkę z fizyki (lub piórnik). Następnie wyciągnij (poziomo) kartkę. Najpierw powoli, a potem dość energiczn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Co obserwujesz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488160"/>
            <a:ext cx="79246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1760" y="762120"/>
            <a:ext cx="792468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śli kartkę wyciągasz powoli, to przesuwa się ona wraz z książką (lub piórnikie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śli kartkę wyciągniesz dość energicznie, to książka (lub piórnik) pozostanie na swoim miejsc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laczeg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nieważ książka (lub piórnik) „nie chce” zmieniać swojego dotychczasowego stanu – była w spoczynku      i chce w nim pozosta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1760" y="335520"/>
            <a:ext cx="79246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1760" y="304920"/>
            <a:ext cx="792468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świadczeni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waga! Do tego doświadczenia potrzebna jest wpraw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 stole połóż obrus, a na nim talerze i/lub kubki. Następnie dość energicznie pociągnij za obrus.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 obserwujesz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lerze i/lub kubki zostają na miejsc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ak to wyjaśnisz?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oże potrafisz tak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k ten mężczyzn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522600" y="4648320"/>
            <a:ext cx="1459080" cy="1952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1760" y="335520"/>
            <a:ext cx="79246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456840"/>
            <a:ext cx="77724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świadczeni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 szklance połóż kartę, a na niej monetę. Następnie szybko wyciągnij kart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 obserwujesz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eta wpada do szklank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ak to wyjaśnisz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038480" y="2438280"/>
            <a:ext cx="1513080" cy="1676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29440" y="121032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bliografia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762120" y="2514600"/>
            <a:ext cx="822960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G.Francuz – Ornat, T.Kulawik, M.Nowotny – Różańska,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Spotkania z fizyką, podręcznik dla gimnazjum, część 3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, Nowa Era, Warszawa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https://www.googl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 zasada dynamiki Newton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(zasada bezwładności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 zasada dynamiki Newtona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3177720"/>
            <a:ext cx="769320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żeli na ciało nie działają żadne siły lub działające siły równoważą się, to ciało pozostaje w spoczynku lub porusza się ruchem jednostajnym prostoliniowy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447920" y="3505320"/>
            <a:ext cx="2077920" cy="24382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8390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zykładem sytuacji, w której siły działające na ciało równoważą się, a ciało porusza się ruchem jednostajnym, jest opadanie skoczka z otwartym spadochronem.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 opadającego w powietrz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oczka ze spadochrone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ziała skierowana w dół sił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h ciężaru oraz skierowana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 górę siła oporu powietrza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ły te równoważą się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spadochroniarz opad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chem jednostajny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zasada dynamiki Newtona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est nazywana zasadą bezwładnoś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2361960"/>
            <a:ext cx="36525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ezwładnoś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cecha ciała polegająca na tym, że ciało dąży do zachowania stanu (ruchu lub spoczynku),         w którym się znajdu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83280" y="2361960"/>
            <a:ext cx="33480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a jest miarą bezwładności ciał (łatwiej jest zatrzymać czy wprawić w ruch piłkę niż samochó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906200" y="2863440"/>
            <a:ext cx="5697720" cy="16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zwładność obserwuje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iemal codzienn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4200"/>
            <a:ext cx="8839440" cy="4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580920" y="1066680"/>
            <a:ext cx="54104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mowanie podczas jazdy samochodem lub autobus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śli poruszamy się przodem do kierunku jazdy i kierowca zacznie hamować, to nasze ciało przesunie się do przod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laczego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nieważ poruszało się do przodu  i nadal chce zachować swój stan – ruch do przod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990720" y="2514600"/>
            <a:ext cx="2743200" cy="1830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04680" y="305280"/>
            <a:ext cx="76388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733920" y="837720"/>
            <a:ext cx="495288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czas ruszania auta               z miejs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dy samochód rusza, to nasze ciało zostaje „wciśnięte” w fot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laczeg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sze ciało było                   w spoczynku i nadal chce pozostać w tym stanie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990720" y="2438280"/>
            <a:ext cx="2819160" cy="1884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5800" y="2743200"/>
            <a:ext cx="7934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zwładność możemy zaobserwowa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 wielu doświadczenia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31T21:46:26Z</dcterms:created>
  <dc:creator>admin</dc:creator>
  <dc:description/>
  <dc:language>en-US</dc:language>
  <cp:lastModifiedBy>Badyl</cp:lastModifiedBy>
  <dcterms:modified xsi:type="dcterms:W3CDTF">2014-04-28T12:41:46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