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8101-81A0-448D-8B89-58F9F43C6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4179-C7AC-4D7F-89AD-F73C7D5A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0233-ED1C-4AD5-8A52-E8856EA15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8406-C09A-4653-9DEF-B01D72ECD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12CE-62D0-4417-93BC-06D1AC3F9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5F18A-D93A-4DC1-A056-CED98558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38455-C3BB-47EF-90D1-8624815A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BDF1-CC28-446A-9A99-6D2687A5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DEF2-902F-44D5-988C-C31262E5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6E506-D78E-4650-894F-E1F8F249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8774-2C5E-4872-B844-91E7AA9E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5FA3-9E42-4383-A233-AD382225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725B-CD91-4A79-92F1-2099E5F5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E65D-6D60-411D-AE8A-020FFE1C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9399-2562-4E35-A103-0177EA6E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9AFB-2549-4AB1-BCC2-BAE3B8B9E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B6D4-8A87-4791-944F-F921343AB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4E4C-35D1-458D-B334-3EAB519F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BF81-4A29-4EC7-9112-4A287743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FD1F-E485-4065-825E-7B091AFE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2FA3-9A5E-4901-AE06-DA1A9547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5EE1-E2E8-4065-9E6F-EC6FD874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6889-E38B-41D9-941D-FA10F1CF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89D1-5B98-4202-91F9-5A2C19F3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12D8-5A8F-491C-949C-D72FAF0B692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4CD6-E0AA-4AF0-BB53-55F22F2D3AB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ASADY DYNAMIKI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NEWTON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7960" y="5334120"/>
            <a:ext cx="4012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r Dorota Szczerbet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04680" y="414720"/>
            <a:ext cx="7638840" cy="4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914040"/>
            <a:ext cx="716292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świadczeni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 stole połóż kartkę (np. A4), a na niej książkę z fizyki (lub piórnik). Następnie wyciągnij (poziomo) kartkę. Najpierw powoli, a potem dość energiczn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Co obserwujesz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488160"/>
            <a:ext cx="79246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1760" y="762120"/>
            <a:ext cx="792468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śli kartkę wyciągasz powoli, to przesuwa się ona wraz z książką (lub piórnikie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śli kartkę wyciągniesz dość energicznie, to książka (lub piórnik) pozostanie na swoim miejsc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laczeg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nieważ książka (lub piórnik) „nie chce” zmieniać swojego dotychczasowego stanu – była w spoczynku      i chce w nim pozosta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335520"/>
            <a:ext cx="79246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1760" y="304920"/>
            <a:ext cx="79246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świadczeni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waga! Do tego doświadczenia potrzebna jest wpraw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stole połóż obrus, a na nim talerze i/lub kubki. Następnie dość energicznie pociągnij za obrus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 obserwujesz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erze i/lub kubki zostają na miejsc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ak to wyjaśnisz?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że potrafisz ta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k ten mężczyz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522600" y="4648320"/>
            <a:ext cx="1459080" cy="195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335520"/>
            <a:ext cx="79246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456840"/>
            <a:ext cx="77724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świadczeni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szklance połóż kartę, a na niej monetę. Następnie szybko wyciągnij kart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 obserwujesz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ta wpada do szklank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ak to wyjaśnisz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038480" y="2438280"/>
            <a:ext cx="1513080" cy="1676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29440" y="121032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bliografia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62120" y="251460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.Francuz – Ornat, T.Kulawik, M.Nowotny – Różańska,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Spotkania z fizyką, podręcznik dla gimnazjum, część 3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Nowa Era, Warszawa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ttps://www.googl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 zasada dynamiki Newton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(zasada bezwładności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 zasada dynamiki Newtona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3177720"/>
            <a:ext cx="76932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żeli na ciało nie działają żadne siły lub działające siły równoważą się, to ciało pozostaje w spoczynku lub porusza się ruchem jednostajnym prostoliniowy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47920" y="3505320"/>
            <a:ext cx="2077920" cy="24382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8390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zykładem sytuacji, w której siły działające na ciało równoważą się, a ciało porusza się ruchem jednostajnym, jest opadanie skoczka z otwartym spadochronem.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opadającego w powietrz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oczka ze spadochrone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ziała skierowana w dół sił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h ciężaru oraz skierowana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górę siła oporu powietrza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ły te równoważą się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spadochroniarz opad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chem jednostajny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zasada dynamiki Newton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est nazywana zasadą bezwładnoś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2361960"/>
            <a:ext cx="36525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zwładnoś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cecha ciała polegająca na tym, że ciało dąży do zachowania stanu (ruchu lub spoczynku),         w którym się znajdu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83280" y="2361960"/>
            <a:ext cx="3348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a jest miarą bezwładności ciał (łatwiej jest zatrzymać czy wprawić w ruch piłkę niż samochó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906200" y="2863440"/>
            <a:ext cx="5697720" cy="16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zwładność obserwuje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iemal codzienn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4200"/>
            <a:ext cx="8839440" cy="4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80920" y="1066680"/>
            <a:ext cx="5410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mowanie podczas jazdy samochodem lub autobus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śli poruszamy się przodem do kierunku jazdy i kierowca zacznie hamować, to nasze ciało przesunie się do przod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laczego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nieważ poruszało się do przodu  i nadal chce zachować swój stan – ruch do przo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90720" y="2514600"/>
            <a:ext cx="2743200" cy="183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4680" y="305280"/>
            <a:ext cx="76388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733920" y="837720"/>
            <a:ext cx="49528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zas ruszania auta               z miejs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dy samochód rusza, to nasze ciało zostaje „wciśnięte” w fot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laczeg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sze ciało było                   w spoczynku i nadal chce pozostać w tym stani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2819160" cy="188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2743200"/>
            <a:ext cx="793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zwładność możemy zaobserwowa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 wielu doświadczeni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31T21:46:26Z</dcterms:created>
  <dc:creator>admin</dc:creator>
  <dc:description/>
  <dc:language>en-US</dc:language>
  <cp:lastModifiedBy>Badyl</cp:lastModifiedBy>
  <dcterms:modified xsi:type="dcterms:W3CDTF">2014-04-28T12:41:46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