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93DD-604C-4F0A-835D-3D63684E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CB7-190C-40C3-B5BE-5ED87170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C3B-A459-46AB-BF83-E5FEC54F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874-FB7B-446F-ACF5-194F4DE5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26A9-F068-44E5-B95F-0B6012CC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123C-6776-4F71-8552-9900125F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2269-A178-4D81-8B65-E942F335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0126-029B-44EA-864C-E46BA670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E2E5-1E33-4DF4-9915-DA8A5980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BEF2-EF52-44BA-96FC-3225808C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B368-8921-4099-9C7A-D72F9314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D1BA-91CF-47E4-AABF-8AA0CC10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F950-AC30-471C-A723-5407B0E6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0A98-5D62-45CC-AEFD-F6766778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D167-7969-4415-96A7-C7886696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F8AF-FBDD-4202-9848-AA691908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4725-B5FC-4BF6-AC29-65002514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6A58-3EED-4083-A5C3-464C40E2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C6BD-DBA5-45C8-9B72-C23F2A37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8E15-BDB0-4267-93DA-138D5F9A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9544-1AA2-4EFA-BADA-3B913547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7F71-9EC1-49AB-849B-72BE9D3C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5A70-3554-4D25-9679-353DA9B9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1F25-7D41-4588-B87B-5E6609B9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AB1B-2B7F-4703-87E3-A498BAC7FF5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6233-E3BD-4734-808C-1805FE3648A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SADY DYNAMIKI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5334120"/>
            <a:ext cx="401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r Dorota Szczerbe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2000" y="834120"/>
            <a:ext cx="7475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 zasada dynamiki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 zasada dynamiki Newtona</a:t>
            </a:r>
            <a:br>
              <a:rPr sz="32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żeli na ciało działa niezrównoważona siła, to porusza się ono ruchem zmiennym           z przyspieszeniem wprost proporcjonalnym do działającej siły. Przyspieszenie ciała,     na które działa stała niezrównoważona siła, jest tym mniejsze, im większa jest jego m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 = m ∙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 jest podstawowa jednostka sił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6932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nostką siły jest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1 niuton (1 N)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finiuje się ja na podstawie II zasady dynamiki Newt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[F] = 1kg∙1m/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= 1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N to siła, która ciału o masie 1 kg nadaje przyspieszenie 1m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obodne spadanie cia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7400" y="2514240"/>
            <a:ext cx="755028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iała spadające swobodnie na Ziemię poruszają się ruchem jednostajnie przyspieszon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as swobodnego spadania ciała nie zależy od jego ma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spieszenie, z jakim porusza się ciało spadające swobodnie na Ziemię to przyspieszenie ziemskie (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. Wynosi ono około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81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 II zasady dynamiki mamy: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F = m ∙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waga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6932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zadaniach, w celu ułatwienia obliczeń, często przyjmuje się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10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spieszenie ziemskie nie jest takie samo             w każdym punkcie Ziemi – wynosi od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78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na równiku do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83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a biegunach.                     W Polsce ma wartość około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81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Księżycu przyspieszenie, z jakim spadają swobodnie ciała jest około sześć razy mniejsze     niż na Zie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29440" y="12103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.Francuz – Ornat, T.Kulawik, M.Nowotny – Różańska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potkania z fizyką, podręcznik dla gimnazjum, część 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Nowa Era, Warszaw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ttps://www.googl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21:46:26Z</dcterms:created>
  <dc:creator>admin</dc:creator>
  <dc:description/>
  <dc:language>en-US</dc:language>
  <cp:lastModifiedBy>Badyl</cp:lastModifiedBy>
  <dcterms:modified xsi:type="dcterms:W3CDTF">2014-04-28T12:55:4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