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698-8351-459D-9231-77D7D065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7D5-C60A-4D21-8FAA-14862F3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E66-1984-46DC-A4BE-67CD794B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9D7-DF07-4676-BF80-EBD83DC6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53A7-9477-4DE6-BBE8-428884B6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551C-A9B0-4BC1-A1C7-ACD38713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1586-C035-4EC3-8325-FB3C1486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5C24-A806-4A41-951C-24BA7A85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C757-4451-4687-8653-3ABBCA6F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15C1-6588-4467-A0B3-BE734DFB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23AC-C547-4C0A-A65C-B9A02C4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23B-EA3A-4F9E-ADAF-809B3863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8E4A-DFDC-4522-A5E3-0EB5140D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B8F9-AD86-4E77-8BF8-AA23A11D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6458-976E-4C72-94EF-6EFD0A4F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0D65-40F2-4491-97C0-FA5E9E5C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66A4-7A7F-46C4-847B-E1B9E215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185-27F6-4E0E-8573-10439C36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864-6C63-4219-A227-5A269B0D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4FB-CEE4-4DA7-B7D7-ED7153FE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2B3-4A89-4EB3-9F5D-80C30EF5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0BE-4C43-4894-96AF-478CF97C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ECE-98F5-4726-8487-BA9F372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746-F2C1-460D-B0E9-0F2D869F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03CA-4DF1-442D-A173-D77C48057B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B81A-4D05-4F3B-9423-21473A2B8F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odzaje ruchó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jednostaj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tor ruchu jest linią prostą, prędkość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droga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jednostajnie przyspieszony prostoliniow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tor ruchu jest linią prostą, przyspieszenie ma stałą wartość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wartość prędkości jest wprost proporcjonalna do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roga jest wprost proporcjonalna do kwadratu czasu trwania ruc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047760" cy="122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6858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600120" cy="561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46748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irc_mi" descr=""/>
          <p:cNvPicPr/>
          <p:nvPr/>
        </p:nvPicPr>
        <p:blipFill>
          <a:blip r:embed="rId5"/>
          <a:stretch/>
        </p:blipFill>
        <p:spPr>
          <a:xfrm>
            <a:off x="6172200" y="5105520"/>
            <a:ext cx="1160640" cy="99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648320" y="54100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600200" y="335268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956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odstawowe jednostki wielkości fizycznyc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Droga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1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za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Prędkość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1m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000" spc="-1" strike="noStrike">
                <a:solidFill>
                  <a:srgbClr val="703dff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rzyspieszenie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1 m/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7:55:17Z</dcterms:created>
  <dc:creator>admin</dc:creator>
  <dc:description/>
  <dc:language>en-US</dc:language>
  <cp:lastModifiedBy>Badyl</cp:lastModifiedBy>
  <dcterms:modified xsi:type="dcterms:W3CDTF">2013-03-28T15:29:5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