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7D8-3834-4CDB-AC94-9E3A15BC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C65-9B37-48E5-A5C5-50DC2FFB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981-F0EA-4DA9-B91E-5C97B076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EC0-2815-4410-A58F-0703D6DC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257-D70B-4127-A7D9-28318392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4003-CFB2-4BC3-80F4-9E582B04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025-019C-4751-BEB5-9A0C672C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179A-52B0-4326-9F16-ABE66F5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FA14-5DE9-4712-A2B8-A5F6A0B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AF9-F922-4ED3-B601-01C8342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1E4-D93D-4375-9056-E1D4902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8F3-A0C3-43FC-9D97-8828962C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4E39-81E9-4170-B5B6-54AA94B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CE7-0052-4869-81D9-01D0082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1220-DA9B-456F-AD48-91578A1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69CD-19E3-404E-9D59-BAE1EBB0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0CD4-DC52-471C-8F36-D12F1C7D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3CE-0AE5-4CD0-B844-941DC5C7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131-38D6-460F-AC4F-3678AF85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C7E-ED5C-4523-B837-E6FFD710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42E-CB6B-4E9E-8BF8-5659BF9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BDB-E027-4352-A44B-044F161F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EAF-C800-4FA7-B9EE-2B9C31D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17D-FF5E-494D-8DEC-9671F278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B38-007F-45DA-A460-3A29412E64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C9F4-8D97-4C25-B3FB-E8DFDC2ED9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asada akcji i reakcj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863800"/>
            <a:ext cx="723924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ciało A dział pewną siłą na ciało B,     to ciało B działa na ciało A siłą równą           co do wartości, o tym samym kierunku,       ale przeciwnym zwro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est nazywana zasadą akcji i reakcj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żdej akcji towarzyszy reakcja o tej samej wartości, ale przeciwnie skierow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większą siłą działamy na stół, tym większą siłą stół działa na nas – im mocniej uderzamy, tym większy czujemy bó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24080" cy="15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siły akcji i reakcji równoważą się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5400" y="2514600"/>
            <a:ext cx="6765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, bo każda z sił działa na inne ciał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rzykład: młotek uderza o ścianę - ściana oddziałuje na młot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ły te mają ten s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runek i wartość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wroty przeciwne.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mają tego sam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u przyłożenia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em nie równoważą si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59092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31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utki działania sił akcji i reak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wujemy w zjawisku odrzu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71440" y="259056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niki odrzutowe z dużą siłą wyrzucają gazy powstałe w wyniku spalania paliwa, a gazy te siłą o tej samej wartości, ale przeciwnym zwrocie pchają pojazdy do przo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isk wylatujący do przodu               z armaty, powoduje jej „odrzut”         do tył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3720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zasada dynamiki Newton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 też zastosowani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zas pływania kajakiem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y lotów na motolot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5920"/>
            <a:ext cx="7924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25146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jakarz wiosłem odpycha wodę do tyłu,  a ona pcha wiosło (z kajakiem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Śmigło motolotni odpycha powietrze do tyłu, a odrzucone powietrze pcha śmigło (z lotnią) do przo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19520" cy="157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28195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0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