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6B0-D729-44BC-8625-09C36B9C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8AA-7813-4D4B-AE19-B77CFA58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485-84CD-43BC-AFF4-BD80D617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F70-28F0-4270-894C-22013A7F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0EC-F8BC-48DB-9501-D7D8365C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B17-0381-425A-8E85-D31F7D2F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31E-8AAE-43BB-9316-00B1497B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E7E-743A-4634-A2D3-BB682156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14F-1F07-4744-9250-814D3126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CC3-558A-46B2-A75A-FC15569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F5C-9A68-4F13-BB31-D5512330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CBE-C13A-4E70-A207-62540CD5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999F-263D-46F6-BAC2-AD679405E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825800" cy="4105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111640" y="2852640"/>
            <a:ext cx="403236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50920" y="333360"/>
            <a:ext cx="8713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ntynenty i Oceany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70580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Atlantyc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Atlantycki (Atlantyk) – drugi pod względem wielkości ocean na Ziemi pokrywający około jednej piątej jej powierzchni. Nazwa wywodzi się z mitologii greckiej i oznacza "Morze Atlasa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1749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Indyj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Indyjski (Indyk ) – trzeci pod względem wielkości zbiornik wodny na świecie, zajmujący około 20% powierzchni Wszechoceanu. Oficjalna polska nazwa tego oceanu, zatwierdzona przez Komisję Standaryzacji Nazw Geograficznych brzmi Ocean Indyjs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95640" y="141300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Arktycz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Arktyczny (także: Morze Arktyczne, Morze Lodowate, Ocean Lodowaty Północny) – najmniejszy i najpłytszy, a być może również najmłodszy ocean na Ziemi, uznawany dawniej za część Oceanu Atlantycki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594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Południ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Południowy (także: Południowy Ocean Lodowaty, Ocean Antarktyczny) – ocean rozciągający się od wybrzeża Antarktydy do równoleżnika 60°S, wzdłuż którego łączy się z oceanami: Spokojnym, Indyjskim i Atlantyck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95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Spokoj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41860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cean Spokojny, Pacyfik, Ocean Wielki – największy, najgłębszy i najstarszy, obok Atlantyku, na świecie zbiornik wodny. Z powierzchnią równą 178,7 mln km² zajmuje jedną trzecią całej Ziemi. Oficjalna polska nazwa tego oceanu, zatwierdzona przez Komisję Standaryzacji Nazw Geograficznych brzmi Ocean Spokoj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2494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szech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szechocean (Ocean światowy) – ogólne określenie całości wód morskich na powierzchni Ziemi, tj. oceanów i wchodzących w ich skład mórz; główna część hydrosf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10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Kontyne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fry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2530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fryka – drugi pod względem wielkości kontynent na Ziemi. Ma 30,37 mln km² powierzchni, czyli ponad 20,3% ogólnej powierzchni lądowej naszego globu. Przechodzi przez niego południk 0°, obydwa zwrotniki i równ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lik:Africa satellite plane.jpg"/>
          <p:cNvPicPr/>
          <p:nvPr/>
        </p:nvPicPr>
        <p:blipFill>
          <a:blip r:embed="rId2"/>
          <a:stretch/>
        </p:blipFill>
        <p:spPr>
          <a:xfrm>
            <a:off x="2916360" y="1989000"/>
            <a:ext cx="3787560" cy="446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Plik:Ébreszt&amp;odblac;.jpg"/>
          <p:cNvPicPr/>
          <p:nvPr/>
        </p:nvPicPr>
        <p:blipFill>
          <a:blip r:embed="rId3"/>
          <a:stretch/>
        </p:blipFill>
        <p:spPr>
          <a:xfrm>
            <a:off x="6877080" y="227664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Plik:SudanRegionGambia.jpg"/>
          <p:cNvPicPr/>
          <p:nvPr/>
        </p:nvPicPr>
        <p:blipFill>
          <a:blip r:embed="rId4"/>
          <a:stretch/>
        </p:blipFill>
        <p:spPr>
          <a:xfrm>
            <a:off x="6877080" y="4365720"/>
            <a:ext cx="2147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2819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uropa – część świata (określana zwykle tradycyjnym, acz nieścisłym mianem kontynentu), leżąca na półkuli północnej, na pograniczu półkuli wschodniej i zachodniej, stanowiąca wraz z Azją kontynent Eurazję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Plik:Europe satellite orthographic.jpg"/>
          <p:cNvPicPr/>
          <p:nvPr/>
        </p:nvPicPr>
        <p:blipFill>
          <a:blip r:embed="rId2"/>
          <a:stretch/>
        </p:blipFill>
        <p:spPr>
          <a:xfrm>
            <a:off x="2556000" y="2637000"/>
            <a:ext cx="4392360" cy="3562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lik:Mont Blanc.JPG"/>
          <p:cNvPicPr/>
          <p:nvPr/>
        </p:nvPicPr>
        <p:blipFill>
          <a:blip r:embed="rId3"/>
          <a:stretch/>
        </p:blipFill>
        <p:spPr>
          <a:xfrm>
            <a:off x="7093080" y="2637000"/>
            <a:ext cx="19303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Plik:Erinaceus europaeus (Marek Szczepanek).jpg"/>
          <p:cNvPicPr/>
          <p:nvPr/>
        </p:nvPicPr>
        <p:blipFill>
          <a:blip r:embed="rId4"/>
          <a:stretch/>
        </p:blipFill>
        <p:spPr>
          <a:xfrm>
            <a:off x="7093080" y="4508640"/>
            <a:ext cx="19429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260208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stralia (Związek Australijski, Commonwealth of Australia) – państwo położone na półkuli południowej, obejmujące najmniejszy kontynent świata, wyspę Tasmanię i inne znacznie mniejsze wyspy na Oceanie Indyjskim i Spokojny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lik:Australia satellite plane.jpg"/>
          <p:cNvPicPr/>
          <p:nvPr/>
        </p:nvPicPr>
        <p:blipFill>
          <a:blip r:embed="rId2"/>
          <a:stretch/>
        </p:blipFill>
        <p:spPr>
          <a:xfrm>
            <a:off x="2700360" y="2781360"/>
            <a:ext cx="4351320" cy="358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lik:Macropus rufus.jpg"/>
          <p:cNvPicPr/>
          <p:nvPr/>
        </p:nvPicPr>
        <p:blipFill>
          <a:blip r:embed="rId3"/>
          <a:stretch/>
        </p:blipFill>
        <p:spPr>
          <a:xfrm>
            <a:off x="7236000" y="278136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Plik:Sydney opera house and skyline.jpg"/>
          <p:cNvPicPr/>
          <p:nvPr/>
        </p:nvPicPr>
        <p:blipFill>
          <a:blip r:embed="rId4"/>
          <a:stretch/>
        </p:blipFill>
        <p:spPr>
          <a:xfrm>
            <a:off x="7236000" y="4724280"/>
            <a:ext cx="17874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z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4103640" cy="3889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2746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zja (gr. Ἀσία Asía, łac. Asia) – część świata, razem z Europą tworząca Eurazję, największy kontynent na Ziemi. Z powodów historycznych i kulturowych sama Azja bywa również nazywana kontynentem (zob. alternatywne listy kontynentów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Panda wielka (Ocean Park, Hongkong)"/>
          <p:cNvPicPr/>
          <p:nvPr/>
        </p:nvPicPr>
        <p:blipFill>
          <a:blip r:embed="rId3"/>
          <a:stretch/>
        </p:blipFill>
        <p:spPr>
          <a:xfrm>
            <a:off x="6948360" y="2637000"/>
            <a:ext cx="207036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948360" y="4581360"/>
            <a:ext cx="20797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eryka Południ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386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meryka Południowa – kontynent leżący na półkuli zachodniej oraz w większej części na półkuli południowej, a w mniejszej – na półkuli północnej. Niekiedy uważana jest również za subkontynent Amery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3313080" cy="468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948360" y="1773360"/>
            <a:ext cx="2095560" cy="216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48360" y="4221000"/>
            <a:ext cx="2116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eryka Północ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26017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meryka Północna – kontynent o powierzchni 24 242 000 km² (co stanowi 16,3% całkowitej powierzchni lądów na kuli ziemskiej), położony na półkulach: północnej i zachodniej. Do Ameryki Północnej należy Ameryka Środkow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4145040" cy="4464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020000" y="2205000"/>
            <a:ext cx="200664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2004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ntarkty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2448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tarktyda – kontynent o powierzchni około 14,0 mln km², znajdujący się na półkuli południowej Ziemi, prawie w całości w strefie podbiegunowej. Większa część kontynentu pokryta jest polarną czapą lodową, jest on praktycznie niezamieszkany przez ludzi, nie licząc personelu 37 stacji badawczy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4248000" cy="4036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02000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201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6:04:46Z</dcterms:created>
  <dc:creator>MICRON</dc:creator>
  <dc:description/>
  <dc:language>en-US</dc:language>
  <cp:lastModifiedBy>MICRON</cp:lastModifiedBy>
  <dcterms:modified xsi:type="dcterms:W3CDTF">2013-02-14T16:33:16Z</dcterms:modified>
  <cp:revision>2</cp:revision>
  <dc:subject/>
  <dc:title>Kontynenty i Oceany</dc:title>
</cp:coreProperties>
</file>