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902-20F8-42C2-BD4A-DD22B5A5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D5F-C1FE-411F-9ABA-49B4F48D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016-DC19-4A3C-93D3-D33B97C3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453-CC87-4B9C-A6EE-E211001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E7F-FAE4-4DE5-850B-EDD5CC33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6290-B2A2-4A9B-AD83-25BEC07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543C-3BBC-4CE6-8430-106F27E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069-8FA1-42FE-AE7D-02EF9714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531-D42B-42DA-8825-FA78D7CD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3AD9-3B01-47EA-A174-C59C2D45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BD43-CB72-48DE-8D37-E9758DE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AB3-C80A-4426-92D7-9202AC4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002-1B80-4667-9060-277FDAC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1740-AC0F-43CD-8E25-67C232B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DC14-283A-4FBB-94DE-8402CD9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9396-6DB8-4B3E-83C0-E8554B62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2712-5C34-413E-BEFC-688B987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341-F497-425F-BB1E-607A309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A67-DAA2-49C0-B4A0-ECA8C98A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0C5-F450-4B2C-8EA8-7192812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D65-E903-4A9D-A2AE-5AA4034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D40-B22B-4D2E-A474-0C3476F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4A6-3146-4F33-A964-A90D6A5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D74-9450-4E75-8C47-440E3E8E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44D-981A-4E45-A7FF-5F43055B2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396F-4BD0-41F1-80E1-30F23E342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8240" y="1981080"/>
            <a:ext cx="9420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33240" y="623880"/>
            <a:ext cx="78775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3240" y="614520"/>
            <a:ext cx="78775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1322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Plik:Cylinder geometry.svg"/>
          <p:cNvPicPr/>
          <p:nvPr/>
        </p:nvPicPr>
        <p:blipFill>
          <a:blip r:embed="rId2"/>
          <a:stretch/>
        </p:blipFill>
        <p:spPr>
          <a:xfrm>
            <a:off x="7010280" y="457200"/>
            <a:ext cx="158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Ż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http://www.megamatma.pl/res/upload/RYSUNKI_DOBRE/gimnazjum/plik_12_6/1.gif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http://www.matematykam.pl/images/133a.jpg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7520"/>
            <a:ext cx="46864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8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republika.pl"/>
          <p:cNvPicPr/>
          <p:nvPr/>
        </p:nvPicPr>
        <p:blipFill>
          <a:blip r:embed="rId1"/>
          <a:stretch/>
        </p:blipFill>
        <p:spPr>
          <a:xfrm>
            <a:off x="1663560" y="228600"/>
            <a:ext cx="530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24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http://www.pomocedlaszkol.pl/_var/gfx/32d3bd476831fcdac249bf2533af96e7.jpg"/>
          <p:cNvPicPr/>
          <p:nvPr/>
        </p:nvPicPr>
        <p:blipFill>
          <a:blip r:embed="rId1"/>
          <a:stretch/>
        </p:blipFill>
        <p:spPr>
          <a:xfrm>
            <a:off x="152280" y="4572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60400"/>
            <a:ext cx="6248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http://www.matmana6.pl/zdjecia/szkola_srednia/geometria_w_przestrzeni_stereometria/graniastoslup_12.png"/>
          <p:cNvPicPr/>
          <p:nvPr/>
        </p:nvPicPr>
        <p:blipFill>
          <a:blip r:embed="rId1"/>
          <a:stretch/>
        </p:blipFill>
        <p:spPr>
          <a:xfrm>
            <a:off x="228600" y="152280"/>
            <a:ext cx="647712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http://www.matmana6.pl/zdjecia/szkola_srednia/geometria_w_przestrzeni_stereometria/graniastoslup_14.png"/>
          <p:cNvPicPr/>
          <p:nvPr/>
        </p:nvPicPr>
        <p:blipFill>
          <a:blip r:embed="rId1"/>
          <a:stretch/>
        </p:blipFill>
        <p:spPr>
          <a:xfrm>
            <a:off x="304920" y="228600"/>
            <a:ext cx="5018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19480" y="804960"/>
            <a:ext cx="450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http://www.matmana6.pl/zdjecia/szkola_srednia/geometria_w_przestrzeni_stereometria/graniastoslup_17.png"/>
          <p:cNvPicPr/>
          <p:nvPr/>
        </p:nvPicPr>
        <p:blipFill>
          <a:blip r:embed="rId1"/>
          <a:stretch/>
        </p:blipFill>
        <p:spPr>
          <a:xfrm>
            <a:off x="304920" y="152280"/>
            <a:ext cx="597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61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http://static.scholaris.pl/main-file/108/figury-przystajace-i-podobne_64778.jpg"/>
          <p:cNvPicPr/>
          <p:nvPr/>
        </p:nvPicPr>
        <p:blipFill>
          <a:blip r:embed="rId1"/>
          <a:stretch/>
        </p:blipFill>
        <p:spPr>
          <a:xfrm>
            <a:off x="2057400" y="0"/>
            <a:ext cx="4951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27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43320" y="438120"/>
            <a:ext cx="42573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3152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68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719280"/>
            <a:ext cx="46958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14480" y="804960"/>
            <a:ext cx="711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956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67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8:58:56Z</dcterms:created>
  <dc:creator>Matematyka</dc:creator>
  <dc:description/>
  <dc:language>en-US</dc:language>
  <cp:lastModifiedBy>Matematyka</cp:lastModifiedBy>
  <dcterms:modified xsi:type="dcterms:W3CDTF">2014-03-02T20:4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