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6AD-B9F4-4A24-8A7B-5B1C739A41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5B3-873A-43CF-B9B8-2979540F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B1B-7F6E-4D20-983C-9E430B5A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666-4740-4A8C-B920-F786F90C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764-0BCD-495E-99B1-2C959995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0F9F-1885-48EA-A2F3-57217422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841D-9181-490F-A3A2-1EE37D31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4D29-BADF-4963-8DA6-89EAB9EB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E357-75BD-4F82-84BA-5F7B74AE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FC6-A91E-4609-AC9A-F049F19A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8B67-9C7B-4106-A8A7-511EBF63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6CCC-4016-4E3F-8B77-C573B8E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2BC-0634-4758-89EA-2F12AF44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3F31-FC62-4686-91A2-1AE65F38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753B-2BF1-4ACC-8F60-2FE2278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840F-2F50-4577-AF82-1F36EFB7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467F-B49A-4CF3-B74A-BF3D6336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A34A-5A87-4F38-B50A-75E06B95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5E1-F0BE-41A6-AA71-34C87BD2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6C4-C6FE-4000-8828-8202510E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C67-E05D-4B37-B175-AB67386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138-3F1A-4BB5-8EB4-95DF2DA1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B6C-FE5F-4DC1-8EF5-840CD658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97B-9BF3-4523-986B-D4C987D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EA0-2A0B-4BC5-9984-2DDB0297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97C2-F7A7-4A21-941C-27C875CA9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493C-FCC9-4C88-8C6B-8DF00E50E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15:25:09Z</dcterms:modified>
  <cp:revision>141</cp:revision>
  <dc:subject/>
  <dc:title>TWIERDZENIE PITAGORASA</dc:title>
</cp:coreProperties>
</file>