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48.jpeg" ContentType="image/jpeg"/>
  <Override PartName="/ppt/media/image35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5.png" ContentType="image/png"/>
  <Override PartName="/ppt/media/image54.wmf" ContentType="image/x-wmf"/>
  <Override PartName="/ppt/media/image14.png" ContentType="image/png"/>
  <Override PartName="/ppt/media/image10.jpeg" ContentType="image/jpeg"/>
  <Override PartName="/ppt/media/image17.wmf" ContentType="image/x-wmf"/>
  <Override PartName="/ppt/media/image56.png" ContentType="image/png"/>
  <Override PartName="/ppt/media/image47.jpeg" ContentType="image/jpeg"/>
  <Override PartName="/ppt/media/image18.wmf" ContentType="image/x-wmf"/>
  <Override PartName="/ppt/media/image6.wmf" ContentType="image/x-wmf"/>
  <Override PartName="/ppt/media/laser.wav" ContentType="audio/x-wav"/>
  <Override PartName="/ppt/media/image25.png" ContentType="image/png"/>
  <Override PartName="/ppt/media/image29.png" ContentType="image/png"/>
  <Override PartName="/ppt/media/image32.wmf" ContentType="image/x-wmf"/>
  <Override PartName="/ppt/media/image2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58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camera.wav" ContentType="audio/x-wav"/>
  <Override PartName="/ppt/media/image22.png" ContentType="image/png"/>
  <Override PartName="/ppt/media/image11.wmf" ContentType="image/x-wmf"/>
  <Override PartName="/ppt/media/image50.png" ContentType="image/png"/>
  <Override PartName="/ppt/media/image3.png" ContentType="image/png"/>
  <Override PartName="/ppt/media/image15.png" ContentType="image/png"/>
  <Override PartName="/ppt/media/image55.png" ContentType="image/png"/>
  <Override PartName="/ppt/media/image20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19.wmf" ContentType="image/x-wmf"/>
  <Override PartName="/ppt/media/image7.wmf" ContentType="image/x-wmf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carbrake.wav" ContentType="audio/x-wav"/>
  <Override PartName="/ppt/media/type.wav" ContentType="audio/x-wav"/>
  <Override PartName="/ppt/media/image9.wmf" ContentType="image/x-wmf"/>
  <Override PartName="/ppt/media/image39.wmf" ContentType="image/x-wmf"/>
  <Override PartName="/ppt/media/image26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36.png" ContentType="image/png"/>
  <Override PartName="/ppt/media/image23.wmf" ContentType="image/x-wmf"/>
  <Override PartName="/ppt/media/image41.jpeg" ContentType="image/jpeg"/>
  <Override PartName="/ppt/media/image13.png" ContentType="image/png"/>
  <Override PartName="/ppt/media/image1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A3BA-B4A9-496B-9E73-89C4E4496F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20C-06DF-4B93-BEFD-3278C16079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3E8-DA36-4D3F-BE11-690F11AC53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7EB-2413-45E8-A472-89A5EC7829E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01E-0921-44D1-9288-B5094E8606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0BA-B17E-4694-B1CF-FFE9F847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138-5D4C-46CF-AC79-A106706B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FC1-4C2B-4F45-A0FC-3FF6CC6F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780-FA09-45E0-B9E4-87AA57DE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9453-5C12-422B-8346-1D6338D2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A7F-26AE-432C-9DDB-A21C4B77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D065-0D57-47C5-8A64-D10EBE0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383D-E3B9-4AB2-B2C3-A6BC030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2B3-ECF0-4F7E-8C10-8A144BF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51C9-B134-482E-BE19-3AF08E5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E8EF-E37E-49BF-A16C-6699B469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C99-F277-4CAE-9F3E-A4FC3D6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2256-B83B-48A3-B247-B7C81A2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CDB-4765-49A1-BE9A-791BBA2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D6B-D78E-483D-9ECF-AEA1F05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4EC-47B6-4E42-999A-D0796597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67ED-A664-4AAA-A44A-93E72E24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FFC-DC55-42DB-85C4-7DEBED3F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9D9-E087-4A47-8B77-FB68EB55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FDD-23EA-4743-89A5-7B99BF40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265-53F5-4BBB-B620-70B9D0D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E74-9E06-4455-A0A0-318C1B8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829-A359-4832-926B-C49A81E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060-5E54-4582-9FA1-518CE43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4E9-FE81-4E40-A7E8-486B3EE110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2A06-9034-4CFE-9E24-7DE33652D9E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1341360"/>
            <a:ext cx="710748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...ach ten procent </a:t>
            </a:r>
            <a:endParaRPr b="0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99736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009999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l-PL" sz="3200" spc="-1" strike="noStrike">
                <a:solidFill>
                  <a:srgbClr val="221304"/>
                </a:solidFill>
                <a:latin typeface="Times New Roman"/>
              </a:rPr>
              <a:t>Opracowała: mgr Emilia Pawło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6862-43A9-4A42-A69A-B69227AB226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A20-5E1E-465C-94F7-331C2F8AC5A0}" type="slidenum">
              <a:t>10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566720" cy="153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155736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                   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Czy każdy ułamek w postaci zwykłej da się rozszerzyć do mianownika 1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2CE-2893-4437-B89B-788C7FDD4B55}" type="slidenum">
              <a:t>11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3A7-4C2D-4ED9-BF06-380ACFEFD8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40360" y="90792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Aby liczbę zamienić na procent, należ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tę liczbę pomnożyć przez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i dopisać symbol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42-3D92-497C-BD59-FA2D0884A8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0DB-5065-4AF6-B8F4-8C11D0DA41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CDC-F7E0-4D3F-8699-A63BFAFB17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F76-5E80-4D95-B591-9213E27130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E88-8481-42D6-8F5D-D08BF3C8A2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E2-33EA-4F8B-AA12-1EB920D947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76520"/>
            <a:ext cx="7772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Diagram to po grecku znaczy wykres. Na diagramie można pokazać nie tylko podział na części  i udział tych części w całości. Diagramem wygodnie jest, również zilustrować rozkład wyników przeprowadzonego doświadczenia, wyników ankiety, porównać częstość występowania pewnego zdarzenia w różnych środowisk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prostoką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4952880"/>
            <a:ext cx="10666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4952880"/>
            <a:ext cx="12952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29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4876920"/>
            <a:ext cx="45720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257800"/>
            <a:ext cx="45720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56272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486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4292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słup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FB0-2817-4B72-BD3C-B99908EC80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Pojęcie procentu. Zamiana procentu na ułam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     </a:t>
            </a: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i odwrot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dczytywanie diagramów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 procentu danej liczby i liczby, gdy dany jest jej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, jakim procentem jednej liczby jest druga licz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Wykorzystanie kalkulatora do obliczeń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DD1-1F3B-4AD7-989F-4F4BD1DF11F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08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33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57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63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299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11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11280" y="4005360"/>
          <a:ext cx="496908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05360"/>
                    <a:ext cx="49690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4C4-BD37-4F92-BC87-677D5BE52B71}" type="slidenum">
              <a:t>2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835280" y="2924280"/>
          <a:ext cx="601956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6019560" cy="314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13B-E4F0-4B26-A073-19A90D35357F}" type="slidenum">
              <a:t>21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5B4-F266-4CE2-95C0-FEF40AB3E7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331280" y="3357720"/>
            <a:ext cx="6525360" cy="2806560"/>
            <a:chOff x="1331280" y="3357720"/>
            <a:chExt cx="6525360" cy="2806560"/>
          </a:xfrm>
        </p:grpSpPr>
        <p:sp>
          <p:nvSpPr>
            <p:cNvPr id="353" name=""/>
            <p:cNvSpPr/>
            <p:nvPr/>
          </p:nvSpPr>
          <p:spPr>
            <a:xfrm>
              <a:off x="1331280" y="335772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2560" y="3757680"/>
              <a:ext cx="2224080" cy="397440"/>
              <a:chOff x="5632560" y="3757680"/>
              <a:chExt cx="2224080" cy="397440"/>
            </a:xfrm>
          </p:grpSpPr>
          <p:sp>
            <p:nvSpPr>
              <p:cNvPr id="355" name=""/>
              <p:cNvSpPr/>
              <p:nvPr/>
            </p:nvSpPr>
            <p:spPr>
              <a:xfrm>
                <a:off x="5995080" y="375768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2560" y="383400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03600" y="3827520"/>
              <a:ext cx="4743720" cy="2336760"/>
              <a:chOff x="2703600" y="3827520"/>
              <a:chExt cx="4743720" cy="23367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703600" y="3827520"/>
                <a:ext cx="2320920" cy="2336760"/>
                <a:chOff x="2703600" y="3827520"/>
                <a:chExt cx="2320920" cy="23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4038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68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1701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703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372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705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38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370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036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36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038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368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01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703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72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705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038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370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036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036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038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9368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701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03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372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05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038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370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036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1036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038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368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701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8703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372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705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370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036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036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4038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368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701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3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372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705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038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70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36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036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038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68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701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703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372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05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8038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6370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036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1036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38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68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701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72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705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038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370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036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036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038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68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701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372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05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038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370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7036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036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038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368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01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8703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372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705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038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0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7036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036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038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9368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1701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03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372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705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038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370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036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36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5632560" y="4305600"/>
                <a:ext cx="1814760" cy="397440"/>
                <a:chOff x="5632560" y="4305600"/>
                <a:chExt cx="1814760" cy="39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632560" y="438228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94360" y="430560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632560" y="4775760"/>
                <a:ext cx="1433880" cy="397440"/>
                <a:chOff x="5632560" y="4775760"/>
                <a:chExt cx="1433880" cy="397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632560" y="485244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18400" y="477576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B24-BD73-4DFA-81B6-B1D07F9FC40F}" type="slidenum">
              <a:t>2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86B-7B1F-4A8A-98B9-719FED075713}" type="slidenum">
              <a:t>2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042920" y="4869000"/>
            <a:ext cx="4627800" cy="164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E1A-5071-4D72-BCAF-AAC68C13959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89744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EB5-E0D9-41C6-91E5-06369E6702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252-BD6D-41EF-A117-35F8FC836013}" type="slidenum">
              <a:t>27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D2E-52A8-47A6-900B-935AFD1B455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A3D-FA29-499D-A331-3FD7882BD4F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w życiu codziennym, mają ułamki dziesiętne o mianowniku 100. Ułamki te nazywają się procent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2800"/>
            </a:b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1700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92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57336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724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683-C252-4826-9AA8-DF85C77BAFCC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96E-FBF5-4F3A-9336-D3743D2A4D9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2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BEA-BEB1-4F0D-9F81-88B61887D06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zamieniamy </a:t>
            </a:r>
            <a:r>
              <a:rPr b="1" i="1" lang="pl-PL" sz="3200" spc="-1" strike="noStrike">
                <a:solidFill>
                  <a:srgbClr val="ff0000"/>
                </a:solidFill>
                <a:latin typeface="Times New Roman"/>
              </a:rPr>
              <a:t>procent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 na uła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ułamek mnożymy przez liczb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7432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4D2-0C5E-4564-88D7-A072C801E8A6}" type="slidenum">
              <a:t>32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860640"/>
            <a:ext cx="4572000" cy="15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3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054-A3CA-4926-A853-7621DEA27D9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692280"/>
            <a:ext cx="457200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A26-C9D7-4BCF-BB32-2F057050AC88}" type="slidenum">
              <a:t>34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 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40%  </a:t>
            </a:r>
            <a:r>
              <a:rPr b="1" i="1" lang="pl-PL" sz="2400" spc="-1" strike="noStrike" baseline="30000">
                <a:solidFill>
                  <a:srgbClr val="000000"/>
                </a:solidFill>
                <a:latin typeface="Monotype Corsiva"/>
              </a:rPr>
              <a:t>.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 = 12   - ilość dziewczą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-12=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18 chłopc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6530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46E-22CF-470B-AA21-23E721613F05}" type="slidenum">
              <a:t>35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W chórze 8 osób śpiewało basem, a o 25% więcej osób śpiewało al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Ile osób śpiewało al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10040" cy="17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43000" y="4191120"/>
                <a:ext cx="1447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429000" y="4191120"/>
                <a:ext cx="2057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43000" y="5334120"/>
            <a:ext cx="38862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	</a:t>
            </a: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Altem śpiewało 1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2E0-0709-46A0-8B78-F805115F508D}" type="slidenum">
              <a:t>3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bliczanie liczby gdy dany jest jej proc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Łatwo jest obliczyć liczbę, gdy znamy jej 50%, 25% czy 10%. Cała liczba to przecież 100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50% procent liczby wynosi 6, to cała liczba jest dwa razy większa, czyli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25% liczby to 7, wówczas szukaną liczbę obliczamy wykonując mnożenie 7 · 4 = 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Liczba, której 10% wynosi 3, wówczas szukana liczba jest dziesięć razy większa, czyli 30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CCA-AEA1-4686-9F3D-34DA3115A8D0}" type="slidenum">
              <a:t>37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F3A-A3E9-4924-BA53-EE07DAED190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86240" y="3141720"/>
            <a:ext cx="609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AC9-3108-4EE8-B1F3-16EE2CA13DC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B1B-3200-4E80-9F82-32E9E82A0835}" type="slidenum">
              <a:t>4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8960" y="1628640"/>
            <a:ext cx="5391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7CB-02FC-4C92-9C38-A77055EB5F29}" type="slidenum">
              <a:t>40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sekcji sportowej 18 mężczyzn ćwiczyło  codziennie gimnastykę artystyczną. Stanowili oni 90% tej sekcji. Ile osób liczyła sekcja sportow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18 : 90%=18 : 0,9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31800" cy="2649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16000" y="4869000"/>
            <a:ext cx="525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Do sekcji sportowej należało 2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3F2-46BA-4ECF-91AE-6FB1A7504591}" type="slidenum">
              <a:t>41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ułamkiem I liczby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procentem liczby I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65760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26640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A49-FF0C-4465-8FFE-9285B9843627}" type="slidenum">
              <a:t>42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4728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5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FEA-685D-4227-87C7-3AB34DA4E46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B42-482B-4BEA-95B7-1E54056A436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742-B6B2-4234-9273-07AC56B072F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1F6-E97D-4988-B272-895637021803}" type="slidenum">
              <a:t>4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83D-0BCA-4E53-AA0B-8F9A7C929B4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06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7082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BDD-6E54-4F27-AF7D-806502A3A090}" type="slidenum">
              <a:t>4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C6D-9EBA-4449-8FF4-F58FE3ACB40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56000" y="119700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 flipV="1">
            <a:off x="1619280" y="105264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692360" y="270792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501300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00360" y="907560"/>
            <a:ext cx="4316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6500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4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492280"/>
            <a:ext cx="79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4724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5CE-7C97-4470-B3B9-5F2634E3870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D27-BB31-4EF9-A585-AEBBCCEAE7DE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397512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98A-B5F5-4EA0-A04D-BE50EBE3E82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E6B-22E9-4545-9940-B2C0076C312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8F0-0C6A-4E7F-BD06-C9B2E8FC783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24080" y="2997360"/>
            <a:ext cx="5726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.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8BB-8C15-46B1-A7D9-E579A10A622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979-0AA6-467A-94C4-962AE3FEA8D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łaszcz kosztował 280zł. Ile kosztuje ten płaszcz po 30% obniż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siążka, która kosztowała 36 zł, podrożała o 15%. Ile kosztuje tera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wer kosztował 540 zł. Po obniżce kosztuje 459zł. O ile procent obniżono cen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16360" y="69228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A18-60D8-475E-8005-372276ECC23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09640" cy="2578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076-D46A-455D-8B75-5C7E45F5FCC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unkt procentow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Pojęcia punkt procentowy używamy, gdy zmienia się jakaś wielkość określona w procentach. Na przykład, jeśli  oprocentowanie w banku wynosiło 18 % i zmniejszyło się do 16%, to mówimy, że zmalało o 2 punkty procent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27356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353-932A-40D4-B341-F451440390E3}" type="slidenum">
              <a:t>58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EC6-D3F9-4F76-9F94-5182F3F74C6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Procenty definicja.svg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5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EB1-C742-483F-9D1C-D2B57A58C7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00C-9013-415D-88D7-604012A715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1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5B6-DEF8-445E-9831-EA44F20687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595520" cy="249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2895480"/>
            <a:ext cx="3143160" cy="1973520"/>
          </a:xfrm>
          <a:prstGeom prst="wedgeRoundRectCallout">
            <a:avLst>
              <a:gd name="adj1" fmla="val 67777"/>
              <a:gd name="adj2" fmla="val -360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4800600"/>
          <a:ext cx="26668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4800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429000" y="5562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86400" y="4800600"/>
          <a:ext cx="228600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2860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199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25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FB9-103E-4B10-B487-281D56AEF3BF}" type="slidenum">
              <a:t>9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3-03-14T19:03:40Z</dcterms:modified>
  <cp:revision>122</cp:revision>
  <dc:subject/>
  <dc:title>Prezentacja programu PowerPoint</dc:title>
</cp:coreProperties>
</file>