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51.png" ContentType="image/png"/>
  <Override PartName="/ppt/media/image48.jpeg" ContentType="image/jpeg"/>
  <Override PartName="/ppt/media/image35.wmf" ContentType="image/x-wmf"/>
  <Override PartName="/ppt/media/image46.jpeg" ContentType="image/jpeg"/>
  <Override PartName="/ppt/media/image45.jpeg" ContentType="image/jpeg"/>
  <Override PartName="/ppt/media/image44.jpeg" ContentType="image/jpeg"/>
  <Override PartName="/ppt/media/image2.jpeg" ContentType="image/jpeg"/>
  <Override PartName="/ppt/media/image5.png" ContentType="image/png"/>
  <Override PartName="/ppt/media/image54.wmf" ContentType="image/x-wmf"/>
  <Override PartName="/ppt/media/image14.png" ContentType="image/png"/>
  <Override PartName="/ppt/media/image10.jpeg" ContentType="image/jpeg"/>
  <Override PartName="/ppt/media/image17.wmf" ContentType="image/x-wmf"/>
  <Override PartName="/ppt/media/image56.png" ContentType="image/png"/>
  <Override PartName="/ppt/media/image47.jpeg" ContentType="image/jpeg"/>
  <Override PartName="/ppt/media/image18.wmf" ContentType="image/x-wmf"/>
  <Override PartName="/ppt/media/image6.wmf" ContentType="image/x-wmf"/>
  <Override PartName="/ppt/media/laser.wav" ContentType="audio/x-wav"/>
  <Override PartName="/ppt/media/image25.png" ContentType="image/png"/>
  <Override PartName="/ppt/media/image29.png" ContentType="image/png"/>
  <Override PartName="/ppt/media/image32.wmf" ContentType="image/x-wmf"/>
  <Override PartName="/ppt/media/image21.jpeg" ContentType="image/jpeg"/>
  <Override PartName="/ppt/media/image4.png" ContentType="image/png"/>
  <Override PartName="/ppt/media/image16.png" ContentType="image/png"/>
  <Override PartName="/ppt/media/image49.jpeg" ContentType="image/jpeg"/>
  <Override PartName="/ppt/media/image60.jpeg" ContentType="image/jpeg"/>
  <Override PartName="/ppt/media/image30.png" ContentType="image/png"/>
  <Override PartName="/ppt/media/image37.jpeg" ContentType="image/jpeg"/>
  <Override PartName="/ppt/media/image58.jpeg" ContentType="image/jpeg"/>
  <Override PartName="/ppt/media/image57.jpeg" ContentType="image/jpeg"/>
  <Override PartName="/ppt/media/image42.jpeg" ContentType="image/jpeg"/>
  <Override PartName="/ppt/media/image59.jpeg" ContentType="image/jpeg"/>
  <Override PartName="/ppt/media/camera.wav" ContentType="audio/x-wav"/>
  <Override PartName="/ppt/media/image22.png" ContentType="image/png"/>
  <Override PartName="/ppt/media/image11.wmf" ContentType="image/x-wmf"/>
  <Override PartName="/ppt/media/image50.png" ContentType="image/png"/>
  <Override PartName="/ppt/media/image3.png" ContentType="image/png"/>
  <Override PartName="/ppt/media/image15.png" ContentType="image/png"/>
  <Override PartName="/ppt/media/image55.png" ContentType="image/png"/>
  <Override PartName="/ppt/media/image20.jpeg" ContentType="image/jpeg"/>
  <Override PartName="/ppt/media/image12.png" ContentType="image/png"/>
  <Override PartName="/ppt/media/image24.jpeg" ContentType="image/jpeg"/>
  <Override PartName="/ppt/media/image52.wmf" ContentType="image/x-wmf"/>
  <Override PartName="/ppt/media/image19.wmf" ContentType="image/x-wmf"/>
  <Override PartName="/ppt/media/image7.wmf" ContentType="image/x-wmf"/>
  <Override PartName="/ppt/media/image53.wmf" ContentType="image/x-wmf"/>
  <Override PartName="/ppt/media/image8.wmf" ContentType="image/x-wmf"/>
  <Override PartName="/ppt/media/image38.wmf" ContentType="image/x-wmf"/>
  <Override PartName="/ppt/media/image40.png" ContentType="image/png"/>
  <Override PartName="/ppt/media/carbrake.wav" ContentType="audio/x-wav"/>
  <Override PartName="/ppt/media/type.wav" ContentType="audio/x-wav"/>
  <Override PartName="/ppt/media/image9.wmf" ContentType="image/x-wmf"/>
  <Override PartName="/ppt/media/image39.wmf" ContentType="image/x-wmf"/>
  <Override PartName="/ppt/media/image26.png" ContentType="image/png"/>
  <Override PartName="/ppt/media/image27.png" ContentType="image/png"/>
  <Override PartName="/ppt/media/image33.jpeg" ContentType="image/jpeg"/>
  <Override PartName="/ppt/media/image43.jpeg" ContentType="image/jpeg"/>
  <Override PartName="/ppt/media/image28.png" ContentType="image/png"/>
  <Override PartName="/ppt/media/image31.wmf" ContentType="image/x-wmf"/>
  <Override PartName="/ppt/media/image34.wmf" ContentType="image/x-wmf"/>
  <Override PartName="/ppt/media/image36.png" ContentType="image/png"/>
  <Override PartName="/ppt/media/image23.wmf" ContentType="image/x-wmf"/>
  <Override PartName="/ppt/media/image41.jpeg" ContentType="image/jpeg"/>
  <Override PartName="/ppt/media/image13.png" ContentType="image/png"/>
  <Override PartName="/ppt/media/image1.png" ContentType="image/png"/>
  <Override PartName="/ppt/media/ricoche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942B-72E3-4FCD-BB8C-02F744B6953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A4C6-ED27-4566-BBA0-87147BA8D89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9EB1-B86B-48DE-9B02-178E001DC9E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AF5C-1364-4261-B012-F6140F8F0C8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2878-BCBB-41B1-986E-8378E3F1DB8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3DFF-E052-4591-B72B-01AA88EDD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06DF-7C1E-4749-AE04-82A7E3B0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AB5C-53B1-4D5E-B39B-BB99AE09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E278-3221-4949-AB3E-76CEB60B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B87E-1369-4CDE-827D-199A09E2A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C134-C2B6-4C92-993C-DDD48506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8F95-E4BE-4821-825F-36B3688B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1A8B-F31E-4742-8364-07197209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BEF4-C5FB-4035-A54E-18242551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AB3F-6919-4136-AFE4-0ED99D9B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5766-7F53-41CD-B9EB-4D09B239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FE1F-CB0D-443E-80B1-D845B4FE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267E-12B9-4C41-9DFC-5F32E12C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F720-33A3-4CC4-8971-1927609E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F4E5-F382-48DF-90F1-1AD34ED1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BAEE-0F77-489F-8858-AC0ADEEB2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05D9-0B0B-436C-859B-0AB11A0B8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B437-D007-408D-AF8F-6E5FF6DD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6027-C2BA-48CA-90AE-28204D67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B4B7-97EC-4F79-8601-CFE1AB40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090E-A2AD-4E49-B76C-90249328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F3CB-04CB-4926-B88E-822AF43E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A807-C236-4D9D-B849-45513C13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3B17-1902-43C1-88E3-8AE9F96A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E1A2-5DE0-4C5E-A57B-7479987850D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68D9-E5D6-4C35-A7AA-E091E21E6DAC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amera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audio" Target="../media/ricochet.wav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wmf"/><Relationship Id="rId4" Type="http://schemas.openxmlformats.org/officeDocument/2006/relationships/image" Target="../media/image53.wmf"/><Relationship Id="rId5" Type="http://schemas.openxmlformats.org/officeDocument/2006/relationships/image" Target="../media/image54.wmf"/><Relationship Id="rId6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audio" Target="../media/camera.wav"/><Relationship Id="rId7" Type="http://schemas.openxmlformats.org/officeDocument/2006/relationships/audio" Target="../media/type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981080" y="640080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42920" y="1341360"/>
            <a:ext cx="7107480" cy="180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cap="sq" w="936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Bookman Old Style"/>
              </a:rPr>
              <a:t>...ach ten procent </a:t>
            </a:r>
            <a:endParaRPr b="0" lang="en-US" sz="9600" spc="1" strike="noStrike">
              <a:ln cap="sq" w="936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99" name=""/>
          <p:cNvSpPr/>
          <p:nvPr/>
        </p:nvSpPr>
        <p:spPr>
          <a:xfrm>
            <a:off x="3708360" y="2997360"/>
            <a:ext cx="121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9600" spc="-1" strike="noStrike">
                <a:solidFill>
                  <a:srgbClr val="009999"/>
                </a:solidFill>
                <a:latin typeface="Times New Roman"/>
              </a:rPr>
              <a:t>%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87280" y="4580280"/>
            <a:ext cx="72010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i="1" lang="pl-PL" sz="3200" spc="-1" strike="noStrike">
                <a:solidFill>
                  <a:srgbClr val="221304"/>
                </a:solidFill>
                <a:latin typeface="Times New Roman"/>
              </a:rPr>
              <a:t>Opracowała: mgr Emilia Pawłows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766C-757C-4A54-AD87-348330185682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Zamiana ułamków na procenty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Times New Roman"/>
              </a:rPr>
              <a:t>Niektóre ułamki w postaci zwykłej można rozszerzyć do mianownika 100 i potem zamienić na procen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295280" y="2895480"/>
                <a:ext cx="2667240" cy="260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800600" y="2895480"/>
                <a:ext cx="2590920" cy="19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352F-80FB-459D-839C-44B26CA42576}" type="slidenum">
              <a:t>10</a:t>
            </a:fld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00720" y="3933720"/>
            <a:ext cx="1566720" cy="15350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187280" y="1557360"/>
            <a:ext cx="7162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                                  </a:t>
            </a: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Monotype Corsiva"/>
              </a:rPr>
              <a:t>Czy każdy ułamek w postaci zwykłej da się rozszerzyć do mianownika 100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397F-06A9-4C87-ABE6-47AA4E0BD022}" type="slidenum">
              <a:t>11</a:t>
            </a:fld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Oczywiście nie każdy ułamek zwykły da się rozszerzyć do mianownika 100. Wówczas należy zastosować sposób drugi.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59280" y="692280"/>
            <a:ext cx="24681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Sposób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64000" y="3357720"/>
            <a:ext cx="2664000" cy="264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8C55-B50C-497D-87D2-9A6FEB3BF9C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140360" y="4292640"/>
                <a:ext cx="4078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2670120" cy="3468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140360" y="907920"/>
            <a:ext cx="4343400" cy="2819520"/>
          </a:xfrm>
          <a:prstGeom prst="wedgeRoundRectCallout">
            <a:avLst>
              <a:gd name="adj1" fmla="val -79314"/>
              <a:gd name="adj2" fmla="val -709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Monotype Corsiva"/>
              </a:rPr>
              <a:t>Aby liczbę zamienić na procent, należ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Monotype Corsiva"/>
              </a:rPr>
              <a:t>tę liczbę pomnożyć przez 1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Monotype Corsiva"/>
              </a:rPr>
              <a:t>i dopisać symbol</a:t>
            </a:r>
            <a:r>
              <a:rPr b="1" lang="pl-PL" sz="2400" spc="-1" strike="noStrike">
                <a:solidFill>
                  <a:srgbClr val="ff0066"/>
                </a:solidFill>
                <a:latin typeface="Times New Roman"/>
              </a:rPr>
              <a:t>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03280" y="3860640"/>
            <a:ext cx="545940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Zadanie 1</a:t>
            </a:r>
            <a:br>
              <a:rPr sz="2800"/>
            </a:b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Zamień liczbę         na pro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116000" y="5373720"/>
                <a:ext cx="70563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0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5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FBC4-60C5-4E15-881E-1BF15C9E32B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Przykład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47640" y="1798560"/>
            <a:ext cx="691200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7ACE-F588-4BAC-AF41-855740EF319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Zamiana procentu na ułamek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rocenty zamieniamy na ułamki zwykłe pisząc w liczniku liczbę procentów, a w mianowniku 100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óźniej oczywiście można taki ułamek skrócić, lub zamienić na ułamek miesza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3889440" cy="291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1AD5-ADD6-4457-82EC-A960BDBF621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2670120" cy="34686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211640" y="836640"/>
            <a:ext cx="4343400" cy="2819520"/>
          </a:xfrm>
          <a:prstGeom prst="wedgeRoundRectCallout">
            <a:avLst>
              <a:gd name="adj1" fmla="val -79314"/>
              <a:gd name="adj2" fmla="val -709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Aby procent zamienić na liczbę, należy liczbę wyrażającą procent podzielić przez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49440" y="3716280"/>
            <a:ext cx="470844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Zadanie 2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pisz w postaci ułamka 150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619280" y="5084640"/>
                <a:ext cx="5184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0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AF5C-36EB-43DF-9FB1-8081C595AB9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Aby zamienić procenty na ułamek dziesiętny, wystarczy przesunąć przecinek o dwa miejsca w lewo.</a:t>
            </a: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473440" cy="366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534F-355C-4E39-8B32-068659B53CF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84" name="" descr="Procenty."/>
          <p:cNvPicPr/>
          <p:nvPr/>
        </p:nvPicPr>
        <p:blipFill>
          <a:blip r:embed="rId1"/>
          <a:stretch/>
        </p:blipFill>
        <p:spPr>
          <a:xfrm>
            <a:off x="1042920" y="2060640"/>
            <a:ext cx="7620120" cy="679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08120" y="2772720"/>
            <a:ext cx="5926320" cy="1312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  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Zadani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mień procenty na ułamki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Procenty."/>
          <p:cNvPicPr/>
          <p:nvPr/>
        </p:nvPicPr>
        <p:blipFill>
          <a:blip r:embed="rId2"/>
          <a:stretch/>
        </p:blipFill>
        <p:spPr>
          <a:xfrm>
            <a:off x="971640" y="4653000"/>
            <a:ext cx="7632720" cy="5763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187280" y="476280"/>
            <a:ext cx="7128000" cy="1312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Zadani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mień ułamki na procent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168E-7579-418A-A0F9-77DCE46CB8E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66ff"/>
                </a:solidFill>
                <a:latin typeface="Monotype Corsiva"/>
              </a:rPr>
              <a:t>Diagramy procentowe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1676520"/>
            <a:ext cx="777240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Diagram to po grecku znaczy wykres. Na diagramie można pokazać nie tylko podział na części  i udział tych części w całości. Diagramem wygodnie jest, również zilustrować rozkład wyników przeprowadzonego doświadczenia, wyników ankiety, porównać częstość występowania pewnego zdarzenia w różnych środowiska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Przykłady diagramó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Diagram prostokąt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47920" y="4952880"/>
            <a:ext cx="1066680" cy="12193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7400" y="4952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5410080"/>
            <a:ext cx="53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6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5410080"/>
            <a:ext cx="53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4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4952880"/>
            <a:ext cx="1295280" cy="1219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4952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5562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5486400"/>
            <a:ext cx="53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6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48320" y="53341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4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51280" y="429264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Diagram koł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10280" y="4876920"/>
            <a:ext cx="457200" cy="12189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5257800"/>
            <a:ext cx="457200" cy="8380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5562720"/>
            <a:ext cx="53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4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10280" y="548640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6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27640" y="429264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Diagram słupk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FE0F-065B-4D34-B3B7-5AF24721BF1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Spis treśc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8080"/>
                </a:solidFill>
                <a:latin typeface="Monotype Corsiva"/>
              </a:rPr>
              <a:t>Pojęcie procentu. Zamiana procentu na ułame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8080"/>
                </a:solidFill>
                <a:latin typeface="Monotype Corsiva"/>
              </a:rPr>
              <a:t>     </a:t>
            </a:r>
            <a:r>
              <a:rPr b="0" lang="pl-PL" sz="2800" spc="-1" strike="noStrike">
                <a:solidFill>
                  <a:srgbClr val="008080"/>
                </a:solidFill>
                <a:latin typeface="Monotype Corsiva"/>
              </a:rPr>
              <a:t>i odwrotn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8080"/>
                </a:solidFill>
                <a:latin typeface="Monotype Corsiva"/>
              </a:rPr>
              <a:t>Odczytywanie diagramów procentowy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8080"/>
                </a:solidFill>
                <a:latin typeface="Monotype Corsiva"/>
              </a:rPr>
              <a:t>Obliczanie procentu danej liczby i liczby, gdy dany jest jej pro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8080"/>
                </a:solidFill>
                <a:latin typeface="Monotype Corsiva"/>
              </a:rPr>
              <a:t>Obliczanie, jakim procentem jednej liczby jest druga licz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8080"/>
                </a:solidFill>
                <a:latin typeface="Monotype Corsiva"/>
              </a:rPr>
              <a:t>Wykorzystanie kalkulatora do obliczeń procentowy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FFA3-7D98-452B-A1E9-88DFEC6D316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9140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99"/>
                </a:solidFill>
                <a:latin typeface="Times New Roman"/>
              </a:rPr>
              <a:t>W sadzie o powierzchni 1 ha rośnie 3000 drzew w tym 40% jabłoni, 25% grusz, 15% śliw, 10% wiśni i 10% czereśni. Informacje te można przedstawić za pomocą różnego rodzaju diagramów procentowych.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619280" y="1989000"/>
            <a:ext cx="3139920" cy="1923840"/>
            <a:chOff x="1619280" y="1989000"/>
            <a:chExt cx="3139920" cy="1923840"/>
          </a:xfrm>
        </p:grpSpPr>
        <p:grpSp>
          <p:nvGrpSpPr>
            <p:cNvPr id="208" name=""/>
            <p:cNvGrpSpPr/>
            <p:nvPr/>
          </p:nvGrpSpPr>
          <p:grpSpPr>
            <a:xfrm>
              <a:off x="1619280" y="2050200"/>
              <a:ext cx="867960" cy="168120"/>
              <a:chOff x="1619280" y="2050200"/>
              <a:chExt cx="867960" cy="168120"/>
            </a:xfrm>
          </p:grpSpPr>
          <p:sp>
            <p:nvSpPr>
              <p:cNvPr id="209" name=""/>
              <p:cNvSpPr/>
              <p:nvPr/>
            </p:nvSpPr>
            <p:spPr>
              <a:xfrm>
                <a:off x="161928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79496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972440" y="2050200"/>
                <a:ext cx="1616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14524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32272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2498760" y="2050200"/>
              <a:ext cx="867960" cy="168120"/>
              <a:chOff x="2498760" y="2050200"/>
              <a:chExt cx="867960" cy="168120"/>
            </a:xfrm>
          </p:grpSpPr>
          <p:sp>
            <p:nvSpPr>
              <p:cNvPr id="215" name=""/>
              <p:cNvSpPr/>
              <p:nvPr/>
            </p:nvSpPr>
            <p:spPr>
              <a:xfrm>
                <a:off x="2498760" y="2050200"/>
                <a:ext cx="1634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67336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850840" y="2050200"/>
                <a:ext cx="1634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025800" y="2050200"/>
                <a:ext cx="16488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20220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1619280" y="2230560"/>
              <a:ext cx="867960" cy="168480"/>
              <a:chOff x="1619280" y="2230560"/>
              <a:chExt cx="867960" cy="168480"/>
            </a:xfrm>
          </p:grpSpPr>
          <p:sp>
            <p:nvSpPr>
              <p:cNvPr id="221" name=""/>
              <p:cNvSpPr/>
              <p:nvPr/>
            </p:nvSpPr>
            <p:spPr>
              <a:xfrm>
                <a:off x="161928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79496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972440" y="2230560"/>
                <a:ext cx="1616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14524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32272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2498760" y="2230560"/>
              <a:ext cx="867960" cy="168480"/>
              <a:chOff x="2498760" y="2230560"/>
              <a:chExt cx="867960" cy="168480"/>
            </a:xfrm>
          </p:grpSpPr>
          <p:sp>
            <p:nvSpPr>
              <p:cNvPr id="227" name=""/>
              <p:cNvSpPr/>
              <p:nvPr/>
            </p:nvSpPr>
            <p:spPr>
              <a:xfrm>
                <a:off x="2498760" y="2230560"/>
                <a:ext cx="1634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67336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850840" y="2230560"/>
                <a:ext cx="1634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025800" y="2230560"/>
                <a:ext cx="16488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20220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1619280" y="2411640"/>
              <a:ext cx="867960" cy="166680"/>
              <a:chOff x="1619280" y="2411640"/>
              <a:chExt cx="867960" cy="166680"/>
            </a:xfrm>
          </p:grpSpPr>
          <p:sp>
            <p:nvSpPr>
              <p:cNvPr id="233" name=""/>
              <p:cNvSpPr/>
              <p:nvPr/>
            </p:nvSpPr>
            <p:spPr>
              <a:xfrm>
                <a:off x="161928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79496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972440" y="2411640"/>
                <a:ext cx="1616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14524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32272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2498760" y="2411640"/>
              <a:ext cx="867960" cy="166680"/>
              <a:chOff x="2498760" y="2411640"/>
              <a:chExt cx="867960" cy="166680"/>
            </a:xfrm>
          </p:grpSpPr>
          <p:sp>
            <p:nvSpPr>
              <p:cNvPr id="239" name=""/>
              <p:cNvSpPr/>
              <p:nvPr/>
            </p:nvSpPr>
            <p:spPr>
              <a:xfrm>
                <a:off x="2498760" y="2411640"/>
                <a:ext cx="1634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67336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850840" y="2411640"/>
                <a:ext cx="1634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025800" y="2411640"/>
                <a:ext cx="16488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20220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1619280" y="2590920"/>
              <a:ext cx="867960" cy="165960"/>
              <a:chOff x="1619280" y="2590920"/>
              <a:chExt cx="867960" cy="165960"/>
            </a:xfrm>
          </p:grpSpPr>
          <p:sp>
            <p:nvSpPr>
              <p:cNvPr id="245" name=""/>
              <p:cNvSpPr/>
              <p:nvPr/>
            </p:nvSpPr>
            <p:spPr>
              <a:xfrm>
                <a:off x="161928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9496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972440" y="2590920"/>
                <a:ext cx="1616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14524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32272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2498760" y="2590920"/>
              <a:ext cx="867960" cy="165960"/>
              <a:chOff x="2498760" y="2590920"/>
              <a:chExt cx="867960" cy="165960"/>
            </a:xfrm>
          </p:grpSpPr>
          <p:sp>
            <p:nvSpPr>
              <p:cNvPr id="251" name=""/>
              <p:cNvSpPr/>
              <p:nvPr/>
            </p:nvSpPr>
            <p:spPr>
              <a:xfrm>
                <a:off x="2498760" y="2590920"/>
                <a:ext cx="1634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67336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850840" y="2590920"/>
                <a:ext cx="1634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025800" y="2590920"/>
                <a:ext cx="16488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20220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1619280" y="2950920"/>
              <a:ext cx="867960" cy="165600"/>
              <a:chOff x="1619280" y="2950920"/>
              <a:chExt cx="867960" cy="165600"/>
            </a:xfrm>
          </p:grpSpPr>
          <p:sp>
            <p:nvSpPr>
              <p:cNvPr id="257" name=""/>
              <p:cNvSpPr/>
              <p:nvPr/>
            </p:nvSpPr>
            <p:spPr>
              <a:xfrm>
                <a:off x="161928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79496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72440" y="2950920"/>
                <a:ext cx="1616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14524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32272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2498760" y="2770200"/>
              <a:ext cx="867960" cy="167040"/>
              <a:chOff x="2498760" y="2770200"/>
              <a:chExt cx="867960" cy="167040"/>
            </a:xfrm>
          </p:grpSpPr>
          <p:sp>
            <p:nvSpPr>
              <p:cNvPr id="263" name=""/>
              <p:cNvSpPr/>
              <p:nvPr/>
            </p:nvSpPr>
            <p:spPr>
              <a:xfrm>
                <a:off x="2498760" y="2770200"/>
                <a:ext cx="1634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67336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850840" y="2770200"/>
                <a:ext cx="1634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25800" y="2770200"/>
                <a:ext cx="16488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20220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619280" y="2770200"/>
              <a:ext cx="867960" cy="167040"/>
              <a:chOff x="1619280" y="2770200"/>
              <a:chExt cx="867960" cy="167040"/>
            </a:xfrm>
          </p:grpSpPr>
          <p:sp>
            <p:nvSpPr>
              <p:cNvPr id="269" name=""/>
              <p:cNvSpPr/>
              <p:nvPr/>
            </p:nvSpPr>
            <p:spPr>
              <a:xfrm>
                <a:off x="161928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79496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972440" y="2770200"/>
                <a:ext cx="1616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14524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32272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1619280" y="3130200"/>
              <a:ext cx="867960" cy="167040"/>
              <a:chOff x="1619280" y="3130200"/>
              <a:chExt cx="867960" cy="167040"/>
            </a:xfrm>
          </p:grpSpPr>
          <p:sp>
            <p:nvSpPr>
              <p:cNvPr id="275" name=""/>
              <p:cNvSpPr/>
              <p:nvPr/>
            </p:nvSpPr>
            <p:spPr>
              <a:xfrm>
                <a:off x="1619280" y="313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794960" y="313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972440" y="3130200"/>
                <a:ext cx="1616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145240" y="313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322720" y="313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2498760" y="2950920"/>
              <a:ext cx="867960" cy="165600"/>
              <a:chOff x="2498760" y="2950920"/>
              <a:chExt cx="867960" cy="165600"/>
            </a:xfrm>
          </p:grpSpPr>
          <p:sp>
            <p:nvSpPr>
              <p:cNvPr id="281" name=""/>
              <p:cNvSpPr/>
              <p:nvPr/>
            </p:nvSpPr>
            <p:spPr>
              <a:xfrm>
                <a:off x="2498760" y="2950920"/>
                <a:ext cx="1634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67336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850840" y="2950920"/>
                <a:ext cx="1634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25800" y="2950920"/>
                <a:ext cx="16488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20220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2498760" y="3130200"/>
              <a:ext cx="867960" cy="167040"/>
              <a:chOff x="2498760" y="3130200"/>
              <a:chExt cx="867960" cy="167040"/>
            </a:xfrm>
          </p:grpSpPr>
          <p:sp>
            <p:nvSpPr>
              <p:cNvPr id="287" name=""/>
              <p:cNvSpPr/>
              <p:nvPr/>
            </p:nvSpPr>
            <p:spPr>
              <a:xfrm>
                <a:off x="2498760" y="3130200"/>
                <a:ext cx="16344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673360" y="3130200"/>
                <a:ext cx="16596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850840" y="3130200"/>
                <a:ext cx="16344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025800" y="3130200"/>
                <a:ext cx="16488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02200" y="3130200"/>
                <a:ext cx="16452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1619280" y="3310920"/>
              <a:ext cx="867960" cy="165600"/>
              <a:chOff x="1619280" y="3310920"/>
              <a:chExt cx="867960" cy="165600"/>
            </a:xfrm>
          </p:grpSpPr>
          <p:sp>
            <p:nvSpPr>
              <p:cNvPr id="293" name=""/>
              <p:cNvSpPr/>
              <p:nvPr/>
            </p:nvSpPr>
            <p:spPr>
              <a:xfrm>
                <a:off x="161928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9496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72440" y="3310920"/>
                <a:ext cx="1616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14524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32272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2498760" y="3310920"/>
              <a:ext cx="867960" cy="165600"/>
              <a:chOff x="2498760" y="3310920"/>
              <a:chExt cx="867960" cy="165600"/>
            </a:xfrm>
          </p:grpSpPr>
          <p:sp>
            <p:nvSpPr>
              <p:cNvPr id="299" name=""/>
              <p:cNvSpPr/>
              <p:nvPr/>
            </p:nvSpPr>
            <p:spPr>
              <a:xfrm>
                <a:off x="2498760" y="3310920"/>
                <a:ext cx="1634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67336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850840" y="3310920"/>
                <a:ext cx="1634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025800" y="3310920"/>
                <a:ext cx="16488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20220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498760" y="3669480"/>
              <a:ext cx="867960" cy="168120"/>
              <a:chOff x="2498760" y="3669480"/>
              <a:chExt cx="867960" cy="168120"/>
            </a:xfrm>
          </p:grpSpPr>
          <p:sp>
            <p:nvSpPr>
              <p:cNvPr id="305" name=""/>
              <p:cNvSpPr/>
              <p:nvPr/>
            </p:nvSpPr>
            <p:spPr>
              <a:xfrm>
                <a:off x="2498760" y="3669480"/>
                <a:ext cx="1634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67336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850840" y="3669480"/>
                <a:ext cx="1634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025800" y="3669480"/>
                <a:ext cx="16488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20220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2498760" y="3490200"/>
              <a:ext cx="867960" cy="167040"/>
              <a:chOff x="2498760" y="3490200"/>
              <a:chExt cx="867960" cy="167040"/>
            </a:xfrm>
          </p:grpSpPr>
          <p:sp>
            <p:nvSpPr>
              <p:cNvPr id="311" name=""/>
              <p:cNvSpPr/>
              <p:nvPr/>
            </p:nvSpPr>
            <p:spPr>
              <a:xfrm>
                <a:off x="2498760" y="3490200"/>
                <a:ext cx="1634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67336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850840" y="3490200"/>
                <a:ext cx="1634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25800" y="3490200"/>
                <a:ext cx="16488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20220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1619280" y="3490200"/>
              <a:ext cx="867960" cy="167040"/>
              <a:chOff x="1619280" y="3490200"/>
              <a:chExt cx="867960" cy="167040"/>
            </a:xfrm>
          </p:grpSpPr>
          <p:sp>
            <p:nvSpPr>
              <p:cNvPr id="317" name=""/>
              <p:cNvSpPr/>
              <p:nvPr/>
            </p:nvSpPr>
            <p:spPr>
              <a:xfrm>
                <a:off x="161928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79496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972440" y="3490200"/>
                <a:ext cx="1616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14524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2272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1619280" y="3669480"/>
              <a:ext cx="867960" cy="168120"/>
              <a:chOff x="1619280" y="3669480"/>
              <a:chExt cx="867960" cy="168120"/>
            </a:xfrm>
          </p:grpSpPr>
          <p:sp>
            <p:nvSpPr>
              <p:cNvPr id="323" name=""/>
              <p:cNvSpPr/>
              <p:nvPr/>
            </p:nvSpPr>
            <p:spPr>
              <a:xfrm>
                <a:off x="161928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79496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972440" y="3669480"/>
                <a:ext cx="1616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14524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32272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3621240" y="2360880"/>
              <a:ext cx="171360" cy="173160"/>
            </a:xfrm>
            <a:prstGeom prst="rect">
              <a:avLst/>
            </a:prstGeom>
            <a:solidFill>
              <a:srgbClr val="221304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21240" y="2670120"/>
              <a:ext cx="171360" cy="1746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21240" y="2982600"/>
              <a:ext cx="171360" cy="172800"/>
            </a:xfrm>
            <a:prstGeom prst="rect">
              <a:avLst/>
            </a:prstGeom>
            <a:solidFill>
              <a:srgbClr val="3694b6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21240" y="3352680"/>
              <a:ext cx="171360" cy="174600"/>
            </a:xfrm>
            <a:prstGeom prst="rect">
              <a:avLst/>
            </a:prstGeom>
            <a:solidFill>
              <a:srgbClr val="ff33ff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621240" y="3663360"/>
              <a:ext cx="171360" cy="17460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44800" y="1989000"/>
              <a:ext cx="481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785040" y="2272680"/>
              <a:ext cx="884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jabło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84680" y="2586240"/>
              <a:ext cx="74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grus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84680" y="2919600"/>
              <a:ext cx="628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śliw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85040" y="3265920"/>
              <a:ext cx="72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wiś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86120" y="3576960"/>
              <a:ext cx="973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czereś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39" name=""/>
          <p:cNvGraphicFramePr/>
          <p:nvPr/>
        </p:nvGraphicFramePr>
        <p:xfrm>
          <a:off x="5168880" y="2057400"/>
          <a:ext cx="284472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8880" y="2057400"/>
                    <a:ext cx="284472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2411280" y="4005360"/>
          <a:ext cx="4969080" cy="23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4005360"/>
                    <a:ext cx="496908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9AE0-C361-4BD4-8B82-390F9FC4DD57}" type="slidenum">
              <a:t>20</a:t>
            </a:fld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1835280" y="2924280"/>
          <a:ext cx="6019560" cy="31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924280"/>
                    <a:ext cx="6019560" cy="3147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18920" y="1412640"/>
            <a:ext cx="7296120" cy="15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cc"/>
                </a:solidFill>
                <a:latin typeface="Times New Roman"/>
              </a:rPr>
              <a:t>a) jaki smak lodów cieszył się największym powodzeniem? </a:t>
            </a:r>
            <a:br>
              <a:rPr sz="2000"/>
            </a:br>
            <a:r>
              <a:rPr b="1" i="1" lang="pl-PL" sz="2000" spc="-1" strike="noStrike">
                <a:solidFill>
                  <a:srgbClr val="ff9900"/>
                </a:solidFill>
                <a:latin typeface="Times New Roman"/>
              </a:rPr>
              <a:t>b) ile litrów lodów każdego rodzaju sprzedano? </a:t>
            </a:r>
            <a:br>
              <a:rPr sz="2000"/>
            </a:br>
            <a:r>
              <a:rPr b="1" i="1" lang="pl-PL" sz="2000" spc="-1" strike="noStrike">
                <a:solidFill>
                  <a:srgbClr val="008080"/>
                </a:solidFill>
                <a:latin typeface="Times New Roman"/>
              </a:rPr>
              <a:t>c) o ile więcej litrów sprzedano lodów waniliowych niż wiśniowych?</a:t>
            </a:r>
            <a:r>
              <a:rPr b="1" i="1" lang="pl-PL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187280" y="476280"/>
            <a:ext cx="7129800" cy="1678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cc00"/>
                </a:solidFill>
                <a:latin typeface="Times New Roman"/>
              </a:rPr>
              <a:t>W budce z lodami sprzedano 120 litrów lodó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cc00"/>
                </a:solidFill>
                <a:latin typeface="Times New Roman"/>
              </a:rPr>
              <a:t>Na podstawie wykresu odpowiedz na pytania: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1AF2-0967-49A7-899C-5A2A47C70890}" type="slidenum">
              <a:t>21</a:t>
            </a:fld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0000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Times New Roman"/>
              </a:rPr>
              <a:t>czekoladow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ff99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9900"/>
                </a:solidFill>
                <a:latin typeface="Times New Roman"/>
              </a:rPr>
              <a:t>18 l;  30 l; 24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808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8080"/>
                </a:solidFill>
                <a:latin typeface="Times New Roman"/>
              </a:rPr>
              <a:t>o 6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208160" y="765000"/>
            <a:ext cx="42865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          </a:t>
            </a: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4643280" y="299736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9D68-5545-440E-84CC-AD89084F00C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600200" y="692280"/>
            <a:ext cx="70023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Załóżmy, że rok kalendarzowy ma 360 dni. Diagram przedstawia podział roku kalendarzow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                </a:t>
            </a:r>
            <a:r>
              <a:rPr b="1" lang="pl-PL" sz="2400" spc="-1" strike="noStrike">
                <a:solidFill>
                  <a:srgbClr val="a1bd69"/>
                </a:solidFill>
                <a:latin typeface="Times New Roman"/>
              </a:rPr>
              <a:t>Odpowiedz na pytania:</a:t>
            </a:r>
            <a:br>
              <a:rPr sz="2400"/>
            </a:br>
            <a:r>
              <a:rPr b="1" lang="pl-PL" sz="2400" spc="-1" strike="noStrike">
                <a:solidFill>
                  <a:srgbClr val="009900"/>
                </a:solidFill>
                <a:latin typeface="Monotype Corsiva"/>
              </a:rPr>
              <a:t>a) ile dni trwają zajęcia lekcyjne, a ile wakacje?</a:t>
            </a:r>
            <a:br>
              <a:rPr sz="2400"/>
            </a:br>
            <a:r>
              <a:rPr b="1" lang="pl-PL" sz="2400" spc="-1" strike="noStrike">
                <a:solidFill>
                  <a:srgbClr val="800000"/>
                </a:solidFill>
                <a:latin typeface="Monotype Corsiva"/>
              </a:rPr>
              <a:t>b) </a:t>
            </a:r>
            <a:r>
              <a:rPr b="1" lang="pl-PL" sz="2400" spc="-1" strike="noStrike">
                <a:solidFill>
                  <a:srgbClr val="660066"/>
                </a:solidFill>
                <a:latin typeface="Monotype Corsiva"/>
              </a:rPr>
              <a:t>przez ile dni przebywasz poza szkołą?</a:t>
            </a:r>
            <a:br>
              <a:rPr sz="2400"/>
            </a:br>
            <a:r>
              <a:rPr b="1" lang="pl-PL" sz="2400" spc="-1" strike="noStrike">
                <a:solidFill>
                  <a:srgbClr val="ff9900"/>
                </a:solidFill>
                <a:latin typeface="Monotype Corsiva"/>
              </a:rPr>
              <a:t>c) jakim procentem zajęć lekcyjnych są wakacj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331280" y="3357720"/>
            <a:ext cx="6525360" cy="2806560"/>
            <a:chOff x="1331280" y="3357720"/>
            <a:chExt cx="6525360" cy="2806560"/>
          </a:xfrm>
        </p:grpSpPr>
        <p:sp>
          <p:nvSpPr>
            <p:cNvPr id="353" name=""/>
            <p:cNvSpPr/>
            <p:nvPr/>
          </p:nvSpPr>
          <p:spPr>
            <a:xfrm>
              <a:off x="1331280" y="3357720"/>
              <a:ext cx="249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5632560" y="3757680"/>
              <a:ext cx="2224080" cy="397440"/>
              <a:chOff x="5632560" y="3757680"/>
              <a:chExt cx="2224080" cy="397440"/>
            </a:xfrm>
          </p:grpSpPr>
          <p:sp>
            <p:nvSpPr>
              <p:cNvPr id="355" name=""/>
              <p:cNvSpPr/>
              <p:nvPr/>
            </p:nvSpPr>
            <p:spPr>
              <a:xfrm>
                <a:off x="5995080" y="3757680"/>
                <a:ext cx="1861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Times New Roman"/>
                  </a:rPr>
                  <a:t>Zajęcia szkol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632560" y="3834000"/>
                <a:ext cx="220320" cy="221760"/>
              </a:xfrm>
              <a:prstGeom prst="rect">
                <a:avLst/>
              </a:prstGeom>
              <a:gradFill rotWithShape="0">
                <a:gsLst>
                  <a:gs pos="0">
                    <a:srgbClr val="221304"/>
                  </a:gs>
                  <a:gs pos="100000">
                    <a:srgbClr val="00ff66"/>
                  </a:gs>
                </a:gsLst>
                <a:lin ang="13500000"/>
              </a:gra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2703600" y="3827520"/>
              <a:ext cx="4743720" cy="2336760"/>
              <a:chOff x="2703600" y="3827520"/>
              <a:chExt cx="4743720" cy="2336760"/>
            </a:xfrm>
          </p:grpSpPr>
          <p:grpSp>
            <p:nvGrpSpPr>
              <p:cNvPr id="358" name=""/>
              <p:cNvGrpSpPr/>
              <p:nvPr/>
            </p:nvGrpSpPr>
            <p:grpSpPr>
              <a:xfrm>
                <a:off x="2703600" y="3827520"/>
                <a:ext cx="2320920" cy="2336760"/>
                <a:chOff x="2703600" y="3827520"/>
                <a:chExt cx="2320920" cy="233676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340380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93688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17016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387036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433728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457056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80384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63708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70360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410364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40380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93688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317016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387036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33728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57056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80384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363708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70360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10364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40380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93688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317016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387036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33728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57056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480384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63708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70360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10364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340380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93688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317016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387036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433728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57056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480384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363708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70360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10364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340380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93688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317016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87036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33728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57056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80384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363708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0360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10364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340380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93688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17016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387036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33728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57056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480384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63708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70360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410364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40380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93688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17016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87036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433728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57056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80384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63708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70360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10364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40380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93688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17016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87036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33728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57056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480384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63708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70360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10364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40380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93688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17016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87036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433728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57056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480384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63708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70360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410364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40380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293688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17016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87036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433728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57056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480384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63708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270360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410364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5632560" y="4305600"/>
                <a:ext cx="1814760" cy="397440"/>
                <a:chOff x="5632560" y="4305600"/>
                <a:chExt cx="1814760" cy="39744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5632560" y="4382280"/>
                  <a:ext cx="219960" cy="22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5994360" y="4305600"/>
                  <a:ext cx="14529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Poza szkołą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5632560" y="4775760"/>
                <a:ext cx="1433880" cy="397440"/>
                <a:chOff x="5632560" y="4775760"/>
                <a:chExt cx="1433880" cy="39744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5632560" y="4852440"/>
                  <a:ext cx="220320" cy="22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5918400" y="4775760"/>
                  <a:ext cx="114804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Wakacj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7C76-B24A-4C78-81FA-C56D2EFCDDBA}" type="slidenum">
              <a:t>23</a:t>
            </a:fld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576320" y="2682720"/>
            <a:ext cx="17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 CE"/>
              </a:rPr>
              <a:t>b)  108 d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541840" y="3500280"/>
            <a:ext cx="13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00"/>
                </a:solidFill>
                <a:latin typeface="Times New Roman CE"/>
              </a:rPr>
              <a:t>c)  4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544920" y="1890720"/>
            <a:ext cx="29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Times New Roman CE"/>
              </a:rPr>
              <a:t>a)  180 dni; 72 d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116000" y="3435480"/>
            <a:ext cx="4103640" cy="307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79AE-F042-4C58-854B-0BD405C395CF}" type="slidenum">
              <a:t>24</a:t>
            </a:fld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danie 3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Uczniowie klas pierwszych pew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gimnazjum przedstawili swoje preferenc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wzorów na ubraniach w postaci diagram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rzedstawionego poniże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4932360" y="3284640"/>
            <a:ext cx="3960720" cy="237636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1042920" y="4869000"/>
            <a:ext cx="4627800" cy="164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a podstawie diagramu określ, które zdanie jest fałszyw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C4B9-8B4B-4A29-AD58-A88922A9138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42560" y="3141720"/>
            <a:ext cx="7620120" cy="33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0% uczniów lubi inne desenie niż kratki, kropki i pask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lubionym deseniem dla mniej niż połowy uczniów są kropk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ięcej niż połowa uczniów lubi ubrania we wzorki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lubionym deseniem dla więcej niż połowy uczniów są kratki lub paski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2627280" y="404640"/>
            <a:ext cx="4897440" cy="306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6A30-94A6-4024-8732-E1CBE8005D0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cc66"/>
                </a:solidFill>
                <a:latin typeface="Times New Roman"/>
              </a:rPr>
              <a:t>Diagram procentowy przedstawia wyniki wyborów prezesa klubu sportowego, który liczy 800 członków.</a:t>
            </a:r>
            <a:br>
              <a:rPr sz="2400"/>
            </a:br>
            <a:br>
              <a:rPr sz="2400"/>
            </a:br>
            <a:r>
              <a:rPr b="1" i="1" lang="pl-PL" sz="2000" spc="-1" strike="noStrike">
                <a:solidFill>
                  <a:srgbClr val="ff3300"/>
                </a:solidFill>
                <a:latin typeface="Monotype Corsiva"/>
              </a:rPr>
              <a:t>a</a:t>
            </a:r>
            <a:r>
              <a:rPr b="1" i="1" lang="pl-PL" sz="2400" spc="-1" strike="noStrike">
                <a:solidFill>
                  <a:srgbClr val="ff3300"/>
                </a:solidFill>
                <a:latin typeface="Monotype Corsiva"/>
              </a:rPr>
              <a:t>) Ilu członków klubu nie wzięło udziału w głosowaniu?</a:t>
            </a:r>
            <a:br>
              <a:rPr sz="2400"/>
            </a:br>
            <a:r>
              <a:rPr b="1" i="1" lang="pl-PL" sz="2400" spc="-1" strike="noStrike">
                <a:solidFill>
                  <a:srgbClr val="000099"/>
                </a:solidFill>
                <a:latin typeface="Monotype Corsiva"/>
              </a:rPr>
              <a:t>b) O ilu wyborców więcej głosowało na pana Piotra niż na </a:t>
            </a:r>
            <a:br>
              <a:rPr sz="2400"/>
            </a:br>
            <a:r>
              <a:rPr b="1" i="1" lang="pl-PL" sz="2400" spc="-1" strike="noStrike">
                <a:solidFill>
                  <a:srgbClr val="000099"/>
                </a:solidFill>
                <a:latin typeface="Monotype Corsiva"/>
              </a:rPr>
              <a:t>pana Karola?</a:t>
            </a:r>
            <a:br>
              <a:rPr sz="2400"/>
            </a:br>
            <a:r>
              <a:rPr b="1" i="1" lang="pl-PL" sz="2400" spc="-1" strike="noStrike">
                <a:solidFill>
                  <a:srgbClr val="cccc00"/>
                </a:solidFill>
                <a:latin typeface="Monotype Corsiva"/>
              </a:rPr>
              <a:t>c) Czy L. Pan Karol wygrałby wybory gdyby przekonał do siebie połowę nie biorących udziału w głosowaniu?</a:t>
            </a:r>
            <a:br>
              <a:rPr sz="2400"/>
            </a:b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1908000" y="3213000"/>
          <a:ext cx="6172200" cy="34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3213000"/>
                    <a:ext cx="617220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BB41-3095-43FC-B6C8-F190E6E895DD}" type="slidenum">
              <a:t>27</a:t>
            </a:fld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pl-PL" sz="3200" spc="-1" strike="noStrike">
                <a:solidFill>
                  <a:srgbClr val="00808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914200" y="2349360"/>
            <a:ext cx="28584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a) 160 osó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94200" y="3573360"/>
            <a:ext cx="302904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b) o 80 osó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204360" y="4581360"/>
            <a:ext cx="14698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c) 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412000" y="692280"/>
            <a:ext cx="2884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5292720" y="3284640"/>
            <a:ext cx="3211560" cy="284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8552-9709-4F82-8546-753466CB9AA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1042920" y="1699920"/>
            <a:ext cx="36734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Dane te przedstaw 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diagramie procentowym. Dołącz dane o Twojej szko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rzyjmij, że dotyczą one lat zwykłych (365 dni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" descr="Procenty flagi dni.gif"/>
          <p:cNvPicPr/>
          <p:nvPr/>
        </p:nvPicPr>
        <p:blipFill>
          <a:blip r:embed="rId1"/>
          <a:stretch/>
        </p:blipFill>
        <p:spPr>
          <a:xfrm>
            <a:off x="4643280" y="1989000"/>
            <a:ext cx="4246560" cy="389412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1187280" y="404640"/>
            <a:ext cx="741708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Korzystając z  ilustracji odczytaj ile godzin i 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dni spędzają uczniowie w szk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F9CC-BC9D-4E1E-BA5E-9400E1BAD9B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66680" y="1773000"/>
            <a:ext cx="45720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Wśród ułamków duże znaczenie, zwłaszcza w życiu codziennym, mają ułamki dziesiętne o mianowniku 100. Ułamki te nazywają się procentam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Procent oznaczamy symbolem</a:t>
            </a:r>
            <a:br>
              <a:rPr sz="2800"/>
            </a:br>
            <a:r>
              <a:rPr b="1" i="1" lang="pl-PL" sz="3600" spc="-1" strike="noStrike">
                <a:solidFill>
                  <a:srgbClr val="0000cc"/>
                </a:solidFill>
                <a:latin typeface="Monotype Corsiva"/>
              </a:rPr>
              <a:t>%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899640" y="333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Co to jest procent?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2000" y="1700280"/>
            <a:ext cx="1596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8800" spc="-1" strike="noStrike">
                <a:solidFill>
                  <a:srgbClr val="0066ff"/>
                </a:solidFill>
                <a:latin typeface="Monotype Corsiva"/>
              </a:rPr>
              <a:t>%            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2492280"/>
            <a:ext cx="1596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8800" spc="-1" strike="noStrike">
                <a:solidFill>
                  <a:srgbClr val="0066ff"/>
                </a:solidFill>
                <a:latin typeface="Monotype Corsiva"/>
              </a:rPr>
              <a:t>%            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51640" y="3573360"/>
            <a:ext cx="1596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8800" spc="-1" strike="noStrike">
                <a:solidFill>
                  <a:srgbClr val="0066ff"/>
                </a:solidFill>
                <a:latin typeface="Monotype Corsiva"/>
              </a:rPr>
              <a:t>%            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77080" y="4724280"/>
            <a:ext cx="1596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8800" spc="-1" strike="noStrike">
                <a:solidFill>
                  <a:srgbClr val="0066ff"/>
                </a:solidFill>
                <a:latin typeface="Monotype Corsiva"/>
              </a:rPr>
              <a:t>%            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0B68-2F0D-4228-8724-E45584097E97}" type="slidenum">
              <a:t>3</a:t>
            </a:fld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99640" y="1844280"/>
            <a:ext cx="30243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Marysia, która bardzo lub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owoce i sery, z pirami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wybrała sobie taki zesta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dzienn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6 porcji - chleb, ryż, maka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3 porcje - jarzyn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4 porcje - owo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3 porcje - mleko, jogurt, s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2 porcje - mięso, jajka, drób, ryb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W sumie mamy 6+3+4+3+2 =1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porcji. Sześć porcji przypada 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chleb, ryż i makaron. Ile to procent 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                      ≈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0,33 = 3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Procenty piramida.gif"/>
          <p:cNvPicPr/>
          <p:nvPr/>
        </p:nvPicPr>
        <p:blipFill>
          <a:blip r:embed="rId1"/>
          <a:stretch/>
        </p:blipFill>
        <p:spPr>
          <a:xfrm>
            <a:off x="3708360" y="1773360"/>
            <a:ext cx="4896000" cy="437652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\frac{6}{18} "/>
          <p:cNvPicPr/>
          <p:nvPr/>
        </p:nvPicPr>
        <p:blipFill>
          <a:blip r:embed="rId2"/>
          <a:stretch/>
        </p:blipFill>
        <p:spPr>
          <a:xfrm>
            <a:off x="1763640" y="5589720"/>
            <a:ext cx="314280" cy="64764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1476360" y="476280"/>
            <a:ext cx="6551640" cy="82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zedstawmy dane z piramidy zdrowego odżywiania w postaci procent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B7A3-9293-4C16-868A-36952E6D18B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71280" y="476280"/>
            <a:ext cx="417492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00cc"/>
                </a:solidFill>
                <a:latin typeface="Monotype Corsiva"/>
              </a:rPr>
              <a:t>Zadanie 2</a:t>
            </a:r>
            <a:r>
              <a:rPr b="0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Dokończ procentowy diagra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rzedstawiający zdrow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estaw, wybrany przez Marysię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pl-PL" sz="3200" spc="-1" strike="noStrike">
                <a:solidFill>
                  <a:srgbClr val="0000cc"/>
                </a:solidFill>
                <a:latin typeface="Monotype Corsiva"/>
              </a:rPr>
              <a:t>Zadanie 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Wybierz dla Ciebie najleps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estaw jedzenia, który będz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godny z piramidą zdr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odżywiania. Przedstaw go 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rocentowym diagramie.</a:t>
            </a:r>
            <a:r>
              <a:rPr b="0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" descr="Procenty def piramida.svg"/>
          <p:cNvPicPr/>
          <p:nvPr/>
        </p:nvPicPr>
        <p:blipFill>
          <a:blip r:embed="rId1"/>
          <a:stretch/>
        </p:blipFill>
        <p:spPr>
          <a:xfrm>
            <a:off x="4859280" y="1413000"/>
            <a:ext cx="3889440" cy="41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BC4A-5B6E-484B-ADD4-D9F7AA26B7EE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800" spc="-1" strike="noStrike">
                <a:solidFill>
                  <a:srgbClr val="0066ff"/>
                </a:solidFill>
                <a:latin typeface="Monotype Corsiva"/>
              </a:rPr>
              <a:t>Obliczanie procentu danej liczby.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Times New Roman"/>
              </a:rPr>
              <a:t>zamieniamy </a:t>
            </a:r>
            <a:r>
              <a:rPr b="1" i="1" lang="pl-PL" sz="3200" spc="-1" strike="noStrike">
                <a:solidFill>
                  <a:srgbClr val="ff0000"/>
                </a:solidFill>
                <a:latin typeface="Times New Roman"/>
              </a:rPr>
              <a:t>procent</a:t>
            </a:r>
            <a:r>
              <a:rPr b="1" lang="pl-PL" sz="3200" spc="-1" strike="noStrike">
                <a:solidFill>
                  <a:srgbClr val="ff0000"/>
                </a:solidFill>
                <a:latin typeface="Times New Roman"/>
              </a:rPr>
              <a:t> na ułam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Times New Roman"/>
              </a:rPr>
              <a:t>ułamek mnożymy przez liczb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procenty"/>
          <p:cNvPicPr/>
          <p:nvPr/>
        </p:nvPicPr>
        <p:blipFill>
          <a:blip r:embed="rId1"/>
          <a:stretch/>
        </p:blipFill>
        <p:spPr>
          <a:xfrm>
            <a:off x="1476360" y="2997360"/>
            <a:ext cx="2448000" cy="123984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procent"/>
          <p:cNvPicPr/>
          <p:nvPr/>
        </p:nvPicPr>
        <p:blipFill>
          <a:blip r:embed="rId2"/>
          <a:stretch/>
        </p:blipFill>
        <p:spPr>
          <a:xfrm>
            <a:off x="1476360" y="4508640"/>
            <a:ext cx="2592360" cy="125064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4716360" y="3284640"/>
            <a:ext cx="3743280" cy="21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BB69-526C-4A95-8558-06552EE12892}" type="slidenum">
              <a:t>32</a:t>
            </a:fld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2670120" cy="346896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4356000" y="907920"/>
            <a:ext cx="4127760" cy="2376720"/>
          </a:xfrm>
          <a:prstGeom prst="wedgeRoundRectCallout">
            <a:avLst>
              <a:gd name="adj1" fmla="val -86078"/>
              <a:gd name="adj2" fmla="val 90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Aby obliczyć procent danej liczby, należy tę liczbę pomnożyć przez ten pro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92360" y="3860640"/>
            <a:ext cx="4572000" cy="1595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Zadanie 3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blicz 15% liczb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988560" y="5084640"/>
            <a:ext cx="7357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221304"/>
                </a:solidFill>
                <a:latin typeface="Times New Roman"/>
              </a:rPr>
              <a:t>15% · 2000= 0,15 · 2000 =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A3B6-25B1-468A-BC35-4D90C7D50D9F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692280"/>
            <a:ext cx="4572000" cy="4115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Oblicz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a) 15% liczby 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b) 7% liczby 12,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6372360" y="3645000"/>
            <a:ext cx="231444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2A4C-85E3-46CF-ADAB-0ADE81E26D9C}" type="slidenum">
              <a:t>34</a:t>
            </a:fld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Przykładowe zadania 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Przykła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W klasie 1a jest 30 uczniów, dziewczęta stanowią 40% całej klasy, ilu jest chłopcó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40%  </a:t>
            </a:r>
            <a:r>
              <a:rPr b="1" i="1" lang="pl-PL" sz="2400" spc="-1" strike="noStrike" baseline="30000">
                <a:solidFill>
                  <a:srgbClr val="000000"/>
                </a:solidFill>
                <a:latin typeface="Monotype Corsiva"/>
              </a:rPr>
              <a:t>. </a:t>
            </a: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30 = 12   - ilość dziewczą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30-12=18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W klasie 1a jest 18 chłopcó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971640" y="4653000"/>
            <a:ext cx="5562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Odpowied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5003640" y="3573360"/>
            <a:ext cx="3672000" cy="244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5E7F-ED5B-46D9-8128-DF7500960D93}" type="slidenum">
              <a:t>35</a:t>
            </a:fld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Przykładowe zadania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Zada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Monotype Corsiva"/>
              </a:rPr>
              <a:t>W chórze 8 osób śpiewało basem, a o 25% więcej osób śpiewało al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Monotype Corsiva"/>
              </a:rPr>
              <a:t>Ile osób śpiewało alt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Rozwiązanie</a:t>
            </a:r>
            <a:r>
              <a:rPr b="0" lang="pl-PL" sz="28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6324480" y="3352680"/>
            <a:ext cx="2210040" cy="1710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1143000" y="4191120"/>
                <a:ext cx="144792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3429000" y="4191120"/>
                <a:ext cx="205740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3" name=""/>
          <p:cNvSpPr/>
          <p:nvPr/>
        </p:nvSpPr>
        <p:spPr>
          <a:xfrm>
            <a:off x="1143000" y="5334120"/>
            <a:ext cx="388620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21304"/>
                </a:solidFill>
                <a:latin typeface="Monotype Corsiva"/>
              </a:rPr>
              <a:t>	</a:t>
            </a:r>
            <a:r>
              <a:rPr b="1" i="1" lang="pl-PL" sz="2400" spc="-1" strike="noStrike">
                <a:solidFill>
                  <a:srgbClr val="221304"/>
                </a:solidFill>
                <a:latin typeface="Monotype Corsiva"/>
              </a:rPr>
              <a:t>Odpowied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21304"/>
                </a:solidFill>
                <a:latin typeface="Monotype Corsiva"/>
              </a:rPr>
              <a:t>Altem śpiewało 10 osó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EBD3-04E9-40C8-9283-D560FDF0ACA6}" type="slidenum">
              <a:t>36</a:t>
            </a:fld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750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Obliczanie liczby gdy dany jest jej procent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Łatwo jest obliczyć liczbę, gdy znamy jej 50%, 25% czy 10%. Cała liczba to przecież 100%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       </a:t>
            </a: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Jeśli 50% procent liczby wynosi 6, to cała liczba jest dwa razy większa, czyli 1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       </a:t>
            </a: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Jeśli 25% liczby to 7, wówczas szukaną liczbę obliczamy wykonując mnożenie 7 · 4 = 2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       </a:t>
            </a: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Liczba, której 10% wynosi 3, wówczas szukana liczba jest dziesięć razy większa, czyli 30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5364000" y="4653000"/>
            <a:ext cx="2737080" cy="220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C4B2-5ADD-470D-8363-5BB284EE7D14}" type="slidenum">
              <a:t>37</a:t>
            </a:fld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Aby obliczyć liczbę, gdy dany jest jej procen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835280" y="3789360"/>
            <a:ext cx="595764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rzykład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blicz liczbę, której 2% jest równe 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1258920" y="5013360"/>
            <a:ext cx="6985080" cy="122400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995480" cy="259092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4427640" y="1557360"/>
            <a:ext cx="4093920" cy="2087640"/>
          </a:xfrm>
          <a:prstGeom prst="wedgeRoundRectCallout">
            <a:avLst>
              <a:gd name="adj1" fmla="val -91333"/>
              <a:gd name="adj2" fmla="val -7416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Monotype Corsiva"/>
              </a:rPr>
              <a:t>Wystarczy podzielić j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Monotype Corsiva"/>
              </a:rPr>
              <a:t>przez podany pro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070E-A30F-4533-9675-A755904327FC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66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58920" y="1052640"/>
            <a:ext cx="7242120" cy="1373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Oblicz liczbę której 5% wynosi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686240" y="3141720"/>
            <a:ext cx="60955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221304"/>
                </a:solidFill>
                <a:latin typeface="Times New Roman"/>
              </a:rPr>
              <a:t>30 : 5% = 30 : 0,05 = 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3276720" y="4221000"/>
            <a:ext cx="352872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A267-D559-4ECA-BAEB-200F7DDECB08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16000" y="2060640"/>
            <a:ext cx="43927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 </a:t>
            </a: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Podany </a:t>
            </a:r>
            <a:r>
              <a:rPr b="1" lang="pl-PL" sz="2800" spc="-1" strike="noStrike">
                <a:solidFill>
                  <a:srgbClr val="0000cc"/>
                </a:solidFill>
                <a:latin typeface="Monotype Corsiva"/>
              </a:rPr>
              <a:t>prostokąt podzielono na 100 małych prostokątów – każdy taki prostokącik oznacza 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Co to jest procent?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148360" y="3284640"/>
          <a:ext cx="2514600" cy="2131920"/>
        </p:xfrm>
        <a:graphic>
          <a:graphicData uri="http://schemas.openxmlformats.org/drawingml/2006/table">
            <a:tbl>
              <a:tblPr/>
              <a:tblGrid>
                <a:gridCol w="250920"/>
                <a:gridCol w="252360"/>
                <a:gridCol w="250920"/>
                <a:gridCol w="252360"/>
                <a:gridCol w="250920"/>
                <a:gridCol w="250920"/>
                <a:gridCol w="252360"/>
                <a:gridCol w="250560"/>
                <a:gridCol w="252720"/>
                <a:gridCol w="2505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bf0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411280" y="4149720"/>
                <a:ext cx="1828800" cy="17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0D42-6A0A-41FC-9C51-2A53632DEC40}" type="slidenum">
              <a:t>4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10% jest równe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25% jest równe 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20 % jest równe 1,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758960" y="1628640"/>
            <a:ext cx="53913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najdź liczby, których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5580000" y="3213000"/>
            <a:ext cx="2819520" cy="26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B13A-6CCE-44F9-91AB-AA18E27890A7}" type="slidenum">
              <a:t>40</a:t>
            </a:fld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Przykładowe zadania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Zadan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W sekcji sportowej 18 mężczyzn ćwiczyło  codziennie gimnastykę artystyczną. Stanowili oni 90% tej sekcji. Ile osób liczyła sekcja sportow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Rozwiązan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18 : 90%=18 : 0,9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5562720" y="3048120"/>
            <a:ext cx="2431800" cy="26492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16000" y="4869000"/>
            <a:ext cx="5257800" cy="13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Odpowied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21304"/>
                </a:solidFill>
                <a:latin typeface="Monotype Corsiva"/>
              </a:rPr>
              <a:t>Do sekcji sportowej należało 20 osó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210B-6EB9-41D6-9454-1DC4A22D91D1}" type="slidenum">
              <a:t>41</a:t>
            </a:fld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Jakim procentem I liczby jest liczba II?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                 </a:t>
            </a: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Aby obliczyć jakim ułamkiem I liczby jest liczba II należ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II licz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I licz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                </a:t>
            </a: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Aby obliczyć jakim procentem liczby I jest liczba II należ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191120" y="2590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038480" y="3657600"/>
            <a:ext cx="112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II licz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I licz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86400" y="37339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0000cc"/>
                </a:solidFill>
                <a:latin typeface="Monotype Corsiva"/>
              </a:rPr>
              <a:t>100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038480" y="4038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1814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1116000" y="3645000"/>
            <a:ext cx="266400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D0FC-B142-4CB0-AE02-5223FD6D1950}" type="slidenum">
              <a:t>42</a:t>
            </a:fld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2670120" cy="346896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4140360" y="836640"/>
            <a:ext cx="4343400" cy="2819520"/>
          </a:xfrm>
          <a:prstGeom prst="wedgeRoundRectCallout">
            <a:avLst>
              <a:gd name="adj1" fmla="val -79314"/>
              <a:gd name="adj2" fmla="val -709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Aby obliczyć jakim procen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jednej liczby jest druga liczb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należy drugą liczbę podzielić przez pierwszą i otrzymany</a:t>
            </a:r>
            <a:r>
              <a:rPr b="1" lang="pl-PL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iloraz wyrazić w procentach</a:t>
            </a:r>
            <a:r>
              <a:rPr b="1" lang="pl-PL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547280" y="3716280"/>
            <a:ext cx="604980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Zadanie 5</a:t>
            </a:r>
            <a:br>
              <a:rPr sz="2800"/>
            </a:b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 Jakim procentem liczby 45 jest liczba 9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1476360" y="4941720"/>
                <a:ext cx="66247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8397-648D-4BD5-AC80-5FCF398EE28E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Na parkingu stoi 12 samochodów, 3 czar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i 9 białych. Podaj ile </a:t>
            </a:r>
            <a:r>
              <a:rPr b="1" i="1" lang="pl-PL" sz="3200" spc="-1" strike="noStrike">
                <a:solidFill>
                  <a:srgbClr val="0033cc"/>
                </a:solidFill>
                <a:latin typeface="Monotype Corsiva"/>
              </a:rPr>
              <a:t>procent</a:t>
            </a: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 wszystk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samochodów stanowią samochody czar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979280" y="620640"/>
            <a:ext cx="19836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" descr="procentow"/>
          <p:cNvPicPr/>
          <p:nvPr/>
        </p:nvPicPr>
        <p:blipFill>
          <a:blip r:embed="rId1"/>
          <a:stretch/>
        </p:blipFill>
        <p:spPr>
          <a:xfrm>
            <a:off x="1835280" y="3860640"/>
            <a:ext cx="4824360" cy="160812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5148360" y="189000"/>
            <a:ext cx="3143160" cy="20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807E-2B17-470C-BB17-2929B10AA854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68900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 Nowak otrzymał po roku oszczędzan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200 zł odsetek od 5000 zł, jakie włożył 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roczną lokatę. Jak była oprocentowa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lokata?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77080" y="620640"/>
            <a:ext cx="21405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9900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3924360" y="3284640"/>
            <a:ext cx="4248000" cy="27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FE27-E0A1-46BE-997D-AC8AA4964FFD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9640" y="2349360"/>
            <a:ext cx="7743960" cy="1556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Lokata była oprocentowana 4% w skali rok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1116000" y="692280"/>
                <a:ext cx="684072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%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2916360" y="4292640"/>
            <a:ext cx="3143160" cy="20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F351-8DFD-42B4-B5AB-0AE90BEA7F7E}" type="slidenum">
              <a:t>46</a:t>
            </a:fld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667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Filip na 70 rzutów do kosza trafia tylk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14 razy. Jaką procentową skutecz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miał Filip?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987640" y="692280"/>
            <a:ext cx="29433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99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2268360" y="3500280"/>
            <a:ext cx="6264360" cy="241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F25B-0F13-4B0D-83D7-EA0F2D2DFE2B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332000" y="2060640"/>
            <a:ext cx="6335640" cy="1556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Filip miał 20 % skutecznoś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1476360" y="692280"/>
                <a:ext cx="67676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3132000" y="3789360"/>
            <a:ext cx="2708280" cy="271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D1D6-34DD-4FD7-8572-C499F5D73499}" type="slidenum">
              <a:t>48</a:t>
            </a:fld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07640" y="40428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Zadanie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3399"/>
                </a:solidFill>
                <a:latin typeface="Monotype Corsiva"/>
              </a:rPr>
              <a:t>Podstawowym składnikiem ciała ludzki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3399"/>
                </a:solidFill>
                <a:latin typeface="Monotype Corsiva"/>
              </a:rPr>
              <a:t>jest woda. Ciało człowieka o masie 52k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3399"/>
                </a:solidFill>
                <a:latin typeface="Monotype Corsiva"/>
              </a:rPr>
              <a:t>zawiera około 33,8 kg wody. Jaki proc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3399"/>
                </a:solidFill>
                <a:latin typeface="Monotype Corsiva"/>
              </a:rPr>
              <a:t>masy ciała ludzkiego stanowi woda ?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5867280" y="414972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CC35-5180-41B1-9BE3-F1F4D50953D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556000" y="1197000"/>
          <a:ext cx="5410080" cy="5175360"/>
        </p:xfrm>
        <a:graphic>
          <a:graphicData uri="http://schemas.openxmlformats.org/drawingml/2006/table">
            <a:tbl>
              <a:tblPr/>
              <a:tblGrid>
                <a:gridCol w="541440"/>
                <a:gridCol w="541080"/>
                <a:gridCol w="540000"/>
                <a:gridCol w="541080"/>
                <a:gridCol w="541440"/>
                <a:gridCol w="541440"/>
                <a:gridCol w="541440"/>
                <a:gridCol w="539640"/>
                <a:gridCol w="496800"/>
                <a:gridCol w="58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 flipH="1" flipV="1">
            <a:off x="1619280" y="1052640"/>
            <a:ext cx="100800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1692360" y="2707920"/>
            <a:ext cx="10792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2195640" y="5013000"/>
            <a:ext cx="122400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093080" y="2997360"/>
            <a:ext cx="107784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4500360" y="907560"/>
            <a:ext cx="431640" cy="11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56000" y="12682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56000" y="2781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59280" y="49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40360" y="2781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0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27640" y="2781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efde3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16000" y="765000"/>
            <a:ext cx="7920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1  </a:t>
            </a:r>
            <a:r>
              <a:rPr b="0" lang="pl-PL" sz="1600" spc="-1" strike="noStrike" u="sng">
                <a:solidFill>
                  <a:srgbClr val="ffffff"/>
                </a:solidFill>
                <a:uFillTx/>
                <a:latin typeface="Arial"/>
              </a:rPr>
              <a:t>--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95640" y="404640"/>
            <a:ext cx="6858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2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87280" y="2492280"/>
            <a:ext cx="7923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4  </a:t>
            </a:r>
            <a:r>
              <a:rPr b="0" lang="pl-PL" sz="1600" spc="-1" strike="noStrike" u="sng">
                <a:solidFill>
                  <a:srgbClr val="ffffff"/>
                </a:solidFill>
                <a:uFillTx/>
                <a:latin typeface="Arial"/>
              </a:rPr>
              <a:t>--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28000" y="2708280"/>
            <a:ext cx="6858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5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47640" y="4724280"/>
            <a:ext cx="6858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25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D5D2-9C1A-4202-ACDE-04424FACEBD2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340000" y="1700280"/>
            <a:ext cx="5545080" cy="2043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Times New Roman"/>
              </a:rPr>
              <a:t>Woda stanowi  65 % masy ciała ludzkieg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2344680" y="549360"/>
                <a:ext cx="47419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,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8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5724360" y="4221000"/>
            <a:ext cx="2735280" cy="206712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1258920" y="3357720"/>
            <a:ext cx="2303280" cy="303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C529-12AE-4ADD-8809-E9CC36D1D614}" type="slidenum">
              <a:t>50</a:t>
            </a:fld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cc"/>
                </a:solidFill>
                <a:latin typeface="Monotype Corsiva"/>
              </a:rPr>
              <a:t>Wykorzystanie kalkulatora do obliczeń procentowych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Zapoznaj się ze sposobami wykonywan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obliczeń procentowych przy pomo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kalkulatora, a następnie samodzieln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wykonaj obliczen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4356000" y="3357720"/>
            <a:ext cx="3975120" cy="298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A6FA-BA40-42CA-AAC6-82AD79C6EA87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zykłady obliczeń</a:t>
            </a:r>
            <a:r>
              <a:rPr b="0" i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ocentowych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blicz 20% z liczby 8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b) Liczbę 80 powiększ o 1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2665440" cy="48600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2050920" y="3573360"/>
            <a:ext cx="2737080" cy="50004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5076720" y="3573360"/>
            <a:ext cx="3672000" cy="2562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        </a:t>
            </a: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Legen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Liczba wprowadz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z klawi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Przycisk dział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Końcowy wynik wyświetlon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na kalkulator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3"/>
          <a:stretch/>
        </p:blipFill>
        <p:spPr>
          <a:xfrm>
            <a:off x="4788000" y="4221000"/>
            <a:ext cx="312480" cy="25884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4"/>
          <a:stretch/>
        </p:blipFill>
        <p:spPr>
          <a:xfrm>
            <a:off x="4788000" y="5013360"/>
            <a:ext cx="312480" cy="24444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5"/>
          <a:stretch/>
        </p:blipFill>
        <p:spPr>
          <a:xfrm>
            <a:off x="4788000" y="5589720"/>
            <a:ext cx="312480" cy="25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632D-1AC4-4552-ACBB-AEB03E5DF815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zykłady obliczeń</a:t>
            </a:r>
            <a:r>
              <a:rPr b="0" i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ocentowych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c) Liczbę 80 zmniejsz 0 1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) Jakim procentem liczby 80 jest liczba 2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484360" y="3645000"/>
            <a:ext cx="6264360" cy="2014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                            </a:t>
            </a: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Legen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Liczba wprowadzona z klawi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Przycisk dział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Końcowy wynik wyświetlony na kalkulator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3635280" y="4292640"/>
            <a:ext cx="312840" cy="25884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3635280" y="4797360"/>
            <a:ext cx="312840" cy="24444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3"/>
          <a:stretch/>
        </p:blipFill>
        <p:spPr>
          <a:xfrm>
            <a:off x="3635280" y="5300640"/>
            <a:ext cx="312840" cy="25884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4"/>
          <a:stretch/>
        </p:blipFill>
        <p:spPr>
          <a:xfrm>
            <a:off x="1116000" y="2421000"/>
            <a:ext cx="3097080" cy="56520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5"/>
          <a:stretch/>
        </p:blipFill>
        <p:spPr>
          <a:xfrm>
            <a:off x="1187280" y="3645000"/>
            <a:ext cx="3024360" cy="55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CACE-7E90-421A-8DAC-C40AD06E4B41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cc0099"/>
                </a:solidFill>
                <a:latin typeface="Monotype Corsiva"/>
              </a:rPr>
              <a:t>Oblicz, korzystając z kalkulatora.</a:t>
            </a: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           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036800" y="1989000"/>
            <a:ext cx="488484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15% z liczby 250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324080" y="2997360"/>
            <a:ext cx="57261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0,6% z liczby 30.000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610640" y="4149720"/>
            <a:ext cx="67042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liczbę 60 powiększ o 75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0158-ABCC-46AE-A7EE-5947E6284114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cc0099"/>
                </a:solidFill>
                <a:latin typeface="Monotype Corsiva"/>
              </a:rPr>
              <a:t>Oblicz, korzystając z kalkulatora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89920" y="1916280"/>
            <a:ext cx="72655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liczbę 16,8 powiększ o 75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035000" y="2997360"/>
            <a:ext cx="6718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zmniejsz o 20% liczbę 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4360" y="4149720"/>
            <a:ext cx="7837200" cy="1434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jakim procentem liczby 15 jest liczba 1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226E-960A-44CD-B99A-355EFD9FAAEC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łaszcz kosztował 280zł. Ile kosztuje ten płaszcz po 30% obniż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Książka, która kosztowała 36 zł, podrożała o 15%. Ile kosztuje teraz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Rower kosztował 540 zł. Po obniżce kosztuje 459zł. O ile procent obniżono cenę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916360" y="692280"/>
            <a:ext cx="25923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Zad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FEAE-010A-41B2-A23C-C410DB20E124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       </a:t>
            </a: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Odpowiedzi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łaszcz kosztuje 196 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siążka kosztuje 41,4 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enę roweru obniżono o 15 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1692360" y="3500280"/>
            <a:ext cx="1709640" cy="257832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2"/>
          <a:stretch/>
        </p:blipFill>
        <p:spPr>
          <a:xfrm>
            <a:off x="4572000" y="4365720"/>
            <a:ext cx="2664000" cy="164772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3"/>
          <a:stretch/>
        </p:blipFill>
        <p:spPr>
          <a:xfrm>
            <a:off x="5435640" y="1197000"/>
            <a:ext cx="2160720" cy="162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96B5-762E-4C2C-A416-FC9707ED8AED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Punkt procentowy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Pojęcia punkt procentowy używamy, gdy zmienia się jakaś wielkość określona w procentach. Na przykład, jeśli  oprocentowanie w banku wynosiło 18 % i zmniejszyło się do 16%, to mówimy, że zmalało o 2 punkty procentow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2819520" y="3276720"/>
            <a:ext cx="4273560" cy="313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6746-F420-4AD0-AA05-19332C5B6CC8}" type="slidenum">
              <a:t>58</a:t>
            </a:fld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916360" y="2276640"/>
            <a:ext cx="28080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0099"/>
                </a:solidFill>
                <a:latin typeface="Times New Roman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5508720" y="2997360"/>
            <a:ext cx="3028680" cy="30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C470-2A2D-4D70-B107-5F648512B16F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       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Procenty definicja.svg"/>
          <p:cNvPicPr/>
          <p:nvPr/>
        </p:nvPicPr>
        <p:blipFill>
          <a:blip r:embed="rId1"/>
          <a:stretch/>
        </p:blipFill>
        <p:spPr>
          <a:xfrm>
            <a:off x="1187280" y="1700280"/>
            <a:ext cx="7417080" cy="4562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033920" y="691200"/>
            <a:ext cx="75538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Na obrazku widzisz 100 kredek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F5FB-D260-4A0D-9698-023065D3D88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Jeżeli mówimy, że 23% Polaków ma niebieskie oczy, to znaczy, że przeciętnie na 100 Polaków jest 23 takich, którzy mają niebieskie ocz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żna też powiedzieć, ż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szystkich Polaków ma niebieskie oczy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140360" y="3573360"/>
            <a:ext cx="549000" cy="71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C790-68C2-4EA5-9D7B-35AAA2B4D36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cc"/>
                </a:solidFill>
                <a:latin typeface="Times New Roman"/>
              </a:rPr>
              <a:t>Zadanie 1</a:t>
            </a: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Ile procent figury zamalowano?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6" name="" descr="Procenty def zad1.svg"/>
          <p:cNvPicPr/>
          <p:nvPr/>
        </p:nvPicPr>
        <p:blipFill>
          <a:blip r:embed="rId1"/>
          <a:stretch/>
        </p:blipFill>
        <p:spPr>
          <a:xfrm>
            <a:off x="1042920" y="1916280"/>
            <a:ext cx="7272360" cy="283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36FE-79C1-4103-AF2C-7134E503B9C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Skracanie ułamków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Ułamki, które mają w mianowniku 100, możemy skracać do najprostszej posta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010280" y="2666880"/>
            <a:ext cx="1595520" cy="2497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733920" y="2895480"/>
            <a:ext cx="3143160" cy="1973520"/>
          </a:xfrm>
          <a:prstGeom prst="wedgeRoundRectCallout">
            <a:avLst>
              <a:gd name="adj1" fmla="val 67777"/>
              <a:gd name="adj2" fmla="val -36083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Zauważyłam, ż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25% to ćwiart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50% to połow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75% to trzy ćwiartki,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100% to całoś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3505320"/>
            <a:ext cx="18288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25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50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75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743200" y="4800600"/>
          <a:ext cx="2666880" cy="17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4800600"/>
                    <a:ext cx="266688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429000" y="55627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486400" y="4800600"/>
          <a:ext cx="2286000" cy="1712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86400" y="4800600"/>
                    <a:ext cx="228600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6019920" y="57913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77120" y="52578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2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981080" y="3505320"/>
                <a:ext cx="1144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905120" y="4267080"/>
                <a:ext cx="9144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905120" y="3295800"/>
                <a:ext cx="9903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905120" y="5181480"/>
                <a:ext cx="8380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8DB1-F227-4FEC-9C0F-2183DC9300D6}" type="slidenum">
              <a:t>9</a:t>
            </a:fld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9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15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40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90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15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</cp:lastModifiedBy>
  <dcterms:modified xsi:type="dcterms:W3CDTF">2013-03-14T19:03:40Z</dcterms:modified>
  <cp:revision>122</cp:revision>
  <dc:subject/>
  <dc:title>Prezentacja programu PowerPoint</dc:title>
</cp:coreProperties>
</file>