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24B-C2E9-4113-99A7-41F9E87A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604-F754-4CD1-A699-AE0CE31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630-2C32-4FA0-93BA-26864135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80C-A439-4D75-8E8A-6A5E7892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65F7-023E-4748-8489-1CF20125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F6C-C1D5-4AE7-94A3-FAC4BD8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3A07-9E3E-4975-81AF-7FF6E94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AF9-A859-4EFA-8E8B-5BF2270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BFB5-F0EB-4AE0-8149-C374857A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B88-5EED-4610-8C10-8F11A6B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018-6F2D-4A75-812D-1BA2FC1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86A-EEF8-4DF5-898E-CD5783A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6AF-8A8D-401F-84A5-2A94123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4D17-4369-4FE5-ADA0-62FE2D3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105F-5765-4EB1-96C8-035394E9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F8B4-EFDE-42E1-9B89-ABF8B8D5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2F79-0A0A-4EFE-910C-9A2E2EF7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900-7E66-4100-B954-17E5207E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6FD-C056-4F0E-90F7-A7DEA173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1BD-F412-45B2-BE3C-B83B7A32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82F-5794-404A-A6E5-A4DA74B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16E-36E7-4DFC-9088-B5D834F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8C0-E2EF-4A26-AD36-450DDEC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5EA-C51F-498B-9BEF-2F66C2AD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AF2D-5550-498A-B5A3-10677673D0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630-20F3-464D-A79A-02CADF5E0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38240" y="1981080"/>
            <a:ext cx="9420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33240" y="623880"/>
            <a:ext cx="78775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3240" y="614520"/>
            <a:ext cx="78775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1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1322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Plik:Cylinder geometry.svg"/>
          <p:cNvPicPr/>
          <p:nvPr/>
        </p:nvPicPr>
        <p:blipFill>
          <a:blip r:embed="rId2"/>
          <a:stretch/>
        </p:blipFill>
        <p:spPr>
          <a:xfrm>
            <a:off x="7010280" y="457200"/>
            <a:ext cx="158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Ż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http://www.megamatma.pl/res/upload/RYSUNKI_DOBRE/gimnazjum/plik_12_6/1.gif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http://www.matematykam.pl/images/133a.jpg"/>
          <p:cNvPicPr/>
          <p:nvPr/>
        </p:nvPicPr>
        <p:blipFill>
          <a:blip r:embed="rId1"/>
          <a:stretch/>
        </p:blipFill>
        <p:spPr>
          <a:xfrm>
            <a:off x="0" y="609480"/>
            <a:ext cx="899172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47520"/>
            <a:ext cx="46864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8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republika.pl"/>
          <p:cNvPicPr/>
          <p:nvPr/>
        </p:nvPicPr>
        <p:blipFill>
          <a:blip r:embed="rId1"/>
          <a:stretch/>
        </p:blipFill>
        <p:spPr>
          <a:xfrm>
            <a:off x="1663560" y="228600"/>
            <a:ext cx="530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241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http://www.pomocedlaszkol.pl/_var/gfx/32d3bd476831fcdac249bf2533af96e7.jpg"/>
          <p:cNvPicPr/>
          <p:nvPr/>
        </p:nvPicPr>
        <p:blipFill>
          <a:blip r:embed="rId1"/>
          <a:stretch/>
        </p:blipFill>
        <p:spPr>
          <a:xfrm>
            <a:off x="152280" y="4572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60400"/>
            <a:ext cx="6248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http://www.matmana6.pl/zdjecia/szkola_srednia/geometria_w_przestrzeni_stereometria/graniastoslup_12.png"/>
          <p:cNvPicPr/>
          <p:nvPr/>
        </p:nvPicPr>
        <p:blipFill>
          <a:blip r:embed="rId1"/>
          <a:stretch/>
        </p:blipFill>
        <p:spPr>
          <a:xfrm>
            <a:off x="228600" y="152280"/>
            <a:ext cx="647712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http://www.matmana6.pl/zdjecia/szkola_srednia/geometria_w_przestrzeni_stereometria/graniastoslup_14.png"/>
          <p:cNvPicPr/>
          <p:nvPr/>
        </p:nvPicPr>
        <p:blipFill>
          <a:blip r:embed="rId1"/>
          <a:stretch/>
        </p:blipFill>
        <p:spPr>
          <a:xfrm>
            <a:off x="304920" y="228600"/>
            <a:ext cx="5018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19480" y="804960"/>
            <a:ext cx="450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http://www.matmana6.pl/zdjecia/szkola_srednia/geometria_w_przestrzeni_stereometria/graniastoslup_17.png"/>
          <p:cNvPicPr/>
          <p:nvPr/>
        </p:nvPicPr>
        <p:blipFill>
          <a:blip r:embed="rId1"/>
          <a:stretch/>
        </p:blipFill>
        <p:spPr>
          <a:xfrm>
            <a:off x="304920" y="152280"/>
            <a:ext cx="597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61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http://static.scholaris.pl/main-file/108/figury-przystajace-i-podobne_64778.jpg"/>
          <p:cNvPicPr/>
          <p:nvPr/>
        </p:nvPicPr>
        <p:blipFill>
          <a:blip r:embed="rId1"/>
          <a:stretch/>
        </p:blipFill>
        <p:spPr>
          <a:xfrm>
            <a:off x="2057400" y="0"/>
            <a:ext cx="49514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27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43320" y="438120"/>
            <a:ext cx="42573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3152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686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719280"/>
            <a:ext cx="46958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14480" y="804960"/>
            <a:ext cx="711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956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6674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8:58:56Z</dcterms:created>
  <dc:creator>Matematyka</dc:creator>
  <dc:description/>
  <dc:language>en-US</dc:language>
  <cp:lastModifiedBy>Matematyka</cp:lastModifiedBy>
  <dcterms:modified xsi:type="dcterms:W3CDTF">2014-03-02T20:4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