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27F-783B-4269-B172-A0F5B709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3AA-D10C-4711-8A0F-A896C15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9CA-F6B1-4D57-847F-6C2AA6FF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CDD-27E7-4BCE-8DC2-B6AC2FBF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177-2E3B-4733-9DD2-04D6CB24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AB8E-2CE9-4A28-BE14-FCF86765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E47E-6247-45F8-9484-E9C9BA67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8185-4EDA-425D-89C6-AE9E71FC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77E4-4F03-4178-8C1E-65528EBE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561C-0545-44A0-B6B8-0A7B3FA3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C2EC-838A-4C4E-975A-46D9F7D7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59A-65EB-4C5F-BCD6-F73A5C3B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527-1C6E-4B16-A2FB-733A4959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E224-2408-4020-B326-B9E4EBD4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E502-9D13-44FA-8781-399D9B41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3697-F8A0-4DB3-8E8F-2FC5B73B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56E5-09F0-4190-A925-DC4DD0A5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253-05D9-4EFE-8B13-BD41A3B8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E86-8536-4546-B664-0AABDBA2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22F-3740-4320-961C-FA8848C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FB8-EA3D-4A58-AFC9-29F09C2C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6C7-5C22-421D-A86B-06146A1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DAC-FDA9-44DE-8695-8A112B04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567-098E-4F35-BAD9-0B4C2B3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6177-F17E-4788-9B08-E8073B450D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18B5-07D4-4C9E-96C8-81FCD2FB88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" TargetMode="External"/><Relationship Id="rId2" Type="http://schemas.openxmlformats.org/officeDocument/2006/relationships/hyperlink" Target="http://nauczyciel.pl/" TargetMode="External"/><Relationship Id="rId3" Type="http://schemas.openxmlformats.org/officeDocument/2006/relationships/hyperlink" Target="http://nauczyciel.pl/" TargetMode="External"/><Relationship Id="rId4" Type="http://schemas.openxmlformats.org/officeDocument/2006/relationships/hyperlink" Target="http://nauczyciel.pl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2781360"/>
            <a:ext cx="820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RÓWNYWAN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LICZB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YMIERNYCH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Z dwóch ułamków o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przeciwnych znakach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większy jest ten, który jest dodatni.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u&amp;lstrok;amki na osi liczbowej"/>
          <p:cNvPicPr/>
          <p:nvPr/>
        </p:nvPicPr>
        <p:blipFill>
          <a:blip r:embed="rId1"/>
          <a:stretch/>
        </p:blipFill>
        <p:spPr>
          <a:xfrm>
            <a:off x="1187280" y="3213000"/>
            <a:ext cx="7056720" cy="79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51640" y="4221000"/>
            <a:ext cx="1692360" cy="26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dwa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ujem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, ten jest większy, który ma mniej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34960" y="2674800"/>
            <a:ext cx="4000320" cy="1714320"/>
            <a:chOff x="2334960" y="2674800"/>
            <a:chExt cx="4000320" cy="1714320"/>
          </a:xfrm>
        </p:grpSpPr>
        <p:sp>
          <p:nvSpPr>
            <p:cNvPr id="165" name=""/>
            <p:cNvSpPr/>
            <p:nvPr/>
          </p:nvSpPr>
          <p:spPr>
            <a:xfrm>
              <a:off x="3249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4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21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34960" y="3589200"/>
              <a:ext cx="4000320" cy="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6640" y="3817800"/>
              <a:ext cx="52164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6640" y="4160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2440" y="2674800"/>
              <a:ext cx="4881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78240" y="3931920"/>
              <a:ext cx="34272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2440" y="3017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2000" y="3860640"/>
                <a:ext cx="295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780000" y="2781360"/>
                <a:ext cx="295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516720" y="2133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516720" y="3141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451640" y="2133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451640" y="3141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850080" y="328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0080" y="227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2396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744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12880" y="2276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1288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59280" y="2708280"/>
                <a:ext cx="331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184640" y="3860640"/>
                <a:ext cx="44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405560" y="4149720"/>
            <a:ext cx="173844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ziesięt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je porównywać od cyfr położonych z lewej stron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03280" y="4797000"/>
            <a:ext cx="7313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miętaj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dy liczba cyfr po przecinku w porównywanych liczbach nie jest taka sama, to na końcu należy dopisać tyle zer, aby w każdej liczbie było tyle samo cyf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56284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 1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fry jedności w obu liczbach są jednakowe, więc porównujemy cyfry części dziesiąt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ieważ 3 &gt; 2, zatem większa jest liczba 10,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o&amp;sacute; liczbowa i liczby na osi "/>
          <p:cNvPicPr/>
          <p:nvPr/>
        </p:nvPicPr>
        <p:blipFill>
          <a:blip r:embed="rId1"/>
          <a:stretch/>
        </p:blipFill>
        <p:spPr>
          <a:xfrm>
            <a:off x="1187280" y="1484280"/>
            <a:ext cx="777744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dległość liczb na osi liczbowej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yjmujemy, że na osi liczbowej odcinek łączący licz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długoś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nazywamy go odcinkiem jednostkowy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621160" y="4010760"/>
            <a:ext cx="3864240" cy="571680"/>
            <a:chOff x="2621160" y="4010760"/>
            <a:chExt cx="3864240" cy="571680"/>
          </a:xfrm>
        </p:grpSpPr>
        <p:sp>
          <p:nvSpPr>
            <p:cNvPr id="206" name=""/>
            <p:cNvSpPr/>
            <p:nvPr/>
          </p:nvSpPr>
          <p:spPr>
            <a:xfrm>
              <a:off x="2621160" y="4092480"/>
              <a:ext cx="38642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4010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663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114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87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38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52520" y="4174200"/>
              <a:ext cx="47484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4920" y="4174200"/>
              <a:ext cx="42912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8720" y="4092480"/>
              <a:ext cx="572400" cy="3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03280" y="2060280"/>
            <a:ext cx="73137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szczą się 4 odcinki jednostkowe, więc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69636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6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1,5 odcinka jednostkowego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http://lukas94.files.wordpress.com/2011/03/oc59b4.png"/>
          <p:cNvPicPr/>
          <p:nvPr/>
        </p:nvPicPr>
        <p:blipFill>
          <a:blip r:embed="rId1"/>
          <a:stretch/>
        </p:blipFill>
        <p:spPr>
          <a:xfrm>
            <a:off x="2050920" y="4076640"/>
            <a:ext cx="5688000" cy="12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8 odcinków jednostkowych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http://lukas94.files.wordpress.com/2011/03/oc59b5.png"/>
          <p:cNvPicPr/>
          <p:nvPr/>
        </p:nvPicPr>
        <p:blipFill>
          <a:blip r:embed="rId1"/>
          <a:stretch/>
        </p:blipFill>
        <p:spPr>
          <a:xfrm>
            <a:off x="1403280" y="3789360"/>
            <a:ext cx="626436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84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 zauważyłeś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by obliczyć odległość między dwiema liczbami na osi liczbowej, wystarczy od większej z tych liczb odjąć liczbę mniejszą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5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a jest odległość na osi liczbowej             między liczbami a = −9,1 i b = −3,7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9214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−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,1 &lt; −3,7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 − 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−3,7 − (−9,1) = −3,7 + 9,1 =  5,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dp. Odległość między liczbami a i b wynosi 5,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3357720"/>
            <a:ext cx="705636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Od większej z liczb odejmujemy liczbę mniejsz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Zbiory wszystkich liczb spełniających daną nierówność na osi liczbowej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7182000" cy="355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4508640"/>
            <a:ext cx="7454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latego musisz zapamiętać zasady porównywania ułamków.</a:t>
            </a:r>
            <a:br>
              <a:rPr sz="28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Porównywanie u&amp;lstrok;amków."/>
          <p:cNvPicPr/>
          <p:nvPr/>
        </p:nvPicPr>
        <p:blipFill>
          <a:blip r:embed="rId1"/>
          <a:stretch/>
        </p:blipFill>
        <p:spPr>
          <a:xfrm>
            <a:off x="1201680" y="1052640"/>
            <a:ext cx="7942320" cy="1690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orównywanie u&amp;lstrok;amków. Metoda ta zawodzi, gdy masz oceni&amp;cacute; np. u&amp;lstrok;amki 3/11 i 3/13 (jak to narysowa&amp;cacute;?)"/>
          <p:cNvPicPr/>
          <p:nvPr/>
        </p:nvPicPr>
        <p:blipFill>
          <a:blip r:embed="rId2"/>
          <a:stretch/>
        </p:blipFill>
        <p:spPr>
          <a:xfrm>
            <a:off x="1116000" y="3068640"/>
            <a:ext cx="8028000" cy="58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360" y="33336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Widząc rysunki można ocenić, który ułamek jest większy, a który mniejsz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88000" y="4797360"/>
            <a:ext cx="1260360" cy="12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12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zykła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628280"/>
            <a:ext cx="7313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 &lt; x ≤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≤ 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7667640" cy="690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77040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940360" y="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isz nierówność, jaką spełniają wszystk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zby z zaznaczonego zbior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7632720" cy="2179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800360" cy="1350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627280" y="4005360"/>
                <a:ext cx="28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5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4581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znacz na osi liczbowej wszystkie liczby, które spełniają podane nierównośc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gt; 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≤ -1,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≤ x ≤ 2,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651640" y="3357720"/>
            <a:ext cx="2628720" cy="174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41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teratura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matematyka.opracowania.pl</a:t>
            </a: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nauczyciel.pl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 powinna zawierać lub jak ma wyglądać oś liczbowa?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176720" cy="3686040"/>
          </a:xfrm>
          <a:prstGeom prst="rect">
            <a:avLst/>
          </a:prstGeom>
          <a:ln w="0">
            <a:noFill/>
          </a:ln>
        </p:spPr>
      </p:pic>
      <p:pic>
        <p:nvPicPr>
          <p:cNvPr id="98" name="Obraz 33" descr="http://www.yan-hurt.pl/DATA/528l.jpg"/>
          <p:cNvPicPr/>
          <p:nvPr/>
        </p:nvPicPr>
        <p:blipFill>
          <a:blip r:embed="rId2"/>
          <a:stretch/>
        </p:blipFill>
        <p:spPr>
          <a:xfrm>
            <a:off x="1187280" y="2060640"/>
            <a:ext cx="3889440" cy="35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Osią liczbową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azywamy prostą, na której obrano punkt 0 i ustalono zwrot oraz jednostkę długości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punkt zerowy na osi, pó&amp;lstrok;o&amp;sacute; dodatnia i ujemna"/>
          <p:cNvPicPr/>
          <p:nvPr/>
        </p:nvPicPr>
        <p:blipFill>
          <a:blip r:embed="rId1"/>
          <a:stretch/>
        </p:blipFill>
        <p:spPr>
          <a:xfrm>
            <a:off x="1692360" y="3357720"/>
            <a:ext cx="5895720" cy="10094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34" descr="dggfbfgb.jpeg"/>
          <p:cNvPicPr/>
          <p:nvPr/>
        </p:nvPicPr>
        <p:blipFill>
          <a:blip r:embed="rId2"/>
          <a:stretch/>
        </p:blipFill>
        <p:spPr>
          <a:xfrm>
            <a:off x="468360" y="3933720"/>
            <a:ext cx="8116920" cy="194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4005360"/>
            <a:ext cx="7905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a podzieliła ciasto na 16 równych kawałków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oś zjadł 3, a Ela 5 kawałków. Nie masz chyb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łopotu z oceną, kto zjadł więcej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z przełóżmy to na „język ułamków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Porównywanie u&amp;lstrok;amków. Anto&amp;sacute; zjad&amp;lstrok; 3/16 ciasta. Ela zjad&amp;lstrok;a 5/16 ciasta. 3/16 jest mniejsze od 5/16, poniewa&amp;zdot; 3 mniejsze od 5."/>
          <p:cNvPicPr/>
          <p:nvPr/>
        </p:nvPicPr>
        <p:blipFill>
          <a:blip r:embed="rId1"/>
          <a:stretch/>
        </p:blipFill>
        <p:spPr>
          <a:xfrm>
            <a:off x="826920" y="3716280"/>
            <a:ext cx="7632720" cy="247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460836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80000" y="234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80000" y="522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580000" y="429264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80000" y="342900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2667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32000" y="515772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429264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342900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85160" y="2060640"/>
            <a:ext cx="2058840" cy="32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ką nagrodę w Toto-Lotku dzieli się rów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iędzy graczy, którzy skreślili poprawnie szóstkę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byś Ty był wygrywającym, to z pewności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lałbyś, aby nagroda była dzielona pomiędz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niejszą liczbę graczy (wtedy wygrana była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Porównywanie u&amp;lstrok;amków. Nagrod&amp;eogon; dziel&amp;aogon; pomi&amp;eogon;dzy 2 graczy. Nagrod&amp;eogon; dziel&amp;aogon; pomi&amp;eogon;dzy 3 graczy. 1/2 jest wi&amp;eogon;ksza od 1/3, poniewa&amp;zdot; 2 mniejsze od 3."/>
          <p:cNvPicPr/>
          <p:nvPr/>
        </p:nvPicPr>
        <p:blipFill>
          <a:blip r:embed="rId1"/>
          <a:stretch/>
        </p:blipFill>
        <p:spPr>
          <a:xfrm>
            <a:off x="755640" y="4581360"/>
            <a:ext cx="8101080" cy="16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472360" cy="34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32680" y="2133720"/>
            <a:ext cx="2011320" cy="31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odatni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8605800" cy="1509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Porównywanie ułamków zwykłych - przykład"/>
          <p:cNvPicPr/>
          <p:nvPr/>
        </p:nvPicPr>
        <p:blipFill>
          <a:blip r:embed="rId2"/>
          <a:stretch/>
        </p:blipFill>
        <p:spPr>
          <a:xfrm>
            <a:off x="6877080" y="4437000"/>
            <a:ext cx="21445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4:12:45Z</dcterms:created>
  <dc:creator>Matematyka</dc:creator>
  <dc:description/>
  <dc:language>en-US</dc:language>
  <cp:lastModifiedBy>x</cp:lastModifiedBy>
  <dcterms:modified xsi:type="dcterms:W3CDTF">2013-04-22T15:19:08Z</dcterms:modified>
  <cp:revision>88</cp:revision>
  <dc:subject/>
  <dc:title>Widząc rysunki można ocenić, który ułamek jest większy, a który mniejszy.   Dlatego musisz zapamiętać zasady porównywania ułamków. Jeżeli ułamki mają takie same mianowniki, to ten jest większy, który ma większy licznik.</dc:title>
</cp:coreProperties>
</file>