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5.png" ContentType="image/png"/>
  <Override PartName="/ppt/media/image1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applause.wav" ContentType="audio/x-wav"/>
  <Override PartName="/ppt/media/image15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4.wmf" ContentType="image/x-wmf"/>
  <Override PartName="/ppt/media/image22.wmf" ContentType="image/x-wmf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  <p:custShowLst>
    <p:custShow name="Pokaz niestandardowy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417A-2261-4924-8167-85C633897C6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501-1F86-42A3-9AF5-A0DEBC83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F8A-E8EB-4272-A9BB-ACD5B3B5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DEF-37B1-4880-A280-D75700F1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9E8-571F-4614-A2BE-9A59CCBA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6BE9-2AAB-4615-898F-EC19FF20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05D4-7F85-4F50-954E-458F662E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5402-33B3-4FFB-B7E0-3C42D34F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1F5D-3E0D-41F2-9776-1CD3A775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2129-270B-4FB4-8550-E4C1400C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8F90-AF9D-452F-8DFA-2E700515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15CF-18D2-4780-B597-32CB8C66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073-F920-4692-9025-66537A19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2D74-E984-4A1A-B1DA-41050B02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EA30-4B45-4989-8CE8-487DCDBE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7C61-1CF0-4712-B9E4-720A7E4F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ECF5-3363-4AC3-B04F-100EA76D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F5C5-48A8-4BE5-B80F-29324667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0F6-9D65-4EA3-9A1B-FF11FCEE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0C1-9FDC-4AF8-AF38-AF75A7D4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838-2CB1-4223-B568-9F43F077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A98-F838-43C8-AF32-9A1B6125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006-DC9F-4644-973D-1F8A5CFE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831-F89E-46C3-8649-531E1CA5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A24-60BE-4EC8-A3C4-46AAF455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3504-2B83-4CA1-B7CC-8D863750A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0EAC-EBDF-44CD-9114-39CD9DED7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WIERDZENIE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ITAGORASA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pracowanie: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gr Emilia Pawłowsk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5105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457200"/>
            <a:ext cx="4267080" cy="4648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 trójkąci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stokątnym sum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ól kwadratów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ych 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yprostokątny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est równa polu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wadra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ego n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eciwprostokątnej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98108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2924280"/>
            <a:ext cx="13716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1905120"/>
            <a:ext cx="1371600" cy="99036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74800">
            <a:off x="6495840" y="847440"/>
            <a:ext cx="1695240" cy="17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widłowość tę odkrył grecki matematyk Pitagoras, żyjący w latach ok. 572-497 p.n.e. i dlatego nazywamy ją twierdzeniem Pitagora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zasadniając własność PITAGORASA wykorzystamy układankę starą jak świ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zygotowałam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8 jednakowych trójkątów prostokątn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bokach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3 kwadraty o bokach odpowiednio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063880"/>
          <a:ext cx="3809880" cy="394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63880"/>
                    <a:ext cx="38098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34120" y="838080"/>
          <a:ext cx="529416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838080"/>
                    <a:ext cx="5294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H="1" flipV="1">
            <a:off x="608400" y="6087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04200" y="41148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1142640" y="3042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3213000"/>
            <a:ext cx="2592360" cy="302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 rot="5400000">
            <a:off x="1294200" y="44190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228600"/>
            <a:ext cx="2158920" cy="240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219320"/>
            <a:ext cx="9619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5400000">
            <a:off x="913320" y="3656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976600">
            <a:off x="-228600" y="358092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7480800">
            <a:off x="1065960" y="28191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-360" y="1370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Z takich elementów ułożę teraz dwie figury o identycznym polu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62360" y="3808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pierwszym rysunku widać cztery jednakowe trójkąty prostokątne o bokach a,b,c ułożone w taki sposób, że wewnątrz powstał kwadrat o boku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-838080" y="762120"/>
          <a:ext cx="7124760" cy="52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762120"/>
                    <a:ext cx="71247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-838080" y="0"/>
          <a:ext cx="5753160" cy="43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57531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28840" y="38858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drugim rysunku te same trójkąty ułożone zostały inaczej, tak że pojawiły się dwa mniejsze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19720" y="685800"/>
          <a:ext cx="4419360" cy="339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685800"/>
                    <a:ext cx="4419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0" y="533520"/>
          <a:ext cx="4343400" cy="354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4340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stały w ten sposób dwie figury o identycznym pol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a przedstawionych figur nie ulegną zmianie, jeżeli będziemy zabierać identyczne kawałk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14800" y="0"/>
          <a:ext cx="5029200" cy="29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0"/>
                    <a:ext cx="502920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267080" y="3429000"/>
          <a:ext cx="4243680" cy="3168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429000"/>
                    <a:ext cx="42436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-838080" y="0"/>
          <a:ext cx="6819840" cy="46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68198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505320" y="2924280"/>
          <a:ext cx="5295960" cy="378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924280"/>
                    <a:ext cx="529596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ÓJKĄTY.....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ÓJKĄ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to płaska figura geometryczna złożona z trzech boków i trzech kątów. Suma miar kątów wewnętrznych każdego trójkąta wynosi 18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14440" y="4114800"/>
            <a:ext cx="1066680" cy="1828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5943600"/>
            <a:ext cx="32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114800"/>
            <a:ext cx="221004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-609480" y="0"/>
          <a:ext cx="5257800" cy="39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0"/>
                    <a:ext cx="525780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343400" y="533520"/>
          <a:ext cx="5791320" cy="318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533520"/>
                    <a:ext cx="5791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 dwa mniejsze kwadraty mają takie sam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e, jak kwadrat na rysunku po prawe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pisz wyrażenie, opisujące pola kwadratów na rysunk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-757080" y="2565360"/>
          <a:ext cx="497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565360"/>
                    <a:ext cx="497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91120" y="1752480"/>
          <a:ext cx="5943600" cy="3189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752480"/>
                    <a:ext cx="594360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676520"/>
          <a:ext cx="7772400" cy="41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+b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=c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endParaRPr b="0" lang="en-US" sz="15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atem twierdzeni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         </a:t>
            </a: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ostało                   udowodnione!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Times New Roman"/>
              </a:rPr>
              <a:t>Stosując twierdzenie Pitagorasa, możemy obliczyć długość jednego z boków trójkąta prostokątnego, gdy znane są długości dwóch pozostałych boków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KONIEC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dzaje trójkątów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828800"/>
          <a:ext cx="8229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jmijmy się trójkątem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stokątny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t to taki trójkąt, który posiada jeden kąt prosty, czyli równy 9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990720"/>
            <a:ext cx="2895480" cy="4572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OKI TAKIEGO TRÓJKĄTA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- przeciw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43040" y="24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40680" y="2517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76920" y="1447920"/>
          <a:ext cx="38084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44792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77120" y="762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75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75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75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75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75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ż ponad 2500 lat temu zauważono, że jeśli kąt między danymi bokami jest prosty, to trzeci bok trójkąta nie tylko można skonstruować, ale także łatwo obliczyć jego długoś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981080"/>
          <a:ext cx="39243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92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atrzcie na rysunek obo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bokach trójkąta prostokątnego zbudowano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ównam sumę pól dwóch mniejszych kwadratów z polem większego kwadrat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57880" y="364500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4443120" cy="56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25351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2535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76720" y="2590920"/>
          <a:ext cx="2819160" cy="259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590920"/>
                    <a:ext cx="28191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353280" y="3200400"/>
          <a:ext cx="2790720" cy="2743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3280" y="3200400"/>
                    <a:ext cx="2790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ępującą własność trójkątów prostokątnych odkryli już starożytni matematy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zy wiesz jaka to własność trójkątów prostokątnych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2438280"/>
          <a:ext cx="7772400" cy="41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7724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14:37:35Z</dcterms:created>
  <dc:creator>pol</dc:creator>
  <dc:description/>
  <dc:language>en-US</dc:language>
  <cp:lastModifiedBy>x</cp:lastModifiedBy>
  <dcterms:modified xsi:type="dcterms:W3CDTF">2013-03-12T15:25:09Z</dcterms:modified>
  <cp:revision>141</cp:revision>
  <dc:subject/>
  <dc:title>TWIERDZENIE PITAGORASA</dc:title>
</cp:coreProperties>
</file>