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7.gif" ContentType="image/gif"/>
  <Override PartName="/ppt/media/image28.png" ContentType="image/png"/>
  <Override PartName="/ppt/media/image5.gif" ContentType="image/gif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jpeg" ContentType="image/jpe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.jpeg" ContentType="image/jpeg"/>
  <Override PartName="/ppt/media/image36.jpeg" ContentType="image/jpeg"/>
  <Override PartName="/ppt/media/image3.gif" ContentType="image/gif"/>
  <Override PartName="/ppt/media/image30.png" ContentType="image/png"/>
  <Override PartName="/ppt/media/image37.wmf" ContentType="image/x-wmf"/>
  <Override PartName="/ppt/media/image38.wmf" ContentType="image/x-wmf"/>
  <Override PartName="/ppt/media/image40.wmf" ContentType="image/x-wmf"/>
  <Override PartName="/ppt/media/image39.png" ContentType="image/png"/>
  <Override PartName="/ppt/media/image41.png" ContentType="image/png"/>
  <Override PartName="/ppt/media/image43.png" ContentType="image/png"/>
  <Override PartName="/ppt/media/image32.png" ContentType="image/png"/>
  <Override PartName="/ppt/media/image4.gif" ContentType="image/gif"/>
  <Override PartName="/ppt/media/image44.png" ContentType="image/png"/>
  <Override PartName="/ppt/media/image33.png" ContentType="image/png"/>
  <Override PartName="/ppt/media/image45.png" ContentType="image/png"/>
  <Override PartName="/ppt/media/image27.jpeg" ContentType="image/jpeg"/>
  <Override PartName="/ppt/media/image34.png" ContentType="image/png"/>
  <Override PartName="/ppt/media/image6.gif" ContentType="image/gif"/>
  <Override PartName="/ppt/media/image46.png" ContentType="image/png"/>
  <Override PartName="/ppt/media/image11.png" ContentType="image/png"/>
  <Override PartName="/ppt/media/image48.png" ContentType="image/png"/>
  <Override PartName="/ppt/media/image35.jpeg" ContentType="image/jpeg"/>
  <Override PartName="/ppt/media/image10.png" ContentType="image/png"/>
  <Override PartName="/ppt/media/image47.png" ContentType="image/png"/>
  <Override PartName="/ppt/media/image12.png" ContentType="image/png"/>
  <Override PartName="/ppt/media/image9.gif" ContentType="image/gif"/>
  <Override PartName="/ppt/media/image13.gif" ContentType="image/gif"/>
  <Override PartName="/ppt/media/image16.png" ContentType="image/png"/>
  <Override PartName="/ppt/media/image8.gif" ContentType="image/gif"/>
  <Override PartName="/ppt/media/image20.wmf" ContentType="image/x-wmf"/>
  <Override PartName="/ppt/media/image26.jpeg" ContentType="image/jpeg"/>
  <Override PartName="/ppt/media/image4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ED94-427F-4A4C-9D79-B1B4641B3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B378-63A0-4248-A26F-FB03397F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5DFD-289F-49E8-90D7-3E40EED1F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D8F4-F1C8-4AC8-8880-4645BBDA1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2999-68CB-45AB-A004-1079AFE04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E419E-E678-4B04-AE48-7899483D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3F42-2B30-4010-8CF2-B7ED88EB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A59C-A0B6-476A-A52D-313C50D2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7A063-3146-4F64-B861-9C9F3804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80BB-E929-4013-A345-4044C107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1A9E1-B5CB-4983-9491-E8CF0F00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B096-69C5-421C-A45D-0E06CD79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12CC-2461-4DF7-B92F-AF19F494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A42C4-4B1F-493C-8302-BD5AD2CB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3AEE-B65A-4943-8640-CDC9B4E3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B1037-7611-438C-950D-12A959BBD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6DC9-16F9-482E-A4E2-F5059241D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39DA-AB73-4946-8FD4-09130E5D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EDF6-B083-4CA6-A848-4856BAE7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7FC9-6261-4CFB-8526-23BE81CB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30D4-CDC6-4EBC-ADA6-5A1FAB90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DED0-9298-4E13-BDE4-829C73D9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404A-DEC1-4CF6-B671-CFA1332A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0FD0-1474-4BA8-B77F-C7193D96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E10A-4DC0-40C0-811D-84055A153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7D87-4B62-46F9-957D-6C1AA94EC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hyperlink" Target="http://www.zadania.info/29100?gclid=CIz8o_SMi7sCFYlF3godzjMAkg" TargetMode="External"/><Relationship Id="rId2" Type="http://schemas.openxmlformats.org/officeDocument/2006/relationships/hyperlink" Target="http://www.matmana6.pl/tablice_matematyczne/studia/funkcje_jednej_zmiennej_rzeczywistej/127-definicja_i_wlasnosci_funkcji" TargetMode="External"/><Relationship Id="rId3" Type="http://schemas.openxmlformats.org/officeDocument/2006/relationships/hyperlink" Target="http://www.zs5.lublin.pl/files/mjaworska/odczytywanie_wasnosci_funkcji_z_wykresow.pdf" TargetMode="External"/><Relationship Id="rId4" Type="http://schemas.openxmlformats.org/officeDocument/2006/relationships/hyperlink" Target="http://www.megamatma.pl/uczniowie/gimnazjum/wykresy-funkcji/pojecie-funkcji-wykres-funkcji" TargetMode="External"/><Relationship Id="rId5" Type="http://schemas.openxmlformats.org/officeDocument/2006/relationships/hyperlink" Target="http://www.megamatma.pl/uczniowie/gimnazjum/wykresy-funkcji/pojecie-funkcji-wykres-funkcji" TargetMode="External"/><Relationship Id="rId6" Type="http://schemas.openxmlformats.org/officeDocument/2006/relationships/hyperlink" Target="http://www.megamatma.pl/uczniowie/gimnazjum/wykresy-funkcji/pojecie-funkcji-wykres-funkcji" TargetMode="External"/><Relationship Id="rId7" Type="http://schemas.openxmlformats.org/officeDocument/2006/relationships/hyperlink" Target="http://www.megamatma.pl/uczniowie/gimnazjum/wykresy-funkcji/pojecie-funkcji-wykres-funkcji" TargetMode="External"/><Relationship Id="rId8" Type="http://schemas.openxmlformats.org/officeDocument/2006/relationships/hyperlink" Target="http://www.matematykam.pl/funkcja_liniowa_-_wlasnosci.html" TargetMode="External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19320" y="129528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689040" cy="1001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581280" y="533520"/>
            <a:ext cx="917640" cy="1047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572000" y="533520"/>
            <a:ext cx="758880" cy="982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5562720" y="533520"/>
            <a:ext cx="747720" cy="971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6324480" y="533520"/>
            <a:ext cx="712800" cy="993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7238880" y="457200"/>
            <a:ext cx="648000" cy="979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1828800" y="609480"/>
            <a:ext cx="655560" cy="838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1476360" y="1916280"/>
            <a:ext cx="6912000" cy="3776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771640" y="5950080"/>
            <a:ext cx="4010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racowała: mgr Emilia Pawłows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Sposoby przedstawiania funkcji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362320" y="17524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opis słow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gra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tabe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4" action="ppaction://hlinksldjump"/>
              </a:rPr>
              <a:t>wzó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5" action="ppaction://hlinksldjump"/>
              </a:rPr>
              <a:t>wyk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Opis słown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47920" y="2057400"/>
            <a:ext cx="6172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,Każdej liczbie naturalnej nieparzystej jednocyfrowej przyporządkowujemy liczbę  o 5 mniejszą.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6" dur="75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21304"/>
                </a:solidFill>
                <a:latin typeface="Times New Roman"/>
              </a:rPr>
              <a:t>Graf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71600" y="1905120"/>
            <a:ext cx="2590920" cy="335268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1828800"/>
            <a:ext cx="2590560" cy="3352680"/>
          </a:xfrm>
          <a:prstGeom prst="ellipse">
            <a:avLst/>
          </a:prstGeom>
          <a:solidFill>
            <a:srgbClr val="ffcccc"/>
          </a:solidFill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09680" y="2286000"/>
            <a:ext cx="838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133720" y="2057400"/>
            <a:ext cx="13716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1905120"/>
            <a:ext cx="16765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514600" y="2209320"/>
            <a:ext cx="4191120" cy="228600"/>
          </a:xfrm>
          <a:prstGeom prst="line">
            <a:avLst/>
          </a:prstGeom>
          <a:ln w="38160">
            <a:solidFill>
              <a:srgbClr val="cc0000"/>
            </a:solidFill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352680" y="2895480"/>
            <a:ext cx="2819520" cy="152640"/>
          </a:xfrm>
          <a:prstGeom prst="line">
            <a:avLst/>
          </a:prstGeom>
          <a:ln w="38160">
            <a:solidFill>
              <a:srgbClr val="cc0000"/>
            </a:solidFill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514600" y="3504960"/>
            <a:ext cx="4343400" cy="152280"/>
          </a:xfrm>
          <a:prstGeom prst="line">
            <a:avLst/>
          </a:prstGeom>
          <a:ln w="38160">
            <a:solidFill>
              <a:srgbClr val="cc0000"/>
            </a:solidFill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352680" y="4114440"/>
            <a:ext cx="2743200" cy="152280"/>
          </a:xfrm>
          <a:prstGeom prst="line">
            <a:avLst/>
          </a:prstGeom>
          <a:ln w="38160">
            <a:solidFill>
              <a:srgbClr val="cc0000"/>
            </a:solidFill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438280" y="4800240"/>
            <a:ext cx="4419720" cy="228600"/>
          </a:xfrm>
          <a:prstGeom prst="line">
            <a:avLst/>
          </a:prstGeom>
          <a:ln w="38160">
            <a:solidFill>
              <a:srgbClr val="cc0000"/>
            </a:solidFill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Tabel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11480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34290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943600" y="34290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0" y="34290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14800" y="34290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29200" y="34290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38280" y="35812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      1      3        5       7      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38280" y="419112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      -4     -2       0        2     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21304"/>
                </a:solidFill>
                <a:latin typeface="Times New Roman"/>
              </a:rPr>
              <a:t>Wzór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14600" y="1981080"/>
            <a:ext cx="4648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y = x - 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95280" y="31240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u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14600" y="3581280"/>
            <a:ext cx="449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f(x) = x - 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21304"/>
                </a:solidFill>
                <a:latin typeface="Times New Roman"/>
              </a:rPr>
              <a:t>Wykres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38080" y="350532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971800" y="1752480"/>
            <a:ext cx="0" cy="381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3526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339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148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769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578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199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008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95480" y="3124080"/>
            <a:ext cx="152640" cy="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95480" y="2743200"/>
            <a:ext cx="152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95480" y="2362320"/>
            <a:ext cx="152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95480" y="1981080"/>
            <a:ext cx="152640" cy="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3886200"/>
            <a:ext cx="152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95480" y="4267080"/>
            <a:ext cx="152640" cy="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95480" y="4648320"/>
            <a:ext cx="152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95480" y="5029200"/>
            <a:ext cx="152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666880" y="3505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   1   2   3   4   5   6   7   8  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1828800"/>
            <a:ext cx="304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14600" y="4724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2880" y="1523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934320" y="31240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76720" y="4952880"/>
            <a:ext cx="152280" cy="15264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38480" y="4191120"/>
            <a:ext cx="152640" cy="15228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2743200"/>
            <a:ext cx="152280" cy="15228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324480" y="1905120"/>
            <a:ext cx="152640" cy="15228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909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Zadanie 3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43000" y="11430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tóry wykres nie przedstawia funkcji i dlacze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71600" y="26668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029200" y="26668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514600" y="17521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6324480" y="17524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71600" y="2514600"/>
            <a:ext cx="6858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581280" y="23623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467480" y="23623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16002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5880" y="16002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8195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290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096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051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438280" y="2362320"/>
            <a:ext cx="152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438280" y="20574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38280" y="2971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38280" y="32767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248520" y="2971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248520" y="2362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248520" y="2057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553080" y="2666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248520" y="3276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248520" y="3505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6294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9343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388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150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199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447920" y="53341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590920" y="44197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57600" y="50292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95480" y="5257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200400" y="5257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05320" y="5257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5257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81080" y="5257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14600" y="5029200"/>
            <a:ext cx="152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14600" y="4724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514600" y="5638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14600" y="5943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3372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52480" y="1994040"/>
            <a:ext cx="2057400" cy="1384200"/>
          </a:xfrm>
          <a:custGeom>
            <a:avLst/>
            <a:gdLst/>
            <a:ahLst/>
            <a:rect l="l" t="t" r="r" b="b"/>
            <a:pathLst>
              <a:path w="1296" h="872">
                <a:moveTo>
                  <a:pt x="0" y="184"/>
                </a:moveTo>
                <a:cubicBezTo>
                  <a:pt x="96" y="152"/>
                  <a:pt x="192" y="120"/>
                  <a:pt x="336" y="232"/>
                </a:cubicBezTo>
                <a:cubicBezTo>
                  <a:pt x="480" y="344"/>
                  <a:pt x="720" y="872"/>
                  <a:pt x="864" y="856"/>
                </a:cubicBezTo>
                <a:cubicBezTo>
                  <a:pt x="1008" y="840"/>
                  <a:pt x="1128" y="272"/>
                  <a:pt x="1200" y="136"/>
                </a:cubicBezTo>
                <a:cubicBezTo>
                  <a:pt x="1272" y="0"/>
                  <a:pt x="1284" y="20"/>
                  <a:pt x="1296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15000" y="2057400"/>
            <a:ext cx="2171880" cy="1079640"/>
          </a:xfrm>
          <a:custGeom>
            <a:avLst/>
            <a:gdLst/>
            <a:ahLst/>
            <a:rect l="l" t="t" r="r" b="b"/>
            <a:pathLst>
              <a:path w="1368" h="680">
                <a:moveTo>
                  <a:pt x="0" y="0"/>
                </a:moveTo>
                <a:cubicBezTo>
                  <a:pt x="468" y="236"/>
                  <a:pt x="936" y="472"/>
                  <a:pt x="1152" y="576"/>
                </a:cubicBezTo>
                <a:cubicBezTo>
                  <a:pt x="1368" y="680"/>
                  <a:pt x="1332" y="652"/>
                  <a:pt x="129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895480" y="4572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95480" y="4495680"/>
            <a:ext cx="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286000" y="411480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00400" y="34290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43600" y="34290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34290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14800" y="34290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29200" y="34290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35812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      1      3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7      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438280" y="419112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      -4     -2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2     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19280" y="1773360"/>
            <a:ext cx="6119640" cy="1511280"/>
          </a:xfrm>
          <a:prstGeom prst="rect">
            <a:avLst/>
          </a:prstGeom>
          <a:solidFill>
            <a:srgbClr val="cbbd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żdy argument, dla którego funkcja przyjmuje wartość z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iejsce zerowe funkcj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4176720" cy="313848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5795640" y="1844640"/>
            <a:ext cx="2808360" cy="3456000"/>
          </a:xfrm>
          <a:prstGeom prst="rect">
            <a:avLst/>
          </a:prstGeom>
          <a:solidFill>
            <a:srgbClr val="cbbd8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Punkt przecięcia wykresu z osią 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z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iejsce zerowe funkcj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427640" y="3429000"/>
            <a:ext cx="152280" cy="15228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924360" y="3429000"/>
            <a:ext cx="152280" cy="15228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771640" y="3429000"/>
            <a:ext cx="152640" cy="15228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732720" y="4724280"/>
            <a:ext cx="152280" cy="15264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iejsce zerowe funkcji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448000" y="1781280"/>
            <a:ext cx="48578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Sytuacje z życia-przykłady funkcji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żdemu uczniowi jest przypisany jeden numer w dzienniku lekcyjny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żda książka ma określoną liczbę str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żde zwierzę można zakwalifikować do ściśle określonego gatunk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żde dziecko ma dokładnie jedną biologiczną matk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iejsce zerowe funkcj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71640" y="5445000"/>
            <a:ext cx="770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czytaj z wykresu miejsca zerowe funkcj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" descr="PIC"/>
          <p:cNvPicPr/>
          <p:nvPr/>
        </p:nvPicPr>
        <p:blipFill>
          <a:blip r:embed="rId1"/>
          <a:stretch/>
        </p:blipFill>
        <p:spPr>
          <a:xfrm>
            <a:off x="1258920" y="1700280"/>
            <a:ext cx="6767640" cy="35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iejsce zerowe funkcj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cz miejsca zerowe podanych funkcj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03280" y="2637000"/>
            <a:ext cx="1152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x-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635280" y="2637000"/>
            <a:ext cx="1152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940360" y="2708280"/>
            <a:ext cx="1440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116000" y="4724280"/>
            <a:ext cx="7620120" cy="884520"/>
          </a:xfrm>
          <a:prstGeom prst="rect">
            <a:avLst/>
          </a:prstGeom>
          <a:solidFill>
            <a:srgbClr val="3694b6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y obliczyć miejsce zerowe podanych funkcji należy w miejs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dstawić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7524720" y="5229360"/>
            <a:ext cx="1295280" cy="128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2268360" y="1989000"/>
          <a:ext cx="4390920" cy="1152360"/>
        </p:xfrm>
        <a:graphic>
          <a:graphicData uri="http://schemas.openxmlformats.org/drawingml/2006/table">
            <a:tbl>
              <a:tblPr/>
              <a:tblGrid>
                <a:gridCol w="439560"/>
                <a:gridCol w="437760"/>
                <a:gridCol w="439920"/>
                <a:gridCol w="437760"/>
                <a:gridCol w="441360"/>
                <a:gridCol w="439560"/>
                <a:gridCol w="438120"/>
                <a:gridCol w="439560"/>
                <a:gridCol w="438120"/>
                <a:gridCol w="439200"/>
              </a:tblGrid>
              <a:tr h="595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1bd6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55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1bd6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324" name=""/>
          <p:cNvSpPr/>
          <p:nvPr/>
        </p:nvSpPr>
        <p:spPr>
          <a:xfrm>
            <a:off x="1116000" y="3357720"/>
            <a:ext cx="7416720" cy="1008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kcja przyjmuje wartości dodatnie dla  X = {-4, -3, 2, 3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116000" y="5013360"/>
            <a:ext cx="7416720" cy="10087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kcja przyjmuje wartości ujemne dla X = {-2, 0, 4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Wartości dodatnie i ujemne funkcji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Wartości dodatnie i ujemne funkcji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4211640" y="1628640"/>
            <a:ext cx="4248000" cy="42483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116000" y="1628640"/>
            <a:ext cx="2881440" cy="3020040"/>
          </a:xfrm>
          <a:prstGeom prst="rect">
            <a:avLst/>
          </a:prstGeom>
          <a:solidFill>
            <a:srgbClr val="3694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de3"/>
                </a:solidFill>
                <a:latin typeface="Times New Roman"/>
              </a:rPr>
              <a:t>Gdy dla pewnego argument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de3"/>
                </a:solidFill>
                <a:latin typeface="Times New Roman"/>
              </a:rPr>
              <a:t>wartość funkcji jest dodatni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de3"/>
                </a:solidFill>
                <a:latin typeface="Times New Roman"/>
              </a:rPr>
              <a:t>to odpowiadający jej punk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de3"/>
                </a:solidFill>
                <a:latin typeface="Times New Roman"/>
              </a:rPr>
              <a:t>wykresu leży nad osią O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42920" y="4869000"/>
            <a:ext cx="3313080" cy="1584360"/>
          </a:xfrm>
          <a:prstGeom prst="rect">
            <a:avLst/>
          </a:prstGeom>
          <a:solidFill>
            <a:srgbClr val="ffcc0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dy wartość funkcji j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jemna to odpowied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nkt leży pod osią O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042560" y="549360"/>
            <a:ext cx="7466040" cy="117144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znacz na kolorowo argumenty, dla których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&gt;0      i       y&lt;0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511344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1042560" y="692280"/>
            <a:ext cx="7620120" cy="151128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artości dodatni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kcji odczytujemy z tej części wykresu, która znajduje się nad osią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X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kcja ma wtedy znak dodatni na przykład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116000" y="2492280"/>
            <a:ext cx="7416720" cy="370548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0" y="179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42920" y="5731560"/>
            <a:ext cx="4033800" cy="4597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&gt; 0 dla -4 &lt; x &lt;1 i x &gt;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219640" y="5733000"/>
            <a:ext cx="3240000" cy="4597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&gt; 0 dl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umentów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1042560" y="692280"/>
            <a:ext cx="7620120" cy="151128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artości ujem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kcji odczytujemy z tej części wykresu, która znajduje się pod osią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X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kcja ma wtedy znak ujemny, na przykład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042920" y="2421000"/>
            <a:ext cx="7705800" cy="36241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042920" y="5515560"/>
            <a:ext cx="4176720" cy="4597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dl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x &l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 &lt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219640" y="5444640"/>
            <a:ext cx="331164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kcja nie przyjmuj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rtości ujemny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2556000" y="5589720"/>
                <a:ext cx="2984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kreśl dla jakich argumentów funkcja przyjmuje wartości dodatnie i ujem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PIC"/>
          <p:cNvPicPr/>
          <p:nvPr/>
        </p:nvPicPr>
        <p:blipFill>
          <a:blip r:embed="rId1"/>
          <a:stretch/>
        </p:blipFill>
        <p:spPr>
          <a:xfrm>
            <a:off x="1187280" y="2997360"/>
            <a:ext cx="3370320" cy="338436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PIC"/>
          <p:cNvPicPr/>
          <p:nvPr/>
        </p:nvPicPr>
        <p:blipFill>
          <a:blip r:embed="rId2"/>
          <a:stretch/>
        </p:blipFill>
        <p:spPr>
          <a:xfrm>
            <a:off x="4859280" y="3068640"/>
            <a:ext cx="385128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PIC"/>
          <p:cNvPicPr/>
          <p:nvPr/>
        </p:nvPicPr>
        <p:blipFill>
          <a:blip r:embed="rId1"/>
          <a:stretch/>
        </p:blipFill>
        <p:spPr>
          <a:xfrm>
            <a:off x="1476360" y="1916280"/>
            <a:ext cx="6767640" cy="359388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15640" y="404280"/>
            <a:ext cx="762012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kreśl dla jakich argumentów funkcja przyjmuje wartości dodatnie i ujem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068480" y="2060640"/>
            <a:ext cx="782460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Przedziały monotoniczności funkcji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Picture 2" descr="C:\Users\Wolf\AppData\Local\Microsoft\Windows\Temporary Internet Files\Content.IE5\T6PLSMCI\MC900434901[1].png"/>
          <p:cNvPicPr/>
          <p:nvPr/>
        </p:nvPicPr>
        <p:blipFill>
          <a:blip r:embed="rId1"/>
          <a:stretch/>
        </p:blipFill>
        <p:spPr>
          <a:xfrm>
            <a:off x="3059280" y="2924280"/>
            <a:ext cx="36432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szystkie powyższe sytuacje odpowiadają następującemu schematowi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unkcja rosnąc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77232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unkcja malejąc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355" name="" descr="http://www.matemaks.pl/grafika/funkcje/monotonicznosc/cwiczenie1a.jpg"/>
          <p:cNvPicPr/>
          <p:nvPr/>
        </p:nvPicPr>
        <p:blipFill>
          <a:blip r:embed="rId1"/>
          <a:stretch/>
        </p:blipFill>
        <p:spPr>
          <a:xfrm>
            <a:off x="3924360" y="1916280"/>
            <a:ext cx="4448160" cy="400968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6156360" y="2492280"/>
            <a:ext cx="2533680" cy="720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Wykres funkcji „idzie” cały czas na dó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619280" y="2276640"/>
            <a:ext cx="2519280" cy="1079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Wartości funkcji dla kolejnych x są coraz mniejsze, zmierzają do nieskończonośc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403280" y="5300640"/>
            <a:ext cx="4176720" cy="7923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Z argumentami x, przesuwam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ię coraz dalej w stronę dodatniej os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8604360" y="3068640"/>
            <a:ext cx="1440" cy="23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96000" y="6021360"/>
            <a:ext cx="2376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unkcja stał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1116000" y="2060640"/>
            <a:ext cx="7488360" cy="325908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547640" y="5300280"/>
            <a:ext cx="6912000" cy="5763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artości funkcji dla kolejnych x są takie 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708360" y="6093000"/>
            <a:ext cx="2376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148932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4381560" cy="376884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5222520" y="2205000"/>
            <a:ext cx="3097800" cy="82548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de3"/>
                </a:solidFill>
                <a:latin typeface="Times New Roman"/>
              </a:rPr>
              <a:t>wykres funkcji rosnąc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de3"/>
                </a:solidFill>
                <a:latin typeface="Times New Roman"/>
              </a:rPr>
              <a:t>część niebies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191240" y="5445000"/>
            <a:ext cx="3452760" cy="8254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de3"/>
                </a:solidFill>
                <a:latin typeface="Times New Roman"/>
              </a:rPr>
              <a:t>wykres funkcji malejąc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de3"/>
                </a:solidFill>
                <a:latin typeface="Times New Roman"/>
              </a:rPr>
              <a:t>część ziel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6560" y="380520"/>
            <a:ext cx="785988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EFINICJ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6089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żeli wraz ze wzrostem argumentów, wartości funkcji rosną, to funkcja jes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osną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4572000" y="2781360"/>
            <a:ext cx="3800520" cy="34290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042920" y="3645000"/>
            <a:ext cx="42498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żeli zaś malej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funkcja jes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leją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148932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356000" y="2924280"/>
            <a:ext cx="4176720" cy="33051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826920" y="596880"/>
            <a:ext cx="807588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DEFINICJ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66680" y="1752480"/>
            <a:ext cx="76089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żeli wraz ze wzrostem argumentów, wartości funkcji się nie zmieniają, to funkcja jes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tał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Określ, dla jakich argumentów funkcja rośnie, maleje jest stała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008000" y="1844640"/>
            <a:ext cx="8136000" cy="40338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1116000" y="525384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332000" y="4653000"/>
            <a:ext cx="6769080" cy="180036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49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49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de3"/>
                </a:solidFill>
                <a:latin typeface="Times New Roman"/>
              </a:rPr>
              <a:t>funkcja jest </a:t>
            </a:r>
            <a:r>
              <a:rPr b="1" lang="en-US" sz="2800" spc="-1" strike="noStrike">
                <a:solidFill>
                  <a:srgbClr val="fefde3"/>
                </a:solidFill>
                <a:latin typeface="Times New Roman"/>
              </a:rPr>
              <a:t>stał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49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de3"/>
                </a:solidFill>
                <a:latin typeface="Times New Roman"/>
              </a:rPr>
              <a:t>dla  -2 &lt; x &lt;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49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708360" y="1876680"/>
            <a:ext cx="5113440" cy="3080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49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49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unkcja jes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osnąc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dl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49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4 &lt; x &lt; -2   i  1 &lt; x &lt;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49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kcja jes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lejąc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49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 x &gt;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49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kcja jes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ł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49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 -2 &lt; x &lt;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49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PIC"/>
          <p:cNvPicPr/>
          <p:nvPr/>
        </p:nvPicPr>
        <p:blipFill>
          <a:blip r:embed="rId1"/>
          <a:stretch/>
        </p:blipFill>
        <p:spPr>
          <a:xfrm>
            <a:off x="1692360" y="1557360"/>
            <a:ext cx="6408720" cy="50544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608960" cy="13194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Określ, dla jakich argumentów funkcja rośnie a dla jakich maleje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PIC"/>
          <p:cNvPicPr/>
          <p:nvPr/>
        </p:nvPicPr>
        <p:blipFill>
          <a:blip r:embed="rId1"/>
          <a:stretch/>
        </p:blipFill>
        <p:spPr>
          <a:xfrm>
            <a:off x="4500720" y="333360"/>
            <a:ext cx="4327200" cy="327816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3673440" cy="100836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15640" y="3068280"/>
            <a:ext cx="76201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aj dziedzinę funkcj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aj wszystkie miejsca zerowe funkcj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czytaj wartość funkcji dla argumentu x=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aj argumenty dla których funkcja jest rosną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pisz zbiór wszystkich argumentów, dla których funkcja przyjmuje wartości ujem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solidFill>
            <a:srgbClr val="6a650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dpowiedź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537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ziedzina:  -6      x    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ejsca zerowe:  -2, 3, 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= 8 dla y = 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kcja rośnie dla  1 &lt; x &lt; 3  i  5 &lt; x    8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&lt; 0 dla  -2 &lt; x &lt; 3  i  3 &lt; x &lt;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3780000" y="1844640"/>
                <a:ext cx="2998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4427640" y="1773360"/>
                <a:ext cx="350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7020000" y="3357720"/>
                <a:ext cx="31104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06d58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2133720"/>
            <a:ext cx="2438640" cy="3504960"/>
          </a:xfrm>
          <a:prstGeom prst="ellipse">
            <a:avLst/>
          </a:prstGeom>
          <a:noFill/>
          <a:ln w="381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2133720"/>
            <a:ext cx="2438280" cy="350496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28800" y="15238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15238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7400" y="2666880"/>
            <a:ext cx="152280" cy="152640"/>
          </a:xfrm>
          <a:prstGeom prst="ellipse">
            <a:avLst/>
          </a:prstGeom>
          <a:solidFill>
            <a:srgbClr val="3694b6"/>
          </a:solidFill>
          <a:ln w="93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3200400"/>
            <a:ext cx="152640" cy="152280"/>
          </a:xfrm>
          <a:prstGeom prst="ellipse">
            <a:avLst/>
          </a:prstGeom>
          <a:solidFill>
            <a:srgbClr val="3694b6"/>
          </a:solidFill>
          <a:ln w="93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62320" y="3429000"/>
            <a:ext cx="152280" cy="152280"/>
          </a:xfrm>
          <a:prstGeom prst="ellipse">
            <a:avLst/>
          </a:prstGeom>
          <a:solidFill>
            <a:srgbClr val="3694b6"/>
          </a:solidFill>
          <a:ln w="93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3962520"/>
            <a:ext cx="152280" cy="152280"/>
          </a:xfrm>
          <a:prstGeom prst="ellipse">
            <a:avLst/>
          </a:prstGeom>
          <a:solidFill>
            <a:srgbClr val="3694b6"/>
          </a:solidFill>
          <a:ln w="93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09680" y="4267080"/>
            <a:ext cx="152640" cy="152640"/>
          </a:xfrm>
          <a:prstGeom prst="ellipse">
            <a:avLst/>
          </a:prstGeom>
          <a:solidFill>
            <a:srgbClr val="3694b6"/>
          </a:solidFill>
          <a:ln w="93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57400" y="4876920"/>
            <a:ext cx="152280" cy="152280"/>
          </a:xfrm>
          <a:prstGeom prst="ellipse">
            <a:avLst/>
          </a:prstGeom>
          <a:solidFill>
            <a:srgbClr val="3694b6"/>
          </a:solidFill>
          <a:ln w="93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5257800"/>
            <a:ext cx="152280" cy="152280"/>
          </a:xfrm>
          <a:prstGeom prst="ellipse">
            <a:avLst/>
          </a:prstGeom>
          <a:solidFill>
            <a:srgbClr val="3694b6"/>
          </a:solidFill>
          <a:ln w="93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38680" y="2514600"/>
            <a:ext cx="15264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43600" y="3657600"/>
            <a:ext cx="15228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2200" y="3048120"/>
            <a:ext cx="15228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429000"/>
            <a:ext cx="15264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72200" y="3886200"/>
            <a:ext cx="15228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72200" y="4876920"/>
            <a:ext cx="15228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4495680"/>
            <a:ext cx="152280" cy="1526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209680" y="2590560"/>
            <a:ext cx="3505320" cy="15228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904400" y="3145680"/>
            <a:ext cx="4340880" cy="16596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3505320"/>
            <a:ext cx="266688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828800" y="3733920"/>
            <a:ext cx="4114800" cy="30456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286000" y="3962520"/>
            <a:ext cx="3886200" cy="38088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133720" y="4572000"/>
            <a:ext cx="3429000" cy="38088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286000" y="4952520"/>
            <a:ext cx="3886200" cy="38124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53768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Określ na podstawie wykresu tej funkcji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66320" y="3284280"/>
            <a:ext cx="762012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biór wartości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ejsca zerow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działy monotoniczności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jwiększą i najmniejszą wartość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biór wszystkich argumentów, dla których funkcja przyjmuje wartości dodatnie oraz wartości ujem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" descr="PIC"/>
          <p:cNvPicPr/>
          <p:nvPr/>
        </p:nvPicPr>
        <p:blipFill>
          <a:blip r:embed="rId1"/>
          <a:stretch/>
        </p:blipFill>
        <p:spPr>
          <a:xfrm>
            <a:off x="3924360" y="1628640"/>
            <a:ext cx="48243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5881680" cy="1143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zory a wykresy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3044880"/>
          </a:xfrm>
          <a:prstGeom prst="rect">
            <a:avLst/>
          </a:prstGeom>
          <a:noFill/>
          <a:ln w="9360">
            <a:solidFill>
              <a:srgbClr val="ffcc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y sprawdzić czy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any punkt należy do wykresu funkcj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należy podstawić jego współrzędne do wzoru funkcji i wykonać obliczenia po obu stronach powstałego równania, aby sprawdzić, czy lewa strona będzie równała się prawej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71640" y="4797360"/>
            <a:ext cx="7619760" cy="1820880"/>
          </a:xfrm>
          <a:prstGeom prst="rect">
            <a:avLst/>
          </a:prstGeom>
          <a:solidFill>
            <a:srgbClr val="8000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efde3"/>
                </a:solidFill>
                <a:latin typeface="Times New Roman"/>
              </a:rPr>
              <a:t>Jeżeli tak jest, to dany punkt należy do wykresu funkcji, jeżeli nie, znaczy to, że dany punkt nie należy do wykresu funkcj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15640" y="4797000"/>
            <a:ext cx="7116840" cy="1143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Punkt (1,2) należy do wykresu funkcji, a punkt (-2,3) nie należy.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99640" y="404280"/>
            <a:ext cx="7489800" cy="15843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cccc"/>
                </a:solidFill>
                <a:latin typeface="Times New Roman"/>
              </a:rPr>
              <a:t>Sprawdź czy punkty: A= (1,2);  B=(-2,3) należą do wykresu funkcji:   y = 3x-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201080" cy="29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1115640" y="620280"/>
            <a:ext cx="7466040" cy="13892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cc"/>
                </a:solidFill>
                <a:latin typeface="Times New Roman"/>
              </a:rPr>
              <a:t>Mając do dyspozycji wykres funkcji, wystarczy znaleźć dany punkt w układzie współrzędnych – jeżeli leży on na prostej, która jest wykresem funkcji, to dany punkt należy do wykresu funkcji, jeżeli nie, znaczy to, że nie należ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3564000" y="2060640"/>
            <a:ext cx="516240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1042920" y="620640"/>
            <a:ext cx="7632720" cy="1944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najdź drugą współrzędną punktu C=(3, 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edząc, że należy on do wykresu funkcj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kreślonej wzorem   y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4788000" y="1484280"/>
                <a:ext cx="7873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2225520" y="3500280"/>
                <a:ext cx="3903840" cy="134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1" name=""/>
          <p:cNvSpPr/>
          <p:nvPr/>
        </p:nvSpPr>
        <p:spPr>
          <a:xfrm>
            <a:off x="2411280" y="5373720"/>
            <a:ext cx="201636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= (3,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20120" cy="21114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Zadania tekstowe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716000" y="38052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066320" y="404640"/>
            <a:ext cx="3576600" cy="59040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n Piotr dojeżdża do pracy d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bliskiego miasta. Rysun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zedstawia, jak zmienia się drog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konywana przez pana Piot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ającego się do pracy. Najpier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n Piotr idzie pieszo na stacj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kolejową, następnie jedz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ciągiem, natomiast ostatni eta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rogi (ze stacji kolejowej do zakła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acy) pokonuje, jadąc autobus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 przeanalizowaniu rysunk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dpowiedz na podane pytani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) Jak daleko mieszka pan Piotr o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cji kolejowej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) Ile minut pan Piotr jedzi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ciągiem oraz z jaką prędkości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usza się pociąg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) Jak długo łącznie czeka na środk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komocji, którymi się porusza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) Z jaką średnią prędkością porus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ę pan Piotr w drodze z domu do pracy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4500720" y="1628640"/>
            <a:ext cx="43686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148000" y="380520"/>
            <a:ext cx="353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3564000" y="2060640"/>
            <a:ext cx="5324400" cy="3946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187280" y="404640"/>
            <a:ext cx="3576960" cy="59040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mek wystrzelił w górę piłkę z pro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łe zdarzenie na bieżąco rejestrowa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komputer. Na podstawie wykres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zależności wysokości piłeczki od czas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dpowiedz na pytania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) W jakim przedziale czasowym piłk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znosiła się w górę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) Kiedy osiągnęła największ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ysokość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) Na jaką największą wysokość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zniosła się piłka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) Ile czasu trwało całe doświadczenie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) Jaką drogę (w kierunku pionowy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zebyła piłka w trzeciej, a jaką 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zwartej sekundzie ruchu?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1115640" y="549360"/>
            <a:ext cx="7620120" cy="232416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ykres przedstawia wartość prędkości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(v),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z jaką poruszał się Tomek, jadą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mochodem na pewnym odcinku trasy, w zależności od czasu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(t)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dpowiedz 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ytania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) Z jaką największą prędkością poruszał się Tomek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) O której godzinie samochód Tomka rozwinął największą prędkość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) Jeżeli poruszanie się z prędkością ujemną zinterpretujemy jako cofanie, to z jak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ajwiększą prędkością Tomek cofał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) Kiedy Tomek na chwilę zatrzymał się, a kiedy stał na przejeździe kolejowym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) O której godzinie Tomek cofał z maksymalną prędkością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900000" y="3141720"/>
            <a:ext cx="784872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1066320" y="404280"/>
            <a:ext cx="7620120" cy="576108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a wykresie przedstawiono stan konta państwa Kowalskich w pierwsze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łowie lipca. Na tej podstawie odpowiedz na pytania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) Jaka była najwyższa kwota na koncie państwa Kowalskich w pierwszej połowie lipca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) W ciągu ilu dni na koncie państwa Kowalskich nie dokonywano żadnych transakcji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) Kiedy przelano na konto wypłatę pani Kowalskiej (wcześniej niż mężowi)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) W jakim dniu państw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Kowalscy rozpoczęli remo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łazienki i wypłacili z kon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0 zł.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) Jaki był największy deb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a koncie państwa Kowalskich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) Ile zarabia netto p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Kowalski (dostaje przel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 10. każdego miesiąca)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3924360" y="2421000"/>
            <a:ext cx="504036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971640" y="1773360"/>
            <a:ext cx="7848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Funkcją określoną na zbiorze 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o wartościach w zbiorze Y nazywam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przyporządkowanie, w którym </a:t>
            </a:r>
            <a:r>
              <a:rPr b="1" lang="en-US" sz="3200" spc="-1" strike="noStrike" u="sng">
                <a:solidFill>
                  <a:srgbClr val="800000"/>
                </a:solidFill>
                <a:uFillTx/>
                <a:latin typeface="Times New Roman"/>
              </a:rPr>
              <a:t>każdemu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elementowi zbioru X przyporządkowany jest </a:t>
            </a:r>
            <a:r>
              <a:rPr b="1" lang="en-US" sz="3200" spc="-1" strike="noStrike" u="sng">
                <a:solidFill>
                  <a:srgbClr val="800000"/>
                </a:solidFill>
                <a:uFillTx/>
                <a:latin typeface="Times New Roman"/>
              </a:rPr>
              <a:t>dokładnie jeden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 element zbioru 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59280" y="692280"/>
            <a:ext cx="2209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efinicja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75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75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unkcja liniowa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1066680" y="1752480"/>
          <a:ext cx="7466040" cy="1676160"/>
        </p:xfrm>
        <a:graphic>
          <a:graphicData uri="http://schemas.openxmlformats.org/drawingml/2006/table">
            <a:tbl>
              <a:tblPr/>
              <a:tblGrid>
                <a:gridCol w="7466040"/>
              </a:tblGrid>
              <a:tr h="167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kcja liniowa </a:t>
                      </a: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 funkcja określona wzor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 = ax +  b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dzie  a i b są liczbami rzeczywistymi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1258920" y="3933720"/>
          <a:ext cx="7273800" cy="1798920"/>
        </p:xfrm>
        <a:graphic>
          <a:graphicData uri="http://schemas.openxmlformats.org/drawingml/2006/table">
            <a:tbl>
              <a:tblPr/>
              <a:tblGrid>
                <a:gridCol w="72738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–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spółczynnik kierunkowy funkcji liniowej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wyraz wolny funkcji liniowej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ziedziną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kcji liniowej jest zbiór liczb rzeczywistych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2468520"/>
          </a:xfrm>
          <a:prstGeom prst="rect">
            <a:avLst/>
          </a:prstGeom>
          <a:solidFill>
            <a:srgbClr val="a1bd69"/>
          </a:solidFill>
          <a:ln w="9360">
            <a:solidFill>
              <a:srgbClr val="22130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ykresem funkcji liniowej, jak sama nazwa wskazuje, jes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nia pros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narysowania wykresu funkcji liniowej wystarczą dwa punk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unkcja liniowa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3694b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Narysuj wykres funkcji: y = 2x + 2 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ybieramy sobie dwa argumenty (x) i obliczamy wartość funkcji, np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f(0) = 2 · 0 + 2 = 0 + 2 =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f(-1) = 2 · (-1) + 2 = -2 + 2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znaczamy te punkty w układzie współrzędnych i rysujemy wyk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WYKRES FUNKCJI LINIOWEJ.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3286080" y="1428840"/>
          <a:ext cx="2286000" cy="136692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</a:tblGrid>
              <a:tr h="4597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 = 2x +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2" name="Obraz 8" descr="wyk1.gif"/>
          <p:cNvPicPr/>
          <p:nvPr/>
        </p:nvPicPr>
        <p:blipFill>
          <a:blip r:embed="rId1"/>
          <a:stretch/>
        </p:blipFill>
        <p:spPr>
          <a:xfrm>
            <a:off x="571680" y="2928960"/>
            <a:ext cx="3501720" cy="3071880"/>
          </a:xfrm>
          <a:prstGeom prst="rect">
            <a:avLst/>
          </a:prstGeom>
          <a:ln w="0">
            <a:noFill/>
          </a:ln>
        </p:spPr>
      </p:pic>
      <p:pic>
        <p:nvPicPr>
          <p:cNvPr id="433" name="Obraz 9" descr="wyk2.gif"/>
          <p:cNvPicPr/>
          <p:nvPr/>
        </p:nvPicPr>
        <p:blipFill>
          <a:blip r:embed="rId2"/>
          <a:stretch/>
        </p:blipFill>
        <p:spPr>
          <a:xfrm>
            <a:off x="4643280" y="2928960"/>
            <a:ext cx="3502080" cy="3071880"/>
          </a:xfrm>
          <a:prstGeom prst="rect">
            <a:avLst/>
          </a:prstGeom>
          <a:ln w="0">
            <a:noFill/>
          </a:ln>
        </p:spPr>
      </p:pic>
      <p:sp>
        <p:nvSpPr>
          <p:cNvPr id="434" name="pole tekstowe 10"/>
          <p:cNvSpPr/>
          <p:nvPr/>
        </p:nvSpPr>
        <p:spPr>
          <a:xfrm>
            <a:off x="571680" y="6072120"/>
            <a:ext cx="35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aznaczamy punk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ole tekstowe 12"/>
          <p:cNvSpPr/>
          <p:nvPr/>
        </p:nvSpPr>
        <p:spPr>
          <a:xfrm>
            <a:off x="4643280" y="607212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ysujemy wyk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1304"/>
                </a:solidFill>
                <a:latin typeface="Times New Roman"/>
              </a:rPr>
              <a:t>Punkty przecięcia wykresu funkcji liniowej z osiami układu współrzędnych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437" name="Obraz 6" descr="wyk3.gif"/>
          <p:cNvPicPr/>
          <p:nvPr/>
        </p:nvPicPr>
        <p:blipFill>
          <a:blip r:embed="rId1"/>
          <a:stretch/>
        </p:blipFill>
        <p:spPr>
          <a:xfrm>
            <a:off x="1116000" y="1628640"/>
            <a:ext cx="4800600" cy="421020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3637440" y="2348640"/>
            <a:ext cx="1040400" cy="520560"/>
          </a:xfrm>
          <a:prstGeom prst="rect">
            <a:avLst/>
          </a:prstGeom>
          <a:solidFill>
            <a:srgbClr val="3694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0,y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429080" y="3141000"/>
            <a:ext cx="863640" cy="520560"/>
          </a:xfrm>
          <a:prstGeom prst="rect">
            <a:avLst/>
          </a:prstGeom>
          <a:solidFill>
            <a:srgbClr val="3694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x,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116000" y="371628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3492360" y="1557000"/>
            <a:ext cx="0" cy="432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30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a jest funkcja określona wzorem y = 2x –3, której dziedziną jest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{ -2, -1, 3, 4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{-3, -2, -1 , 0, 1 , 2, 3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) zbiór liczb rzeczywistych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 osobnych trzech wykresach narysuj wykresy tych funkcji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isz co jest wykresem każdej z tych funkcj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3694b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Narysuj wykresy podanych funkcji: 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=3x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=-3x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=-2x+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=3x+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=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6" name=""/>
          <p:cNvGraphicFramePr/>
          <p:nvPr/>
        </p:nvGraphicFramePr>
        <p:xfrm>
          <a:off x="1403280" y="3716280"/>
          <a:ext cx="4512960" cy="1513080"/>
        </p:xfrm>
        <a:graphic>
          <a:graphicData uri="http://schemas.openxmlformats.org/drawingml/2006/table">
            <a:tbl>
              <a:tblPr/>
              <a:tblGrid>
                <a:gridCol w="951840"/>
                <a:gridCol w="823320"/>
                <a:gridCol w="825120"/>
                <a:gridCol w="970200"/>
                <a:gridCol w="942480"/>
              </a:tblGrid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80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cbbd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cbbd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cbbd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cbbd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cbbd83"/>
                    </a:solidFill>
                  </a:tcPr>
                </a:tc>
              </a:tr>
            </a:tbl>
          </a:graphicData>
        </a:graphic>
      </p:graphicFrame>
      <p:sp>
        <p:nvSpPr>
          <p:cNvPr id="447" name=""/>
          <p:cNvSpPr/>
          <p:nvPr/>
        </p:nvSpPr>
        <p:spPr>
          <a:xfrm>
            <a:off x="1066680" y="1752480"/>
            <a:ext cx="7620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wna wstążka kosztuje 0,50 zł. za 1 metr. Przedstaw w tabeli ile złotych trzeba zapłacić za podane kawałk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042920" y="404640"/>
            <a:ext cx="7620120" cy="1143000"/>
          </a:xfrm>
          <a:prstGeom prst="rect">
            <a:avLst/>
          </a:prstGeom>
          <a:solidFill>
            <a:srgbClr val="f04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oporcjonalność pros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865480" y="4076280"/>
            <a:ext cx="2975760" cy="6426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 - długość wstążki w metr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 - koszt zakupu w złoty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solidFill>
            <a:srgbClr val="f0483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oporcjonalność prost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86920" y="3428640"/>
            <a:ext cx="762012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uważ, że gdy zwiększa się x, to tyle samo razy zwiększa się 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tem długość wstążki i jej koszt to wielkości </a:t>
            </a: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wprost proporcjonal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ta wyraża się wzorem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2268360" y="1844640"/>
          <a:ext cx="4969080" cy="1368360"/>
        </p:xfrm>
        <a:graphic>
          <a:graphicData uri="http://schemas.openxmlformats.org/drawingml/2006/table">
            <a:tbl>
              <a:tblPr/>
              <a:tblGrid>
                <a:gridCol w="987480"/>
                <a:gridCol w="1003320"/>
                <a:gridCol w="995400"/>
                <a:gridCol w="1003320"/>
                <a:gridCol w="979560"/>
              </a:tblGrid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cbbd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cbbd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cbbd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cbbd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cbbd83"/>
                    </a:solidFill>
                  </a:tcPr>
                </a:tc>
              </a:tr>
            </a:tbl>
          </a:graphicData>
        </a:graphic>
      </p:graphicFrame>
      <p:sp>
        <p:nvSpPr>
          <p:cNvPr id="453" name=""/>
          <p:cNvSpPr/>
          <p:nvPr/>
        </p:nvSpPr>
        <p:spPr>
          <a:xfrm>
            <a:off x="6157800" y="5083920"/>
            <a:ext cx="1625400" cy="52056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= 0,50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1042560" y="1773360"/>
            <a:ext cx="76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śli x i y są wielkościami wprost proporcjonalnymi to zależność y od x można zawsze przedstawić za pomocą wzoru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dzie      jest pewną liczbą dodatnią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4356000" y="4724280"/>
                <a:ext cx="126216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6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3635280" y="3213000"/>
                <a:ext cx="23767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8" name="PlaceHolder 2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620120" cy="1143000"/>
          </a:xfrm>
          <a:prstGeom prst="rect">
            <a:avLst/>
          </a:prstGeom>
          <a:solidFill>
            <a:srgbClr val="f0483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oporcjonalność prost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1979640" y="4221000"/>
                <a:ext cx="3747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16000" y="1700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Zbiór X to </a:t>
            </a:r>
            <a:r>
              <a:rPr b="1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dziedzina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funkcji. Elementy dziedziny to </a:t>
            </a:r>
            <a:r>
              <a:rPr b="1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argumenty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71640" y="3068640"/>
            <a:ext cx="71625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a6504"/>
                </a:solidFill>
                <a:latin typeface="Times New Roman"/>
              </a:rPr>
              <a:t>Zbiór Y to </a:t>
            </a:r>
            <a:r>
              <a:rPr b="1" lang="en-US" sz="3200" spc="-1" strike="noStrike" u="sng">
                <a:solidFill>
                  <a:srgbClr val="6a6504"/>
                </a:solidFill>
                <a:uFillTx/>
                <a:latin typeface="Times New Roman"/>
              </a:rPr>
              <a:t>zbiór wartości funkcji</a:t>
            </a:r>
            <a:r>
              <a:rPr b="1" lang="en-US" sz="3200" spc="-1" strike="noStrike">
                <a:solidFill>
                  <a:srgbClr val="6a6504"/>
                </a:solidFill>
                <a:latin typeface="Times New Roman"/>
              </a:rPr>
              <a:t>, a jego elementy to </a:t>
            </a:r>
            <a:r>
              <a:rPr b="1" lang="en-US" sz="3200" spc="-1" strike="noStrike" u="sng">
                <a:solidFill>
                  <a:srgbClr val="6a6504"/>
                </a:solidFill>
                <a:uFillTx/>
                <a:latin typeface="Times New Roman"/>
              </a:rPr>
              <a:t>wartości funkcji</a:t>
            </a:r>
            <a:r>
              <a:rPr b="1" lang="en-US" sz="3200" spc="-1" strike="noStrike">
                <a:solidFill>
                  <a:srgbClr val="6a6504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75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75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75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75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75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75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75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75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5867280" y="1773000"/>
            <a:ext cx="2952720" cy="460836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 rysunk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zedstawio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ykres zależności dro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zebytej prze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mochód jadący ze stał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ędkością od cza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zd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zas jazdy i przeby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oga przy stałej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ędkości s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elkościami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wpro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roporcjonalnym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5040360" cy="400212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2"/>
          <p:cNvSpPr>
            <a:spLocks noGrp="1"/>
          </p:cNvSpPr>
          <p:nvPr>
            <p:ph type="title"/>
          </p:nvPr>
        </p:nvSpPr>
        <p:spPr>
          <a:xfrm>
            <a:off x="1116000" y="404280"/>
            <a:ext cx="6120000" cy="1143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cc"/>
                </a:solidFill>
                <a:latin typeface="Times New Roman"/>
              </a:rPr>
              <a:t>Zapisz za pomocą wzoru zależność s od t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116000" y="6020640"/>
            <a:ext cx="6985080" cy="520560"/>
          </a:xfrm>
          <a:prstGeom prst="rect">
            <a:avLst/>
          </a:prstGeom>
          <a:solidFill>
            <a:srgbClr val="f04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wykresu odczytujemy:            5h - 300k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3924360" y="1773360"/>
                <a:ext cx="4608360" cy="90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7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5076720" y="2997360"/>
                <a:ext cx="241164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3059280" y="4365720"/>
                <a:ext cx="259236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0" name=""/>
          <p:cNvSpPr/>
          <p:nvPr/>
        </p:nvSpPr>
        <p:spPr>
          <a:xfrm>
            <a:off x="1116000" y="936000"/>
            <a:ext cx="3527280" cy="520560"/>
          </a:xfrm>
          <a:prstGeom prst="rect">
            <a:avLst/>
          </a:prstGeom>
          <a:solidFill>
            <a:srgbClr val="f04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h - 300k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118520" y="1988280"/>
            <a:ext cx="2504880" cy="520560"/>
          </a:xfrm>
          <a:prstGeom prst="rect">
            <a:avLst/>
          </a:prstGeom>
          <a:solidFill>
            <a:srgbClr val="f04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tem ze wzor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258920" y="4004640"/>
            <a:ext cx="1297080" cy="520560"/>
          </a:xfrm>
          <a:prstGeom prst="rect">
            <a:avLst/>
          </a:prstGeom>
          <a:solidFill>
            <a:srgbClr val="f04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ęc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2195640" y="2997360"/>
                <a:ext cx="237636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356000" y="404280"/>
            <a:ext cx="4330800" cy="1143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zykład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3289320" cy="4248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ysunek przedstaw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ykresy zależnośc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zebytej dro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d czasu jazdy dla różny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ędk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zas jazdy ze stał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ędkością je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orcjonalny 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zebytej drogi. Wykres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j zależności jest półpros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4500720" y="1773360"/>
            <a:ext cx="4286160" cy="365760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0" y="2075760"/>
            <a:ext cx="55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=50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451640" y="4220280"/>
            <a:ext cx="865440" cy="368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=50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Sprawdźmy wzór funkcji fioletowej: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32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wykresu odczytamy x=4  y= 600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t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2340000" y="2637000"/>
                <a:ext cx="3643200" cy="101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0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3132000" y="3933720"/>
                <a:ext cx="259236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4873680" cy="1143000"/>
          </a:xfrm>
          <a:prstGeom prst="rect">
            <a:avLst/>
          </a:prstGeom>
          <a:solidFill>
            <a:srgbClr val="f0483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25401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 wannie było 50 litrów wody, gdy odkręcono kran. Z kranu woda wlewa się z szybkością 8 litrów na minutę. Zapisz wzór i 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narysuj wykr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unkcji opisującej zależność ilości wody w wannie od czas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00000" y="4221000"/>
            <a:ext cx="7620120" cy="1729080"/>
          </a:xfrm>
          <a:prstGeom prst="rect">
            <a:avLst/>
          </a:prstGeom>
          <a:solidFill>
            <a:srgbClr val="6a65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) ile wody będzie w wannie po 5 minutach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) po ilu minutach napełni się wanna o pojemności 400 litró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dpowiedź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solidFill>
            <a:srgbClr val="f04836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minuta - 8 litró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minut – 40 litró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)      50+40=90 litró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)      y=8x+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00=8x+50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tem    x = 350:8    44 min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5508720" y="5445000"/>
                <a:ext cx="2887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5018040" cy="1143000"/>
          </a:xfrm>
          <a:prstGeom prst="rect">
            <a:avLst/>
          </a:prstGeom>
          <a:solidFill>
            <a:srgbClr val="f0483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26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 beczce było 100 litrów wody, zaczęła ona wyciekać z szybkością 2 litry na minutę. </a:t>
            </a:r>
            <a:r>
              <a:rPr b="0" lang="en-US" sz="3200" spc="-1" strike="noStrike">
                <a:solidFill>
                  <a:srgbClr val="6a6504"/>
                </a:solidFill>
                <a:latin typeface="Times New Roman"/>
              </a:rPr>
              <a:t>Podaj wzór, który przedstawia zależność ilości wody w beczce (w litrach) od czasu (w minutach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dpowiedź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842920" y="2492280"/>
            <a:ext cx="3313080" cy="865440"/>
          </a:xfrm>
          <a:prstGeom prst="rect">
            <a:avLst/>
          </a:prstGeom>
          <a:solidFill>
            <a:srgbClr val="f0483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 =100-2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340000" y="4292640"/>
            <a:ext cx="5327640" cy="865080"/>
          </a:xfrm>
          <a:prstGeom prst="rect">
            <a:avLst/>
          </a:prstGeom>
          <a:solidFill>
            <a:srgbClr val="f04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da wyleci po 50 minuta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800000"/>
          </a:solidFill>
          <a:ln w="9360">
            <a:solidFill>
              <a:srgbClr val="ffcc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Times New Roman"/>
              </a:rPr>
              <a:t>Proporcjonalność odwrotn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13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botnik wykonuje pewną pracę w ciągu 27 godzin. Przedstaw w tabeli w jakim czasie tę samą pracę wykona podana ilość robotnikó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2124000" y="3716280"/>
          <a:ext cx="4897440" cy="1224000"/>
        </p:xfrm>
        <a:graphic>
          <a:graphicData uri="http://schemas.openxmlformats.org/drawingml/2006/table">
            <a:tbl>
              <a:tblPr/>
              <a:tblGrid>
                <a:gridCol w="973080"/>
                <a:gridCol w="989280"/>
                <a:gridCol w="981000"/>
                <a:gridCol w="987480"/>
                <a:gridCol w="96660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6a650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6a650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6a650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6a650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6a6504"/>
                    </a:solidFill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499" name=""/>
          <p:cNvSpPr/>
          <p:nvPr/>
        </p:nvSpPr>
        <p:spPr>
          <a:xfrm>
            <a:off x="4788000" y="5231880"/>
            <a:ext cx="3384360" cy="6426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 – ilość robotnik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 – czas pr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solidFill>
            <a:srgbClr val="800000"/>
          </a:solidFill>
          <a:ln w="9360">
            <a:solidFill>
              <a:srgbClr val="ffcc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Times New Roman"/>
              </a:rPr>
              <a:t>Proporcjonalność odwrotn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2411280" y="1773360"/>
          <a:ext cx="4897440" cy="1224000"/>
        </p:xfrm>
        <a:graphic>
          <a:graphicData uri="http://schemas.openxmlformats.org/drawingml/2006/table">
            <a:tbl>
              <a:tblPr/>
              <a:tblGrid>
                <a:gridCol w="973080"/>
                <a:gridCol w="989280"/>
                <a:gridCol w="981000"/>
                <a:gridCol w="987480"/>
                <a:gridCol w="96660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6a650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6a650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6a650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6a650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6a6504"/>
                    </a:solidFill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186920" y="3141360"/>
            <a:ext cx="7620120" cy="28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uważ, że gdy zwiększa się x, to tyle samo razy zmniejsza się 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tem ilość robotników i czas ich pracy to wielkości 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odwrotnie proporcjonal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leżność ta wyraża się wzorem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7093080" y="5084640"/>
                <a:ext cx="1366560" cy="11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zykłady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3529080" cy="3168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148360" y="1989000"/>
            <a:ext cx="338436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śli x i y są wielkościami odwrotnie proporcjonalnymi to zależność y od x można zawsze przedstawić za pomocą wzoru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dzie      jest pewną liczbą dodatnią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042920" y="549360"/>
            <a:ext cx="7620120" cy="1143000"/>
          </a:xfrm>
          <a:prstGeom prst="rect">
            <a:avLst/>
          </a:prstGeom>
          <a:solidFill>
            <a:srgbClr val="8000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Times New Roman"/>
              </a:rPr>
              <a:t>Proporcjonalność odwrot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3348000" y="3141720"/>
                <a:ext cx="180036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6443640" y="4653000"/>
                <a:ext cx="216072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1908000" y="4724280"/>
                <a:ext cx="4384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3" name=""/>
          <p:cNvSpPr/>
          <p:nvPr/>
        </p:nvSpPr>
        <p:spPr>
          <a:xfrm>
            <a:off x="1187280" y="5332320"/>
            <a:ext cx="7135920" cy="1191240"/>
          </a:xfrm>
          <a:prstGeom prst="rect">
            <a:avLst/>
          </a:prstGeom>
          <a:solidFill>
            <a:srgbClr val="6a65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720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loczy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elkości odwrotnie proporcjonalnych jest stał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720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2700360" y="1773360"/>
            <a:ext cx="3954600" cy="424944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1042920" y="549360"/>
            <a:ext cx="7620120" cy="1143000"/>
          </a:xfrm>
          <a:prstGeom prst="rect">
            <a:avLst/>
          </a:prstGeom>
          <a:solidFill>
            <a:srgbClr val="8000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Times New Roman"/>
              </a:rPr>
              <a:t>Proporcjonalność odwrot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040" y="404280"/>
            <a:ext cx="7978680" cy="1143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Sprawdź, czy wielkości podane w tabelce są odwrotnie proporcjonalne.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1258920" y="2997000"/>
            <a:ext cx="739944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by podane wielkości były odwrotnie proporcjonalne, ich iloczyn musi być stały, liczymy więc   x ·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0,3 · 4 = 1,2             1 · 1,2 = 1,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3 · 0,4 = 1,2             2 · 0,6 = 1,2     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· 6 = 1,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1692360" y="2133720"/>
          <a:ext cx="6095880" cy="741240"/>
        </p:xfrm>
        <a:graphic>
          <a:graphicData uri="http://schemas.openxmlformats.org/drawingml/2006/table">
            <a:tbl>
              <a:tblPr/>
              <a:tblGrid>
                <a:gridCol w="1015920"/>
                <a:gridCol w="1016280"/>
                <a:gridCol w="1015920"/>
                <a:gridCol w="1015920"/>
                <a:gridCol w="1015920"/>
                <a:gridCol w="101592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1402920" y="549000"/>
            <a:ext cx="705636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oczyn jest stały więc podane wielkości są odwrotnie proporcjonal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spółczynnik proporcjonalności dla podanych wielkości to a = 1,2 a wzór wygląda następując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4836"/>
                </a:solidFill>
                <a:latin typeface="Times New Roman"/>
              </a:rPr>
              <a:t>UWA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dybyśmy w  jednym mnożeniu otrzymali inną liczbę, podane wielkości nie byłyby odwrotnie proporcjonaln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Obraz 5" descr="wz8.gif"/>
          <p:cNvPicPr/>
          <p:nvPr/>
        </p:nvPicPr>
        <p:blipFill>
          <a:blip r:embed="rId1"/>
          <a:stretch/>
        </p:blipFill>
        <p:spPr>
          <a:xfrm>
            <a:off x="3851280" y="2637000"/>
            <a:ext cx="1727280" cy="11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3534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ibliografi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http://www.zadania.info/29100?gclid=CIz8o_SMi7sCFYlF3godzjMA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http://www.matmana6.pl/tablice_matematyczne/studia/funkcje_jednej_zmiennej_rzeczywistej/127-definicja_i_wlasnosci_funk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660066"/>
                </a:solidFill>
                <a:uFillTx/>
                <a:latin typeface="Times New Roman"/>
                <a:hlinkClick r:id="rId3"/>
              </a:rPr>
              <a:t>http://www.zs5.lublin.pl/files/mjaworska/odczytywanie_wasnosci_funkcji_z_wykresow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660066"/>
                </a:solidFill>
                <a:uFillTx/>
                <a:latin typeface="Times New Roman"/>
                <a:hlinkClick r:id="rId4"/>
              </a:rPr>
              <a:t>http://</a:t>
            </a:r>
            <a:r>
              <a:rPr b="0" lang="pl-PL" sz="2400" spc="-1" strike="noStrike" u="sng">
                <a:solidFill>
                  <a:srgbClr val="660066"/>
                </a:solidFill>
                <a:uFillTx/>
                <a:latin typeface="Times New Roman"/>
                <a:hlinkClick r:id="rId5"/>
              </a:rPr>
              <a:t>www.megamatma.pl</a:t>
            </a:r>
            <a:r>
              <a:rPr b="0" lang="pl-PL" sz="2400" spc="-1" strike="noStrike" u="sng">
                <a:solidFill>
                  <a:srgbClr val="660066"/>
                </a:solidFill>
                <a:uFillTx/>
                <a:latin typeface="Times New Roman"/>
                <a:hlinkClick r:id="rId6"/>
              </a:rPr>
              <a:t>/uczniowie/gimnazjum/wykresy-funkcji/</a:t>
            </a:r>
            <a:r>
              <a:rPr b="0" lang="pl-PL" sz="2400" spc="-1" strike="noStrike" u="sng">
                <a:solidFill>
                  <a:srgbClr val="660066"/>
                </a:solidFill>
                <a:uFillTx/>
                <a:latin typeface="Times New Roman"/>
                <a:hlinkClick r:id="rId7"/>
              </a:rPr>
              <a:t>pojecie-funkcji-wykres-funk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660066"/>
                </a:solidFill>
                <a:uFillTx/>
                <a:latin typeface="Times New Roman"/>
                <a:hlinkClick r:id="rId8"/>
              </a:rPr>
              <a:t>http://www.matematykam.pl/funkcja_liniowa_-_wlasnosci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Zadanie 2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3880" y="114300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tóry graf nie przedstawia funkcji i dlacze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1905120"/>
            <a:ext cx="1066680" cy="1600200"/>
          </a:xfrm>
          <a:prstGeom prst="ellipse">
            <a:avLst/>
          </a:prstGeom>
          <a:gradFill rotWithShape="0">
            <a:gsLst>
              <a:gs pos="0">
                <a:srgbClr val="fefde3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71800" y="1905120"/>
            <a:ext cx="1066680" cy="1600200"/>
          </a:xfrm>
          <a:prstGeom prst="ellipse">
            <a:avLst/>
          </a:prstGeom>
          <a:gradFill rotWithShape="0">
            <a:gsLst>
              <a:gs pos="0">
                <a:srgbClr val="fefde3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1981080"/>
            <a:ext cx="1066680" cy="1600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1981080"/>
            <a:ext cx="1066680" cy="1600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4191120"/>
            <a:ext cx="1066680" cy="1600200"/>
          </a:xfrm>
          <a:prstGeom prst="ellipse">
            <a:avLst/>
          </a:prstGeom>
          <a:gradFill rotWithShape="0">
            <a:gsLst>
              <a:gs pos="0">
                <a:srgbClr val="fefde3"/>
              </a:gs>
              <a:gs pos="100000">
                <a:srgbClr val="a1bd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8120" y="4267080"/>
            <a:ext cx="1066680" cy="1600200"/>
          </a:xfrm>
          <a:prstGeom prst="ellipse">
            <a:avLst/>
          </a:prstGeom>
          <a:gradFill rotWithShape="0">
            <a:gsLst>
              <a:gs pos="0">
                <a:srgbClr val="fefde3"/>
              </a:gs>
              <a:gs pos="100000">
                <a:srgbClr val="a1bd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4114800"/>
            <a:ext cx="1066680" cy="1600200"/>
          </a:xfrm>
          <a:prstGeom prst="ellipse">
            <a:avLst/>
          </a:prstGeom>
          <a:gradFill rotWithShape="0">
            <a:gsLst>
              <a:gs pos="0">
                <a:srgbClr val="fefde3"/>
              </a:gs>
              <a:gs pos="100000">
                <a:srgbClr val="cc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191120"/>
            <a:ext cx="1066680" cy="1600200"/>
          </a:xfrm>
          <a:prstGeom prst="ellipse">
            <a:avLst/>
          </a:prstGeom>
          <a:gradFill rotWithShape="0">
            <a:gsLst>
              <a:gs pos="0">
                <a:srgbClr val="fefde3"/>
              </a:gs>
              <a:gs pos="100000">
                <a:srgbClr val="cc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81080" y="2209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2743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2286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280" y="28195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3124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4419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57400" y="4800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3372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81280" y="4495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05320" y="5029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2209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2514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00800" y="2819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48520" y="3276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772400" y="2819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7220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72200" y="5029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96080" y="5257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391520" y="4724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5410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09680" y="2286000"/>
            <a:ext cx="12956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57400" y="281952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77120" y="228600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72200" y="2590920"/>
            <a:ext cx="1523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2895480"/>
            <a:ext cx="1219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400800" y="3048120"/>
            <a:ext cx="1371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09680" y="4495680"/>
            <a:ext cx="12956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4876920"/>
            <a:ext cx="1295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362320" y="518112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00800" y="510552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6477120" y="487656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228600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22096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44956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Zadanie 1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43000" y="18288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cz wartość funkcji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(x) = 3x-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dla argumentów: x = -1,  x = 0,  x =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133720" y="29718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(-1) = 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-1) – 2 = -2 –2 = 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33720" y="403848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(0) = 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 – 2 = 0 –2 = 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09680" y="518148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(2) = 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– 2 = 4 –2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514600" y="457200"/>
            <a:ext cx="7747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5T22:19:16Z</dcterms:created>
  <dc:creator>ppp</dc:creator>
  <dc:description/>
  <dc:language>en-US</dc:language>
  <cp:lastModifiedBy>Matematyka</cp:lastModifiedBy>
  <dcterms:modified xsi:type="dcterms:W3CDTF">2014-03-01T14:34:05Z</dcterms:modified>
  <cp:revision>260</cp:revision>
  <dc:subject/>
  <dc:title>Prezentacja programu PowerPoint</dc:title>
</cp:coreProperties>
</file>