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4C6D-5C23-4178-B881-B384986D5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FF14-8AED-41F9-BDFA-41D188B81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C182-1C9A-4853-B08A-F15549ED5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6729-7F13-4ED6-8958-B7D81E46E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BC57D-6BF4-44F1-A8AF-59693C64B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F0BC8-343C-476D-A06F-36708C00F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74DCF-FAB8-4481-9C3B-823409B3C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52778-900B-4FB8-ACF0-66D942841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DF7DC-CB27-42DD-BA04-5DC7EB052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944E0-1FD8-4F5C-A4AA-01C271213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C7044-E846-4006-9A53-138AD5988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8889-400A-4958-8B9C-13E2A307B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E5F16-C087-4A2F-8B54-12EC3F2BB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9A390-CF34-4259-A331-9EF3594E9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86B81-0E91-4F63-949E-1BC6EA1F8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EF80E-7B61-4662-B546-A45BB4BDA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0F3FA-A273-4728-890E-D448F9377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5A9E-1ADD-43FF-BE42-D34BEE58F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588C-8F83-48CF-ACBE-F3E87D585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1DA7-ADC0-4D13-BE07-31012EB21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6200-4A34-4D24-8099-3816C2860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1A45-6C06-4F80-9967-A0B6CE884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D798-499F-43DC-B495-768239CC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0F70-A0E7-49C6-884F-D81C503B3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9E7FB-268C-4732-AE5C-0C831AB4C387}" type="slidenum">
              <a:rPr b="0" lang="pl-PL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358F3-F126-4E1F-B0AB-BB4E46B7BFF3}" type="slidenum">
              <a:rPr b="0" lang="pl-PL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matematyka.opracowania.pl/gimnazjum" TargetMode="External"/><Relationship Id="rId2" Type="http://schemas.openxmlformats.org/officeDocument/2006/relationships/hyperlink" Target="http://matematyka.opracowania.pl/gimnazjum" TargetMode="External"/><Relationship Id="rId3" Type="http://schemas.openxmlformats.org/officeDocument/2006/relationships/hyperlink" Target="http://matematyka.opracowania.pl/gimnazjum" TargetMode="External"/><Relationship Id="rId4" Type="http://schemas.openxmlformats.org/officeDocument/2006/relationships/hyperlink" Target="http://www.bazywiedzy.com/" TargetMode="External"/><Relationship Id="rId5" Type="http://schemas.openxmlformats.org/officeDocument/2006/relationships/hyperlink" Target="http://www.math.edu.pl/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7533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Działania na ułamkach  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             zwykłych.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13" descr="https://encrypted-tbn2.google.com/images?q=tbn:ANd9GcTuJznYrdSIQvgCyBgJ8_kDlQDHh7PXBlEQqajPm_FwQibDsiG1"/>
          <p:cNvPicPr/>
          <p:nvPr/>
        </p:nvPicPr>
        <p:blipFill>
          <a:blip r:embed="rId1"/>
          <a:stretch/>
        </p:blipFill>
        <p:spPr>
          <a:xfrm>
            <a:off x="1258920" y="3645000"/>
            <a:ext cx="1676520" cy="29145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https://encrypted-tbn0.google.com/images?q=tbn:ANd9GcSnO5gGpeO6pq_FwPES-Gk1vxmJtdip9CFBq1FYFS-ofchE9wSr"/>
          <p:cNvPicPr/>
          <p:nvPr/>
        </p:nvPicPr>
        <p:blipFill>
          <a:blip r:embed="rId2"/>
          <a:stretch/>
        </p:blipFill>
        <p:spPr>
          <a:xfrm>
            <a:off x="7451640" y="4346640"/>
            <a:ext cx="1414440" cy="2511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      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320" y="1628640"/>
            <a:ext cx="75438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Jeśli dwa ułamki, które chcemy  odjąć mają różne mianowniki to należy najpierw sprowadzić je do wspólnego mianownika, następnie odjąć liczniki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" descr="Odejmowanie ułamków zwykłych ze sprowadzaniem do wspólnego mianownika - przykład"/>
          <p:cNvPicPr/>
          <p:nvPr/>
        </p:nvPicPr>
        <p:blipFill>
          <a:blip r:embed="rId1"/>
          <a:stretch/>
        </p:blipFill>
        <p:spPr>
          <a:xfrm>
            <a:off x="4284720" y="4437000"/>
            <a:ext cx="4680000" cy="15242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        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320" y="836280"/>
            <a:ext cx="754380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żeli po sprowadzeniu ułamków do wspólnego mianownika część ułamkowa pierwszego z ułamków jest mniejsza od drugiego, należy zmniejszyć całości o jede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492360" y="3429000"/>
            <a:ext cx="5257800" cy="2583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      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Mnożenie </a:t>
            </a: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ułamków zwykłych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6920" y="1989000"/>
            <a:ext cx="75438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y pomnożyć dwa ułamki zwykłe należy wymnożyć ze sobą licznik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mianowniki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1" name="" descr="Mnożenie ułamków zwykłych - przykład"/>
          <p:cNvPicPr/>
          <p:nvPr/>
        </p:nvPicPr>
        <p:blipFill>
          <a:blip r:embed="rId1"/>
          <a:stretch/>
        </p:blipFill>
        <p:spPr>
          <a:xfrm>
            <a:off x="4140360" y="3716280"/>
            <a:ext cx="4103640" cy="16909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202" name="Picture 3" descr=""/>
          <p:cNvPicPr/>
          <p:nvPr/>
        </p:nvPicPr>
        <p:blipFill>
          <a:blip r:embed="rId2"/>
          <a:stretch/>
        </p:blipFill>
        <p:spPr>
          <a:xfrm>
            <a:off x="1116000" y="3860640"/>
            <a:ext cx="3024360" cy="1049400"/>
          </a:xfrm>
          <a:prstGeom prst="rect">
            <a:avLst/>
          </a:prstGeom>
          <a:ln w="25560">
            <a:solidFill>
              <a:srgbClr val="ff0101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            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15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y pomnożyć liczbę naturalną przez ułamek (lub odwrotnie), mnożymy licznik ułamka przez tę liczbę,                    a mianownik zostawiamy bez zmia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0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2843280" y="4221000"/>
            <a:ext cx="3241440" cy="1140120"/>
          </a:xfrm>
          <a:prstGeom prst="rect">
            <a:avLst/>
          </a:prstGeom>
          <a:ln w="25560">
            <a:solidFill>
              <a:srgbClr val="ff0101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7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           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żeli chcemy pomnożyć przez siebie  dwie liczby mieszane, to obie zamieniamy na ułamki niewłaściwe                                    i mnożymy licznik przez licznik,                a mianownik przez mianowni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1258920" y="4581360"/>
            <a:ext cx="7128000" cy="1217880"/>
          </a:xfrm>
          <a:prstGeom prst="rect">
            <a:avLst/>
          </a:prstGeom>
          <a:ln w="25560">
            <a:solidFill>
              <a:srgbClr val="ff0101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Przed wykonaniem mnożenia skracamy ułamki.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42560" y="1989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28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28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28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835280" y="2133720"/>
            <a:ext cx="5184720" cy="3663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15" name=""/>
          <p:cNvSpPr/>
          <p:nvPr/>
        </p:nvSpPr>
        <p:spPr>
          <a:xfrm>
            <a:off x="3419640" y="2349360"/>
            <a:ext cx="215640" cy="28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851280" y="2852640"/>
            <a:ext cx="21600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 rot="5400000">
            <a:off x="3277080" y="2275560"/>
            <a:ext cx="142560" cy="144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3</a:t>
            </a:r>
            <a:endParaRPr b="0" lang="en-US" sz="12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 rot="5400000">
            <a:off x="3996360" y="2923200"/>
            <a:ext cx="142920" cy="144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2</a:t>
            </a:r>
            <a:endParaRPr b="0" lang="en-US" sz="12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492360" y="2349360"/>
            <a:ext cx="142920" cy="287640"/>
          </a:xfrm>
          <a:prstGeom prst="line">
            <a:avLst/>
          </a:prstGeom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851280" y="2852640"/>
            <a:ext cx="144360" cy="216000"/>
          </a:xfrm>
          <a:prstGeom prst="line">
            <a:avLst/>
          </a:prstGeom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       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zielenie </a:t>
            </a: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ułamków zwykłych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23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dzielenie ułamków zwykłych jest równoznaczne z wymnożeniem pierwszego ułamka przez odwrotność drugiego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" descr="Dzielenie ułamków zwykłych - przykład"/>
          <p:cNvPicPr/>
          <p:nvPr/>
        </p:nvPicPr>
        <p:blipFill>
          <a:blip r:embed="rId1"/>
          <a:stretch/>
        </p:blipFill>
        <p:spPr>
          <a:xfrm>
            <a:off x="3924360" y="3645000"/>
            <a:ext cx="3889440" cy="13525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224" name="Picture 2" descr=""/>
          <p:cNvPicPr/>
          <p:nvPr/>
        </p:nvPicPr>
        <p:blipFill>
          <a:blip r:embed="rId2"/>
          <a:stretch/>
        </p:blipFill>
        <p:spPr>
          <a:xfrm>
            <a:off x="1187280" y="5013360"/>
            <a:ext cx="3918240" cy="1135080"/>
          </a:xfrm>
          <a:prstGeom prst="rect">
            <a:avLst/>
          </a:prstGeom>
          <a:ln w="25560">
            <a:solidFill>
              <a:srgbClr val="ff0101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1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37213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rzykład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58920" y="1989000"/>
            <a:ext cx="5473800" cy="36356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Literatura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28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http://</a:t>
            </a:r>
            <a:r>
              <a:rPr b="0" lang="pl-PL" sz="32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matematyka.opracowania.pl</a:t>
            </a:r>
            <a:r>
              <a:rPr b="0" lang="pl-PL" sz="3200" spc="-1" strike="noStrike" u="sng">
                <a:solidFill>
                  <a:srgbClr val="ffffcc"/>
                </a:solidFill>
                <a:uFillTx/>
                <a:latin typeface="Tahoma"/>
                <a:hlinkClick r:id="rId3"/>
              </a:rPr>
              <a:t>/gimnazjum</a:t>
            </a:r>
            <a:r>
              <a:rPr b="0" lang="pl-PL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ffffcc"/>
                </a:solidFill>
                <a:uFillTx/>
                <a:latin typeface="Tahoma"/>
                <a:hlinkClick r:id="rId4"/>
              </a:rPr>
              <a:t>http://www.bazywiedzy.com/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ffffcc"/>
                </a:solidFill>
                <a:uFillTx/>
                <a:latin typeface="Tahoma"/>
                <a:hlinkClick r:id="rId5"/>
              </a:rPr>
              <a:t>http://www.math.edu.pl/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250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     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odawanie </a:t>
            </a: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ułamków zwykłych.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żeli dwa ułamki mają identyczne mianowniki to aby je dodać należy dodać liczniki tych ułamków                                 a mianownik pozostawić bez zmia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2556000" y="4076640"/>
            <a:ext cx="2808000" cy="1312920"/>
          </a:xfrm>
          <a:prstGeom prst="rect">
            <a:avLst/>
          </a:prstGeom>
          <a:ln w="25560">
            <a:solidFill>
              <a:srgbClr val="ff0101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rzykład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1024"/>
              <p:cNvSpPr txBox="1"/>
              <p:nvPr/>
            </p:nvSpPr>
            <p:spPr>
              <a:xfrm>
                <a:off x="1908000" y="3068640"/>
                <a:ext cx="36036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22" name="Group 36"/>
          <p:cNvGrpSpPr/>
          <p:nvPr/>
        </p:nvGrpSpPr>
        <p:grpSpPr>
          <a:xfrm>
            <a:off x="1042920" y="2060640"/>
            <a:ext cx="7467840" cy="838080"/>
            <a:chOff x="1042920" y="2060640"/>
            <a:chExt cx="7467840" cy="838080"/>
          </a:xfrm>
        </p:grpSpPr>
        <p:sp>
          <p:nvSpPr>
            <p:cNvPr id="123" name="Rectangle 21"/>
            <p:cNvSpPr/>
            <p:nvPr/>
          </p:nvSpPr>
          <p:spPr>
            <a:xfrm>
              <a:off x="6448320" y="2060640"/>
              <a:ext cx="2062440" cy="8380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Text Box 25"/>
            <p:cNvSpPr/>
            <p:nvPr/>
          </p:nvSpPr>
          <p:spPr>
            <a:xfrm>
              <a:off x="3250440" y="22201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Text Box 26"/>
            <p:cNvSpPr/>
            <p:nvPr/>
          </p:nvSpPr>
          <p:spPr>
            <a:xfrm>
              <a:off x="5939640" y="22500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6" name="Group 30"/>
            <p:cNvGrpSpPr/>
            <p:nvPr/>
          </p:nvGrpSpPr>
          <p:grpSpPr>
            <a:xfrm>
              <a:off x="1042920" y="2060640"/>
              <a:ext cx="2062440" cy="838080"/>
              <a:chOff x="1042920" y="2060640"/>
              <a:chExt cx="2062440" cy="838080"/>
            </a:xfrm>
          </p:grpSpPr>
          <p:grpSp>
            <p:nvGrpSpPr>
              <p:cNvPr id="127" name="Group 5"/>
              <p:cNvGrpSpPr/>
              <p:nvPr/>
            </p:nvGrpSpPr>
            <p:grpSpPr>
              <a:xfrm>
                <a:off x="1042920" y="2060640"/>
                <a:ext cx="2062440" cy="838080"/>
                <a:chOff x="1042920" y="2060640"/>
                <a:chExt cx="2062440" cy="838080"/>
              </a:xfrm>
            </p:grpSpPr>
            <p:sp>
              <p:nvSpPr>
                <p:cNvPr id="128" name="Rectangle 6"/>
                <p:cNvSpPr/>
                <p:nvPr/>
              </p:nvSpPr>
              <p:spPr>
                <a:xfrm>
                  <a:off x="1042920" y="2060640"/>
                  <a:ext cx="2062440" cy="838080"/>
                </a:xfrm>
                <a:prstGeom prst="rect">
                  <a:avLst/>
                </a:prstGeom>
                <a:solidFill>
                  <a:srgbClr val="66cc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" name="Line 7"/>
                <p:cNvSpPr/>
                <p:nvPr/>
              </p:nvSpPr>
              <p:spPr>
                <a:xfrm>
                  <a:off x="1042920" y="2479680"/>
                  <a:ext cx="20624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" name="Rectangle 28"/>
              <p:cNvSpPr/>
              <p:nvPr/>
            </p:nvSpPr>
            <p:spPr>
              <a:xfrm>
                <a:off x="1042920" y="2060640"/>
                <a:ext cx="1351080" cy="419040"/>
              </a:xfrm>
              <a:prstGeom prst="rect">
                <a:avLst/>
              </a:prstGeom>
              <a:solidFill>
                <a:srgbClr val="9900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Line 10"/>
              <p:cNvSpPr/>
              <p:nvPr/>
            </p:nvSpPr>
            <p:spPr>
              <a:xfrm>
                <a:off x="1682640" y="2060640"/>
                <a:ext cx="0" cy="838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Line 11"/>
              <p:cNvSpPr/>
              <p:nvPr/>
            </p:nvSpPr>
            <p:spPr>
              <a:xfrm>
                <a:off x="2394000" y="2060640"/>
                <a:ext cx="0" cy="838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Rectangle 29"/>
              <p:cNvSpPr/>
              <p:nvPr/>
            </p:nvSpPr>
            <p:spPr>
              <a:xfrm>
                <a:off x="1042920" y="2479680"/>
                <a:ext cx="639720" cy="418680"/>
              </a:xfrm>
              <a:prstGeom prst="rect">
                <a:avLst/>
              </a:prstGeom>
              <a:solidFill>
                <a:srgbClr val="9900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4" name="Group 32"/>
            <p:cNvGrpSpPr/>
            <p:nvPr/>
          </p:nvGrpSpPr>
          <p:grpSpPr>
            <a:xfrm>
              <a:off x="3674520" y="2060640"/>
              <a:ext cx="2062440" cy="838080"/>
              <a:chOff x="3674520" y="2060640"/>
              <a:chExt cx="2062440" cy="838080"/>
            </a:xfrm>
          </p:grpSpPr>
          <p:grpSp>
            <p:nvGrpSpPr>
              <p:cNvPr id="135" name="Group 14"/>
              <p:cNvGrpSpPr/>
              <p:nvPr/>
            </p:nvGrpSpPr>
            <p:grpSpPr>
              <a:xfrm>
                <a:off x="3674520" y="2060640"/>
                <a:ext cx="2062440" cy="838080"/>
                <a:chOff x="3674520" y="2060640"/>
                <a:chExt cx="2062440" cy="838080"/>
              </a:xfrm>
            </p:grpSpPr>
            <p:sp>
              <p:nvSpPr>
                <p:cNvPr id="136" name="Rectangle 15"/>
                <p:cNvSpPr/>
                <p:nvPr/>
              </p:nvSpPr>
              <p:spPr>
                <a:xfrm>
                  <a:off x="3674520" y="2060640"/>
                  <a:ext cx="2062440" cy="838080"/>
                </a:xfrm>
                <a:prstGeom prst="rect">
                  <a:avLst/>
                </a:prstGeom>
                <a:solidFill>
                  <a:srgbClr val="66cc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Line 16"/>
                <p:cNvSpPr/>
                <p:nvPr/>
              </p:nvSpPr>
              <p:spPr>
                <a:xfrm>
                  <a:off x="3674520" y="2479680"/>
                  <a:ext cx="20624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" name="Rectangle 31"/>
              <p:cNvSpPr/>
              <p:nvPr/>
            </p:nvSpPr>
            <p:spPr>
              <a:xfrm>
                <a:off x="4314600" y="2479680"/>
                <a:ext cx="1422000" cy="418680"/>
              </a:xfrm>
              <a:prstGeom prst="rect">
                <a:avLst/>
              </a:prstGeom>
              <a:solidFill>
                <a:srgbClr val="9900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Line 18"/>
              <p:cNvSpPr/>
              <p:nvPr/>
            </p:nvSpPr>
            <p:spPr>
              <a:xfrm>
                <a:off x="5025960" y="2060640"/>
                <a:ext cx="0" cy="838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Line 17"/>
              <p:cNvSpPr/>
              <p:nvPr/>
            </p:nvSpPr>
            <p:spPr>
              <a:xfrm>
                <a:off x="4314600" y="2060640"/>
                <a:ext cx="0" cy="838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1" name="Rectangle 33"/>
            <p:cNvSpPr/>
            <p:nvPr/>
          </p:nvSpPr>
          <p:spPr>
            <a:xfrm>
              <a:off x="6448320" y="2060640"/>
              <a:ext cx="2062440" cy="419040"/>
            </a:xfrm>
            <a:prstGeom prst="rect">
              <a:avLst/>
            </a:prstGeom>
            <a:solidFill>
              <a:srgbClr val="99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Line 22"/>
            <p:cNvSpPr/>
            <p:nvPr/>
          </p:nvSpPr>
          <p:spPr>
            <a:xfrm>
              <a:off x="6448320" y="2479680"/>
              <a:ext cx="2062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>
              <a:off x="7799760" y="2060640"/>
              <a:ext cx="0" cy="83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Rectangle 35"/>
            <p:cNvSpPr/>
            <p:nvPr/>
          </p:nvSpPr>
          <p:spPr>
            <a:xfrm>
              <a:off x="6448320" y="2479680"/>
              <a:ext cx="1351080" cy="418680"/>
            </a:xfrm>
            <a:prstGeom prst="rect">
              <a:avLst/>
            </a:prstGeom>
            <a:solidFill>
              <a:srgbClr val="99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Line 23"/>
            <p:cNvSpPr/>
            <p:nvPr/>
          </p:nvSpPr>
          <p:spPr>
            <a:xfrm>
              <a:off x="7088400" y="2060640"/>
              <a:ext cx="0" cy="83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6" name="Group 72"/>
          <p:cNvGrpSpPr/>
          <p:nvPr/>
        </p:nvGrpSpPr>
        <p:grpSpPr>
          <a:xfrm>
            <a:off x="1692360" y="4076640"/>
            <a:ext cx="5615640" cy="1657080"/>
            <a:chOff x="1692360" y="4076640"/>
            <a:chExt cx="5615640" cy="1657080"/>
          </a:xfrm>
        </p:grpSpPr>
        <p:grpSp>
          <p:nvGrpSpPr>
            <p:cNvPr id="147" name="Group 52"/>
            <p:cNvGrpSpPr/>
            <p:nvPr/>
          </p:nvGrpSpPr>
          <p:grpSpPr>
            <a:xfrm>
              <a:off x="1692360" y="4724280"/>
              <a:ext cx="5615640" cy="432360"/>
              <a:chOff x="1692360" y="4724280"/>
              <a:chExt cx="5615640" cy="432360"/>
            </a:xfrm>
          </p:grpSpPr>
          <p:sp>
            <p:nvSpPr>
              <p:cNvPr id="148" name="Line 44"/>
              <p:cNvSpPr/>
              <p:nvPr/>
            </p:nvSpPr>
            <p:spPr>
              <a:xfrm>
                <a:off x="1692360" y="4940280"/>
                <a:ext cx="5615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Line 45"/>
              <p:cNvSpPr/>
              <p:nvPr/>
            </p:nvSpPr>
            <p:spPr>
              <a:xfrm>
                <a:off x="2099520" y="4724280"/>
                <a:ext cx="0" cy="432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Line 46"/>
              <p:cNvSpPr/>
              <p:nvPr/>
            </p:nvSpPr>
            <p:spPr>
              <a:xfrm>
                <a:off x="2506320" y="4724280"/>
                <a:ext cx="0" cy="432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Line 47"/>
              <p:cNvSpPr/>
              <p:nvPr/>
            </p:nvSpPr>
            <p:spPr>
              <a:xfrm>
                <a:off x="2913120" y="4724280"/>
                <a:ext cx="0" cy="432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Line 48"/>
              <p:cNvSpPr/>
              <p:nvPr/>
            </p:nvSpPr>
            <p:spPr>
              <a:xfrm>
                <a:off x="3320280" y="4724280"/>
                <a:ext cx="0" cy="432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Line 49"/>
              <p:cNvSpPr/>
              <p:nvPr/>
            </p:nvSpPr>
            <p:spPr>
              <a:xfrm>
                <a:off x="3727080" y="4724280"/>
                <a:ext cx="0" cy="432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Line 50"/>
              <p:cNvSpPr/>
              <p:nvPr/>
            </p:nvSpPr>
            <p:spPr>
              <a:xfrm>
                <a:off x="4133880" y="4724280"/>
                <a:ext cx="0" cy="432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5" name="Text Box 51"/>
            <p:cNvSpPr/>
            <p:nvPr/>
          </p:nvSpPr>
          <p:spPr>
            <a:xfrm>
              <a:off x="1950840" y="5073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6" name="Object 1030"/>
                <p:cNvSpPr txBox="1"/>
                <p:nvPr/>
              </p:nvSpPr>
              <p:spPr>
                <a:xfrm>
                  <a:off x="2831400" y="5156640"/>
                  <a:ext cx="250560" cy="57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57" name="Text Box 56"/>
            <p:cNvSpPr/>
            <p:nvPr/>
          </p:nvSpPr>
          <p:spPr>
            <a:xfrm>
              <a:off x="3971880" y="5073120"/>
              <a:ext cx="38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Arc 57"/>
            <p:cNvSpPr/>
            <p:nvPr/>
          </p:nvSpPr>
          <p:spPr>
            <a:xfrm>
              <a:off x="2913840" y="4653720"/>
              <a:ext cx="1216440" cy="7905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9" name="Group 61"/>
            <p:cNvGrpSpPr/>
            <p:nvPr/>
          </p:nvGrpSpPr>
          <p:grpSpPr>
            <a:xfrm>
              <a:off x="3089160" y="4076640"/>
              <a:ext cx="552240" cy="576720"/>
              <a:chOff x="3089160" y="4076640"/>
              <a:chExt cx="552240" cy="576720"/>
            </a:xfrm>
          </p:grpSpPr>
          <p:sp>
            <p:nvSpPr>
              <p:cNvPr id="160" name="Text Box 58"/>
              <p:cNvSpPr/>
              <p:nvPr/>
            </p:nvSpPr>
            <p:spPr>
              <a:xfrm>
                <a:off x="3089160" y="4134960"/>
                <a:ext cx="352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61" name="Object 1031"/>
                  <p:cNvSpPr txBox="1"/>
                  <p:nvPr/>
                </p:nvSpPr>
                <p:spPr>
                  <a:xfrm>
                    <a:off x="3409200" y="4076640"/>
                    <a:ext cx="232200" cy="576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162" name="Object 1025"/>
              <p:cNvSpPr txBox="1"/>
              <p:nvPr/>
            </p:nvSpPr>
            <p:spPr>
              <a:xfrm>
                <a:off x="4500720" y="3213000"/>
                <a:ext cx="35064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1026"/>
              <p:cNvSpPr txBox="1"/>
              <p:nvPr/>
            </p:nvSpPr>
            <p:spPr>
              <a:xfrm>
                <a:off x="7236000" y="3141720"/>
                <a:ext cx="3092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64" name="Group 70"/>
          <p:cNvGrpSpPr/>
          <p:nvPr/>
        </p:nvGrpSpPr>
        <p:grpSpPr>
          <a:xfrm>
            <a:off x="5148360" y="5300640"/>
            <a:ext cx="2633040" cy="779040"/>
            <a:chOff x="5148360" y="5300640"/>
            <a:chExt cx="2633040" cy="779040"/>
          </a:xfrm>
        </p:grpSpPr>
        <p:grpSp>
          <p:nvGrpSpPr>
            <p:cNvPr id="165" name="Group 62"/>
            <p:cNvGrpSpPr/>
            <p:nvPr/>
          </p:nvGrpSpPr>
          <p:grpSpPr>
            <a:xfrm>
              <a:off x="5506920" y="5300640"/>
              <a:ext cx="632160" cy="778680"/>
              <a:chOff x="5506920" y="5300640"/>
              <a:chExt cx="632160" cy="778680"/>
            </a:xfrm>
          </p:grpSpPr>
          <p:sp>
            <p:nvSpPr>
              <p:cNvPr id="166" name="Text Box 63"/>
              <p:cNvSpPr/>
              <p:nvPr/>
            </p:nvSpPr>
            <p:spPr>
              <a:xfrm>
                <a:off x="5506920" y="5461200"/>
                <a:ext cx="3528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67" name="Object 1029"/>
                  <p:cNvSpPr txBox="1"/>
                  <p:nvPr/>
                </p:nvSpPr>
                <p:spPr>
                  <a:xfrm>
                    <a:off x="5856840" y="5300640"/>
                    <a:ext cx="282240" cy="778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68" name="Object 1027"/>
                <p:cNvSpPr txBox="1"/>
                <p:nvPr/>
              </p:nvSpPr>
              <p:spPr>
                <a:xfrm>
                  <a:off x="5148360" y="5300640"/>
                  <a:ext cx="304920" cy="77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69" name="Text Box 66"/>
            <p:cNvSpPr/>
            <p:nvPr/>
          </p:nvSpPr>
          <p:spPr>
            <a:xfrm>
              <a:off x="6151680" y="5496840"/>
              <a:ext cx="399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0" name="Object 1028"/>
                <p:cNvSpPr txBox="1"/>
                <p:nvPr/>
              </p:nvSpPr>
              <p:spPr>
                <a:xfrm>
                  <a:off x="6664320" y="5300640"/>
                  <a:ext cx="281880" cy="77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71" name="Text Box 68"/>
            <p:cNvSpPr/>
            <p:nvPr/>
          </p:nvSpPr>
          <p:spPr>
            <a:xfrm>
              <a:off x="6955200" y="5496840"/>
              <a:ext cx="4010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Text Box 69"/>
            <p:cNvSpPr/>
            <p:nvPr/>
          </p:nvSpPr>
          <p:spPr>
            <a:xfrm>
              <a:off x="7372080" y="5406480"/>
              <a:ext cx="409320" cy="642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8500"/>
                            </p:stCondLst>
                            <p:childTnLst>
                              <p:par>
                                <p:cTn id="27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1000"/>
                            </p:stCondLst>
                            <p:childTnLst>
                              <p:par>
                                <p:cTn id="31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3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         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1"/>
          <a:stretch/>
        </p:blipFill>
        <p:spPr>
          <a:xfrm>
            <a:off x="5292720" y="4724280"/>
            <a:ext cx="2975040" cy="1044720"/>
          </a:xfrm>
          <a:prstGeom prst="rect">
            <a:avLst/>
          </a:prstGeom>
          <a:ln w="25560">
            <a:solidFill>
              <a:srgbClr val="ff0101"/>
            </a:solidFill>
            <a:miter/>
          </a:ln>
        </p:spPr>
      </p:pic>
      <p:sp>
        <p:nvSpPr>
          <p:cNvPr id="175" name=""/>
          <p:cNvSpPr/>
          <p:nvPr/>
        </p:nvSpPr>
        <p:spPr>
          <a:xfrm>
            <a:off x="1116000" y="1916280"/>
            <a:ext cx="691344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Jeżeli chcemy dodać liczby mieszane, dodajemy całości do całości, a ułamki do ułamków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1025"/>
              <p:cNvSpPr txBox="1"/>
              <p:nvPr/>
            </p:nvSpPr>
            <p:spPr>
              <a:xfrm>
                <a:off x="1332000" y="4724280"/>
                <a:ext cx="338436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7" name="Arc 152"/>
          <p:cNvSpPr/>
          <p:nvPr/>
        </p:nvSpPr>
        <p:spPr>
          <a:xfrm>
            <a:off x="1403280" y="4221000"/>
            <a:ext cx="863640" cy="381240"/>
          </a:xfrm>
          <a:prstGeom prst="pie">
            <a:avLst/>
          </a:prstGeom>
          <a:noFill/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rc 151"/>
          <p:cNvSpPr/>
          <p:nvPr/>
        </p:nvSpPr>
        <p:spPr>
          <a:xfrm>
            <a:off x="1835280" y="4292640"/>
            <a:ext cx="792000" cy="38088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66320" y="764640"/>
            <a:ext cx="75438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śli dwa ułamki, które chcemy  dodać   mają różne mianowniki to należy najpierw sprowadzić je do wspólnego mianownika, następnie dodać liczniki. Dąży się do tego aby wspólny mianownik był możliwie najmniejszy.  </a:t>
            </a:r>
            <a:br>
              <a:rPr sz="32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" descr="Sprowadzanie do wspólnego mianownika - przykład"/>
          <p:cNvPicPr/>
          <p:nvPr/>
        </p:nvPicPr>
        <p:blipFill>
          <a:blip r:embed="rId1"/>
          <a:stretch/>
        </p:blipFill>
        <p:spPr>
          <a:xfrm>
            <a:off x="2916360" y="4221000"/>
            <a:ext cx="4032000" cy="17449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rzykład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83" name="" descr="Dodawanie i odejmowanie u&amp;lstrok;amków o ró&amp;zdot;nych mianownikach. Najpierw sprowadzamy u&amp;lstrok;amki do wspólnego mianownika, którym jest 6 (najmniejsza wspólna wielokrotno&amp;sacute;&amp;cacute; liczb 2 i 3)."/>
          <p:cNvPicPr/>
          <p:nvPr/>
        </p:nvPicPr>
        <p:blipFill>
          <a:blip r:embed="rId1"/>
          <a:stretch/>
        </p:blipFill>
        <p:spPr>
          <a:xfrm>
            <a:off x="1090440" y="1916280"/>
            <a:ext cx="8053560" cy="32097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42560" y="333360"/>
            <a:ext cx="381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rzykład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357720" y="3457440"/>
            <a:ext cx="2962080" cy="11620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971640" y="1916280"/>
            <a:ext cx="6912000" cy="27111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    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Odejmowanie</a:t>
            </a: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ułamków zwykłych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25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żeli dwa ułamki mają identyczne mianowniki to aby je odjąć należy odjąć liczniki tych ułamków                 a mianownik pozostawić bez zmian: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2916360" y="4292640"/>
            <a:ext cx="3384360" cy="1274760"/>
          </a:xfrm>
          <a:prstGeom prst="rect">
            <a:avLst/>
          </a:prstGeom>
          <a:ln w="25560">
            <a:solidFill>
              <a:srgbClr val="ff0101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3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           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9758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Jeżeli chcemy odjąć liczby mieszane, odejmujemy całości od całości, a ułamki od ułamków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" descr="Odejmowanie u&amp;lstrok;amków zwyk&amp;lstrok;ych."/>
          <p:cNvPicPr/>
          <p:nvPr/>
        </p:nvPicPr>
        <p:blipFill>
          <a:blip r:embed="rId1"/>
          <a:stretch/>
        </p:blipFill>
        <p:spPr>
          <a:xfrm>
            <a:off x="1547640" y="3500280"/>
            <a:ext cx="6769440" cy="2592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0T16:32:07Z</dcterms:created>
  <dc:creator>x</dc:creator>
  <dc:description/>
  <dc:language>en-US</dc:language>
  <cp:lastModifiedBy>x</cp:lastModifiedBy>
  <dcterms:modified xsi:type="dcterms:W3CDTF">2013-04-22T17:34:45Z</dcterms:modified>
  <cp:revision>47</cp:revision>
  <dc:subject/>
  <dc:title>Dodawanie i odejmowanie ułamków zwykłych</dc:title>
</cp:coreProperties>
</file>