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9FFCE-E9E4-47C5-A62C-DDCE3543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0305E-5422-488D-860A-90E7441A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4276A-5BA7-442B-B412-F66357F6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0AA3-9541-4761-9256-504B6E97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82D0-DFAF-4F80-AD11-13178803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CF2B-9F83-484C-BF24-140C21B1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A52E-0D2A-4F94-8109-5655D7C3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F4FC-0360-447F-9654-79893761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3BBB-CE73-4425-B401-146C6A6F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065A-A300-477A-9542-BDC5D272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3BC2-F882-48F8-BCF4-F42DA8F4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774BC-0AD2-488C-95A4-81A01BC0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46C1-8681-4DCB-82FA-12E2919C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5E88-FAE4-464B-8545-CD7C3DC5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B98C-5690-4E97-8CFF-7F08A94F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7253-D32D-4DAC-885B-27851230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9FD5-83F6-482E-8596-E13385CE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0A0A9-B3CE-4D9E-9697-1BCF74B1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B1FD4-C82C-471E-A010-2AFE3B06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3F934-9F09-4598-918B-5DEF4C51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DE79B-3F00-4892-905A-59758A59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D1658-F16E-4BF6-A2A4-D8202FAD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88FEC-8EA0-4F2A-99D7-69B2ACA5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35737-B221-40AD-8C9E-3C00E1AB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93C6-7EE4-46A5-953C-FE5FCCC3A8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69FD-B22E-4210-9346-5A6905D37A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Zaokrąglanie liczb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 i szacowanie wyników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lejność wykonywania działań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673640" y="1519920"/>
            <a:ext cx="5376240" cy="2949480"/>
          </a:xfrm>
          <a:prstGeom prst="rect">
            <a:avLst/>
          </a:prstGeom>
          <a:solidFill>
            <a:srgbClr val="66ccff"/>
          </a:solidFill>
          <a:ln w="1584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Garamond"/>
              </a:rPr>
              <a:t>Przy zaokrąglaniu w miejsce znaku równości ( = ) używa się znaku przybliżenia ( ≈ 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żeli mówimy, że chcemy zaokrąglić liczbę d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części dziesiątyc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pozostawiamy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jedną cyfrę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o przecinku (po zaokrągleniu),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części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setnych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 cyf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o przecink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0099cc"/>
                </a:solidFill>
                <a:latin typeface="Garamond"/>
              </a:rPr>
              <a:t>części tysięcznyc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1" lang="en-US" sz="3200" spc="-1" strike="noStrike">
                <a:solidFill>
                  <a:srgbClr val="0099cc"/>
                </a:solidFill>
                <a:latin typeface="Garamond"/>
              </a:rPr>
              <a:t>3 cyf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 tak dalej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12000" y="5373720"/>
                <a:ext cx="10796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042920" y="5191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ęsto chcemy zaokrąglić liczb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kreślając jej rzą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5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WAGA 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27200" y="2827440"/>
            <a:ext cx="5397480" cy="2081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4360" y="1844640"/>
            <a:ext cx="7775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a886e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Zapis liczby naturalnej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WAGA 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Zapis liczby w ułamku dziesiętny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09080" y="2899080"/>
            <a:ext cx="5897880" cy="1834560"/>
            <a:chOff x="1909080" y="2899080"/>
            <a:chExt cx="5897880" cy="1834560"/>
          </a:xfrm>
        </p:grpSpPr>
        <p:sp>
          <p:nvSpPr>
            <p:cNvPr id="140" name=""/>
            <p:cNvSpPr/>
            <p:nvPr/>
          </p:nvSpPr>
          <p:spPr>
            <a:xfrm>
              <a:off x="1909080" y="2899080"/>
              <a:ext cx="5897880" cy="183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0000"/>
                  </a:solidFill>
                  <a:latin typeface="Arial"/>
                </a:rPr>
                <a:t>                  </a:t>
              </a:r>
              <a:r>
                <a:rPr b="1" lang="pl-PL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2000" spc="-1" strike="noStrike">
                  <a:solidFill>
                    <a:srgbClr val="003399"/>
                  </a:solidFill>
                  <a:latin typeface="Arial"/>
                </a:rPr>
                <a:t>,</a:t>
              </a: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3 </a:t>
              </a: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pl-PL" sz="2000" spc="-1" strike="noStrike">
                  <a:solidFill>
                    <a:srgbClr val="ff9900"/>
                  </a:solidFill>
                  <a:latin typeface="Arial"/>
                </a:rPr>
                <a:t>4    </a:t>
              </a: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2000" spc="-1" strike="noStrike">
                  <a:solidFill>
                    <a:srgbClr val="008000"/>
                  </a:solidFill>
                  <a:latin typeface="Arial"/>
                </a:rPr>
                <a:t>5     </a:t>
              </a:r>
              <a:r>
                <a:rPr b="1" lang="pl-PL" sz="2000" spc="-1" strike="noStrike">
                  <a:solidFill>
                    <a:srgbClr val="800080"/>
                  </a:solidFill>
                  <a:latin typeface="Arial"/>
                </a:rPr>
                <a:t>2</a:t>
              </a:r>
              <a:r>
                <a:rPr b="1" lang="pl-PL" sz="2000" spc="-1" strike="noStrike">
                  <a:solidFill>
                    <a:srgbClr val="008000"/>
                  </a:solidFill>
                  <a:latin typeface="Arial"/>
                </a:rPr>
                <a:t>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0000"/>
                  </a:solidFill>
                  <a:latin typeface="Arial Narrow"/>
                </a:rPr>
                <a:t>jedno</a:t>
              </a:r>
              <a:r>
                <a:rPr b="1" lang="pl-PL" sz="1600" spc="-1" strike="noStrike">
                  <a:solidFill>
                    <a:srgbClr val="ff0000"/>
                  </a:solidFill>
                  <a:latin typeface="Arial Narrow"/>
                </a:rPr>
                <a:t>ś</a:t>
              </a:r>
              <a:r>
                <a:rPr b="1" lang="pl-PL" sz="1800" spc="-1" strike="noStrike">
                  <a:solidFill>
                    <a:srgbClr val="ff0000"/>
                  </a:solidFill>
                  <a:latin typeface="Arial Narrow"/>
                </a:rPr>
                <a:t>ci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      </a:t>
              </a:r>
              <a:r>
                <a:rPr b="1" lang="pl-PL" sz="1800" spc="-1" strike="noStrike">
                  <a:solidFill>
                    <a:srgbClr val="ff9900"/>
                  </a:solidFill>
                  <a:latin typeface="Arial Narrow"/>
                </a:rPr>
                <a:t>części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           </a:t>
              </a:r>
              <a:r>
                <a:rPr b="1" lang="pl-PL" sz="1800" spc="-1" strike="noStrike">
                  <a:solidFill>
                    <a:srgbClr val="800080"/>
                  </a:solidFill>
                  <a:latin typeface="Arial Narrow"/>
                </a:rPr>
                <a:t>częśc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  </a:t>
              </a:r>
              <a:r>
                <a:rPr b="1" lang="pl-PL" sz="1800" spc="-1" strike="noStrike">
                  <a:solidFill>
                    <a:srgbClr val="000080"/>
                  </a:solidFill>
                  <a:latin typeface="Arial Narrow"/>
                </a:rPr>
                <a:t>części  </a:t>
              </a:r>
              <a:r>
                <a:rPr b="1" lang="pl-PL" sz="1800" spc="-1" strike="noStrike">
                  <a:solidFill>
                    <a:srgbClr val="0000ff"/>
                  </a:solidFill>
                  <a:latin typeface="Arial Narrow"/>
                </a:rPr>
                <a:t> 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</a:t>
              </a:r>
              <a:r>
                <a:rPr b="1" lang="pl-PL" sz="1800" spc="-1" strike="noStrike">
                  <a:solidFill>
                    <a:srgbClr val="ff9900"/>
                  </a:solidFill>
                  <a:latin typeface="Arial Narrow"/>
                </a:rPr>
                <a:t>setne 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części          </a:t>
              </a:r>
              <a:r>
                <a:rPr b="1" lang="pl-PL" sz="1800" spc="-1" strike="noStrike">
                  <a:solidFill>
                    <a:srgbClr val="800080"/>
                  </a:solidFill>
                  <a:latin typeface="Arial Narrow"/>
                </a:rPr>
                <a:t>10-tysięcz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</a:t>
              </a:r>
              <a:r>
                <a:rPr b="1" lang="pl-PL" sz="1800" spc="-1" strike="noStrike">
                  <a:solidFill>
                    <a:srgbClr val="000080"/>
                  </a:solidFill>
                  <a:latin typeface="Arial Narrow"/>
                </a:rPr>
                <a:t>dziesiąte 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 tysięczn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8000"/>
                  </a:solidFill>
                  <a:latin typeface="Monotype Corsiv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433240" y="3292200"/>
              <a:ext cx="655200" cy="3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612600" y="3292200"/>
              <a:ext cx="262080" cy="52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530240" y="329220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5054400" y="3292200"/>
              <a:ext cx="39312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709960" y="3161160"/>
              <a:ext cx="917280" cy="3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Zaokrąglenie liczby  374,04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153640" cy="4464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do części setnych :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374,04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33ccff"/>
                </a:solidFill>
                <a:latin typeface="Garamond"/>
              </a:rPr>
              <a:t>do części dziesiątych : </a:t>
            </a:r>
            <a:r>
              <a:rPr b="1" lang="en-US" sz="3200" spc="-1" strike="noStrike">
                <a:solidFill>
                  <a:srgbClr val="33cc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Garamond"/>
              </a:rPr>
              <a:t>374,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o jedności :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374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do dziesiątek 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7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do setek :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Zaokrąglenie liczby 174,97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24920" cy="4321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do części setnych :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      174,98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33ccff"/>
                </a:solidFill>
                <a:latin typeface="Garamond"/>
              </a:rPr>
              <a:t>do części dziesiątych :   17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o jedności :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175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dziesiątek :                170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do setek :                        200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0" lang="en-US" sz="25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0" lang="en-US" sz="25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4480" y="469800"/>
            <a:ext cx="44845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ZACOWAN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zacowanie to przybliżone określanie wartości jakiejś wielkości  przy stosowaniu uproszczonego modelu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 matematyc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oszacować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oznacza określić przybliżoną wartość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Szacowanie stosuje się w wielu naukach                i dziedzinach wiedzy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15364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0" lang="pl-PL" sz="2800" spc="-1" strike="noStrike">
                <a:solidFill>
                  <a:srgbClr val="ffff00"/>
                </a:solidFill>
                <a:latin typeface="Garamond"/>
              </a:rPr>
              <a:t>Rolnictwo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w rolnictwie szacuje się np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przewidywaną wielkość zbiorów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Garamond"/>
              </a:rPr>
              <a:t>Handel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w handlu szacowanie stosuje się głównie przy określaniu ceny zbywanego towaru, zwłaszcza gdy jest to towar używany,  np. cenę domu lub mieszkania na rynk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wtórnym szacuje się na podstawie cen podobnych mieszkań w danym rejonie miasta, popytu na te mieszkanie, atrakcyjnośc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jego położenia, itp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Metrologia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 metrologii szacuje się głównie niepewność pomiaru i wielkość błędów pomiarowych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łówny powód stosowania szacowania to fakt, że zwykle nie w pełni znane są wszystkie zjawisk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pływające na pomi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 – szacowani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Ile 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znaczków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po 10,50zł można kupić za 50 zł? 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dp: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 50 zł moż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na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kupić około 4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znaczków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258920" y="3284640"/>
                <a:ext cx="17622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635280" y="3284640"/>
                <a:ext cx="28083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2" name="" descr="Stare znaczki pocztowe z ca&amp;lstrok;ego &amp;sacute;wiata Zdj&amp;eogon;cie Seryjne - 3286594"/>
          <p:cNvPicPr/>
          <p:nvPr/>
        </p:nvPicPr>
        <p:blipFill>
          <a:blip r:embed="rId1"/>
          <a:stretch/>
        </p:blipFill>
        <p:spPr>
          <a:xfrm>
            <a:off x="6659640" y="333360"/>
            <a:ext cx="2266920" cy="17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L GŁÓW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bliczanie wartości wyrażeń                              z uwzględnieniem kolejności działań              oraz ich zaokrąglanie i szacowani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 – szacowani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Ile najwięcej czekolad po 3,99zł za sztukę można kupić za 20 zł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dp: Za 20zł możemy kupić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koło 5 czekol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851280" y="3068640"/>
                <a:ext cx="25052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÷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332000" y="3068640"/>
                <a:ext cx="15112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≈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589800" y="2852640"/>
            <a:ext cx="2128680" cy="318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 – szacowani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Pani Jola zaciągnęła kredyt w wysokości 2600zł.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Miesięczna rata wynosi 195zł.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zy pani Jola spłaci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kredyt w ciągu 1 roku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dp: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W ciągu jednego roku p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ni Jola nie spłaci kredytu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32000" y="4005360"/>
                <a:ext cx="18000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995640" y="4005360"/>
                <a:ext cx="3600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516720" y="333360"/>
            <a:ext cx="2448000" cy="153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 – szacowani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szacuj, ile kilokalorii spalasz podczas jedne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kcji w szkole, jeżeli nauka na siedząco                               w ciągu 1 godziny pochłania 108 kilokalorii.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Odp. Podczas 1 lekcji w szkole spalasz 81 kilokalorii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55640" y="3429000"/>
                <a:ext cx="216072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kca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kca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kca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132000" y="3716280"/>
                <a:ext cx="54007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kcal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kca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rPr>
                        <m:lit/>
                        <m:nor/>
                      </m:rPr>
                      <m:t xml:space="preserve">kcal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236000" y="4437000"/>
            <a:ext cx="175860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9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zy 35zł wystarczy na zakup: 2kg bananów,  3 porcji frytek, 2 soków i 2 bułek z parówk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zacujemy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03280" y="2997360"/>
            <a:ext cx="2324160" cy="1944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3889440" cy="19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zacujemy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nany: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o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ytk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łk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dp. 35zł wystarczy na takie zakup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00360" y="1628640"/>
                <a:ext cx="1655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700360" y="2852640"/>
                <a:ext cx="17272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124000" y="3429000"/>
                <a:ext cx="1584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-46836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124000" y="2205000"/>
                <a:ext cx="1728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1763640" y="4364640"/>
            <a:ext cx="31687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ZEM: 10+5+9+7=31z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51280" y="1989000"/>
            <a:ext cx="2233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IE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5508720" y="37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624720" cy="478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81532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rto zwrócić uwagę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że iloczyn nie ma pierwszeństwa prz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lorazem, ani suma prz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óżnicą - że decyduje tuta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yłącznie kolejność ic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ystępowania w wyrażeni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19640" y="2924280"/>
            <a:ext cx="3708360" cy="32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Obraz 32" descr="http://t0.gstatic.com/images?q=tbn:ANd9GcSgrHVihyoxk4BIVbWYnWFxH8iHI2Q6cvrSCw3HfmeBtekaKEQ"/>
          <p:cNvPicPr/>
          <p:nvPr/>
        </p:nvPicPr>
        <p:blipFill>
          <a:blip r:embed="rId1"/>
          <a:stretch/>
        </p:blipFill>
        <p:spPr>
          <a:xfrm>
            <a:off x="1116000" y="1844640"/>
            <a:ext cx="6915240" cy="419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094360" cy="292428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ff"/>
                </a:solidFill>
                <a:uFillTx/>
                <a:latin typeface="Garamond"/>
              </a:rPr>
              <a:t>72 : 8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+ 1 = 9 + 1 =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72 : (</a:t>
            </a:r>
            <a:r>
              <a:rPr b="0" lang="pl-PL" sz="3200" spc="-1" strike="noStrike" u="sng">
                <a:solidFill>
                  <a:srgbClr val="ffffff"/>
                </a:solidFill>
                <a:uFillTx/>
                <a:latin typeface="Garamond"/>
              </a:rPr>
              <a:t>8 + 1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) = 72 : 9 = 8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50 - </a:t>
            </a:r>
            <a:r>
              <a:rPr b="0" lang="pl-PL" sz="3200" spc="-1" strike="noStrike" u="sng">
                <a:solidFill>
                  <a:srgbClr val="ffffff"/>
                </a:solidFill>
                <a:uFillTx/>
                <a:latin typeface="Garamond"/>
              </a:rPr>
              <a:t>5 · 5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= 50 - 25 = 2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ff"/>
                </a:solidFill>
                <a:uFillTx/>
                <a:latin typeface="Garamond"/>
              </a:rPr>
              <a:t>48 : 8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· 2 = 6 · 2 = 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55640" y="1989000"/>
                <a:ext cx="5329080" cy="299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,7</m:t>
                        </m:r>
                        <m:r>
                          <m:t xml:space="preserve">−</m:t>
                        </m:r>
                        <m:r>
                          <m:t xml:space="preserve">2,3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=</m:t>
                        </m:r>
                        <m:r>
                          <m:t xml:space="preserve">2,4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=</m:t>
                        </m:r>
                        <m:r>
                          <m:t xml:space="preserve">3,9</m:t>
                        </m:r>
                      </m:e>
                      <m:e/>
                      <m:e>
                        <m:f>
                          <m:num>
                            <m:r>
                              <m:t xml:space="preserve">2,1</m:t>
                            </m:r>
                            <m:r>
                              <m:t xml:space="preserve">−</m:t>
                            </m:r>
                            <m:r>
                              <m:t xml:space="preserve">0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,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,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e>
                      <m:e/>
                      <m:e>
                        <m:r>
                          <m:t xml:space="preserve">4,6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4,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4,6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6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Zaokrąglanie w matematyc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5364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zybliżanie pewnej liczby do innej, mającej mniej cyfr znaczących.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okrąglanie polega na: odrzuceniu lub zastąpieniu zerami pewnej ilości cyfr końcowych danej liczb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b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większeniu ostatniej z pozostałych cyfr                   o jeden, jeśli kolejna cyfra liczby pierwotnej była większa lub równa 5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ptop, który dzisiaj widziałam w sklepie, kosztuje dokładnie 1899 zł., czyli około 1900 zł. Po zaokrągleniu otrzymujemy cenę mniej dokładną, ale łatwiejszą do zapamiętani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Plik:Liczby laptop.JPG"/>
          <p:cNvPicPr/>
          <p:nvPr/>
        </p:nvPicPr>
        <p:blipFill>
          <a:blip r:embed="rId1"/>
          <a:stretch/>
        </p:blipFill>
        <p:spPr>
          <a:xfrm>
            <a:off x="5724360" y="3068640"/>
            <a:ext cx="3221280" cy="325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20:45:54Z</dcterms:created>
  <dc:creator>Matematyka</dc:creator>
  <dc:description/>
  <dc:language>en-US</dc:language>
  <cp:lastModifiedBy>Matematyka</cp:lastModifiedBy>
  <dcterms:modified xsi:type="dcterms:W3CDTF">2013-05-03T20:38:46Z</dcterms:modified>
  <cp:revision>90</cp:revision>
  <dc:subject/>
  <dc:title>Slajd 1</dc:title>
</cp:coreProperties>
</file>