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51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58.png" ContentType="image/png"/>
  <Override PartName="/ppt/media/image80.wmf" ContentType="image/x-wmf"/>
  <Override PartName="/ppt/media/image44.jpeg" ContentType="image/jpeg"/>
  <Override PartName="/ppt/media/image38.png" ContentType="image/png"/>
  <Override PartName="/ppt/media/image60.wmf" ContentType="image/x-wmf"/>
  <Override PartName="/ppt/media/image43.jpeg" ContentType="image/jpeg"/>
  <Override PartName="/ppt/media/image93.png" ContentType="image/png"/>
  <Override PartName="/ppt/media/image42.jpeg" ContentType="image/jpeg"/>
  <Override PartName="/ppt/media/camera.wav" ContentType="audio/x-wav"/>
  <Override PartName="/ppt/media/image18.png" ContentType="image/png"/>
  <Override PartName="/ppt/media/image59.jpeg" ContentType="image/jpeg"/>
  <Override PartName="/ppt/media/image83.png" ContentType="image/png"/>
  <Override PartName="/ppt/media/image41.png" ContentType="image/png"/>
  <Override PartName="/ppt/media/image3.jpeg" ContentType="image/jpeg"/>
  <Override PartName="/ppt/media/image40.jpeg" ContentType="image/jpeg"/>
  <Override PartName="/ppt/media/image13.wmf" ContentType="image/x-wmf"/>
  <Override PartName="/ppt/media/image36.png" ContentType="image/png"/>
  <Override PartName="/ppt/media/image34.wmf" ContentType="image/x-wmf"/>
  <Override PartName="/ppt/media/image56.jpeg" ContentType="image/jpeg"/>
  <Override PartName="/ppt/media/image31.jpeg" ContentType="image/jpeg"/>
  <Override PartName="/ppt/media/image28.wmf" ContentType="image/x-wmf"/>
  <Override PartName="/ppt/media/image30.wmf" ContentType="image/x-wmf"/>
  <Override PartName="/ppt/media/image27.png" ContentType="image/png"/>
  <Override PartName="/ppt/media/image99.jpeg" ContentType="image/jpeg"/>
  <Override PartName="/ppt/media/image35.jpeg" ContentType="image/jpeg"/>
  <Override PartName="/ppt/media/image10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37.png" ContentType="image/png"/>
  <Override PartName="/ppt/media/image94.jpeg" ContentType="image/jpeg"/>
  <Override PartName="/ppt/media/image22.wmf" ContentType="image/x-wmf"/>
  <Override PartName="/ppt/media/image100.jpeg" ContentType="image/jpeg"/>
  <Override PartName="/ppt/media/image87.jpeg" ContentType="image/jpeg"/>
  <Override PartName="/ppt/media/image65.jpeg" ContentType="image/jpeg"/>
  <Override PartName="/ppt/media/image92.jpeg" ContentType="image/jpeg"/>
  <Override PartName="/ppt/media/image29.wmf" ContentType="image/x-wmf"/>
  <Override PartName="/ppt/media/image68.jpeg" ContentType="image/jpeg"/>
  <Override PartName="/ppt/media/image79.png" ContentType="image/png"/>
  <Override PartName="/ppt/media/image69.jpeg" ContentType="image/jpeg"/>
  <Override PartName="/ppt/media/image71.jpeg" ContentType="image/jpeg"/>
  <Override PartName="/ppt/media/image74.jpeg" ContentType="image/jpeg"/>
  <Override PartName="/ppt/media/image75.jpeg" ContentType="image/jpeg"/>
  <Override PartName="/ppt/media/image8.png" ContentType="image/png"/>
  <Override PartName="/ppt/media/image85.png" ContentType="image/png"/>
  <Override PartName="/ppt/media/image25.jpeg" ContentType="image/jpeg"/>
  <Override PartName="/ppt/media/image26.jpeg" ContentType="image/jpeg"/>
  <Override PartName="/ppt/media/image72.wmf" ContentType="image/x-wmf"/>
  <Override PartName="/ppt/media/image97.jpeg" ContentType="image/jpeg"/>
  <Override PartName="/ppt/media/image12.png" ContentType="image/png"/>
  <Override PartName="/ppt/media/image91.jpeg" ContentType="image/jpeg"/>
  <Override PartName="/ppt/media/image70.png" ContentType="image/png"/>
  <Override PartName="/ppt/media/image95.jpeg" ContentType="image/jpeg"/>
  <Override PartName="/ppt/media/image96.jpeg" ContentType="image/jpeg"/>
  <Override PartName="/ppt/media/image76.jpeg" ContentType="image/jpeg"/>
  <Override PartName="/ppt/media/image101.jpeg" ContentType="image/jpeg"/>
  <Override PartName="/ppt/media/image88.jpeg" ContentType="image/jpeg"/>
  <Override PartName="/ppt/media/image14.png" ContentType="image/png"/>
  <Override PartName="/ppt/media/image90.jpeg" ContentType="image/jpeg"/>
  <Override PartName="/ppt/media/image63.jpeg" ContentType="image/jpeg"/>
  <Override PartName="/ppt/media/type.wav" ContentType="audio/x-wav"/>
  <Override PartName="/ppt/media/image6.jpeg" ContentType="image/jpeg"/>
  <Override PartName="/ppt/media/image77.jpeg" ContentType="image/jpeg"/>
  <Override PartName="/ppt/media/image55.jpeg" ContentType="image/jpeg"/>
  <Override PartName="/ppt/media/image61.jpeg" ContentType="image/jpeg"/>
  <Override PartName="/ppt/media/image82.wmf" ContentType="image/x-wmf"/>
  <Override PartName="/ppt/media/image86.jpeg" ContentType="image/jpeg"/>
  <Override PartName="/ppt/media/image8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67.wmf" ContentType="image/x-wmf"/>
  <Override PartName="/ppt/media/image15.jpeg" ContentType="image/jpeg"/>
  <Override PartName="/ppt/media/image98.jpeg" ContentType="image/jpeg"/>
  <Override PartName="/ppt/media/image17.png" ContentType="image/png"/>
  <Override PartName="/ppt/media/image32.jpeg" ContentType="image/jpeg"/>
  <Override PartName="/ppt/media/image50.jpeg" ContentType="image/jpeg"/>
  <Override PartName="/ppt/media/image73.jpeg" ContentType="image/jpeg"/>
  <Override PartName="/ppt/media/image24.png" ContentType="image/png"/>
  <Override PartName="/ppt/media/image5.jpeg" ContentType="image/jpeg"/>
  <Override PartName="/ppt/media/image11.png" ContentType="image/png"/>
  <Override PartName="/ppt/media/image81.wmf" ContentType="image/x-wmf"/>
  <Override PartName="/ppt/media/image66.jpeg" ContentType="image/jpeg"/>
  <Override PartName="/ppt/media/image16.wmf" ContentType="image/x-wmf"/>
  <Override PartName="/ppt/media/image45.jpeg" ContentType="image/jpeg"/>
  <Override PartName="/ppt/media/image4.png" ContentType="image/png"/>
  <Override PartName="/ppt/media/image57.png" ContentType="image/png"/>
  <Override PartName="/ppt/media/laser.wav" ContentType="audio/x-wav"/>
  <Override PartName="/ppt/media/image7.png" ContentType="image/png"/>
  <Override PartName="/ppt/media/image19.png" ContentType="image/png"/>
  <Override PartName="/ppt/media/image62.jpeg" ContentType="image/jpeg"/>
  <Override PartName="/ppt/media/image8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tematyka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<Relationship Id="rId93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3-03-23T13:14:44.749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77FC-4FC6-42B9-84E8-16A5D2BAC6D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60B0-5EF2-41B4-897E-697D804981D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6932-54F4-421A-B05B-3E9598E2FB0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2271-54C6-4069-ABA6-A29A72278C2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E1B2-022B-49DE-9C63-B1EC5B50EBF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889E-5851-48A1-BC6A-57342B20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EF4-15DA-43AF-97D6-401191A3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F7D2-27D3-487D-831C-DAD05BBC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E35-FDAA-4355-ADD9-64D8E337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CC6C-4B50-4D3E-BB61-84BCC227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B000-3071-4FCC-815D-93962ED0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C1E1-A4C7-4F3A-9E79-B413299B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1D47-5894-4582-B552-E42CFEC6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3E61-87F9-4258-AB6C-3AA76AC9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CB86-12B5-4E4B-9730-01B17060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AE21-99BB-4F67-9DE8-D86AC522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AF8-A2A0-43B3-A3F0-9C6E9AD7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DF7E-045A-4F13-A039-13413915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71EE-EBC6-4A98-B5BF-22A8703B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B926-58E7-4BAF-9540-858FB92C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518F-CD48-4F6E-8D48-7B3335ED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6947-B460-45F7-8127-F027FBEC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98B-8BFA-4046-80E7-936AD8DB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EC2-108E-48CB-ABB0-27213C8C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CC1-07FB-4117-81A6-D4B399C7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23E3-660B-4D09-A59C-FB144944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E4A-CF5E-4F3B-B437-AC3C2643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79F-6C99-4DB6-AE43-1B14F262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66C-1E83-44DD-A119-508B6697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22ED-ED52-47ED-A069-55D4C8C6739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AE86-469B-4DEE-85A6-572BBD4CA22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24.xml"/><Relationship Id="rId4" Type="http://schemas.openxmlformats.org/officeDocument/2006/relationships/slide" Target="slide39.xml"/><Relationship Id="rId5" Type="http://schemas.openxmlformats.org/officeDocument/2006/relationships/slide" Target="slide49.xml"/><Relationship Id="rId6" Type="http://schemas.openxmlformats.org/officeDocument/2006/relationships/slide" Target="slide58.xml"/><Relationship Id="rId7" Type="http://schemas.openxmlformats.org/officeDocument/2006/relationships/slide" Target="slide69.xml"/><Relationship Id="rId8" Type="http://schemas.openxmlformats.org/officeDocument/2006/relationships/slide" Target="slide78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wmf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image" Target="../media/image86.jpeg"/><Relationship Id="rId6" Type="http://schemas.openxmlformats.org/officeDocument/2006/relationships/image" Target="../media/image87.jpeg"/><Relationship Id="rId7" Type="http://schemas.openxmlformats.org/officeDocument/2006/relationships/image" Target="../media/image88.jpeg"/><Relationship Id="rId8" Type="http://schemas.openxmlformats.org/officeDocument/2006/relationships/image" Target="../media/image89.jpeg"/><Relationship Id="rId9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87.jpeg"/><Relationship Id="rId3" Type="http://schemas.openxmlformats.org/officeDocument/2006/relationships/image" Target="../media/image86.jpeg"/><Relationship Id="rId4" Type="http://schemas.openxmlformats.org/officeDocument/2006/relationships/image" Target="../media/image90.jpeg"/><Relationship Id="rId5" Type="http://schemas.openxmlformats.org/officeDocument/2006/relationships/image" Target="../media/image88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3.png"/><Relationship Id="rId3" Type="http://schemas.openxmlformats.org/officeDocument/2006/relationships/image" Target="../media/image93.png"/><Relationship Id="rId4" Type="http://schemas.openxmlformats.org/officeDocument/2006/relationships/image" Target="../media/image93.png"/><Relationship Id="rId5" Type="http://schemas.openxmlformats.org/officeDocument/2006/relationships/image" Target="../media/image93.png"/><Relationship Id="rId6" Type="http://schemas.openxmlformats.org/officeDocument/2006/relationships/image" Target="../media/image93.png"/><Relationship Id="rId7" Type="http://schemas.openxmlformats.org/officeDocument/2006/relationships/image" Target="../media/image93.png"/><Relationship Id="rId8" Type="http://schemas.openxmlformats.org/officeDocument/2006/relationships/image" Target="../media/image92.jpeg"/><Relationship Id="rId9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iki.wolnepodreczniki.pl/Matematyka:Gimnazjum/Procenty_1" TargetMode="External"/><Relationship Id="rId2" Type="http://schemas.openxmlformats.org/officeDocument/2006/relationships/hyperlink" Target="http://www.fajslawice.internetdsl.pl/pgf/mat/prezentacje/procenty" TargetMode="External"/><Relationship Id="rId3" Type="http://schemas.openxmlformats.org/officeDocument/2006/relationships/hyperlink" Target="http://www.fajslawice.internetdsl.pl/pgf/mat/prezentacje/procenty" TargetMode="External"/><Relationship Id="rId4" Type="http://schemas.openxmlformats.org/officeDocument/2006/relationships/hyperlink" Target="http://www.fajslawice.internetdsl.pl/pgf/mat/prezentacje/procenty" TargetMode="External"/><Relationship Id="rId5" Type="http://schemas.openxmlformats.org/officeDocument/2006/relationships/hyperlink" Target="http://www.fajslawice.internetdsl.pl/pgf/mat/prezentacje/procenty" TargetMode="External"/><Relationship Id="rId6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81080" y="64008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4581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96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45802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920" y="1484280"/>
            <a:ext cx="74901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...ach ten proce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FACC-FC15-4592-AF7C-6799A24E03A7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żeli mówimy, że 23% Polaków ma niebieskie oczy, to znaczy, że przeciętnie na 100 Polaków jest 23 takich, którzy mają niebieskie ocz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żna też powiedzieć, ż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szystkich Polaków ma niebieskie ocz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549000" cy="7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0A5-DBD4-461D-8927-2CA39BF7A6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0066"/>
                </a:solidFill>
                <a:latin typeface="Monotype Corsiva"/>
              </a:rPr>
              <a:t>CIEKAWOSTKI</a:t>
            </a:r>
            <a:endParaRPr b="0" lang="en-US" sz="3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cc0099"/>
                </a:solidFill>
                <a:latin typeface="Times New Roman"/>
              </a:rPr>
              <a:t>ZMIANA ZAPISU % W HISTOR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8" descr="C:\Documents and Settings\mama\Pulpit\111px-Percent_1425.png"/>
          <p:cNvPicPr/>
          <p:nvPr/>
        </p:nvPicPr>
        <p:blipFill>
          <a:blip r:embed="rId1"/>
          <a:stretch/>
        </p:blipFill>
        <p:spPr>
          <a:xfrm>
            <a:off x="4859280" y="2349360"/>
            <a:ext cx="1219320" cy="1067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Documents and Settings\mama\Pulpit\111px-Percent_1650.png"/>
          <p:cNvPicPr/>
          <p:nvPr/>
        </p:nvPicPr>
        <p:blipFill>
          <a:blip r:embed="rId2"/>
          <a:stretch/>
        </p:blipFill>
        <p:spPr>
          <a:xfrm>
            <a:off x="4859280" y="371628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Documents and Settings\mama\Pulpit\111px-Percent_18e.png"/>
          <p:cNvPicPr/>
          <p:nvPr/>
        </p:nvPicPr>
        <p:blipFill>
          <a:blip r:embed="rId3"/>
          <a:stretch/>
        </p:blipFill>
        <p:spPr>
          <a:xfrm>
            <a:off x="4859280" y="5013360"/>
            <a:ext cx="1219320" cy="96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ADC-3680-4BBF-A9A1-A7B71F1FC48B}" type="slidenum">
              <a:t>11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cc"/>
                </a:solidFill>
                <a:latin typeface="Times New Roman"/>
              </a:rPr>
              <a:t>Zadanie  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Ile procent figury zamalowano?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7" name="" descr="Procenty def zad1.svg"/>
          <p:cNvPicPr/>
          <p:nvPr/>
        </p:nvPicPr>
        <p:blipFill>
          <a:blip r:embed="rId1"/>
          <a:stretch/>
        </p:blipFill>
        <p:spPr>
          <a:xfrm>
            <a:off x="1042920" y="1916280"/>
            <a:ext cx="7272360" cy="28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30F-A40E-4CE4-BBD4-799BEDE3223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Skracanie ułamków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Ułamki, które mają w mianowniku 100, możemy skracać do najprostszej posta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4360" y="2637000"/>
            <a:ext cx="1595520" cy="2496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635280" y="3141720"/>
            <a:ext cx="3143520" cy="1973160"/>
          </a:xfrm>
          <a:prstGeom prst="wedgeRoundRectCallout">
            <a:avLst>
              <a:gd name="adj1" fmla="val 70907"/>
              <a:gd name="adj2" fmla="val -48550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Zauważyłam, ż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25% to ćwiar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50% to połow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75% to trzy ćwiartki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100% to cał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505320"/>
            <a:ext cx="182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0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7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81080" y="3505320"/>
                <a:ext cx="114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905120" y="4267080"/>
                <a:ext cx="914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05120" y="3295800"/>
                <a:ext cx="990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05120" y="5181480"/>
                <a:ext cx="838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43D-1851-40E5-8A00-C169C567BDE6}" type="slidenum">
              <a:t>13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‰  </a:t>
            </a: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PROMI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Jeden promil danej wielkości oznacza jej tysięczną część.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 ‰ 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p.     5 ‰ =                     p ‰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00720" y="3213000"/>
                <a:ext cx="7142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35280" y="4437000"/>
                <a:ext cx="779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659640" y="4365720"/>
                <a:ext cx="8445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250-066A-4FDF-8B8B-6A79FF176AA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cc"/>
                </a:solidFill>
                <a:latin typeface="Monotype Corsiva"/>
              </a:rPr>
              <a:t>Zależność między procentami a promilami.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71640" y="2852280"/>
            <a:ext cx="4176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‰= 0,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0‰=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Plik:Promil.png"/>
          <p:cNvPicPr/>
          <p:nvPr/>
        </p:nvPicPr>
        <p:blipFill>
          <a:blip r:embed="rId1"/>
          <a:stretch/>
        </p:blipFill>
        <p:spPr>
          <a:xfrm>
            <a:off x="5508720" y="3500280"/>
            <a:ext cx="297180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A7D-9CB5-44EB-98D9-E15D4B40037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Zamiana ułamków na procent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Times New Roman"/>
              </a:rPr>
              <a:t>Niektóre ułamki w postaci zwykłej można rozszerzyć do mianownika 100 i potem zamienić na proc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95280" y="2895480"/>
                <a:ext cx="26672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800600" y="2895480"/>
                <a:ext cx="2590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6F8-6304-41F1-9954-4D09D15BDD0C}" type="slidenum">
              <a:t>16</a:t>
            </a:fld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Oczywiście nie każdy ułamek zwykły da się rozszerzyć do mianownika 100. Wówczas należy zastosować sposób drugi.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692280"/>
            <a:ext cx="2468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posób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2664000" cy="26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AE01-4FB9-4835-B3DE-680C148A154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140360" y="4292640"/>
                <a:ext cx="407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40360" y="907920"/>
            <a:ext cx="4343400" cy="2016360"/>
          </a:xfrm>
          <a:prstGeom prst="wedgeRoundRectCallout">
            <a:avLst>
              <a:gd name="adj1" fmla="val -79314"/>
              <a:gd name="adj2" fmla="val 9999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Gdy procenty chcesz utworzyć, przez 100 % musisz mnożyć</a:t>
            </a:r>
            <a:r>
              <a:rPr b="1" i="1" lang="pl-PL" sz="3200" spc="-1" strike="noStrike">
                <a:solidFill>
                  <a:srgbClr val="ff0000"/>
                </a:solidFill>
                <a:latin typeface="Monotype Corsiva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3860640"/>
            <a:ext cx="54594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1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Zamień liczbę         na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16000" y="5373720"/>
                <a:ext cx="7056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A5A-8B4C-487E-BEBE-3E2B2B9F899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zykła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47640" y="1798560"/>
            <a:ext cx="69120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5A4-2BF3-4B75-A787-5F1F0CB4DC1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Spis treśc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Obraz,Plakat - Rabais, redukcja, promocje ou soldes"/>
          <p:cNvPicPr/>
          <p:nvPr/>
        </p:nvPicPr>
        <p:blipFill>
          <a:blip r:embed="rId1"/>
          <a:stretch/>
        </p:blipFill>
        <p:spPr>
          <a:xfrm>
            <a:off x="5958000" y="1557360"/>
            <a:ext cx="2717640" cy="295128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1763640" y="170028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, promile i ułam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116000" y="234936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na wykresa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1619280" y="299736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aki to proc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1187280" y="364500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dwyżki i obniż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2050920" y="429264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 a pienią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7" action="ppaction://hlinksldjump"/>
          </p:cNvPr>
          <p:cNvSpPr/>
          <p:nvPr/>
        </p:nvSpPr>
        <p:spPr>
          <a:xfrm>
            <a:off x="3132000" y="494172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i kalkulat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8" action="ppaction://hlinksldjump"/>
          </p:cNvPr>
          <p:cNvSpPr/>
          <p:nvPr/>
        </p:nvSpPr>
        <p:spPr>
          <a:xfrm>
            <a:off x="4500720" y="558972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iczby, procenty i życi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AC4-9127-4E6F-AA8C-7003AF370AAB}" type="slidenum">
              <a:t>2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miana procentu na ułamek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rocenty zamieniamy na ułamki zwykłe pisząc w liczniku liczbę procentów, a w mianowniku 1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óźniej oczywiście można taki ułamek skrócić, lub zamienić na ułamek miesz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564000" y="3068640"/>
            <a:ext cx="410364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4FD8-C341-416B-874E-A5442A6A35C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21164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procent zamienić na liczbę, należy liczbę wyrażającą procent podzielić przez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49440" y="3716280"/>
            <a:ext cx="47084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2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pisz w postaci ułamka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19280" y="5084640"/>
                <a:ext cx="5184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CFD-C92D-4C46-A944-84F45F5B5CC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zamienić procenty na ułamek dziesiętny, wystarczy przesunąć przecinek o dwa miejsca w lewo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473440" cy="36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434-FAE1-4254-A795-DAD3A4B0216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6" name="" descr="Procenty."/>
          <p:cNvPicPr/>
          <p:nvPr/>
        </p:nvPicPr>
        <p:blipFill>
          <a:blip r:embed="rId1"/>
          <a:stretch/>
        </p:blipFill>
        <p:spPr>
          <a:xfrm>
            <a:off x="1042920" y="2060640"/>
            <a:ext cx="7620120" cy="679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608120" y="2772720"/>
            <a:ext cx="592632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procenty na ułamk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Procenty."/>
          <p:cNvPicPr/>
          <p:nvPr/>
        </p:nvPicPr>
        <p:blipFill>
          <a:blip r:embed="rId2"/>
          <a:stretch/>
        </p:blipFill>
        <p:spPr>
          <a:xfrm>
            <a:off x="971640" y="4653000"/>
            <a:ext cx="7632720" cy="576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87280" y="476280"/>
            <a:ext cx="71280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ułamki na procent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6948360" y="573408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4AB-3196-4795-BCE9-D5D3CE4A8A0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00000" y="2205000"/>
            <a:ext cx="784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 na wykresach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BAC-CCD1-442C-97FE-633060CFA08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Wiele danych podawanych jest w procentach, dzięki temu możemy je w łatwiejszy sposób analizować i porównywać. Najbardziej czytelnym i efektownym sposobem przedstawiania danych wyrażonych w procentach są diagramy procent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C:\Users\Wolf\AppData\Local\Microsoft\Windows\Temporary Internet Files\Content.IE5\VAQPINRK\MC900290890[1].wmf"/>
          <p:cNvPicPr/>
          <p:nvPr/>
        </p:nvPicPr>
        <p:blipFill>
          <a:blip r:embed="rId1"/>
          <a:stretch/>
        </p:blipFill>
        <p:spPr>
          <a:xfrm>
            <a:off x="5940360" y="4149720"/>
            <a:ext cx="2371680" cy="2071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Wolf\AppData\Local\Microsoft\Windows\Temporary Internet Files\Content.IE5\T6PLSMCI\MC900431584[1].png"/>
          <p:cNvPicPr/>
          <p:nvPr/>
        </p:nvPicPr>
        <p:blipFill>
          <a:blip r:embed="rId2"/>
          <a:stretch/>
        </p:blipFill>
        <p:spPr>
          <a:xfrm>
            <a:off x="1403280" y="371628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08000" y="76500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786-351C-47D3-B7A1-1A47CC4F105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1628640"/>
            <a:ext cx="777240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y diagramów: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punkt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lin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4941720"/>
            <a:ext cx="129564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9417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5562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548640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53006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4508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ko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2665440" cy="1530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2664000" cy="1347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2286000" cy="1554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3095640" cy="18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399-FD3A-4CEF-A0DA-7383847FF78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99"/>
                </a:solidFill>
                <a:latin typeface="Times New Roman"/>
              </a:rPr>
              <a:t>W sadzie o powierzchni 1 ha rośnie 3000 drzew w tym 40% jabłoni, 25% grusz, 15% śliw, 10% wiśni i 10% czereśni. Informacje te można przedstawić za pomocą różnego rodzaju diagramów procentowych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619280" y="1989000"/>
            <a:ext cx="3139920" cy="1923840"/>
            <a:chOff x="1619280" y="1989000"/>
            <a:chExt cx="3139920" cy="1923840"/>
          </a:xfrm>
        </p:grpSpPr>
        <p:grpSp>
          <p:nvGrpSpPr>
            <p:cNvPr id="234" name=""/>
            <p:cNvGrpSpPr/>
            <p:nvPr/>
          </p:nvGrpSpPr>
          <p:grpSpPr>
            <a:xfrm>
              <a:off x="1619280" y="2050200"/>
              <a:ext cx="867960" cy="168120"/>
              <a:chOff x="1619280" y="2050200"/>
              <a:chExt cx="867960" cy="168120"/>
            </a:xfrm>
          </p:grpSpPr>
          <p:sp>
            <p:nvSpPr>
              <p:cNvPr id="235" name=""/>
              <p:cNvSpPr/>
              <p:nvPr/>
            </p:nvSpPr>
            <p:spPr>
              <a:xfrm>
                <a:off x="161928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949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72440" y="2050200"/>
                <a:ext cx="1616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4524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2272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498760" y="2050200"/>
              <a:ext cx="867960" cy="168120"/>
              <a:chOff x="2498760" y="2050200"/>
              <a:chExt cx="867960" cy="168120"/>
            </a:xfrm>
          </p:grpSpPr>
          <p:sp>
            <p:nvSpPr>
              <p:cNvPr id="241" name=""/>
              <p:cNvSpPr/>
              <p:nvPr/>
            </p:nvSpPr>
            <p:spPr>
              <a:xfrm>
                <a:off x="249876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733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5084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25800" y="2050200"/>
                <a:ext cx="16488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0220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619280" y="2230560"/>
              <a:ext cx="867960" cy="168480"/>
              <a:chOff x="1619280" y="2230560"/>
              <a:chExt cx="867960" cy="168480"/>
            </a:xfrm>
          </p:grpSpPr>
          <p:sp>
            <p:nvSpPr>
              <p:cNvPr id="247" name=""/>
              <p:cNvSpPr/>
              <p:nvPr/>
            </p:nvSpPr>
            <p:spPr>
              <a:xfrm>
                <a:off x="161928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949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72440" y="2230560"/>
                <a:ext cx="1616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14524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32272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498760" y="2230560"/>
              <a:ext cx="867960" cy="168480"/>
              <a:chOff x="2498760" y="2230560"/>
              <a:chExt cx="867960" cy="168480"/>
            </a:xfrm>
          </p:grpSpPr>
          <p:sp>
            <p:nvSpPr>
              <p:cNvPr id="253" name=""/>
              <p:cNvSpPr/>
              <p:nvPr/>
            </p:nvSpPr>
            <p:spPr>
              <a:xfrm>
                <a:off x="249876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733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5084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25800" y="2230560"/>
                <a:ext cx="16488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0220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619280" y="2411640"/>
              <a:ext cx="867960" cy="166680"/>
              <a:chOff x="1619280" y="2411640"/>
              <a:chExt cx="867960" cy="166680"/>
            </a:xfrm>
          </p:grpSpPr>
          <p:sp>
            <p:nvSpPr>
              <p:cNvPr id="259" name=""/>
              <p:cNvSpPr/>
              <p:nvPr/>
            </p:nvSpPr>
            <p:spPr>
              <a:xfrm>
                <a:off x="161928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949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72440" y="2411640"/>
                <a:ext cx="1616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4524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32272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98760" y="2411640"/>
              <a:ext cx="867960" cy="166680"/>
              <a:chOff x="2498760" y="2411640"/>
              <a:chExt cx="867960" cy="166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9876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733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5084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25800" y="2411640"/>
                <a:ext cx="16488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20220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619280" y="2590920"/>
              <a:ext cx="867960" cy="165960"/>
              <a:chOff x="1619280" y="2590920"/>
              <a:chExt cx="867960" cy="165960"/>
            </a:xfrm>
          </p:grpSpPr>
          <p:sp>
            <p:nvSpPr>
              <p:cNvPr id="271" name=""/>
              <p:cNvSpPr/>
              <p:nvPr/>
            </p:nvSpPr>
            <p:spPr>
              <a:xfrm>
                <a:off x="161928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949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72440" y="2590920"/>
                <a:ext cx="1616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4524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2272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498760" y="2590920"/>
              <a:ext cx="867960" cy="165960"/>
              <a:chOff x="2498760" y="2590920"/>
              <a:chExt cx="867960" cy="165960"/>
            </a:xfrm>
          </p:grpSpPr>
          <p:sp>
            <p:nvSpPr>
              <p:cNvPr id="277" name=""/>
              <p:cNvSpPr/>
              <p:nvPr/>
            </p:nvSpPr>
            <p:spPr>
              <a:xfrm>
                <a:off x="249876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733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5084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25800" y="2590920"/>
                <a:ext cx="16488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0220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619280" y="2950920"/>
              <a:ext cx="867960" cy="165600"/>
              <a:chOff x="1619280" y="2950920"/>
              <a:chExt cx="867960" cy="165600"/>
            </a:xfrm>
          </p:grpSpPr>
          <p:sp>
            <p:nvSpPr>
              <p:cNvPr id="283" name=""/>
              <p:cNvSpPr/>
              <p:nvPr/>
            </p:nvSpPr>
            <p:spPr>
              <a:xfrm>
                <a:off x="161928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949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72440" y="2950920"/>
                <a:ext cx="1616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4524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32272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498760" y="2770200"/>
              <a:ext cx="867960" cy="167040"/>
              <a:chOff x="2498760" y="2770200"/>
              <a:chExt cx="867960" cy="167040"/>
            </a:xfrm>
          </p:grpSpPr>
          <p:sp>
            <p:nvSpPr>
              <p:cNvPr id="289" name=""/>
              <p:cNvSpPr/>
              <p:nvPr/>
            </p:nvSpPr>
            <p:spPr>
              <a:xfrm>
                <a:off x="249876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733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5084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025800" y="2770200"/>
                <a:ext cx="16488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0220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619280" y="2770200"/>
              <a:ext cx="867960" cy="167040"/>
              <a:chOff x="1619280" y="2770200"/>
              <a:chExt cx="867960" cy="167040"/>
            </a:xfrm>
          </p:grpSpPr>
          <p:sp>
            <p:nvSpPr>
              <p:cNvPr id="295" name=""/>
              <p:cNvSpPr/>
              <p:nvPr/>
            </p:nvSpPr>
            <p:spPr>
              <a:xfrm>
                <a:off x="161928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949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72440" y="277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4524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2272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9280" y="3130200"/>
              <a:ext cx="867960" cy="167040"/>
              <a:chOff x="1619280" y="3130200"/>
              <a:chExt cx="867960" cy="167040"/>
            </a:xfrm>
          </p:grpSpPr>
          <p:sp>
            <p:nvSpPr>
              <p:cNvPr id="301" name=""/>
              <p:cNvSpPr/>
              <p:nvPr/>
            </p:nvSpPr>
            <p:spPr>
              <a:xfrm>
                <a:off x="161928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9496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72440" y="313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4524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272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498760" y="2950920"/>
              <a:ext cx="867960" cy="165600"/>
              <a:chOff x="2498760" y="2950920"/>
              <a:chExt cx="867960" cy="165600"/>
            </a:xfrm>
          </p:grpSpPr>
          <p:sp>
            <p:nvSpPr>
              <p:cNvPr id="307" name=""/>
              <p:cNvSpPr/>
              <p:nvPr/>
            </p:nvSpPr>
            <p:spPr>
              <a:xfrm>
                <a:off x="249876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6733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084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25800" y="2950920"/>
                <a:ext cx="16488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0220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498760" y="3130200"/>
              <a:ext cx="867960" cy="167040"/>
              <a:chOff x="2498760" y="3130200"/>
              <a:chExt cx="867960" cy="167040"/>
            </a:xfrm>
          </p:grpSpPr>
          <p:sp>
            <p:nvSpPr>
              <p:cNvPr id="313" name=""/>
              <p:cNvSpPr/>
              <p:nvPr/>
            </p:nvSpPr>
            <p:spPr>
              <a:xfrm>
                <a:off x="249876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73360" y="3130200"/>
                <a:ext cx="16596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5084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25800" y="3130200"/>
                <a:ext cx="16488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02200" y="3130200"/>
                <a:ext cx="16452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619280" y="3310920"/>
              <a:ext cx="867960" cy="165600"/>
              <a:chOff x="1619280" y="3310920"/>
              <a:chExt cx="867960" cy="165600"/>
            </a:xfrm>
          </p:grpSpPr>
          <p:sp>
            <p:nvSpPr>
              <p:cNvPr id="319" name=""/>
              <p:cNvSpPr/>
              <p:nvPr/>
            </p:nvSpPr>
            <p:spPr>
              <a:xfrm>
                <a:off x="161928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7949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72440" y="3310920"/>
                <a:ext cx="1616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4524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2272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98760" y="3310920"/>
              <a:ext cx="867960" cy="165600"/>
              <a:chOff x="2498760" y="3310920"/>
              <a:chExt cx="867960" cy="165600"/>
            </a:xfrm>
          </p:grpSpPr>
          <p:sp>
            <p:nvSpPr>
              <p:cNvPr id="325" name=""/>
              <p:cNvSpPr/>
              <p:nvPr/>
            </p:nvSpPr>
            <p:spPr>
              <a:xfrm>
                <a:off x="249876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733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85084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025800" y="3310920"/>
                <a:ext cx="16488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220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498760" y="3669480"/>
              <a:ext cx="867960" cy="168120"/>
              <a:chOff x="2498760" y="3669480"/>
              <a:chExt cx="867960" cy="168120"/>
            </a:xfrm>
          </p:grpSpPr>
          <p:sp>
            <p:nvSpPr>
              <p:cNvPr id="331" name=""/>
              <p:cNvSpPr/>
              <p:nvPr/>
            </p:nvSpPr>
            <p:spPr>
              <a:xfrm>
                <a:off x="249876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6733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85084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025800" y="3669480"/>
                <a:ext cx="16488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220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8760" y="3490200"/>
              <a:ext cx="867960" cy="167040"/>
              <a:chOff x="2498760" y="3490200"/>
              <a:chExt cx="867960" cy="167040"/>
            </a:xfrm>
          </p:grpSpPr>
          <p:sp>
            <p:nvSpPr>
              <p:cNvPr id="337" name=""/>
              <p:cNvSpPr/>
              <p:nvPr/>
            </p:nvSpPr>
            <p:spPr>
              <a:xfrm>
                <a:off x="249876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6733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5084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25800" y="3490200"/>
                <a:ext cx="16488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220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619280" y="3490200"/>
              <a:ext cx="867960" cy="167040"/>
              <a:chOff x="1619280" y="3490200"/>
              <a:chExt cx="867960" cy="167040"/>
            </a:xfrm>
          </p:grpSpPr>
          <p:sp>
            <p:nvSpPr>
              <p:cNvPr id="343" name=""/>
              <p:cNvSpPr/>
              <p:nvPr/>
            </p:nvSpPr>
            <p:spPr>
              <a:xfrm>
                <a:off x="161928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949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972440" y="3490200"/>
                <a:ext cx="1616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14524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32272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1619280" y="3669480"/>
              <a:ext cx="867960" cy="168120"/>
              <a:chOff x="1619280" y="3669480"/>
              <a:chExt cx="867960" cy="168120"/>
            </a:xfrm>
          </p:grpSpPr>
          <p:sp>
            <p:nvSpPr>
              <p:cNvPr id="349" name=""/>
              <p:cNvSpPr/>
              <p:nvPr/>
            </p:nvSpPr>
            <p:spPr>
              <a:xfrm>
                <a:off x="161928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949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2440" y="3669480"/>
                <a:ext cx="1616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14524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2272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3621240" y="2360880"/>
              <a:ext cx="171360" cy="173160"/>
            </a:xfrm>
            <a:prstGeom prst="rect">
              <a:avLst/>
            </a:prstGeom>
            <a:solidFill>
              <a:srgbClr val="221304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21240" y="2670120"/>
              <a:ext cx="171360" cy="1746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21240" y="2982600"/>
              <a:ext cx="171360" cy="172800"/>
            </a:xfrm>
            <a:prstGeom prst="rect">
              <a:avLst/>
            </a:prstGeom>
            <a:solidFill>
              <a:srgbClr val="3694b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1240" y="3352680"/>
              <a:ext cx="171360" cy="174600"/>
            </a:xfrm>
            <a:prstGeom prst="rect">
              <a:avLst/>
            </a:prstGeom>
            <a:solidFill>
              <a:srgbClr val="ff33ff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21240" y="3663360"/>
              <a:ext cx="171360" cy="174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44800" y="1989000"/>
              <a:ext cx="481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85040" y="2272680"/>
              <a:ext cx="88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jabło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84680" y="258624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grus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4680" y="2919600"/>
              <a:ext cx="62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śli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5040" y="32659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wi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6120" y="3576960"/>
              <a:ext cx="97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czere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5" name=""/>
          <p:cNvGraphicFramePr/>
          <p:nvPr/>
        </p:nvGraphicFramePr>
        <p:xfrm>
          <a:off x="5168880" y="2057400"/>
          <a:ext cx="28447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2057400"/>
                    <a:ext cx="2844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700360" y="3860640"/>
          <a:ext cx="4968720" cy="23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860640"/>
                    <a:ext cx="496872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3CD-6AB5-48A9-95D0-DB01182B7AF3}" type="slidenum">
              <a:t>2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763640" y="2924280"/>
          <a:ext cx="60199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924280"/>
                    <a:ext cx="6019920" cy="271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729612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Times New Roman"/>
              </a:rPr>
              <a:t>a) jaki smak lodów cieszył się największym powodzeniem? </a:t>
            </a:r>
            <a:br>
              <a:rPr sz="2000"/>
            </a:br>
            <a:r>
              <a:rPr b="1" i="1" lang="pl-PL" sz="2000" spc="-1" strike="noStrike">
                <a:solidFill>
                  <a:srgbClr val="ff9900"/>
                </a:solidFill>
                <a:latin typeface="Times New Roman"/>
              </a:rPr>
              <a:t>b) ile litrów lodów każdego rodzaju sprzedano? </a:t>
            </a:r>
            <a:br>
              <a:rPr sz="2000"/>
            </a:br>
            <a:r>
              <a:rPr b="1" i="1" lang="pl-PL" sz="2000" spc="-1" strike="noStrike">
                <a:solidFill>
                  <a:srgbClr val="008080"/>
                </a:solidFill>
                <a:latin typeface="Times New Roman"/>
              </a:rPr>
              <a:t>c) o ile więcej litrów sprzedano lodów waniliowych niż wiśniowych?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476280"/>
            <a:ext cx="7129800" cy="167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W budce z lodami sprzedano 120 litrów lod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Na podstawie wykresu odpowiedz na pytania: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342-04B2-4C91-80E2-F57BB5F5DAAB}" type="slidenum">
              <a:t>28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Times New Roman"/>
              </a:rPr>
              <a:t>czekolado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99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9900"/>
                </a:solidFill>
                <a:latin typeface="Times New Roman"/>
              </a:rPr>
              <a:t>18 l;  30 l; 24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808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8080"/>
                </a:solidFill>
                <a:latin typeface="Times New Roman"/>
              </a:rPr>
              <a:t>o 6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08160" y="765000"/>
            <a:ext cx="4286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73B-EC47-4D65-8110-A09B0C17201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916280"/>
            <a:ext cx="7991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, promile i ułamki.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CCF-9E9F-44F1-8E61-8F8B1B6C2CF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600200" y="692280"/>
            <a:ext cx="7002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Załóżmy, że rok kalendarzowy ma 360 dni. Diagram przedstawia podział roku kalendarz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               </a:t>
            </a:r>
            <a:r>
              <a:rPr b="1" lang="pl-PL" sz="2400" spc="-1" strike="noStrike">
                <a:solidFill>
                  <a:srgbClr val="a1bd69"/>
                </a:solidFill>
                <a:latin typeface="Times New Roman"/>
              </a:rPr>
              <a:t>Odpowiedz na pytania: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Monotype Corsiva"/>
              </a:rPr>
              <a:t>a) ile dni trwają zajęcia lekcyjne, a ile wakacje?</a:t>
            </a:r>
            <a:br>
              <a:rPr sz="2400"/>
            </a:br>
            <a:r>
              <a:rPr b="1" lang="pl-PL" sz="2400" spc="-1" strike="noStrike">
                <a:solidFill>
                  <a:srgbClr val="800000"/>
                </a:solidFill>
                <a:latin typeface="Monotype Corsiva"/>
              </a:rPr>
              <a:t>b) </a:t>
            </a:r>
            <a:r>
              <a:rPr b="1" lang="pl-PL" sz="2400" spc="-1" strike="noStrike">
                <a:solidFill>
                  <a:srgbClr val="660066"/>
                </a:solidFill>
                <a:latin typeface="Monotype Corsiva"/>
              </a:rPr>
              <a:t>przez ile dni przebywasz poza szkołą?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Monotype Corsiva"/>
              </a:rPr>
              <a:t>c) jakim procentem zajęć lekcyjnych są wakac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331280" y="3068640"/>
            <a:ext cx="6525360" cy="2807280"/>
            <a:chOff x="1331280" y="3068640"/>
            <a:chExt cx="6525360" cy="2807280"/>
          </a:xfrm>
        </p:grpSpPr>
        <p:sp>
          <p:nvSpPr>
            <p:cNvPr id="379" name=""/>
            <p:cNvSpPr/>
            <p:nvPr/>
          </p:nvSpPr>
          <p:spPr>
            <a:xfrm>
              <a:off x="1331280" y="3068640"/>
              <a:ext cx="249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632560" y="3468600"/>
              <a:ext cx="2224080" cy="397440"/>
              <a:chOff x="5632560" y="3468600"/>
              <a:chExt cx="2224080" cy="397440"/>
            </a:xfrm>
          </p:grpSpPr>
          <p:sp>
            <p:nvSpPr>
              <p:cNvPr id="381" name=""/>
              <p:cNvSpPr/>
              <p:nvPr/>
            </p:nvSpPr>
            <p:spPr>
              <a:xfrm>
                <a:off x="5995080" y="3468600"/>
                <a:ext cx="1861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Zajęcia szkol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32560" y="3544920"/>
                <a:ext cx="220320" cy="221760"/>
              </a:xfrm>
              <a:prstGeom prst="rect">
                <a:avLst/>
              </a:prstGeom>
              <a:gradFill rotWithShape="0">
                <a:gsLst>
                  <a:gs pos="0">
                    <a:srgbClr val="221304"/>
                  </a:gs>
                  <a:gs pos="100000">
                    <a:srgbClr val="00ff66"/>
                  </a:gs>
                </a:gsLst>
                <a:lin ang="13500000"/>
              </a:gra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2703600" y="3538800"/>
              <a:ext cx="4743720" cy="2337120"/>
              <a:chOff x="2703600" y="3538800"/>
              <a:chExt cx="4743720" cy="233712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2703600" y="3538800"/>
                <a:ext cx="2320920" cy="2337120"/>
                <a:chOff x="2703600" y="3538800"/>
                <a:chExt cx="2320920" cy="233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038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9368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1701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703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3372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5705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8038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6370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036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1036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4038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9368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1701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703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372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5705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8038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70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7036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1036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4038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9368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1701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8703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3372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5705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8038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6370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7036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036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4038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68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1701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8703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3372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5705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8038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6370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7036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1036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4038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9368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1701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8703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3372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5705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8038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6370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7036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1036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038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9368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1701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8703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3372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5705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038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370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7036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1036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4038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9368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1701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8703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372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5705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8038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6370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7036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1036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4038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9368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1701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8703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3372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705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8038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6370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7036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1036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4038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9368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1701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8703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3372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5705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038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6370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7036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1036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038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9368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1701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8703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3372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705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8038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6370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7036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1036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632560" y="4016880"/>
                <a:ext cx="1814760" cy="397440"/>
                <a:chOff x="5632560" y="4016880"/>
                <a:chExt cx="1814760" cy="3974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632560" y="4093560"/>
                  <a:ext cx="21996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994360" y="4016880"/>
                  <a:ext cx="1452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Poza szkoł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632560" y="4487040"/>
                <a:ext cx="1433880" cy="397440"/>
                <a:chOff x="5632560" y="4487040"/>
                <a:chExt cx="1433880" cy="3974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632560" y="4563720"/>
                  <a:ext cx="22032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918400" y="4487040"/>
                  <a:ext cx="1148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akacj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1AA-2728-492F-832B-7FE0E175E06A}" type="slidenum">
              <a:t>30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6320" y="2682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 CE"/>
              </a:rPr>
              <a:t>b)  108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41840" y="350028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 CE"/>
              </a:rPr>
              <a:t>c) 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44920" y="189072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Times New Roman CE"/>
              </a:rPr>
              <a:t>a)  180 dni; 72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116000" y="3435480"/>
            <a:ext cx="410364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884-4DA5-4E12-98EA-CE04F8502BC7}" type="slidenum">
              <a:t>31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danie 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Uczniowie klas pierwszych pew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imnazjum przedstawili swoje preferen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zorów na ubraniach w postaci diagram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edstawionego poniż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3816360" cy="19447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042920" y="4665600"/>
            <a:ext cx="7489800" cy="1922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 podstawie diagramu określ, które zdanie jest fałszyw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24E-B05F-4817-A312-1F6392CCBAD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2560" y="3141720"/>
            <a:ext cx="762012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0% uczniów lubi inne desenie niż kratki, kropki i pas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mniej niż połowy uczniów są kropk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ęcej niż połowa uczniów lubi ubrania we wzor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więcej niż połowy uczniów są kratki lub pas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489744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3CF-5BD8-408A-A99B-A94302FF8AF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cc66"/>
                </a:solidFill>
                <a:latin typeface="Times New Roman"/>
              </a:rPr>
              <a:t>Diagram procentowy przedstawia wyniki wyborów prezesa klubu sportowego, który liczy 800 członków.</a:t>
            </a:r>
            <a:br>
              <a:rPr sz="2400"/>
            </a:br>
            <a:br>
              <a:rPr sz="2400"/>
            </a:br>
            <a:r>
              <a:rPr b="1" i="1" lang="pl-PL" sz="2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i="1" lang="pl-PL" sz="2400" spc="-1" strike="noStrike">
                <a:solidFill>
                  <a:srgbClr val="ff3300"/>
                </a:solidFill>
                <a:latin typeface="Monotype Corsiva"/>
              </a:rPr>
              <a:t>) Ilu członków klubu nie wzięło udziału w głosowaniu?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b) O ilu wyborców więcej głosowało na pana Piotra niż na 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pana Karola?</a:t>
            </a:r>
            <a:br>
              <a:rPr sz="2400"/>
            </a:br>
            <a:r>
              <a:rPr b="1" i="1" lang="pl-PL" sz="2400" spc="-1" strike="noStrike">
                <a:solidFill>
                  <a:srgbClr val="cccc00"/>
                </a:solidFill>
                <a:latin typeface="Monotype Corsiva"/>
              </a:rPr>
              <a:t>c) Czy L. Pan Karol wygrałby wybory gdyby przekonał do siebie połowę nie biorących udziału w głosowaniu?</a:t>
            </a:r>
            <a:br>
              <a:rPr sz="24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908000" y="3213000"/>
          <a:ext cx="61722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617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3BD-629E-444E-AB4A-0423136069D7}" type="slidenum">
              <a:t>34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00808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14200" y="2349360"/>
            <a:ext cx="2858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a) 16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194200" y="3573360"/>
            <a:ext cx="30290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b) o 8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4360" y="4581360"/>
            <a:ext cx="1469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c) 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12000" y="692280"/>
            <a:ext cx="2884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21156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EDD-9BBA-457A-B5E0-A003658521F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30243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Marysia, która bardzo lub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owoce i sery, z pirami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ybrała sobie taki zesta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dzienn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6 porcji - chleb, ryż, maka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jarzy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4 porcje - owo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mleko, jogurt, 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2 porcje - mięso, jajka, drób, ryb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 sumie mamy 6+3+4+3+2 =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porcji. Sześć porcji przypada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chleb, ryż i makaron. Ile to procent 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              ≈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0,33 = 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Procenty piramida.gif"/>
          <p:cNvPicPr/>
          <p:nvPr/>
        </p:nvPicPr>
        <p:blipFill>
          <a:blip r:embed="rId1"/>
          <a:stretch/>
        </p:blipFill>
        <p:spPr>
          <a:xfrm>
            <a:off x="3708360" y="1773360"/>
            <a:ext cx="4896000" cy="43765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\frac{6}{18} "/>
          <p:cNvPicPr/>
          <p:nvPr/>
        </p:nvPicPr>
        <p:blipFill>
          <a:blip r:embed="rId2"/>
          <a:stretch/>
        </p:blipFill>
        <p:spPr>
          <a:xfrm>
            <a:off x="1763640" y="5589720"/>
            <a:ext cx="314280" cy="6476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476360" y="476280"/>
            <a:ext cx="65516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dstawmy dane z piramidy zdrowego odżywiania w postaci proc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08C-10C5-4860-AF54-AFC767713F1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3673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ane te przedstaw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iagramie procentowym. Dołącz dane o Twojej szk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yjmij, że dotyczą one lat zwykłych (365 dn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Procenty flagi dni.gif"/>
          <p:cNvPicPr/>
          <p:nvPr/>
        </p:nvPicPr>
        <p:blipFill>
          <a:blip r:embed="rId1"/>
          <a:stretch/>
        </p:blipFill>
        <p:spPr>
          <a:xfrm>
            <a:off x="4643280" y="1989000"/>
            <a:ext cx="4246560" cy="3894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187280" y="404640"/>
            <a:ext cx="741708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rzystając z  ilustracji odczytaj ile godzin i 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ni spędzają uczniowie w szk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363-1EBF-46E1-AEE1-C2AD3C4881E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476280"/>
            <a:ext cx="41749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 domowe nr 1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kończ procentowy diagr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zedstawiający zdrow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, wybrany przez Marysi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domowe nr 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Wybierz dla Ciebie najleps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 jedzenia, który będ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godny z piramidą zdr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odżywiania. Przedstaw go 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ocentowym diagramie.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Procenty def piramida.svg"/>
          <p:cNvPicPr/>
          <p:nvPr/>
        </p:nvPicPr>
        <p:blipFill>
          <a:blip r:embed="rId1"/>
          <a:stretch/>
        </p:blipFill>
        <p:spPr>
          <a:xfrm>
            <a:off x="4859280" y="1413000"/>
            <a:ext cx="3889440" cy="4163760"/>
          </a:xfrm>
          <a:prstGeom prst="rect">
            <a:avLst/>
          </a:prstGeom>
          <a:ln w="0">
            <a:noFill/>
          </a:ln>
        </p:spPr>
      </p:pic>
      <p:sp>
        <p:nvSpPr>
          <p:cNvPr id="525" name="">
            <a:hlinkClick r:id="rId2" action="ppaction://hlinksldjump"/>
          </p:cNvPr>
          <p:cNvSpPr/>
          <p:nvPr/>
        </p:nvSpPr>
        <p:spPr>
          <a:xfrm>
            <a:off x="6877080" y="5877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87B-AE44-4402-AAC7-E42A40820B7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76360" y="2565360"/>
            <a:ext cx="64803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aki to procen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9" name="" descr="Obraz,Plakat - Okres sprzeda&amp;zdot;y"/>
          <p:cNvPicPr/>
          <p:nvPr/>
        </p:nvPicPr>
        <p:blipFill>
          <a:blip r:embed="rId1"/>
          <a:stretch/>
        </p:blipFill>
        <p:spPr>
          <a:xfrm>
            <a:off x="3203640" y="4005360"/>
            <a:ext cx="2952720" cy="196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D13-30D3-49E1-8552-2A59EC1CFE9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Na pewno każdy z Was spotkał się z pojęc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procentu, nie tylko w szkole, ale przede wszystk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w życiu codziennym. Jeśli się uważnie rozejrzym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to na każdym kroku dostrzegamy lub słyszy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słowo „procen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1DA-312A-4534-A6B6-9B32B2678DE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66ff"/>
                </a:solidFill>
                <a:latin typeface="Monotype Corsiva"/>
              </a:rPr>
              <a:t>Jakim procentem I liczby jest liczba II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obliczyć, jakim procentem liczby 20 jest liczba 3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należy : 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najpierw ustalić, jaką częścią liczby 20 jest liczba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a następnie zapisać tę część jako procent: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× 100% = 15 %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252360" y="-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211640" y="3213000"/>
                <a:ext cx="5065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771640" y="4365720"/>
                <a:ext cx="549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 rot="5400000">
            <a:off x="7344360" y="5049000"/>
            <a:ext cx="158436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7020000" y="3357720"/>
          <a:ext cx="1295280" cy="266004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116000" y="500544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CD0-A1A0-429A-ADF6-2DAD9A72AA4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414036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jakim procen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jednej liczby jest druga liczb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należy drugą liczbę podzielić przez pierwszą i otrzymany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iloraz wyrazić w procentach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50160" y="3716280"/>
            <a:ext cx="60498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Jakim procentem liczby 45 jest liczba 9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476360" y="4941720"/>
                <a:ext cx="6624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918-3870-4D60-9944-347A3CA1E0F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Na parkingu stoi 12 samochodów, 3 cz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i 9 białych. Podaj ile </a:t>
            </a:r>
            <a:r>
              <a:rPr b="1" i="1" lang="pl-PL" sz="3200" spc="-1" strike="noStrike">
                <a:solidFill>
                  <a:srgbClr val="0033cc"/>
                </a:solidFill>
                <a:latin typeface="Monotype Corsiva"/>
              </a:rPr>
              <a:t>procent</a:t>
            </a: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 wszyst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samochodów stanowią samochody cz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79280" y="620640"/>
            <a:ext cx="19836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procentow"/>
          <p:cNvPicPr/>
          <p:nvPr/>
        </p:nvPicPr>
        <p:blipFill>
          <a:blip r:embed="rId1"/>
          <a:stretch/>
        </p:blipFill>
        <p:spPr>
          <a:xfrm>
            <a:off x="1835280" y="3860640"/>
            <a:ext cx="4824360" cy="16081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2E4-0205-4FDA-907C-A069C0B8897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8900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otrzymał po roku oszczędz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200 zł odsetek od 5000 zł, jakie włożył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roczną lokatę. Jak była oprocentow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lokat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7080" y="620640"/>
            <a:ext cx="21405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9900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42480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358-5EFE-4D3E-B802-229C1BBEFD2C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9640" y="2349360"/>
            <a:ext cx="774396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Lokata była oprocentowana 4% w skali ro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116000" y="692280"/>
                <a:ext cx="6840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003640" y="3933720"/>
            <a:ext cx="314352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291-9BA5-4F79-89D1-D9C421E066A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67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Filip na 70 rzutów do kosza trafia tyl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14 razy. Jaką procentową skutecz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miał Filip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7640" y="692280"/>
            <a:ext cx="2943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6264360" cy="24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CA1-A28E-4835-9838-0167924994C9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76360" y="1844640"/>
            <a:ext cx="63356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Filip miał 20 % skutecznoś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476360" y="692280"/>
                <a:ext cx="676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2585880" cy="25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B00-ABCE-4A4D-ACDA-0F71C8FEA20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e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Podstawowym składnikiem ciała ludzki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jest woda. Ciało człowieka o masie 52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zawiera około 33,8 kg wody. Jaki proc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masy ciała ludzkiego stanowi woda 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711-5C36-4558-9889-5F63C1BED9B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40000" y="1700280"/>
            <a:ext cx="5545080" cy="2043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Woda stanowi  65 % masy ciała ludzkie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344680" y="549360"/>
                <a:ext cx="47419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,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8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2735280" cy="20671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2303280" cy="3036600"/>
          </a:xfrm>
          <a:prstGeom prst="rect">
            <a:avLst/>
          </a:prstGeom>
          <a:ln w="0">
            <a:noFill/>
          </a:ln>
        </p:spPr>
      </p:pic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680400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22C-A5E3-4226-B30D-ED99BD2F289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826920" y="3068640"/>
            <a:ext cx="77774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dwyżki i obniżki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4" name="" descr="Obraz,Plakat - Promocje -50%"/>
          <p:cNvPicPr/>
          <p:nvPr/>
        </p:nvPicPr>
        <p:blipFill>
          <a:blip r:embed="rId1"/>
          <a:stretch/>
        </p:blipFill>
        <p:spPr>
          <a:xfrm>
            <a:off x="378000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Obraz,Plakat - Promocje -10%"/>
          <p:cNvPicPr/>
          <p:nvPr/>
        </p:nvPicPr>
        <p:blipFill>
          <a:blip r:embed="rId2"/>
          <a:stretch/>
        </p:blipFill>
        <p:spPr>
          <a:xfrm>
            <a:off x="6227640" y="404640"/>
            <a:ext cx="2449800" cy="24498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Obraz,Plakat Réduction Etykieta"/>
          <p:cNvPicPr/>
          <p:nvPr/>
        </p:nvPicPr>
        <p:blipFill>
          <a:blip r:embed="rId3"/>
          <a:stretch/>
        </p:blipFill>
        <p:spPr>
          <a:xfrm>
            <a:off x="971640" y="333360"/>
            <a:ext cx="2952720" cy="23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1C7-6ECA-4A73-8B78-A18932A89EB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3960720" cy="12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Zastosowanie procentów </a:t>
            </a:r>
            <a:br>
              <a:rPr sz="4000"/>
            </a:b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 życiu codziennym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wycinki prasowe dotyczące wybor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ulotki sklepowe o promocjach lub rabata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skład procentowy danego produkt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3743280" cy="2732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42920" y="4797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659640" y="5157720"/>
            <a:ext cx="1944720" cy="13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940360" y="1773360"/>
            <a:ext cx="133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ktur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 rot="1941600">
            <a:off x="3419640" y="4365720"/>
            <a:ext cx="1514160" cy="22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tykie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 rot="20536200">
            <a:off x="5508720" y="4653000"/>
            <a:ext cx="3124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gony z kasy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764-5617-4C29-9573-1F4DFF1BF48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Procenty spotkasz wszędzie - w sklepach, bankach, w gazetach, </a:t>
            </a:r>
            <a:br>
              <a:rPr sz="2400"/>
            </a:b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na giełdzie, u jubilera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88" name="" descr="Procenty rower2.jpg"/>
          <p:cNvPicPr/>
          <p:nvPr/>
        </p:nvPicPr>
        <p:blipFill>
          <a:blip r:embed="rId1"/>
          <a:stretch/>
        </p:blipFill>
        <p:spPr>
          <a:xfrm>
            <a:off x="5796000" y="1413000"/>
            <a:ext cx="2857320" cy="215244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3097440" cy="25812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https://www.santanderconsumer.pl/files/GFX/lokaty/940x500_lokata_direct_internet_4,65_24.jpg"/>
          <p:cNvPicPr/>
          <p:nvPr/>
        </p:nvPicPr>
        <p:blipFill>
          <a:blip r:embed="rId3"/>
          <a:stretch/>
        </p:blipFill>
        <p:spPr>
          <a:xfrm>
            <a:off x="1042920" y="3429000"/>
            <a:ext cx="4824360" cy="2565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Procenty buty1.jpg"/>
          <p:cNvPicPr/>
          <p:nvPr/>
        </p:nvPicPr>
        <p:blipFill>
          <a:blip r:embed="rId4"/>
          <a:stretch/>
        </p:blipFill>
        <p:spPr>
          <a:xfrm>
            <a:off x="4140360" y="2205000"/>
            <a:ext cx="2857320" cy="37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717-E5F8-4DF4-9D0E-1101A32FBFE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Obliczanie procentu danej liczby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zamieniamy </a:t>
            </a:r>
            <a:r>
              <a:rPr b="1" i="1" lang="pl-PL" sz="3600" spc="-1" strike="noStrike">
                <a:solidFill>
                  <a:srgbClr val="ff0000"/>
                </a:solidFill>
                <a:latin typeface="Monotype Corsiva"/>
              </a:rPr>
              <a:t>procent</a:t>
            </a: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 na ułam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ułamek mnożymy przez liczb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procenty"/>
          <p:cNvPicPr/>
          <p:nvPr/>
        </p:nvPicPr>
        <p:blipFill>
          <a:blip r:embed="rId1"/>
          <a:stretch/>
        </p:blipFill>
        <p:spPr>
          <a:xfrm>
            <a:off x="1476360" y="2997360"/>
            <a:ext cx="2448000" cy="1239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procent"/>
          <p:cNvPicPr/>
          <p:nvPr/>
        </p:nvPicPr>
        <p:blipFill>
          <a:blip r:embed="rId2"/>
          <a:stretch/>
        </p:blipFill>
        <p:spPr>
          <a:xfrm>
            <a:off x="1476360" y="4508640"/>
            <a:ext cx="2592360" cy="1250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2594160" cy="25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DF8-C9D5-42D7-8725-FD28C0DC1E6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4356000" y="907920"/>
            <a:ext cx="4127760" cy="2376720"/>
          </a:xfrm>
          <a:prstGeom prst="wedgeRoundRectCallout">
            <a:avLst>
              <a:gd name="adj1" fmla="val -86078"/>
              <a:gd name="adj2" fmla="val 90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Monotype Corsiva"/>
              </a:rPr>
              <a:t>Aby obliczyć procent danej liczby, należy tę liczbę pomnożyć przez ten pro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92360" y="3860640"/>
            <a:ext cx="4572000" cy="181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 15% liczb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88560" y="5084640"/>
            <a:ext cx="7357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15% · 2000= 0,15 · 2000 =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BE3-A06A-4D6C-B707-67EC8187879B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92360" y="692280"/>
            <a:ext cx="4572000" cy="3445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Oblicz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) 15% liczby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b) 7% liczby 12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2314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D30-32B1-4CF7-8700-F7ABA3F18A20}" type="slidenum">
              <a:t>53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0896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sportowym ogłosz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iętnastoprocentową obniżkę c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cześniej  piłka kosztowała 8 zł, a parasol 24 zł. Ile teraz kosztują te tow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7236000" y="90792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5867280" y="260280"/>
            <a:ext cx="1584360" cy="158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261612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29671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076720" y="3284640"/>
                <a:ext cx="509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1258920" y="33980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  <a:ea typeface="Calibri"/>
              </a:rPr>
              <a:t>Piłka: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   15% • 8 =                               =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20" y="269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84720" y="335664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•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 =</a:t>
            </a: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88000" y="34992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-1,2=</a:t>
            </a:r>
            <a:r>
              <a:rPr b="0" lang="pl-PL" sz="2400" spc="-1" strike="noStrike">
                <a:solidFill>
                  <a:srgbClr val="003399"/>
                </a:solidFill>
                <a:latin typeface="Bookman Old Style"/>
                <a:ea typeface="Calibri"/>
              </a:rPr>
              <a:t>6,8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08360" y="3213000"/>
                <a:ext cx="560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1258200" y="4148640"/>
            <a:ext cx="69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100% - 15% = 85%          85%•8 = 0,85•8=6,8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77560" y="4649760"/>
            <a:ext cx="7281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</a:rPr>
              <a:t>Parasol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15% • 24 = 0,15•24=3,6         24-3,6=20,4 zł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85%•24=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3080" y="5659920"/>
            <a:ext cx="78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Piłka kosztuje 6,80 zł, a parasol 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86E-8223-45DA-9988-7DC4E439C2D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65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tyczniu pensja pana Macieja wynosi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2300 zł. W lipcu przewidziano pięcioprocentową podwyżkę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an Maciej  będzie zarabiał od trzeciego kwartał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5720" y="3251880"/>
            <a:ext cx="8928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5%•2300=0,05•2300=115 zł.        2300+115=</a:t>
            </a:r>
            <a:r>
              <a:rPr b="0" lang="pl-PL" sz="2800" spc="-1" strike="noStrike">
                <a:solidFill>
                  <a:srgbClr val="0033cc"/>
                </a:solidFill>
                <a:latin typeface="Monotype Corsiva"/>
              </a:rPr>
              <a:t>2415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lub   100%+5%=105%          105% • 2300 = 1,05•2300=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202680" y="4651560"/>
            <a:ext cx="90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Monotype Corsiva"/>
              </a:rPr>
              <a:t>Odpowiedź: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 trzeciego kwartału tzn. od lipca pan Macie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będzie zarabiał 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940360" y="404640"/>
            <a:ext cx="2665440" cy="17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647-8052-4C27-89F9-D36A7F9D8C5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516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uty kosztowały 300 zł, staniały najpier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o 20%, a potem jeszcze o 1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te buty kosztują obecn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60320" y="3209760"/>
            <a:ext cx="7304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80% •  300 = 0,8 • 300 = 240 zł. - cena po 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90% • 240 = 0,9 • 240 = 216 zł. - cena po I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08000" y="3266280"/>
            <a:ext cx="69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Każda kolejna obniżka (podwyżka) ce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tego samego towaru jest już liczo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z innej kwoty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Obecnie buty kosztują 216 z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1843200" cy="22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E10-C57B-4E0D-B6E8-A104AAEF721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Zadania dodatkowe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1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. 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30 uczniów, dziewczęta stanowią 40% całej klasy, ilu jest chłopc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400" spc="-1" strike="noStrike">
                <a:solidFill>
                  <a:srgbClr val="0033cc"/>
                </a:solidFill>
                <a:latin typeface="Monotype Corsiva"/>
              </a:rPr>
              <a:t>2.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W chórze 8 osób śpiewało basem, a o 25% więcej osób śpiewało altem. Ile osób śpiewało al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6156360" y="404640"/>
            <a:ext cx="2448000" cy="163044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639" name="">
            <a:hlinkClick r:id="rId3" action="ppaction://hlinksldjump"/>
          </p:cNvPr>
          <p:cNvSpPr/>
          <p:nvPr/>
        </p:nvSpPr>
        <p:spPr>
          <a:xfrm>
            <a:off x="6948360" y="587700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F9C-2E18-4579-8BBF-B6454A9D9883}" type="slidenum">
              <a:t>57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76360" y="2133720"/>
            <a:ext cx="720108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 a pieniądz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3143160" cy="20923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259056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23B-E205-4C26-BA9C-98950D014F9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Łatwo jest obliczyć liczbę, gdy znamy jej 50%, 25% czy 10%. Cała liczba to przecież 100%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50% procent liczby wynosi 6, to cała liczba jest dwa razy większa, czyli 1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25% liczby to 7, wówczas szukaną liczbę obliczamy wykonując mnożenie 7 </a:t>
            </a:r>
            <a:r>
              <a:rPr b="1" lang="pl-PL" sz="2800" spc="-1" strike="noStrike" baseline="30000">
                <a:solidFill>
                  <a:srgbClr val="009900"/>
                </a:solidFill>
                <a:latin typeface="Monotype Corsiva"/>
              </a:rPr>
              <a:t>.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4 = 28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Liczba, której 10% wynosi 3, wówczas szukana liczba jest dziesięć razy większa, czyli 30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6D6-81F9-472E-93F6-AF91A42D221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773000"/>
            <a:ext cx="4572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śród ułamków duże znaczenie, zwłaszc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 życiu codziennym, mają ułamk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o mianowniku 100. Ułam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te nazywają się procentam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Procent oznaczamy symbolem</a:t>
            </a:r>
            <a:br>
              <a:rPr sz="3200"/>
            </a:br>
            <a:r>
              <a:rPr b="1" i="1" lang="pl-PL" sz="8000" spc="-1" strike="noStrike">
                <a:solidFill>
                  <a:srgbClr val="cc0099"/>
                </a:solidFill>
                <a:latin typeface="Monotype Corsiva"/>
              </a:rPr>
              <a:t>%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1844640"/>
            <a:ext cx="257004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800" spc="-1" strike="noStrike">
                <a:solidFill>
                  <a:srgbClr val="ff0000"/>
                </a:solidFill>
                <a:latin typeface="Monotype Corsiva"/>
              </a:rPr>
              <a:t>%</a:t>
            </a:r>
            <a:r>
              <a:rPr b="1" i="1" lang="pl-PL" sz="96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FFCC-C304-4D55-9C48-1005A17A5C10}" type="slidenum">
              <a:t>6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Aby obliczyć liczbę, gdy dany jest jej proc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35280" y="3789360"/>
            <a:ext cx="59576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 liczbę, której 2% jest równ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6985080" cy="12240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995480" cy="25909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427640" y="1557360"/>
            <a:ext cx="4093920" cy="2087640"/>
          </a:xfrm>
          <a:prstGeom prst="wedgeRoundRectCallout">
            <a:avLst>
              <a:gd name="adj1" fmla="val -91333"/>
              <a:gd name="adj2" fmla="val -7416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Wystarczy podzielić 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przez podany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92F-ECFF-459C-9A7B-5FDD921FA86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58920" y="1052640"/>
            <a:ext cx="7242120" cy="13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Oblicz liczbę której 5% wynosi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25880" y="2421000"/>
            <a:ext cx="6095520" cy="259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30 : 5% = 30 : 0,05 = 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Drugi sposó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1% tej liczby wynosi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Stąd 100% = 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352872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CF7-00C2-443E-82E2-E5912B4BDE6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a1bd6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% jest równ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5% jest równe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0 % jest równe 1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14800" y="765000"/>
            <a:ext cx="6354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najdź liczby, który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819520" cy="26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073-F591-4D94-8481-113C2DD31596}" type="slidenum">
              <a:t>62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portmonetce po zakupach zostało 45 zł, co stanow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5% sumy, jaka w niej była przed zakupami. Ile pienięd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yło w portmonetce przed zakupam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 rot="20670000">
            <a:off x="5148000" y="3284280"/>
            <a:ext cx="2232000" cy="175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14E-0342-4763-9D44-03994D069D2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Rozwiązanie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45:15%=45:0,15=3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32000" y="4149720"/>
            <a:ext cx="5257800" cy="10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 rot="20670000">
            <a:off x="6156000" y="549000"/>
            <a:ext cx="2376360" cy="18698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116000" y="3860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dpowiedź: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Przed zakupami w portmonetce było 3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1C0-C293-43D5-9917-A41EF0B60D61}" type="slidenum">
              <a:t>64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7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6201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założył w banku lokatę oprocentowan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skali roku na 6%. Ile pieniędzy ulokował jeśli po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otrzymał z banku 13250 złotych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6% - oprocent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106% - kwota z odsetk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20371200">
            <a:off x="5651280" y="4005000"/>
            <a:ext cx="2447640" cy="1295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B42-B812-4BBD-B951-AFEF6A1D9A69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7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Rozwiąz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325000 : 106% = 1325000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•        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=              = 125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9900"/>
                </a:solidFill>
                <a:latin typeface="Monotype Corsiva"/>
              </a:rPr>
              <a:t>Odpowiedź: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ulokował w bank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wotę 12500zł.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940360" y="549360"/>
            <a:ext cx="22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20425800">
            <a:off x="4572720" y="836280"/>
            <a:ext cx="2538360" cy="117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 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76360" y="2997360"/>
            <a:ext cx="590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6156360" y="2276640"/>
                <a:ext cx="5605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132000" y="3429000"/>
                <a:ext cx="122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2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2BF-061B-4115-93B3-8D49CAED1C7A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aca w grupach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Ile pieniędzy należy wpłacić do banku na 11%, jeśli wiadomo, że po upływie roku klient dostał 55 zł. odsetek?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hipermarkecie AS można było kupić owoce w 6% promocji. Cena bananów była o 0,30zł. mniejsza od początkowej. Ile kosztowały one na początku?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i Kasia kupowała wieczorem na targu dwa koszyki jagód. Sprzedawca z powodu późnej pory obniżył ich cenę o 10%. Pani Kasia zapłaciła 19,80zł. Ile przedtem kosztował koszyczek jagó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CAA-DBDE-4B04-B3FA-4AA9695F14D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15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leży wpłacić do banku 500zł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 początku banany kosztowały 5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Koszyczek jagód kosztował na początku 11z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1187280" y="3933720"/>
            <a:ext cx="259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097440" cy="212580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 rot="18664200">
            <a:off x="6659280" y="549000"/>
            <a:ext cx="1708200" cy="1708200"/>
          </a:xfrm>
          <a:prstGeom prst="rect">
            <a:avLst/>
          </a:prstGeom>
          <a:ln w="0">
            <a:noFill/>
          </a:ln>
        </p:spPr>
      </p:pic>
      <p:sp>
        <p:nvSpPr>
          <p:cNvPr id="689" name="">
            <a:hlinkClick r:id="rId4" action="ppaction://hlinksldjump"/>
          </p:cNvPr>
          <p:cNvSpPr/>
          <p:nvPr/>
        </p:nvSpPr>
        <p:spPr>
          <a:xfrm>
            <a:off x="673272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C9A1-760C-49B2-91C9-EB90AD3B758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71640" y="1989000"/>
            <a:ext cx="763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  kalkulator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598-73B8-4FA6-B126-13212FB0D98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439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odany </a:t>
            </a:r>
            <a:r>
              <a:rPr b="1" lang="pl-PL" sz="2800" spc="-1" strike="noStrike">
                <a:solidFill>
                  <a:srgbClr val="0000cc"/>
                </a:solidFill>
                <a:latin typeface="Monotype Corsiva"/>
              </a:rPr>
              <a:t>prostokąt podzielono na 100 małych prostokątów – każdy taki prostokącik oznacza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148360" y="3284640"/>
          <a:ext cx="2514600" cy="2131920"/>
        </p:xfrm>
        <a:graphic>
          <a:graphicData uri="http://schemas.openxmlformats.org/drawingml/2006/table">
            <a:tbl>
              <a:tblPr/>
              <a:tblGrid>
                <a:gridCol w="250920"/>
                <a:gridCol w="252360"/>
                <a:gridCol w="250920"/>
                <a:gridCol w="252360"/>
                <a:gridCol w="250920"/>
                <a:gridCol w="250920"/>
                <a:gridCol w="252360"/>
                <a:gridCol w="250560"/>
                <a:gridCol w="252720"/>
                <a:gridCol w="2505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bf0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411280" y="4149720"/>
                <a:ext cx="1828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E39-9924-4A41-9C6C-282FA7E4350C}" type="slidenum">
              <a:t>7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ykorzystanie kalkulatora do obliczeń procentowych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Zapoznaj się ze sposobami wykonyw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obliczeń procentowych przy pomo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kalkulatora, a następnie samodziel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wykonaj obli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995640" y="321300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227-7953-44E6-A110-A28282F870F7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 20% z liczby 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) Liczbę 80 powiększ o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2665440" cy="48600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2737080" cy="5000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5076720" y="3573360"/>
            <a:ext cx="3672000" cy="25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Liczba wprowad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Końcowy wynik wyświetlo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312480" cy="2588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312480" cy="24444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312480" cy="25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B5D-AE7B-49C4-BD3C-58EC447A04F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) Liczbę 80 zmniejsz 0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) Jakim procentem liczby 80 jest liczba 2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84360" y="3645000"/>
            <a:ext cx="6264360" cy="2014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            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Liczba wprowadzona 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Końcowy wynik wyświetlony 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3635280" y="4292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312840" cy="24444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3635280" y="5300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4"/>
          <a:stretch/>
        </p:blipFill>
        <p:spPr>
          <a:xfrm>
            <a:off x="1116000" y="2421000"/>
            <a:ext cx="3097080" cy="565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5"/>
          <a:stretch/>
        </p:blipFill>
        <p:spPr>
          <a:xfrm>
            <a:off x="1187280" y="3645000"/>
            <a:ext cx="302436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17C-BEF1-4188-A613-0E1D1EE4117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36800" y="1989000"/>
            <a:ext cx="48848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15% z liczby 25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94280" y="2997360"/>
            <a:ext cx="55857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0,6% z liczby 3000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10640" y="4149720"/>
            <a:ext cx="6704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60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3297-09F2-41F4-A02E-0E168ABC1F18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89920" y="1916280"/>
            <a:ext cx="726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16,8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035000" y="2997360"/>
            <a:ext cx="6718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mniejsz o 20% liczbę 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4360" y="4149720"/>
            <a:ext cx="78372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jakim procentem liczby 15 jest liczba 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AAE-F63D-44AB-BA30-3DCDC6E2347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łaszcz kosztował 280zł. Ile kosztuje ten płaszcz po 30% obniż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Książka, która kosztowała 36 zł, podrożała o 15%. Ile kosztuje tera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Rower kosztował 540 zł. Po obniżce kosztuje 459zł. O ile procent obniżono cen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 sklepu zakupiono 120kg. jabłek, z czego sprzedano 117kg. Ile procent jabłek nie sprzeda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68360" y="692280"/>
            <a:ext cx="5183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a dla gr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5"/>
          <a:stretch/>
        </p:blipFill>
        <p:spPr>
          <a:xfrm>
            <a:off x="6732720" y="5229360"/>
            <a:ext cx="1512720" cy="11509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6"/>
          <a:stretch/>
        </p:blipFill>
        <p:spPr>
          <a:xfrm>
            <a:off x="5076720" y="4076640"/>
            <a:ext cx="1079640" cy="6685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7451640" y="3068640"/>
            <a:ext cx="936720" cy="70344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 rot="19172400">
            <a:off x="7380000" y="404640"/>
            <a:ext cx="906480" cy="136692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 txBox="1"/>
          <p:nvPr/>
        </p:nvSpPr>
        <p:spPr>
          <a:xfrm>
            <a:off x="8028000" y="260280"/>
            <a:ext cx="790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-30%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7020000" y="3213000"/>
            <a:ext cx="5619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15%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D99-0D40-4082-9B99-B99558B2AC90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ani Nowak marzy o tym, aby utrzymywać się z odsetek bankowych. Jaką kwotę musiałaby wpłacić na roczną lokatę oprocentowaną 5%, aby co roku otrzymywać odsetki w wysokości 18000z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2372040" cy="28069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805760" y="765000"/>
            <a:ext cx="50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바탕"/>
              </a:rPr>
              <a:t>Zadania dla grup c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A58-5AD6-4840-BE25-238840DCA5C3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łaszcz kosztuje 196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siążka kosztuje 41,4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nę roweru obniżono o 1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ie sprzedano 15% jabł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ni Nowak musiałaby wpłacić 3600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979640" y="4292640"/>
            <a:ext cx="1469880" cy="22176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6156360" y="4437000"/>
            <a:ext cx="2087640" cy="12924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3"/>
          <a:stretch/>
        </p:blipFill>
        <p:spPr>
          <a:xfrm>
            <a:off x="3995640" y="4437000"/>
            <a:ext cx="1871640" cy="14223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4"/>
          <a:stretch/>
        </p:blipFill>
        <p:spPr>
          <a:xfrm>
            <a:off x="6877080" y="1773360"/>
            <a:ext cx="1701720" cy="20145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5"/>
          <a:stretch/>
        </p:blipFill>
        <p:spPr>
          <a:xfrm rot="21161400">
            <a:off x="5724000" y="404640"/>
            <a:ext cx="2089440" cy="1568520"/>
          </a:xfrm>
          <a:prstGeom prst="rect">
            <a:avLst/>
          </a:prstGeom>
          <a:ln w="0">
            <a:noFill/>
          </a:ln>
        </p:spPr>
      </p:pic>
      <p:sp>
        <p:nvSpPr>
          <p:cNvPr id="742" name="">
            <a:hlinkClick r:id="rId6" action="ppaction://hlinksldjump"/>
          </p:cNvPr>
          <p:cNvSpPr/>
          <p:nvPr/>
        </p:nvSpPr>
        <p:spPr>
          <a:xfrm>
            <a:off x="665964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211-A3C1-4FBF-9098-05AEF4E91212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Obraz,Plakat - obroty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1476360" y="1916280"/>
            <a:ext cx="7056360" cy="13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iczby, procenty i życie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0AD-E4EB-4A9D-9734-7CCC0AC143B3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61976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Według danych GUS powierzchnia Polski, wynoszą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31,3 mln ha, jest  w głównej mierze wykorzystywana p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produkcję rolniczą oraz pokryta przez lasy. Wedłu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ewidencji geodezyjnej z 1 stycznia 2003r. użytki rol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i leśne, stanowiące tzw. użytki biotyczne, zajmowa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koło 91% powierzchni kra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132000" y="69228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908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D90-3196-4FD9-8479-861E5DAB4F08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340000" y="836640"/>
          <a:ext cx="5410080" cy="5175360"/>
        </p:xfrm>
        <a:graphic>
          <a:graphicData uri="http://schemas.openxmlformats.org/drawingml/2006/table">
            <a:tbl>
              <a:tblPr/>
              <a:tblGrid>
                <a:gridCol w="541440"/>
                <a:gridCol w="541080"/>
                <a:gridCol w="540000"/>
                <a:gridCol w="541080"/>
                <a:gridCol w="541440"/>
                <a:gridCol w="541440"/>
                <a:gridCol w="541440"/>
                <a:gridCol w="539640"/>
                <a:gridCol w="496800"/>
                <a:gridCol w="5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 flipV="1">
            <a:off x="1476360" y="47628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332000" y="2133360"/>
            <a:ext cx="1079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692360" y="4292280"/>
            <a:ext cx="1224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93080" y="2997360"/>
            <a:ext cx="10778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211280" y="765000"/>
            <a:ext cx="431640" cy="115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907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450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19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8000" y="342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efde3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60280"/>
            <a:ext cx="792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26028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773360"/>
            <a:ext cx="792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4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2708280"/>
            <a:ext cx="685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86064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006-4D71-4CCC-B15B-41FECC96B4A6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milionów hektarów zajmują użytk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iotycz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powierzchni Polski zajmują pozostałe tereny? Jaka               to powierzchn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Lasy pod koniec 2002 roku stanowiły 28,5% powierzchni Polski. Ile  to milionów hektar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igl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liści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śród lasów iglastych dominują lasy sosnowe i modrzewiowe.                   Ile hektarów zajmują tereny porośnięte sosnami i modrzewia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rocent kraju zajmują buki i olc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332000" y="620640"/>
            <a:ext cx="38876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 c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8"/>
          <a:stretch/>
        </p:blipFill>
        <p:spPr>
          <a:xfrm>
            <a:off x="5796000" y="260280"/>
            <a:ext cx="2979720" cy="25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613-82B1-476F-95F1-F03B1F748F62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ybiera się na wycieczkę z Krakowa (2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o Barcelony (2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. Chłopiec pamiętał, że ob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iejscowości leżą po tej sam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stronie południka 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Krakowie jest godzina 9: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czasu słonecznego, któ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ędzie godzina w tym samy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omencie w Barcelon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Plik:Cadran solaire St Marys Basilica 01 AB.jpg"/>
          <p:cNvPicPr/>
          <p:nvPr/>
        </p:nvPicPr>
        <p:blipFill>
          <a:blip r:embed="rId1"/>
          <a:stretch/>
        </p:blipFill>
        <p:spPr>
          <a:xfrm>
            <a:off x="5435640" y="2781360"/>
            <a:ext cx="290844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5D1-FA5A-492E-BFF9-25BB97D86B50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ama Jurka kupiła synowi bilet na samolot w 2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omocji. Zaoszczędziła 128zł. Ile zapłaciłaby kobiet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dyby cena biletu nie była obniżo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 rot="20237400">
            <a:off x="5003640" y="3141360"/>
            <a:ext cx="296100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1FB-0AE7-4CFA-B4C8-FE6D73D7FF5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393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Dzień wcześniej Jurek poszedł na zakupy do poblisk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sklepu. Chciał kupić sobie na drogę trzy soki owoc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były właśnie ciekawe obniżki. Zainteresowa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chłopca wzbudziła następująca promocj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Times New Roman"/>
              </a:rPr>
              <a:t>2,20zł.                                             1,80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Który sok powinien wybrać Jurek aby zaoszczędzić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ą sumę zapłaci  w sklep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781440" cy="1081080"/>
          </a:xfrm>
          <a:prstGeom prst="rect">
            <a:avLst/>
          </a:prstGeom>
          <a:ln w="0">
            <a:noFill/>
          </a:ln>
        </p:spPr>
      </p:pic>
      <p:pic>
        <p:nvPicPr>
          <p:cNvPr id="764" name="irc_mi" descr=""/>
          <p:cNvPicPr/>
          <p:nvPr/>
        </p:nvPicPr>
        <p:blipFill>
          <a:blip r:embed="rId2"/>
          <a:stretch/>
        </p:blipFill>
        <p:spPr>
          <a:xfrm>
            <a:off x="1476360" y="3429000"/>
            <a:ext cx="1584360" cy="1398600"/>
          </a:xfrm>
          <a:prstGeom prst="rect">
            <a:avLst/>
          </a:prstGeom>
          <a:ln w="0">
            <a:noFill/>
          </a:ln>
        </p:spPr>
      </p:pic>
      <p:pic>
        <p:nvPicPr>
          <p:cNvPr id="765" name="irc_mi" descr=""/>
          <p:cNvPicPr/>
          <p:nvPr/>
        </p:nvPicPr>
        <p:blipFill>
          <a:blip r:embed="rId3"/>
          <a:stretch/>
        </p:blipFill>
        <p:spPr>
          <a:xfrm>
            <a:off x="5724360" y="3284640"/>
            <a:ext cx="1508400" cy="150804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 txBox="1"/>
          <p:nvPr/>
        </p:nvSpPr>
        <p:spPr>
          <a:xfrm rot="741000">
            <a:off x="2623680" y="329832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3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7" name=""/>
          <p:cNvSpPr txBox="1"/>
          <p:nvPr/>
        </p:nvSpPr>
        <p:spPr>
          <a:xfrm rot="1188600">
            <a:off x="7019640" y="306864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2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D2C-03AA-407D-9D34-4CA24132EF3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raz z rodzicami musi dojechać samochodem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rakowskie lotnisko Balice. Mają do pokonania tras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20km. Tata Jurka zwykle jedzie ze średnią prędkości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80km/h. Samolot startuje o godzinie 9:00. O któr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najpóźniej powinni wyjechać aby Jurek nie spóźnił si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iorąc pod uwagę 20 minutową odpraw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4859280" y="682560"/>
            <a:ext cx="3745080" cy="20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38A-BD71-4940-884C-92F3C632DE98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gadka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Janek stanowi 20% swojej rodziny, 40% je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rodziny to dorośli, 60% stanowią dziec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60% to kobiety, a 40% to mężczyźn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Ile sióstr ma Jane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441600" cy="23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4D9-F25D-4E08-B955-2B2100558CDE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71640" y="1752120"/>
            <a:ext cx="79214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emaks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chomikuj.pl/mabram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h.edu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1"/>
              </a:rPr>
              <a:t>http://wiki.wolnepodreczniki.pl/Matematyka:Gimnazjum/Procenty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2"/>
              </a:rPr>
              <a:t>www.fajslawice.internetdsl.pl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3"/>
              </a:rPr>
              <a:t>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4"/>
              </a:rPr>
              <a:t>pgf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5"/>
              </a:rPr>
              <a:t>/mat/prezentacje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Monotype Corsiva"/>
              </a:rPr>
              <a:t>pl.wikipedia.org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476360" y="404640"/>
            <a:ext cx="6913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ateriały pochodzą z Platformy Edukacyjnej Port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025-565E-4FAB-9A1F-92D1C07BEB5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16360" y="2276640"/>
            <a:ext cx="28080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009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3028680" cy="3097080"/>
          </a:xfrm>
          <a:prstGeom prst="rect">
            <a:avLst/>
          </a:prstGeom>
          <a:ln w="0">
            <a:noFill/>
          </a:ln>
        </p:spPr>
      </p:pic>
      <p:sp>
        <p:nvSpPr>
          <p:cNvPr id="781" name="">
            <a:hlinkClick r:id="rId2" action="ppaction://hlinksldjump"/>
          </p:cNvPr>
          <p:cNvSpPr/>
          <p:nvPr/>
        </p:nvSpPr>
        <p:spPr>
          <a:xfrm>
            <a:off x="6732720" y="616572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18F-78B9-4171-8926-38AD8624DD80}" type="slidenum">
              <a:t>87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Procenty definicja.svg"/>
          <p:cNvPicPr/>
          <p:nvPr/>
        </p:nvPicPr>
        <p:blipFill>
          <a:blip r:embed="rId1"/>
          <a:stretch/>
        </p:blipFill>
        <p:spPr>
          <a:xfrm>
            <a:off x="1332000" y="1700280"/>
            <a:ext cx="6912000" cy="425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33920" y="691200"/>
            <a:ext cx="7553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Na obrazku widzisz 100 kredek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AEA-E450-456E-9C70-8BA5F3CEE15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ematyka</cp:lastModifiedBy>
  <dcterms:modified xsi:type="dcterms:W3CDTF">2013-04-07T16:03:31Z</dcterms:modified>
  <cp:revision>278</cp:revision>
  <dc:subject/>
  <dc:title>Prezentacja programu PowerPoint</dc:title>
</cp:coreProperties>
</file>