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gif" ContentType="image/gif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F5FE-E3F0-41EB-8AAF-945A9CDE2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14AD-9AAC-409D-A4F7-49C21C16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F69D-2FF6-4019-B8B3-F51722539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7745-4E34-47E1-BC78-9C69D176C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E7D9E-C21D-45B9-A265-2077808DE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C22CB1-CFFE-45DF-8B79-110DA6D7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203BF5-1A09-4C63-9667-0B3C18E9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2E1FF7-9F2B-4B38-B3DF-F12D5F0B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BE9F05-563D-4418-8CAD-03B33A1C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1FEB8-DCFE-4AD5-9B63-D90C74BD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C0C83-5DCA-4AB4-B100-01E718D2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F486-DFDB-4061-BB3D-9F523944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79896-D2B0-4CC8-9AF9-D05C4882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7F27F3-31CB-4A53-9A91-B2649E0A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DE1CFA-6ACD-4E0B-BFE8-618795A0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A0F9AD-299E-413C-A326-2ACBFD29B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55892-0A28-48CF-82EA-2A8A2F1BD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6141-2E10-4069-A8F2-AF19709B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091E-6835-4EF6-B804-AF10C3CB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3A76-2BC3-4366-8FAB-C9349E8B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59E8-F95B-49BD-8671-42BD7035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63D8-B664-4DCE-A678-AB315DCA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9FF2-2749-44A0-9ACC-D8EFBCE8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6218-2822-4CB0-A424-CF17CF7F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9C6B-4C60-4B3C-AC5D-8CDF510A36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B7C2-30AF-4D9C-A050-991FCBE136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69608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Obliczenia  na  liczbach  wymiernych  do  rozwiązywania  problemów   w kontekście   praktycznym.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837720" y="4419360"/>
            <a:ext cx="723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Zadani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 Warszawie (2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) jest godzina 11:00 czasu słonecznego. Oblicz czas słoneczny w tym samym momencie w Moskwie (37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1760" y="3277440"/>
            <a:ext cx="117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0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3962520"/>
            <a:ext cx="7620120" cy="10666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ługość geograficzna obu miejscowości jest podan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nawiasach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Wykonujemy rysunek pomocniczy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720" y="5105160"/>
            <a:ext cx="7162560" cy="6858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 Moskwie jest godzina  12.0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85800" y="1219320"/>
            <a:ext cx="5263920" cy="3948120"/>
            <a:chOff x="685800" y="1219320"/>
            <a:chExt cx="5263920" cy="3948120"/>
          </a:xfrm>
        </p:grpSpPr>
        <p:sp>
          <p:nvSpPr>
            <p:cNvPr id="167" name=""/>
            <p:cNvSpPr/>
            <p:nvPr/>
          </p:nvSpPr>
          <p:spPr>
            <a:xfrm>
              <a:off x="685800" y="1219320"/>
              <a:ext cx="5263920" cy="3948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78920" y="2388960"/>
              <a:ext cx="720" cy="14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63120" y="2388960"/>
              <a:ext cx="720" cy="14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95080" y="2388960"/>
              <a:ext cx="720" cy="14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78120" y="4436280"/>
              <a:ext cx="40939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16600" y="1803960"/>
              <a:ext cx="4093920" cy="438480"/>
            </a:xfrm>
            <a:prstGeom prst="rect">
              <a:avLst/>
            </a:prstGeom>
            <a:solidFill>
              <a:srgbClr val="46341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o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                21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o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                   37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o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6600" y="2973960"/>
              <a:ext cx="730800" cy="292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1: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93920" y="3851280"/>
              <a:ext cx="2778120" cy="4384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arszawa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 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skw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6019920" y="2209680"/>
            <a:ext cx="2819160" cy="1981440"/>
          </a:xfrm>
          <a:prstGeom prst="rect">
            <a:avLst/>
          </a:prstGeom>
          <a:solidFill>
            <a:srgbClr val="00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2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6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4min = 64minuty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1h i 4m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tematyka w praktyce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7" name="irc_mi" descr=""/>
          <p:cNvPicPr/>
          <p:nvPr/>
        </p:nvPicPr>
        <p:blipFill>
          <a:blip r:embed="rId1"/>
          <a:stretch/>
        </p:blipFill>
        <p:spPr>
          <a:xfrm>
            <a:off x="2666880" y="1600200"/>
            <a:ext cx="2781360" cy="388620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ZADANIE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1 litr benzyny dorzuca do atmosfery 2,34 kg CO</a:t>
            </a:r>
            <a:r>
              <a:rPr b="0" lang="pl-P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(dwutlenku węgla). Ile CO</a:t>
            </a:r>
            <a:r>
              <a:rPr b="0" lang="pl-P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w ciągu tygodnia dorzuci do atmosfery kierowca, który przez pięć dni w tygodniu dojeżdża do pracy samochodem, pokonując trasę 50 km dziennie przy średnim zużyciu paliwa 14 litrów na 100 k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 rot="19884000">
            <a:off x="6400440" y="4114440"/>
            <a:ext cx="1949400" cy="2286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371600" y="4495680"/>
            <a:ext cx="1905120" cy="181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ozwiązani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 litrów na 100 k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 litrów na 50 k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5 litrów paliwa spali w ciągu 5 d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litr dorzuca 2,34 kg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35 litrów dorzuci do atmosfer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35 x 2,34 kg = 81,9 kg CO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5257800"/>
            <a:ext cx="8382240" cy="51012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sz kierowca dorzuci do atmosfery około 82 kg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705720" y="380880"/>
            <a:ext cx="2133360" cy="203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ZADANIE 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n Kowalski ma dokonać opłaty za mieszkanie w kwocie 256,54 zł, za telefon 97,76 zł oraz energię elektryczną 56,20 zł. Ma do dyspozycji 500 zł. Czy wystarczy mu pieniędzy na te opłaty? Jeśli tak, to ile otrzyma resz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114800" y="4267080"/>
            <a:ext cx="2590920" cy="17290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7848720" y="304920"/>
            <a:ext cx="936360" cy="1114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7307280" y="4343400"/>
            <a:ext cx="1601640" cy="227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ozwiązani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19320" y="1752480"/>
            <a:ext cx="1523880" cy="2057400"/>
          </a:xfrm>
          <a:prstGeom prst="rect">
            <a:avLst/>
          </a:prstGeom>
          <a:solidFill>
            <a:srgbClr val="ffff00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6,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7,7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56,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10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95280" y="28954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1752480"/>
            <a:ext cx="2590560" cy="838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10,50 &lt;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62120" y="4343400"/>
            <a:ext cx="7543800" cy="114300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dpowied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Na te opłaty wystarczy je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eniędzy, otrzyma nawet 89,50 zł. reszt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2819520"/>
            <a:ext cx="3543120" cy="1028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 - 410,50 = 89,5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043760" y="152280"/>
            <a:ext cx="1976400" cy="213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ZADANI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dczas pobytu nad jeziorem Tomek wypożyczy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jak w wypożyczalni A, a Maciek – w wypożyczalni B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tóra z ofert jest korzystniejsza, jeśli chcem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ypożyczyć kajak na 2 godziny, a która – jeśli na 5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zi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81080" y="3886200"/>
            <a:ext cx="2438640" cy="1676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WYPOŻYCZALNIA 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Cena wypożyczenia kajaka: 15 z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i dodatkowo 3 zł za każdą godzinę używani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638680" y="3886200"/>
            <a:ext cx="2438640" cy="167652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WYPOŻYCZALNIA 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Cena wypożyczenia kajaka: 12 z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i dodatkowo 4 zł za każdą godzinę używani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ozwiązani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57200" y="1600200"/>
          <a:ext cx="8229600" cy="3911760"/>
        </p:xfrm>
        <a:graphic>
          <a:graphicData uri="http://schemas.openxmlformats.org/drawingml/2006/table">
            <a:tbl>
              <a:tblPr/>
              <a:tblGrid>
                <a:gridCol w="914400"/>
                <a:gridCol w="3581280"/>
                <a:gridCol w="373392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WYPOŻYCZALN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          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WYPOŻYCZALNIA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          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149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zł+2x3=15zł+6zł=21z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zł+2x4=12zł+8zł=20z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149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5zł+5x3=15zł+15zł=30z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2zł+5x4=12+20=32z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6600"/>
                    </a:solidFill>
                  </a:tcPr>
                </a:tc>
              </a:tr>
            </a:tbl>
          </a:graphicData>
        </a:graphic>
      </p:graphicFrame>
      <p:sp>
        <p:nvSpPr>
          <p:cNvPr id="204" name=""/>
          <p:cNvSpPr/>
          <p:nvPr/>
        </p:nvSpPr>
        <p:spPr>
          <a:xfrm>
            <a:off x="762120" y="5257800"/>
            <a:ext cx="7467480" cy="800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śli chcemy wypożyczyć kajak na 2h korzystniejsza jest oferta wypożyczalni B, jeśli na 5h oferta wypożyczalni 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228600"/>
            <a:ext cx="2590920" cy="1219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WYPOŻYCZALNIA 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Cena wypożyczenia kajaka: 15 zł i dodatkowo 3 zł za każdą godzinę używani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477120" y="228600"/>
            <a:ext cx="2438280" cy="12952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WYPOŻYCZALNIA 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Cena wypożyczenia kajaka: 12 zł i dodatkowo 4 zł za każdą godzinę używani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Zadani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wa kupiła dwie puszki groszku, każda po 3,50 zł za puszkę, oraz 3 paczki kawy. Za wszystko zapłaciła 67,60 zł. Ile kosztowała paczka kaw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867280" y="4572000"/>
            <a:ext cx="1390680" cy="13906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6781680" y="3886200"/>
            <a:ext cx="1390680" cy="13906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7543800" y="3276720"/>
            <a:ext cx="1390680" cy="13906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4343400" y="3276720"/>
            <a:ext cx="1371600" cy="18716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3352680" y="4038480"/>
            <a:ext cx="1371600" cy="187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      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Zadania, które tutaj przedstawiam mają na celu pokazanie  jak ważna jest umiejętność wykorzystania wiedzy z matematyki w różnych sytuacjach praktycznych, wcale niewyszukanych, ale takich zwyczajnych, z którymi możemy spotkać się w życiu codziennym. Wiedza matematyczna nie jest oderwana od rzeczywistości, towarzyszy nam często bez względu czy mamy na to ochotę czy ni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ozwiązani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6668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,50 x 2=7 z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7,60 - 7=60,60 z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0,60 : 3=20,20 z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4648320"/>
            <a:ext cx="800100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czka kawy kosztowała 20,20 z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Zadani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jdroższa naklejka w sklepie kosztuje              o 1,7 zł więcej niż najtańsza, a na zakup obu trzeba wydać 2,4 zł. Ile kosztuje najdroższa naklejka w tym sklepi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ozwiązani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2520" cy="2362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,4-1,7 = 0,7 z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,7:2 = 0,35 z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,35+1,7 = 2,05 z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4648320"/>
            <a:ext cx="800100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jdroższa naklejka w tym sklepie kosztu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,20 z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00200"/>
            <a:ext cx="3962520" cy="2362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,4 - 1,7 = 0,7 z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,7 : 2 = 0,35 z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,35 + 1,7 = 2,05 z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Zadanie dla chętnych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Zbiornik o pojemności  238 hl jest napełniany wodą z dwóch kranów.                  Z pierwszego woda wypływa z prędkością  200 l/h a z drugiego z prędkością 25 l/min   Ile czasu potrzeba na napełnienie tego zbiornika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Plik:Liczby kropla.gif"/>
          <p:cNvPicPr/>
          <p:nvPr/>
        </p:nvPicPr>
        <p:blipFill>
          <a:blip r:embed="rId1"/>
          <a:stretch/>
        </p:blipFill>
        <p:spPr>
          <a:xfrm>
            <a:off x="7162920" y="4267080"/>
            <a:ext cx="171432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       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solidFill>
            <a:srgbClr val="cccc00"/>
          </a:soli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l-PL" sz="3200" spc="-1" strike="noStrike">
                <a:solidFill>
                  <a:srgbClr val="ff3300"/>
                </a:solidFill>
                <a:latin typeface="Arial"/>
              </a:rPr>
              <a:t> „</a:t>
            </a:r>
            <a:r>
              <a:rPr b="0" lang="pl-PL" sz="3200" spc="-1" strike="noStrike">
                <a:solidFill>
                  <a:srgbClr val="ff3300"/>
                </a:solidFill>
                <a:latin typeface="Arial"/>
              </a:rPr>
              <a:t>Matematyka jest delikatnym kwiatem, który rośnie nie na każdej glebie i zakwita nie wiadomo kiedy i jak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3300"/>
                </a:solidFill>
                <a:latin typeface="Arial"/>
              </a:rPr>
              <a:t>                                          </a:t>
            </a:r>
            <a:r>
              <a:rPr b="0" lang="pl-PL" sz="3200" spc="-1" strike="noStrike">
                <a:solidFill>
                  <a:srgbClr val="ff3300"/>
                </a:solidFill>
                <a:latin typeface="Arial"/>
              </a:rPr>
              <a:t>(Jean Fab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5410080" y="2819520"/>
            <a:ext cx="2396880" cy="15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Matematyka jest delikatnym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kwiatem, który rośnie nie na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każdej glebie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i zakwita nie wiadomo kiedy i jak.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(Jean Fabre)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              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666880" y="2743200"/>
            <a:ext cx="294804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KONIEC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 chemii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718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sanie równań reakcji chemicznych jest kluczową umiejętnością w nauce chemii, należy znać symbole pierwiastków, wartościowości, pisać poprawnie wzory związków chemicznych oraz uzgadniać strony reakcji. Uzgadnianie stron reakcji  wiąże się  z dobieraniem  współczynników stechiometrycznych czyli cyfr dzięki, którym jedna strona równania reakcji równa się drugiej stronie równan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Napisz równania reakcji chemicznych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ód + woda → wodorotlenek sodu + wodór w postaci gazowe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76520" y="2523240"/>
            <a:ext cx="5410080" cy="1303560"/>
          </a:xfrm>
          <a:prstGeom prst="rect">
            <a:avLst/>
          </a:prstGeom>
          <a:solidFill>
            <a:srgbClr val="e3e3ff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63416"/>
                </a:solidFill>
                <a:latin typeface="Arial"/>
              </a:rPr>
              <a:t>Na +  H</a:t>
            </a:r>
            <a:r>
              <a:rPr b="1" lang="pl-PL" sz="1800" spc="-1" strike="noStrike" baseline="-25000">
                <a:solidFill>
                  <a:srgbClr val="463416"/>
                </a:solidFill>
                <a:latin typeface="Arial"/>
              </a:rPr>
              <a:t>2</a:t>
            </a:r>
            <a:r>
              <a:rPr b="1" lang="pl-PL" sz="1800" spc="-1" strike="noStrike">
                <a:solidFill>
                  <a:srgbClr val="463416"/>
                </a:solidFill>
                <a:latin typeface="Arial"/>
              </a:rPr>
              <a:t>O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63416"/>
                </a:solidFill>
                <a:latin typeface="Arial"/>
              </a:rPr>
              <a:t> →   NaOH +  0,5 H</a:t>
            </a:r>
            <a:r>
              <a:rPr b="1" lang="pl-PL" sz="1800" spc="-1" strike="noStrike" baseline="-25000">
                <a:solidFill>
                  <a:srgbClr val="463416"/>
                </a:solidFill>
                <a:latin typeface="Arial"/>
              </a:rPr>
              <a:t>2</a:t>
            </a:r>
            <a:r>
              <a:rPr b="1" lang="pl-PL" sz="1800" spc="-1" strike="noStrike">
                <a:solidFill>
                  <a:srgbClr val="463416"/>
                </a:solidFill>
                <a:latin typeface="Arial"/>
              </a:rPr>
              <a:t>  / *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463416"/>
                </a:solidFill>
                <a:latin typeface="Arial"/>
              </a:rPr>
              <a:t>        </a:t>
            </a:r>
            <a:r>
              <a:rPr b="1" lang="pl-PL" sz="1800" spc="-1" strike="noStrike">
                <a:solidFill>
                  <a:srgbClr val="463416"/>
                </a:solidFill>
                <a:latin typeface="Arial"/>
              </a:rPr>
              <a:t>2 Na + 2H</a:t>
            </a:r>
            <a:r>
              <a:rPr b="1" lang="pl-PL" sz="1800" spc="-1" strike="noStrike" baseline="-25000">
                <a:solidFill>
                  <a:srgbClr val="463416"/>
                </a:solidFill>
                <a:latin typeface="Arial"/>
              </a:rPr>
              <a:t>2</a:t>
            </a:r>
            <a:r>
              <a:rPr b="1" lang="pl-PL" sz="1800" spc="-1" strike="noStrike">
                <a:solidFill>
                  <a:srgbClr val="463416"/>
                </a:solidFill>
                <a:latin typeface="Arial"/>
              </a:rPr>
              <a:t>O →  2NaOH +  H</a:t>
            </a:r>
            <a:r>
              <a:rPr b="1" lang="pl-PL" sz="1800" spc="-1" strike="noStrike" baseline="-25000">
                <a:solidFill>
                  <a:srgbClr val="46341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3966120"/>
            <a:ext cx="8229600" cy="581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lenek węgla (II) + tlen → tlenek węgla (IV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4462920"/>
            <a:ext cx="6629400" cy="1266120"/>
          </a:xfrm>
          <a:prstGeom prst="rect">
            <a:avLst/>
          </a:prstGeom>
          <a:solidFill>
            <a:srgbClr val="e3e3ff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416"/>
                </a:solidFill>
                <a:latin typeface="Arial"/>
              </a:rPr>
              <a:t>CO + 0,5 O</a:t>
            </a:r>
            <a:r>
              <a:rPr b="1" lang="en-US" sz="1800" spc="-1" strike="noStrike" baseline="-25000">
                <a:solidFill>
                  <a:srgbClr val="46341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463416"/>
                </a:solidFill>
                <a:latin typeface="Arial"/>
              </a:rPr>
              <a:t> →  CO</a:t>
            </a:r>
            <a:r>
              <a:rPr b="1" lang="en-US" sz="1800" spc="-1" strike="noStrike" baseline="-25000">
                <a:solidFill>
                  <a:srgbClr val="46341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463416"/>
                </a:solidFill>
                <a:latin typeface="Arial"/>
              </a:rPr>
              <a:t>  / *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416"/>
                </a:solidFill>
                <a:latin typeface="Arial"/>
              </a:rPr>
              <a:t>2 CO + O</a:t>
            </a:r>
            <a:r>
              <a:rPr b="1" lang="en-US" sz="1800" spc="-1" strike="noStrike" baseline="-25000">
                <a:solidFill>
                  <a:srgbClr val="46341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463416"/>
                </a:solidFill>
                <a:latin typeface="Arial"/>
              </a:rPr>
              <a:t> →  2CO</a:t>
            </a:r>
            <a:r>
              <a:rPr b="1" lang="en-US" sz="1800" spc="-1" strike="noStrike" baseline="-25000">
                <a:solidFill>
                  <a:srgbClr val="463416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6341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41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 fizyce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ędkość, droga i gęstość to umiejętności fizyczne, które możemy zrozumieć dzięki wiadomościom nabytym               w czasie lekcji matematyki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dy znamy gęstość ciała możemy oszacować jego masę, której bezpośrednio nie możemy zmierzyć. Gęstość to iloraz masy ciała m przez jego objętość V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Wzór na g&amp;eogon;sto&amp;sacute;&amp;cacute;"/>
          <p:cNvPicPr/>
          <p:nvPr/>
        </p:nvPicPr>
        <p:blipFill>
          <a:blip r:embed="rId1"/>
          <a:stretch/>
        </p:blipFill>
        <p:spPr>
          <a:xfrm>
            <a:off x="3505320" y="4305240"/>
            <a:ext cx="1743120" cy="12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Zadani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5105520"/>
            <a:ext cx="8229600" cy="76176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ętość benzyny  wynosi około 24,3 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828800" y="3429000"/>
                <a:ext cx="502920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g</m:t>
                        </m:r>
                      </m:num>
                      <m:den>
                        <m:r>
                          <m:t xml:space="preserve">0,7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,</m:t>
                    </m:r>
                    <m:r>
                      <m:t xml:space="preserve">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609480" y="17524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licz objętość benzyny jeżeli jej masa wynosi 17g, a gęstość 0,7 g/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086600" y="26668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Zadani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jszybszy żółw porusza się z prędkości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,5 cm/s. W jakim czasie pokona on 250 c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429000"/>
            <a:ext cx="5029200" cy="838080"/>
          </a:xfrm>
          <a:prstGeom prst="rect">
            <a:avLst/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0 cm : 12,5 cm = 20 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095880" y="2743200"/>
            <a:ext cx="2614680" cy="1752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80880" y="4952880"/>
            <a:ext cx="8382240" cy="76212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jszybszy żółw pokona tę drogę w czasie 20 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Zadani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Oblicz prędkość rowerzysty, który przebył drogę 600 dm w czasie 5 minut. Wynik podaj w m/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3657600"/>
            <a:ext cx="213336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600 dm = 6 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5 min = 300 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886200" y="3657600"/>
                <a:ext cx="358128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838080" y="4952880"/>
            <a:ext cx="7620120" cy="106704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werzysta jechał z prędkością  0,02 m/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7924680" y="3581280"/>
                <a:ext cx="10670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og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za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924680" y="2286000"/>
            <a:ext cx="1049400" cy="125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 geografii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1828800"/>
            <a:ext cx="8229600" cy="2895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ługiwanie się czasem słonecznym to umiejętność             w nauce geografii. Pełen obrót trwa w przybliżeniu              24 godziny. Oznacza to, że na obrót o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Ziemia potrzebuje 4 minut. Ponieważ Ziemia obraca się                            z zachodu na wschód, na zachód od miejscowości A jest godzina wcześniejsza, na wschód późniejsz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tematyka</cp:lastModifiedBy>
  <dcterms:modified xsi:type="dcterms:W3CDTF">2013-05-10T19:43:16Z</dcterms:modified>
  <cp:revision>1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