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61E-3317-45E9-BA09-B650C63E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4F5-958A-48C8-8D8E-F937878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9C6-CE8B-49A3-9D50-11219162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292-4BF8-444A-BE55-591A7457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1965-CBE2-488A-9ED4-B0A8DD3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DAE-AF83-4BDD-926F-1912D9E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E5D-FA99-46A7-97AB-E2DF487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6520-C6B3-4C1E-8A12-592AD8E1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E53C-366D-4A5C-B51F-BEACFBC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8A3-D33F-4278-B372-C00E81F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76F1-3BF4-4B55-BF30-D24122E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D48-D68C-41E6-9C3A-82E7D8A6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77E-2BAB-4977-A4A1-2C30626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F66-8067-4B65-B381-9BD597F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29EE-EDC9-494A-BCB8-44F26587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E9D-05EF-466D-9156-15EBD015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3F6-9373-4E2C-9DC0-9FD4BCC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81B-B279-4B04-ABE7-50BB2A0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430-99DF-4F40-B2BA-A7EE09F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898-19C6-46E0-BC87-2435DD0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18B-0185-4C46-AF5A-F21A0AB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F62-706F-4F14-8584-F2D8F76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06D-CDE3-44E3-9265-79A1757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3C9-27CC-4434-A214-0041EEA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75E-5D2A-4C8D-BD49-D48D2D2657D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033-9514-4505-911B-C194B63115E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gamatma.pl/uczniowie/powtorka-z-podstawowki/ulamki/ulamki-zwykle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egamatma.pl/uczniowie/powtorka-z-podstawowki/ulamki/ulamki-zwyk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78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73864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stawowe wiadomośc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Rozszerzając lub skracając ułamek nie zmieniamy jego wartości. Dzięki tej własności operacje rozszerzan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 skracania ułamka często wykorzystujemy w działaniach na ułamkac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ażdy ułamek można rozszerzyć, ale nie każdy da się skróci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50920" y="76500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MIĘT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takie ułamki, których nie da się skrócić (uprościć), takie ułamki nazywamy nieskracalnymi. Ułamki są nieskracalne, wtedy gdy licznik     i mianownik nie mają takich samych dzielników większych od liczby 1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łowo ułamek pochodzi od wywodząceg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ię z łaciny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fractio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, przekładu z arabskiego                   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kasr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 - złamany, a zate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f1311"/>
                </a:solidFill>
                <a:latin typeface="Arial"/>
              </a:rPr>
              <a:t>ułamki to liczby złama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Ogólne pojęcie stosunku dwóch liczb zostało wprowadzone przez pitagorejczyków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 VI w. p.n.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oprzedzający ich Babilończycy i Egipcjanie używali jedynie ułamków  z licznikiem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spółczesny sposób zapisu ułamków pochodzi od matematyków hinduskich, zapisywali oni licznik i mianownik, nie używając jednak kreski rozdzielającej. Dodanie kreski rozdzielającej zawdzięczamy Arabom tłumaczącym dzieła Hindusów. W Europie jako pierwszy w swoich pracach znane do dziś oznaczenie ułamków publikuje włoski matematyk Fibonacc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00240" y="237600"/>
            <a:ext cx="42544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ek zwykły to  każde wyrażenie postac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dzie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jest w liczniku (nad kreską ułamkową),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st w mianowniku (pod kreską ułamkową), liczby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uszą być całkowite oraz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óżne od zer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59280" y="2565360"/>
                <a:ext cx="64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Mianownik wskazuje, na ile jednakowych części podzielono figurę,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 licznik - ile tych części zabrano (zamalowano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Pamiętaj! Aby odczytać jaka część figury została zamalowana, należy podzielić figurę na RÓWNE CZĘŚCI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1080" cy="17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5400720" cy="18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, w których licznik jest mniejszy od mianownika, to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ki właściw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Przypominam, ż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one mniejsze od 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436572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u&amp;lstrok;amek, jeden, &amp;cacute;wier&amp;cacute;"/>
          <p:cNvPicPr/>
          <p:nvPr/>
        </p:nvPicPr>
        <p:blipFill>
          <a:blip r:embed="rId2"/>
          <a:stretch/>
        </p:blipFill>
        <p:spPr>
          <a:xfrm>
            <a:off x="684360" y="5229360"/>
            <a:ext cx="142848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rzy, &amp;cacute;wier&amp;cacute;, ko&amp;zacute;l&amp;eogon;"/>
          <p:cNvPicPr/>
          <p:nvPr/>
        </p:nvPicPr>
        <p:blipFill>
          <a:blip r:embed="rId3"/>
          <a:stretch/>
        </p:blipFill>
        <p:spPr>
          <a:xfrm>
            <a:off x="5796000" y="3645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amp;cacute;wier&amp;cacute;, ko&amp;zacute;l&amp;eogon;"/>
          <p:cNvPicPr/>
          <p:nvPr/>
        </p:nvPicPr>
        <p:blipFill>
          <a:blip r:embed="rId4"/>
          <a:stretch/>
        </p:blipFill>
        <p:spPr>
          <a:xfrm>
            <a:off x="826920" y="386064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48000" y="3357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&amp;lstrok;amek, trzy, &amp;cacute;wierci"/>
          <p:cNvPicPr/>
          <p:nvPr/>
        </p:nvPicPr>
        <p:blipFill>
          <a:blip r:embed="rId6"/>
          <a:stretch/>
        </p:blipFill>
        <p:spPr>
          <a:xfrm>
            <a:off x="5651640" y="5084640"/>
            <a:ext cx="142848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ek niewłaściw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to taki ułamek, w którym licznik jest większy od mianownika lub równy mianownikowi. Ułamki niewłaściwe są większe lub równe 1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1                 =11              =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92720" y="4653000"/>
                <a:ext cx="51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4653000"/>
                <a:ext cx="54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1280" y="4581360"/>
                <a:ext cx="565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60" y="3898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60" y="105480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00720" y="4653000"/>
                <a:ext cx="52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 niewłaściwe przedstawione           w postaci całości i ułamka właściwego nazywamy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czbami mieszany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200720" cy="12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zszerzanie i skracanie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rozszerzyć mnożąc licznik i mianownik ułamka przez tę samą liczbę całkowitą różną od zera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=               =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skrócić dzieląc licznik              i mianownik ułamka przez ich wspólny dzielnik dodatni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=                 =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24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27640" y="5084640"/>
                <a:ext cx="79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84640"/>
                <a:ext cx="393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03640" y="2852640"/>
                <a:ext cx="42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48000" y="5084640"/>
                <a:ext cx="419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2852640"/>
                <a:ext cx="68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9:49:19Z</dcterms:created>
  <dc:creator>Matematyka</dc:creator>
  <dc:description/>
  <dc:language>en-US</dc:language>
  <cp:lastModifiedBy>x</cp:lastModifiedBy>
  <dcterms:modified xsi:type="dcterms:W3CDTF">2013-04-16T15:29:43Z</dcterms:modified>
  <cp:revision>37</cp:revision>
  <dc:subject/>
  <dc:title>Mianownik wskazuje, na ile jednakowych części podzielono figurę,  a licznik - ile tych części zabrano (zamalowano)           Pamiętaj! Aby odczytać jaka część figury została zamalowana, należy podzielić figurę na RÓWNE CZĘŚCI.</dc:title>
</cp:coreProperties>
</file>