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chimes.wav" ContentType="audio/x-wav"/>
  <Override PartName="/ppt/media/image16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7E0-ABAE-423F-B188-7A639B9E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1CC-3866-45D8-9E7E-8D1A6AB1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3AC-34EC-4D63-945D-620F6C18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232-6675-4769-A645-7C0FF038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6132-99B7-4546-92EA-19ACC506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DA9D-065B-4916-BDCB-594AE534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99DD-FBC7-4D4E-ABE7-126044EA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93FA-F207-4659-8E14-C56C3613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2719-E262-4ED3-A9D4-4096D04A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BC4C-8C4D-4F32-B852-FB9155CA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44A6-54A1-4FA1-B7AA-7CFA5334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582-35E0-4F4D-93F9-8EBC569C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4C6-249E-48CF-B6D3-E022994F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C91E-9000-4953-8474-A9322ACD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292B-5024-4E52-B8EA-BBB45555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9C76-79C7-4597-A9BC-3DCAF0F9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B756-0BD0-4F22-A2D5-17802215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BA7-60D2-441C-9E3B-5942893B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9AA-75DD-4D9F-AC50-83BE6F7B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191-B8CA-485E-BDA7-0BBC505A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6F4-94A4-4E8D-A996-0E84D525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593-B74F-41E8-9A83-7DAB902A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C98-B8A8-42C0-89C3-AF889380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62A-D431-4EA4-BF6B-9C2F28D3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3393-993D-47BE-BE65-F96911F3C8A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C294-D166-4166-9A2A-616E18EB9DF2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RĄ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ąty wielokąta foremne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ąt wielokąta można obliczyć ze wzoru (180° - a), gdzie a - kąt środkowy oparty na łuku wyznaczonym przez bok danego wielokąta foremnego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10440" y="3933720"/>
            <a:ext cx="28335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wzor068" descr=""/>
          <p:cNvPicPr/>
          <p:nvPr/>
        </p:nvPicPr>
        <p:blipFill>
          <a:blip r:embed="rId2"/>
          <a:stretch/>
        </p:blipFill>
        <p:spPr>
          <a:xfrm>
            <a:off x="2843280" y="3357720"/>
            <a:ext cx="771480" cy="409320"/>
          </a:xfrm>
          <a:prstGeom prst="rect">
            <a:avLst/>
          </a:prstGeom>
          <a:ln w="0">
            <a:noFill/>
          </a:ln>
        </p:spPr>
      </p:pic>
      <p:pic>
        <p:nvPicPr>
          <p:cNvPr id="250" name="wzor069" descr=""/>
          <p:cNvPicPr/>
          <p:nvPr/>
        </p:nvPicPr>
        <p:blipFill>
          <a:blip r:embed="rId3"/>
          <a:stretch/>
        </p:blipFill>
        <p:spPr>
          <a:xfrm>
            <a:off x="2843280" y="3860640"/>
            <a:ext cx="704880" cy="419400"/>
          </a:xfrm>
          <a:prstGeom prst="rect">
            <a:avLst/>
          </a:prstGeom>
          <a:ln w="0">
            <a:noFill/>
          </a:ln>
        </p:spPr>
      </p:pic>
      <p:pic>
        <p:nvPicPr>
          <p:cNvPr id="251" name="wzor070" descr=""/>
          <p:cNvPicPr/>
          <p:nvPr/>
        </p:nvPicPr>
        <p:blipFill>
          <a:blip r:embed="rId4"/>
          <a:stretch/>
        </p:blipFill>
        <p:spPr>
          <a:xfrm>
            <a:off x="2843280" y="4365720"/>
            <a:ext cx="723960" cy="419040"/>
          </a:xfrm>
          <a:prstGeom prst="rect">
            <a:avLst/>
          </a:prstGeom>
          <a:ln w="0">
            <a:noFill/>
          </a:ln>
        </p:spPr>
      </p:pic>
      <p:pic>
        <p:nvPicPr>
          <p:cNvPr id="252" name="wzor071" descr=""/>
          <p:cNvPicPr/>
          <p:nvPr/>
        </p:nvPicPr>
        <p:blipFill>
          <a:blip r:embed="rId5"/>
          <a:stretch/>
        </p:blipFill>
        <p:spPr>
          <a:xfrm>
            <a:off x="2843280" y="4941720"/>
            <a:ext cx="723960" cy="419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755640" y="2852640"/>
          <a:ext cx="7273800" cy="2525760"/>
        </p:xfrm>
        <a:graphic>
          <a:graphicData uri="http://schemas.openxmlformats.org/drawingml/2006/table">
            <a:tbl>
              <a:tblPr/>
              <a:tblGrid>
                <a:gridCol w="1673280"/>
                <a:gridCol w="1890720"/>
                <a:gridCol w="1892160"/>
                <a:gridCol w="18176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Liczba boków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Kąt środkowy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Kąt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Suma kątów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120° = 6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3*60° = 18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90° = 9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4*90° = 36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72° = 108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5*108° = 54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60° = 12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6*120° = 72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ąty wielokąta foremneg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61048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Temat: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Okrąg wpisany i opisany </a:t>
            </a:r>
            <a:br>
              <a:rPr sz="4000"/>
            </a:b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        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na wielokącie foremnym.</a:t>
            </a:r>
            <a:r>
              <a:rPr b="1" lang="en-US" sz="4000" spc="-1" strike="noStrike">
                <a:solidFill>
                  <a:srgbClr val="de9fe1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843280" y="2421000"/>
            <a:ext cx="3581280" cy="2895120"/>
            <a:chOff x="2843280" y="2421000"/>
            <a:chExt cx="3581280" cy="2895120"/>
          </a:xfrm>
        </p:grpSpPr>
        <p:sp>
          <p:nvSpPr>
            <p:cNvPr id="261" name=""/>
            <p:cNvSpPr/>
            <p:nvPr/>
          </p:nvSpPr>
          <p:spPr>
            <a:xfrm>
              <a:off x="2843280" y="3335040"/>
              <a:ext cx="2057400" cy="1981080"/>
            </a:xfrm>
            <a:prstGeom prst="ellipse">
              <a:avLst/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3280" y="3487680"/>
              <a:ext cx="2057400" cy="1675800"/>
            </a:xfrm>
            <a:prstGeom prst="hexagon">
              <a:avLst>
                <a:gd name="adj" fmla="val 30693"/>
                <a:gd name="vf" fmla="val 115470"/>
              </a:avLst>
            </a:prstGeom>
            <a:solidFill>
              <a:srgbClr val="ffccff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95560" y="3487680"/>
              <a:ext cx="1752480" cy="1675800"/>
            </a:xfrm>
            <a:prstGeom prst="ellipse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90840" y="2725560"/>
              <a:ext cx="2133720" cy="2285640"/>
            </a:xfrm>
            <a:prstGeom prst="ellipse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95760" y="3106440"/>
              <a:ext cx="1523880" cy="1523880"/>
            </a:xfrm>
            <a:prstGeom prst="rect">
              <a:avLst/>
            </a:prstGeom>
            <a:solidFill>
              <a:srgbClr val="c7c7df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95760" y="3106440"/>
              <a:ext cx="1523880" cy="1523880"/>
            </a:xfrm>
            <a:prstGeom prst="ellipse">
              <a:avLst/>
            </a:prstGeom>
            <a:solidFill>
              <a:srgbClr val="c7c7df"/>
            </a:solidFill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52760" y="2421000"/>
              <a:ext cx="1752480" cy="1676160"/>
            </a:xfrm>
            <a:prstGeom prst="ellipse">
              <a:avLst/>
            </a:prstGeom>
            <a:noFill/>
            <a:ln w="38160">
              <a:solidFill>
                <a:srgbClr val="857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05040" y="2421000"/>
              <a:ext cx="1447920" cy="129528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09960" y="2877840"/>
              <a:ext cx="838080" cy="838080"/>
            </a:xfrm>
            <a:prstGeom prst="ellipse">
              <a:avLst/>
            </a:prstGeom>
            <a:noFill/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5335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d93d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6237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888ae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545472"/>
                </a:solidFill>
                <a:latin typeface="Comic Sans MS"/>
              </a:rPr>
              <a:t>Okrąg opisany na wielokąc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44956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Okrąg jest opisany na wielokącie , jeżeli wszystkie wierzchołki tego wielokąta leżą          na okręgu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276720" y="1828800"/>
            <a:ext cx="2590560" cy="2438280"/>
            <a:chOff x="3276720" y="1828800"/>
            <a:chExt cx="2590560" cy="2438280"/>
          </a:xfrm>
        </p:grpSpPr>
        <p:sp>
          <p:nvSpPr>
            <p:cNvPr id="275" name=""/>
            <p:cNvSpPr/>
            <p:nvPr/>
          </p:nvSpPr>
          <p:spPr>
            <a:xfrm>
              <a:off x="3276720" y="1828800"/>
              <a:ext cx="2590560" cy="2438280"/>
            </a:xfrm>
            <a:prstGeom prst="ellipse">
              <a:avLst/>
            </a:prstGeom>
            <a:noFill/>
            <a:ln w="3816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76720" y="2016000"/>
              <a:ext cx="2590560" cy="2063880"/>
            </a:xfrm>
            <a:prstGeom prst="hexagon">
              <a:avLst>
                <a:gd name="adj" fmla="val 31380"/>
                <a:gd name="vf" fmla="val 115470"/>
              </a:avLst>
            </a:prstGeom>
            <a:solidFill>
              <a:srgbClr val="ff99cc"/>
            </a:solidFill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7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cezaskielce.pl/img/produkty/4a4748c57cb48.jpeg"/>
          <p:cNvPicPr/>
          <p:nvPr/>
        </p:nvPicPr>
        <p:blipFill>
          <a:blip r:embed="rId2"/>
          <a:stretch/>
        </p:blipFill>
        <p:spPr>
          <a:xfrm>
            <a:off x="1042920" y="836640"/>
            <a:ext cx="7416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7c7df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ff66cc"/>
                </a:solidFill>
                <a:latin typeface="Comic Sans MS"/>
              </a:rPr>
              <a:t>Okrąg wpisany w wieloką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203640" y="1989000"/>
            <a:ext cx="2736720" cy="2231640"/>
            <a:chOff x="3203640" y="1989000"/>
            <a:chExt cx="2736720" cy="2231640"/>
          </a:xfrm>
        </p:grpSpPr>
        <p:sp>
          <p:nvSpPr>
            <p:cNvPr id="283" name=""/>
            <p:cNvSpPr/>
            <p:nvPr/>
          </p:nvSpPr>
          <p:spPr>
            <a:xfrm>
              <a:off x="3203640" y="1989000"/>
              <a:ext cx="2736720" cy="2231640"/>
            </a:xfrm>
            <a:prstGeom prst="hexagon">
              <a:avLst>
                <a:gd name="adj" fmla="val 30658"/>
                <a:gd name="vf" fmla="val 115470"/>
              </a:avLst>
            </a:prstGeom>
            <a:solidFill>
              <a:srgbClr val="c3a9d7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36200" y="1989000"/>
              <a:ext cx="2270880" cy="2231640"/>
            </a:xfrm>
            <a:prstGeom prst="ellipse">
              <a:avLst/>
            </a:prstGeom>
            <a:solidFill>
              <a:srgbClr val="c3a9d7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447920" y="5257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4437000"/>
            <a:ext cx="6561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Okrąg jest wpisany w wielokąt , jeżeli jest styczny do wszystkich boków tego wielokąta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c3a9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c3a9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380880" y="228600"/>
          <a:ext cx="110520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105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H="1">
            <a:off x="3203640" y="1989000"/>
            <a:ext cx="720720" cy="115272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219640" y="3068640"/>
            <a:ext cx="720720" cy="115236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1989000"/>
            <a:ext cx="720720" cy="115272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3640" y="3068640"/>
            <a:ext cx="720720" cy="115236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1989000"/>
            <a:ext cx="1368360" cy="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24360" y="4221000"/>
            <a:ext cx="1368360" cy="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5651640" y="4581360"/>
            <a:ext cx="2209680" cy="735120"/>
            <a:chOff x="5651640" y="4581360"/>
            <a:chExt cx="2209680" cy="73512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6489720" y="4581360"/>
                  <a:ext cx="9140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5651640" y="4733640"/>
              <a:ext cx="2209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651640" y="3500280"/>
            <a:ext cx="2286000" cy="685800"/>
            <a:chOff x="5651640" y="3500280"/>
            <a:chExt cx="2286000" cy="685800"/>
          </a:xfrm>
        </p:grpSpPr>
        <p:sp>
          <p:nvSpPr>
            <p:cNvPr id="302" name=""/>
            <p:cNvSpPr/>
            <p:nvPr/>
          </p:nvSpPr>
          <p:spPr>
            <a:xfrm>
              <a:off x="5651640" y="35766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6291360" y="3500280"/>
                  <a:ext cx="2667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"/>
            <p:cNvSpPr/>
            <p:nvPr/>
          </p:nvSpPr>
          <p:spPr>
            <a:xfrm>
              <a:off x="6490080" y="35766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b0b0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362320" y="3124080"/>
            <a:ext cx="2133360" cy="2044800"/>
          </a:xfrm>
          <a:prstGeom prst="rect">
            <a:avLst/>
          </a:pr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3124080"/>
            <a:ext cx="2133360" cy="20512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2666880"/>
            <a:ext cx="3047760" cy="2971800"/>
          </a:xfrm>
          <a:prstGeom prst="ellipse">
            <a:avLst/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4191120"/>
            <a:ext cx="0" cy="99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191120"/>
            <a:ext cx="1066680" cy="99036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115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676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115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15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6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295280" y="6094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Długość promienia okręgu opisanego i wpisanego                      w kwadra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1480" y="3733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1eb4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724360" y="4581360"/>
                <a:ext cx="703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219640" y="4723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R=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-1260360" y="3860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64000" y="2708280"/>
            <a:ext cx="1371240" cy="1142640"/>
            <a:chOff x="5364000" y="2708280"/>
            <a:chExt cx="1371240" cy="1142640"/>
          </a:xfrm>
        </p:grpSpPr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5986440" y="2708280"/>
                  <a:ext cx="748800" cy="114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"/>
            <p:cNvSpPr/>
            <p:nvPr/>
          </p:nvSpPr>
          <p:spPr>
            <a:xfrm>
              <a:off x="5364000" y="3025800"/>
              <a:ext cx="8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93d7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64000" y="4653000"/>
            <a:ext cx="1455840" cy="961920"/>
            <a:chOff x="5364000" y="4653000"/>
            <a:chExt cx="1455840" cy="961920"/>
          </a:xfrm>
        </p:grpSpPr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049800" y="4653000"/>
                  <a:ext cx="77004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"/>
            <p:cNvSpPr/>
            <p:nvPr/>
          </p:nvSpPr>
          <p:spPr>
            <a:xfrm>
              <a:off x="5364000" y="4957560"/>
              <a:ext cx="7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595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 </a:t>
              </a:r>
              <a:r>
                <a:rPr b="1" lang="pl-PL" sz="2400" spc="-1" strike="noStrike">
                  <a:solidFill>
                    <a:srgbClr val="545472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30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1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84360" y="54936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Długość promienia okręgu opisanego i wpisanego w trójkąt równoboczny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9240" cy="1981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1763640" y="2565360"/>
            <a:ext cx="3057480" cy="3029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877080" y="4581360"/>
                <a:ext cx="1030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6804000" y="2708280"/>
                <a:ext cx="1039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rostokąt 3" descr=""/>
          <p:cNvPicPr/>
          <p:nvPr/>
        </p:nvPicPr>
        <p:blipFill>
          <a:blip r:embed="rId2"/>
          <a:stretch/>
        </p:blipFill>
        <p:spPr>
          <a:xfrm>
            <a:off x="66600" y="146160"/>
            <a:ext cx="9083880" cy="1444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www.matematykam.pl/images/l17e09.jpg"/>
          <p:cNvPicPr/>
          <p:nvPr/>
        </p:nvPicPr>
        <p:blipFill>
          <a:blip r:embed="rId3"/>
          <a:stretch/>
        </p:blipFill>
        <p:spPr>
          <a:xfrm>
            <a:off x="1042920" y="1628640"/>
            <a:ext cx="7344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rostokąt 4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9498240" cy="193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ttp://www.matematykam.pl/images/l17e10.jpg"/>
          <p:cNvPicPr/>
          <p:nvPr/>
        </p:nvPicPr>
        <p:blipFill>
          <a:blip r:embed="rId3"/>
          <a:stretch/>
        </p:blipFill>
        <p:spPr>
          <a:xfrm>
            <a:off x="1187280" y="1844640"/>
            <a:ext cx="65516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upload.wikimedia.org/wikipedia/commons/thumb/f/f1/Okr%C4%85g_01.svg/350px-Okr%C4%85g_01.svg.png"/>
          <p:cNvPicPr/>
          <p:nvPr/>
        </p:nvPicPr>
        <p:blipFill>
          <a:blip r:embed="rId2"/>
          <a:stretch/>
        </p:blipFill>
        <p:spPr>
          <a:xfrm>
            <a:off x="108000" y="433440"/>
            <a:ext cx="4122720" cy="327492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3"/>
          <p:cNvSpPr/>
          <p:nvPr/>
        </p:nvSpPr>
        <p:spPr>
          <a:xfrm flipV="1" rot="10800000">
            <a:off x="4932000" y="765000"/>
            <a:ext cx="331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Punkt </a:t>
            </a:r>
            <a:r>
              <a:rPr b="1" i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O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nazywamy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środkiem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okręgu, zaś każdy z odcinków o początku </a:t>
            </a:r>
            <a:r>
              <a:rPr b="1" i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O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i końcu w jednym z punktów okręgu nazywamy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promieniem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, również długość</a:t>
            </a:r>
            <a:r>
              <a:rPr b="1" lang="en-US" sz="2000" spc="-1" strike="noStrike">
                <a:solidFill>
                  <a:srgbClr val="c7c7df"/>
                </a:solidFill>
                <a:latin typeface="Century Gothic"/>
                <a:ea typeface="Arial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r</a:t>
            </a:r>
            <a:r>
              <a:rPr b="1" lang="en-US" sz="2000" spc="-1" strike="noStrike">
                <a:solidFill>
                  <a:srgbClr val="c7c7df"/>
                </a:solidFill>
                <a:latin typeface="Century Gothic"/>
                <a:ea typeface="Arial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nazywana jest tym terminem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ole tekstowe 4"/>
          <p:cNvSpPr/>
          <p:nvPr/>
        </p:nvSpPr>
        <p:spPr>
          <a:xfrm flipV="1" rot="10800000">
            <a:off x="323640" y="414972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Cięciwą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nazywamy odcinek   łączący dwa dowolne punkty okręgu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pole tekstowe 5"/>
          <p:cNvSpPr/>
          <p:nvPr/>
        </p:nvSpPr>
        <p:spPr>
          <a:xfrm flipV="1" rot="10800000">
            <a:off x="4860720" y="398592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Średnica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okręgu to cięciwa przechodząca przez środek okręgu. Średnica zawsze ma długość dwóch promieni</a:t>
            </a:r>
            <a:r>
              <a:rPr b="0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294880" y="2924280"/>
            <a:ext cx="1848960" cy="1117440"/>
            <a:chOff x="5294880" y="2924280"/>
            <a:chExt cx="1848960" cy="111744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00840" y="2924280"/>
                  <a:ext cx="1143000" cy="11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294880" y="3318120"/>
              <a:ext cx="78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1" lang="pl-PL" sz="2400" spc="-1" strike="noStrike">
                  <a:solidFill>
                    <a:srgbClr val="ff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cc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800" spc="-1" strike="noStrike">
                  <a:solidFill>
                    <a:srgbClr val="121218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562720" y="4267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2f3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121218"/>
                </a:solidFill>
                <a:latin typeface="Times New Roman"/>
              </a:rPr>
              <a:t>= 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2666880"/>
            <a:ext cx="2743200" cy="2819520"/>
          </a:xfrm>
          <a:prstGeom prst="ellipse">
            <a:avLst/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2895480"/>
            <a:ext cx="2743200" cy="2362320"/>
          </a:xfrm>
          <a:prstGeom prst="hexagon">
            <a:avLst>
              <a:gd name="adj" fmla="val 29031"/>
              <a:gd name="vf" fmla="val 115470"/>
            </a:avLst>
          </a:prstGeom>
          <a:noFill/>
          <a:ln w="38160">
            <a:solidFill>
              <a:srgbClr val="0b0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2895480"/>
            <a:ext cx="2286000" cy="2362320"/>
          </a:xfrm>
          <a:prstGeom prst="ellipse">
            <a:avLst/>
          </a:prstGeom>
          <a:noFill/>
          <a:ln w="38160">
            <a:solidFill>
              <a:srgbClr val="f72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4114800"/>
            <a:ext cx="0" cy="1143000"/>
          </a:xfrm>
          <a:prstGeom prst="line">
            <a:avLst/>
          </a:prstGeom>
          <a:ln w="38160">
            <a:solidFill>
              <a:srgbClr val="f72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4114800"/>
            <a:ext cx="685800" cy="114300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2fda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4419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510552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68160" y="449568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666880" y="4114440"/>
            <a:ext cx="685800" cy="114300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2000" y="441972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421c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5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43d6"/>
                </a:solidFill>
                <a:latin typeface="Times New Roman"/>
              </a:rPr>
              <a:t>Długość promienia okręgu opisanego        i wpisanego w sześciokąt foremny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5160" y="3657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1eb4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04920" y="10666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Na każdym wielokącie foremnym można opisać okrąg i w każdy wielokąt foremny można wpisać okrąg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34290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Środek okręgu opisanego na wielokącie foremnym jest jednocześnie środkiem okręgu wpisanego w ten wieloką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67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8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1066680"/>
            <a:ext cx="8839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Comic Sans MS"/>
              </a:rPr>
              <a:t>Zad.1.Jaką długość ma promień okręgu :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a)   opisanego na kwadracie o boku 6 cm,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b)   wpisanego w kwadrat o boku 6 cm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124080" y="3124080"/>
            <a:ext cx="3048120" cy="2971800"/>
            <a:chOff x="3124080" y="3124080"/>
            <a:chExt cx="3048120" cy="2971800"/>
          </a:xfrm>
        </p:grpSpPr>
        <p:sp>
          <p:nvSpPr>
            <p:cNvPr id="371" name=""/>
            <p:cNvSpPr/>
            <p:nvPr/>
          </p:nvSpPr>
          <p:spPr>
            <a:xfrm>
              <a:off x="3581280" y="3581280"/>
              <a:ext cx="2133720" cy="2044800"/>
            </a:xfrm>
            <a:prstGeom prst="rect">
              <a:avLst/>
            </a:prstGeom>
            <a:noFill/>
            <a:ln w="38160">
              <a:solidFill>
                <a:srgbClr val="0501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3581280"/>
              <a:ext cx="2133720" cy="2051280"/>
            </a:xfrm>
            <a:prstGeom prst="ellipse">
              <a:avLst/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24080" y="3124080"/>
              <a:ext cx="3048120" cy="2971800"/>
            </a:xfrm>
            <a:prstGeom prst="ellipse">
              <a:avLst/>
            </a:prstGeom>
            <a:noFill/>
            <a:ln w="38160">
              <a:solidFill>
                <a:srgbClr val="438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48320" y="4648320"/>
              <a:ext cx="0" cy="990360"/>
            </a:xfrm>
            <a:prstGeom prst="line">
              <a:avLst/>
            </a:prstGeom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48320" y="4648320"/>
              <a:ext cx="1066680" cy="990360"/>
            </a:xfrm>
            <a:prstGeom prst="line">
              <a:avLst/>
            </a:prstGeom>
            <a:ln w="38160">
              <a:solidFill>
                <a:srgbClr val="438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43400" y="49528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93d7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382f3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956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115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608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115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19720" y="4191120"/>
              <a:ext cx="42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e1eb4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82404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8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78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45472"/>
                </a:solidFill>
                <a:uFillTx/>
                <a:latin typeface="Comic Sans MS"/>
              </a:rPr>
              <a:t>Zad.2.</a:t>
            </a:r>
            <a:r>
              <a:rPr b="1" lang="en-US" sz="2400" spc="-1" strike="noStrike">
                <a:solidFill>
                  <a:srgbClr val="545472"/>
                </a:solidFill>
                <a:latin typeface="Comic Sans MS"/>
              </a:rPr>
              <a:t>Jaką długość ma promień okręgu 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a) opisanego na trójkącie równobocznym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o boku 2     c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b) wpisanego w trójkąt równoboczny o boku 2     cm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916360" y="3284640"/>
            <a:ext cx="2971800" cy="2971800"/>
            <a:chOff x="2916360" y="3284640"/>
            <a:chExt cx="2971800" cy="2971800"/>
          </a:xfrm>
        </p:grpSpPr>
        <p:grpSp>
          <p:nvGrpSpPr>
            <p:cNvPr id="388" name=""/>
            <p:cNvGrpSpPr/>
            <p:nvPr/>
          </p:nvGrpSpPr>
          <p:grpSpPr>
            <a:xfrm>
              <a:off x="2916360" y="3284640"/>
              <a:ext cx="2971800" cy="2971800"/>
              <a:chOff x="2916360" y="3284640"/>
              <a:chExt cx="2971800" cy="297180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6360" y="3284640"/>
                <a:ext cx="2971800" cy="297180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44960" y="3284640"/>
                <a:ext cx="2514600" cy="2286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3678120" y="4046760"/>
              <a:ext cx="2057400" cy="2044440"/>
              <a:chOff x="3678120" y="4046760"/>
              <a:chExt cx="2057400" cy="2044440"/>
            </a:xfrm>
          </p:grpSpPr>
          <p:sp>
            <p:nvSpPr>
              <p:cNvPr id="392" name=""/>
              <p:cNvSpPr/>
              <p:nvPr/>
            </p:nvSpPr>
            <p:spPr>
              <a:xfrm>
                <a:off x="3678120" y="4046760"/>
                <a:ext cx="1447920" cy="1523880"/>
              </a:xfrm>
              <a:prstGeom prst="ellipse">
                <a:avLst/>
              </a:prstGeom>
              <a:noFill/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63920" y="4808880"/>
                <a:ext cx="0" cy="76176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63920" y="4808880"/>
                <a:ext cx="1295640" cy="76176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59360" y="49611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d93d7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45160" y="47325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87960" y="5570640"/>
                <a:ext cx="457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8" name=""/>
                  <p:cNvSpPr txBox="1"/>
                  <p:nvPr/>
                </p:nvSpPr>
                <p:spPr>
                  <a:xfrm>
                    <a:off x="4363920" y="5570640"/>
                    <a:ext cx="457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9" name=""/>
                  <p:cNvSpPr txBox="1"/>
                  <p:nvPr/>
                </p:nvSpPr>
                <p:spPr>
                  <a:xfrm>
                    <a:off x="5278320" y="4199040"/>
                    <a:ext cx="457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0" name=""/>
              <p:cNvSpPr/>
              <p:nvPr/>
            </p:nvSpPr>
            <p:spPr>
              <a:xfrm>
                <a:off x="4211640" y="5570640"/>
                <a:ext cx="48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49720" y="419904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35320" y="43516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545472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05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6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7380360" y="256536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788000" y="206064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523880" y="762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76520" y="7621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76520" y="9144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10666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38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Comic Sans MS"/>
              </a:rPr>
              <a:t>Zad.3.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 Jaką długość ma promień okręgu 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a)   opisanego na sześciokącie foremnym o boku 8 cm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b)   wpisanego w sześciokąt foremny o boku 8 cm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971800" y="2819520"/>
            <a:ext cx="2743200" cy="2928240"/>
            <a:chOff x="2971800" y="2819520"/>
            <a:chExt cx="2743200" cy="2928240"/>
          </a:xfrm>
        </p:grpSpPr>
        <p:grpSp>
          <p:nvGrpSpPr>
            <p:cNvPr id="417" name=""/>
            <p:cNvGrpSpPr/>
            <p:nvPr/>
          </p:nvGrpSpPr>
          <p:grpSpPr>
            <a:xfrm>
              <a:off x="2971800" y="2819520"/>
              <a:ext cx="2743200" cy="2928240"/>
              <a:chOff x="2971800" y="2819520"/>
              <a:chExt cx="2743200" cy="2928240"/>
            </a:xfrm>
          </p:grpSpPr>
          <p:sp>
            <p:nvSpPr>
              <p:cNvPr id="418" name=""/>
              <p:cNvSpPr/>
              <p:nvPr/>
            </p:nvSpPr>
            <p:spPr>
              <a:xfrm>
                <a:off x="2971800" y="2819520"/>
                <a:ext cx="2743200" cy="2819160"/>
              </a:xfrm>
              <a:prstGeom prst="ellipse">
                <a:avLst/>
              </a:prstGeom>
              <a:noFill/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91120" y="525780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d0d11"/>
                    </a:solidFill>
                    <a:latin typeface="Times New Roman"/>
                  </a:rPr>
                  <a:t>8</a:t>
                </a:r>
                <a:endParaRPr b="0" lang="en-US" sz="2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2971800" y="3047760"/>
                <a:ext cx="2743200" cy="2361960"/>
                <a:chOff x="2971800" y="3047760"/>
                <a:chExt cx="2743200" cy="23619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2971800" y="3047760"/>
                  <a:ext cx="2743200" cy="2361960"/>
                </a:xfrm>
                <a:prstGeom prst="hexagon">
                  <a:avLst>
                    <a:gd name="adj" fmla="val 29035"/>
                    <a:gd name="vf" fmla="val 115470"/>
                  </a:avLst>
                </a:prstGeom>
                <a:noFill/>
                <a:ln w="38160">
                  <a:solidFill>
                    <a:srgbClr val="0b0b0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200400" y="3047760"/>
                  <a:ext cx="2286000" cy="2361960"/>
                </a:xfrm>
                <a:prstGeom prst="ellipse">
                  <a:avLst/>
                </a:prstGeom>
                <a:noFill/>
                <a:ln w="38160">
                  <a:solidFill>
                    <a:srgbClr val="f72f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43400" y="4266720"/>
                  <a:ext cx="0" cy="1142640"/>
                </a:xfrm>
                <a:prstGeom prst="line">
                  <a:avLst/>
                </a:prstGeom>
                <a:ln w="38160">
                  <a:solidFill>
                    <a:srgbClr val="f72f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343400" y="4266720"/>
                  <a:ext cx="685800" cy="1142640"/>
                </a:xfrm>
                <a:prstGeom prst="line">
                  <a:avLst/>
                </a:prstGeom>
                <a:ln w="38160">
                  <a:solidFill>
                    <a:srgbClr val="4421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267440" y="47239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72fda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648320" y="4571640"/>
                  <a:ext cx="457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258880" y="464760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d0d11"/>
                      </a:solidFill>
                      <a:latin typeface="Times New Roman"/>
                    </a:rPr>
                    <a:t>8</a:t>
                  </a:r>
                  <a:endParaRPr b="0" lang="en-US" sz="2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657600" y="4266720"/>
                  <a:ext cx="685800" cy="1142640"/>
                </a:xfrm>
                <a:prstGeom prst="line">
                  <a:avLst/>
                </a:prstGeom>
                <a:ln w="38160">
                  <a:solidFill>
                    <a:srgbClr val="3a1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582720" y="4571640"/>
                  <a:ext cx="42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0" name=""/>
            <p:cNvSpPr/>
            <p:nvPr/>
          </p:nvSpPr>
          <p:spPr>
            <a:xfrm>
              <a:off x="4114800" y="3809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3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684360" y="2708280"/>
            <a:ext cx="7488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3a1ca6"/>
                </a:solidFill>
                <a:latin typeface="Arial Black"/>
              </a:rPr>
              <a:t>Wielokąty foremne i ich pola</a:t>
            </a:r>
            <a:endParaRPr b="0" lang="en-US" sz="2400" spc="1" strike="noStrike">
              <a:ln w="9360">
                <a:solidFill>
                  <a:srgbClr val="cccc00"/>
                </a:solidFill>
                <a:miter/>
              </a:ln>
              <a:solidFill>
                <a:srgbClr val="3a1ca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124000" y="62064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ff66cc"/>
                </a:solidFill>
                <a:latin typeface="Comic Sans MS"/>
              </a:rPr>
              <a:t>KWADRAT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528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2133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8888ae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51640" y="2492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przekątna 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124080" y="1523880"/>
            <a:ext cx="2876400" cy="2804760"/>
            <a:chOff x="3124080" y="1523880"/>
            <a:chExt cx="2876400" cy="2804760"/>
          </a:xfrm>
        </p:grpSpPr>
        <p:grpSp>
          <p:nvGrpSpPr>
            <p:cNvPr id="441" name=""/>
            <p:cNvGrpSpPr/>
            <p:nvPr/>
          </p:nvGrpSpPr>
          <p:grpSpPr>
            <a:xfrm>
              <a:off x="3124080" y="1523880"/>
              <a:ext cx="2876400" cy="2286000"/>
              <a:chOff x="3124080" y="1523880"/>
              <a:chExt cx="2876400" cy="2286000"/>
            </a:xfrm>
          </p:grpSpPr>
          <p:sp>
            <p:nvSpPr>
              <p:cNvPr id="442" name=""/>
              <p:cNvSpPr/>
              <p:nvPr/>
            </p:nvSpPr>
            <p:spPr>
              <a:xfrm>
                <a:off x="3124080" y="1523880"/>
                <a:ext cx="2362320" cy="2286000"/>
              </a:xfrm>
              <a:prstGeom prst="flowChartProcess">
                <a:avLst/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124080" y="1523880"/>
                <a:ext cx="2362320" cy="228600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62360" y="2514600"/>
                <a:ext cx="43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62160" y="22860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66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962160" y="3733920"/>
              <a:ext cx="838080" cy="594720"/>
              <a:chOff x="3962160" y="3733920"/>
              <a:chExt cx="838080" cy="594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962160" y="3809880"/>
                <a:ext cx="838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16240" y="3733920"/>
                <a:ext cx="26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0" y="34783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39640" y="4149720"/>
            <a:ext cx="3353040" cy="1066680"/>
            <a:chOff x="539640" y="4149720"/>
            <a:chExt cx="3353040" cy="1066680"/>
          </a:xfrm>
        </p:grpSpPr>
        <p:sp>
          <p:nvSpPr>
            <p:cNvPr id="451" name=""/>
            <p:cNvSpPr/>
            <p:nvPr/>
          </p:nvSpPr>
          <p:spPr>
            <a:xfrm>
              <a:off x="539640" y="4378320"/>
              <a:ext cx="33530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3300" spc="-1" strike="noStrike">
                  <a:solidFill>
                    <a:srgbClr val="9595ff"/>
                  </a:solidFill>
                  <a:latin typeface="Times New Roman"/>
                </a:rPr>
                <a:t>P</a:t>
              </a:r>
              <a:r>
                <a:rPr b="1" lang="en-US" sz="3300" spc="-1" strike="noStrike">
                  <a:solidFill>
                    <a:srgbClr val="020202"/>
                  </a:solidFill>
                  <a:latin typeface="Times New Roman"/>
                </a:rPr>
                <a:t> =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2597040" y="4149720"/>
                  <a:ext cx="831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3" name=""/>
          <p:cNvGrpSpPr/>
          <p:nvPr/>
        </p:nvGrpSpPr>
        <p:grpSpPr>
          <a:xfrm>
            <a:off x="5257800" y="4267080"/>
            <a:ext cx="2209680" cy="596520"/>
            <a:chOff x="5257800" y="4267080"/>
            <a:chExt cx="2209680" cy="596520"/>
          </a:xfrm>
        </p:grpSpPr>
        <p:sp>
          <p:nvSpPr>
            <p:cNvPr id="454" name=""/>
            <p:cNvSpPr/>
            <p:nvPr/>
          </p:nvSpPr>
          <p:spPr>
            <a:xfrm>
              <a:off x="5257800" y="4267080"/>
              <a:ext cx="22096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2d4799"/>
                  </a:solidFill>
                  <a:latin typeface="Times New Roman"/>
                </a:rPr>
                <a:t>P</a:t>
              </a:r>
              <a:r>
                <a:rPr b="0" lang="en-US" sz="33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0960" y="42670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-1066680" y="5181480"/>
            <a:ext cx="8153280" cy="1326240"/>
            <a:chOff x="-1066680" y="5181480"/>
            <a:chExt cx="8153280" cy="1326240"/>
          </a:xfrm>
        </p:grpSpPr>
        <p:sp>
          <p:nvSpPr>
            <p:cNvPr id="457" name=""/>
            <p:cNvSpPr/>
            <p:nvPr/>
          </p:nvSpPr>
          <p:spPr>
            <a:xfrm>
              <a:off x="-1066680" y="5410080"/>
              <a:ext cx="8001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81080" y="5257800"/>
              <a:ext cx="3581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pole kwadratu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o przekątnej d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29200" y="5181480"/>
              <a:ext cx="20574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pole kwadratu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o boku a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61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2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6227640" y="2133720"/>
                <a:ext cx="376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11640" y="378936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50872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012000" y="4149720"/>
                <a:ext cx="637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2987640" y="1844640"/>
            <a:ext cx="2438280" cy="2364840"/>
            <a:chOff x="2987640" y="1844640"/>
            <a:chExt cx="2438280" cy="2364840"/>
          </a:xfrm>
        </p:grpSpPr>
        <p:sp>
          <p:nvSpPr>
            <p:cNvPr id="469" name=""/>
            <p:cNvSpPr/>
            <p:nvPr/>
          </p:nvSpPr>
          <p:spPr>
            <a:xfrm>
              <a:off x="2987640" y="1844640"/>
              <a:ext cx="2438280" cy="19051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06960" y="1844640"/>
              <a:ext cx="0" cy="1905120"/>
            </a:xfrm>
            <a:prstGeom prst="line">
              <a:avLst/>
            </a:prstGeom>
            <a:ln w="38160">
              <a:solidFill>
                <a:srgbClr val="200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216240" y="2454120"/>
              <a:ext cx="2133360" cy="1755360"/>
              <a:chOff x="3216240" y="2454120"/>
              <a:chExt cx="2133360" cy="1755360"/>
            </a:xfrm>
          </p:grpSpPr>
          <p:sp>
            <p:nvSpPr>
              <p:cNvPr id="472" name=""/>
              <p:cNvSpPr/>
              <p:nvPr/>
            </p:nvSpPr>
            <p:spPr>
              <a:xfrm>
                <a:off x="3978000" y="37497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816440" y="2454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216240" y="2530440"/>
                <a:ext cx="1447560" cy="688320"/>
                <a:chOff x="3216240" y="2530440"/>
                <a:chExt cx="1447560" cy="6883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4206600" y="27590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05c1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216240" y="253044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60066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7" name=""/>
          <p:cNvSpPr/>
          <p:nvPr/>
        </p:nvSpPr>
        <p:spPr>
          <a:xfrm>
            <a:off x="380880" y="8380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66cc"/>
                </a:solidFill>
                <a:latin typeface="Comic Sans MS"/>
              </a:rPr>
              <a:t>TRÓJKĄT RÓWNOBOCZNY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006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52578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0920" y="573408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–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długość boku trójkąta równoboczneg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671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132000" y="4365720"/>
            <a:ext cx="1752480" cy="1218600"/>
            <a:chOff x="3132000" y="4365720"/>
            <a:chExt cx="1752480" cy="1218600"/>
          </a:xfrm>
        </p:grpSpPr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881880" y="4365720"/>
                  <a:ext cx="1002600" cy="12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4" name=""/>
            <p:cNvSpPr/>
            <p:nvPr/>
          </p:nvSpPr>
          <p:spPr>
            <a:xfrm>
              <a:off x="3132000" y="4688280"/>
              <a:ext cx="87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P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4788000" y="479736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66cc"/>
                </a:solidFill>
                <a:latin typeface="Times New Roman"/>
              </a:rPr>
              <a:t>pole trójkąta równoboczneg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380880" y="228600"/>
          <a:ext cx="110520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105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8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478800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995640" y="371628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05928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1619280" y="566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286000" y="10666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8380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Comic Sans MS"/>
              </a:rPr>
              <a:t>SZEŚCIOKĄT FOREMNY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08520" y="297180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–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ługość boku sześcioką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843280" y="4653000"/>
            <a:ext cx="2286000" cy="1219320"/>
            <a:chOff x="2843280" y="4653000"/>
            <a:chExt cx="2286000" cy="1219320"/>
          </a:xfrm>
        </p:grpSpPr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4125960" y="4653000"/>
                  <a:ext cx="100332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"/>
            <p:cNvSpPr/>
            <p:nvPr/>
          </p:nvSpPr>
          <p:spPr>
            <a:xfrm>
              <a:off x="2843280" y="4957920"/>
              <a:ext cx="141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 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971800" y="1905120"/>
            <a:ext cx="2438280" cy="2517120"/>
            <a:chOff x="2971800" y="1905120"/>
            <a:chExt cx="2438280" cy="2517120"/>
          </a:xfrm>
        </p:grpSpPr>
        <p:sp>
          <p:nvSpPr>
            <p:cNvPr id="506" name=""/>
            <p:cNvSpPr/>
            <p:nvPr/>
          </p:nvSpPr>
          <p:spPr>
            <a:xfrm>
              <a:off x="3962520" y="3962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71800" y="1905120"/>
              <a:ext cx="2438280" cy="2133720"/>
            </a:xfrm>
            <a:prstGeom prst="hexagon">
              <a:avLst>
                <a:gd name="adj" fmla="val 28568"/>
                <a:gd name="vf" fmla="val 115470"/>
              </a:avLst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91120" y="2972160"/>
              <a:ext cx="609480" cy="106668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581280" y="2972160"/>
              <a:ext cx="609840" cy="1066680"/>
            </a:xfrm>
            <a:prstGeom prst="line">
              <a:avLst/>
            </a:prstGeom>
            <a:ln cap="rnd" w="1260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91120" y="2972160"/>
              <a:ext cx="1218960" cy="0"/>
            </a:xfrm>
            <a:prstGeom prst="line">
              <a:avLst/>
            </a:prstGeom>
            <a:ln cap="rnd" w="324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190760" y="1905120"/>
              <a:ext cx="609480" cy="106704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1905120"/>
              <a:ext cx="609840" cy="106704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71800" y="2972160"/>
              <a:ext cx="1219320" cy="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6960" y="3353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486400" y="48769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ole sześciokąta foremne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04920" y="228600"/>
          <a:ext cx="110484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"/>
                    <a:ext cx="11048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1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508720" y="292428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00360" y="335772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28600" y="1219320"/>
            <a:ext cx="89154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Zad. W kwadrat jest wpisany okrąg o promieniu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6 cm. Oblicz pole tego kwadratu.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2971800"/>
            <a:ext cx="2504880" cy="2519280"/>
          </a:xfrm>
          <a:prstGeom prst="rect">
            <a:avLst/>
          </a:pr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2971800"/>
            <a:ext cx="2504880" cy="25272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00560" y="4286160"/>
            <a:ext cx="0" cy="12207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46483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005360" y="5427720"/>
            <a:ext cx="7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28600" y="4002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53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3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4038480" y="3809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ff6699"/>
                </a:solidFill>
                <a:latin typeface="Comic Sans MS"/>
              </a:rPr>
              <a:t>Wielokąty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2209680"/>
            <a:ext cx="1600200" cy="1295280"/>
            <a:chOff x="914400" y="2209680"/>
            <a:chExt cx="1600200" cy="1295280"/>
          </a:xfrm>
        </p:grpSpPr>
        <p:sp>
          <p:nvSpPr>
            <p:cNvPr id="143" name=""/>
            <p:cNvSpPr/>
            <p:nvPr/>
          </p:nvSpPr>
          <p:spPr>
            <a:xfrm>
              <a:off x="914400" y="2209680"/>
              <a:ext cx="1600200" cy="1295280"/>
            </a:xfrm>
            <a:prstGeom prst="hexagon">
              <a:avLst>
                <a:gd name="adj" fmla="val 30885"/>
                <a:gd name="vf" fmla="val 115470"/>
              </a:avLst>
            </a:pr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7920" y="2590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657600" y="2133720"/>
            <a:ext cx="1295280" cy="1295280"/>
            <a:chOff x="3657600" y="2133720"/>
            <a:chExt cx="1295280" cy="1295280"/>
          </a:xfrm>
        </p:grpSpPr>
        <p:sp>
          <p:nvSpPr>
            <p:cNvPr id="146" name=""/>
            <p:cNvSpPr/>
            <p:nvPr/>
          </p:nvSpPr>
          <p:spPr>
            <a:xfrm>
              <a:off x="3657600" y="2133720"/>
              <a:ext cx="1295280" cy="129528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181480" y="1981080"/>
            <a:ext cx="1447560" cy="990720"/>
            <a:chOff x="5181480" y="1981080"/>
            <a:chExt cx="1447560" cy="990720"/>
          </a:xfrm>
        </p:grpSpPr>
        <p:sp>
          <p:nvSpPr>
            <p:cNvPr id="149" name=""/>
            <p:cNvSpPr/>
            <p:nvPr/>
          </p:nvSpPr>
          <p:spPr>
            <a:xfrm>
              <a:off x="5181480" y="1981080"/>
              <a:ext cx="1447560" cy="990720"/>
            </a:xfrm>
            <a:prstGeom prst="parallelogram">
              <a:avLst>
                <a:gd name="adj" fmla="val 36528"/>
              </a:avLst>
            </a:prstGeom>
            <a:solidFill>
              <a:srgbClr val="ccff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4640" y="2286000"/>
              <a:ext cx="45720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010280" y="1752480"/>
            <a:ext cx="1600200" cy="1371600"/>
            <a:chOff x="7010280" y="1752480"/>
            <a:chExt cx="1600200" cy="1371600"/>
          </a:xfrm>
        </p:grpSpPr>
        <p:sp>
          <p:nvSpPr>
            <p:cNvPr id="152" name=""/>
            <p:cNvSpPr/>
            <p:nvPr/>
          </p:nvSpPr>
          <p:spPr>
            <a:xfrm>
              <a:off x="7010280" y="1752480"/>
              <a:ext cx="1600200" cy="13716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0120" y="2361960"/>
              <a:ext cx="3808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57200" y="4495680"/>
            <a:ext cx="1676520" cy="914400"/>
            <a:chOff x="457200" y="4495680"/>
            <a:chExt cx="1676520" cy="914400"/>
          </a:xfrm>
        </p:grpSpPr>
        <p:sp>
          <p:nvSpPr>
            <p:cNvPr id="155" name=""/>
            <p:cNvSpPr/>
            <p:nvPr/>
          </p:nvSpPr>
          <p:spPr>
            <a:xfrm>
              <a:off x="457200" y="4495680"/>
              <a:ext cx="1676520" cy="914400"/>
            </a:xfrm>
            <a:custGeom>
              <a:avLst/>
              <a:gdLst>
                <a:gd name="textAreaLeft" fmla="*/ 368640 w 1676520"/>
                <a:gd name="textAreaRight" fmla="*/ 1307880 w 167652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4724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14600" y="3657600"/>
            <a:ext cx="1447920" cy="1523880"/>
            <a:chOff x="2514600" y="3657600"/>
            <a:chExt cx="1447920" cy="1523880"/>
          </a:xfrm>
        </p:grpSpPr>
        <p:sp>
          <p:nvSpPr>
            <p:cNvPr id="158" name=""/>
            <p:cNvSpPr/>
            <p:nvPr/>
          </p:nvSpPr>
          <p:spPr>
            <a:xfrm>
              <a:off x="2514600" y="3657600"/>
              <a:ext cx="1447920" cy="1523880"/>
            </a:xfrm>
            <a:prstGeom prst="octagon">
              <a:avLst>
                <a:gd name="adj" fmla="val 29287"/>
              </a:avLst>
            </a:prstGeom>
            <a:solidFill>
              <a:srgbClr val="cc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71800" y="4190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343400" y="4343400"/>
            <a:ext cx="1143000" cy="1599840"/>
            <a:chOff x="4343400" y="4343400"/>
            <a:chExt cx="1143000" cy="1599840"/>
          </a:xfrm>
        </p:grpSpPr>
        <p:sp>
          <p:nvSpPr>
            <p:cNvPr id="161" name=""/>
            <p:cNvSpPr/>
            <p:nvPr/>
          </p:nvSpPr>
          <p:spPr>
            <a:xfrm>
              <a:off x="4343400" y="4343400"/>
              <a:ext cx="1143000" cy="1599840"/>
            </a:xfrm>
            <a:prstGeom prst="octagon">
              <a:avLst>
                <a:gd name="adj" fmla="val 29287"/>
              </a:avLst>
            </a:prstGeom>
            <a:solidFill>
              <a:srgbClr val="ccec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71800" y="490320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867280" y="3733920"/>
            <a:ext cx="1219320" cy="1218960"/>
          </a:xfrm>
          <a:prstGeom prst="rect">
            <a:avLst/>
          </a:prstGeom>
          <a:solidFill>
            <a:srgbClr val="dddddd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391520" y="3962520"/>
            <a:ext cx="1218960" cy="2133360"/>
            <a:chOff x="7391520" y="3962520"/>
            <a:chExt cx="1218960" cy="2133360"/>
          </a:xfrm>
        </p:grpSpPr>
        <p:sp>
          <p:nvSpPr>
            <p:cNvPr id="165" name=""/>
            <p:cNvSpPr/>
            <p:nvPr/>
          </p:nvSpPr>
          <p:spPr>
            <a:xfrm>
              <a:off x="7391520" y="3962520"/>
              <a:ext cx="1218960" cy="2133360"/>
            </a:xfrm>
            <a:prstGeom prst="diamond">
              <a:avLst/>
            </a:prstGeom>
            <a:solidFill>
              <a:srgbClr val="ffcc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48720" y="4876560"/>
              <a:ext cx="53316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16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981080" y="990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1066680"/>
            <a:ext cx="845820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Zad. Na trójkącie równobocznym  jest opisany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okrąg o promieniu 2     . Oblicz pole tego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trójkąta.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800600" y="17524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3048120" y="2895480"/>
            <a:ext cx="2971800" cy="29718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76720" y="2895480"/>
            <a:ext cx="2514600" cy="2286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95680" y="4419720"/>
            <a:ext cx="1295640" cy="7617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19720" y="51814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0292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87692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4340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8880" y="3733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82404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50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1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990720" y="990720"/>
            <a:ext cx="81532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Zad. Na sześciokącie foremnym jest opisany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okrąg o promieniu 4cm.Oblicz pole tego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sześciokąta.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048120" y="3200400"/>
            <a:ext cx="2743200" cy="281952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5562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48120" y="3429000"/>
            <a:ext cx="2743200" cy="2362320"/>
          </a:xfrm>
          <a:prstGeom prst="hexagon">
            <a:avLst>
              <a:gd name="adj" fmla="val 29031"/>
              <a:gd name="vf" fmla="val 115470"/>
            </a:avLst>
          </a:prstGeom>
          <a:noFill/>
          <a:ln w="38160">
            <a:solidFill>
              <a:srgbClr val="0b0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4648320"/>
            <a:ext cx="685800" cy="1143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72428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0" y="4956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733920" y="4647960"/>
            <a:ext cx="685800" cy="1143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33920" y="495288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6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137160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360" y="107316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53053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03280" y="479736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38080" y="5638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16000" y="2133720"/>
            <a:ext cx="7075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Dokończ zdania 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i odpowiedz na pytania</a:t>
            </a:r>
            <a:r>
              <a:rPr b="0" lang="en-US" sz="4800" spc="-1" strike="noStrike">
                <a:solidFill>
                  <a:srgbClr val="de9fe1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1371600" cy="8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84360" y="1626120"/>
            <a:ext cx="79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1. Dokończ zdania;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a. Wielokąt wpisany w okrąg to taki wielokąt ........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b. Wielokąt opisany na okręgu to taki wielokąt 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00000" y="345276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)...... którego wierzchołki leżą na tym okręgu 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)...... którego boki są styczne do okręgu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4360" y="1841040"/>
            <a:ext cx="819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2. Wskaż zdania prawdziwe;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a. Na każdym trójkącie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b. Na każdym czworokącie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c. W każdy trójkąt można w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d. W każdy czworokąt można w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e. Na każdym wielokącie foremnym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f. W każdy wielokąt foremny można wpisać okrąg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61440" y="249228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a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95960" y="29242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b N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29440" y="3357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67240" y="37162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 N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89920" y="400536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e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453440" y="450864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f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81280" y="1828800"/>
            <a:ext cx="1981440" cy="205740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91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Wielokątem foremnym nazywamy wielokąt , który ma wszystkie boki jednakowej długości    i wszystkie kąty jednakowej miar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0920" y="6165720"/>
            <a:ext cx="1066680" cy="457200"/>
            <a:chOff x="250920" y="6165720"/>
            <a:chExt cx="1066680" cy="457200"/>
          </a:xfrm>
        </p:grpSpPr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784080" y="616572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250920" y="616572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619280" y="836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Wielokąt foremny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629400" y="2209680"/>
            <a:ext cx="1828800" cy="1524240"/>
          </a:xfrm>
          <a:prstGeom prst="triangle">
            <a:avLst>
              <a:gd name="adj" fmla="val 50000"/>
            </a:avLst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403848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114800"/>
            <a:ext cx="1828800" cy="1600200"/>
          </a:xfrm>
          <a:prstGeom prst="hexagon">
            <a:avLst>
              <a:gd name="adj" fmla="val 28571"/>
              <a:gd name="vf" fmla="val 115470"/>
            </a:avLst>
          </a:prstGeom>
          <a:solidFill>
            <a:srgbClr val="cce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209680"/>
            <a:ext cx="1371600" cy="1295640"/>
          </a:xfrm>
          <a:prstGeom prst="rect">
            <a:avLst/>
          </a:prstGeom>
          <a:solidFill>
            <a:srgbClr val="ff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6115200">
            <a:off x="1636920" y="2156400"/>
            <a:ext cx="1538280" cy="1517760"/>
          </a:xfrm>
          <a:prstGeom prst="pentagon">
            <a:avLst/>
          </a:prstGeom>
          <a:solidFill>
            <a:srgbClr val="c0c0c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114800"/>
            <a:ext cx="1981080" cy="1981080"/>
          </a:xfrm>
          <a:prstGeom prst="diamond">
            <a:avLst/>
          </a:prstGeom>
          <a:solidFill>
            <a:srgbClr val="9ac0e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6094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609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8380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Comic Sans MS"/>
              </a:rPr>
              <a:t>Wielokąty foremne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186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468360" y="1773000"/>
            <a:ext cx="3408120" cy="2448000"/>
            <a:chOff x="468360" y="1773000"/>
            <a:chExt cx="3408120" cy="2448000"/>
          </a:xfrm>
        </p:grpSpPr>
        <p:grpSp>
          <p:nvGrpSpPr>
            <p:cNvPr id="189" name=""/>
            <p:cNvGrpSpPr/>
            <p:nvPr/>
          </p:nvGrpSpPr>
          <p:grpSpPr>
            <a:xfrm>
              <a:off x="468360" y="2093760"/>
              <a:ext cx="2378160" cy="1583640"/>
              <a:chOff x="468360" y="2093760"/>
              <a:chExt cx="2378160" cy="1583640"/>
            </a:xfrm>
          </p:grpSpPr>
          <p:sp>
            <p:nvSpPr>
              <p:cNvPr id="190" name=""/>
              <p:cNvSpPr/>
              <p:nvPr/>
            </p:nvSpPr>
            <p:spPr>
              <a:xfrm>
                <a:off x="468360" y="2093760"/>
                <a:ext cx="212724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19320" y="3157200"/>
                <a:ext cx="72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382760" y="1773000"/>
              <a:ext cx="2493720" cy="2448000"/>
              <a:chOff x="1382760" y="1773000"/>
              <a:chExt cx="2493720" cy="2448000"/>
            </a:xfrm>
          </p:grpSpPr>
          <p:sp>
            <p:nvSpPr>
              <p:cNvPr id="193" name=""/>
              <p:cNvSpPr/>
              <p:nvPr/>
            </p:nvSpPr>
            <p:spPr>
              <a:xfrm>
                <a:off x="2479680" y="3235320"/>
                <a:ext cx="1839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79680" y="3235320"/>
                <a:ext cx="1839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82760" y="1773360"/>
                <a:ext cx="2047680" cy="1994040"/>
              </a:xfrm>
              <a:prstGeom prst="flowChartProcess">
                <a:avLst/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382760" y="1773000"/>
                <a:ext cx="2047680" cy="199404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98840" y="2635200"/>
                <a:ext cx="37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09600" y="2438640"/>
                <a:ext cx="33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66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09760" y="3700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1042920" y="4365720"/>
            <a:ext cx="4647960" cy="657720"/>
            <a:chOff x="1042920" y="4365720"/>
            <a:chExt cx="4647960" cy="657720"/>
          </a:xfrm>
        </p:grpSpPr>
        <p:sp>
          <p:nvSpPr>
            <p:cNvPr id="201" name=""/>
            <p:cNvSpPr/>
            <p:nvPr/>
          </p:nvSpPr>
          <p:spPr>
            <a:xfrm>
              <a:off x="1042920" y="444204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cc"/>
                  </a:solidFill>
                  <a:latin typeface="Times New Roman"/>
                </a:rPr>
                <a:t>   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d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</a:rPr>
                <a:t>= a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2185920" y="4365720"/>
                  <a:ext cx="6858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3" name=""/>
          <p:cNvSpPr/>
          <p:nvPr/>
        </p:nvSpPr>
        <p:spPr>
          <a:xfrm>
            <a:off x="4356000" y="1989000"/>
            <a:ext cx="428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- przekątna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- pole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5840" y="83808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KWADR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4436280"/>
            <a:ext cx="13683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=a</a:t>
            </a:r>
            <a:r>
              <a:rPr b="0" lang="en-US" sz="2800" spc="-1" strike="noStrike" baseline="30000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810240" cy="27241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692360" y="2276640"/>
            <a:ext cx="2438280" cy="2364120"/>
            <a:chOff x="1692360" y="2276640"/>
            <a:chExt cx="2438280" cy="2364120"/>
          </a:xfrm>
        </p:grpSpPr>
        <p:grpSp>
          <p:nvGrpSpPr>
            <p:cNvPr id="212" name=""/>
            <p:cNvGrpSpPr/>
            <p:nvPr/>
          </p:nvGrpSpPr>
          <p:grpSpPr>
            <a:xfrm>
              <a:off x="1692360" y="2276640"/>
              <a:ext cx="2438280" cy="1904760"/>
              <a:chOff x="1692360" y="2276640"/>
              <a:chExt cx="2438280" cy="1904760"/>
            </a:xfrm>
          </p:grpSpPr>
          <p:sp>
            <p:nvSpPr>
              <p:cNvPr id="213" name=""/>
              <p:cNvSpPr/>
              <p:nvPr/>
            </p:nvSpPr>
            <p:spPr>
              <a:xfrm>
                <a:off x="1692360" y="2276640"/>
                <a:ext cx="2438280" cy="19047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11320" y="2276640"/>
                <a:ext cx="0" cy="1904760"/>
              </a:xfrm>
              <a:prstGeom prst="line">
                <a:avLst/>
              </a:prstGeom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920960" y="2885760"/>
              <a:ext cx="2133360" cy="1755000"/>
              <a:chOff x="1920960" y="2885760"/>
              <a:chExt cx="2133360" cy="1755000"/>
            </a:xfrm>
          </p:grpSpPr>
          <p:sp>
            <p:nvSpPr>
              <p:cNvPr id="216" name=""/>
              <p:cNvSpPr/>
              <p:nvPr/>
            </p:nvSpPr>
            <p:spPr>
              <a:xfrm>
                <a:off x="2682720" y="4181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382f3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521160" y="28857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920960" y="2961720"/>
                <a:ext cx="1447560" cy="687960"/>
                <a:chOff x="1920960" y="2961720"/>
                <a:chExt cx="1447560" cy="687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911320" y="318996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382f3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920960" y="2961720"/>
                  <a:ext cx="99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545472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1" name=""/>
          <p:cNvSpPr/>
          <p:nvPr/>
        </p:nvSpPr>
        <p:spPr>
          <a:xfrm>
            <a:off x="395280" y="765000"/>
            <a:ext cx="456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TRÓJKĄT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RÓWNOBOCZ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700360" y="4149720"/>
                <a:ext cx="43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564000" y="2924280"/>
                <a:ext cx="374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979640" y="285264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826080" cy="3529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http://www.zskorzenna.ayz.pl/grfi/lgm/lgmwm_07.gif"/>
          <p:cNvPicPr/>
          <p:nvPr/>
        </p:nvPicPr>
        <p:blipFill>
          <a:blip r:embed="rId3"/>
          <a:stretch/>
        </p:blipFill>
        <p:spPr>
          <a:xfrm>
            <a:off x="4211640" y="2852640"/>
            <a:ext cx="4734000" cy="2867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56000" y="1125360"/>
            <a:ext cx="456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TRÓJKĄT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RÓWNOBOCZ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59360" y="838080"/>
            <a:ext cx="53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SZEŚCIOKĄT FOREM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753080" cy="3595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411280" y="5157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sześciokąt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34920" y="2708280"/>
            <a:ext cx="3527640" cy="155700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ześciokąt foremny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kłada się z sześci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trójkątów równobocznych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o boku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148360" y="4508640"/>
            <a:ext cx="2286000" cy="1218960"/>
            <a:chOff x="5148360" y="4508640"/>
            <a:chExt cx="2286000" cy="12189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6431040" y="4508640"/>
                  <a:ext cx="1003320" cy="12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5148360" y="4813200"/>
              <a:ext cx="141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 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195640" y="5300640"/>
                <a:ext cx="3110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16720" y="386064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03640" y="4005360"/>
                <a:ext cx="2509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050920" y="4076640"/>
                <a:ext cx="249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4:12:19Z</dcterms:created>
  <dc:creator>Szuwarowski</dc:creator>
  <dc:description/>
  <dc:language>en-US</dc:language>
  <cp:lastModifiedBy>Matematyka</cp:lastModifiedBy>
  <dcterms:modified xsi:type="dcterms:W3CDTF">2014-03-01T17:34:10Z</dcterms:modified>
  <cp:revision>116</cp:revision>
  <dc:subject/>
  <dc:title>Temat: Okrąg wpisany i opisany           na wielokącie foremnym             - zadania.</dc:title>
</cp:coreProperties>
</file>