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51D-1DD0-40B7-B4B7-5A952BEF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8E8A-EC5B-4D5D-B912-DEDACCC5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7849F-B022-4FD1-A4A8-E210C27E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412CB-365B-44FA-BCAE-FCF44518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93F6C-C682-4F73-A91D-D38D6725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DC242-BC88-489B-B8B6-ADD1F200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91A4E-D02E-470E-A283-AFB328CC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3D5FE-1EC8-4A12-A379-9A406BE6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48DF5-0052-4353-857F-40A32D52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079BD-4D39-45B0-80E4-5A783687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77DAD-84E4-41C2-A490-8E788E65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388E2-8991-4805-A967-6B192706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25B3-0FA6-4DF0-ADD7-2C752D17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F3F4E-4261-4E3A-A9D4-7990CB4B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85882-9D2F-45EF-91FE-92326BB9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688EC-A25F-403D-A0EB-C81B4C74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85714-E7F8-4AA8-B9F7-BB653AC3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0DAA3-CE32-43B4-9BD9-45886032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3A95B-D422-4BDE-8FF6-18F38962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C2C9E-9359-4F5E-999F-0714337B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BA4C9-FC90-4F3A-97F8-5B4B5EB4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6F596-2A50-43FD-BBAC-7379FB71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E777E-8B7F-4017-AD85-43111CE8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FD50-640E-421D-863D-568B77D5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D4687-0485-433B-A216-8FAC3FD4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5A5F6-EE46-4B6D-B05A-76DC108D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E76B3-DB34-4D09-AF00-A759E78C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DC0F0-BD6D-44B6-98C2-E0027377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35606-4048-4442-896C-387A1C4C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1999A-DD0C-4A3B-BF85-940E1DCD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F4CAA-1B31-41EC-ABFA-1E97EC3A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7EFA2-288F-4D70-B81F-97B9FFAB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F449E-2274-4061-A941-EA9E2F4C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6631E-433E-4C11-8001-BA6AB3F1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EB7B-C6D8-4B6A-862F-4339E517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FCF2C-41CF-4EA7-B993-62B4C4CC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51F96-ACB3-4BF8-A86C-E0D29E98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C8DF9-A2CE-4086-A800-C2E79CD8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834FF-D673-416D-8C39-89B2AB10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25E2A-CA8C-4524-A0EC-0F3780F2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BD50D-CC32-4BFF-8791-572D31FD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72137-CC89-4A80-8DEA-F7651993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0AEFD-32CB-440F-A7B2-A0643435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108DF-407A-4AEF-AF05-B55E52F3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3ECBF-F999-430D-BE92-CDAE158F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C292-ACB6-47E3-8734-A2922EEB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DB56D-9B96-412F-B6E9-595C2BF2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E7200-68BB-46B8-8121-B4AB0720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9FB05-B462-4A42-9E13-88EF62D6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5BCEF-9427-4A1E-A3AE-3B3F9C46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F320B-B588-4B78-A57C-593DFF93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D751-0B6E-4573-B4F5-08A82701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D2B7-7462-4E98-8A5E-DE2BABDB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094E-FF7A-48B4-A7BB-FB04CA13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E318-58CF-41A9-BCA0-D18D450A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7C37-0025-472E-A3E5-52968945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321A-3B0B-45CA-B690-B5BE506E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4706-3452-4C80-ACB3-EFD024DC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5DE1-67E3-4525-9832-240B0D8D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DA12-E916-4A59-B4FA-EAC9FC73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1F7A-9E44-4C39-B9FC-46CB6A35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7520-F94A-4C23-A5C0-51E5B674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C42E8-11D7-4F4F-B3F4-149B5A52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3F012-402A-4734-A515-4A8B145A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A96D4-5C46-4480-872E-BFA860EF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E03C5-59BD-4E45-94B1-C1A02F6E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8C1D9-E631-46D2-9C74-7242E405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B6EA-2463-4278-BF09-A32A4A5D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D42D5-60CA-4323-82B0-DB697230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63E8D-C740-4D85-8240-3A9D243A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CC08F-8258-42EA-B73D-7387E936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BA079-1F84-4AC1-BB22-466DD9C7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5BDF4-F2EB-4966-88A6-565628B4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659F9-E64B-4AFF-A69B-1EB42D8E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1EEDC-3059-4CF2-BCEC-D5DD80EE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2E5A4-05E5-4327-9BA0-3D4D479A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C86AD-7791-4C00-A8D8-32593CBF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F2D63-DA7E-410A-B6CA-ADBCF04E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8EF-7FBC-4E4A-8429-135FB38F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B2AA5-D6C6-421C-B327-A92E5758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34132-0355-43C6-A87F-C3B35A17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CAF6B-0A1B-4D47-97F5-7A1AFFA3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9A95D-C906-41E9-BA33-BF8F3F22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3F748-07B3-49FA-9D3F-EFE6B39F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726EE-808B-4CF1-8D77-953384DB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05B39-C9E2-4B6B-B371-37827ECD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40E55-9285-4E0A-B287-E0E01FF9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07720-655F-44E2-92BC-929C4822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3EA57-781D-4316-A62E-6D44C174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16BF-A263-4753-82E2-A1AE82D0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9EA7E-6530-4B78-BCCB-A4304F84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B6C60-7B54-4145-B0CF-A44B4351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B09FD-6C09-4E87-9DEB-8172BD1B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13840-6391-49C6-8640-70E97955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1F4E2-2522-48B5-9DD9-F1F16B2A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657C5-B25F-46A7-BB35-8010BD15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B21DD-71FA-40D1-B8C6-6AA59044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D6C3F-8D17-472A-8AA3-E89CE475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018EA-BBEA-4C89-B6E1-872C12C0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33A44-4F92-4AFF-A8D6-4F4D4DDE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1928-2A90-4513-8D61-EFBEF79B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8C440-07BD-4AC5-8049-DF204733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A459F-7635-4494-AF03-ACC1F221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30A45-525D-4F96-8EBF-2BFF06BF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AF05D-E40E-43F1-A62C-07C35BEA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AAF1B-CA3B-4456-B8BB-E9458ECC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24188-3396-42C9-B930-2C95C67C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06E70-A9F1-44A3-93EB-140AB446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17E85-8CB4-499B-B2EB-422D4251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C1F6F-799E-4890-B228-FA9B299F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721E4-ADBB-42F8-A5A7-91000867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68E3-3AC0-431E-ABD0-321BCD51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79A56-15E6-4436-9E36-5F4CC41D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C724D-58BF-4394-9138-A233AB36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22F3C-15A7-44BF-9006-5B6DCF73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ACE61-6AE5-40D2-9F12-9388380D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2C7C2-5348-4DD0-A53F-FB99CC5D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A57EC-C877-41CF-8328-4C160696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4B1D9-342D-4A3B-8C63-3023876E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01ABE-9623-4374-8192-A458D1E2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05D50-310E-4FAE-9FD1-CC9E7E10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173F6-D247-4602-B1AA-62E0944C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72DF-922E-4755-906A-ABEFD7F7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1A664-0AAB-40A5-921F-B1141A84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8EF67-454F-413F-9B54-BF40DFB6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E192A-759B-4012-9B55-A1243622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924B2-6B61-42CA-8270-1E507AC9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C0C8B-99F9-4098-A78A-0DC76AFD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6FC45-5D8B-4FE9-8635-0943C6DE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3E60E-F524-4451-A274-431ECD2E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261ED-D701-4EAA-A53B-EAB27C86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E789E-3D26-4911-BE91-6D34635A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D7D30-0648-4206-A740-4FA0D5A5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99BC-EEC3-445D-811C-853893E5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C387C-C6D7-4055-B1B0-12D624BF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51B3D-6E24-4DA2-9718-F0A43AC4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285EA-8D0C-4F30-A858-DD76BE98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F0AF2-2A46-4022-9CA0-01BFEDD3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29153-504D-46E3-A75B-8197CAB3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47607-70CE-439A-BDFA-04DC830B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C61EC-4996-4566-8F3F-5960CDAF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AF0C3-CC2A-48A8-98C5-C45C09CA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DA33C-C88F-479F-BCD7-37E937F5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604AD-6AAE-424E-BC5F-EA699C13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5ADA-E440-4D1F-822E-27ADAD9A7F77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Prostokąt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17" name="Prostokąt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D07F-36CE-4282-9273-302C0BFFAB72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65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B1DE-71ED-4693-A2EC-E99E63945089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2889-0F94-4FA2-B265-E342AE4CEB05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6A00-AE42-4900-9B7A-A1414DDE7AAE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19E1-DF9E-4D5D-AD2D-8CB2625C46A2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Elipsa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Elipsa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5EA8-1CCC-4CD7-8A16-D9EF12AB3C4F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8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A806-F749-4A15-BE9B-35F39451A308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DB5E-D1F0-4EE8-91A8-53F796FC9F6D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87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4058-6A5E-44BE-ADFE-E747B7D0A3F0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FCD4-BCFA-43B6-A4BA-2149713B1A69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87A1-932B-4090-A42F-0ABEA9E9361C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pl/url?sa=i&amp;rct=j&amp;q=&amp;esrc=s&amp;frm=1&amp;source=images&amp;cd=&amp;cad=rja&amp;docid=x3O5PxcZ9wWfUM&amp;tbnid=JHO74gw_xqNUDM:&amp;ved=0CAUQjRw&amp;url=http%3A%2F%2Fwww.cauchy.pl%2Fmatura%2Fp_2006_11_p%2F5%2Findex.php&amp;ei=-qCaUcP2JcfnswbJ84GoBg&amp;bvm=bv.46751780,d.Yms&amp;psig=AFQjCNFssyByw83TLltqo_bdrGcZk9xnLA&amp;ust=1369174614896921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40556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Symetrie w układzie współrzędny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rostokąt 4"/>
          <p:cNvSpPr/>
          <p:nvPr/>
        </p:nvSpPr>
        <p:spPr>
          <a:xfrm>
            <a:off x="1187280" y="404640"/>
            <a:ext cx="756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Uwag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Punkty symetryczne względem osi y mają równe drugie współrzędne, a pierwsze współrzędne są liczbami przeciwnymi, 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i P’=(-x,y)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Jeżeli punkt leży na osi y, to punktem symetrycznym do niego względem osi y jest ten sam pun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34600" y="274320"/>
            <a:ext cx="74581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4300"/>
            </a:b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względem początku układu współrzędny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7" name="Prostokąt 2"/>
          <p:cNvSpPr/>
          <p:nvPr/>
        </p:nvSpPr>
        <p:spPr>
          <a:xfrm>
            <a:off x="1042920" y="3213000"/>
            <a:ext cx="7561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Gill Sans MT"/>
              </a:rPr>
              <a:t>Zadanie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początku układu współrzędny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7" descr="http://www.cauchy.pl/matura/p_2006_11_p/5/uklad_wspolrzednych.gif"/>
          <p:cNvPicPr/>
          <p:nvPr/>
        </p:nvPicPr>
        <p:blipFill>
          <a:blip r:embed="rId1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sp>
        <p:nvSpPr>
          <p:cNvPr id="629" name="Elipsa 24"/>
          <p:cNvSpPr/>
          <p:nvPr/>
        </p:nvSpPr>
        <p:spPr>
          <a:xfrm>
            <a:off x="4454640" y="1052640"/>
            <a:ext cx="4608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Elipsa 25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Elipsa 26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ipsa 27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Elipsa 28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Elipsa 29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Łącznik prosty 30"/>
          <p:cNvSpPr/>
          <p:nvPr/>
        </p:nvSpPr>
        <p:spPr>
          <a:xfrm>
            <a:off x="4211640" y="1089000"/>
            <a:ext cx="550800" cy="2664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Elipsa 31"/>
          <p:cNvSpPr/>
          <p:nvPr/>
        </p:nvSpPr>
        <p:spPr>
          <a:xfrm>
            <a:off x="471636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Łącznik prosty 32"/>
          <p:cNvSpPr/>
          <p:nvPr/>
        </p:nvSpPr>
        <p:spPr>
          <a:xfrm flipH="1">
            <a:off x="3924000" y="1628640"/>
            <a:ext cx="1103400" cy="1513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Elipsa 33"/>
          <p:cNvSpPr/>
          <p:nvPr/>
        </p:nvSpPr>
        <p:spPr>
          <a:xfrm>
            <a:off x="3924360" y="314172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Łącznik prosty 34"/>
          <p:cNvSpPr/>
          <p:nvPr/>
        </p:nvSpPr>
        <p:spPr>
          <a:xfrm flipH="1" flipV="1">
            <a:off x="3459240" y="1884240"/>
            <a:ext cx="2031840" cy="1044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Elipsa 35"/>
          <p:cNvSpPr/>
          <p:nvPr/>
        </p:nvSpPr>
        <p:spPr>
          <a:xfrm>
            <a:off x="3419640" y="1844640"/>
            <a:ext cx="4572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Łącznik prosty 36"/>
          <p:cNvSpPr/>
          <p:nvPr/>
        </p:nvSpPr>
        <p:spPr>
          <a:xfrm flipV="1">
            <a:off x="3708360" y="1341000"/>
            <a:ext cx="1584360" cy="2158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Elipsa 37"/>
          <p:cNvSpPr/>
          <p:nvPr/>
        </p:nvSpPr>
        <p:spPr>
          <a:xfrm>
            <a:off x="5292720" y="1268280"/>
            <a:ext cx="442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Elipsa 38"/>
          <p:cNvSpPr/>
          <p:nvPr/>
        </p:nvSpPr>
        <p:spPr>
          <a:xfrm flipH="1">
            <a:off x="2916360" y="234936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Łącznik prosty 39"/>
          <p:cNvSpPr/>
          <p:nvPr/>
        </p:nvSpPr>
        <p:spPr>
          <a:xfrm flipH="1">
            <a:off x="2987280" y="2421000"/>
            <a:ext cx="3073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ole tekstowe 40"/>
          <p:cNvSpPr/>
          <p:nvPr/>
        </p:nvSpPr>
        <p:spPr>
          <a:xfrm>
            <a:off x="541800" y="4437000"/>
            <a:ext cx="759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początku układu współrzędn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ą punkty: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Łącznik prosty 55"/>
          <p:cNvSpPr/>
          <p:nvPr/>
        </p:nvSpPr>
        <p:spPr>
          <a:xfrm flipH="1" flipV="1">
            <a:off x="4460400" y="1091880"/>
            <a:ext cx="39960" cy="26240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Elipsa 59"/>
          <p:cNvSpPr/>
          <p:nvPr/>
        </p:nvSpPr>
        <p:spPr>
          <a:xfrm>
            <a:off x="4454640" y="371628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rostokąt 63" descr=""/>
          <p:cNvPicPr/>
          <p:nvPr/>
        </p:nvPicPr>
        <p:blipFill>
          <a:blip r:embed="rId2"/>
          <a:stretch/>
        </p:blipFill>
        <p:spPr>
          <a:xfrm>
            <a:off x="2249640" y="4979880"/>
            <a:ext cx="4627440" cy="20671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1"/>
          <p:cNvSpPr/>
          <p:nvPr/>
        </p:nvSpPr>
        <p:spPr>
          <a:xfrm>
            <a:off x="999720" y="356400"/>
            <a:ext cx="73267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Uwag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Współrzędne punktów symetrycznych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względem początku układu współrzędnych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są liczbami przeciwnymi, 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   i     P’=(-x,-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72314"/>
                </a:solidFill>
                <a:latin typeface="Gill Sans MT"/>
              </a:rPr>
              <a:t>Pomysły zadań i ćwiczeń zostały zaczerpnięte z: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1" name="Prostokąt 2"/>
          <p:cNvSpPr/>
          <p:nvPr/>
        </p:nvSpPr>
        <p:spPr>
          <a:xfrm>
            <a:off x="1042920" y="1628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matematyka.opracowania.pl/gimnazjum/symetrie_w_uk%C5%82adzie_wsp%C3%B3%C5%82rz%C4%99dnych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rostokąt 3"/>
          <p:cNvSpPr/>
          <p:nvPr/>
        </p:nvSpPr>
        <p:spPr>
          <a:xfrm>
            <a:off x="1042920" y="2276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ww.matmana6.pl/tablice_matematyczne/liceum/geometria_analityczna/62-uklad_wspolrze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rostokąt 4"/>
          <p:cNvSpPr/>
          <p:nvPr/>
        </p:nvSpPr>
        <p:spPr>
          <a:xfrm>
            <a:off x="1024200" y="2997360"/>
            <a:ext cx="45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ww.math.edu.pl/uklad-kartezjan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rostokąt 5"/>
          <p:cNvSpPr/>
          <p:nvPr/>
        </p:nvSpPr>
        <p:spPr>
          <a:xfrm>
            <a:off x="1008000" y="335772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iki.wolnepodreczniki.pl/Matematyka:Gimnazjum/Kartezja%C5%84ski_uk%C5%82ad_wsp%C3%B3%C5%82rz%C4%99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34960" y="115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572314"/>
                </a:solidFill>
                <a:latin typeface="Gill Sans MT"/>
              </a:rPr>
              <a:t>Prostokątny układ współrzędnych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0" name="pole tekstowe 9"/>
          <p:cNvSpPr/>
          <p:nvPr/>
        </p:nvSpPr>
        <p:spPr>
          <a:xfrm>
            <a:off x="1042920" y="3646440"/>
            <a:ext cx="30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Ćwiczeni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Określ położenie Multik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ole tekstowe 10"/>
          <p:cNvSpPr/>
          <p:nvPr/>
        </p:nvSpPr>
        <p:spPr>
          <a:xfrm>
            <a:off x="1042920" y="14130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 czego służ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układ współrzędny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5" descr="C:\Users\temp\Desktop\PPWK_Wloclawek_A4.jpg"/>
          <p:cNvPicPr/>
          <p:nvPr/>
        </p:nvPicPr>
        <p:blipFill>
          <a:blip r:embed="rId1"/>
          <a:stretch/>
        </p:blipFill>
        <p:spPr>
          <a:xfrm>
            <a:off x="4427640" y="1284120"/>
            <a:ext cx="4427280" cy="5384880"/>
          </a:xfrm>
          <a:prstGeom prst="rect">
            <a:avLst/>
          </a:prstGeom>
          <a:ln w="0">
            <a:noFill/>
          </a:ln>
        </p:spPr>
      </p:pic>
      <p:sp>
        <p:nvSpPr>
          <p:cNvPr id="563" name="pole tekstowe 5"/>
          <p:cNvSpPr/>
          <p:nvPr/>
        </p:nvSpPr>
        <p:spPr>
          <a:xfrm>
            <a:off x="1698480" y="551664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Odpowied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3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ole tekstowe 8"/>
          <p:cNvSpPr/>
          <p:nvPr/>
        </p:nvSpPr>
        <p:spPr>
          <a:xfrm>
            <a:off x="890280" y="2567160"/>
            <a:ext cx="30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rzykł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Tesco leży w kwadracie 2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rostokąt 2"/>
          <p:cNvSpPr/>
          <p:nvPr/>
        </p:nvSpPr>
        <p:spPr>
          <a:xfrm>
            <a:off x="1042920" y="260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 określenia położenia punktu na płaszczyźnie używamy prostokątnego układu współrzęd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ole tekstowe 9"/>
          <p:cNvSpPr/>
          <p:nvPr/>
        </p:nvSpPr>
        <p:spPr>
          <a:xfrm>
            <a:off x="1042920" y="98100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rostokątny układ współrzędnych tworzą dwie prostopadłe osie liczbowe, które dzielą płaszczyznę na cztery ćwiartki.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 przecięcia się osi nazywamy początkiem układu współrzę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7" descr=""/>
          <p:cNvPicPr/>
          <p:nvPr/>
        </p:nvPicPr>
        <p:blipFill>
          <a:blip r:embed="rId4"/>
          <a:stretch/>
        </p:blipFill>
        <p:spPr>
          <a:xfrm>
            <a:off x="3852720" y="981000"/>
            <a:ext cx="4748400" cy="440856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8"/>
          <p:cNvSpPr/>
          <p:nvPr/>
        </p:nvSpPr>
        <p:spPr>
          <a:xfrm>
            <a:off x="1150920" y="5292000"/>
            <a:ext cx="77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ierwszą liczbą  jest  współrzędna x, którą odczytujemy na osi poziomej x (oś odciętyc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rugą liczbą jest współrzędna y, którą odczytujemy na osi pionowej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(oś rzędnych)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rostokąt 13"/>
          <p:cNvSpPr/>
          <p:nvPr/>
        </p:nvSpPr>
        <p:spPr>
          <a:xfrm>
            <a:off x="1042920" y="3751200"/>
            <a:ext cx="28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ołożenie punktu w układzie współrzędnych określamy za pomocą współrzęd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1" i="1" lang="pl-PL" sz="1800" spc="-1" strike="noStrike">
                <a:solidFill>
                  <a:srgbClr val="000000"/>
                </a:solidFill>
                <a:latin typeface="Gill Sans MT"/>
              </a:rPr>
              <a:t>P=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http://www.matmana6.pl/zdjecia/szkola_srednia/geometria_analityczna/uklad_wspolrzednych_6.png"/>
          <p:cNvPicPr/>
          <p:nvPr/>
        </p:nvPicPr>
        <p:blipFill>
          <a:blip r:embed="rId1"/>
          <a:stretch/>
        </p:blipFill>
        <p:spPr>
          <a:xfrm>
            <a:off x="2914560" y="262080"/>
            <a:ext cx="3962520" cy="3273120"/>
          </a:xfrm>
          <a:prstGeom prst="rect">
            <a:avLst/>
          </a:prstGeom>
          <a:ln w="0">
            <a:noFill/>
          </a:ln>
        </p:spPr>
      </p:pic>
      <p:sp>
        <p:nvSpPr>
          <p:cNvPr id="571" name="Prostokąt 4"/>
          <p:cNvSpPr/>
          <p:nvPr/>
        </p:nvSpPr>
        <p:spPr>
          <a:xfrm>
            <a:off x="1042920" y="3645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pasuj do punktów ich współrzę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B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ole tekstowe 5"/>
          <p:cNvSpPr/>
          <p:nvPr/>
        </p:nvSpPr>
        <p:spPr>
          <a:xfrm>
            <a:off x="992520" y="189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Ćwiczeni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Grupa 5" descr=""/>
          <p:cNvPicPr/>
          <p:nvPr/>
        </p:nvPicPr>
        <p:blipFill>
          <a:blip r:embed="rId2"/>
          <a:stretch/>
        </p:blipFill>
        <p:spPr>
          <a:xfrm>
            <a:off x="184140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4" name="Grupa 8" descr=""/>
          <p:cNvPicPr/>
          <p:nvPr/>
        </p:nvPicPr>
        <p:blipFill>
          <a:blip r:embed="rId3"/>
          <a:stretch/>
        </p:blipFill>
        <p:spPr>
          <a:xfrm>
            <a:off x="1841400" y="4870440"/>
            <a:ext cx="1670040" cy="811080"/>
          </a:xfrm>
          <a:prstGeom prst="rect">
            <a:avLst/>
          </a:prstGeom>
          <a:ln w="0">
            <a:noFill/>
          </a:ln>
        </p:spPr>
      </p:pic>
      <p:pic>
        <p:nvPicPr>
          <p:cNvPr id="575" name="Grupa 14" descr=""/>
          <p:cNvPicPr/>
          <p:nvPr/>
        </p:nvPicPr>
        <p:blipFill>
          <a:blip r:embed="rId4"/>
          <a:stretch/>
        </p:blipFill>
        <p:spPr>
          <a:xfrm>
            <a:off x="1841400" y="421812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6" name="Grupa 17" descr=""/>
          <p:cNvPicPr/>
          <p:nvPr/>
        </p:nvPicPr>
        <p:blipFill>
          <a:blip r:embed="rId5"/>
          <a:stretch/>
        </p:blipFill>
        <p:spPr>
          <a:xfrm>
            <a:off x="426708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7" name="Grupa 20" descr=""/>
          <p:cNvPicPr/>
          <p:nvPr/>
        </p:nvPicPr>
        <p:blipFill>
          <a:blip r:embed="rId6"/>
          <a:stretch/>
        </p:blipFill>
        <p:spPr>
          <a:xfrm>
            <a:off x="4290840" y="4870440"/>
            <a:ext cx="1665360" cy="811080"/>
          </a:xfrm>
          <a:prstGeom prst="rect">
            <a:avLst/>
          </a:prstGeom>
          <a:ln w="0">
            <a:noFill/>
          </a:ln>
        </p:spPr>
      </p:pic>
      <p:pic>
        <p:nvPicPr>
          <p:cNvPr id="578" name="Grupa 23" descr=""/>
          <p:cNvPicPr/>
          <p:nvPr/>
        </p:nvPicPr>
        <p:blipFill>
          <a:blip r:embed="rId7"/>
          <a:stretch/>
        </p:blipFill>
        <p:spPr>
          <a:xfrm>
            <a:off x="4290840" y="4218120"/>
            <a:ext cx="1665360" cy="817560"/>
          </a:xfrm>
          <a:prstGeom prst="rect">
            <a:avLst/>
          </a:prstGeom>
          <a:ln w="0">
            <a:noFill/>
          </a:ln>
        </p:spPr>
      </p:pic>
      <p:pic>
        <p:nvPicPr>
          <p:cNvPr id="579" name="Grupa 26" descr=""/>
          <p:cNvPicPr/>
          <p:nvPr/>
        </p:nvPicPr>
        <p:blipFill>
          <a:blip r:embed="rId8"/>
          <a:stretch/>
        </p:blipFill>
        <p:spPr>
          <a:xfrm>
            <a:off x="666288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80" name="Grupa 29" descr=""/>
          <p:cNvPicPr/>
          <p:nvPr/>
        </p:nvPicPr>
        <p:blipFill>
          <a:blip r:embed="rId9"/>
          <a:stretch/>
        </p:blipFill>
        <p:spPr>
          <a:xfrm>
            <a:off x="6662880" y="4870440"/>
            <a:ext cx="1670040" cy="811080"/>
          </a:xfrm>
          <a:prstGeom prst="rect">
            <a:avLst/>
          </a:prstGeom>
          <a:ln w="0">
            <a:noFill/>
          </a:ln>
        </p:spPr>
      </p:pic>
      <p:pic>
        <p:nvPicPr>
          <p:cNvPr id="581" name="Grupa 32" descr=""/>
          <p:cNvPicPr/>
          <p:nvPr/>
        </p:nvPicPr>
        <p:blipFill>
          <a:blip r:embed="rId10"/>
          <a:stretch/>
        </p:blipFill>
        <p:spPr>
          <a:xfrm>
            <a:off x="6662880" y="4218120"/>
            <a:ext cx="1670040" cy="817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rostokąt 6"/>
          <p:cNvSpPr/>
          <p:nvPr/>
        </p:nvSpPr>
        <p:spPr>
          <a:xfrm>
            <a:off x="1041480" y="2622600"/>
            <a:ext cx="763416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Gill Sans MT"/>
              </a:rPr>
              <a:t>Zadanie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osi 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42920" y="98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4300"/>
            </a:b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względem osi x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7" descr="http://www.cauchy.pl/matura/p_2006_11_p/5/uklad_wspolrzednych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pic>
        <p:nvPicPr>
          <p:cNvPr id="585" name="Prostokąt 7" descr=""/>
          <p:cNvPicPr/>
          <p:nvPr/>
        </p:nvPicPr>
        <p:blipFill>
          <a:blip r:embed="rId3"/>
          <a:stretch/>
        </p:blipFill>
        <p:spPr>
          <a:xfrm>
            <a:off x="2828880" y="4748040"/>
            <a:ext cx="4619520" cy="2067120"/>
          </a:xfrm>
          <a:prstGeom prst="rect">
            <a:avLst/>
          </a:prstGeom>
          <a:ln w="0">
            <a:noFill/>
          </a:ln>
        </p:spPr>
      </p:pic>
      <p:sp>
        <p:nvSpPr>
          <p:cNvPr id="586" name="Elipsa 10"/>
          <p:cNvSpPr/>
          <p:nvPr/>
        </p:nvSpPr>
        <p:spPr>
          <a:xfrm>
            <a:off x="4454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lipsa 11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Elipsa 12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Elipsa 13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Elipsa 14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lipsa 15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Łącznik prosty 17"/>
          <p:cNvSpPr/>
          <p:nvPr/>
        </p:nvSpPr>
        <p:spPr>
          <a:xfrm>
            <a:off x="4492800" y="1114560"/>
            <a:ext cx="7920" cy="2601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Elipsa 18"/>
          <p:cNvSpPr/>
          <p:nvPr/>
        </p:nvSpPr>
        <p:spPr>
          <a:xfrm>
            <a:off x="445464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Łącznik prosty 20"/>
          <p:cNvSpPr/>
          <p:nvPr/>
        </p:nvSpPr>
        <p:spPr>
          <a:xfrm flipH="1">
            <a:off x="4211640" y="1063800"/>
            <a:ext cx="6480" cy="2652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Elipsa 21"/>
          <p:cNvSpPr/>
          <p:nvPr/>
        </p:nvSpPr>
        <p:spPr>
          <a:xfrm>
            <a:off x="421164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Łącznik prosty 23"/>
          <p:cNvSpPr/>
          <p:nvPr/>
        </p:nvSpPr>
        <p:spPr>
          <a:xfrm flipH="1">
            <a:off x="5003640" y="1617840"/>
            <a:ext cx="6480" cy="1595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Elipsa 24"/>
          <p:cNvSpPr/>
          <p:nvPr/>
        </p:nvSpPr>
        <p:spPr>
          <a:xfrm>
            <a:off x="5003640" y="314172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Łącznik prosty 30"/>
          <p:cNvSpPr/>
          <p:nvPr/>
        </p:nvSpPr>
        <p:spPr>
          <a:xfrm flipV="1">
            <a:off x="5573880" y="1844640"/>
            <a:ext cx="6120" cy="1090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Elipsa 33"/>
          <p:cNvSpPr/>
          <p:nvPr/>
        </p:nvSpPr>
        <p:spPr>
          <a:xfrm>
            <a:off x="5533920" y="184464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Łącznik prosty 35"/>
          <p:cNvSpPr/>
          <p:nvPr/>
        </p:nvSpPr>
        <p:spPr>
          <a:xfrm flipV="1">
            <a:off x="3700440" y="1341360"/>
            <a:ext cx="7920" cy="209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ipsa 36"/>
          <p:cNvSpPr/>
          <p:nvPr/>
        </p:nvSpPr>
        <p:spPr>
          <a:xfrm>
            <a:off x="3662280" y="1268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rostokąt 37"/>
          <p:cNvSpPr/>
          <p:nvPr/>
        </p:nvSpPr>
        <p:spPr>
          <a:xfrm>
            <a:off x="1246680" y="4438800"/>
            <a:ext cx="57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osi x są punk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rostokąt 3"/>
          <p:cNvSpPr/>
          <p:nvPr/>
        </p:nvSpPr>
        <p:spPr>
          <a:xfrm>
            <a:off x="1116000" y="189000"/>
            <a:ext cx="71280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Gill Sans MT"/>
              </a:rPr>
              <a:t>Uwaga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Punkty symetryczne względem osi x mają równe pierwsze współrzędne, a drugie współrzędne są liczbami przeciwnymi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, 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   i    P’=(x,-y)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Jeżeli punkt leży na osi x, to punktem symetrycznym do niego względem osi x jest ten sam pun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772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3900"/>
            </a:br>
            <a:r>
              <a:rPr b="1" lang="pl-PL" sz="3900" spc="-1" strike="noStrike">
                <a:solidFill>
                  <a:srgbClr val="572314"/>
                </a:solidFill>
                <a:latin typeface="Gill Sans MT"/>
              </a:rPr>
              <a:t>względem osi y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Prostokąt 2"/>
          <p:cNvSpPr/>
          <p:nvPr/>
        </p:nvSpPr>
        <p:spPr>
          <a:xfrm>
            <a:off x="1403280" y="2921040"/>
            <a:ext cx="7416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danie 2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osi 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http://www.cauchy.pl/matura/p_2006_11_p/5/uklad_wspolrzednych.gif"/>
          <p:cNvPicPr/>
          <p:nvPr/>
        </p:nvPicPr>
        <p:blipFill>
          <a:blip r:embed="rId1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sp>
        <p:nvSpPr>
          <p:cNvPr id="607" name="Elipsa 5"/>
          <p:cNvSpPr/>
          <p:nvPr/>
        </p:nvSpPr>
        <p:spPr>
          <a:xfrm>
            <a:off x="4454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Elipsa 6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Elipsa 7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lipsa 8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Elipsa 9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Elipsa 10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Łącznik prosty 13"/>
          <p:cNvSpPr/>
          <p:nvPr/>
        </p:nvSpPr>
        <p:spPr>
          <a:xfrm>
            <a:off x="4211640" y="1089000"/>
            <a:ext cx="5508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lipsa 14"/>
          <p:cNvSpPr/>
          <p:nvPr/>
        </p:nvSpPr>
        <p:spPr>
          <a:xfrm>
            <a:off x="4716360" y="1052640"/>
            <a:ext cx="46080" cy="72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Łącznik prosty 15"/>
          <p:cNvSpPr/>
          <p:nvPr/>
        </p:nvSpPr>
        <p:spPr>
          <a:xfrm flipH="1">
            <a:off x="3995640" y="1617840"/>
            <a:ext cx="1014480" cy="10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Elipsa 16"/>
          <p:cNvSpPr/>
          <p:nvPr/>
        </p:nvSpPr>
        <p:spPr>
          <a:xfrm>
            <a:off x="3924360" y="155736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Łącznik prosty 17"/>
          <p:cNvSpPr/>
          <p:nvPr/>
        </p:nvSpPr>
        <p:spPr>
          <a:xfrm flipH="1">
            <a:off x="3425400" y="2935440"/>
            <a:ext cx="21481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Elipsa 18"/>
          <p:cNvSpPr/>
          <p:nvPr/>
        </p:nvSpPr>
        <p:spPr>
          <a:xfrm>
            <a:off x="3419640" y="2924280"/>
            <a:ext cx="4572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Łącznik prosty 19"/>
          <p:cNvSpPr/>
          <p:nvPr/>
        </p:nvSpPr>
        <p:spPr>
          <a:xfrm>
            <a:off x="3708360" y="3465360"/>
            <a:ext cx="1511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Elipsa 20"/>
          <p:cNvSpPr/>
          <p:nvPr/>
        </p:nvSpPr>
        <p:spPr>
          <a:xfrm>
            <a:off x="5219640" y="342900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Elipsa 29"/>
          <p:cNvSpPr/>
          <p:nvPr/>
        </p:nvSpPr>
        <p:spPr>
          <a:xfrm>
            <a:off x="2870280" y="234936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Łącznik prosty 30"/>
          <p:cNvSpPr/>
          <p:nvPr/>
        </p:nvSpPr>
        <p:spPr>
          <a:xfrm flipH="1">
            <a:off x="2987280" y="2421000"/>
            <a:ext cx="3073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rostokąt 33"/>
          <p:cNvSpPr/>
          <p:nvPr/>
        </p:nvSpPr>
        <p:spPr>
          <a:xfrm>
            <a:off x="1116000" y="43671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osi y są punk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rostokąt 34" descr=""/>
          <p:cNvPicPr/>
          <p:nvPr/>
        </p:nvPicPr>
        <p:blipFill>
          <a:blip r:embed="rId2"/>
          <a:stretch/>
        </p:blipFill>
        <p:spPr>
          <a:xfrm>
            <a:off x="2073240" y="4681440"/>
            <a:ext cx="4619520" cy="2060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8:39:31Z</dcterms:created>
  <dc:creator>temp</dc:creator>
  <dc:description/>
  <dc:language>en-US</dc:language>
  <cp:lastModifiedBy>Ania</cp:lastModifiedBy>
  <dcterms:modified xsi:type="dcterms:W3CDTF">2013-05-27T20:44:52Z</dcterms:modified>
  <cp:revision>58</cp:revision>
  <dc:subject/>
  <dc:title>Symetrie w układzie współrzędnych</dc:title>
</cp:coreProperties>
</file>