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51.png" ContentType="image/png"/>
  <Override PartName="/ppt/media/image48.jpeg" ContentType="image/jpeg"/>
  <Override PartName="/ppt/media/image35.wmf" ContentType="image/x-wmf"/>
  <Override PartName="/ppt/media/image46.jpeg" ContentType="image/jpeg"/>
  <Override PartName="/ppt/media/image45.jpeg" ContentType="image/jpeg"/>
  <Override PartName="/ppt/media/image44.jpeg" ContentType="image/jpeg"/>
  <Override PartName="/ppt/media/image2.jpeg" ContentType="image/jpeg"/>
  <Override PartName="/ppt/media/image5.png" ContentType="image/png"/>
  <Override PartName="/ppt/media/image54.wmf" ContentType="image/x-wmf"/>
  <Override PartName="/ppt/media/image14.png" ContentType="image/png"/>
  <Override PartName="/ppt/media/image10.jpeg" ContentType="image/jpeg"/>
  <Override PartName="/ppt/media/image17.wmf" ContentType="image/x-wmf"/>
  <Override PartName="/ppt/media/image56.png" ContentType="image/png"/>
  <Override PartName="/ppt/media/image47.jpeg" ContentType="image/jpeg"/>
  <Override PartName="/ppt/media/image18.wmf" ContentType="image/x-wmf"/>
  <Override PartName="/ppt/media/image6.wmf" ContentType="image/x-wmf"/>
  <Override PartName="/ppt/media/laser.wav" ContentType="audio/x-wav"/>
  <Override PartName="/ppt/media/image25.png" ContentType="image/png"/>
  <Override PartName="/ppt/media/image29.png" ContentType="image/png"/>
  <Override PartName="/ppt/media/image32.wmf" ContentType="image/x-wmf"/>
  <Override PartName="/ppt/media/image21.jpeg" ContentType="image/jpeg"/>
  <Override PartName="/ppt/media/image4.png" ContentType="image/png"/>
  <Override PartName="/ppt/media/image16.png" ContentType="image/png"/>
  <Override PartName="/ppt/media/image49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58.jpeg" ContentType="image/jpeg"/>
  <Override PartName="/ppt/media/image57.jpeg" ContentType="image/jpeg"/>
  <Override PartName="/ppt/media/image42.jpeg" ContentType="image/jpeg"/>
  <Override PartName="/ppt/media/image59.jpeg" ContentType="image/jpeg"/>
  <Override PartName="/ppt/media/camera.wav" ContentType="audio/x-wav"/>
  <Override PartName="/ppt/media/image22.png" ContentType="image/png"/>
  <Override PartName="/ppt/media/image11.wmf" ContentType="image/x-wmf"/>
  <Override PartName="/ppt/media/image50.png" ContentType="image/png"/>
  <Override PartName="/ppt/media/image3.png" ContentType="image/png"/>
  <Override PartName="/ppt/media/image15.png" ContentType="image/png"/>
  <Override PartName="/ppt/media/image55.png" ContentType="image/png"/>
  <Override PartName="/ppt/media/image20.jpeg" ContentType="image/jpeg"/>
  <Override PartName="/ppt/media/image12.png" ContentType="image/png"/>
  <Override PartName="/ppt/media/image24.jpeg" ContentType="image/jpeg"/>
  <Override PartName="/ppt/media/image52.wmf" ContentType="image/x-wmf"/>
  <Override PartName="/ppt/media/image19.wmf" ContentType="image/x-wmf"/>
  <Override PartName="/ppt/media/image7.wmf" ContentType="image/x-wmf"/>
  <Override PartName="/ppt/media/image53.wmf" ContentType="image/x-wmf"/>
  <Override PartName="/ppt/media/image8.wmf" ContentType="image/x-wmf"/>
  <Override PartName="/ppt/media/image38.wmf" ContentType="image/x-wmf"/>
  <Override PartName="/ppt/media/image40.png" ContentType="image/png"/>
  <Override PartName="/ppt/media/carbrake.wav" ContentType="audio/x-wav"/>
  <Override PartName="/ppt/media/type.wav" ContentType="audio/x-wav"/>
  <Override PartName="/ppt/media/image9.wmf" ContentType="image/x-wmf"/>
  <Override PartName="/ppt/media/image39.wmf" ContentType="image/x-wmf"/>
  <Override PartName="/ppt/media/image26.png" ContentType="image/png"/>
  <Override PartName="/ppt/media/image27.png" ContentType="image/png"/>
  <Override PartName="/ppt/media/image33.jpeg" ContentType="image/jpeg"/>
  <Override PartName="/ppt/media/image43.jpeg" ContentType="image/jpeg"/>
  <Override PartName="/ppt/media/image28.png" ContentType="image/png"/>
  <Override PartName="/ppt/media/image31.wmf" ContentType="image/x-wmf"/>
  <Override PartName="/ppt/media/image34.wmf" ContentType="image/x-wmf"/>
  <Override PartName="/ppt/media/image36.png" ContentType="image/png"/>
  <Override PartName="/ppt/media/image23.wmf" ContentType="image/x-wmf"/>
  <Override PartName="/ppt/media/image41.jpeg" ContentType="image/jpeg"/>
  <Override PartName="/ppt/media/image13.png" ContentType="image/png"/>
  <Override PartName="/ppt/media/image1.png" ContentType="image/png"/>
  <Override PartName="/ppt/media/ricoche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8D51-1113-4D74-9310-6C43BD4CF3A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EA12-D30B-4D7C-B1FC-54D8A544B0E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C9FD-14B5-4F08-8951-F4BC470D54D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FBD3-E9FA-47DE-BFA9-4AFC03D0E91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924E-3AE9-406D-BEB7-D29F2BE0B68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84A-3A8A-4117-9477-154D6E94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2D89-F2FB-44BC-A847-41989D0A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F676-9442-4F32-8017-53C7043D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AD7-A1CC-460A-9269-F695A714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CCE8-04A0-4C69-844A-B8A5569B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6BD6-CE3C-41E6-B11D-B9601DF4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B456-6977-4025-AD67-DAB83ED8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5F94-DB89-44A1-9F0A-FB96EB0D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0B66-A46B-4DA5-BDF1-AA66396C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7335-1AC6-4022-A808-85607615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2625-3D4D-462E-9928-5FB30E08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006-1B3F-492B-AD5C-795C8311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76BE-5377-476E-AC08-5BA12534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2521-3068-48BA-9395-0C64025F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3F33-910B-477F-B176-FDB82129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CF27-217A-42FD-ACC0-7B9CE3A9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841A-E4D1-4E4B-84FE-6A3455B0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620-EE0F-4AB6-A0A7-88E44A5C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8237-A980-4E8B-9505-68A60743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C920-71DF-446F-B853-05646C31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C72-DB58-4B7F-A7B1-6ADD8406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013-5F06-4EE3-AE22-403A28D4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A02-0F08-4B84-ABDA-294B3259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54C3-CC7E-4AB1-BA27-048044BF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F346-9E4F-4B82-98B8-147B6EC4702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45F7-BCCF-48BF-ADEB-28CB778C3EA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981080" y="64008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42920" y="1341360"/>
            <a:ext cx="7107480" cy="180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Bookman Old Style"/>
              </a:rPr>
              <a:t>...ach ten procent </a:t>
            </a:r>
            <a:endParaRPr b="0" lang="en-US" sz="9600" spc="1" strike="noStrike">
              <a:ln cap="sq" w="936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299736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9600" spc="-1" strike="noStrike">
                <a:solidFill>
                  <a:srgbClr val="009999"/>
                </a:solidFill>
                <a:latin typeface="Times New Roman"/>
              </a:rPr>
              <a:t>%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4580280"/>
            <a:ext cx="72010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i="1" lang="pl-PL" sz="3200" spc="-1" strike="noStrike">
                <a:solidFill>
                  <a:srgbClr val="221304"/>
                </a:solidFill>
                <a:latin typeface="Times New Roman"/>
              </a:rPr>
              <a:t>Opracowała: mgr Emilia Pawłow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09D4-1609-4992-847E-DB5643A78058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Zamiana ułamków na procenty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Times New Roman"/>
              </a:rPr>
              <a:t>Niektóre ułamki w postaci zwykłej można rozszerzyć do mianownika 100 i potem zamienić na proc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295280" y="2895480"/>
                <a:ext cx="266724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00600" y="2895480"/>
                <a:ext cx="25909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637E-6A7B-4B6A-8394-A32E70774301}" type="slidenum">
              <a:t>10</a:t>
            </a:fld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00720" y="3933720"/>
            <a:ext cx="1566720" cy="1535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187280" y="1557360"/>
            <a:ext cx="7162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                                 </a:t>
            </a: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Monotype Corsiva"/>
              </a:rPr>
              <a:t>Czy każdy ułamek w postaci zwykłej da się rozszerzyć do mianownika 100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8B72-7A0F-402D-8ED3-1326EE0E9DF9}" type="slidenum">
              <a:t>11</a:t>
            </a:fld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Oczywiście nie każdy ułamek zwykły da się rozszerzyć do mianownika 100. Wówczas należy zastosować sposób drugi.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692280"/>
            <a:ext cx="24681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Sposób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64000" y="3357720"/>
            <a:ext cx="2664000" cy="264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5CCB-13EF-47FF-BE0B-CEAB6FAE300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140360" y="4292640"/>
                <a:ext cx="407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140360" y="90792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Monotype Corsiva"/>
              </a:rPr>
              <a:t>Aby liczbę zamienić na procent, należ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Monotype Corsiva"/>
              </a:rPr>
              <a:t>tę liczbę pomnożyć przez 1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Monotype Corsiva"/>
              </a:rPr>
              <a:t>i dopisać symbol</a:t>
            </a: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03280" y="3860640"/>
            <a:ext cx="54594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1</a:t>
            </a:r>
            <a:br>
              <a:rPr sz="2800"/>
            </a:b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Zamień liczbę         na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116000" y="5373720"/>
                <a:ext cx="7056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BD0-2449-49D2-8215-7D3705E1105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zykład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47640" y="1798560"/>
            <a:ext cx="69120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6B6-C777-4B55-8323-5A20111FEF1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miana procentu na ułamek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ocenty zamieniamy na ułamki zwykłe pisząc w liczniku liczbę procentów, a w mianowniku 10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óźniej oczywiście można taki ułamek skrócić, lub zamienić na ułamek miesz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3889440" cy="291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4C3-0D5C-4124-A85E-965910A00F2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21164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procent zamienić na liczbę, należy liczbę wyrażającą procent podzielić przez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49440" y="3716280"/>
            <a:ext cx="47084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2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pisz w postaci ułamka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619280" y="5084640"/>
                <a:ext cx="5184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42C6-1047-43B3-8C95-CF175470726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zamienić procenty na ułamek dziesiętny, wystarczy przesunąć przecinek o dwa miejsca w lewo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473440" cy="36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697-5CAE-4EE2-9761-32BB76F1BA4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4" name="" descr="Procenty."/>
          <p:cNvPicPr/>
          <p:nvPr/>
        </p:nvPicPr>
        <p:blipFill>
          <a:blip r:embed="rId1"/>
          <a:stretch/>
        </p:blipFill>
        <p:spPr>
          <a:xfrm>
            <a:off x="1042920" y="2060640"/>
            <a:ext cx="7620120" cy="679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08120" y="2772720"/>
            <a:ext cx="592632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 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procenty na ułamki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Procenty."/>
          <p:cNvPicPr/>
          <p:nvPr/>
        </p:nvPicPr>
        <p:blipFill>
          <a:blip r:embed="rId2"/>
          <a:stretch/>
        </p:blipFill>
        <p:spPr>
          <a:xfrm>
            <a:off x="971640" y="4653000"/>
            <a:ext cx="7632720" cy="576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187280" y="476280"/>
            <a:ext cx="712800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ułamki na procent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5495-4B6A-4F2A-9ACF-C71B81AAF67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1676520"/>
            <a:ext cx="77724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Diagram to po grecku znaczy wykres. Na diagramie można pokazać nie tylko podział na części  i udział tych części w całości. Diagramem wygodnie jest, również zilustrować rozkład wyników przeprowadzonego doświadczenia, wyników ankiety, porównać częstość występowania pewnego zdarzenia w różnych środowisk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Przykłady diagram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prostokąt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4952880"/>
            <a:ext cx="1066680" cy="12193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4952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541008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541008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4952880"/>
            <a:ext cx="129528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562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548640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48320" y="5334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4292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koł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4876920"/>
            <a:ext cx="457200" cy="12189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5257800"/>
            <a:ext cx="457200" cy="8380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5562720"/>
            <a:ext cx="53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54864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42926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słup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4402-65A7-4861-A952-69F4F37DE3E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Spis treśc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Pojęcie procentu. Zamiana procentu na ułame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     </a:t>
            </a: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i odwrot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Odczytywanie diagramów procentow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Obliczanie procentu danej liczby i liczby, gdy dany jest jej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Obliczanie, jakim procentem jednej liczby jest druga licz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Wykorzystanie kalkulatora do obliczeń procentow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D5F-5073-45E9-A7FF-0C98702BACE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9140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99"/>
                </a:solidFill>
                <a:latin typeface="Times New Roman"/>
              </a:rPr>
              <a:t>W sadzie o powierzchni 1 ha rośnie 3000 drzew w tym 40% jabłoni, 25% grusz, 15% śliw, 10% wiśni i 10% czereśni. Informacje te można przedstawić za pomocą różnego rodzaju diagramów procentowych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19280" y="1989000"/>
            <a:ext cx="3139920" cy="1923840"/>
            <a:chOff x="1619280" y="1989000"/>
            <a:chExt cx="3139920" cy="1923840"/>
          </a:xfrm>
        </p:grpSpPr>
        <p:grpSp>
          <p:nvGrpSpPr>
            <p:cNvPr id="208" name=""/>
            <p:cNvGrpSpPr/>
            <p:nvPr/>
          </p:nvGrpSpPr>
          <p:grpSpPr>
            <a:xfrm>
              <a:off x="1619280" y="2050200"/>
              <a:ext cx="867960" cy="168120"/>
              <a:chOff x="1619280" y="2050200"/>
              <a:chExt cx="867960" cy="168120"/>
            </a:xfrm>
          </p:grpSpPr>
          <p:sp>
            <p:nvSpPr>
              <p:cNvPr id="209" name=""/>
              <p:cNvSpPr/>
              <p:nvPr/>
            </p:nvSpPr>
            <p:spPr>
              <a:xfrm>
                <a:off x="161928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949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72440" y="2050200"/>
                <a:ext cx="1616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14524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2272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2498760" y="2050200"/>
              <a:ext cx="867960" cy="168120"/>
              <a:chOff x="2498760" y="2050200"/>
              <a:chExt cx="867960" cy="168120"/>
            </a:xfrm>
          </p:grpSpPr>
          <p:sp>
            <p:nvSpPr>
              <p:cNvPr id="215" name=""/>
              <p:cNvSpPr/>
              <p:nvPr/>
            </p:nvSpPr>
            <p:spPr>
              <a:xfrm>
                <a:off x="249876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733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5084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025800" y="2050200"/>
                <a:ext cx="16488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20220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619280" y="2230560"/>
              <a:ext cx="867960" cy="168480"/>
              <a:chOff x="1619280" y="2230560"/>
              <a:chExt cx="867960" cy="168480"/>
            </a:xfrm>
          </p:grpSpPr>
          <p:sp>
            <p:nvSpPr>
              <p:cNvPr id="221" name=""/>
              <p:cNvSpPr/>
              <p:nvPr/>
            </p:nvSpPr>
            <p:spPr>
              <a:xfrm>
                <a:off x="161928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7949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72440" y="2230560"/>
                <a:ext cx="1616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14524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2272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498760" y="2230560"/>
              <a:ext cx="867960" cy="168480"/>
              <a:chOff x="2498760" y="2230560"/>
              <a:chExt cx="867960" cy="168480"/>
            </a:xfrm>
          </p:grpSpPr>
          <p:sp>
            <p:nvSpPr>
              <p:cNvPr id="227" name=""/>
              <p:cNvSpPr/>
              <p:nvPr/>
            </p:nvSpPr>
            <p:spPr>
              <a:xfrm>
                <a:off x="249876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6733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5084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025800" y="2230560"/>
                <a:ext cx="16488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20220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1619280" y="2411640"/>
              <a:ext cx="867960" cy="166680"/>
              <a:chOff x="1619280" y="2411640"/>
              <a:chExt cx="867960" cy="166680"/>
            </a:xfrm>
          </p:grpSpPr>
          <p:sp>
            <p:nvSpPr>
              <p:cNvPr id="233" name=""/>
              <p:cNvSpPr/>
              <p:nvPr/>
            </p:nvSpPr>
            <p:spPr>
              <a:xfrm>
                <a:off x="161928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7949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972440" y="2411640"/>
                <a:ext cx="1616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14524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32272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2498760" y="2411640"/>
              <a:ext cx="867960" cy="166680"/>
              <a:chOff x="2498760" y="2411640"/>
              <a:chExt cx="867960" cy="166680"/>
            </a:xfrm>
          </p:grpSpPr>
          <p:sp>
            <p:nvSpPr>
              <p:cNvPr id="239" name=""/>
              <p:cNvSpPr/>
              <p:nvPr/>
            </p:nvSpPr>
            <p:spPr>
              <a:xfrm>
                <a:off x="249876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733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5084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25800" y="2411640"/>
                <a:ext cx="16488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0220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1619280" y="2590920"/>
              <a:ext cx="867960" cy="165960"/>
              <a:chOff x="1619280" y="2590920"/>
              <a:chExt cx="867960" cy="165960"/>
            </a:xfrm>
          </p:grpSpPr>
          <p:sp>
            <p:nvSpPr>
              <p:cNvPr id="245" name=""/>
              <p:cNvSpPr/>
              <p:nvPr/>
            </p:nvSpPr>
            <p:spPr>
              <a:xfrm>
                <a:off x="161928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949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72440" y="2590920"/>
                <a:ext cx="1616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14524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2272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498760" y="2590920"/>
              <a:ext cx="867960" cy="165960"/>
              <a:chOff x="2498760" y="2590920"/>
              <a:chExt cx="867960" cy="165960"/>
            </a:xfrm>
          </p:grpSpPr>
          <p:sp>
            <p:nvSpPr>
              <p:cNvPr id="251" name=""/>
              <p:cNvSpPr/>
              <p:nvPr/>
            </p:nvSpPr>
            <p:spPr>
              <a:xfrm>
                <a:off x="249876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733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85084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025800" y="2590920"/>
                <a:ext cx="16488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0220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619280" y="2950920"/>
              <a:ext cx="867960" cy="165600"/>
              <a:chOff x="1619280" y="2950920"/>
              <a:chExt cx="867960" cy="165600"/>
            </a:xfrm>
          </p:grpSpPr>
          <p:sp>
            <p:nvSpPr>
              <p:cNvPr id="257" name=""/>
              <p:cNvSpPr/>
              <p:nvPr/>
            </p:nvSpPr>
            <p:spPr>
              <a:xfrm>
                <a:off x="161928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7949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72440" y="2950920"/>
                <a:ext cx="1616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4524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2272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498760" y="2770200"/>
              <a:ext cx="867960" cy="167040"/>
              <a:chOff x="2498760" y="2770200"/>
              <a:chExt cx="867960" cy="167040"/>
            </a:xfrm>
          </p:grpSpPr>
          <p:sp>
            <p:nvSpPr>
              <p:cNvPr id="263" name=""/>
              <p:cNvSpPr/>
              <p:nvPr/>
            </p:nvSpPr>
            <p:spPr>
              <a:xfrm>
                <a:off x="249876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6733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85084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25800" y="2770200"/>
                <a:ext cx="16488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20220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619280" y="2770200"/>
              <a:ext cx="867960" cy="167040"/>
              <a:chOff x="1619280" y="2770200"/>
              <a:chExt cx="867960" cy="167040"/>
            </a:xfrm>
          </p:grpSpPr>
          <p:sp>
            <p:nvSpPr>
              <p:cNvPr id="269" name=""/>
              <p:cNvSpPr/>
              <p:nvPr/>
            </p:nvSpPr>
            <p:spPr>
              <a:xfrm>
                <a:off x="161928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7949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72440" y="277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4524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2272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619280" y="3130200"/>
              <a:ext cx="867960" cy="167040"/>
              <a:chOff x="1619280" y="3130200"/>
              <a:chExt cx="867960" cy="167040"/>
            </a:xfrm>
          </p:grpSpPr>
          <p:sp>
            <p:nvSpPr>
              <p:cNvPr id="275" name=""/>
              <p:cNvSpPr/>
              <p:nvPr/>
            </p:nvSpPr>
            <p:spPr>
              <a:xfrm>
                <a:off x="161928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79496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72440" y="313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4524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2272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2498760" y="2950920"/>
              <a:ext cx="867960" cy="165600"/>
              <a:chOff x="2498760" y="2950920"/>
              <a:chExt cx="867960" cy="165600"/>
            </a:xfrm>
          </p:grpSpPr>
          <p:sp>
            <p:nvSpPr>
              <p:cNvPr id="281" name=""/>
              <p:cNvSpPr/>
              <p:nvPr/>
            </p:nvSpPr>
            <p:spPr>
              <a:xfrm>
                <a:off x="249876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733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85084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25800" y="2950920"/>
                <a:ext cx="16488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0220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498760" y="3130200"/>
              <a:ext cx="867960" cy="167040"/>
              <a:chOff x="2498760" y="3130200"/>
              <a:chExt cx="867960" cy="167040"/>
            </a:xfrm>
          </p:grpSpPr>
          <p:sp>
            <p:nvSpPr>
              <p:cNvPr id="287" name=""/>
              <p:cNvSpPr/>
              <p:nvPr/>
            </p:nvSpPr>
            <p:spPr>
              <a:xfrm>
                <a:off x="249876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73360" y="3130200"/>
                <a:ext cx="16596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5084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025800" y="3130200"/>
                <a:ext cx="16488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02200" y="3130200"/>
                <a:ext cx="16452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619280" y="3310920"/>
              <a:ext cx="867960" cy="165600"/>
              <a:chOff x="1619280" y="3310920"/>
              <a:chExt cx="867960" cy="165600"/>
            </a:xfrm>
          </p:grpSpPr>
          <p:sp>
            <p:nvSpPr>
              <p:cNvPr id="293" name=""/>
              <p:cNvSpPr/>
              <p:nvPr/>
            </p:nvSpPr>
            <p:spPr>
              <a:xfrm>
                <a:off x="161928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949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2440" y="3310920"/>
                <a:ext cx="1616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4524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32272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498760" y="3310920"/>
              <a:ext cx="867960" cy="165600"/>
              <a:chOff x="2498760" y="3310920"/>
              <a:chExt cx="867960" cy="165600"/>
            </a:xfrm>
          </p:grpSpPr>
          <p:sp>
            <p:nvSpPr>
              <p:cNvPr id="299" name=""/>
              <p:cNvSpPr/>
              <p:nvPr/>
            </p:nvSpPr>
            <p:spPr>
              <a:xfrm>
                <a:off x="249876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6733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85084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025800" y="3310920"/>
                <a:ext cx="16488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0220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498760" y="3669480"/>
              <a:ext cx="867960" cy="168120"/>
              <a:chOff x="2498760" y="3669480"/>
              <a:chExt cx="867960" cy="168120"/>
            </a:xfrm>
          </p:grpSpPr>
          <p:sp>
            <p:nvSpPr>
              <p:cNvPr id="305" name=""/>
              <p:cNvSpPr/>
              <p:nvPr/>
            </p:nvSpPr>
            <p:spPr>
              <a:xfrm>
                <a:off x="249876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6733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5084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025800" y="3669480"/>
                <a:ext cx="16488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20220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498760" y="3490200"/>
              <a:ext cx="867960" cy="167040"/>
              <a:chOff x="2498760" y="3490200"/>
              <a:chExt cx="867960" cy="167040"/>
            </a:xfrm>
          </p:grpSpPr>
          <p:sp>
            <p:nvSpPr>
              <p:cNvPr id="311" name=""/>
              <p:cNvSpPr/>
              <p:nvPr/>
            </p:nvSpPr>
            <p:spPr>
              <a:xfrm>
                <a:off x="249876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6733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5084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25800" y="3490200"/>
                <a:ext cx="16488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20220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1619280" y="3490200"/>
              <a:ext cx="867960" cy="167040"/>
              <a:chOff x="1619280" y="3490200"/>
              <a:chExt cx="867960" cy="167040"/>
            </a:xfrm>
          </p:grpSpPr>
          <p:sp>
            <p:nvSpPr>
              <p:cNvPr id="317" name=""/>
              <p:cNvSpPr/>
              <p:nvPr/>
            </p:nvSpPr>
            <p:spPr>
              <a:xfrm>
                <a:off x="161928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7949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72440" y="3490200"/>
                <a:ext cx="1616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4524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2272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1619280" y="3669480"/>
              <a:ext cx="867960" cy="168120"/>
              <a:chOff x="1619280" y="3669480"/>
              <a:chExt cx="867960" cy="168120"/>
            </a:xfrm>
          </p:grpSpPr>
          <p:sp>
            <p:nvSpPr>
              <p:cNvPr id="323" name=""/>
              <p:cNvSpPr/>
              <p:nvPr/>
            </p:nvSpPr>
            <p:spPr>
              <a:xfrm>
                <a:off x="161928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949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72440" y="3669480"/>
                <a:ext cx="1616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14524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32272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3621240" y="2360880"/>
              <a:ext cx="171360" cy="173160"/>
            </a:xfrm>
            <a:prstGeom prst="rect">
              <a:avLst/>
            </a:prstGeom>
            <a:solidFill>
              <a:srgbClr val="221304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21240" y="2670120"/>
              <a:ext cx="171360" cy="1746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21240" y="2982600"/>
              <a:ext cx="171360" cy="172800"/>
            </a:xfrm>
            <a:prstGeom prst="rect">
              <a:avLst/>
            </a:prstGeom>
            <a:solidFill>
              <a:srgbClr val="3694b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21240" y="3352680"/>
              <a:ext cx="171360" cy="174600"/>
            </a:xfrm>
            <a:prstGeom prst="rect">
              <a:avLst/>
            </a:prstGeom>
            <a:solidFill>
              <a:srgbClr val="ff33ff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21240" y="3663360"/>
              <a:ext cx="171360" cy="1746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44800" y="1989000"/>
              <a:ext cx="481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85040" y="2272680"/>
              <a:ext cx="884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jabło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84680" y="2586240"/>
              <a:ext cx="74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grus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84680" y="2919600"/>
              <a:ext cx="62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śli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85040" y="32659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wi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86120" y="3576960"/>
              <a:ext cx="97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czere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9" name=""/>
          <p:cNvGraphicFramePr/>
          <p:nvPr/>
        </p:nvGraphicFramePr>
        <p:xfrm>
          <a:off x="5168880" y="2057400"/>
          <a:ext cx="28447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2057400"/>
                    <a:ext cx="28447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2411280" y="4005360"/>
          <a:ext cx="4969080" cy="23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4005360"/>
                    <a:ext cx="496908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ED1-3C1B-4E1B-B18C-F63EF6D0BEC6}" type="slidenum">
              <a:t>20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1835280" y="2924280"/>
          <a:ext cx="6019560" cy="31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924280"/>
                    <a:ext cx="6019560" cy="3147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18920" y="1412640"/>
            <a:ext cx="7296120" cy="15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Times New Roman"/>
              </a:rPr>
              <a:t>a) jaki smak lodów cieszył się największym powodzeniem? </a:t>
            </a:r>
            <a:br>
              <a:rPr sz="2000"/>
            </a:br>
            <a:r>
              <a:rPr b="1" i="1" lang="pl-PL" sz="2000" spc="-1" strike="noStrike">
                <a:solidFill>
                  <a:srgbClr val="ff9900"/>
                </a:solidFill>
                <a:latin typeface="Times New Roman"/>
              </a:rPr>
              <a:t>b) ile litrów lodów każdego rodzaju sprzedano? </a:t>
            </a:r>
            <a:br>
              <a:rPr sz="2000"/>
            </a:br>
            <a:r>
              <a:rPr b="1" i="1" lang="pl-PL" sz="2000" spc="-1" strike="noStrike">
                <a:solidFill>
                  <a:srgbClr val="008080"/>
                </a:solidFill>
                <a:latin typeface="Times New Roman"/>
              </a:rPr>
              <a:t>c) o ile więcej litrów sprzedano lodów waniliowych niż wiśniowych?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7280" y="476280"/>
            <a:ext cx="7129800" cy="1678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W budce z lodami sprzedano 120 litrów lod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Na podstawie wykresu odpowiedz na pytania: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E21-F340-4016-81CA-48C4425FEF99}" type="slidenum">
              <a:t>21</a:t>
            </a:fld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Times New Roman"/>
              </a:rPr>
              <a:t>czekoladow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99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9900"/>
                </a:solidFill>
                <a:latin typeface="Times New Roman"/>
              </a:rPr>
              <a:t>18 l;  30 l; 24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808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8080"/>
                </a:solidFill>
                <a:latin typeface="Times New Roman"/>
              </a:rPr>
              <a:t>o 6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08160" y="765000"/>
            <a:ext cx="4286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          </a:t>
            </a: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D2C-6C40-4D91-9860-C75BB74CB3D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600200" y="692280"/>
            <a:ext cx="7002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Załóżmy, że rok kalendarzowy ma 360 dni. Diagram przedstawia podział roku kalendarzow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               </a:t>
            </a:r>
            <a:r>
              <a:rPr b="1" lang="pl-PL" sz="2400" spc="-1" strike="noStrike">
                <a:solidFill>
                  <a:srgbClr val="a1bd69"/>
                </a:solidFill>
                <a:latin typeface="Times New Roman"/>
              </a:rPr>
              <a:t>Odpowiedz na pytania:</a:t>
            </a:r>
            <a:br>
              <a:rPr sz="2400"/>
            </a:br>
            <a:r>
              <a:rPr b="1" lang="pl-PL" sz="2400" spc="-1" strike="noStrike">
                <a:solidFill>
                  <a:srgbClr val="009900"/>
                </a:solidFill>
                <a:latin typeface="Monotype Corsiva"/>
              </a:rPr>
              <a:t>a) ile dni trwają zajęcia lekcyjne, a ile wakacje?</a:t>
            </a:r>
            <a:br>
              <a:rPr sz="2400"/>
            </a:br>
            <a:r>
              <a:rPr b="1" lang="pl-PL" sz="2400" spc="-1" strike="noStrike">
                <a:solidFill>
                  <a:srgbClr val="800000"/>
                </a:solidFill>
                <a:latin typeface="Monotype Corsiva"/>
              </a:rPr>
              <a:t>b) </a:t>
            </a:r>
            <a:r>
              <a:rPr b="1" lang="pl-PL" sz="2400" spc="-1" strike="noStrike">
                <a:solidFill>
                  <a:srgbClr val="660066"/>
                </a:solidFill>
                <a:latin typeface="Monotype Corsiva"/>
              </a:rPr>
              <a:t>przez ile dni przebywasz poza szkołą?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Monotype Corsiva"/>
              </a:rPr>
              <a:t>c) jakim procentem zajęć lekcyjnych są wakac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331280" y="3357720"/>
            <a:ext cx="6525360" cy="2806560"/>
            <a:chOff x="1331280" y="3357720"/>
            <a:chExt cx="6525360" cy="2806560"/>
          </a:xfrm>
        </p:grpSpPr>
        <p:sp>
          <p:nvSpPr>
            <p:cNvPr id="353" name=""/>
            <p:cNvSpPr/>
            <p:nvPr/>
          </p:nvSpPr>
          <p:spPr>
            <a:xfrm>
              <a:off x="1331280" y="3357720"/>
              <a:ext cx="249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5632560" y="3757680"/>
              <a:ext cx="2224080" cy="397440"/>
              <a:chOff x="5632560" y="3757680"/>
              <a:chExt cx="2224080" cy="397440"/>
            </a:xfrm>
          </p:grpSpPr>
          <p:sp>
            <p:nvSpPr>
              <p:cNvPr id="355" name=""/>
              <p:cNvSpPr/>
              <p:nvPr/>
            </p:nvSpPr>
            <p:spPr>
              <a:xfrm>
                <a:off x="5995080" y="3757680"/>
                <a:ext cx="1861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Zajęcia szkol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32560" y="3834000"/>
                <a:ext cx="220320" cy="221760"/>
              </a:xfrm>
              <a:prstGeom prst="rect">
                <a:avLst/>
              </a:prstGeom>
              <a:gradFill rotWithShape="0">
                <a:gsLst>
                  <a:gs pos="0">
                    <a:srgbClr val="221304"/>
                  </a:gs>
                  <a:gs pos="100000">
                    <a:srgbClr val="00ff66"/>
                  </a:gs>
                </a:gsLst>
                <a:lin ang="13500000"/>
              </a:gra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703600" y="3827520"/>
              <a:ext cx="4743720" cy="2336760"/>
              <a:chOff x="2703600" y="3827520"/>
              <a:chExt cx="4743720" cy="233676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2703600" y="3827520"/>
                <a:ext cx="2320920" cy="2336760"/>
                <a:chOff x="2703600" y="3827520"/>
                <a:chExt cx="2320920" cy="23367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340380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93688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17016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87036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33728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57056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80384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63708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70360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10364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40380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93688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17016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87036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33728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57056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80384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63708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70360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10364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40380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93688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17016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87036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33728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57056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80384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63708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70360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10364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40380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93688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317016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87036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33728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57056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80384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63708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70360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10364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40380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93688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17016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87036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33728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57056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80384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63708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360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10364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340380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93688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17016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87036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33728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57056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80384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63708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70360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10364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40380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93688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17016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87036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33728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57056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80384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63708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70360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10364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40380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93688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17016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87036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33728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57056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80384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63708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70360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10364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40380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93688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17016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87036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33728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57056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80384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63708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70360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10364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40380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93688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17016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036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33728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57056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80384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63708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70360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10364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5632560" y="4305600"/>
                <a:ext cx="1814760" cy="397440"/>
                <a:chOff x="5632560" y="4305600"/>
                <a:chExt cx="1814760" cy="3974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5632560" y="4382280"/>
                  <a:ext cx="21996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994360" y="4305600"/>
                  <a:ext cx="1452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Poza szkołą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5632560" y="4775760"/>
                <a:ext cx="1433880" cy="397440"/>
                <a:chOff x="5632560" y="4775760"/>
                <a:chExt cx="1433880" cy="3974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5632560" y="4852440"/>
                  <a:ext cx="22032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918400" y="4775760"/>
                  <a:ext cx="1148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akacj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DA3-65B2-40A9-843F-5B5B601C95A7}" type="slidenum">
              <a:t>23</a:t>
            </a:fld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76320" y="268272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 CE"/>
              </a:rPr>
              <a:t>b)  108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41840" y="350028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 CE"/>
              </a:rPr>
              <a:t>c)  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544920" y="189072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Times New Roman CE"/>
              </a:rPr>
              <a:t>a)  180 dni; 72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116000" y="3435480"/>
            <a:ext cx="4103640" cy="30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CC9-290D-4703-8CEF-3A5AB2BCA98D}" type="slidenum">
              <a:t>24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danie 3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czniowie klas pierwszych pew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gimnazjum przedstawili swoje preferen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zorów na ubraniach w postaci diagram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edstawionego poniże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932360" y="3284640"/>
            <a:ext cx="3960720" cy="237636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042920" y="4869000"/>
            <a:ext cx="4627800" cy="164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 podstawie diagramu określ, które zdanie jest fałszyw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B999-E3DE-40E9-978F-E90979B928E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42560" y="3141720"/>
            <a:ext cx="762012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0% uczniów lubi inne desenie niż kratki, kropki i pas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mniej niż połowy uczniów są kropk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ięcej niż połowa uczniów lubi ubrania we wzor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więcej niż połowy uczniów są kratki lub pas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4897440" cy="306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3B2-4DA7-4846-8E7F-2FF11266D26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cc66"/>
                </a:solidFill>
                <a:latin typeface="Times New Roman"/>
              </a:rPr>
              <a:t>Diagram procentowy przedstawia wyniki wyborów prezesa klubu sportowego, który liczy 800 członków.</a:t>
            </a:r>
            <a:br>
              <a:rPr sz="2400"/>
            </a:br>
            <a:br>
              <a:rPr sz="2400"/>
            </a:br>
            <a:r>
              <a:rPr b="1" i="1" lang="pl-PL" sz="2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i="1" lang="pl-PL" sz="2400" spc="-1" strike="noStrike">
                <a:solidFill>
                  <a:srgbClr val="ff3300"/>
                </a:solidFill>
                <a:latin typeface="Monotype Corsiva"/>
              </a:rPr>
              <a:t>) Ilu członków klubu nie wzięło udziału w głosowaniu?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b) O ilu wyborców więcej głosowało na pana Piotra niż na 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pana Karola?</a:t>
            </a:r>
            <a:br>
              <a:rPr sz="2400"/>
            </a:br>
            <a:r>
              <a:rPr b="1" i="1" lang="pl-PL" sz="2400" spc="-1" strike="noStrike">
                <a:solidFill>
                  <a:srgbClr val="cccc00"/>
                </a:solidFill>
                <a:latin typeface="Monotype Corsiva"/>
              </a:rPr>
              <a:t>c) Czy L. Pan Karol wygrałby wybory gdyby przekonał do siebie połowę nie biorących udziału w głosowaniu?</a:t>
            </a:r>
            <a:br>
              <a:rPr sz="2400"/>
            </a:b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908000" y="3213000"/>
          <a:ext cx="617220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61722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AA23-D1EE-429C-976E-0CD28A3F0130}" type="slidenum">
              <a:t>27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00808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14200" y="2349360"/>
            <a:ext cx="28584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a) 16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4200" y="3573360"/>
            <a:ext cx="30290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b) o 8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04360" y="4581360"/>
            <a:ext cx="1469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c) 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412000" y="692280"/>
            <a:ext cx="2884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321156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6AA3-D2A6-4085-BE58-F2988D4CCFC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3673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ane te przedstaw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iagramie procentowym. Dołącz dane o Twojej szko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yjmij, że dotyczą one lat zwykłych (365 dn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Procenty flagi dni.gif"/>
          <p:cNvPicPr/>
          <p:nvPr/>
        </p:nvPicPr>
        <p:blipFill>
          <a:blip r:embed="rId1"/>
          <a:stretch/>
        </p:blipFill>
        <p:spPr>
          <a:xfrm>
            <a:off x="4643280" y="1989000"/>
            <a:ext cx="4246560" cy="38941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187280" y="404640"/>
            <a:ext cx="741708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orzystając z  ilustracji odczytaj ile godzin i 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ni spędzają uczniowie w szk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80BD-2472-4E1B-ACFE-CC9EFAE22DD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1773000"/>
            <a:ext cx="45720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Wśród ułamków duże znaczenie, zwłaszcza w życiu codziennym, mają ułamki dziesiętne o mianowniku 100. Ułamki te nazywają się procentam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rocent oznaczamy symbolem</a:t>
            </a:r>
            <a:br>
              <a:rPr sz="2800"/>
            </a:br>
            <a:r>
              <a:rPr b="1" i="1" lang="pl-PL" sz="3600" spc="-1" strike="noStrike">
                <a:solidFill>
                  <a:srgbClr val="0000cc"/>
                </a:solidFill>
                <a:latin typeface="Monotype Corsiva"/>
              </a:rPr>
              <a:t>%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899640" y="33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Co to jest procent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1700280"/>
            <a:ext cx="159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% 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2492280"/>
            <a:ext cx="159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% 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3573360"/>
            <a:ext cx="159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% 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7080" y="4724280"/>
            <a:ext cx="159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% 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2C72-DED0-49CC-AFE7-B07D7A5A0D14}" type="slidenum">
              <a:t>3</a:t>
            </a:fld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30243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Marysia, która bardzo lub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owoce i sery, z pirami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ybrała sobie taki zesta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dzienn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6 porcji - chleb, ryż, maka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jarzy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4 porcje - owo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mleko, jogurt, 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2 porcje - mięso, jajka, drób, ryb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 sumie mamy 6+3+4+3+2 =1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porcji. Sześć porcji przypada 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chleb, ryż i makaron. Ile to procent 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              ≈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0,33 = 3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Procenty piramida.gif"/>
          <p:cNvPicPr/>
          <p:nvPr/>
        </p:nvPicPr>
        <p:blipFill>
          <a:blip r:embed="rId1"/>
          <a:stretch/>
        </p:blipFill>
        <p:spPr>
          <a:xfrm>
            <a:off x="3708360" y="1773360"/>
            <a:ext cx="4896000" cy="43765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\frac{6}{18} "/>
          <p:cNvPicPr/>
          <p:nvPr/>
        </p:nvPicPr>
        <p:blipFill>
          <a:blip r:embed="rId2"/>
          <a:stretch/>
        </p:blipFill>
        <p:spPr>
          <a:xfrm>
            <a:off x="1763640" y="5589720"/>
            <a:ext cx="314280" cy="6476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1476360" y="476280"/>
            <a:ext cx="65516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dstawmy dane z piramidy zdrowego odżywiania w postaci procen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986B-CF93-4877-958F-D2B3588E5CB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71280" y="476280"/>
            <a:ext cx="41749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2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kończ procentowy diagr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zedstawiający zdrow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, wybrany przez Marysi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Wybierz dla Ciebie najleps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 jedzenia, który będz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godny z piramidą zdr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odżywiania. Przedstaw go 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ocentowym diagramie.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Procenty def piramida.svg"/>
          <p:cNvPicPr/>
          <p:nvPr/>
        </p:nvPicPr>
        <p:blipFill>
          <a:blip r:embed="rId1"/>
          <a:stretch/>
        </p:blipFill>
        <p:spPr>
          <a:xfrm>
            <a:off x="4859280" y="1413000"/>
            <a:ext cx="3889440" cy="41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A79-4833-4111-9345-0C1DAC64ECE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Obliczanie procentu danej liczby.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zamieniamy </a:t>
            </a:r>
            <a:r>
              <a:rPr b="1" i="1" lang="pl-PL" sz="3200" spc="-1" strike="noStrike">
                <a:solidFill>
                  <a:srgbClr val="ff0000"/>
                </a:solidFill>
                <a:latin typeface="Times New Roman"/>
              </a:rPr>
              <a:t>procent</a:t>
            </a: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 na ułam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ułamek mnożymy przez liczb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procenty"/>
          <p:cNvPicPr/>
          <p:nvPr/>
        </p:nvPicPr>
        <p:blipFill>
          <a:blip r:embed="rId1"/>
          <a:stretch/>
        </p:blipFill>
        <p:spPr>
          <a:xfrm>
            <a:off x="1476360" y="2997360"/>
            <a:ext cx="2448000" cy="12398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procent"/>
          <p:cNvPicPr/>
          <p:nvPr/>
        </p:nvPicPr>
        <p:blipFill>
          <a:blip r:embed="rId2"/>
          <a:stretch/>
        </p:blipFill>
        <p:spPr>
          <a:xfrm>
            <a:off x="1476360" y="4508640"/>
            <a:ext cx="2592360" cy="125064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4716360" y="3284640"/>
            <a:ext cx="3743280" cy="21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AA30-E11C-4545-817A-70B65D8DCCB8}" type="slidenum">
              <a:t>32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4356000" y="907920"/>
            <a:ext cx="4127760" cy="2376720"/>
          </a:xfrm>
          <a:prstGeom prst="wedgeRoundRectCallout">
            <a:avLst>
              <a:gd name="adj1" fmla="val -86078"/>
              <a:gd name="adj2" fmla="val 90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obliczyć procent danej liczby, należy tę liczbę pomnożyć przez ten pro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92360" y="3860640"/>
            <a:ext cx="4572000" cy="159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3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 15% liczb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88560" y="5084640"/>
            <a:ext cx="7357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15% · 2000= 0,15 · 2000 =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88C-D9F2-4EDB-90AF-AC57245909A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692280"/>
            <a:ext cx="4572000" cy="411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Oblicz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) 15% liczby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b) 7% liczby 12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6372360" y="3645000"/>
            <a:ext cx="2314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55AA-18B2-48E7-AF7E-1CEBB4B81127}" type="slidenum">
              <a:t>34</a:t>
            </a:fld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Przykładowe zadania 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Przykła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klasie 1a jest 30 uczniów, dziewczęta stanowią 40% całej klasy, ilu jest chłopc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40%  </a:t>
            </a:r>
            <a:r>
              <a:rPr b="1" i="1" lang="pl-PL" sz="2400" spc="-1" strike="noStrike" baseline="30000">
                <a:solidFill>
                  <a:srgbClr val="000000"/>
                </a:solidFill>
                <a:latin typeface="Monotype Corsiva"/>
              </a:rPr>
              <a:t>.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30 = 12   - ilość dziewczą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30-12=18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klasie 1a jest 18 chłopc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71640" y="4653000"/>
            <a:ext cx="5562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3672000" cy="24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96C-F2CE-4016-B750-18B06B2174BC}" type="slidenum">
              <a:t>35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Przykładowe zadania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Zad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Monotype Corsiva"/>
              </a:rPr>
              <a:t>W chórze 8 osób śpiewało basem, a o 25% więcej osób śpiewało al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Monotype Corsiva"/>
              </a:rPr>
              <a:t>Ile osób śpiewało al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Rozwiązanie</a:t>
            </a:r>
            <a:r>
              <a:rPr b="0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6324480" y="3352680"/>
            <a:ext cx="2210040" cy="1710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143000" y="4191120"/>
                <a:ext cx="14479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3429000" y="4191120"/>
                <a:ext cx="20574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3" name=""/>
          <p:cNvSpPr/>
          <p:nvPr/>
        </p:nvSpPr>
        <p:spPr>
          <a:xfrm>
            <a:off x="1143000" y="5334120"/>
            <a:ext cx="388620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	</a:t>
            </a: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Altem śpiewało 10 osó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56F7-253A-472E-8706-4FCE55EB113B}" type="slidenum">
              <a:t>36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5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Obliczanie liczby gdy dany jest jej procent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Łatwo jest obliczyć liczbę, gdy znamy jej 50%, 25% czy 10%. Cała liczba to przecież 100%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Jeśli 50% procent liczby wynosi 6, to cała liczba jest dwa razy większa, czyli 1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Jeśli 25% liczby to 7, wówczas szukaną liczbę obliczamy wykonując mnożenie 7 · 4 = 2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Liczba, której 10% wynosi 3, wówczas szukana liczba jest dziesięć razy większa, czyli 30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5364000" y="4653000"/>
            <a:ext cx="2737080" cy="22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CB3-0C5A-423C-9002-8EBAB3397AFC}" type="slidenum">
              <a:t>37</a:t>
            </a:fld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Aby obliczyć liczbę, gdy dany jest jej proc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35280" y="3789360"/>
            <a:ext cx="59576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ykła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 liczbę, której 2% jest równe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1258920" y="5013360"/>
            <a:ext cx="6985080" cy="12240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995480" cy="25909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4427640" y="1557360"/>
            <a:ext cx="4093920" cy="2087640"/>
          </a:xfrm>
          <a:prstGeom prst="wedgeRoundRectCallout">
            <a:avLst>
              <a:gd name="adj1" fmla="val -91333"/>
              <a:gd name="adj2" fmla="val -7416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Wystarczy podzielić 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przez podany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4862-36DA-4F85-8C65-58147FA55F7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58920" y="1052640"/>
            <a:ext cx="7242120" cy="137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Oblicz liczbę której 5% wynosi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86240" y="3141720"/>
            <a:ext cx="6095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30 : 5% = 30 : 0,05 = 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3276720" y="4221000"/>
            <a:ext cx="352872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10D-0AB2-4770-892D-72E2107C0A1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16000" y="2060640"/>
            <a:ext cx="4392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odany </a:t>
            </a:r>
            <a:r>
              <a:rPr b="1" lang="pl-PL" sz="2800" spc="-1" strike="noStrike">
                <a:solidFill>
                  <a:srgbClr val="0000cc"/>
                </a:solidFill>
                <a:latin typeface="Monotype Corsiva"/>
              </a:rPr>
              <a:t>prostokąt podzielono na 100 małych prostokątów – każdy taki prostokącik oznacza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Co to jest procent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148360" y="3284640"/>
          <a:ext cx="2514600" cy="2131920"/>
        </p:xfrm>
        <a:graphic>
          <a:graphicData uri="http://schemas.openxmlformats.org/drawingml/2006/table">
            <a:tbl>
              <a:tblPr/>
              <a:tblGrid>
                <a:gridCol w="250920"/>
                <a:gridCol w="252360"/>
                <a:gridCol w="250920"/>
                <a:gridCol w="252360"/>
                <a:gridCol w="250920"/>
                <a:gridCol w="250920"/>
                <a:gridCol w="252360"/>
                <a:gridCol w="250560"/>
                <a:gridCol w="252720"/>
                <a:gridCol w="2505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bf0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11280" y="4149720"/>
                <a:ext cx="1828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8E4-B693-47D4-A2D9-0824A28D8B84}" type="slidenum">
              <a:t>4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% jest równ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5% jest równe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0 % jest równe 1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758960" y="1628640"/>
            <a:ext cx="5391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najdź liczby, który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819520" cy="26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8B5-14F7-4A66-B01D-A76AE8DB7F6B}" type="slidenum">
              <a:t>40</a:t>
            </a:fld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Przykładowe zadania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Zada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sekcji sportowej 18 mężczyzn ćwiczyło  codziennie gimnastykę artystyczną. Stanowili oni 90% tej sekcji. Ile osób liczyła sekcja sportow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Rozwiąza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18 : 90%=18 : 0,9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5562720" y="3048120"/>
            <a:ext cx="2431800" cy="26492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16000" y="4869000"/>
            <a:ext cx="5257800" cy="13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Do sekcji sportowej należało 20 osó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E1B-683C-4B5A-B07D-9EFC7800F0E0}" type="slidenum">
              <a:t>41</a:t>
            </a:fld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Jakim procentem I liczby jest liczba II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                 </a:t>
            </a: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Aby obliczyć jakim ułamkiem I liczby jest liczba II należ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II licz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I licz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                </a:t>
            </a: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Aby obliczyć jakim procentem liczby I jest liczba II należ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9112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038480" y="3657600"/>
            <a:ext cx="11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II licz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I licz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86400" y="3733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cc"/>
                </a:solidFill>
                <a:latin typeface="Monotype Corsiva"/>
              </a:rPr>
              <a:t>10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3848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814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266400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D3D0-94BB-4887-8BAC-B926AEF92B8F}" type="slidenum">
              <a:t>42</a:t>
            </a:fld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414036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obliczyć jakim procen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jednej liczby jest druga liczb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należy drugą liczbę podzielić przez pierwszą i otrzymany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iloraz wyrazić w procentach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47280" y="3716280"/>
            <a:ext cx="60498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5</a:t>
            </a:r>
            <a:br>
              <a:rPr sz="2800"/>
            </a:b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 Jakim procentem liczby 45 jest liczba 9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1476360" y="4941720"/>
                <a:ext cx="6624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3B5-EC0A-415E-A832-F890D98A0379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Na parkingu stoi 12 samochodów, 3 cz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i 9 białych. Podaj ile </a:t>
            </a:r>
            <a:r>
              <a:rPr b="1" i="1" lang="pl-PL" sz="3200" spc="-1" strike="noStrike">
                <a:solidFill>
                  <a:srgbClr val="0033cc"/>
                </a:solidFill>
                <a:latin typeface="Monotype Corsiva"/>
              </a:rPr>
              <a:t>procent</a:t>
            </a: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 wszystk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samochodów stanowią samochody czar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79280" y="620640"/>
            <a:ext cx="19836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procentow"/>
          <p:cNvPicPr/>
          <p:nvPr/>
        </p:nvPicPr>
        <p:blipFill>
          <a:blip r:embed="rId1"/>
          <a:stretch/>
        </p:blipFill>
        <p:spPr>
          <a:xfrm>
            <a:off x="1835280" y="3860640"/>
            <a:ext cx="4824360" cy="16081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14316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C0E0-2257-4516-B63D-2EC31349591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8900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otrzymał po roku oszczędz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200 zł odsetek od 5000 zł, jakie włożył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roczną lokatę. Jak była oprocentow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lokata?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7080" y="620640"/>
            <a:ext cx="21405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9900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3924360" y="3284640"/>
            <a:ext cx="424800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854-E9C6-405C-9C14-79842C632ED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9640" y="2349360"/>
            <a:ext cx="774396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Lokata była oprocentowana 4% w skali ro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116000" y="692280"/>
                <a:ext cx="6840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916360" y="4292640"/>
            <a:ext cx="314316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ACA1-E84B-4B1E-A6D5-962432FB0F60}" type="slidenum">
              <a:t>46</a:t>
            </a:fld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67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Filip na 70 rzutów do kosza trafia tyl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14 razy. Jaką procentową skutecz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miał Filip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87640" y="692280"/>
            <a:ext cx="2943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99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6264360" cy="241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F011-EC61-4000-A4A8-00E6EA923AB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32000" y="2060640"/>
            <a:ext cx="633564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Filip miał 20 % skutecznoś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476360" y="692280"/>
                <a:ext cx="676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3132000" y="3789360"/>
            <a:ext cx="2708280" cy="27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53FF-195C-40DF-A96C-48335F863551}" type="slidenum">
              <a:t>48</a:t>
            </a:fld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e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99"/>
                </a:solidFill>
                <a:latin typeface="Monotype Corsiva"/>
              </a:rPr>
              <a:t>Podstawowym składnikiem ciała ludzki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99"/>
                </a:solidFill>
                <a:latin typeface="Monotype Corsiva"/>
              </a:rPr>
              <a:t>jest woda. Ciało człowieka o masie 52k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99"/>
                </a:solidFill>
                <a:latin typeface="Monotype Corsiva"/>
              </a:rPr>
              <a:t>zawiera około 33,8 kg wody. Jaki proc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99"/>
                </a:solidFill>
                <a:latin typeface="Monotype Corsiva"/>
              </a:rPr>
              <a:t>masy ciała ludzkiego stanowi woda ?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5867280" y="414972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6203-7A8F-458C-ABB2-B17EA6A119F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556000" y="1197000"/>
          <a:ext cx="5410080" cy="5175360"/>
        </p:xfrm>
        <a:graphic>
          <a:graphicData uri="http://schemas.openxmlformats.org/drawingml/2006/table">
            <a:tbl>
              <a:tblPr/>
              <a:tblGrid>
                <a:gridCol w="541440"/>
                <a:gridCol w="541080"/>
                <a:gridCol w="540000"/>
                <a:gridCol w="541080"/>
                <a:gridCol w="541440"/>
                <a:gridCol w="541440"/>
                <a:gridCol w="541440"/>
                <a:gridCol w="539640"/>
                <a:gridCol w="496800"/>
                <a:gridCol w="5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 flipH="1" flipV="1">
            <a:off x="1619280" y="1052640"/>
            <a:ext cx="100800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1692360" y="2707920"/>
            <a:ext cx="1079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195640" y="5013000"/>
            <a:ext cx="1224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093080" y="2997360"/>
            <a:ext cx="10778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500360" y="907560"/>
            <a:ext cx="43164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1268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2781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40360" y="278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278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efde3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765000"/>
            <a:ext cx="792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40464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2492280"/>
            <a:ext cx="7923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4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28000" y="2708280"/>
            <a:ext cx="685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472428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EE38-5168-40F9-A20C-B9A4B7892C8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340000" y="1700280"/>
            <a:ext cx="5545080" cy="2043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Woda stanowi  65 % masy ciała ludzkieg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344680" y="549360"/>
                <a:ext cx="47419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,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8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5724360" y="4221000"/>
            <a:ext cx="2735280" cy="206712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2303280" cy="30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CF30-CBF1-4CDF-80C1-15A1CA49FCB8}" type="slidenum">
              <a:t>50</a:t>
            </a:fld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ykorzystanie kalkulatora do obliczeń procentowych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Zapoznaj się ze sposobami wykonyw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obliczeń procentowych przy pomo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kalkulatora, a następnie samodziel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wykonaj oblicz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4356000" y="3357720"/>
            <a:ext cx="3975120" cy="298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4DDC-F945-4C78-A805-2601699F562C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blicz 20% z liczby 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) Liczbę 80 powiększ o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2665440" cy="4860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2737080" cy="5000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5076720" y="3573360"/>
            <a:ext cx="3672000" cy="256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Liczba wprowad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Końcowy wynik wyświetlo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3"/>
          <a:stretch/>
        </p:blipFill>
        <p:spPr>
          <a:xfrm>
            <a:off x="4788000" y="4221000"/>
            <a:ext cx="312480" cy="2588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4"/>
          <a:stretch/>
        </p:blipFill>
        <p:spPr>
          <a:xfrm>
            <a:off x="4788000" y="5013360"/>
            <a:ext cx="312480" cy="2444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312480" cy="25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72D-47AA-430F-9DBF-680215C30BF3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) Liczbę 80 zmniejsz 0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) Jakim procentem liczby 80 jest liczba 2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84360" y="3645000"/>
            <a:ext cx="6264360" cy="2014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            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Liczba wprowadzona 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Końcowy wynik wyświetlony 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3635280" y="4292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3635280" y="4797360"/>
            <a:ext cx="312840" cy="2444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3635280" y="5300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4"/>
          <a:stretch/>
        </p:blipFill>
        <p:spPr>
          <a:xfrm>
            <a:off x="1116000" y="2421000"/>
            <a:ext cx="3097080" cy="56520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5"/>
          <a:stretch/>
        </p:blipFill>
        <p:spPr>
          <a:xfrm>
            <a:off x="1187280" y="3645000"/>
            <a:ext cx="302436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5CF-AF87-42FE-8605-FFD00C5E3925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36800" y="1989000"/>
            <a:ext cx="48848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15% z liczby 25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24080" y="2997360"/>
            <a:ext cx="57261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0,6% z liczby 30.00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610640" y="4149720"/>
            <a:ext cx="6704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60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2486-C982-4F49-97B3-D65D9FF3950D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89920" y="1916280"/>
            <a:ext cx="7265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16,8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35000" y="2997360"/>
            <a:ext cx="6718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zmniejsz o 20% liczbę 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4360" y="4149720"/>
            <a:ext cx="7837200" cy="143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jakim procentem liczby 15 jest liczba 1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D24-B135-4C95-9E69-D2E302BC0677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łaszcz kosztował 280zł. Ile kosztuje ten płaszcz po 30% obniż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siążka, która kosztowała 36 zł, podrożała o 15%. Ile kosztuje teraz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wer kosztował 540 zł. Po obniżce kosztuje 459zł. O ile procent obniżono cenę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16360" y="692280"/>
            <a:ext cx="2592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33F-C18D-4049-B9D8-F52267D6FBC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       </a:t>
            </a: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łaszcz kosztuje 196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siążka kosztuje 41,4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enę roweru obniżono o 1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692360" y="3500280"/>
            <a:ext cx="1709640" cy="25783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4572000" y="4365720"/>
            <a:ext cx="2664000" cy="16477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3"/>
          <a:stretch/>
        </p:blipFill>
        <p:spPr>
          <a:xfrm>
            <a:off x="5435640" y="1197000"/>
            <a:ext cx="2160720" cy="162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3D1-BAF4-4541-9A26-FA8D503F20B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Punkt procentowy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Pojęcia punkt procentowy używamy, gdy zmienia się jakaś wielkość określona w procentach. Na przykład, jeśli  oprocentowanie w banku wynosiło 18 % i zmniejszyło się do 16%, to mówimy, że zmalało o 2 punkty procento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2819520" y="3276720"/>
            <a:ext cx="4273560" cy="313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005-58A9-497E-971A-D010BBF49697}" type="slidenum">
              <a:t>58</a:t>
            </a:fld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16360" y="2276640"/>
            <a:ext cx="28080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0099"/>
                </a:solidFill>
                <a:latin typeface="Times New Roman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3028680" cy="30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E01-D2DC-41C3-99BF-19211BC60C74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Procenty definicja.svg"/>
          <p:cNvPicPr/>
          <p:nvPr/>
        </p:nvPicPr>
        <p:blipFill>
          <a:blip r:embed="rId1"/>
          <a:stretch/>
        </p:blipFill>
        <p:spPr>
          <a:xfrm>
            <a:off x="1187280" y="1700280"/>
            <a:ext cx="7417080" cy="4562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33920" y="691200"/>
            <a:ext cx="7553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Na obrazku widzisz 100 kredek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3C3-5A12-4F39-BFEC-87BAD6B5886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żeli mówimy, że 23% Polaków ma niebieskie oczy, to znaczy, że przeciętnie na 100 Polaków jest 23 takich, którzy mają niebieskie ocz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żna też powiedzieć, ż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szystkich Polaków ma niebieskie oczy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549000" cy="7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146-70DB-4F16-88D9-D4B71C18C2C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cc"/>
                </a:solidFill>
                <a:latin typeface="Times New Roman"/>
              </a:rPr>
              <a:t>Zadanie 1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Ile procent figury zamalowano?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6" name="" descr="Procenty def zad1.svg"/>
          <p:cNvPicPr/>
          <p:nvPr/>
        </p:nvPicPr>
        <p:blipFill>
          <a:blip r:embed="rId1"/>
          <a:stretch/>
        </p:blipFill>
        <p:spPr>
          <a:xfrm>
            <a:off x="1042920" y="1916280"/>
            <a:ext cx="7272360" cy="283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A39-4D59-41B0-9386-8D4B391794A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Skracanie ułamków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Ułamki, które mają w mianowniku 100, możemy skracać do najprostszej posta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010280" y="2666880"/>
            <a:ext cx="1595520" cy="2497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2895480"/>
            <a:ext cx="3143160" cy="1973520"/>
          </a:xfrm>
          <a:prstGeom prst="wedgeRoundRectCallout">
            <a:avLst>
              <a:gd name="adj1" fmla="val 67777"/>
              <a:gd name="adj2" fmla="val -36083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Zauważyłam, ż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25% to ćwiar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50% to połow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75% to trzy ćwiartki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100% to całoś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505320"/>
            <a:ext cx="1828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2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50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7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743200" y="4800600"/>
          <a:ext cx="266688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4800600"/>
                    <a:ext cx="26668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429000" y="55627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486400" y="4800600"/>
          <a:ext cx="2286000" cy="171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86400" y="4800600"/>
                    <a:ext cx="228600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019920" y="5791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5257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981080" y="3505320"/>
                <a:ext cx="1144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905120" y="4267080"/>
                <a:ext cx="914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05120" y="3295800"/>
                <a:ext cx="990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905120" y="5181480"/>
                <a:ext cx="838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0FA8-EFFD-45ED-B8D8-177F10A8F963}" type="slidenum">
              <a:t>9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1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9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15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</cp:lastModifiedBy>
  <dcterms:modified xsi:type="dcterms:W3CDTF">2013-03-14T19:03:40Z</dcterms:modified>
  <cp:revision>122</cp:revision>
  <dc:subject/>
  <dc:title>Prezentacja programu PowerPoint</dc:title>
</cp:coreProperties>
</file>