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9E8F7-2106-4EA4-9A58-C6B9F68A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95FB2-CF80-46BF-8B15-CD7C1DA6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B86DF-1795-4FD4-A906-FEDEB59B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85D42-3EB3-47FF-878D-4CF61B1C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0113-1D5B-4C5C-BF2F-B0AF126C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63A6-7430-4F66-8D23-86325B1B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EEFC-BCC4-4B18-AB3B-255EEB4D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37E1-87C9-4F89-A316-705F8D90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E2D8-FB69-48DA-B714-5FE4914F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2AC5-4F7E-4DC2-BE23-01FB5461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0215-148F-48A8-9B2E-39395FA1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06F36-5F96-46F0-8CC2-6BE4E4EB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7A42-7D8D-4F86-B5EC-0AD2BB54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70C2-0606-4713-BBFA-19F9FCE7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26E0-AD0E-41EA-85A0-9F6DF88F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6735-4899-4A39-82F0-DAFEA74F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D98D-928D-4BAB-8ADE-699827C4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19F5F-543C-4AD8-8250-E56C3B86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6217D-6161-4BA0-B013-768F11E8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84DD9-C589-4FE1-BFAF-C7B5D6E6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C7725-5D4A-4388-A191-DD64A1E4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5CB9A-75EA-41B4-B313-189222DD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0831E-6E7F-4DAC-9030-143ED330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285C3-2F91-4830-ADD9-A34D9215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1F72-4689-48C9-B729-5044859B1F1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16DC-F90D-4669-B331-D3A16F816CD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Działania na ułamkach dziesiętnych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Mnożenie ułamków dziesiętnych przez 10, 100, 1000, ...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zy mnożeniu ułamka dziesiętnego przez 10, 100, 1000, przesuwamy przecinek odpowiednio o 1, 2, 3 miejsca w praw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Na podstawie rysunku uzupełnij zapis :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5415120" cy="2259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979640" y="1916280"/>
            <a:ext cx="48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0,02 zł · 10 = ...... z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nożenie</a:t>
            </a: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,2 · 10 = 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,51 · 10 = 125,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,223 · 100 = 522,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,7 · 100 = 7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,0046 · 1000 = 4,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,5 · 1000 = 35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nożenie ułamków dziesiętnych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nożąc dwa ułamki dziesiętne, wykonujemy działania tak, jak na liczbach naturalnych,              a w otrzymanym wyniku oddzielamy przecinkiem (licząc od prawej strony) tyle cyfr, il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ło łącznie po przecinku w obu czynnika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lgorytm mnożenia liczb dziesiętnych możemy podzielić na następujące etapy: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1" name="" descr="Plik:Liczby dziesietne11.svg"/>
          <p:cNvPicPr/>
          <p:nvPr/>
        </p:nvPicPr>
        <p:blipFill>
          <a:blip r:embed="rId1"/>
          <a:stretch/>
        </p:blipFill>
        <p:spPr>
          <a:xfrm>
            <a:off x="684360" y="2060640"/>
            <a:ext cx="7777080" cy="28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6696000" cy="2743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195640" y="692280"/>
            <a:ext cx="52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nożąc ułamki podpisujemy j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 ten sposób, aby ostatnia cyfra jednego ułamka była pod ostatnią cyfrą drugiego ułamk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rzykła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6048360" cy="30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Dzielenie ułamków dziesiętnych przez 10, 100, 1000, ..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zy dzieleniu ułamka dziesiętnego przez 10, 100, 1000, przesuwamy przecinek odpowiednio o 1, 2, 3 miejsca w lew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zieleni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3,4 : 10 = 2,3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,39 : 10 =0,13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12,3 : 100 =8,1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,7 : 100 = 0,0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,5 : 1000 =0,009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5 : 1000 = 0,04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zielenie ułamków dziesiętnych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y obliczamy iloraz dwóch ułamków dziesiętnych, najpierw przesuwamy przecinek            w prawą stronę o tyle miejsc, aby nie było           go w drugiej liczbie (aby dzielnik stał się liczbą naturalną). Następnie wykonujemy dzieleni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iekawostk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Kiedy wykonujemy obliczenia arytmetyczne, często posługujemy się ułamkami dziesiętnymi  i trudno dziś wyobrazić sobie czasy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kiedy w użyciu były tylko ułamki zwykł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Zapis dziesiętny liczb został opracowany w XV wieku przez perskiego matematyka Al-Kaszi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w jego dzie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Miftah al-hisab  (Klucz do arytmetyki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Oddzielenie przecinkiem całości od części dziesiętnych było pomysłem angielskiego matematyka. J. Nep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Oblicz sposobem pisemnym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4,43 : 0,3 = 144,3 : 3 =48,1    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                 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        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8,5 : 0,25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850 : 25 = 1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995640" y="1989000"/>
            <a:ext cx="4103640" cy="388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   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zy dzieleniu ułamka dziesiętnego przez liczbę w wyniku w odpowiednim miejscu                            (nad przecinkiem dzielnej)                      stawiamy przecine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12000" y="2781360"/>
            <a:ext cx="2158920" cy="30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Zadani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Marysia zmierzyła 500 kartek i otrzymała wynik 5,2 cm. Jaką grubość ma jedna kartka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Plik:Dzielenie kartka.jpg"/>
          <p:cNvPicPr/>
          <p:nvPr/>
        </p:nvPicPr>
        <p:blipFill>
          <a:blip r:embed="rId1"/>
          <a:stretch/>
        </p:blipFill>
        <p:spPr>
          <a:xfrm>
            <a:off x="4716360" y="2924280"/>
            <a:ext cx="3743280" cy="292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iteratur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http://wiki.wolnepodreczniki.pl/Matematyka:Gimnazjum/Liczby_wymierne_1#Spos.C3.B3b_rzymsk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         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507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łamek dziesiętny to ułamek o mianownik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, 100, 1000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łamki dziesiętne zapisuje się bez kreski ułamkowej, ale specjalną funkcję pełni przecinek dziesiętny (w krajach anglosaskich                      kropka), który oddziela                                część całkowitą od części                          ułamkowej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cz&amp;eogon;&amp;sacute;ci dziesi&amp;eogon;tne i u&amp;lstrok;amkowe "/>
          <p:cNvPicPr/>
          <p:nvPr/>
        </p:nvPicPr>
        <p:blipFill>
          <a:blip r:embed="rId1"/>
          <a:stretch/>
        </p:blipFill>
        <p:spPr>
          <a:xfrm>
            <a:off x="6227640" y="2997360"/>
            <a:ext cx="263844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Gdy czytamy liczbę zapisaną w postaci dziesiętnej, patrzymy w jakim rzędzie znajduje się cyfra zapisana jako ostatnia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" descr="Plik:Liczby dziesiet 3.svg"/>
          <p:cNvPicPr/>
          <p:nvPr/>
        </p:nvPicPr>
        <p:blipFill>
          <a:blip r:embed="rId1"/>
          <a:stretch/>
        </p:blipFill>
        <p:spPr>
          <a:xfrm>
            <a:off x="2050920" y="1773360"/>
            <a:ext cx="5329440" cy="379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Pamiętaj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Przy dodawaniu i odejmowaniu ułamków dziesiętnych sposobem pisemnym, należy podpisać je w ten sposób, aby przecinek          był pod przecinkiem, 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jedności pod jednościami, części dziesiąte pod częściami dziesiątymi it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Oblicz sposobem pisemnym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,27 + 3,1 + 8,135 = 17,50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3,2 - 6,366 = 76,83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 przypadku odejmowania, jeżeli odjemna ma mniej miejsc po przecinku niż odjemnik, miejsca te uzupełniamy zerami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72360" y="1773360"/>
            <a:ext cx="1441440" cy="1873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63640" y="2924280"/>
            <a:ext cx="158436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rzykład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7788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Plik:Liczby dziesiet 7.svg"/>
          <p:cNvPicPr/>
          <p:nvPr/>
        </p:nvPicPr>
        <p:blipFill>
          <a:blip r:embed="rId1"/>
          <a:stretch/>
        </p:blipFill>
        <p:spPr>
          <a:xfrm>
            <a:off x="250920" y="3789360"/>
            <a:ext cx="8569080" cy="2084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Plik:Liczby dziesiet 5.svg"/>
          <p:cNvPicPr/>
          <p:nvPr/>
        </p:nvPicPr>
        <p:blipFill>
          <a:blip r:embed="rId2"/>
          <a:stretch/>
        </p:blipFill>
        <p:spPr>
          <a:xfrm>
            <a:off x="1042920" y="1413000"/>
            <a:ext cx="7058160" cy="201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rzykład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879640" cy="2406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500720" y="1916280"/>
            <a:ext cx="2736720" cy="234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Oblicz wartość zakupów.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4248000" cy="2156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076720" y="3284640"/>
            <a:ext cx="2644920" cy="273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8:33:25Z</dcterms:created>
  <dc:creator>x</dc:creator>
  <dc:description/>
  <dc:language>en-US</dc:language>
  <cp:lastModifiedBy>Matematyka</cp:lastModifiedBy>
  <dcterms:modified xsi:type="dcterms:W3CDTF">2013-05-03T19:44:20Z</dcterms:modified>
  <cp:revision>31</cp:revision>
  <dc:subject/>
  <dc:title>Działania na ułamkach dziesiętnych.</dc:title>
</cp:coreProperties>
</file>