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D3D-7966-4F25-BE24-82B588420A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1E5-62F0-402F-A1A5-CAE38ADA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304-EFAF-48D5-8281-0015EE4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199-8842-46F4-807C-534891D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6B2-D311-4E49-946B-E2ABBA7A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0679-009D-4F9C-8C23-CFAB5DB5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F7A-7411-47FD-884E-1E44EC3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EA5-ACC7-49B8-A2C8-88F2469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038F-AC9C-4C8C-B4B1-F64775AA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4512-1D93-42E3-AD5A-29BE49D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090-5C0E-4410-9AAF-652CA70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1818-37DA-4783-8E1D-698FF09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6EC-E351-42C3-8D28-5936171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1E63-E346-4A69-A37A-6C078D9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64C1-E635-48E5-BDEF-0CFAE09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40F8-6301-46FA-8154-BAB601A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DE0D-9F3D-4819-8D5A-111BAAA5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E32A-5CD2-4A4F-A890-C1441DD1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62F-938F-4AFA-BDAF-FDCA79A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61F-3709-427A-94E3-0A6F6F0F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4E6-BDD1-49FA-9D97-D0255E8F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13F-BADA-4CAB-B4A0-8A4EF789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ACE-A79A-416F-A196-704FE97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917-1D95-47DF-B790-6005BEF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CAF-6669-4D11-AD1B-91EE19F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8F3-624B-4C55-9317-5B9B6DD530B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AA8C-BC67-4DC0-B8EA-7672FFAD4DB9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21:17:49Z</dcterms:modified>
  <cp:revision>141</cp:revision>
  <dc:subject/>
  <dc:title>TWIERDZENIE PITAGORASA</dc:title>
</cp:coreProperties>
</file>