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EFC7-D2E5-4D69-B63A-A682E86CA0B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matma4u.akcja.pl/twierdzenia/liczby/lr.htm" TargetMode="External"/><Relationship Id="rId2" Type="http://schemas.openxmlformats.org/officeDocument/2006/relationships/hyperlink" Target="http://matma4u.akcja.pl/twierdzenia/liczby/lr.htm" TargetMode="External"/><Relationship Id="rId3" Type="http://schemas.openxmlformats.org/officeDocument/2006/relationships/hyperlink" Target="http://matma4u.akcja.pl/twierdzenia/liczby/lc.htm" TargetMode="External"/><Relationship Id="rId4" Type="http://schemas.openxmlformats.org/officeDocument/2006/relationships/hyperlink" Target="http://matma4u.akcja.pl/twierdzenia/liczby/lc.htm" TargetMode="External"/><Relationship Id="rId5" Type="http://schemas.openxmlformats.org/officeDocument/2006/relationships/slide" Target="../slides/slide2.xml"/><Relationship Id="rId6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y wymi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y wymier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żna ustawić 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iąg nieskończon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ażd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iczba wymier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ozwinięcie dziesiętne skończ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b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nieskończone okresow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by wymierne są podzbiore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czb rzeczywistych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 nadzbiore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czb całkowitych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o którego należą wszystkie liczby dające się przedstawić w postaci ilorazu dwóch liczb całkowit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3EB-EC9E-4C5D-9E8B-B46F2B9C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5F4-19CD-4C58-98B3-FD677150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C2A-1C82-494E-B858-843C10D7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222-DE4A-4B9E-A95D-BFCEAFC1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19FA-18EB-4A35-BF41-52E87FF1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E6C8-3920-427A-A2EE-9EA84478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9D94-CB25-4633-B685-2E78BF71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5623-94AD-44D4-9B69-9816A2A2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DDAB-CD5E-429D-A64E-EF4AA86B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E5CF-42AA-4926-8432-EC9C520A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065C-1A3C-43C7-A2C0-BF5DC302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569-791D-4F87-840D-005FAFA8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6CFF-7AC9-4171-B1B5-246220EF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22EB-E4B5-46D6-B0BC-1D213756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ADC2-EAC2-4364-A9C3-509D83FA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2E7D-2A14-4C2F-89A4-E785C0AE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521E-D910-4C34-925D-193CF170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59C-FC29-494C-B894-2833E1CE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D9A-388D-4725-A62D-3A6CC549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6B8-4A0E-4548-B740-F30E957B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920-1BB2-415F-AEDC-94071832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932-77A0-4A9A-8FED-55F77E8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7B9-A421-45E5-B532-654600F0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D9B-A8C1-49F2-87CF-A344567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F2B3-7EFE-4733-823A-4DFD41DEA43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9A33-3226-4996-8C53-811DAD9DBC4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ZBIÓR LICZB RZECZYWISTYCH I JEGO PODZBIO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rzeczywist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Times New Roman"/>
                <a:hlinkClick r:id="rId2" action="ppaction://hlinksldjump"/>
              </a:rPr>
              <a:t>Zbiór liczb natural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Times New Roman"/>
                <a:hlinkClick r:id="rId3" action="ppaction://hlinksldjump"/>
              </a:rPr>
              <a:t>Zbiór liczb całkowit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wymier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niewymier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WYMIERN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żda liczba wymierna ma rozwinięcie dziesiętne skończone (a) lub nieskończone okresowe (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78120" y="3068640"/>
            <a:ext cx="3161520" cy="2303280"/>
            <a:chOff x="978120" y="3068640"/>
            <a:chExt cx="3161520" cy="230328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788840" y="3168360"/>
                  <a:ext cx="2350800" cy="22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,5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: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7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978120" y="3068640"/>
              <a:ext cx="4597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507560" y="3141720"/>
            <a:ext cx="3020040" cy="2160000"/>
            <a:chOff x="4507560" y="3141720"/>
            <a:chExt cx="3020040" cy="2160000"/>
          </a:xfrm>
        </p:grpSpPr>
        <p:sp>
          <p:nvSpPr>
            <p:cNvPr id="208" name=""/>
            <p:cNvSpPr/>
            <p:nvPr/>
          </p:nvSpPr>
          <p:spPr>
            <a:xfrm>
              <a:off x="4507560" y="3141720"/>
              <a:ext cx="4597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5279040" y="3235320"/>
                  <a:ext cx="2248560" cy="206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66666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23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99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12121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9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323232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 spd="med" advTm="175000"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353440" cy="117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Liczby niewymierne to liczby, których nie można przedstawić w postaci ilorazu dwóch liczb całkowityc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81160" y="4008600"/>
                <a:ext cx="22208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2030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95280" y="2637000"/>
            <a:ext cx="8318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niewymiern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zykłady liczb niewymierny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684760" y="4033800"/>
                <a:ext cx="244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345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4724280"/>
                <a:ext cx="685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64000" y="4724280"/>
                <a:ext cx="939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763640" y="5734080"/>
                <a:ext cx="685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508720" y="5734080"/>
                <a:ext cx="509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ZBIÓR LICZB NIEWYMIERNYCH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BIÓR LICZB NIEWYMIERNY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żda liczba niewymierna ma rozwinięcie dziesięt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eskończone nieokreso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3284640"/>
            <a:ext cx="3924360" cy="1512720"/>
          </a:xfrm>
          <a:prstGeom prst="wedgeEllipseCallout">
            <a:avLst>
              <a:gd name="adj1" fmla="val -36810"/>
              <a:gd name="adj2" fmla="val -88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3500280"/>
            <a:ext cx="1726920" cy="863640"/>
          </a:xfrm>
          <a:prstGeom prst="wedgeEllipseCallout">
            <a:avLst>
              <a:gd name="adj1" fmla="val -38972"/>
              <a:gd name="adj2" fmla="val 290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229360"/>
            <a:ext cx="8642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y niewymierne NW są podzbiorem liczb rzeczywistych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BIÓR LICZB RZECZYWISTY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y rzeczywi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jeden z najważniejszych zbiorów w całej matematyce. Intuicyjnie ich definicja jest dość prosta - liczbę rzeczywistą utożsamiamy z odległością na prost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biór liczb rzeczywistych (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zbiór będący sumą zbiorów licz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ymiernych (W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ewymiernych (NW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⊂ W ⊂ R ⊃ N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znacze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czby rzeczywi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niewymi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wymi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całkow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zby natural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860640"/>
            <a:ext cx="3924360" cy="2737080"/>
          </a:xfrm>
          <a:prstGeom prst="wedgeEllipseCallout">
            <a:avLst>
              <a:gd name="adj1" fmla="val -36810"/>
              <a:gd name="adj2" fmla="val 174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4797360"/>
            <a:ext cx="1008000" cy="503280"/>
          </a:xfrm>
          <a:prstGeom prst="wedgeEllipseCallout">
            <a:avLst>
              <a:gd name="adj1" fmla="val -33148"/>
              <a:gd name="adj2" fmla="val 3422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35640" y="4076640"/>
            <a:ext cx="2808360" cy="2232000"/>
          </a:xfrm>
          <a:prstGeom prst="wedgeEllipseCallout">
            <a:avLst>
              <a:gd name="adj1" fmla="val -9412"/>
              <a:gd name="adj2" fmla="val 96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0360" y="472428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40720" y="5373720"/>
            <a:ext cx="718920" cy="64764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365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12126"/>
                </a:moveTo>
                <a:lnTo>
                  <a:pt x="17806" y="5119"/>
                </a:lnTo>
                <a:lnTo>
                  <a:pt x="17806" y="1913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rot="21083400">
            <a:off x="4763880" y="4722480"/>
            <a:ext cx="2000160" cy="1260360"/>
          </a:xfrm>
          <a:custGeom>
            <a:avLst/>
            <a:gdLst/>
            <a:ahLst/>
            <a:rect l="l" t="t" r="r" b="b"/>
            <a:pathLst>
              <a:path w="1187" h="510">
                <a:moveTo>
                  <a:pt x="8" y="488"/>
                </a:moveTo>
                <a:lnTo>
                  <a:pt x="17" y="510"/>
                </a:lnTo>
                <a:lnTo>
                  <a:pt x="1187" y="41"/>
                </a:lnTo>
                <a:lnTo>
                  <a:pt x="1171" y="0"/>
                </a:lnTo>
                <a:lnTo>
                  <a:pt x="0" y="468"/>
                </a:lnTo>
                <a:lnTo>
                  <a:pt x="8" y="48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1180600">
            <a:off x="2974680" y="4896000"/>
            <a:ext cx="3286080" cy="512640"/>
          </a:xfrm>
          <a:custGeom>
            <a:avLst/>
            <a:gdLst/>
            <a:ahLst/>
            <a:rect l="l" t="t" r="r" b="b"/>
            <a:pathLst>
              <a:path w="2651" h="334">
                <a:moveTo>
                  <a:pt x="1" y="311"/>
                </a:moveTo>
                <a:lnTo>
                  <a:pt x="4" y="334"/>
                </a:lnTo>
                <a:lnTo>
                  <a:pt x="2651" y="44"/>
                </a:lnTo>
                <a:lnTo>
                  <a:pt x="2645" y="0"/>
                </a:lnTo>
                <a:lnTo>
                  <a:pt x="0" y="289"/>
                </a:lnTo>
                <a:lnTo>
                  <a:pt x="1" y="3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97280" y="3865680"/>
            <a:ext cx="1627200" cy="782640"/>
          </a:xfrm>
          <a:custGeom>
            <a:avLst/>
            <a:gdLst/>
            <a:ahLst/>
            <a:rect l="l" t="t" r="r" b="b"/>
            <a:pathLst>
              <a:path w="1371" h="347">
                <a:moveTo>
                  <a:pt x="1366" y="325"/>
                </a:moveTo>
                <a:lnTo>
                  <a:pt x="1371" y="302"/>
                </a:lnTo>
                <a:lnTo>
                  <a:pt x="11" y="0"/>
                </a:lnTo>
                <a:lnTo>
                  <a:pt x="0" y="43"/>
                </a:lnTo>
                <a:lnTo>
                  <a:pt x="1360" y="347"/>
                </a:lnTo>
                <a:lnTo>
                  <a:pt x="1366" y="3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886200"/>
            <a:ext cx="1066680" cy="762120"/>
          </a:xfrm>
          <a:custGeom>
            <a:avLst/>
            <a:gdLst/>
            <a:ahLst/>
            <a:rect l="l" t="t" r="r" b="b"/>
            <a:pathLst>
              <a:path w="417" h="307">
                <a:moveTo>
                  <a:pt x="12" y="290"/>
                </a:moveTo>
                <a:lnTo>
                  <a:pt x="26" y="307"/>
                </a:lnTo>
                <a:lnTo>
                  <a:pt x="417" y="36"/>
                </a:lnTo>
                <a:lnTo>
                  <a:pt x="391" y="0"/>
                </a:lnTo>
                <a:lnTo>
                  <a:pt x="0" y="271"/>
                </a:lnTo>
                <a:lnTo>
                  <a:pt x="12" y="29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4040" y="3133800"/>
            <a:ext cx="1824120" cy="644400"/>
          </a:xfrm>
          <a:custGeom>
            <a:avLst/>
            <a:gdLst/>
            <a:ahLst/>
            <a:rect l="l" t="t" r="r" b="b"/>
            <a:pathLst>
              <a:path w="1149" h="406">
                <a:moveTo>
                  <a:pt x="1142" y="385"/>
                </a:moveTo>
                <a:lnTo>
                  <a:pt x="1149" y="363"/>
                </a:lnTo>
                <a:lnTo>
                  <a:pt x="14" y="0"/>
                </a:lnTo>
                <a:lnTo>
                  <a:pt x="0" y="41"/>
                </a:lnTo>
                <a:lnTo>
                  <a:pt x="1135" y="406"/>
                </a:lnTo>
                <a:lnTo>
                  <a:pt x="1142" y="38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06640" y="3135240"/>
            <a:ext cx="917640" cy="617760"/>
          </a:xfrm>
          <a:custGeom>
            <a:avLst/>
            <a:gdLst/>
            <a:ahLst/>
            <a:rect l="l" t="t" r="r" b="b"/>
            <a:pathLst>
              <a:path w="578" h="389">
                <a:moveTo>
                  <a:pt x="12" y="371"/>
                </a:moveTo>
                <a:lnTo>
                  <a:pt x="24" y="389"/>
                </a:lnTo>
                <a:lnTo>
                  <a:pt x="578" y="38"/>
                </a:lnTo>
                <a:lnTo>
                  <a:pt x="554" y="0"/>
                </a:lnTo>
                <a:lnTo>
                  <a:pt x="0" y="352"/>
                </a:lnTo>
                <a:lnTo>
                  <a:pt x="12" y="3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6800" y="2378160"/>
            <a:ext cx="1511280" cy="527040"/>
          </a:xfrm>
          <a:custGeom>
            <a:avLst/>
            <a:gdLst/>
            <a:ahLst/>
            <a:rect l="l" t="t" r="r" b="b"/>
            <a:pathLst>
              <a:path w="952" h="332">
                <a:moveTo>
                  <a:pt x="946" y="311"/>
                </a:moveTo>
                <a:lnTo>
                  <a:pt x="952" y="289"/>
                </a:lnTo>
                <a:lnTo>
                  <a:pt x="14" y="0"/>
                </a:lnTo>
                <a:lnTo>
                  <a:pt x="0" y="43"/>
                </a:lnTo>
                <a:lnTo>
                  <a:pt x="939" y="332"/>
                </a:lnTo>
                <a:lnTo>
                  <a:pt x="946" y="3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87560" y="2379600"/>
            <a:ext cx="1148040" cy="662040"/>
          </a:xfrm>
          <a:custGeom>
            <a:avLst/>
            <a:gdLst/>
            <a:ahLst/>
            <a:rect l="l" t="t" r="r" b="b"/>
            <a:pathLst>
              <a:path w="723" h="417">
                <a:moveTo>
                  <a:pt x="11" y="398"/>
                </a:moveTo>
                <a:lnTo>
                  <a:pt x="22" y="417"/>
                </a:lnTo>
                <a:lnTo>
                  <a:pt x="723" y="39"/>
                </a:lnTo>
                <a:lnTo>
                  <a:pt x="701" y="0"/>
                </a:lnTo>
                <a:lnTo>
                  <a:pt x="0" y="378"/>
                </a:lnTo>
                <a:lnTo>
                  <a:pt x="11" y="39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99000" y="1623960"/>
            <a:ext cx="1516320" cy="633600"/>
          </a:xfrm>
          <a:custGeom>
            <a:avLst/>
            <a:gdLst/>
            <a:ahLst/>
            <a:rect l="l" t="t" r="r" b="b"/>
            <a:pathLst>
              <a:path w="955" h="399">
                <a:moveTo>
                  <a:pt x="947" y="379"/>
                </a:moveTo>
                <a:lnTo>
                  <a:pt x="955" y="358"/>
                </a:lnTo>
                <a:lnTo>
                  <a:pt x="16" y="0"/>
                </a:lnTo>
                <a:lnTo>
                  <a:pt x="0" y="41"/>
                </a:lnTo>
                <a:lnTo>
                  <a:pt x="939" y="399"/>
                </a:lnTo>
                <a:lnTo>
                  <a:pt x="947" y="3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05360" y="1623960"/>
            <a:ext cx="1517400" cy="623880"/>
          </a:xfrm>
          <a:custGeom>
            <a:avLst/>
            <a:gdLst/>
            <a:ahLst/>
            <a:rect l="l" t="t" r="r" b="b"/>
            <a:pathLst>
              <a:path w="956" h="393">
                <a:moveTo>
                  <a:pt x="8" y="371"/>
                </a:moveTo>
                <a:lnTo>
                  <a:pt x="16" y="393"/>
                </a:lnTo>
                <a:lnTo>
                  <a:pt x="956" y="41"/>
                </a:lnTo>
                <a:lnTo>
                  <a:pt x="941" y="0"/>
                </a:lnTo>
                <a:lnTo>
                  <a:pt x="0" y="351"/>
                </a:lnTo>
                <a:lnTo>
                  <a:pt x="8" y="3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4952880"/>
            <a:ext cx="1011240" cy="581040"/>
          </a:xfrm>
          <a:custGeom>
            <a:avLst/>
            <a:gdLst/>
            <a:ahLst/>
            <a:rect l="l" t="t" r="r" b="b"/>
            <a:pathLst>
              <a:path w="291" h="330">
                <a:moveTo>
                  <a:pt x="273" y="315"/>
                </a:moveTo>
                <a:lnTo>
                  <a:pt x="291" y="301"/>
                </a:lnTo>
                <a:lnTo>
                  <a:pt x="36" y="0"/>
                </a:lnTo>
                <a:lnTo>
                  <a:pt x="0" y="28"/>
                </a:lnTo>
                <a:lnTo>
                  <a:pt x="257" y="330"/>
                </a:lnTo>
                <a:lnTo>
                  <a:pt x="273" y="3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59436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533412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234120" y="5257800"/>
          <a:ext cx="2909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4120" y="5257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219320" y="533412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44956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44956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35812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6576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281952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7432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440" y="45720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dział liczb </a:t>
            </a:r>
            <a:r>
              <a:rPr b="1" lang="en-US" sz="2400" spc="-1" strike="noStrike">
                <a:solidFill>
                  <a:srgbClr val="ff3d0f"/>
                </a:solidFill>
                <a:latin typeface="Arial"/>
              </a:rPr>
              <a:t>rzeczywis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4760" y="206064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2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0" y="13"/>
                </a:lnTo>
                <a:lnTo>
                  <a:pt x="1178" y="20"/>
                </a:lnTo>
                <a:lnTo>
                  <a:pt x="1196" y="28"/>
                </a:lnTo>
                <a:lnTo>
                  <a:pt x="1212" y="36"/>
                </a:lnTo>
                <a:lnTo>
                  <a:pt x="1227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2" y="98"/>
                </a:lnTo>
                <a:lnTo>
                  <a:pt x="1280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0" y="206"/>
                </a:lnTo>
                <a:lnTo>
                  <a:pt x="1272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7" y="271"/>
                </a:lnTo>
                <a:lnTo>
                  <a:pt x="1212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0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2" y="318"/>
                </a:lnTo>
                <a:lnTo>
                  <a:pt x="191" y="316"/>
                </a:lnTo>
                <a:lnTo>
                  <a:pt x="169" y="314"/>
                </a:lnTo>
                <a:lnTo>
                  <a:pt x="150" y="310"/>
                </a:lnTo>
                <a:lnTo>
                  <a:pt x="129" y="304"/>
                </a:lnTo>
                <a:lnTo>
                  <a:pt x="111" y="298"/>
                </a:lnTo>
                <a:lnTo>
                  <a:pt x="94" y="289"/>
                </a:lnTo>
                <a:lnTo>
                  <a:pt x="77" y="281"/>
                </a:lnTo>
                <a:lnTo>
                  <a:pt x="62" y="271"/>
                </a:lnTo>
                <a:lnTo>
                  <a:pt x="49" y="260"/>
                </a:lnTo>
                <a:lnTo>
                  <a:pt x="36" y="248"/>
                </a:lnTo>
                <a:lnTo>
                  <a:pt x="25" y="234"/>
                </a:lnTo>
                <a:lnTo>
                  <a:pt x="17" y="220"/>
                </a:lnTo>
                <a:lnTo>
                  <a:pt x="9" y="206"/>
                </a:lnTo>
                <a:lnTo>
                  <a:pt x="4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4" y="127"/>
                </a:lnTo>
                <a:lnTo>
                  <a:pt x="9" y="112"/>
                </a:lnTo>
                <a:lnTo>
                  <a:pt x="17" y="98"/>
                </a:lnTo>
                <a:lnTo>
                  <a:pt x="25" y="83"/>
                </a:lnTo>
                <a:lnTo>
                  <a:pt x="36" y="71"/>
                </a:lnTo>
                <a:lnTo>
                  <a:pt x="49" y="59"/>
                </a:lnTo>
                <a:lnTo>
                  <a:pt x="62" y="47"/>
                </a:lnTo>
                <a:lnTo>
                  <a:pt x="77" y="36"/>
                </a:lnTo>
                <a:lnTo>
                  <a:pt x="94" y="28"/>
                </a:lnTo>
                <a:lnTo>
                  <a:pt x="111" y="20"/>
                </a:lnTo>
                <a:lnTo>
                  <a:pt x="129" y="13"/>
                </a:lnTo>
                <a:lnTo>
                  <a:pt x="150" y="8"/>
                </a:lnTo>
                <a:lnTo>
                  <a:pt x="169" y="4"/>
                </a:lnTo>
                <a:lnTo>
                  <a:pt x="191" y="1"/>
                </a:lnTo>
                <a:lnTo>
                  <a:pt x="212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5000" y="1828800"/>
          <a:ext cx="290988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828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62120" y="2666880"/>
          <a:ext cx="290988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6668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886200" y="2666880"/>
          <a:ext cx="290988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26668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4920" y="3505320"/>
          <a:ext cx="290988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3505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429000" y="3505320"/>
          <a:ext cx="290988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3505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523880" y="4343400"/>
          <a:ext cx="2909880" cy="7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3434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09480" y="5181480"/>
          <a:ext cx="2909880" cy="7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51814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00400" y="5791320"/>
          <a:ext cx="2909880" cy="749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5791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486400" y="4343400"/>
          <a:ext cx="2909880" cy="749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86400" y="43434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419720" y="114300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038480" y="990720"/>
          <a:ext cx="2909880" cy="749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9907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994120" y="206064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90920" y="1828800"/>
          <a:ext cx="2909880" cy="749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1828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33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110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naturalne to dodatnie całoś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liczba zero czyli 0, 1, 2, 3, 4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14172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naturaln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 = { 0, 1, 2, 3, 4, 5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3860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NATURALN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93080" y="378936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4365720"/>
            <a:ext cx="718920" cy="64764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300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biór liczb naturalnych jest podzbiorem liczb całkowit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981000"/>
            <a:ext cx="842472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ierwsz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naturalne, które dzielą się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lko przez 1 i przez samą siebie: 2, 3, 5, 7,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997360"/>
            <a:ext cx="828036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złożo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naturalne, które posiadaj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ięcej niż dwa dzielniki: 4, 6, 9, 24, 75,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94172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0 i 1 nie należą ani do liczb pierwszych ani do złożony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76280"/>
            <a:ext cx="8424720" cy="1856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rzeciw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takie dwie liczby, które różni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ę znakiem i których suma wynosi 0.  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.  liczba przeciwna do liczby 2  to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3213000"/>
            <a:ext cx="8425080" cy="2504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odwrot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takie dwie liczby, któryc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loczyn wynosi 1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.  liczba odwrotna do liczby 2 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24000" y="4365720"/>
            <a:ext cx="7921440" cy="861840"/>
            <a:chOff x="324000" y="4365720"/>
            <a:chExt cx="7921440" cy="86184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7194600" y="4365720"/>
                  <a:ext cx="272880" cy="79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"/>
            <p:cNvSpPr/>
            <p:nvPr/>
          </p:nvSpPr>
          <p:spPr>
            <a:xfrm>
              <a:off x="324000" y="4694040"/>
              <a:ext cx="7921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2637000"/>
            <a:ext cx="8424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całkowit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 = { …, -4, -3, -2, -1, 0, 1, 2, 3, 4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3500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CAŁKOWIT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5589720"/>
            <a:ext cx="8291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y całkowite są podzbiorem liczb wymierny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341360"/>
            <a:ext cx="8229600" cy="110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całkowite to liczby naturalne oraz licz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ich przeciw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3716280"/>
            <a:ext cx="2808360" cy="2232000"/>
          </a:xfrm>
          <a:prstGeom prst="wedgeEllipseCallout">
            <a:avLst>
              <a:gd name="adj1" fmla="val -9412"/>
              <a:gd name="adj2" fmla="val 96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144000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4941720"/>
            <a:ext cx="719280" cy="64800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404640"/>
            <a:ext cx="849780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arzyst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całkowite podzielne przez 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9264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czby dodatnie i zero tworzą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zbiór liczb nieujemny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22936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czby ujemne i zero tworzą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zbiór liczb niedodatni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421000"/>
            <a:ext cx="8713800" cy="97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nieparzyst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całkowite niepodzielne przez 2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WYMIERN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1341360"/>
            <a:ext cx="8424720" cy="136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wymierne W to wszystkie liczby, które można przedstawić w postaci ilorazu liczb całkowitych, gdzie mianownik jest liczbą różną od z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640" y="2781360"/>
            <a:ext cx="8496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Liczby wymierne to wszystkie liczby naturalne, całkowite oraz wszystkie ułamki dodatnie i ujemn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716280"/>
            <a:ext cx="4032360" cy="2133720"/>
          </a:xfrm>
          <a:prstGeom prst="wedgeEllipseCallout">
            <a:avLst>
              <a:gd name="adj1" fmla="val -37166"/>
              <a:gd name="adj2" fmla="val 8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3933720"/>
            <a:ext cx="2808360" cy="1871640"/>
          </a:xfrm>
          <a:prstGeom prst="wedgeEllipseCallout">
            <a:avLst>
              <a:gd name="adj1" fmla="val -9412"/>
              <a:gd name="adj2" fmla="val -581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4972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4724280"/>
            <a:ext cx="718920" cy="64800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47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587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zby wymierne są podzbiorem liczb rzeczywistych R i nadzbiorem licz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łkowitych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9:10:36Z</dcterms:created>
  <dc:creator>nauczyciel</dc:creator>
  <dc:description/>
  <dc:language>en-US</dc:language>
  <cp:lastModifiedBy>Matematyka</cp:lastModifiedBy>
  <dcterms:modified xsi:type="dcterms:W3CDTF">2014-01-03T14:53:57Z</dcterms:modified>
  <cp:revision>64</cp:revision>
  <dc:subject/>
  <dc:title>ZBIÓR LICZB RZECZYWISTYCH I JEGO PODZBIORY</dc:title>
</cp:coreProperties>
</file>