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549-1746-49C3-A5BA-1418C7D4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963-1D66-4587-8759-1F4CEBC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467-EECE-4F04-A2AA-41FFA355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E03-0A74-424B-B0BD-67D55285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CEC2-F677-4249-BCDA-AB2E2418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93F3-4088-4276-A499-595E4FD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783F-C41B-4A79-9BEC-4170DA2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72FE-4640-4607-AC28-9B13D0B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A1FA-F6A6-4899-B606-C221C61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E59B-811A-4F66-AAF3-5C2326CA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FD43-B90C-49B5-9CB3-4260A31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EC6-747F-4282-8732-61439626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1858-8511-444C-BA65-FD83638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169C-A236-40AD-8471-6750CEB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D591-7FB0-4FB8-A55E-A50E2A3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B76A-F0B9-4712-A4CA-2DE50D81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28F0-9633-4B1C-8ADE-097D7547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686-DC48-47DE-B9C6-B021992A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B28-AF0E-44D0-B974-DAB2309A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46E-280F-418F-A55B-EEF9B4B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979-9F27-4C38-A067-39E80C9A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E08-99E7-468C-B401-B10A1BD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632-3F0E-4969-8BBF-9455C83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08E-276C-492A-9E2C-115AC88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8136-BD79-4676-9341-E0B87CBE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BD1-6355-4BF6-ABFD-7B433EE4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133720"/>
            <a:ext cx="152388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3080" y="1372680"/>
            <a:ext cx="3058200" cy="3882600"/>
            <a:chOff x="1513080" y="1372680"/>
            <a:chExt cx="3058200" cy="3882600"/>
          </a:xfrm>
        </p:grpSpPr>
        <p:grpSp>
          <p:nvGrpSpPr>
            <p:cNvPr id="49" name=""/>
            <p:cNvGrpSpPr/>
            <p:nvPr/>
          </p:nvGrpSpPr>
          <p:grpSpPr>
            <a:xfrm>
              <a:off x="1513080" y="3810960"/>
              <a:ext cx="3058200" cy="1444320"/>
              <a:chOff x="1513080" y="3810960"/>
              <a:chExt cx="3058200" cy="14443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3080" y="38862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1524240" y="38106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513080" y="1372680"/>
              <a:ext cx="3058200" cy="3198960"/>
              <a:chOff x="1513080" y="1372680"/>
              <a:chExt cx="3058200" cy="319896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2133360"/>
                <a:ext cx="152424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513080" y="1372680"/>
                <a:ext cx="3058200" cy="1446480"/>
                <a:chOff x="1513080" y="1372680"/>
                <a:chExt cx="3058200" cy="14464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513080" y="144792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524240" y="137196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ath.edu.pl/" TargetMode="External"/><Relationship Id="rId2" Type="http://schemas.openxmlformats.org/officeDocument/2006/relationships/hyperlink" Target="http://www.matematykam.pl/rodzaje_bryl_obrotowych.html" TargetMode="External"/><Relationship Id="rId3" Type="http://schemas.openxmlformats.org/officeDocument/2006/relationships/hyperlink" Target="http://www.zs2ndg.szkolnastrona.p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7176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1. 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2954160"/>
            <a:ext cx="382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2. 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3857760"/>
            <a:ext cx="435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3. 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27160" y="3414600"/>
            <a:ext cx="4343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120" y="552600"/>
            <a:ext cx="78865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PODSTAWOWE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BRYŁY OBRO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63960" y="2174760"/>
          <a:ext cx="371808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2174760"/>
                    <a:ext cx="37180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489-38E7-4B0F-9A35-0972EACB7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cz objętość puszki w kształcie walca                 o długości średnicy 5cm i wysokości 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 10cm              d=5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338148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3C6-F5F3-42AE-8EB0-A01557FE84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- 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am objętość puszki:        Obliczam promień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r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r= ½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5= 2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(2,5)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 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                              H= 10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6,25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dp: Objętość puszki wynosi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CAB-9979-46D6-9DD2-5B0DC48FC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3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Oblicz pole boczne i pole całkowite walca powstałego przez obrót prostokąta o bokach 3cm i 5cm wokół dłuższego bo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3120" y="316224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357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752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99720" y="451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4000" y="3813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" y="5087880"/>
            <a:ext cx="78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b= 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      Pc = 2π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+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1160" y="30780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 =3      H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792-7B06-46E8-9EA9-0B86C56034F9}" type="slidenum">
              <a:t>12</a:t>
            </a:fld>
          </a:p>
        </p:txBody>
      </p:sp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wiązanie do zadan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empus Sans ITC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      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*1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9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15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30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48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" y="5019840"/>
            <a:ext cx="8543880" cy="337320"/>
          </a:xfrm>
          <a:prstGeom prst="rect">
            <a:avLst/>
          </a:prstGeom>
          <a:solidFill>
            <a:srgbClr val="cc66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Odp: Pole boczne walca wynosi 30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, natomiast pole całkowite wynosi 48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221-012E-497F-B2F9-BA2DAA1255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wstaje przez obrót trójkąta prostokątnego ABC wokół przyprostokąt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CB nazywamy tworzącą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B jest promieniem podstawy –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Koło o środku A jest podstaw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C jest wysokością stożka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844640"/>
            <a:ext cx="3048120" cy="335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724280"/>
            <a:ext cx="3048120" cy="99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761760" cy="4572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362320" y="1904760"/>
            <a:ext cx="76176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6386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2000" y="1523880"/>
            <a:ext cx="2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50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CCD-DC30-481B-BFBA-434B8A0549B8}" type="slidenum">
              <a:t>14</a:t>
            </a:fld>
          </a:p>
        </p:txBody>
      </p:sp>
    </p:spTree>
  </p:cSld>
  <p:transition advTm="8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35760" y="1400040"/>
            <a:ext cx="738720" cy="4692240"/>
            <a:chOff x="2435760" y="1400040"/>
            <a:chExt cx="738720" cy="4692240"/>
          </a:xfrm>
        </p:grpSpPr>
        <p:sp>
          <p:nvSpPr>
            <p:cNvPr id="236" name=""/>
            <p:cNvSpPr/>
            <p:nvPr/>
          </p:nvSpPr>
          <p:spPr>
            <a:xfrm>
              <a:off x="2771640" y="1400040"/>
              <a:ext cx="0" cy="45432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46200" y="5170320"/>
              <a:ext cx="72828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08" y="5496"/>
                  </a:moveTo>
                  <a:arcTo wR="10800" hR="10800" stAng="-1764818" swAng="15602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08" y="5496"/>
                  </a:moveTo>
                  <a:arcTo wR="10800" hR="10800" stAng="-1764818" swAng="1560230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171200">
              <a:off x="2315160" y="5599440"/>
              <a:ext cx="6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3440" y="1835280"/>
            <a:ext cx="1600200" cy="26715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3000" y="2463840"/>
            <a:ext cx="2246040" cy="652320"/>
            <a:chOff x="243000" y="2463840"/>
            <a:chExt cx="2246040" cy="652320"/>
          </a:xfrm>
        </p:grpSpPr>
        <p:sp>
          <p:nvSpPr>
            <p:cNvPr id="241" name=""/>
            <p:cNvSpPr/>
            <p:nvPr/>
          </p:nvSpPr>
          <p:spPr>
            <a:xfrm>
              <a:off x="243000" y="246384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4440" y="2786040"/>
              <a:ext cx="1412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17720" y="2786040"/>
              <a:ext cx="571320" cy="330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538080" y="4814640"/>
            <a:ext cx="2065680" cy="1158120"/>
            <a:chOff x="3538080" y="4814640"/>
            <a:chExt cx="2065680" cy="1158120"/>
          </a:xfrm>
        </p:grpSpPr>
        <p:sp>
          <p:nvSpPr>
            <p:cNvPr id="245" name=""/>
            <p:cNvSpPr/>
            <p:nvPr/>
          </p:nvSpPr>
          <p:spPr>
            <a:xfrm>
              <a:off x="3882960" y="5635440"/>
              <a:ext cx="17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76480" y="5942160"/>
              <a:ext cx="1346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538080" y="4814640"/>
              <a:ext cx="338040" cy="1127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8840" y="3414600"/>
            <a:ext cx="1751400" cy="1944000"/>
            <a:chOff x="348840" y="3414600"/>
            <a:chExt cx="1751400" cy="1944000"/>
          </a:xfrm>
        </p:grpSpPr>
        <p:sp>
          <p:nvSpPr>
            <p:cNvPr id="249" name=""/>
            <p:cNvSpPr/>
            <p:nvPr/>
          </p:nvSpPr>
          <p:spPr>
            <a:xfrm>
              <a:off x="471600" y="5021280"/>
              <a:ext cx="16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tworząc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48840" y="3414600"/>
              <a:ext cx="1319400" cy="1919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5329080"/>
              <a:ext cx="1586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133960" y="1228680"/>
            <a:ext cx="36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żkiem nazywamy bryłę obrotową powstałą przez obrót trójkąta prostokątnego dookoła prostej zawierającej jedną z przyprostokąt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4800" y="1608120"/>
            <a:ext cx="3287160" cy="3511440"/>
            <a:chOff x="1144800" y="1608120"/>
            <a:chExt cx="3287160" cy="3511440"/>
          </a:xfrm>
        </p:grpSpPr>
        <p:grpSp>
          <p:nvGrpSpPr>
            <p:cNvPr id="254" name=""/>
            <p:cNvGrpSpPr/>
            <p:nvPr/>
          </p:nvGrpSpPr>
          <p:grpSpPr>
            <a:xfrm>
              <a:off x="1144800" y="1851120"/>
              <a:ext cx="3287160" cy="3268440"/>
              <a:chOff x="1144800" y="1851120"/>
              <a:chExt cx="3287160" cy="32684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144800" y="1851120"/>
                <a:ext cx="3287160" cy="3268440"/>
                <a:chOff x="1144800" y="1851120"/>
                <a:chExt cx="3287160" cy="326844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1144800" y="3851640"/>
                  <a:ext cx="3287160" cy="1267920"/>
                  <a:chOff x="1144800" y="3851640"/>
                  <a:chExt cx="3287160" cy="12679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35000">
                    <a:off x="1192680" y="399636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" y="9347"/>
                        </a:moveTo>
                        <a:arcTo wR="10800" hR="10800" stAng="-10335992" swAng="103359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" y="9347"/>
                        </a:moveTo>
                        <a:arcTo wR="10800" hR="10800" stAng="-10335992" swAng="1033599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 rot="135000">
                    <a:off x="1164240" y="391428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9" y="9772"/>
                        </a:moveTo>
                        <a:arcTo wR="10800" hR="10800" stAng="-10472407" swAng="104724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9" y="9772"/>
                        </a:moveTo>
                        <a:arcTo wR="10800" hR="10800" stAng="-10472407" swAng="104724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>
                  <a:off x="1171080" y="1851120"/>
                  <a:ext cx="1600200" cy="261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87280" y="4495680"/>
                <a:ext cx="15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95360" y="1608120"/>
              <a:ext cx="2962440" cy="3224160"/>
              <a:chOff x="1395360" y="1608120"/>
              <a:chExt cx="2962440" cy="322416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2665440" y="1752480"/>
                    <a:ext cx="24444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1395360" y="1608120"/>
                <a:ext cx="2962440" cy="3224160"/>
                <a:chOff x="1395360" y="1608120"/>
                <a:chExt cx="2962440" cy="32241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771640" y="1952640"/>
                  <a:ext cx="1586160" cy="2552760"/>
                  <a:chOff x="2771640" y="1952640"/>
                  <a:chExt cx="1586160" cy="25527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771640" y="1952640"/>
                    <a:ext cx="0" cy="2552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771640" y="4505400"/>
                    <a:ext cx="15861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257640" y="4464000"/>
                  <a:ext cx="6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3240" y="3021120"/>
                  <a:ext cx="54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536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2432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506680" y="1608120"/>
                  <a:ext cx="282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20680" y="1622520"/>
            <a:ext cx="2309760" cy="337320"/>
            <a:chOff x="220680" y="1622520"/>
            <a:chExt cx="2309760" cy="337320"/>
          </a:xfrm>
        </p:grpSpPr>
        <p:sp>
          <p:nvSpPr>
            <p:cNvPr id="273" name=""/>
            <p:cNvSpPr/>
            <p:nvPr/>
          </p:nvSpPr>
          <p:spPr>
            <a:xfrm>
              <a:off x="220680" y="1622520"/>
              <a:ext cx="18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ierzchołek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97200" y="1806480"/>
              <a:ext cx="633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C57-B00A-4D60-BC50-70919EE50D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2680" y="-1571760"/>
            <a:ext cx="5283000" cy="7172640"/>
            <a:chOff x="112680" y="-1571760"/>
            <a:chExt cx="5283000" cy="7172640"/>
          </a:xfrm>
        </p:grpSpPr>
        <p:grpSp>
          <p:nvGrpSpPr>
            <p:cNvPr id="277" name=""/>
            <p:cNvGrpSpPr/>
            <p:nvPr/>
          </p:nvGrpSpPr>
          <p:grpSpPr>
            <a:xfrm>
              <a:off x="112680" y="-1571760"/>
              <a:ext cx="5283000" cy="7172640"/>
              <a:chOff x="112680" y="-1571760"/>
              <a:chExt cx="5283000" cy="71726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12680" y="-1571760"/>
                <a:ext cx="5283000" cy="5686200"/>
                <a:chOff x="112680" y="-1571760"/>
                <a:chExt cx="5283000" cy="56862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112680" y="-1572120"/>
                  <a:ext cx="5283000" cy="568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4" y="6362"/>
                      </a:moveTo>
                      <a:arcTo wR="10800" hR="10800" stAng="-9344323" swAng="78874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4" y="6362"/>
                      </a:moveTo>
                      <a:arcTo wR="10800" hR="10800" stAng="-9344323" swAng="7887465"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13920" y="1257480"/>
                  <a:ext cx="24289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28800" y="1257480"/>
                  <a:ext cx="24433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986120" y="4129200"/>
                <a:ext cx="1471320" cy="1471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620800" y="4778280"/>
              <a:ext cx="694080" cy="550800"/>
              <a:chOff x="2620800" y="4778280"/>
              <a:chExt cx="694080" cy="550800"/>
            </a:xfrm>
          </p:grpSpPr>
          <p:sp>
            <p:nvSpPr>
              <p:cNvPr id="284" name=""/>
              <p:cNvSpPr/>
              <p:nvPr/>
            </p:nvSpPr>
            <p:spPr>
              <a:xfrm>
                <a:off x="2728800" y="4886280"/>
                <a:ext cx="58608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2620800" y="4778280"/>
                    <a:ext cx="24480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86" name=""/>
          <p:cNvGrpSpPr/>
          <p:nvPr/>
        </p:nvGrpSpPr>
        <p:grpSpPr>
          <a:xfrm>
            <a:off x="857160" y="1652760"/>
            <a:ext cx="3714840" cy="3470760"/>
            <a:chOff x="857160" y="1652760"/>
            <a:chExt cx="3714840" cy="3470760"/>
          </a:xfrm>
        </p:grpSpPr>
        <p:sp>
          <p:nvSpPr>
            <p:cNvPr id="287" name=""/>
            <p:cNvSpPr/>
            <p:nvPr/>
          </p:nvSpPr>
          <p:spPr>
            <a:xfrm>
              <a:off x="2809800" y="4786200"/>
              <a:ext cx="5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160" y="170028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3360" y="165276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2414520" y="3770280"/>
                  <a:ext cx="72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3632040" y="4216320"/>
            <a:ext cx="5151240" cy="1634760"/>
            <a:chOff x="3632040" y="4216320"/>
            <a:chExt cx="5151240" cy="1634760"/>
          </a:xfrm>
        </p:grpSpPr>
        <p:sp>
          <p:nvSpPr>
            <p:cNvPr id="292" name=""/>
            <p:cNvSpPr/>
            <p:nvPr/>
          </p:nvSpPr>
          <p:spPr>
            <a:xfrm>
              <a:off x="3632040" y="4216320"/>
              <a:ext cx="51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041720" y="4901040"/>
                  <a:ext cx="3987720" cy="95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399960" y="5137200"/>
            <a:ext cx="1905120" cy="337320"/>
            <a:chOff x="399960" y="5137200"/>
            <a:chExt cx="1905120" cy="337320"/>
          </a:xfrm>
        </p:grpSpPr>
        <p:sp>
          <p:nvSpPr>
            <p:cNvPr id="295" name=""/>
            <p:cNvSpPr/>
            <p:nvPr/>
          </p:nvSpPr>
          <p:spPr>
            <a:xfrm>
              <a:off x="399960" y="513720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2560" y="5446440"/>
              <a:ext cx="1481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893960" y="5208120"/>
              <a:ext cx="411120" cy="2379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72000" y="2563920"/>
            <a:ext cx="4287960" cy="337320"/>
            <a:chOff x="4572000" y="2563920"/>
            <a:chExt cx="4287960" cy="337320"/>
          </a:xfrm>
        </p:grpSpPr>
        <p:sp>
          <p:nvSpPr>
            <p:cNvPr id="299" name=""/>
            <p:cNvSpPr/>
            <p:nvPr/>
          </p:nvSpPr>
          <p:spPr>
            <a:xfrm>
              <a:off x="5789520" y="2563920"/>
              <a:ext cx="30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762640"/>
              <a:ext cx="1109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9B3-6AF8-4640-BF96-D3864C542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RZEKRÓJ OSIOWY STOŻ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2933640"/>
            <a:ext cx="3809880" cy="2124000"/>
          </a:xfrm>
          <a:prstGeom prst="rect">
            <a:avLst/>
          </a:prstGeom>
          <a:noFill/>
          <a:ln w="41400">
            <a:solidFill>
              <a:srgbClr val="99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zekrojem osiowym stożka jest trójkąt równoramie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285640" y="5029200"/>
            <a:ext cx="1600200" cy="0"/>
          </a:xfrm>
          <a:prstGeom prst="line">
            <a:avLst/>
          </a:prstGeom>
          <a:ln w="442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457200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920" y="28195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2819520"/>
            <a:ext cx="2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85440" y="5029200"/>
            <a:ext cx="1600200" cy="0"/>
          </a:xfrm>
          <a:prstGeom prst="line">
            <a:avLst/>
          </a:prstGeom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EAA-186B-401B-9539-AA1F87EC1352}" type="slidenum">
              <a:t>17</a:t>
            </a:fld>
          </a:p>
        </p:txBody>
      </p:sp>
    </p:spTree>
  </p:cSld>
  <p:transition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9200" y="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Stożek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r  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ma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3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mniejszą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wale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 podstaw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828440" y="3854520"/>
            <a:ext cx="126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3797280"/>
            <a:ext cx="752400" cy="80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3774960"/>
            <a:ext cx="749160" cy="2383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6840" y="4365720"/>
            <a:ext cx="761760" cy="237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448956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7720" y="3914640"/>
            <a:ext cx="0" cy="581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475-A9FC-42A8-9DBD-D3715DBBEE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3024360"/>
            <a:ext cx="4346280" cy="1548720"/>
            <a:chOff x="3800520" y="3024360"/>
            <a:chExt cx="4346280" cy="1548720"/>
          </a:xfrm>
        </p:grpSpPr>
        <p:sp>
          <p:nvSpPr>
            <p:cNvPr id="333" name=""/>
            <p:cNvSpPr/>
            <p:nvPr/>
          </p:nvSpPr>
          <p:spPr>
            <a:xfrm>
              <a:off x="3800520" y="3024360"/>
              <a:ext cx="290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894120" y="3407760"/>
                  <a:ext cx="425268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92120" y="5057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23875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514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7120" y="3749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14240" y="504720"/>
            <a:ext cx="77724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ętość stoż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st trzy razy mniejsza od objętości walca o tym samym promieniu podstawy i wysok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86E-1715-4812-B3A4-C8C2D0AF34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Monotype Corsiva"/>
              </a:rPr>
              <a:t>Co to są bryły obrotowe?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99ff"/>
                </a:solidFill>
                <a:latin typeface="Copperplate Gothic Light"/>
              </a:rPr>
              <a:t>BRYŁY OBROTOW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yły otrzymane    w wyniku obrotu figury płaskiej wokół prostej, zwanej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pperplate Gothic Light"/>
              </a:rPr>
              <a:t>osią obr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8600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048120"/>
            <a:ext cx="8380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5640" y="2514600"/>
            <a:ext cx="1055880" cy="990720"/>
          </a:xfrm>
          <a:custGeom>
            <a:avLst/>
            <a:gdLst>
              <a:gd name="textAreaLeft" fmla="*/ 141480 w 1055880"/>
              <a:gd name="textAreaRight" fmla="*/ 914400 w 1055880"/>
              <a:gd name="textAreaTop" fmla="*/ 176040 h 990720"/>
              <a:gd name="textAreaBottom" fmla="*/ 622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2711272"/>
                <a:lnTo>
                  <a:pt x="7200" y="21160"/>
                </a:lnTo>
                <a:lnTo>
                  <a:pt x="0" y="16391"/>
                </a:lnTo>
                <a:lnTo>
                  <a:pt x="7200" y="10742"/>
                </a:lnTo>
                <a:lnTo>
                  <a:pt x="7200" y="14934"/>
                </a:lnTo>
                <a:arcTo wR="21600" hR="7687" stAng="2711272" swAng="-2548099"/>
                <a:lnTo>
                  <a:pt x="21410" y="8704"/>
                </a:lnTo>
                <a:arcTo wR="21600" hR="7687" stAng="-163173" swAng="-5236827"/>
                <a:close/>
              </a:path>
              <a:path fill="darkenLess"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-163173"/>
                <a:lnTo>
                  <a:pt x="21410" y="8704"/>
                </a:lnTo>
                <a:arcTo wR="21600" hR="7687" stAng="-163173" swAng="-5236827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38680"/>
            <a:ext cx="381024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905120"/>
            <a:ext cx="0" cy="3200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895480"/>
            <a:ext cx="1218960" cy="137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666880"/>
            <a:ext cx="533520" cy="381240"/>
          </a:xfrm>
          <a:custGeom>
            <a:avLst/>
            <a:gdLst>
              <a:gd name="textAreaLeft" fmla="*/ 71280 w 533520"/>
              <a:gd name="textAreaRight" fmla="*/ 462240 w 5335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2971800"/>
            <a:ext cx="10670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228600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514600"/>
            <a:ext cx="276480" cy="457200"/>
          </a:xfrm>
          <a:custGeom>
            <a:avLst/>
            <a:gdLst>
              <a:gd name="textAreaLeft" fmla="*/ 37080 w 276480"/>
              <a:gd name="textAreaRight" fmla="*/ 239400 w 2764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666880" y="4538520"/>
            <a:ext cx="1905120" cy="110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66880" y="4148280"/>
            <a:ext cx="5562720" cy="149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0B1-4899-4154-81FD-07A57CE6A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 - 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 pole całkowite i objętość figury powstałej w wyniku obrotu trójkąta równobocznego o boku długości 6cm wokół wysok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l= 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r= 3c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9600" y="3495600"/>
            <a:ext cx="144792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9600" y="4505400"/>
            <a:ext cx="1447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4267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9760" y="2843280"/>
            <a:ext cx="4155840" cy="1158480"/>
            <a:chOff x="3209760" y="2843280"/>
            <a:chExt cx="4155840" cy="1158480"/>
          </a:xfrm>
        </p:grpSpPr>
        <p:sp>
          <p:nvSpPr>
            <p:cNvPr id="350" name=""/>
            <p:cNvSpPr/>
            <p:nvPr/>
          </p:nvSpPr>
          <p:spPr>
            <a:xfrm>
              <a:off x="3209760" y="2843280"/>
              <a:ext cx="27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299040" y="3129840"/>
                  <a:ext cx="4066560" cy="87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2832120" y="4321080"/>
            <a:ext cx="5040000" cy="1329840"/>
            <a:chOff x="2832120" y="4321080"/>
            <a:chExt cx="5040000" cy="1329840"/>
          </a:xfrm>
        </p:grpSpPr>
        <p:sp>
          <p:nvSpPr>
            <p:cNvPr id="353" name=""/>
            <p:cNvSpPr/>
            <p:nvPr/>
          </p:nvSpPr>
          <p:spPr>
            <a:xfrm>
              <a:off x="2832120" y="4321080"/>
              <a:ext cx="50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3233160" y="4878000"/>
                  <a:ext cx="39016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1C1-0E36-4918-818D-048189FCE2E9}" type="slidenum">
              <a:t>20</a:t>
            </a:fld>
          </a:p>
        </p:txBody>
      </p:sp>
    </p:spTree>
  </p:cSld>
  <p:transition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– p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296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r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π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3π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9+18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99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= 27π cm</a:t>
            </a:r>
            <a:r>
              <a:rPr b="0" lang="pl-PL" sz="24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21040" y="4290840"/>
            <a:ext cx="363348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całkowite 27π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CD3-899E-447A-B8F4-B1C705A18A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- objęt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2432160" cy="831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V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π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</a:t>
            </a:r>
            <a:r>
              <a:rPr b="0" lang="en-US" sz="800" spc="-1" strike="noStrike">
                <a:solidFill>
                  <a:srgbClr val="990000"/>
                </a:solidFill>
                <a:latin typeface="Tempus Sans IT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298520" y="1609560"/>
                <a:ext cx="362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1881360" y="4684680"/>
            <a:ext cx="640224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: Objętość stożka wynosi 18π cm</a:t>
            </a:r>
            <a:r>
              <a:rPr b="1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0" y="-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46440" y="1766880"/>
                <a:ext cx="3114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23960" y="3216240"/>
                <a:ext cx="7135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2D8-807E-4EF9-99BE-EB95FF4E3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55320" y="18162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 u="sng">
                <a:solidFill>
                  <a:srgbClr val="0000b6"/>
                </a:solidFill>
                <a:uFillTx/>
                <a:latin typeface="Monotype Corsiva"/>
              </a:rPr>
              <a:t>KULĘ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otrzymujemy    obracając   koło   lub półko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Powierzchnia kuli to </a:t>
            </a: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sfera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21240" y="262080"/>
          <a:ext cx="438156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62080"/>
                    <a:ext cx="438156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876920" y="4064040"/>
            <a:ext cx="2209680" cy="220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0440" y="4902120"/>
            <a:ext cx="2209680" cy="457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1160" y="5118120"/>
            <a:ext cx="1218960" cy="0"/>
          </a:xfrm>
          <a:prstGeom prst="line">
            <a:avLst/>
          </a:prstGeom>
          <a:ln w="38160">
            <a:solidFill>
              <a:srgbClr val="dc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1520" y="4305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Promi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552720" y="453384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17E-ED66-4B39-8D09-F5FC646F4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30240" y="1386000"/>
            <a:ext cx="753840" cy="4819680"/>
            <a:chOff x="1830240" y="1386000"/>
            <a:chExt cx="753840" cy="4819680"/>
          </a:xfrm>
        </p:grpSpPr>
        <p:sp>
          <p:nvSpPr>
            <p:cNvPr id="378" name=""/>
            <p:cNvSpPr/>
            <p:nvPr/>
          </p:nvSpPr>
          <p:spPr>
            <a:xfrm>
              <a:off x="2233440" y="1386000"/>
              <a:ext cx="0" cy="48196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30240" y="5281200"/>
              <a:ext cx="7538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12" y="19358"/>
                  </a:moveTo>
                  <a:arcTo wR="10800" hR="10800" stAng="7655349" swAng="16767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212" y="19358"/>
                  </a:moveTo>
                  <a:arcTo wR="10800" hR="10800" stAng="7655349" swAng="16767424"/>
                </a:path>
              </a:pathLst>
            </a:custGeom>
            <a:noFill/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1788480" y="5526360"/>
              <a:ext cx="62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4440" y="1942920"/>
            <a:ext cx="3091320" cy="2942640"/>
            <a:chOff x="694440" y="1942920"/>
            <a:chExt cx="3091320" cy="2942640"/>
          </a:xfrm>
        </p:grpSpPr>
        <p:sp>
          <p:nvSpPr>
            <p:cNvPr id="382" name=""/>
            <p:cNvSpPr/>
            <p:nvPr/>
          </p:nvSpPr>
          <p:spPr>
            <a:xfrm>
              <a:off x="694440" y="194328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94440" y="194220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97040" y="1923480"/>
            <a:ext cx="2985840" cy="2982600"/>
            <a:chOff x="797040" y="1923480"/>
            <a:chExt cx="2985840" cy="2982600"/>
          </a:xfrm>
        </p:grpSpPr>
        <p:sp>
          <p:nvSpPr>
            <p:cNvPr id="385" name=""/>
            <p:cNvSpPr/>
            <p:nvPr/>
          </p:nvSpPr>
          <p:spPr>
            <a:xfrm>
              <a:off x="2239560" y="3429000"/>
              <a:ext cx="1528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97040" y="1923480"/>
              <a:ext cx="2985840" cy="2982600"/>
              <a:chOff x="797040" y="1923480"/>
              <a:chExt cx="2985840" cy="29826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797040" y="1923480"/>
                <a:ext cx="2985840" cy="2978640"/>
                <a:chOff x="797040" y="1923480"/>
                <a:chExt cx="2985840" cy="2978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7040" y="1942920"/>
                  <a:ext cx="2985840" cy="294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803880" y="2759400"/>
                  <a:ext cx="2978280" cy="13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6200000">
                  <a:off x="788400" y="2759040"/>
                  <a:ext cx="2978640" cy="130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 rot="16200000">
                <a:off x="732240" y="2763000"/>
                <a:ext cx="2978640" cy="13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03880" y="2760480"/>
                <a:ext cx="2978280" cy="130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3930480" y="1371600"/>
            <a:ext cx="483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la jest bryłą obrotową powstałą przez obrót półkola dookoła prostej, w której zawarta jest średnica tego półk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92160" y="3092400"/>
            <a:ext cx="1463760" cy="560520"/>
            <a:chOff x="1892160" y="3092400"/>
            <a:chExt cx="1463760" cy="56052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038320" y="3205080"/>
                  <a:ext cx="311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396" name=""/>
            <p:cNvGrpSpPr/>
            <p:nvPr/>
          </p:nvGrpSpPr>
          <p:grpSpPr>
            <a:xfrm>
              <a:off x="1892160" y="3092400"/>
              <a:ext cx="1463760" cy="337320"/>
              <a:chOff x="1892160" y="3092400"/>
              <a:chExt cx="1463760" cy="337320"/>
            </a:xfrm>
          </p:grpSpPr>
          <p:sp>
            <p:nvSpPr>
              <p:cNvPr id="397" name=""/>
              <p:cNvSpPr/>
              <p:nvPr/>
            </p:nvSpPr>
            <p:spPr>
              <a:xfrm>
                <a:off x="1892160" y="3092400"/>
                <a:ext cx="39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68640" y="3092400"/>
                <a:ext cx="28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87280" y="3428640"/>
            <a:ext cx="2925720" cy="1872720"/>
            <a:chOff x="287280" y="3428640"/>
            <a:chExt cx="2925720" cy="1872720"/>
          </a:xfrm>
        </p:grpSpPr>
        <p:sp>
          <p:nvSpPr>
            <p:cNvPr id="400" name=""/>
            <p:cNvSpPr/>
            <p:nvPr/>
          </p:nvSpPr>
          <p:spPr>
            <a:xfrm>
              <a:off x="287280" y="496404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6640" y="5238720"/>
              <a:ext cx="1305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103480" y="3428640"/>
              <a:ext cx="1109520" cy="1809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03040" y="1317600"/>
            <a:ext cx="1998720" cy="2097000"/>
            <a:chOff x="203040" y="1317600"/>
            <a:chExt cx="1998720" cy="2097000"/>
          </a:xfrm>
        </p:grpSpPr>
        <p:sp>
          <p:nvSpPr>
            <p:cNvPr id="404" name=""/>
            <p:cNvSpPr/>
            <p:nvPr/>
          </p:nvSpPr>
          <p:spPr>
            <a:xfrm>
              <a:off x="203040" y="131760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1579680"/>
              <a:ext cx="121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9720" y="1579680"/>
              <a:ext cx="368280" cy="183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57440" y="46958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owierzchnię kuli nazywam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fe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36A-C441-4A4E-884F-FD62E48D31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348200" y="1927080"/>
            <a:ext cx="2977200" cy="3003840"/>
            <a:chOff x="1348200" y="1927080"/>
            <a:chExt cx="2977200" cy="3003840"/>
          </a:xfrm>
        </p:grpSpPr>
        <p:grpSp>
          <p:nvGrpSpPr>
            <p:cNvPr id="410" name=""/>
            <p:cNvGrpSpPr/>
            <p:nvPr/>
          </p:nvGrpSpPr>
          <p:grpSpPr>
            <a:xfrm>
              <a:off x="2806560" y="1927080"/>
              <a:ext cx="5040" cy="3003840"/>
              <a:chOff x="2806560" y="1927080"/>
              <a:chExt cx="5040" cy="300384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2811600" y="192708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06560" y="342900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348200" y="1937880"/>
              <a:ext cx="2977200" cy="2981520"/>
              <a:chOff x="1348200" y="1937880"/>
              <a:chExt cx="2977200" cy="298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1348200" y="193824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348200" y="193716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604960" y="3078000"/>
            <a:ext cx="1392480" cy="603360"/>
            <a:chOff x="2604960" y="3078000"/>
            <a:chExt cx="1392480" cy="603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2604960" y="3147840"/>
              <a:ext cx="4510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736800" y="307800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8600" y="3078000"/>
              <a:ext cx="3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95520" y="1317600"/>
            <a:ext cx="641160" cy="4886280"/>
            <a:chOff x="2495520" y="1317600"/>
            <a:chExt cx="641160" cy="4886280"/>
          </a:xfrm>
        </p:grpSpPr>
        <p:sp>
          <p:nvSpPr>
            <p:cNvPr id="421" name=""/>
            <p:cNvSpPr/>
            <p:nvPr/>
          </p:nvSpPr>
          <p:spPr>
            <a:xfrm flipH="1" flipV="1">
              <a:off x="2522520" y="5277240"/>
              <a:ext cx="6141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4" y="17903"/>
                  </a:moveTo>
                  <a:arcTo wR="10800" hR="10800" stAng="8332566" swAng="16544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4" y="17903"/>
                  </a:moveTo>
                  <a:arcTo wR="10800" hR="10800" stAng="8332566" swAng="1654492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495520" y="1317600"/>
              <a:ext cx="337320" cy="4886280"/>
              <a:chOff x="2495520" y="1317600"/>
              <a:chExt cx="337320" cy="4886280"/>
            </a:xfrm>
          </p:grpSpPr>
          <p:sp>
            <p:nvSpPr>
              <p:cNvPr id="423" name=""/>
              <p:cNvSpPr/>
              <p:nvPr/>
            </p:nvSpPr>
            <p:spPr>
              <a:xfrm>
                <a:off x="2808360" y="1317600"/>
                <a:ext cx="0" cy="48862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2481480" y="5801760"/>
                <a:ext cx="36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301760" y="1906200"/>
            <a:ext cx="3042720" cy="3043080"/>
            <a:chOff x="1301760" y="1906200"/>
            <a:chExt cx="3042720" cy="3043080"/>
          </a:xfrm>
        </p:grpSpPr>
        <p:sp>
          <p:nvSpPr>
            <p:cNvPr id="426" name=""/>
            <p:cNvSpPr/>
            <p:nvPr/>
          </p:nvSpPr>
          <p:spPr>
            <a:xfrm>
              <a:off x="2820960" y="3414600"/>
              <a:ext cx="1515960" cy="14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01760" y="1906200"/>
              <a:ext cx="3042720" cy="3043080"/>
              <a:chOff x="1301760" y="1906200"/>
              <a:chExt cx="3042720" cy="3043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7600" y="1937880"/>
                <a:ext cx="2976480" cy="2981520"/>
                <a:chOff x="1317600" y="1937880"/>
                <a:chExt cx="2976480" cy="298152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1317600" y="193824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1317240" y="193752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301760" y="1906200"/>
                <a:ext cx="3042720" cy="3043080"/>
                <a:chOff x="1301760" y="1906200"/>
                <a:chExt cx="3042720" cy="30430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301760" y="2751120"/>
                  <a:ext cx="3042720" cy="1355040"/>
                  <a:chOff x="1301760" y="2751120"/>
                  <a:chExt cx="3042720" cy="1355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58640" y="2751120"/>
                    <a:ext cx="295200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1301760" y="2884320"/>
                    <a:ext cx="304272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169000" y="1906200"/>
                  <a:ext cx="1354320" cy="3043080"/>
                  <a:chOff x="2169000" y="1906200"/>
                  <a:chExt cx="1354320" cy="3043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5400000">
                    <a:off x="1436400" y="2829600"/>
                    <a:ext cx="29523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5400000">
                    <a:off x="1257480" y="2817000"/>
                    <a:ext cx="30430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8" name=""/>
          <p:cNvSpPr/>
          <p:nvPr/>
        </p:nvSpPr>
        <p:spPr>
          <a:xfrm>
            <a:off x="4403880" y="1179360"/>
            <a:ext cx="455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imes New Roman"/>
              </a:rPr>
              <a:t>Sfera jest to  powierzchnia powsta-jąca przez obrót półokręgu dookoła prostej, w której zawarta jest średnica tego półokręgu (zbiór wszystkich punktów przestrzeni, których odległość od punktu O jest równa 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14520" y="1789200"/>
            <a:ext cx="2206440" cy="1639800"/>
            <a:chOff x="614520" y="1789200"/>
            <a:chExt cx="2206440" cy="1639800"/>
          </a:xfrm>
        </p:grpSpPr>
        <p:sp>
          <p:nvSpPr>
            <p:cNvPr id="440" name=""/>
            <p:cNvSpPr/>
            <p:nvPr/>
          </p:nvSpPr>
          <p:spPr>
            <a:xfrm>
              <a:off x="614520" y="1789200"/>
              <a:ext cx="11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2320" y="2063880"/>
              <a:ext cx="1084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2063880"/>
              <a:ext cx="1084320" cy="1365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9880" y="3428640"/>
            <a:ext cx="3395880" cy="1780560"/>
            <a:chOff x="299880" y="3428640"/>
            <a:chExt cx="3395880" cy="1780560"/>
          </a:xfrm>
        </p:grpSpPr>
        <p:sp>
          <p:nvSpPr>
            <p:cNvPr id="444" name=""/>
            <p:cNvSpPr/>
            <p:nvPr/>
          </p:nvSpPr>
          <p:spPr>
            <a:xfrm>
              <a:off x="312840" y="4871880"/>
              <a:ext cx="17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880" y="5159520"/>
              <a:ext cx="1241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554120" y="3428640"/>
              <a:ext cx="2141640" cy="1730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54680" y="5060880"/>
            <a:ext cx="2438280" cy="971640"/>
            <a:chOff x="5854680" y="5060880"/>
            <a:chExt cx="2438280" cy="97164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854680" y="5473800"/>
                  <a:ext cx="2200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5854680" y="5060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sfer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CFC-EF85-43F9-95C0-415648CBB1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rzekrój osiowy kuli ma pole powierzchni równe 16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π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Oblicz pole powierzchni kul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87280" y="3927600"/>
            <a:ext cx="3133440" cy="1314000"/>
            <a:chOff x="1187280" y="3927600"/>
            <a:chExt cx="3133440" cy="131400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87280" y="4485960"/>
                  <a:ext cx="2827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1187280" y="3927600"/>
              <a:ext cx="31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494-54D6-4F1D-BED8-B90873D46C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OZWIĄZANIE DO ZADANI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42720"/>
            <a:ext cx="761976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= 16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4 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64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dp:  Powierzchnia całkowita kuli (powierzchnia sfery) wyno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64 </a:t>
            </a:r>
            <a:r>
              <a:rPr b="1" lang="pl-PL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1" lang="pl-PL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A96-102A-4A75-BAF3-460213DBF4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49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581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Kula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r ma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4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większą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stożek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 podstaw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8288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809880"/>
            <a:ext cx="83844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403848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85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4449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960" y="323784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05120" y="4724280"/>
            <a:ext cx="7440480" cy="1949040"/>
            <a:chOff x="3705120" y="4724280"/>
            <a:chExt cx="7440480" cy="194904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66680" y="5368680"/>
                  <a:ext cx="3567600" cy="13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705120" y="4724280"/>
              <a:ext cx="74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ku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FA0-5C48-4112-9326-4CC9D88649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52520" y="2286000"/>
            <a:ext cx="71056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że średnica wynosi 18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52640" y="3286080"/>
            <a:ext cx="5649480" cy="1882080"/>
            <a:chOff x="1952640" y="3286080"/>
            <a:chExt cx="5649480" cy="1882080"/>
          </a:xfrm>
        </p:grpSpPr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1999440" y="3908160"/>
                  <a:ext cx="2709000" cy="12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"/>
            <p:cNvSpPr/>
            <p:nvPr/>
          </p:nvSpPr>
          <p:spPr>
            <a:xfrm>
              <a:off x="1952640" y="3286080"/>
              <a:ext cx="56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39800" y="73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8AE-3837-4B81-8BDA-D579CA7AA456}" type="slidenum">
              <a:t>29</a:t>
            </a:fld>
          </a:p>
        </p:txBody>
      </p:sp>
    </p:spTree>
  </p:cSld>
  <p:transition advTm="8000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WA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096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BD nazywamy tworzącą -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B jest promieniem podstawy - 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C jest wysokością walca -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90920"/>
            <a:ext cx="1981080" cy="2895480"/>
          </a:xfrm>
          <a:prstGeom prst="ca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105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90920" y="2971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5108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2240" y="54133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9800" y="2989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3A6-64A6-4A94-A5FB-2BDBB504E4B4}" type="slidenum">
              <a:t>3</a:t>
            </a:fld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empus Sans ITC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że jej średnica wynosi 18cm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d = 18    zatem    r = 9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Odp: Objętość kuli wynosi 972 cm</a:t>
            </a:r>
            <a:r>
              <a:rPr b="1" lang="pl-PL" sz="2400" spc="-1" strike="noStrike" baseline="30000">
                <a:solidFill>
                  <a:srgbClr val="ff3300"/>
                </a:solidFill>
                <a:latin typeface="Tempus Sans ITC"/>
              </a:rPr>
              <a:t>3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857160" y="4210200"/>
                <a:ext cx="73468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 flipH="1">
            <a:off x="3333240" y="4924440"/>
            <a:ext cx="30492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397040" y="4492800"/>
            <a:ext cx="390600" cy="51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031-4684-4AE6-B30B-83B84C490584}" type="slidenum">
              <a:t>30</a:t>
            </a:fld>
          </a:p>
        </p:txBody>
      </p:sp>
    </p:spTree>
  </p:cSld>
  <p:transition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680" y="2441520"/>
            <a:ext cx="2457360" cy="4051440"/>
            <a:chOff x="274680" y="2441520"/>
            <a:chExt cx="2457360" cy="4051440"/>
          </a:xfrm>
        </p:grpSpPr>
        <p:grpSp>
          <p:nvGrpSpPr>
            <p:cNvPr id="497" name=""/>
            <p:cNvGrpSpPr/>
            <p:nvPr/>
          </p:nvGrpSpPr>
          <p:grpSpPr>
            <a:xfrm>
              <a:off x="274680" y="2441520"/>
              <a:ext cx="2457360" cy="4051440"/>
              <a:chOff x="274680" y="2441520"/>
              <a:chExt cx="2457360" cy="4051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74680" y="2441520"/>
                <a:ext cx="2457360" cy="4051440"/>
                <a:chOff x="274680" y="2441520"/>
                <a:chExt cx="2457360" cy="405144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588960" y="2610000"/>
                  <a:ext cx="2143080" cy="3882960"/>
                  <a:chOff x="588960" y="2610000"/>
                  <a:chExt cx="2143080" cy="38829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60" y="3395520"/>
                    <a:ext cx="2143080" cy="1836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1006560" y="2610000"/>
                    <a:ext cx="1385280" cy="3882960"/>
                    <a:chOff x="1006560" y="2610000"/>
                    <a:chExt cx="1385280" cy="388296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1044720" y="2610000"/>
                      <a:ext cx="1347120" cy="3882960"/>
                      <a:chOff x="1044720" y="2610000"/>
                      <a:chExt cx="1347120" cy="388296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712880" y="2610000"/>
                        <a:ext cx="0" cy="388296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16200000">
                        <a:off x="1277640" y="5793120"/>
                        <a:ext cx="6332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600" spc="-1" strike="noStrike">
                            <a:solidFill>
                              <a:srgbClr val="990000"/>
                            </a:solidFill>
                            <a:latin typeface="Times New Roman"/>
                          </a:rPr>
                          <a:t>oś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044720" y="3065760"/>
                        <a:ext cx="1347120" cy="2527200"/>
                        <a:chOff x="1044720" y="3065760"/>
                        <a:chExt cx="1347120" cy="252720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1046160" y="3065760"/>
                          <a:ext cx="1344600" cy="6292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1050120" y="4827240"/>
                          <a:ext cx="1341720" cy="76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V="1">
                          <a:off x="1046880" y="4802760"/>
                          <a:ext cx="1343520" cy="76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2390760" y="3372120"/>
                          <a:ext cx="0" cy="1814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1044720" y="3385080"/>
                          <a:ext cx="0" cy="184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1006560" y="3414600"/>
                      <a:ext cx="1384200" cy="1843200"/>
                      <a:chOff x="1006560" y="3414600"/>
                      <a:chExt cx="1384200" cy="184320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V="1">
                        <a:off x="1031760" y="3414600"/>
                        <a:ext cx="1346400" cy="184320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1736640" y="4233960"/>
                        <a:ext cx="654120" cy="9525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1057320" y="3414600"/>
                        <a:ext cx="1332000" cy="1827360"/>
                      </a:xfrm>
                      <a:prstGeom prst="rect">
                        <a:avLst/>
                      </a:pr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H="1">
                        <a:off x="1006560" y="3414600"/>
                        <a:ext cx="704880" cy="9543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6" name=""/>
                <p:cNvSpPr/>
                <p:nvPr/>
              </p:nvSpPr>
              <p:spPr>
                <a:xfrm>
                  <a:off x="382680" y="2441520"/>
                  <a:ext cx="119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274680" y="5003280"/>
                  <a:ext cx="1282680" cy="958680"/>
                  <a:chOff x="274680" y="5003280"/>
                  <a:chExt cx="1282680" cy="9586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274680" y="5624640"/>
                    <a:ext cx="1282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prostoką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14280" y="5937120"/>
                    <a:ext cx="873000" cy="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1173240" y="5003280"/>
                    <a:ext cx="368280" cy="93348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619200" y="498168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22" name=""/>
            <p:cNvGrpSpPr/>
            <p:nvPr/>
          </p:nvGrpSpPr>
          <p:grpSpPr>
            <a:xfrm>
              <a:off x="1581120" y="3062160"/>
              <a:ext cx="618840" cy="2333520"/>
              <a:chOff x="1581120" y="3062160"/>
              <a:chExt cx="618840" cy="2333520"/>
            </a:xfrm>
          </p:grpSpPr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1581120" y="3213000"/>
                    <a:ext cx="25236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1603080" y="5081400"/>
                    <a:ext cx="21456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914480" y="4902120"/>
                <a:ext cx="28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6320" y="30621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OSI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680" y="1293840"/>
            <a:ext cx="86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osiowym bryły obrotowej nazywamy część wspólną tej bryły z płaszczyzną zawierającą oś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09880" y="1957320"/>
            <a:ext cx="4974120" cy="4478040"/>
            <a:chOff x="4709880" y="1957320"/>
            <a:chExt cx="4974120" cy="4478040"/>
          </a:xfrm>
        </p:grpSpPr>
        <p:grpSp>
          <p:nvGrpSpPr>
            <p:cNvPr id="530" name=""/>
            <p:cNvGrpSpPr/>
            <p:nvPr/>
          </p:nvGrpSpPr>
          <p:grpSpPr>
            <a:xfrm>
              <a:off x="4709880" y="1957320"/>
              <a:ext cx="4974120" cy="4478040"/>
              <a:chOff x="4709880" y="1957320"/>
              <a:chExt cx="4974120" cy="447804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709880" y="1957320"/>
                <a:ext cx="4974120" cy="4478040"/>
                <a:chOff x="4709880" y="1957320"/>
                <a:chExt cx="4974120" cy="447804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709880" y="1957320"/>
                  <a:ext cx="4974120" cy="4478040"/>
                  <a:chOff x="4709880" y="1957320"/>
                  <a:chExt cx="4974120" cy="44780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308000">
                    <a:off x="4773240" y="3254040"/>
                    <a:ext cx="4846680" cy="1884240"/>
                  </a:xfrm>
                  <a:prstGeom prst="parallelogram">
                    <a:avLst>
                      <a:gd name="adj" fmla="val 78881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121440" y="3040200"/>
                    <a:ext cx="2252160" cy="2246040"/>
                    <a:chOff x="6121440" y="3040200"/>
                    <a:chExt cx="2252160" cy="2246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126120" y="3040200"/>
                      <a:ext cx="2246400" cy="2246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26120" y="3697200"/>
                      <a:ext cx="2247480" cy="80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6121440" y="3626640"/>
                      <a:ext cx="2247480" cy="9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6725160" y="2490480"/>
                    <a:ext cx="1058400" cy="3632040"/>
                    <a:chOff x="6725160" y="2490480"/>
                    <a:chExt cx="1058400" cy="363204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25160" y="3043800"/>
                      <a:ext cx="1013400" cy="2252160"/>
                      <a:chOff x="6725160" y="3043800"/>
                      <a:chExt cx="1013400" cy="225216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 flipH="1" rot="5400000">
                        <a:off x="6120000" y="367272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flipH="1" flipV="1" rot="5400000">
                        <a:off x="6095880" y="367704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250040" y="2490480"/>
                      <a:ext cx="0" cy="36320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6754680" y="3414600"/>
                      <a:ext cx="901800" cy="696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784920" y="3174840"/>
                      <a:ext cx="695520" cy="5191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6827760" y="3800520"/>
                      <a:ext cx="955800" cy="750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6988320" y="4667400"/>
                      <a:ext cx="682560" cy="5047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6894360" y="4248000"/>
                      <a:ext cx="847800" cy="6415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8" name=""/>
                <p:cNvSpPr/>
                <p:nvPr/>
              </p:nvSpPr>
              <p:spPr>
                <a:xfrm>
                  <a:off x="7343640" y="37260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49" name=""/>
                    <p:cNvSpPr txBox="1"/>
                    <p:nvPr/>
                  </p:nvSpPr>
                  <p:spPr>
                    <a:xfrm>
                      <a:off x="5892840" y="5994360"/>
                      <a:ext cx="235080" cy="21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50" name=""/>
              <p:cNvSpPr/>
              <p:nvPr/>
            </p:nvSpPr>
            <p:spPr>
              <a:xfrm>
                <a:off x="5881680" y="2443320"/>
                <a:ext cx="137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u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7437240" y="5029200"/>
                <a:ext cx="1094040" cy="875520"/>
                <a:chOff x="7437240" y="5029200"/>
                <a:chExt cx="1094040" cy="875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62760" y="55674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koł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15320" y="5869080"/>
                  <a:ext cx="56052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flipV="1">
                  <a:off x="7437240" y="5029200"/>
                  <a:ext cx="492120" cy="85248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 rot="16200000">
              <a:off x="6833160" y="5811120"/>
              <a:ext cx="50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7174080" y="4145040"/>
                  <a:ext cx="16668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57" name=""/>
          <p:cNvGrpSpPr/>
          <p:nvPr/>
        </p:nvGrpSpPr>
        <p:grpSpPr>
          <a:xfrm>
            <a:off x="2207880" y="2149560"/>
            <a:ext cx="4361760" cy="4342320"/>
            <a:chOff x="2207880" y="2149560"/>
            <a:chExt cx="4361760" cy="4342320"/>
          </a:xfrm>
        </p:grpSpPr>
        <p:sp>
          <p:nvSpPr>
            <p:cNvPr id="558" name=""/>
            <p:cNvSpPr/>
            <p:nvPr/>
          </p:nvSpPr>
          <p:spPr>
            <a:xfrm rot="16200000">
              <a:off x="3979800" y="58096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207880" y="2149560"/>
              <a:ext cx="4361760" cy="4342320"/>
              <a:chOff x="2207880" y="2149560"/>
              <a:chExt cx="4361760" cy="4342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207880" y="2149560"/>
                <a:ext cx="4361760" cy="4170240"/>
                <a:chOff x="2207880" y="2149560"/>
                <a:chExt cx="4361760" cy="417024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2207880" y="2149560"/>
                  <a:ext cx="4361760" cy="4170240"/>
                  <a:chOff x="2207880" y="2149560"/>
                  <a:chExt cx="4361760" cy="4170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19308000">
                    <a:off x="2316240" y="3239640"/>
                    <a:ext cx="4145040" cy="1785960"/>
                  </a:xfrm>
                  <a:prstGeom prst="parallelogram">
                    <a:avLst>
                      <a:gd name="adj" fmla="val 78954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>
                    <a:off x="3567240" y="3030120"/>
                    <a:ext cx="847440" cy="214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576240" y="2544840"/>
                    <a:ext cx="1789560" cy="3774960"/>
                    <a:chOff x="3576240" y="2544840"/>
                    <a:chExt cx="1789560" cy="37749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576240" y="476856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V="1">
                      <a:off x="3576240" y="471420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567" name=""/>
                        <p:cNvSpPr txBox="1"/>
                        <p:nvPr/>
                      </p:nvSpPr>
                      <p:spPr>
                        <a:xfrm>
                          <a:off x="4216320" y="4967280"/>
                          <a:ext cx="495360" cy="494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464000" y="28969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4464000" y="254484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019040" y="2949480"/>
                    <a:ext cx="902160" cy="2612880"/>
                    <a:chOff x="4019040" y="2949480"/>
                    <a:chExt cx="902160" cy="26128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4019040" y="2949480"/>
                      <a:ext cx="902160" cy="2612880"/>
                      <a:chOff x="4019040" y="2949480"/>
                      <a:chExt cx="902160" cy="26128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4019040" y="2949480"/>
                        <a:ext cx="444600" cy="261288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flipH="1" flipV="1">
                        <a:off x="4464000" y="2961720"/>
                        <a:ext cx="457200" cy="18939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V="1">
                        <a:off x="4046400" y="4855680"/>
                        <a:ext cx="862200" cy="67932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5" name=""/>
                    <p:cNvSpPr/>
                    <p:nvPr/>
                  </p:nvSpPr>
                  <p:spPr>
                    <a:xfrm flipV="1">
                      <a:off x="4254480" y="3803040"/>
                      <a:ext cx="404640" cy="27468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4124160" y="4313160"/>
                      <a:ext cx="665280" cy="4953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7" name=""/>
                <p:cNvSpPr/>
                <p:nvPr/>
              </p:nvSpPr>
              <p:spPr>
                <a:xfrm>
                  <a:off x="4572000" y="47386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78" name=""/>
                    <p:cNvSpPr txBox="1"/>
                    <p:nvPr/>
                  </p:nvSpPr>
                  <p:spPr>
                    <a:xfrm>
                      <a:off x="3309840" y="5672160"/>
                      <a:ext cx="244440" cy="22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79" name=""/>
              <p:cNvSpPr/>
              <p:nvPr/>
            </p:nvSpPr>
            <p:spPr>
              <a:xfrm>
                <a:off x="3071880" y="245736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Stoże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3003480" y="4869000"/>
                <a:ext cx="2338560" cy="1622880"/>
                <a:chOff x="3003480" y="4869000"/>
                <a:chExt cx="2338560" cy="16228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090960" y="6154560"/>
                  <a:ext cx="225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trójkąt równoramien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03480" y="6442200"/>
                  <a:ext cx="221004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4299120" y="4869000"/>
                  <a:ext cx="900000" cy="155880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15D-B7AD-4EA2-92AC-D2CCF01D19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298440" y="3770280"/>
            <a:ext cx="8472600" cy="954000"/>
            <a:chOff x="298440" y="3770280"/>
            <a:chExt cx="8472600" cy="954000"/>
          </a:xfrm>
        </p:grpSpPr>
        <p:grpSp>
          <p:nvGrpSpPr>
            <p:cNvPr id="585" name=""/>
            <p:cNvGrpSpPr/>
            <p:nvPr/>
          </p:nvGrpSpPr>
          <p:grpSpPr>
            <a:xfrm>
              <a:off x="298440" y="3770280"/>
              <a:ext cx="8472600" cy="954000"/>
              <a:chOff x="298440" y="3770280"/>
              <a:chExt cx="8472600" cy="954000"/>
            </a:xfrm>
          </p:grpSpPr>
          <p:sp>
            <p:nvSpPr>
              <p:cNvPr id="586" name=""/>
              <p:cNvSpPr/>
              <p:nvPr/>
            </p:nvSpPr>
            <p:spPr>
              <a:xfrm>
                <a:off x="298440" y="3770280"/>
                <a:ext cx="8472600" cy="954000"/>
              </a:xfrm>
              <a:prstGeom prst="parallelogram">
                <a:avLst>
                  <a:gd name="adj" fmla="val -4595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"/>
                  <p:cNvSpPr txBox="1"/>
                  <p:nvPr/>
                </p:nvSpPr>
                <p:spPr>
                  <a:xfrm>
                    <a:off x="515880" y="450072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8" name=""/>
              <p:cNvGrpSpPr/>
              <p:nvPr/>
            </p:nvGrpSpPr>
            <p:grpSpPr>
              <a:xfrm>
                <a:off x="3971520" y="3981600"/>
                <a:ext cx="969480" cy="549000"/>
                <a:chOff x="3971520" y="3981600"/>
                <a:chExt cx="969480" cy="54900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4023000" y="4125600"/>
                  <a:ext cx="223200" cy="3596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3971520" y="3981600"/>
                  <a:ext cx="969480" cy="549000"/>
                  <a:chOff x="3971520" y="3981600"/>
                  <a:chExt cx="969480" cy="5490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>
                    <a:off x="3971160" y="40053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3973320" y="40179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4132080" y="4047120"/>
                    <a:ext cx="299880" cy="4669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4298400" y="3981600"/>
                    <a:ext cx="323280" cy="4946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4671360" y="4039560"/>
                    <a:ext cx="217080" cy="3535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4491360" y="4002840"/>
                    <a:ext cx="275760" cy="4388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1092240" y="3936960"/>
                <a:ext cx="1290240" cy="577440"/>
                <a:chOff x="1092240" y="3936960"/>
                <a:chExt cx="1290240" cy="577440"/>
              </a:xfrm>
            </p:grpSpPr>
            <p:sp>
              <p:nvSpPr>
                <p:cNvPr id="598" name=""/>
                <p:cNvSpPr/>
                <p:nvPr/>
              </p:nvSpPr>
              <p:spPr>
                <a:xfrm flipH="1" flipV="1">
                  <a:off x="1160280" y="4088160"/>
                  <a:ext cx="297360" cy="378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1092240" y="3936960"/>
                  <a:ext cx="1290240" cy="577440"/>
                  <a:chOff x="1092240" y="3936960"/>
                  <a:chExt cx="1290240" cy="577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1092240" y="396180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>
                    <a:off x="1095120" y="397512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 flipV="1">
                    <a:off x="1305720" y="4006080"/>
                    <a:ext cx="399240" cy="49140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1526400" y="3936960"/>
                    <a:ext cx="430200" cy="52056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023200" y="3998160"/>
                    <a:ext cx="289080" cy="37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1783440" y="3959280"/>
                    <a:ext cx="367200" cy="46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6" name=""/>
            <p:cNvGrpSpPr/>
            <p:nvPr/>
          </p:nvGrpSpPr>
          <p:grpSpPr>
            <a:xfrm>
              <a:off x="5913000" y="3898800"/>
              <a:ext cx="1733400" cy="669240"/>
              <a:chOff x="5913000" y="3898800"/>
              <a:chExt cx="1733400" cy="66924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6004080" y="4073040"/>
                <a:ext cx="398160" cy="4381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913000" y="3898800"/>
                <a:ext cx="1733400" cy="669240"/>
                <a:chOff x="5913000" y="3898800"/>
                <a:chExt cx="1733400" cy="66924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5912640" y="3927600"/>
                  <a:ext cx="172980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916960" y="3943080"/>
                  <a:ext cx="172944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6200280" y="3979080"/>
                  <a:ext cx="536040" cy="5695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6496920" y="3898800"/>
                  <a:ext cx="577800" cy="603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7164360" y="3969720"/>
                  <a:ext cx="388080" cy="431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>
                  <a:off x="6841800" y="3924720"/>
                  <a:ext cx="493200" cy="5356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POPRZE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20" y="134604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poprzecznym bryły obrotowej nazywamy część wspólną tej bryły z płaszczyzną prostopadłą do osi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047680" y="4398480"/>
            <a:ext cx="6664680" cy="1577520"/>
            <a:chOff x="2047680" y="4398480"/>
            <a:chExt cx="6664680" cy="1577520"/>
          </a:xfrm>
        </p:grpSpPr>
        <p:grpSp>
          <p:nvGrpSpPr>
            <p:cNvPr id="618" name=""/>
            <p:cNvGrpSpPr/>
            <p:nvPr/>
          </p:nvGrpSpPr>
          <p:grpSpPr>
            <a:xfrm>
              <a:off x="7229520" y="4398480"/>
              <a:ext cx="1482840" cy="1561680"/>
              <a:chOff x="7229520" y="4398480"/>
              <a:chExt cx="1482840" cy="1561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044200" y="562284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96400" y="592452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7229520" y="439848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724280" y="4414320"/>
              <a:ext cx="1482840" cy="1561680"/>
              <a:chOff x="4724280" y="4414320"/>
              <a:chExt cx="1482840" cy="1561680"/>
            </a:xfrm>
          </p:grpSpPr>
          <p:sp>
            <p:nvSpPr>
              <p:cNvPr id="623" name=""/>
              <p:cNvSpPr/>
              <p:nvPr/>
            </p:nvSpPr>
            <p:spPr>
              <a:xfrm>
                <a:off x="5538960" y="563868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91160" y="594036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724280" y="441432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047680" y="4404960"/>
              <a:ext cx="1482840" cy="1561680"/>
              <a:chOff x="2047680" y="4404960"/>
              <a:chExt cx="1482840" cy="1561680"/>
            </a:xfrm>
          </p:grpSpPr>
          <p:sp>
            <p:nvSpPr>
              <p:cNvPr id="627" name=""/>
              <p:cNvSpPr/>
              <p:nvPr/>
            </p:nvSpPr>
            <p:spPr>
              <a:xfrm>
                <a:off x="2862360" y="562932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14560" y="593100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2047680" y="440496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390600" y="2441520"/>
            <a:ext cx="7264440" cy="4051440"/>
            <a:chOff x="390600" y="2441520"/>
            <a:chExt cx="7264440" cy="4051440"/>
          </a:xfrm>
        </p:grpSpPr>
        <p:grpSp>
          <p:nvGrpSpPr>
            <p:cNvPr id="631" name=""/>
            <p:cNvGrpSpPr/>
            <p:nvPr/>
          </p:nvGrpSpPr>
          <p:grpSpPr>
            <a:xfrm>
              <a:off x="390600" y="2441520"/>
              <a:ext cx="2011320" cy="4051440"/>
              <a:chOff x="390600" y="2441520"/>
              <a:chExt cx="2011320" cy="4051440"/>
            </a:xfrm>
          </p:grpSpPr>
          <mc:AlternateContent>
            <mc:Choice xmlns:a14="http://schemas.microsoft.com/office/drawing/2010/main" Requires="a14">
              <p:sp>
                <p:nvSpPr>
                  <p:cNvPr id="632" name=""/>
                  <p:cNvSpPr txBox="1"/>
                  <p:nvPr/>
                </p:nvSpPr>
                <p:spPr>
                  <a:xfrm>
                    <a:off x="1611360" y="5089680"/>
                    <a:ext cx="21420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3" name=""/>
              <p:cNvGrpSpPr/>
              <p:nvPr/>
            </p:nvGrpSpPr>
            <p:grpSpPr>
              <a:xfrm>
                <a:off x="390600" y="2441520"/>
                <a:ext cx="2011320" cy="4051440"/>
                <a:chOff x="390600" y="2441520"/>
                <a:chExt cx="2011320" cy="4051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1619280" y="4078440"/>
                      <a:ext cx="210960" cy="21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635" name=""/>
                <p:cNvSpPr/>
                <p:nvPr/>
              </p:nvSpPr>
              <p:spPr>
                <a:xfrm>
                  <a:off x="1722600" y="4175280"/>
                  <a:ext cx="66960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20800" y="2610000"/>
                  <a:ext cx="0" cy="3882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1277280" y="5840640"/>
                  <a:ext cx="63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oś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1052640" y="3065400"/>
                  <a:ext cx="1347120" cy="2527560"/>
                  <a:chOff x="1052640" y="3065400"/>
                  <a:chExt cx="1347120" cy="2527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1054080" y="3065400"/>
                    <a:ext cx="1344600" cy="629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058040" y="4827240"/>
                    <a:ext cx="1341720" cy="76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8"/>
                        </a:moveTo>
                        <a:arcTo wR="10800" hR="10800" stAng="-10486966" swAng="104869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8"/>
                        </a:moveTo>
                        <a:arcTo wR="10800" hR="10800" stAng="-10486966" swAng="1048696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1054800" y="4802760"/>
                    <a:ext cx="134352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2"/>
                        </a:moveTo>
                        <a:arcTo wR="10800" hR="10800" stAng="-10484938" swAng="104849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2"/>
                        </a:moveTo>
                        <a:arcTo wR="10800" hR="10800" stAng="-10484938" swAng="1048493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98680" y="3371760"/>
                    <a:ext cx="0" cy="181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52640" y="3384720"/>
                    <a:ext cx="0" cy="184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390600" y="2441520"/>
                  <a:ext cx="120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74960" y="4890960"/>
                  <a:ext cx="285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22600" y="5181480"/>
                  <a:ext cx="67932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65240" y="39020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1449360" y="5581080"/>
                  <a:ext cx="533160" cy="37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62" y="18123"/>
                      </a:moveTo>
                      <a:arcTo wR="10800" hR="10800" stAng="8238514" swAng="14974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62" y="18123"/>
                      </a:moveTo>
                      <a:arcTo wR="10800" hR="10800" stAng="8238514" swAng="14974726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3071880" y="2473200"/>
              <a:ext cx="2293920" cy="3884760"/>
              <a:chOff x="3071880" y="2473200"/>
              <a:chExt cx="2293920" cy="3884760"/>
            </a:xfrm>
          </p:grpSpPr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4394160" y="5102280"/>
                    <a:ext cx="127080" cy="17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1" name=""/>
                  <p:cNvSpPr txBox="1"/>
                  <p:nvPr/>
                </p:nvSpPr>
                <p:spPr>
                  <a:xfrm>
                    <a:off x="4386240" y="4189320"/>
                    <a:ext cx="201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2" name=""/>
              <p:cNvGrpSpPr/>
              <p:nvPr/>
            </p:nvGrpSpPr>
            <p:grpSpPr>
              <a:xfrm>
                <a:off x="3071880" y="2473200"/>
                <a:ext cx="2293920" cy="3884760"/>
                <a:chOff x="3071880" y="2473200"/>
                <a:chExt cx="2293920" cy="38847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576240" y="4768920"/>
                  <a:ext cx="1774800" cy="91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01"/>
                      </a:moveTo>
                      <a:arcTo wR="10800" hR="10800" stAng="-10673085" swAng="106730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01"/>
                      </a:moveTo>
                      <a:arcTo wR="10800" hR="10800" stAng="-10673085" swAng="106730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071880" y="2473200"/>
                  <a:ext cx="2293920" cy="3884760"/>
                  <a:chOff x="3071880" y="2473200"/>
                  <a:chExt cx="2293920" cy="3884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4830840" y="48909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0000"/>
                        </a:solidFill>
                        <a:latin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071880" y="2473200"/>
                    <a:ext cx="2293920" cy="3884760"/>
                    <a:chOff x="3071880" y="2473200"/>
                    <a:chExt cx="2293920" cy="38847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3567240" y="2908440"/>
                      <a:ext cx="879480" cy="2279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V="1">
                      <a:off x="3576240" y="4729680"/>
                      <a:ext cx="1774800" cy="9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464000" y="29131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V="1">
                      <a:off x="4464000" y="258300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3071880" y="2473200"/>
                      <a:ext cx="1214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oż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471920" y="4275000"/>
                      <a:ext cx="50976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63" name=""/>
                        <p:cNvSpPr txBox="1"/>
                        <p:nvPr/>
                      </p:nvSpPr>
                      <p:spPr>
                        <a:xfrm>
                          <a:off x="4676760" y="4056120"/>
                          <a:ext cx="216000" cy="2397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4465800" y="5189400"/>
                      <a:ext cx="86832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16200000">
                      <a:off x="4175280" y="595080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V="1">
                      <a:off x="4191120" y="5635080"/>
                      <a:ext cx="53280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5881680" y="2498760"/>
              <a:ext cx="1773360" cy="3830760"/>
              <a:chOff x="5881680" y="2498760"/>
              <a:chExt cx="1773360" cy="3830760"/>
            </a:xfrm>
          </p:grpSpPr>
          <p:sp>
            <p:nvSpPr>
              <p:cNvPr id="668" name=""/>
              <p:cNvSpPr/>
              <p:nvPr/>
            </p:nvSpPr>
            <p:spPr>
              <a:xfrm flipV="1" rot="5400000">
                <a:off x="5865120" y="3911400"/>
                <a:ext cx="1774440" cy="78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" y="11390"/>
                    </a:moveTo>
                    <a:arcTo wR="10800" hR="10800" stAng="10612070" swAng="10987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" y="11390"/>
                    </a:moveTo>
                    <a:arcTo wR="10800" hR="10800" stAng="10612070" swAng="109879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881680" y="2498760"/>
                <a:ext cx="1773360" cy="3830760"/>
                <a:chOff x="5881680" y="2498760"/>
                <a:chExt cx="1773360" cy="3830760"/>
              </a:xfrm>
            </p:grpSpPr>
            <p:sp>
              <p:nvSpPr>
                <p:cNvPr id="670" name=""/>
                <p:cNvSpPr/>
                <p:nvPr/>
              </p:nvSpPr>
              <p:spPr>
                <a:xfrm rot="5400000">
                  <a:off x="5879880" y="3987720"/>
                  <a:ext cx="1774440" cy="637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5881680" y="2498760"/>
                  <a:ext cx="1773360" cy="3830760"/>
                  <a:chOff x="5881680" y="2498760"/>
                  <a:chExt cx="1773360" cy="38307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743880" y="4213080"/>
                    <a:ext cx="89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881680" y="2498760"/>
                    <a:ext cx="1773360" cy="3830760"/>
                    <a:chOff x="5881680" y="2498760"/>
                    <a:chExt cx="1773360" cy="3830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6746760" y="2697120"/>
                      <a:ext cx="0" cy="36324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881680" y="3414600"/>
                      <a:ext cx="1773360" cy="1771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091280" y="3933720"/>
                      <a:ext cx="2858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910120" y="2498760"/>
                      <a:ext cx="1379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K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78" name=""/>
                        <p:cNvSpPr txBox="1"/>
                        <p:nvPr/>
                      </p:nvSpPr>
                      <p:spPr>
                        <a:xfrm>
                          <a:off x="6662880" y="4121280"/>
                          <a:ext cx="198360" cy="1983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79" name=""/>
                    <p:cNvSpPr/>
                    <p:nvPr/>
                  </p:nvSpPr>
                  <p:spPr>
                    <a:xfrm rot="16200000">
                      <a:off x="6402600" y="564624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V="1">
                      <a:off x="6478560" y="5230440"/>
                      <a:ext cx="53316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570-B47F-41A3-A20C-E0F2800FB9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516640" y="460224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61E-611F-4711-A666-6E605A0F7E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440" y="1990800"/>
            <a:ext cx="824868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th.edu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atematykam.pl/rodzaje_bryl_obrotowych.html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ww.cen.bialystok.pl/matemat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s2ndg.szkolnastrona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BEB-F0D1-435A-9355-A75BFD1730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9680" y="2225520"/>
            <a:ext cx="1549440" cy="247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2720" y="1547640"/>
            <a:ext cx="3047760" cy="3831480"/>
            <a:chOff x="1242720" y="1547640"/>
            <a:chExt cx="3047760" cy="3831480"/>
          </a:xfrm>
        </p:grpSpPr>
        <p:sp>
          <p:nvSpPr>
            <p:cNvPr id="130" name=""/>
            <p:cNvSpPr/>
            <p:nvPr/>
          </p:nvSpPr>
          <p:spPr>
            <a:xfrm flipV="1">
              <a:off x="1243080" y="15494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43080" y="40298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3080" y="15476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3080" y="402732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2148840"/>
              <a:ext cx="0" cy="25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42720" y="4703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42720" y="2223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1924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0" y="15573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cem nazywamy bryłę obrotową  powstałą   przez obrót  prostokąta   dookoła prostej  zawierającej jeden z boków prostoką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831960" y="2951280"/>
            <a:ext cx="69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9920" y="2181240"/>
            <a:ext cx="2038320" cy="2802600"/>
            <a:chOff x="2239920" y="2181240"/>
            <a:chExt cx="2038320" cy="2802600"/>
          </a:xfrm>
        </p:grpSpPr>
        <p:grpSp>
          <p:nvGrpSpPr>
            <p:cNvPr id="142" name=""/>
            <p:cNvGrpSpPr/>
            <p:nvPr/>
          </p:nvGrpSpPr>
          <p:grpSpPr>
            <a:xfrm>
              <a:off x="2754360" y="2181240"/>
              <a:ext cx="1523880" cy="2509200"/>
              <a:chOff x="2754360" y="2181240"/>
              <a:chExt cx="1523880" cy="2509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754360" y="2181240"/>
                <a:ext cx="0" cy="24609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54360" y="4690440"/>
                <a:ext cx="1523880" cy="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39920" y="3269880"/>
              <a:ext cx="1536480" cy="1713960"/>
              <a:chOff x="2239920" y="3269880"/>
              <a:chExt cx="1536480" cy="171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39920" y="326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71600" y="4615560"/>
                <a:ext cx="6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411280" y="1201680"/>
            <a:ext cx="685440" cy="5828040"/>
            <a:chOff x="2411280" y="1201680"/>
            <a:chExt cx="685440" cy="5828040"/>
          </a:xfrm>
        </p:grpSpPr>
        <p:sp>
          <p:nvSpPr>
            <p:cNvPr id="149" name=""/>
            <p:cNvSpPr/>
            <p:nvPr/>
          </p:nvSpPr>
          <p:spPr>
            <a:xfrm>
              <a:off x="2757600" y="1201680"/>
              <a:ext cx="0" cy="518796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5437440"/>
              <a:ext cx="685440" cy="32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83" y="4957"/>
                  </a:moveTo>
                  <a:arcTo wR="10800" hR="10800" stAng="-1965345" swAng="16294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83" y="4957"/>
                  </a:moveTo>
                  <a:arcTo wR="10800" hR="10800" stAng="-1965345" swAng="16294392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087200">
              <a:off x="1692360" y="5869800"/>
              <a:ext cx="19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4987800"/>
            <a:ext cx="2355840" cy="1112040"/>
            <a:chOff x="3173400" y="4987800"/>
            <a:chExt cx="2355840" cy="1112040"/>
          </a:xfrm>
        </p:grpSpPr>
        <p:sp>
          <p:nvSpPr>
            <p:cNvPr id="153" name=""/>
            <p:cNvSpPr/>
            <p:nvPr/>
          </p:nvSpPr>
          <p:spPr>
            <a:xfrm>
              <a:off x="3173400" y="5762520"/>
              <a:ext cx="23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9520" y="4987800"/>
              <a:ext cx="166680" cy="10670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6200" y="6054840"/>
              <a:ext cx="1440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31920" y="3563640"/>
            <a:ext cx="2120760" cy="431280"/>
            <a:chOff x="331920" y="3563640"/>
            <a:chExt cx="2120760" cy="431280"/>
          </a:xfrm>
        </p:grpSpPr>
        <p:sp>
          <p:nvSpPr>
            <p:cNvPr id="157" name=""/>
            <p:cNvSpPr/>
            <p:nvPr/>
          </p:nvSpPr>
          <p:spPr>
            <a:xfrm>
              <a:off x="331920" y="3657600"/>
              <a:ext cx="166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wal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360" y="3948120"/>
              <a:ext cx="14270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787400" y="3563640"/>
              <a:ext cx="665280" cy="384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6AF-210E-492F-873E-4F21EA90B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8240" y="1341360"/>
            <a:ext cx="4067280" cy="2948040"/>
            <a:chOff x="768240" y="1341360"/>
            <a:chExt cx="4067280" cy="2948040"/>
          </a:xfrm>
        </p:grpSpPr>
        <p:grpSp>
          <p:nvGrpSpPr>
            <p:cNvPr id="161" name=""/>
            <p:cNvGrpSpPr/>
            <p:nvPr/>
          </p:nvGrpSpPr>
          <p:grpSpPr>
            <a:xfrm>
              <a:off x="768240" y="1341360"/>
              <a:ext cx="4067280" cy="2948040"/>
              <a:chOff x="768240" y="1341360"/>
              <a:chExt cx="4067280" cy="294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768240" y="2171520"/>
                <a:ext cx="4067280" cy="1281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9640" y="1341360"/>
                <a:ext cx="911160" cy="820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01600" y="3468600"/>
                <a:ext cx="912960" cy="820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365120"/>
                <a:ext cx="36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3240" y="3479760"/>
                <a:ext cx="54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1554120"/>
              <a:ext cx="382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3240" y="3657600"/>
              <a:ext cx="3826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1473120" y="1682640"/>
                  <a:ext cx="12708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479600" y="3800520"/>
                  <a:ext cx="136440" cy="1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71" name=""/>
          <p:cNvSpPr/>
          <p:nvPr/>
        </p:nvSpPr>
        <p:spPr>
          <a:xfrm>
            <a:off x="1214280" y="4572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 wal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2666880"/>
            <a:ext cx="2135160" cy="816120"/>
            <a:chOff x="755640" y="2666880"/>
            <a:chExt cx="2135160" cy="816120"/>
          </a:xfrm>
        </p:grpSpPr>
        <p:sp>
          <p:nvSpPr>
            <p:cNvPr id="173" name=""/>
            <p:cNvSpPr/>
            <p:nvPr/>
          </p:nvSpPr>
          <p:spPr>
            <a:xfrm>
              <a:off x="755640" y="266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2440080" y="3168720"/>
                  <a:ext cx="4507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822320" y="4395960"/>
            <a:ext cx="7320960" cy="1628280"/>
            <a:chOff x="1822320" y="4395960"/>
            <a:chExt cx="7320960" cy="1628280"/>
          </a:xfrm>
        </p:grpSpPr>
        <p:sp>
          <p:nvSpPr>
            <p:cNvPr id="176" name=""/>
            <p:cNvSpPr/>
            <p:nvPr/>
          </p:nvSpPr>
          <p:spPr>
            <a:xfrm>
              <a:off x="1890000" y="4395960"/>
              <a:ext cx="72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wal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22320" y="5011560"/>
                  <a:ext cx="56768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4308480" y="2523960"/>
            <a:ext cx="3635280" cy="337320"/>
            <a:chOff x="4308480" y="2523960"/>
            <a:chExt cx="3635280" cy="337320"/>
          </a:xfrm>
        </p:grpSpPr>
        <p:sp>
          <p:nvSpPr>
            <p:cNvPr id="179" name=""/>
            <p:cNvSpPr/>
            <p:nvPr/>
          </p:nvSpPr>
          <p:spPr>
            <a:xfrm>
              <a:off x="5059440" y="2523960"/>
              <a:ext cx="28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08480" y="2719440"/>
              <a:ext cx="6699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57520" y="1546200"/>
            <a:ext cx="2912760" cy="2548800"/>
            <a:chOff x="1757520" y="1546200"/>
            <a:chExt cx="2912760" cy="2548800"/>
          </a:xfrm>
        </p:grpSpPr>
        <p:sp>
          <p:nvSpPr>
            <p:cNvPr id="182" name=""/>
            <p:cNvSpPr/>
            <p:nvPr/>
          </p:nvSpPr>
          <p:spPr>
            <a:xfrm>
              <a:off x="2422440" y="154620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gór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9360" y="37576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dol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7520" y="1708200"/>
              <a:ext cx="7030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3360" y="3914640"/>
              <a:ext cx="5918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393-7AEB-4156-92C2-2153F450C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343400" y="628560"/>
            <a:ext cx="449568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5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zekrojem osiowym walca jest prostokąt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Monotype Corsiva"/>
              </a:rPr>
              <a:t>r 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omień podstawy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wysokość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06668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143000" y="198108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86000"/>
            <a:ext cx="259092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285640" y="1009800"/>
            <a:ext cx="2095560" cy="2571480"/>
          </a:xfrm>
          <a:prstGeom prst="line">
            <a:avLst/>
          </a:prstGeom>
          <a:ln w="9360">
            <a:solidFill>
              <a:srgbClr val="dc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9160" y="3962520"/>
            <a:ext cx="61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Monotype Corsiva"/>
              </a:rPr>
              <a:t>2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2120" y="281160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596-0CE5-4E90-A705-494DFD570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Times New Roman"/>
              </a:rPr>
              <a:t>ZADANI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Oblicz pole przekroju osiow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walca o wysokości  15 dm i po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podstawy 25</a:t>
            </a:r>
            <a:r>
              <a:rPr b="1" lang="pl-PL" sz="4400" spc="-1" strike="noStrike">
                <a:solidFill>
                  <a:srgbClr val="990099"/>
                </a:solidFill>
                <a:latin typeface="UniversalMath1 BT"/>
                <a:ea typeface="UniversalMath1 BT"/>
              </a:rPr>
              <a:t>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 dm</a:t>
            </a:r>
            <a:r>
              <a:rPr b="1" lang="pl-PL" sz="4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305-4CAB-4EA0-82EA-0376F3D14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ROZWIĄZANIE DO ZADANIA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Szukane: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Ppo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Rozwiązanie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:    Pp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2r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25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Ppo = 10 dm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25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 = 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Odp: Pole przekroju osiowego walca wynosi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F91-11E3-4CFF-841E-35CCDB26D6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Objętość wal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185840"/>
            <a:ext cx="7241400" cy="1941840"/>
            <a:chOff x="0" y="1185840"/>
            <a:chExt cx="7241400" cy="1941840"/>
          </a:xfrm>
        </p:grpSpPr>
        <p:sp>
          <p:nvSpPr>
            <p:cNvPr id="201" name=""/>
            <p:cNvSpPr/>
            <p:nvPr/>
          </p:nvSpPr>
          <p:spPr>
            <a:xfrm>
              <a:off x="1595520" y="1185840"/>
              <a:ext cx="44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563840"/>
              <a:ext cx="7241400" cy="1563840"/>
              <a:chOff x="0" y="1563840"/>
              <a:chExt cx="7241400" cy="15638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63840"/>
                <a:ext cx="724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"/>
                  <p:cNvSpPr txBox="1"/>
                  <p:nvPr/>
                </p:nvSpPr>
                <p:spPr>
                  <a:xfrm>
                    <a:off x="1419840" y="1996200"/>
                    <a:ext cx="469800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05" name=""/>
          <p:cNvSpPr/>
          <p:nvPr/>
        </p:nvSpPr>
        <p:spPr>
          <a:xfrm>
            <a:off x="3514680" y="3162240"/>
            <a:ext cx="1886040" cy="25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544-297A-4094-8B20-0DC11123C6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3:24:31Z</dcterms:created>
  <dc:creator>M.J.Popik</dc:creator>
  <dc:description/>
  <dc:language>en-US</dc:language>
  <cp:lastModifiedBy>Matematyka</cp:lastModifiedBy>
  <dcterms:modified xsi:type="dcterms:W3CDTF">2014-03-01T19:01:24Z</dcterms:modified>
  <cp:revision>220</cp:revision>
  <dc:subject/>
  <dc:title>Prezentacja programu PowerPoint</dc:title>
</cp:coreProperties>
</file>