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72B-FCC1-45C9-A638-726EFCF9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A91-601D-4352-B0EE-9934954A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0E9-9AB3-4AAD-8AC5-2AD7A7F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9C9-E20E-4B84-96C1-3035C0C9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6304-6813-4C9C-90D2-12FC2F16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6D10-81F2-4090-A883-C0F02D2F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A743-A5FD-436A-91B6-C145DD87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3BF0-CC20-472F-ABF6-7C1B7DB6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685-80C3-4502-B939-8CDAF0D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E305-88D4-4953-B95E-4254EA2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BADB-5162-4346-8EDD-50B2F95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898-A5A5-42B2-A5B0-20AA35DA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C31-59C2-48DE-8EEC-02FDB907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5210-AD4E-4731-89B4-B898F20E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2B38-E933-41E0-967C-C4BE819B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BC2-5AE6-4F0F-9CB7-72F24F31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803-200C-4522-B519-DB881BE3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3BB-08C5-4DFD-8D0B-A1096D86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28E-C6EB-4096-8AB9-0237E4CC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AC4-1E2F-4343-BF6F-43A266EF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0AF-4708-40B9-86DA-335A4F5F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2A1-30DD-42D3-91E4-8A5867BA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ACD-626B-4446-A1D1-524DD94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D19-C9B2-4248-AD6C-56F29E2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F06D-1861-4163-B349-39B902295DC9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534-F790-4E36-9D68-406F21240BE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D54-E8C9-4E67-8A4E-9F10F1464734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0A0-BBC9-4DCE-8172-8F290D079B5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4360" y="838080"/>
            <a:ext cx="7848360" cy="206892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zymski system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zapisywania licz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408720" cy="3086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9716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8F8-67ED-4388-8F99-E5387DE5FB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apisz w systemie rzymskim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043520" cy="2260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999 =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214-545C-4AC8-9DAD-87161E6B5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99 = MCMXCIX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iczba rzymska składa się z wydzielonych fragmentów, które są równoznaczne z cyframi arabskim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 naszym przykładzie takimi "cyfrowymi fragmentami" były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M - 10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M - 9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XC - 9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X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F4C-948E-468B-AFBC-30362D1C1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333360"/>
            <a:ext cx="8642160" cy="126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kie są inne zasady obowiązujące przy tworzeniu liczb systemem rzymski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628640"/>
            <a:ext cx="7315200" cy="1117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ok siebie można zapisać tylko trzy jednakowe znaki I, X, C,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6858000" cy="1117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e wolno powtarzać obok siebie znaków V, L, 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076640"/>
            <a:ext cx="6858000" cy="149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e może być dwóch znaków oznaczających liczby mniejsze bezpośrednio przed znakiem oznaczającym liczbę większ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445000"/>
            <a:ext cx="6858000" cy="82548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Znakami poprzedzającymi znak oznaczający większą liczbę mogą być tylko znaki: I, X, C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654-15F6-47B0-AC4B-12A40C7A40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549360"/>
            <a:ext cx="85122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Zapisz liczby w systemie rzymski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2421000"/>
            <a:ext cx="190476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8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438280"/>
            <a:ext cx="20574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VI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200400"/>
            <a:ext cx="1447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4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2004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C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3962520"/>
            <a:ext cx="213372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16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962520"/>
            <a:ext cx="15238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X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797360"/>
            <a:ext cx="1676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65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479736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LX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661000"/>
            <a:ext cx="18288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99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5661000"/>
            <a:ext cx="28800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MXCIX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9CC-4E6A-42C5-A84C-ACD80CDE46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476280"/>
            <a:ext cx="83678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Odczytaj liczby zapisane w systemie rzymskim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514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21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IX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2004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CXLVI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886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45720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XCI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572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9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5257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M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02F-650C-4F56-94C0-A6ACB91D7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609480"/>
            <a:ext cx="83628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dzisiaj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133720"/>
            <a:ext cx="6553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zapisywaniu dat i wiek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6688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  XI 19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3500280"/>
            <a:ext cx="73152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numeracji ważnych rocz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403848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V Konkurs Chopinow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941720"/>
            <a:ext cx="72388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imionach kolejnych król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562720"/>
            <a:ext cx="609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ygmunt III W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0E-936C-4612-8D95-1C3665435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0920" y="533520"/>
            <a:ext cx="858816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jeszcze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209680"/>
            <a:ext cx="793116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oznaczania godzin na zega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3640" y="3357720"/>
            <a:ext cx="579132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rzy numeracji rozdział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365720"/>
            <a:ext cx="64008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 tablicach pamiątk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5562720"/>
            <a:ext cx="7777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 inskrypcjach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napis wyryty w twardym materiale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8EB-2348-4C8D-A2D2-661681AD5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UWAG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 pomocą dostępnych znaków można zapisać liczby od 1 do 3999, gdyż nie istnieją znaki dla liczb większych od 1000.   Większe liczby można zapisywać poprzez umieszczenie ich między dwoma znakami |, co oznacza liczbę stukrotnie większą. Innym znakiem pełniącym podobną funkcję jest nadkreślenie oznaczające pomnożenie przez 10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454-B9E3-412D-8C0F-7C4ACC26AA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609480"/>
            <a:ext cx="7238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609480"/>
            <a:ext cx="84391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systemem rzymsk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iększ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0920" y="2276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I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6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3962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CIV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0 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952880"/>
            <a:ext cx="820872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w pionowych kreskach zwiększają  swoją wartość  stu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9DB-2B22-43FC-A956-F2CE119D26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8080"/>
            <a:ext cx="79898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jeszcze większe liczby systemem rzymski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227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XX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8195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195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124080"/>
            <a:ext cx="43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V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39625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876920"/>
            <a:ext cx="828036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podkreślone u góry zwiększają swoją wartość tysiąc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2492280"/>
            <a:ext cx="1079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3284640"/>
            <a:ext cx="79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38520" y="2205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068640"/>
            <a:ext cx="20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505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91080" y="38703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 00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394-6F75-4A40-9AE6-A688C150BF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857160" y="4429080"/>
            <a:ext cx="4033800" cy="2214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f45"/>
                </a:solidFill>
                <a:latin typeface="Arial"/>
                <a:ea typeface="Arial"/>
              </a:rPr>
              <a:t>CYFRY RZYMSKIE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706400"/>
          <a:ext cx="8640720" cy="232272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1080"/>
                <a:gridCol w="1368360"/>
                <a:gridCol w="1224000"/>
                <a:gridCol w="16560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L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5429160" y="4429080"/>
            <a:ext cx="26431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67F-4FF5-48AE-8E31-399C95622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a z podręcznikiem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yka z plusem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Ćwiczenie A str 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 1,2,3/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5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Verdana"/>
              </a:rPr>
              <a:t>dla chętnych na kartkach: zad.6,7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5F6-F70E-4E1D-983D-1B5840FD64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124000" y="1125360"/>
            <a:ext cx="6324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chodzi od słowa centum = 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352680"/>
            <a:ext cx="5943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pochodzi od słowa  mille = 1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2080" y="674640"/>
            <a:ext cx="785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8160" y="3284640"/>
            <a:ext cx="878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306-BD18-4999-87DE-8D5FADB3B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765000"/>
            <a:ext cx="68580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systemem rzymskim zapisać inn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895480"/>
            <a:ext cx="7488360" cy="22294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ystarczy dodawać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ub odejmować znak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AF5-4DE7-44FE-BE85-0718559D6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04640"/>
            <a:ext cx="83707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dodawania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2060640"/>
            <a:ext cx="468144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=  (V + I)  =  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6668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5640" y="2781360"/>
            <a:ext cx="5562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  =  (X + I)  =  X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350028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  =  (L + X)  =  L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4221000"/>
            <a:ext cx="60962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 =  (C + X)  =  C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5084640"/>
            <a:ext cx="640080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0  =  (D + C)  = 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5877000"/>
            <a:ext cx="54864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0  =  (M + C)  =  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2B5-28D1-4E81-B868-1DCA386A7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0"/>
            <a:ext cx="80838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odejmowania 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1773360"/>
            <a:ext cx="678204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 =  (V – 1)  = 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56536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 =  (X – I)  = 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9640" y="3357720"/>
            <a:ext cx="632448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  =  (L – X)  =  X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4149720"/>
            <a:ext cx="64771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  =  (C – X)  =  X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7242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941720"/>
            <a:ext cx="670572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0  =  (D – C)  =  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734080"/>
            <a:ext cx="6781680" cy="752040"/>
          </a:xfrm>
          <a:prstGeom prst="rect">
            <a:avLst/>
          </a:prstGeom>
          <a:solidFill>
            <a:srgbClr val="9ac2c0"/>
          </a:solidFill>
          <a:ln w="9360">
            <a:solidFill>
              <a:srgbClr val="c4c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0  =  (M – C)  =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7E5-0904-406E-98F9-6FE3E22D16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5627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B21-7A9C-4395-A2EA-0F6DC70C8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VII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7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I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1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29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XL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14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D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419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2D9-DDD9-4278-8B3B-8861C9D03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 CC L XX VI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500 + 2 • 100) +(50 + 2 •10) + (5 + 3 • 1) = 778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3284640"/>
            <a:ext cx="8207280" cy="94752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pl-PL" sz="3600" spc="-1" strike="noStrike">
                <a:solidFill>
                  <a:srgbClr val="ffffff"/>
                </a:solidFill>
                <a:latin typeface="Verdana"/>
              </a:rPr>
              <a:t>M CM L XXX IX</a:t>
            </a: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3 •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=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869000"/>
            <a:ext cx="7921440" cy="947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M CCC L 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(3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= 23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7D9-98E2-4E15-85D2-88A550132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29:06Z</dcterms:created>
  <dc:creator>Elżbieta Salwa</dc:creator>
  <dc:description/>
  <dc:language>en-US</dc:language>
  <cp:lastModifiedBy>Matematyka</cp:lastModifiedBy>
  <dcterms:modified xsi:type="dcterms:W3CDTF">2014-01-03T15:03:54Z</dcterms:modified>
  <cp:revision>99</cp:revision>
  <dc:subject>prezentacja z matematyki dla klas 4 - 6 szkoły podstawowej</dc:subject>
  <dc:title>Prezentacja programu PowerPoint</dc:title>
</cp:coreProperties>
</file>