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media/image9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5.png" ContentType="image/png"/>
  <Override PartName="/ppt/media/image13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11.png" ContentType="image/png"/>
  <Override PartName="/ppt/media/image10.wmf" ContentType="image/x-wmf"/>
  <Override PartName="/ppt/media/image6.png" ContentType="image/png"/>
  <Override PartName="/ppt/media/image14.wmf" ContentType="image/x-wmf"/>
  <Override PartName="/ppt/media/applause.wav" ContentType="audio/x-wav"/>
  <Override PartName="/ppt/media/image15.wmf" ContentType="image/x-wmf"/>
  <Override PartName="/ppt/media/image23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.wmf" ContentType="image/x-wmf"/>
  <Override PartName="/ppt/media/image24.wmf" ContentType="image/x-wmf"/>
  <Override PartName="/ppt/media/image22.wmf" ContentType="image/x-wmf"/>
  <Override PartName="/ppt/media/explode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  <p:custShowLst>
    <p:custShow name="Pokaz niestandardowy 1" id="0">
      <p:sldLst>
        <p:sld r:id="rId7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F73FB-A9E4-4603-8BCD-846F538AB62D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D72E-90E9-4C75-82FD-E1DC99C87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6AC0-D21F-4839-B40C-0D9CA40A3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9657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D711-A21C-4930-8D0C-A055325BA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84976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01408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84976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01408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12E2-2AB9-4097-9859-623DBAB87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27D36-EEA1-4C88-BE6F-C1E93FB35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58062-D011-4DC2-841D-B9F9A6E2D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4F58B-D31F-441A-99F4-78E6E8563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3D283-55CF-4A1B-AB9B-824E9A921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3E900-0A31-4B68-A94D-4170583F1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293840" y="761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BECDD-9632-4B26-80E3-EDE02468F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14666-426A-4726-BBC8-94EE6B070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35A1-E781-400A-872F-003C5A9F5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9657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79392-06E4-4BDC-882A-2E584D462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DD493-2CF3-4920-BC31-32795742B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BEDD9-41F9-4EED-A301-159745A2F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9657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D39F0-8580-4AA0-BD32-CA2C996D5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84976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1408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84976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01408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65C97-D450-48DE-8AFA-ABE457906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A5D4-F813-4742-9FD5-EDEB7C578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EC74-CA7D-41F0-99D8-70B979A2E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DA52-D054-40CD-9393-0E0472BFE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293840" y="761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0A4F-5FDD-483E-A0E8-FF74BCDDA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A360-84A7-4CF9-BEE5-12AA4DC7B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9657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66DA-E8D3-494E-939B-FD527F36E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F144-3EF0-4023-96BD-4A77EA3CA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1BC5F-C144-4573-9160-AEDF56BC46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51DC3-9DCE-4B4D-A345-9455480866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4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8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569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WIERDZENIE 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ITAGORASA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Opracowanie: </a:t>
            </a:r>
            <a:br>
              <a:rPr sz="2800"/>
            </a:b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mgr Emilia Pawłowska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520" y="510516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3160" y="457200"/>
            <a:ext cx="4267080" cy="46483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W trójkąci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prostokątnym suma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pól kwadratów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zbudowanych n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przyprostokątnyc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jest równa polu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kwadratu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zbudowanego na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przeciwprostokątnej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257800" y="1981080"/>
            <a:ext cx="91440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156360" y="2924280"/>
            <a:ext cx="1371600" cy="1295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172200" y="1905120"/>
            <a:ext cx="1371600" cy="990360"/>
          </a:xfrm>
          <a:prstGeom prst="rtTriangle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rot="2074800">
            <a:off x="6495840" y="847440"/>
            <a:ext cx="1695240" cy="1754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0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8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6" dur="5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2500"/>
                            </p:stCondLst>
                            <p:childTnLst>
                              <p:par>
                                <p:cTn id="20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0" dur="5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3000"/>
                            </p:stCondLst>
                            <p:childTnLst>
                              <p:par>
                                <p:cTn id="21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4" dur="500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3500"/>
                            </p:stCondLst>
                            <p:childTnLst>
                              <p:par>
                                <p:cTn id="21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4000"/>
                            </p:stCondLst>
                            <p:childTnLst>
                              <p:par>
                                <p:cTn id="22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2" dur="500"/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4500"/>
                            </p:stCondLst>
                            <p:childTnLst>
                              <p:par>
                                <p:cTn id="22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500"/>
                            </p:stCondLst>
                            <p:childTnLst>
                              <p:par>
                                <p:cTn id="23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6500"/>
                            </p:stCondLst>
                            <p:childTnLst>
                              <p:par>
                                <p:cTn id="23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7500"/>
                            </p:stCondLst>
                            <p:childTnLst>
                              <p:par>
                                <p:cTn id="2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8000"/>
                            </p:stCondLst>
                            <p:childTnLst>
                              <p:par>
                                <p:cTn id="249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5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awidłowość tę odkrył grecki matematyk Pitagoras, żyjący w latach ok. 572-497 p.n.e. i dlatego nazywamy ją twierdzeniem Pitagoras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Uzasadniając własność PITAGORASA wykorzystamy układankę starą jak świa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zygotowałam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8 jednakowych trójkątów prostokątny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 bokach a,b,c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3 kwadraty o bokach odpowiednio a,b,c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4114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685800" y="2063880"/>
          <a:ext cx="3809880" cy="3949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063880"/>
                    <a:ext cx="3809880" cy="394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5334120" y="838080"/>
          <a:ext cx="5294160" cy="38862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4120" y="838080"/>
                    <a:ext cx="529416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"/>
          <p:cNvSpPr/>
          <p:nvPr/>
        </p:nvSpPr>
        <p:spPr>
          <a:xfrm flipH="1" flipV="1">
            <a:off x="608400" y="608760"/>
            <a:ext cx="2514600" cy="114300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rot="5400000">
            <a:off x="304200" y="4114800"/>
            <a:ext cx="2514600" cy="114300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rot="10800000">
            <a:off x="1142640" y="304200"/>
            <a:ext cx="2514600" cy="114300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211640" y="3213000"/>
            <a:ext cx="2592360" cy="3024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 rot="5400000">
            <a:off x="1294200" y="4419000"/>
            <a:ext cx="2514600" cy="114300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300720" y="228600"/>
            <a:ext cx="2158920" cy="2408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114800" y="1219320"/>
            <a:ext cx="96192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 flipV="1" rot="5400000">
            <a:off x="913320" y="3656880"/>
            <a:ext cx="2514600" cy="114300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rot="5976600">
            <a:off x="-228600" y="3580920"/>
            <a:ext cx="2514600" cy="114300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rot="7480800">
            <a:off x="1065960" y="2819160"/>
            <a:ext cx="2514600" cy="114300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rot="10800000">
            <a:off x="-360" y="1370880"/>
            <a:ext cx="2514600" cy="114300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500"/>
                            </p:stCondLst>
                            <p:childTnLst>
                              <p:par>
                                <p:cTn id="2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2000"/>
                            </p:stCondLst>
                            <p:childTnLst>
                              <p:par>
                                <p:cTn id="2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2500"/>
                            </p:stCondLst>
                            <p:childTnLst>
                              <p:par>
                                <p:cTn id="2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3000"/>
                            </p:stCondLst>
                            <p:childTnLst>
                              <p:par>
                                <p:cTn id="2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3500"/>
                            </p:stCondLst>
                            <p:childTnLst>
                              <p:par>
                                <p:cTn id="2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4000"/>
                            </p:stCondLst>
                            <p:childTnLst>
                              <p:par>
                                <p:cTn id="29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4500"/>
                            </p:stCondLst>
                            <p:childTnLst>
                              <p:par>
                                <p:cTn id="30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5000"/>
                            </p:stCondLst>
                            <p:childTnLst>
                              <p:par>
                                <p:cTn id="30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Z takich elementów ułożę teraz dwie figury o identycznym polu..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562360" y="380880"/>
            <a:ext cx="289548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 pierwszym rysunku widać cztery jednakowe trójkąty prostokątne o bokach a,b,c ułożone w taki sposób, że wewnątrz powstał kwadrat o boku 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-838080" y="762120"/>
          <a:ext cx="7124760" cy="5259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838080" y="762120"/>
                    <a:ext cx="7124760" cy="525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-838080" y="0"/>
          <a:ext cx="5753160" cy="4365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838080" y="0"/>
                    <a:ext cx="5753160" cy="436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28840" y="3885840"/>
            <a:ext cx="38098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 drugim rysunku te same trójkąty ułożone zostały inaczej, tak że pojawiły się dwa mniejsze kwadrat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19720" y="685800"/>
          <a:ext cx="4419360" cy="3390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685800"/>
                    <a:ext cx="4419360" cy="33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0" y="533520"/>
          <a:ext cx="4343400" cy="3543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533520"/>
                    <a:ext cx="4343400" cy="354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4114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owstały w ten sposób dwie figury o identycznym polu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                     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la przedstawionych figur nie ulegną zmianie, jeżeli będziemy zabierać identyczne kawałk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4114800" y="0"/>
          <a:ext cx="5029200" cy="2981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0"/>
                    <a:ext cx="5029200" cy="29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4267080" y="3429000"/>
          <a:ext cx="4243680" cy="31687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67080" y="3429000"/>
                    <a:ext cx="4243680" cy="31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-838080" y="0"/>
          <a:ext cx="6819840" cy="4629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838080" y="0"/>
                    <a:ext cx="6819840" cy="462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3" name=""/>
          <p:cNvGraphicFramePr/>
          <p:nvPr/>
        </p:nvGraphicFramePr>
        <p:xfrm>
          <a:off x="3505320" y="2924280"/>
          <a:ext cx="5295960" cy="37814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05320" y="2924280"/>
                    <a:ext cx="5295960" cy="37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RÓJKĄTY.......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TRÓJKĄ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to płaska figura geometryczna złożona z trzech boków i trzech kątów. Suma miar kątów wewnętrznych każdego trójkąta wynosi 18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4114440" y="4114800"/>
            <a:ext cx="1066680" cy="182880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114800" y="5943600"/>
            <a:ext cx="3276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181480" y="4114800"/>
            <a:ext cx="2210040" cy="1828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-609480" y="0"/>
          <a:ext cx="5257800" cy="3933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609480" y="0"/>
                    <a:ext cx="5257800" cy="39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8" name=""/>
          <p:cNvGraphicFramePr/>
          <p:nvPr/>
        </p:nvGraphicFramePr>
        <p:xfrm>
          <a:off x="4343400" y="533520"/>
          <a:ext cx="5791320" cy="31827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43400" y="533520"/>
                    <a:ext cx="5791320" cy="31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4114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 dwa mniejsze kwadraty mają takie samo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le, jak kwadrat na rysunku po prawej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roni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1000"/>
                            </p:stCondLst>
                            <p:childTnLst>
                              <p:par>
                                <p:cTn id="32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500"/>
                            </p:stCondLst>
                            <p:childTnLst>
                              <p:par>
                                <p:cTn id="33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3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Zapisz wyrażenie, opisujące pola kwadratów na rysunkach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-757080" y="2565360"/>
          <a:ext cx="4973400" cy="3886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757080" y="2565360"/>
                    <a:ext cx="49734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5" name=""/>
          <p:cNvGraphicFramePr/>
          <p:nvPr/>
        </p:nvGraphicFramePr>
        <p:xfrm>
          <a:off x="4191120" y="1752480"/>
          <a:ext cx="5943600" cy="31892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91120" y="1752480"/>
                    <a:ext cx="5943600" cy="31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1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762120" y="1676520"/>
          <a:ext cx="7772400" cy="4109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41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3520" y="1294920"/>
            <a:ext cx="861048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600" spc="-1" strike="noStrike">
                <a:solidFill>
                  <a:srgbClr val="ffcc66"/>
                </a:solidFill>
                <a:latin typeface="Arial"/>
              </a:rPr>
              <a:t>a</a:t>
            </a:r>
            <a:r>
              <a:rPr b="0" lang="en-US" sz="15600" spc="-1" strike="noStrike" baseline="30000">
                <a:solidFill>
                  <a:srgbClr val="ffcc66"/>
                </a:solidFill>
                <a:latin typeface="Arial"/>
              </a:rPr>
              <a:t>2</a:t>
            </a:r>
            <a:r>
              <a:rPr b="0" lang="en-US" sz="15600" spc="-1" strike="noStrike">
                <a:solidFill>
                  <a:srgbClr val="ffcc66"/>
                </a:solidFill>
                <a:latin typeface="Arial"/>
              </a:rPr>
              <a:t>+b</a:t>
            </a:r>
            <a:r>
              <a:rPr b="0" lang="en-US" sz="15600" spc="-1" strike="noStrike" baseline="30000">
                <a:solidFill>
                  <a:srgbClr val="ffcc66"/>
                </a:solidFill>
                <a:latin typeface="Arial"/>
              </a:rPr>
              <a:t>2</a:t>
            </a:r>
            <a:r>
              <a:rPr b="0" lang="en-US" sz="15600" spc="-1" strike="noStrike">
                <a:solidFill>
                  <a:srgbClr val="ffcc66"/>
                </a:solidFill>
                <a:latin typeface="Arial"/>
              </a:rPr>
              <a:t>=c</a:t>
            </a:r>
            <a:r>
              <a:rPr b="0" lang="en-US" sz="15600" spc="-1" strike="noStrike" baseline="30000">
                <a:solidFill>
                  <a:srgbClr val="ffcc66"/>
                </a:solidFill>
                <a:latin typeface="Arial"/>
              </a:rPr>
              <a:t>2</a:t>
            </a:r>
            <a:endParaRPr b="0" lang="en-US" sz="156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0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ffcc"/>
                </a:solidFill>
                <a:latin typeface="Times New Roman"/>
              </a:rPr>
              <a:t>Zatem twierdzenie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ffcc"/>
                </a:solidFill>
                <a:latin typeface="Times New Roman"/>
              </a:rPr>
              <a:t>         </a:t>
            </a:r>
            <a:r>
              <a:rPr b="1" lang="en-US" sz="6000" spc="-1" strike="noStrike">
                <a:solidFill>
                  <a:srgbClr val="66ffcc"/>
                </a:solidFill>
                <a:latin typeface="Times New Roman"/>
              </a:rPr>
              <a:t>zostało                   udowodnione! 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0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1000"/>
                            </p:stCondLst>
                            <p:childTnLst>
                              <p:par>
                                <p:cTn id="39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cc"/>
                </a:solidFill>
                <a:latin typeface="Times New Roman"/>
              </a:rPr>
              <a:t>Stosując twierdzenie Pitagorasa, możemy obliczyć długość jednego z boków trójkąta prostokątnego, gdy znane są długości dwóch pozostałych boków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0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6400800" cy="327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KONIEC..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1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Rodzaje trójkątów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609480" y="1828800"/>
          <a:ext cx="8229600" cy="411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828800"/>
                    <a:ext cx="82296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Zajmijmy się trójkątem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rostokątnym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est to taki trójkąt, który posiada jeden kąt prosty, czyli równy 9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90720" y="990720"/>
            <a:ext cx="2895480" cy="4572000"/>
          </a:xfrm>
          <a:prstGeom prst="rtTriangle">
            <a:avLst/>
          </a:prstGeom>
          <a:solidFill>
            <a:srgbClr val="ffff00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500"/>
                            </p:stCondLst>
                            <p:childTnLst>
                              <p:par>
                                <p:cTn id="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685800"/>
            <a:ext cx="38098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BOKI TAKIEGO TRÓJKĄTA T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- przyprostokąt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- przyprostokąt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- przeciwprostokąt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243040" y="2457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240680" y="251784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4876920" y="1447920"/>
          <a:ext cx="3808440" cy="411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1447920"/>
                    <a:ext cx="38084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>
            <a:off x="6477120" y="76212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75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75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75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575"/>
                            </p:stCondLst>
                            <p:childTnLst>
                              <p:par>
                                <p:cTn id="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2075"/>
                            </p:stCondLst>
                            <p:childTnLst>
                              <p:par>
                                <p:cTn id="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575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3075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uż ponad 2500 lat temu zauważono, że jeśli kąt między danymi bokami jest prosty, to trzeci bok trójkąta nie tylko można skonstruować, ale także łatwo obliczyć jego długość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85800" y="1981080"/>
          <a:ext cx="3924360" cy="411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39243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380520"/>
            <a:ext cx="35812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patrzcie na rysunek obok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 bokach trójkąta prostokątnego zbudowano kwadrat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ównam sumę pól dwóch mniejszych kwadratów z polem większego kwadratu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410000" y="3635280"/>
            <a:ext cx="228600" cy="1717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4457880" y="3645000"/>
            <a:ext cx="133200" cy="1522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4410000" y="3635280"/>
            <a:ext cx="228600" cy="1717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4140360" y="404640"/>
            <a:ext cx="4443120" cy="5681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500"/>
                            </p:stCondLst>
                            <p:childTnLst>
                              <p:par>
                                <p:cTn id="1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304920" y="1828800"/>
          <a:ext cx="2535120" cy="2514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828800"/>
                    <a:ext cx="253512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3276720" y="2590920"/>
          <a:ext cx="2819160" cy="25905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2590920"/>
                    <a:ext cx="2819160" cy="25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353280" y="3200400"/>
          <a:ext cx="2790720" cy="274320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353280" y="3200400"/>
                    <a:ext cx="279072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400" y="2282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stępującą własność trójkątów prostokątnych odkryli już starożytni matematyc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500"/>
                            </p:stCondLst>
                            <p:childTnLst>
                              <p:par>
                                <p:cTn id="16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2500"/>
                            </p:stCondLst>
                            <p:childTnLst>
                              <p:par>
                                <p:cTn id="16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6854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zy wiesz jaka to własność trójkątów prostokątnych..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762120" y="2438280"/>
          <a:ext cx="7772400" cy="4110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438280"/>
                    <a:ext cx="7772400" cy="411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3T14:37:35Z</dcterms:created>
  <dc:creator>pol</dc:creator>
  <dc:description/>
  <dc:language>en-US</dc:language>
  <cp:lastModifiedBy>x</cp:lastModifiedBy>
  <dcterms:modified xsi:type="dcterms:W3CDTF">2013-03-12T15:25:09Z</dcterms:modified>
  <cp:revision>141</cp:revision>
  <dc:subject/>
  <dc:title>TWIERDZENIE PITAGORASA</dc:title>
</cp:coreProperties>
</file>