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png" ContentType="image/png"/>
  <Override PartName="/ppt/media/image6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12.wmf" ContentType="image/x-wmf"/>
  <Override PartName="/ppt/media/image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18.png" ContentType="image/png"/>
  <Override PartName="/ppt/media/image17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5.jpeg" ContentType="image/jpeg"/>
  <Override PartName="/ppt/media/image20.wmf" ContentType="image/x-wmf"/>
  <Override PartName="/ppt/media/image8.png" ContentType="image/png"/>
  <Override PartName="/ppt/media/image16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41E3-E744-458B-98E8-996D924D5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9A2F-DAB4-495E-BE3E-B39E6543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96C0-541A-47EF-A8A7-4CDFFFAD0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5A81-427F-4B54-8890-333D07DDE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22CA-1CF7-46DC-A9D5-153A3922E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C897-F373-4668-A872-BE34403E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FD5A-6943-416C-BFD9-D112831A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8451-97A8-474A-B599-4DFE9D98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65A5-46AE-453C-AF38-E3F977D7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F38E-444A-4E46-B06E-984424B2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A22D-4B41-481E-90CF-51EC875B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304A-9521-4AE6-BECA-D093F3C8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DBE7-E312-480B-B39D-FB03B31C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6EB1-FC54-4DC0-B0D6-A7EB4C53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4EA7-A521-47C2-BF95-83E873D8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D983-8A9F-4AF1-8230-98AC833DE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F8CB-6258-4D27-8CFA-103EE407E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82EEA-62B9-45C5-8B12-ADD557CBB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337FC-1D1F-4F5C-A28C-CCFB6B86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E713D-05AA-499B-9A73-0B523B4D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5D4C2-2DBC-4C4A-8943-5914429E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CEAC8-43EA-4CC0-8368-70A5F03A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6191-F570-4BF7-829D-73C323F5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073C6-C3D4-4F60-9576-C7D4A8BB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63EBF-E33D-49F9-9B99-6AA62323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85A97-1C39-4927-965E-28000EE4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3F609-8075-40F8-95BD-FF74F4CC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6D0E7-B097-46E9-B170-0F087257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F1372-1D57-4D52-8F72-7165F8052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882A5-8FB8-4799-B361-680A149B8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1783E-6F31-4390-837D-2C61E6FB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B0053-2F49-4DFE-BB6A-967BFC6A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9C1F9-F177-48FE-A263-E9F2997D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1982-A65A-427B-AE65-18BC3AD4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0035E-BCFD-4BF0-879B-057A8114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F1C0A-0ABD-4C4E-99BC-6B820913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441E3-CB9A-4925-8ADD-2D22B541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06616-969E-424E-A799-62983B8A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4C0B6-CF83-494F-A50F-116FAD33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14371-D207-46D2-B1D5-2AB6EC09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3A505-5FFE-48A2-B460-2149269D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6433F-679E-472A-BFC8-88E12DD19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2B55F-686E-422E-85DE-8C0E3E9B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3C4F2-9D60-4CB2-8805-0F3E4CA03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6882-5898-4313-A345-A31F5451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1363C-0BF7-4312-9549-6038682C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DA570-3B2D-491B-BD77-67B8137B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E12DC-6C31-489D-BFBC-BA20F4E3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7AFF9-6ED7-4EAD-ACEA-D4D683ED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63D9E-8E42-4C1B-A5C9-44DCD87E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9A0DA-F18C-4788-B928-4465CC83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A676E-75FC-4F4C-AE35-CBFA99FA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FC035-B6C9-474F-85A5-F821D670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2A07A-45E6-4F00-AAF5-3DD867FE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57134-3276-4736-8D24-13E5EF0C6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C04A-36AE-40CC-AAB8-3D5B2885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D36DB-91B5-4027-A26A-69BBC4E26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1A3FA-AB2F-4AD0-8B73-5A5AA8BB0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8B323-1A22-4448-8124-71A41557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A6997-956C-47CD-ABA8-226F05B7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12934-6ACD-4069-9FAC-21503142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A66D0-70B6-4FAF-B81C-75D68109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64516-0463-44FA-B952-9E411126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8D379-D14C-443C-9C54-E034A88D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8017E-883E-4242-AC83-3E9BE3B8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4FC1A-1E87-40BF-97D1-B1B3784B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8BD5-813B-4CC6-824A-7EE117BF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F0CD5-218F-4E8E-B050-78E0D20B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1585B-BBE3-4F56-8599-EC3F8BF7A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5DE57-E9A4-466B-8357-8B23EBB3B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A484C-A130-4221-9095-B13A3B68F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E62AC-4138-467E-BC76-4ECBBC25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CFC72-3DD3-4939-AA1D-B6E66E81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A65B5-60C8-4ABD-BA34-18700007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49738-C6B6-4385-B7C2-63B994BF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34F80-7344-480A-93BE-D1BB352D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495CB-0BCB-4E8D-8F65-382ECB7B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3391-D7CE-4A1F-96D8-5507A8AE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564F0-5645-414C-A905-E18EDE4E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DE35C-ED86-43BA-8C0E-98F87A90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DC8BF-1D39-4FEF-8E5E-9C3A5A63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7BB17-1A76-4E95-BD0D-5BCA4BE92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04ADA-F1EB-4265-9F41-2671BF7AD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4AC26-6542-4C97-9EB1-A3508EAC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1F40A-CD7F-4C26-BB44-36B978CE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6D667-1DF7-4A8C-8574-A71A74D3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A645A-4212-46D3-A8F5-79BF9824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C84EF-2841-420C-9EFC-26BDBDD0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F2F4-8558-4ED1-8C0E-298A5FD0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E20FA-746D-4C98-991F-91E4D852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55DA5-3DFA-45D5-9707-D7C25904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390D4-E533-4D7D-9E1A-3DD06AB6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914AB-273D-47B3-B6BA-848CE479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7D2EE-CEDF-4FD9-94C9-25709A15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5C977-A1A3-4A45-922F-B6B61E19B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5B28A-6201-4C2A-95CD-3B96D916E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Trójkąt prostokątny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Trójkąt prostokątny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Łącznik prostoliniowy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E130-FD40-4A52-BA61-C0DB72F60CCC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ójkąt prostokątny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upa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Dowolny kształt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Dowolny kształt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Dowolny kształt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Dowolny kształt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Łącznik prostoliniowy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872A-87BA-409F-88AB-FF58EAD97D08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Trójkąt prostokątny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Łącznik prostoliniowy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ag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ag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8B7F-B39A-4BA8-85EF-522D0A82C6FF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Trójkąt prostokątny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Łącznik prostoliniowy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2770-D183-4A70-96A4-79649BE4BFD2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2FB4-9968-481F-AEEC-EB315CF5F937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Trójkąt prostokątny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Łącznik prostoliniowy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78C8-5B4D-40E5-9755-DDFD6813E1E1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34DD-C036-41B9-9295-55A44881FA17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Dowolny kształt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Dowolny kształt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Trójkąt prostokątny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Trójkąt prostokątny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Łącznik prostoliniowy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ag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ag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2E27-5117-4E92-A4FD-2EED58EC8625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ytuł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"/>
          <p:cNvPicPr/>
          <p:nvPr/>
        </p:nvPicPr>
        <p:blipFill>
          <a:blip r:embed="rId2"/>
          <a:stretch/>
        </p:blipFill>
        <p:spPr>
          <a:xfrm>
            <a:off x="825480" y="1481040"/>
            <a:ext cx="7493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"/>
          <p:cNvPicPr/>
          <p:nvPr/>
        </p:nvPicPr>
        <p:blipFill>
          <a:blip r:embed="rId2"/>
          <a:stretch/>
        </p:blipFill>
        <p:spPr>
          <a:xfrm>
            <a:off x="825480" y="1481040"/>
            <a:ext cx="7493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2"/>
          <a:stretch/>
        </p:blipFill>
        <p:spPr>
          <a:xfrm>
            <a:off x="1258920" y="1916280"/>
            <a:ext cx="6745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"/>
          <p:cNvPicPr/>
          <p:nvPr/>
        </p:nvPicPr>
        <p:blipFill>
          <a:blip r:embed="rId2"/>
          <a:stretch/>
        </p:blipFill>
        <p:spPr>
          <a:xfrm>
            <a:off x="816120" y="1481040"/>
            <a:ext cx="7511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1158840" y="1481040"/>
            <a:ext cx="6826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457200" y="1625760"/>
            <a:ext cx="822960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623880" y="1481040"/>
            <a:ext cx="7896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" descr=""/>
          <p:cNvPicPr/>
          <p:nvPr/>
        </p:nvPicPr>
        <p:blipFill>
          <a:blip r:embed="rId2"/>
          <a:stretch/>
        </p:blipFill>
        <p:spPr>
          <a:xfrm>
            <a:off x="457200" y="1486080"/>
            <a:ext cx="8229600" cy="45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457200" y="2171880"/>
            <a:ext cx="822960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"/>
          <p:cNvPicPr/>
          <p:nvPr/>
        </p:nvPicPr>
        <p:blipFill>
          <a:blip r:embed="rId2"/>
          <a:stretch/>
        </p:blipFill>
        <p:spPr>
          <a:xfrm>
            <a:off x="465120" y="1481040"/>
            <a:ext cx="8213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"/>
          <p:cNvPicPr/>
          <p:nvPr/>
        </p:nvPicPr>
        <p:blipFill>
          <a:blip r:embed="rId2"/>
          <a:stretch/>
        </p:blipFill>
        <p:spPr>
          <a:xfrm>
            <a:off x="457200" y="2271600"/>
            <a:ext cx="822960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"/>
          <p:cNvPicPr/>
          <p:nvPr/>
        </p:nvPicPr>
        <p:blipFill>
          <a:blip r:embed="rId2"/>
          <a:stretch/>
        </p:blipFill>
        <p:spPr>
          <a:xfrm>
            <a:off x="457200" y="1798560"/>
            <a:ext cx="822960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" descr=""/>
          <p:cNvPicPr/>
          <p:nvPr/>
        </p:nvPicPr>
        <p:blipFill>
          <a:blip r:embed="rId2"/>
          <a:stretch/>
        </p:blipFill>
        <p:spPr>
          <a:xfrm>
            <a:off x="1004760" y="1481040"/>
            <a:ext cx="7134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0T06:27:13Z</dcterms:created>
  <dc:creator>Ania</dc:creator>
  <dc:description/>
  <dc:language>en-US</dc:language>
  <cp:lastModifiedBy>Ania</cp:lastModifiedBy>
  <dcterms:modified xsi:type="dcterms:W3CDTF">2013-07-10T06:49:14Z</dcterms:modified>
  <cp:revision>9</cp:revision>
  <dc:subject/>
  <dc:title>POTĘGI I PIERWIASTKI</dc:title>
</cp:coreProperties>
</file>