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D58-DF3E-4D48-B373-94334B87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250-7797-470C-84CA-1469E505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3D5-D77D-4157-BAC0-95529654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156-BA01-4A01-ABBF-34C4B7A5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138F-D7CA-4187-A45D-09C9E1A0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CBE3-C9DB-4458-AD33-B564110B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E21C-2279-4DA3-8BB9-33DC36F5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18C4-8030-489B-A441-7DA4EF92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2F05-38D0-488D-83DA-C3D7B7A9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E328-A912-41E9-AB09-07DADFA4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01AA-5F30-461B-A949-39BE92B1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B2C-C28B-4A43-BC49-7B73818E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3E3B-307C-4845-A8B0-14A8E5A3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CAB3-D060-4C3B-A0A0-96F1B164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A530-1784-4F2E-AF03-18EC5328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6C43-D931-4EEA-BDAF-D0640458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B622-5A93-467D-88E4-90B2807F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503-424D-4F7A-83E3-E7FC8627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388-D1EB-4E43-B4F0-B36DFFAD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507-FE18-4C58-891A-30751AF3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99F-30CB-424D-B197-2AF71EAC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3B8-3F77-42C0-93F1-ED9C0FE4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722-B406-4DD3-9DD2-B32016AC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6ED-DCA2-41FA-92EF-B05C6ADE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EB5B-5C9D-4A66-90B6-041DB3AEA7A6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460D-B050-4661-8D9A-8D00BB779E0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D416-3148-498D-AF11-AB02A9D7013B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87B8-1109-4BCC-AE42-09DEECCB6E7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4360" y="838080"/>
            <a:ext cx="7848360" cy="206892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Rzymski system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zapisywania liczb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6408720" cy="3086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732720" y="2997360"/>
            <a:ext cx="2297160" cy="316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162-A432-4B31-BC79-15A26A2D60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Zapisz w systemie rzymskim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11280" y="2205000"/>
            <a:ext cx="4043520" cy="22608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1999 =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426-3721-4E3D-80C7-5155479241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999 = MCMXCIX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iczba rzymska składa się z wydzielonych fragmentów, które są równoznaczne z cyframi arabskim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 naszym przykładzie takimi "cyfrowymi fragmentami" były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M - 100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CM - 90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XC - 9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IX - 9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18C-5DEC-45C4-AB7D-E39E90A1C1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50920" y="333360"/>
            <a:ext cx="8642160" cy="126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kie są inne zasady obowiązujące przy tworzeniu liczb systemem rzymski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1628640"/>
            <a:ext cx="7315200" cy="1117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ok siebie można zapisać tylko trzy jednakowe znaki I, X, C,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2852640"/>
            <a:ext cx="6858000" cy="11178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ie wolno powtarzać obok siebie znaków V, L, 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4076640"/>
            <a:ext cx="6858000" cy="1496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ie może być dwóch znaków oznaczających liczby mniejsze bezpośrednio przed znakiem oznaczającym liczbę większą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76360" y="5445000"/>
            <a:ext cx="6858000" cy="82548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Znakami poprzedzającymi znak oznaczający większą liczbę mogą być tylko znaki: I, X, C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9D2-FB7F-4310-AB44-ECBC9AE6E6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50920" y="549360"/>
            <a:ext cx="851220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Zapisz liczby w systemie rzymski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59280" y="2421000"/>
            <a:ext cx="190476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8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00600" y="2438280"/>
            <a:ext cx="20574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XXVI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3200400"/>
            <a:ext cx="14479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94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3200400"/>
            <a:ext cx="16765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CI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95480" y="3962520"/>
            <a:ext cx="213372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16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3962520"/>
            <a:ext cx="152388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XV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4797360"/>
            <a:ext cx="1676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65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16360" y="4797360"/>
            <a:ext cx="2210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DLX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87640" y="5661000"/>
            <a:ext cx="18288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999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5661000"/>
            <a:ext cx="28800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MXCIX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2CA-7A8C-4B30-8D69-45F5B72D6B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95280" y="476280"/>
            <a:ext cx="836784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Odczytaj liczby zapisane w systemie rzymskim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25146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LV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16360" y="32130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XXIX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4120" y="32004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886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CXLVI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3886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4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66880" y="45720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DXCIV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45720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9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5257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MM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52578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78E-D32B-4034-8C83-EC58ECC3B4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4000" y="609480"/>
            <a:ext cx="836280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dzie dzisiaj używa się zapisu liczb systemem rzymski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92360" y="2133720"/>
            <a:ext cx="65530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zapisywaniu dat i wiek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2666880"/>
            <a:ext cx="7238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1  XI 19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3500280"/>
            <a:ext cx="731520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numeracji ważnych rocz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4038480"/>
            <a:ext cx="571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XV Konkurs Chopinows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4941720"/>
            <a:ext cx="72388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imionach kolejnych król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562720"/>
            <a:ext cx="6096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Zygmunt III Wa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C68-BDAF-4282-B13B-1E115C1DC7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0920" y="533520"/>
            <a:ext cx="858816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dzie jeszcze używa się zapisu liczb systemem rzymski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2209680"/>
            <a:ext cx="793116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o oznaczania godzin na zegar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3640" y="3357720"/>
            <a:ext cx="579132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rzy numeracji rozdział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365720"/>
            <a:ext cx="640080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a tablicach pamiątkow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5562720"/>
            <a:ext cx="77770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 inskrypcjach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napis wyryty w twardym materiale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52B-A2D9-4BA8-968F-5612493003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UWAG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Za pomocą dostępnych znaków można zapisać liczby od 1 do 3999, gdyż nie istnieją znaki dla liczb większych od 1000.   Większe liczby można zapisywać poprzez umieszczenie ich między dwoma znakami |, co oznacza liczbę stukrotnie większą. Innym znakiem pełniącym podobną funkcję jest nadkreślenie oznaczające pomnożenie przez 1000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7EE-6143-4120-AC3F-1F6B25FE77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905120" y="609480"/>
            <a:ext cx="7238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4000" y="609480"/>
            <a:ext cx="843912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zapisać systemem rzymsk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iększe liczb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50920" y="227664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  =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30481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LVI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 6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05120" y="3962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CIV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60 4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1280" y="4952880"/>
            <a:ext cx="8208720" cy="12632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czby w pionowych kreskach zwiększają  swoją wartość  stukrot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4B6-D888-4BA2-B41D-0502F9C54C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68360" y="838080"/>
            <a:ext cx="798984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zapisać jeszcze większe liczby systemem rzymski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76720" y="227664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XX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274320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28195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281952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33920" y="281952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3124080"/>
            <a:ext cx="436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V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40000" y="396252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M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4876920"/>
            <a:ext cx="8280360" cy="12632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czby podkreślone u góry zwiększają swoją wartość tysiąckrot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35280" y="2492280"/>
            <a:ext cx="1079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24360" y="3284640"/>
            <a:ext cx="792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38520" y="2205000"/>
            <a:ext cx="173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35640" y="3068640"/>
            <a:ext cx="20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505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91080" y="3870360"/>
            <a:ext cx="24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 00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4FC-7391-4D95-A0A0-E398731E7F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rcRect l="0" t="0" r="0" b="11536"/>
          <a:stretch/>
        </p:blipFill>
        <p:spPr>
          <a:xfrm>
            <a:off x="857160" y="4429080"/>
            <a:ext cx="4033800" cy="2214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f45"/>
                </a:solidFill>
                <a:latin typeface="Arial"/>
                <a:ea typeface="Arial"/>
              </a:rPr>
              <a:t>CYFRY RZYMSKIE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4000" y="1706400"/>
          <a:ext cx="8640720" cy="2322720"/>
        </p:xfrm>
        <a:graphic>
          <a:graphicData uri="http://schemas.openxmlformats.org/drawingml/2006/table">
            <a:tbl>
              <a:tblPr/>
              <a:tblGrid>
                <a:gridCol w="1008000"/>
                <a:gridCol w="1152360"/>
                <a:gridCol w="1150920"/>
                <a:gridCol w="1081080"/>
                <a:gridCol w="1368360"/>
                <a:gridCol w="1224000"/>
                <a:gridCol w="1656000"/>
              </a:tblGrid>
              <a:tr h="11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L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5429160" y="4429080"/>
            <a:ext cx="264312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18F-9BAE-4942-852B-295C4F0A69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aca z podręcznikiem 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atyka z plusem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Ćwiczenie A str 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d. 1,2,3/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d.5/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ff"/>
                </a:solidFill>
                <a:latin typeface="Verdana"/>
              </a:rPr>
              <a:t>dla chętnych na kartkach: zad.6,7/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112-CCA7-4A17-890F-991C7E7EC0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124000" y="1125360"/>
            <a:ext cx="63248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ochodzi od słowa centum = 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352680"/>
            <a:ext cx="5943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pl-PL" sz="3600" spc="-1" strike="noStrike">
                <a:solidFill>
                  <a:srgbClr val="000099"/>
                </a:solidFill>
                <a:latin typeface="Arial"/>
              </a:rPr>
              <a:t>pochodzi od słowa  mille = 1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62080" y="674640"/>
            <a:ext cx="785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18160" y="3284640"/>
            <a:ext cx="8787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632-678B-4F94-9DC1-5375A11312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87280" y="765000"/>
            <a:ext cx="685800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systemem rzymskim zapisać inne liczb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895480"/>
            <a:ext cx="7488360" cy="222948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Wystarczy dodawać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ub odejmować znak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5F9-850C-4397-BBC4-B8C3EB01E0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95280" y="404640"/>
            <a:ext cx="837072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Które liczby powstaj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z dodawania znakó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2060640"/>
            <a:ext cx="468144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  =  (V + I)  =  V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26668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26668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95640" y="2781360"/>
            <a:ext cx="556236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  =  (X + I)  =  X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3500280"/>
            <a:ext cx="62485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0  =  (L + X)  =  L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8360" y="4221000"/>
            <a:ext cx="609624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0  =  (C + X)  =  C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03280" y="5084640"/>
            <a:ext cx="640080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00  =  (D + C)  =  D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68360" y="5877000"/>
            <a:ext cx="548640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00  =  (M + C)  =  M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D6E-AD33-40EF-A608-E73DABA715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39640" y="0"/>
            <a:ext cx="808380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Które liczby powstaj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z odejmowania  znakó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8000" y="1773360"/>
            <a:ext cx="678204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 =  (V – 1)  =  I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2565360"/>
            <a:ext cx="62485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  =  (X – I)  =  I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79640" y="3357720"/>
            <a:ext cx="632448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  =  (L – X)  =  X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16000" y="4149720"/>
            <a:ext cx="64771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0  =  (C – X)  =  X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4724280"/>
            <a:ext cx="5715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9640" y="4941720"/>
            <a:ext cx="670572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0  =  (D – C)  =  C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5734080"/>
            <a:ext cx="6781680" cy="752040"/>
          </a:xfrm>
          <a:prstGeom prst="rect">
            <a:avLst/>
          </a:prstGeom>
          <a:solidFill>
            <a:srgbClr val="9ac2c0"/>
          </a:solidFill>
          <a:ln w="9360">
            <a:solidFill>
              <a:srgbClr val="c4c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00  =  (M – C)  =  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284-DFCE-4469-B5B4-FBA11A8E48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048360" cy="56278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60A-F657-48FD-A0BE-94AACDFF0B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k czytamy liczby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VII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2 •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7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XIV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14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XXIX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(2 •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29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XLV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14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DXIX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419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349-D69A-4779-8027-27A53696D6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 CC L XX VIII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(500 + 2 • 100) +(50 + 2 •10) + (5 + 3 • 1) = 778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k czytamy liczby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3284640"/>
            <a:ext cx="8207280" cy="94752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pl-PL" sz="3600" spc="-1" strike="noStrike">
                <a:solidFill>
                  <a:srgbClr val="ffffff"/>
                </a:solidFill>
                <a:latin typeface="Verdana"/>
              </a:rPr>
              <a:t>M CM L XXX IX</a:t>
            </a:r>
            <a:r>
              <a:rPr b="0" lang="pl-PL" sz="3600" spc="-1" strike="noStrike">
                <a:solidFill>
                  <a:srgbClr val="ffffff"/>
                </a:solidFill>
                <a:latin typeface="Verdana"/>
              </a:rPr>
              <a:t>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-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5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+ 3 •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-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=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869000"/>
            <a:ext cx="7921440" cy="9475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M CCC L II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(2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+ (3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0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+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5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+ (2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= 235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EF1-86AE-44D0-93A3-11988890C8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5:29:06Z</dcterms:created>
  <dc:creator>Elżbieta Salwa</dc:creator>
  <dc:description/>
  <dc:language>en-US</dc:language>
  <cp:lastModifiedBy>Matematyka</cp:lastModifiedBy>
  <dcterms:modified xsi:type="dcterms:W3CDTF">2014-01-03T15:03:54Z</dcterms:modified>
  <cp:revision>99</cp:revision>
  <dc:subject>prezentacja z matematyki dla klas 4 - 6 szkoły podstawowej</dc:subject>
  <dc:title>Prezentacja programu PowerPoint</dc:title>
</cp:coreProperties>
</file>