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5.png" ContentType="image/png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applause.wav" ContentType="audio/x-wav"/>
  <Override PartName="/ppt/media/image15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2.wmf" ContentType="image/x-wmf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okaz niestandardowy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0374-EF12-44B3-B67D-C209638DF1C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422-AC19-4019-8E15-3AA1D66F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75D-0B85-4E2A-9097-8E917169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206-5A80-44FC-A96D-EEE6E67B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BEA-FABA-49AF-89F4-6D6F4186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BBCC-063E-4B54-8C1B-1426ED87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BE48-157B-4093-936D-66CBEBF1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F217-E400-465F-9F32-0FD66402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9F80-514C-4EAA-B81A-B3B4CF65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ADD8-0527-4C72-9FA6-1CB2788A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1F0E-554A-411D-A7BC-E7CCC962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3962-DCC4-404F-9E52-3393DAD4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654-1CC8-4E4C-BAF6-93598C2C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4B97-EA19-46FF-A749-2291369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D027-E751-4D58-B380-4EBB7ECF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C190-EF3E-49B6-8722-9CC535DD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B629-A608-4B8E-BCD2-2AFDF8B5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2A25-722A-4C94-B1E1-FF8A9578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155-23D7-4AE2-A9A0-4CDBBCB2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15A-4DF7-4004-A27B-34B32E9A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073-9823-4E02-BDCB-152F00AF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E43-D41D-469A-92A1-5517AC80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4A9-8D99-4CC9-9A81-8A0F8F8B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C58-F46F-4C10-BA61-1E3F8B2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323-E58D-4312-91DC-92F3C425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C895-FD87-4335-8D46-512DE021AEF8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E35E-8874-46C1-9EF1-97863AA38A61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IERDZENI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TAGORAS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racowanie: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r Emilia Pawłowsk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105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426708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 trójkąci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okątnym su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ól kwadrató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ych 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yprostokąt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est równa pol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wadra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ego n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eciwprostokątne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81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924280"/>
            <a:ext cx="1371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905120"/>
            <a:ext cx="1371600" cy="99036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4800">
            <a:off x="6495840" y="847440"/>
            <a:ext cx="1695240" cy="17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widłowość tę odkrył grecki matematyk Pitagoras, żyjący w latach ok. 572-497 p.n.e. i dlatego nazywamy ją twierdzeniem Pitagora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zasadniając własność PITAGORASA wykorzystamy układankę starą jak świ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zygotowała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8 jednakowych trójkątów prostokąt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okach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3 kwadraty o bokach odpowiednio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063880"/>
          <a:ext cx="38098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3880"/>
                    <a:ext cx="38098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4120" y="838080"/>
          <a:ext cx="529416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529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H="1" flipV="1">
            <a:off x="608400" y="6087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04200" y="41148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142640" y="3042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213000"/>
            <a:ext cx="2592360" cy="30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1294200" y="44190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28600"/>
            <a:ext cx="2158920" cy="240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219320"/>
            <a:ext cx="961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5400000">
            <a:off x="913320" y="3656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976600">
            <a:off x="-228600" y="358092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480800">
            <a:off x="1065960" y="28191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-360" y="1370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takich elementów ułożę teraz dwie figury o identycznym polu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62360" y="3808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pierwszym rysunku widać cztery jednakowe trójkąty prostokątne o bokach a,b,c ułożone w taki sposób, że wewnątrz powstał kwadrat o boku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838080" y="762120"/>
          <a:ext cx="7124760" cy="52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762120"/>
                    <a:ext cx="7124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-838080" y="0"/>
          <a:ext cx="57531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5753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rugim rysunku te same trójkąty ułożone zostały inaczej, tak że pojawiły się dwa mniejsze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9720" y="685800"/>
          <a:ext cx="441936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685800"/>
                    <a:ext cx="4419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533520"/>
          <a:ext cx="4343400" cy="35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43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stały w ten sposób dwie figury o identycznym pol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 przedstawionych figur nie ulegną zmianie, jeżeli będziemy zabierać identyczne kawał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14800" y="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267080" y="3429000"/>
          <a:ext cx="4243680" cy="316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4243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-838080" y="0"/>
          <a:ext cx="6819840" cy="46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68198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505320" y="2924280"/>
          <a:ext cx="5295960" cy="37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24280"/>
                    <a:ext cx="52959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ÓJKĄTY....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ÓJKĄ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 płaska figura geometryczna złożona z trzech boków i trzech kątów. Suma miar kątów wewnętrznych każdego trójkąta wynosi 18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440" y="4114800"/>
            <a:ext cx="1066680" cy="1828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59436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114800"/>
            <a:ext cx="22100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-609480" y="0"/>
          <a:ext cx="5257800" cy="39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0"/>
                    <a:ext cx="5257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533520"/>
          <a:ext cx="5791320" cy="318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533520"/>
                    <a:ext cx="5791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dwa mniejsze kwadraty mają takie s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, jak kwadrat na rysunku po praw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pisz wyrażenie, opisujące pola kwadratów na rysunk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-757080" y="2565360"/>
          <a:ext cx="497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565360"/>
                    <a:ext cx="49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91120" y="1752480"/>
          <a:ext cx="5943600" cy="318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752480"/>
                    <a:ext cx="5943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676520"/>
          <a:ext cx="7772400" cy="41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+b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=c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endParaRPr b="0" lang="en-US" sz="15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atem twierdzeni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ostało                   udowodnione!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Stosując twierdzenie Pitagorasa, możemy obliczyć długość jednego z boków trójkąta prostokątnego, gdy znane są długości dwóch pozostałych bokó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ONIEC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dzaje trójkątó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2880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jmijmy się trójkąte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okątny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t to taki trójkąt, który posiada jeden kąt prosty, czyli równy 9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990720"/>
            <a:ext cx="2895480" cy="4572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KI TAKIEGO TRÓJKĄT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- przeciw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040" y="24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2517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76920" y="1447920"/>
          <a:ext cx="3808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44792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7712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5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75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75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75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ż ponad 2500 lat temu zauważono, że jeśli kąt między danymi bokami jest prosty, to trzeci bok trójkąta nie tylko można skonstruować, ale także łatwo obliczyć jego długo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3924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92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atrzcie na rysunek obo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bokach trójkąta prostokątnego zbudowano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ównam sumę pól dwóch mniejszych kwadratów z polem większego kwadra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57880" y="364500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44312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25351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2535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2590920"/>
          <a:ext cx="2819160" cy="25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28191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53280" y="3200400"/>
          <a:ext cx="279072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3280" y="3200400"/>
                    <a:ext cx="2790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ępującą własność trójkątów prostokątnych odkryli już starożytni matematy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zy wiesz jaka to własność trójkątów prostokątnych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438280"/>
          <a:ext cx="777240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14:37:35Z</dcterms:created>
  <dc:creator>pol</dc:creator>
  <dc:description/>
  <dc:language>en-US</dc:language>
  <cp:lastModifiedBy>x</cp:lastModifiedBy>
  <dcterms:modified xsi:type="dcterms:W3CDTF">2013-03-12T21:17:49Z</dcterms:modified>
  <cp:revision>141</cp:revision>
  <dc:subject/>
  <dc:title>TWIERDZENIE PITAGORASA</dc:title>
</cp:coreProperties>
</file>