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778-3E44-46E7-9AAB-34960F92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76F-6409-4104-8ABF-96955CC3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310-6B5A-4DFC-8D12-A375FC4C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5D3-EEBF-4531-A9A1-8A1FB317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312F-0F76-488E-92BE-9886ADEE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FBFC-46D0-46C7-B16A-70C4943C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9050-55A5-4803-95AB-453E1EAE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9753-F2D2-441E-95F1-795F74D5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4528-EA66-43CF-BCDA-53B86B69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BE0E-93CC-4650-A023-50C88A71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D340-0FB1-47D6-879E-35BA033A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BF6-37D5-45C8-9C47-01E749AC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1C90-C780-4EF1-80C1-B39B950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007C-4405-41C8-BA1D-771ECB3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FE7-5CF9-4399-B98C-EABC2037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1E45-1F3F-45B7-B9C2-2CCAFF99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669F-2427-43D6-BF0D-7782E9A6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E16-0BCD-4CA4-853F-E9A26341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0DE-9E27-4146-B2D8-61D60E14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225-437C-49A7-866F-2840E179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AF1-BE6D-4B0E-BE13-23FEF3E6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1EC-7C64-4030-AB51-3B6E2CA5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232-1591-451E-9366-EAD26904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56D-5669-48B4-A5FA-F99035D6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7838-3E1D-4927-A61F-587AE84829C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F2AE-62C9-44A1-92A1-EFE05A347B3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egamatma.pl/uczniowie/powtorka-z-podstawowki/ulamki/ulamki-zwykle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megamatma.pl/uczniowie/powtorka-z-podstawowki/ulamki/ulamki-zwyk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57360"/>
            <a:ext cx="5788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ŁAMKI ZWYKŁ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3500280"/>
            <a:ext cx="738648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dstawowe wiadomośc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Rozszerzając lub skracając ułamek nie zmieniamy jego wartości. Dzięki tej własności operacje rozszerzan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i skracania ułamka często wykorzystujemy w działaniach na ułamkach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Każdy ułamek można rozszerzyć, ale nie każdy da się skrócić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050920" y="765000"/>
            <a:ext cx="367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MIĘTAJ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22680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ą takie ułamki, których nie da się skrócić (uprościć), takie ułamki nazywamy nieskracalnymi. Ułamki są nieskracalne, wtedy gdy licznik     i mianownik nie mają takich samych dzielników większych od liczby 1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63640" y="4581360"/>
            <a:ext cx="3313080" cy="15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ekawostki historycz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łowo ułamek pochodzi od wywodzącego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ię z łaciny </a:t>
            </a:r>
            <a:r>
              <a:rPr b="0" i="1" lang="pl-PL" sz="2400" spc="-1" strike="noStrike">
                <a:solidFill>
                  <a:srgbClr val="2f1311"/>
                </a:solidFill>
                <a:latin typeface="Arial"/>
              </a:rPr>
              <a:t>fractio</a:t>
            </a: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, przekładu z arabskiego                    </a:t>
            </a:r>
            <a:r>
              <a:rPr b="0" i="1" lang="pl-PL" sz="2400" spc="-1" strike="noStrike">
                <a:solidFill>
                  <a:srgbClr val="2f1311"/>
                </a:solidFill>
                <a:latin typeface="Arial"/>
              </a:rPr>
              <a:t>kasr</a:t>
            </a: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 - złamany, a zatem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f1311"/>
                </a:solidFill>
                <a:latin typeface="Arial"/>
              </a:rPr>
              <a:t>ułamki to liczby złama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Ogólne pojęcie stosunku dwóch liczb zostało wprowadzone przez pitagorejczyków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w VI w. p.n.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Poprzedzający ich Babilończycy i Egipcjanie używali jedynie ułamków  z licznikiem 1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ekawostki historycz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Współczesny sposób zapisu ułamków pochodzi od matematyków hinduskich, zapisywali oni licznik i mianownik, nie używając jednak kreski rozdzielającej. Dodanie kreski rozdzielającej zawdzięczamy Arabom tłumaczącym dzieła Hindusów. W Europie jako pierwszy w swoich pracach znane do dziś oznaczenie ułamków publikuje włoski matematyk Fibonacci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00240" y="237600"/>
            <a:ext cx="42544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łamki zwykłe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ek zwykły to  każde wyrażenie postac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dzie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jest w liczniku (nad kreską ułamkową),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jest w mianowniku (pod kreską ułamkową), liczby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uszą być całkowite oraz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różne od zer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059280" y="2565360"/>
                <a:ext cx="649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Mianownik wskazuje, na ile jednakowych części podzielono figurę, </a:t>
            </a: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a licznik - ile tych części zabrano (zamalowano)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Pamiętaj! Aby odczytać jaka część figury została zamalowana, należy podzielić figurę na RÓWNE CZĘŚCI.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201080" cy="171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5400720" cy="18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ki, w których licznik jest mniejszy od mianownika, to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łamki właściw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Przypominam, że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ą one mniejsze od 1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708360" y="4365720"/>
                <a:ext cx="79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u&amp;lstrok;amek, jeden, &amp;cacute;wier&amp;cacute;"/>
          <p:cNvPicPr/>
          <p:nvPr/>
        </p:nvPicPr>
        <p:blipFill>
          <a:blip r:embed="rId2"/>
          <a:stretch/>
        </p:blipFill>
        <p:spPr>
          <a:xfrm>
            <a:off x="684360" y="5229360"/>
            <a:ext cx="142848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trzy, &amp;cacute;wier&amp;cacute;, ko&amp;zacute;l&amp;eogon;"/>
          <p:cNvPicPr/>
          <p:nvPr/>
        </p:nvPicPr>
        <p:blipFill>
          <a:blip r:embed="rId3"/>
          <a:stretch/>
        </p:blipFill>
        <p:spPr>
          <a:xfrm>
            <a:off x="5796000" y="364500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&amp;cacute;wier&amp;cacute;, ko&amp;zacute;l&amp;eogon;"/>
          <p:cNvPicPr/>
          <p:nvPr/>
        </p:nvPicPr>
        <p:blipFill>
          <a:blip r:embed="rId4"/>
          <a:stretch/>
        </p:blipFill>
        <p:spPr>
          <a:xfrm>
            <a:off x="826920" y="386064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348000" y="3357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u&amp;lstrok;amek, trzy, &amp;cacute;wierci"/>
          <p:cNvPicPr/>
          <p:nvPr/>
        </p:nvPicPr>
        <p:blipFill>
          <a:blip r:embed="rId6"/>
          <a:stretch/>
        </p:blipFill>
        <p:spPr>
          <a:xfrm>
            <a:off x="5651640" y="5084640"/>
            <a:ext cx="1428480" cy="12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łamek niewłaściw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- to taki ułamek, w którym licznik jest większy od mianownika lub równy mianownikowi. Ułamki niewłaściwe są większe lub równe 1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=1                 =11              =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292720" y="4653000"/>
                <a:ext cx="515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87640" y="4653000"/>
                <a:ext cx="549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1280" y="4581360"/>
                <a:ext cx="5652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60" y="38988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 Black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60" y="105480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 Black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00720" y="4653000"/>
                <a:ext cx="523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ki niewłaściwe przedstawione           w postaci całości i ułamka właściwego nazywamy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iczbami mieszanym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7200720" cy="123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ozszerzanie i skracanie.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Ułamek zwykły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można rozszerzyć mnożąc licznik i mianownik ułamka przez tę samą liczbę całkowitą różną od zera.</a:t>
            </a:r>
            <a:br>
              <a:rPr sz="2400"/>
            </a:b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p. 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=               =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Ułamek zwykły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można skrócić dzieląc licznik              i mianownik ułamka przez ich wspólny dzielnik dodatni.</a:t>
            </a:r>
            <a:br>
              <a:rPr sz="2400"/>
            </a:b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p. 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  =                 =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24360" y="2852640"/>
                <a:ext cx="460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427640" y="5084640"/>
                <a:ext cx="792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40360" y="5084640"/>
                <a:ext cx="393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203640" y="2852640"/>
                <a:ext cx="420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348000" y="5084640"/>
                <a:ext cx="4190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84720" y="2852640"/>
                <a:ext cx="684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9:49:19Z</dcterms:created>
  <dc:creator>Matematyka</dc:creator>
  <dc:description/>
  <dc:language>en-US</dc:language>
  <cp:lastModifiedBy>x</cp:lastModifiedBy>
  <dcterms:modified xsi:type="dcterms:W3CDTF">2013-04-16T15:29:43Z</dcterms:modified>
  <cp:revision>37</cp:revision>
  <dc:subject/>
  <dc:title>Mianownik wskazuje, na ile jednakowych części podzielono figurę,  a licznik - ile tych części zabrano (zamalowano)           Pamiętaj! Aby odczytać jaka część figury została zamalowana, należy podzielić figurę na RÓWNE CZĘŚCI.</dc:title>
</cp:coreProperties>
</file>