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12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CC3-1E13-4215-9A2B-1F167F1C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821-B203-49CE-B72C-578C1002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B6A-6DA4-4741-967E-F4B34EBB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722-107C-415F-9786-003B15EA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7A93-FDBF-4ABC-99DD-A2C076B5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AA4A-DACB-4E88-BF50-F44A0976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6047-3541-4EF5-A019-69EB9AD9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449D-BF83-4EB3-B8DC-E85A8FB0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A353-3AFC-4C87-9EAA-0DD2EEFD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CCB4-E2C5-4269-B4BB-BD0ACC2C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A8AE-C9D9-48BB-B346-9CF7B92C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9E9-40A7-4BBA-AA95-EAFFF533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79AF-84AB-43F2-95CB-9E04F681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02EF-6841-4DCB-9959-1EE5B27B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65A9-660E-4901-991F-A70A9674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126D-37C2-4E4A-A06F-4D4C9FBE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0C53-0A38-42EC-9C6E-4B6B58CE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B66-B343-4D66-90A4-64A1C3CF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EB9-362A-4E7D-B60F-69464B33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8A27-DB34-46A6-B64C-69A9BE47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DE3-51B3-472E-82B6-C868D57F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B61-E189-4AAA-9A93-4D83EAF8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86D-78BB-4058-9866-8E1ED0C0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657-418F-4BB4-90B4-906D2083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9943-C606-4EC7-89BF-C4E3647CC8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E7AD-723A-4B83-AB62-AED96A0819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138240" y="1981080"/>
            <a:ext cx="9420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33240" y="623880"/>
            <a:ext cx="78775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33240" y="614520"/>
            <a:ext cx="78775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395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613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18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13224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Plik:Cylinder geometry.svg"/>
          <p:cNvPicPr/>
          <p:nvPr/>
        </p:nvPicPr>
        <p:blipFill>
          <a:blip r:embed="rId2"/>
          <a:stretch/>
        </p:blipFill>
        <p:spPr>
          <a:xfrm>
            <a:off x="7010280" y="457200"/>
            <a:ext cx="1582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13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OŻ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http://www.megamatma.pl/res/upload/RYSUNKI_DOBRE/gimnazjum/plik_12_6/1.gif"/>
          <p:cNvPicPr/>
          <p:nvPr/>
        </p:nvPicPr>
        <p:blipFill>
          <a:blip r:embed="rId1"/>
          <a:stretch/>
        </p:blipFill>
        <p:spPr>
          <a:xfrm>
            <a:off x="228600" y="1600200"/>
            <a:ext cx="8381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http://www.matematykam.pl/images/133a.jpg"/>
          <p:cNvPicPr/>
          <p:nvPr/>
        </p:nvPicPr>
        <p:blipFill>
          <a:blip r:embed="rId1"/>
          <a:stretch/>
        </p:blipFill>
        <p:spPr>
          <a:xfrm>
            <a:off x="0" y="609480"/>
            <a:ext cx="899172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7200" y="47520"/>
            <a:ext cx="468648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58388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republika.pl"/>
          <p:cNvPicPr/>
          <p:nvPr/>
        </p:nvPicPr>
        <p:blipFill>
          <a:blip r:embed="rId1"/>
          <a:stretch/>
        </p:blipFill>
        <p:spPr>
          <a:xfrm>
            <a:off x="1663560" y="228600"/>
            <a:ext cx="5302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52412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75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http://www.pomocedlaszkol.pl/_var/gfx/32d3bd476831fcdac249bf2533af96e7.jpg"/>
          <p:cNvPicPr/>
          <p:nvPr/>
        </p:nvPicPr>
        <p:blipFill>
          <a:blip r:embed="rId1"/>
          <a:stretch/>
        </p:blipFill>
        <p:spPr>
          <a:xfrm>
            <a:off x="152280" y="457200"/>
            <a:ext cx="6324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38080" y="860400"/>
            <a:ext cx="62485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http://www.matmana6.pl/zdjecia/szkola_srednia/geometria_w_przestrzeni_stereometria/graniastoslup_12.png"/>
          <p:cNvPicPr/>
          <p:nvPr/>
        </p:nvPicPr>
        <p:blipFill>
          <a:blip r:embed="rId1"/>
          <a:stretch/>
        </p:blipFill>
        <p:spPr>
          <a:xfrm>
            <a:off x="228600" y="152280"/>
            <a:ext cx="647712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http://www.matmana6.pl/zdjecia/szkola_srednia/geometria_w_przestrzeni_stereometria/graniastoslup_14.png"/>
          <p:cNvPicPr/>
          <p:nvPr/>
        </p:nvPicPr>
        <p:blipFill>
          <a:blip r:embed="rId1"/>
          <a:stretch/>
        </p:blipFill>
        <p:spPr>
          <a:xfrm>
            <a:off x="304920" y="228600"/>
            <a:ext cx="50180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319480" y="804960"/>
            <a:ext cx="45050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http://www.matmana6.pl/zdjecia/szkola_srednia/geometria_w_przestrzeni_stereometria/graniastoslup_17.png"/>
          <p:cNvPicPr/>
          <p:nvPr/>
        </p:nvPicPr>
        <p:blipFill>
          <a:blip r:embed="rId1"/>
          <a:stretch/>
        </p:blipFill>
        <p:spPr>
          <a:xfrm>
            <a:off x="304920" y="152280"/>
            <a:ext cx="59706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4613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http://static.scholaris.pl/main-file/108/figury-przystajace-i-podobne_64778.jpg"/>
          <p:cNvPicPr/>
          <p:nvPr/>
        </p:nvPicPr>
        <p:blipFill>
          <a:blip r:embed="rId1"/>
          <a:stretch/>
        </p:blipFill>
        <p:spPr>
          <a:xfrm>
            <a:off x="2057400" y="0"/>
            <a:ext cx="495144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4279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443320" y="438120"/>
            <a:ext cx="425736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31520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6862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52480" y="719280"/>
            <a:ext cx="469584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014480" y="804960"/>
            <a:ext cx="71150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1911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956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7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6674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18:58:56Z</dcterms:created>
  <dc:creator>Matematyka</dc:creator>
  <dc:description/>
  <dc:language>en-US</dc:language>
  <cp:lastModifiedBy>Matematyka</cp:lastModifiedBy>
  <dcterms:modified xsi:type="dcterms:W3CDTF">2014-03-02T20:48:33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