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51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58.png" ContentType="image/png"/>
  <Override PartName="/ppt/media/image80.wmf" ContentType="image/x-wmf"/>
  <Override PartName="/ppt/media/image44.jpeg" ContentType="image/jpeg"/>
  <Override PartName="/ppt/media/image38.png" ContentType="image/png"/>
  <Override PartName="/ppt/media/image60.wmf" ContentType="image/x-wmf"/>
  <Override PartName="/ppt/media/image43.jpeg" ContentType="image/jpeg"/>
  <Override PartName="/ppt/media/image93.png" ContentType="image/png"/>
  <Override PartName="/ppt/media/image42.jpeg" ContentType="image/jpeg"/>
  <Override PartName="/ppt/media/camera.wav" ContentType="audio/x-wav"/>
  <Override PartName="/ppt/media/image18.png" ContentType="image/png"/>
  <Override PartName="/ppt/media/image59.jpeg" ContentType="image/jpeg"/>
  <Override PartName="/ppt/media/image83.png" ContentType="image/png"/>
  <Override PartName="/ppt/media/image41.png" ContentType="image/png"/>
  <Override PartName="/ppt/media/image3.jpeg" ContentType="image/jpeg"/>
  <Override PartName="/ppt/media/image40.jpeg" ContentType="image/jpeg"/>
  <Override PartName="/ppt/media/image13.wmf" ContentType="image/x-wmf"/>
  <Override PartName="/ppt/media/image36.png" ContentType="image/png"/>
  <Override PartName="/ppt/media/image34.wmf" ContentType="image/x-wmf"/>
  <Override PartName="/ppt/media/image56.jpeg" ContentType="image/jpeg"/>
  <Override PartName="/ppt/media/image31.jpeg" ContentType="image/jpeg"/>
  <Override PartName="/ppt/media/image28.wmf" ContentType="image/x-wmf"/>
  <Override PartName="/ppt/media/image30.wmf" ContentType="image/x-wmf"/>
  <Override PartName="/ppt/media/image27.png" ContentType="image/png"/>
  <Override PartName="/ppt/media/image99.jpeg" ContentType="image/jpeg"/>
  <Override PartName="/ppt/media/image35.jpeg" ContentType="image/jpeg"/>
  <Override PartName="/ppt/media/image10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37.png" ContentType="image/png"/>
  <Override PartName="/ppt/media/image94.jpeg" ContentType="image/jpeg"/>
  <Override PartName="/ppt/media/image22.wmf" ContentType="image/x-wmf"/>
  <Override PartName="/ppt/media/image100.jpeg" ContentType="image/jpeg"/>
  <Override PartName="/ppt/media/image87.jpeg" ContentType="image/jpeg"/>
  <Override PartName="/ppt/media/image65.jpeg" ContentType="image/jpeg"/>
  <Override PartName="/ppt/media/image92.jpeg" ContentType="image/jpeg"/>
  <Override PartName="/ppt/media/image29.wmf" ContentType="image/x-wmf"/>
  <Override PartName="/ppt/media/image68.jpeg" ContentType="image/jpeg"/>
  <Override PartName="/ppt/media/image79.png" ContentType="image/png"/>
  <Override PartName="/ppt/media/image69.jpeg" ContentType="image/jpeg"/>
  <Override PartName="/ppt/media/image71.jpeg" ContentType="image/jpeg"/>
  <Override PartName="/ppt/media/image74.jpeg" ContentType="image/jpeg"/>
  <Override PartName="/ppt/media/image75.jpeg" ContentType="image/jpeg"/>
  <Override PartName="/ppt/media/image8.png" ContentType="image/png"/>
  <Override PartName="/ppt/media/image85.png" ContentType="image/png"/>
  <Override PartName="/ppt/media/image25.jpeg" ContentType="image/jpeg"/>
  <Override PartName="/ppt/media/image26.jpeg" ContentType="image/jpeg"/>
  <Override PartName="/ppt/media/image72.wmf" ContentType="image/x-wmf"/>
  <Override PartName="/ppt/media/image97.jpeg" ContentType="image/jpeg"/>
  <Override PartName="/ppt/media/image12.png" ContentType="image/png"/>
  <Override PartName="/ppt/media/image91.jpeg" ContentType="image/jpeg"/>
  <Override PartName="/ppt/media/image70.png" ContentType="image/png"/>
  <Override PartName="/ppt/media/image95.jpeg" ContentType="image/jpeg"/>
  <Override PartName="/ppt/media/image96.jpeg" ContentType="image/jpeg"/>
  <Override PartName="/ppt/media/image76.jpeg" ContentType="image/jpeg"/>
  <Override PartName="/ppt/media/image101.jpeg" ContentType="image/jpeg"/>
  <Override PartName="/ppt/media/image88.jpeg" ContentType="image/jpeg"/>
  <Override PartName="/ppt/media/image14.png" ContentType="image/png"/>
  <Override PartName="/ppt/media/image90.jpeg" ContentType="image/jpeg"/>
  <Override PartName="/ppt/media/image63.jpeg" ContentType="image/jpeg"/>
  <Override PartName="/ppt/media/type.wav" ContentType="audio/x-wav"/>
  <Override PartName="/ppt/media/image6.jpeg" ContentType="image/jpeg"/>
  <Override PartName="/ppt/media/image77.jpeg" ContentType="image/jpeg"/>
  <Override PartName="/ppt/media/image55.jpeg" ContentType="image/jpeg"/>
  <Override PartName="/ppt/media/image61.jpeg" ContentType="image/jpeg"/>
  <Override PartName="/ppt/media/image82.wmf" ContentType="image/x-wmf"/>
  <Override PartName="/ppt/media/image86.jpeg" ContentType="image/jpeg"/>
  <Override PartName="/ppt/media/image8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67.wmf" ContentType="image/x-wmf"/>
  <Override PartName="/ppt/media/image15.jpeg" ContentType="image/jpeg"/>
  <Override PartName="/ppt/media/image98.jpeg" ContentType="image/jpeg"/>
  <Override PartName="/ppt/media/image17.png" ContentType="image/png"/>
  <Override PartName="/ppt/media/image32.jpeg" ContentType="image/jpeg"/>
  <Override PartName="/ppt/media/image50.jpeg" ContentType="image/jpeg"/>
  <Override PartName="/ppt/media/image73.jpeg" ContentType="image/jpeg"/>
  <Override PartName="/ppt/media/image24.png" ContentType="image/png"/>
  <Override PartName="/ppt/media/image5.jpeg" ContentType="image/jpeg"/>
  <Override PartName="/ppt/media/image11.png" ContentType="image/png"/>
  <Override PartName="/ppt/media/image81.wmf" ContentType="image/x-wmf"/>
  <Override PartName="/ppt/media/image66.jpeg" ContentType="image/jpeg"/>
  <Override PartName="/ppt/media/image16.wmf" ContentType="image/x-wmf"/>
  <Override PartName="/ppt/media/image45.jpeg" ContentType="image/jpeg"/>
  <Override PartName="/ppt/media/image4.png" ContentType="image/png"/>
  <Override PartName="/ppt/media/image57.png" ContentType="image/png"/>
  <Override PartName="/ppt/media/laser.wav" ContentType="audio/x-wav"/>
  <Override PartName="/ppt/media/image7.png" ContentType="image/png"/>
  <Override PartName="/ppt/media/image19.png" ContentType="image/png"/>
  <Override PartName="/ppt/media/image62.jpeg" ContentType="image/jpeg"/>
  <Override PartName="/ppt/media/image8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tematyka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<Relationship Id="rId93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3-03-23T13:14:44.749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EC24-9EF3-499E-8B85-0B66C79C370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64A5-C334-4982-B40F-F1F7760D944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7D8B-147A-42EA-B6EB-0B66F75F566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7F39-CC13-4CB9-A395-2E28D0E9385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68AD-614F-4B59-AAF8-CD1A7B97796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999C-0A9E-494C-BBFE-30284991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F43-D25E-49DD-B896-D577E222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342-10BA-4649-ABEC-E9876AE5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1CB-9493-41E4-B7BD-9DB00954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92FE-CF9B-47F1-B36A-C6A32C6C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26CD-7C2D-42FF-851E-CD1BE909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79D5-0190-46BD-B5D0-AF07846D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EC3D-4154-4B32-BAF5-17E9E387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F602-BA5F-4545-8B03-03072DFF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FA52-7ACE-422E-9C5C-7BE5EA17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715F-5EFE-4ECC-B0BC-41AB5DBF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DB2-851A-47DC-87A7-6873690C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C570-C26B-4A08-8EE2-151BDFB5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A481-4FE9-4F38-8700-BA7902DE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917C-87AE-4126-A86A-0FC3D539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C258-D5F2-444D-BF79-8442EEC9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0C4A-73A7-4580-B992-70E743DC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49E-CC32-47B8-A0D1-E66B5F2F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D19-A6F0-4D26-95C4-600FEBA3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99E-BD47-415B-9D4D-136574AD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65E-C67A-4A5F-BDB3-7E710D6A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760B-FEFC-48BA-AAA1-7C856FB5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71B-CD2D-46CA-8391-24CDD4A2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B3D-D079-4513-87C4-9F2DDC3F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765A-10F4-409D-AE08-FEB83968F77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D278-CFC2-40B3-8C65-8D8CF365AE7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24.xml"/><Relationship Id="rId4" Type="http://schemas.openxmlformats.org/officeDocument/2006/relationships/slide" Target="slide39.xml"/><Relationship Id="rId5" Type="http://schemas.openxmlformats.org/officeDocument/2006/relationships/slide" Target="slide49.xml"/><Relationship Id="rId6" Type="http://schemas.openxmlformats.org/officeDocument/2006/relationships/slide" Target="slide58.xml"/><Relationship Id="rId7" Type="http://schemas.openxmlformats.org/officeDocument/2006/relationships/slide" Target="slide69.xml"/><Relationship Id="rId8" Type="http://schemas.openxmlformats.org/officeDocument/2006/relationships/slide" Target="slide78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wmf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image" Target="../media/image88.jpeg"/><Relationship Id="rId8" Type="http://schemas.openxmlformats.org/officeDocument/2006/relationships/image" Target="../media/image89.jpeg"/><Relationship Id="rId9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87.jpeg"/><Relationship Id="rId3" Type="http://schemas.openxmlformats.org/officeDocument/2006/relationships/image" Target="../media/image86.jpeg"/><Relationship Id="rId4" Type="http://schemas.openxmlformats.org/officeDocument/2006/relationships/image" Target="../media/image90.jpeg"/><Relationship Id="rId5" Type="http://schemas.openxmlformats.org/officeDocument/2006/relationships/image" Target="../media/image88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3.png"/><Relationship Id="rId3" Type="http://schemas.openxmlformats.org/officeDocument/2006/relationships/image" Target="../media/image93.png"/><Relationship Id="rId4" Type="http://schemas.openxmlformats.org/officeDocument/2006/relationships/image" Target="../media/image93.png"/><Relationship Id="rId5" Type="http://schemas.openxmlformats.org/officeDocument/2006/relationships/image" Target="../media/image93.png"/><Relationship Id="rId6" Type="http://schemas.openxmlformats.org/officeDocument/2006/relationships/image" Target="../media/image93.png"/><Relationship Id="rId7" Type="http://schemas.openxmlformats.org/officeDocument/2006/relationships/image" Target="../media/image93.png"/><Relationship Id="rId8" Type="http://schemas.openxmlformats.org/officeDocument/2006/relationships/image" Target="../media/image92.jpeg"/><Relationship Id="rId9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iki.wolnepodreczniki.pl/Matematyka:Gimnazjum/Procenty_1" TargetMode="External"/><Relationship Id="rId2" Type="http://schemas.openxmlformats.org/officeDocument/2006/relationships/hyperlink" Target="http://www.fajslawice.internetdsl.pl/pgf/mat/prezentacje/procenty" TargetMode="External"/><Relationship Id="rId3" Type="http://schemas.openxmlformats.org/officeDocument/2006/relationships/hyperlink" Target="http://www.fajslawice.internetdsl.pl/pgf/mat/prezentacje/procenty" TargetMode="External"/><Relationship Id="rId4" Type="http://schemas.openxmlformats.org/officeDocument/2006/relationships/hyperlink" Target="http://www.fajslawice.internetdsl.pl/pgf/mat/prezentacje/procenty" TargetMode="External"/><Relationship Id="rId5" Type="http://schemas.openxmlformats.org/officeDocument/2006/relationships/hyperlink" Target="http://www.fajslawice.internetdsl.pl/pgf/mat/prezentacje/procenty" TargetMode="External"/><Relationship Id="rId6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45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96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45802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920" y="1484280"/>
            <a:ext cx="74901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...ach ten proce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77C9-A5D5-4AE3-B2CC-52479E9BDC3F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mówimy, że 23% Polaków ma niebieskie oczy, to znaczy, że przeciętnie na 100 Polaków jest 23 takich, którzy mają niebieskie ocz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na też powiedzieć, ż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zystkich Polaków ma niebieskie ocz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549000" cy="7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D8C-20CE-403A-80E9-CAF3E1F120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0066"/>
                </a:solidFill>
                <a:latin typeface="Monotype Corsiva"/>
              </a:rPr>
              <a:t>CIEKAWOSTKI</a:t>
            </a:r>
            <a:endParaRPr b="0" lang="en-US" sz="3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cc0099"/>
                </a:solidFill>
                <a:latin typeface="Times New Roman"/>
              </a:rPr>
              <a:t>ZMIANA ZAPISU % W HISTOR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8" descr="C:\Documents and Settings\mama\Pulpit\111px-Percent_1425.png"/>
          <p:cNvPicPr/>
          <p:nvPr/>
        </p:nvPicPr>
        <p:blipFill>
          <a:blip r:embed="rId1"/>
          <a:stretch/>
        </p:blipFill>
        <p:spPr>
          <a:xfrm>
            <a:off x="4859280" y="2349360"/>
            <a:ext cx="1219320" cy="1067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Documents and Settings\mama\Pulpit\111px-Percent_1650.png"/>
          <p:cNvPicPr/>
          <p:nvPr/>
        </p:nvPicPr>
        <p:blipFill>
          <a:blip r:embed="rId2"/>
          <a:stretch/>
        </p:blipFill>
        <p:spPr>
          <a:xfrm>
            <a:off x="4859280" y="371628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Documents and Settings\mama\Pulpit\111px-Percent_18e.png"/>
          <p:cNvPicPr/>
          <p:nvPr/>
        </p:nvPicPr>
        <p:blipFill>
          <a:blip r:embed="rId3"/>
          <a:stretch/>
        </p:blipFill>
        <p:spPr>
          <a:xfrm>
            <a:off x="4859280" y="5013360"/>
            <a:ext cx="1219320" cy="96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C4F-3831-47E6-B0FE-4A4A067F5071}" type="slidenum">
              <a:t>11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cc"/>
                </a:solidFill>
                <a:latin typeface="Times New Roman"/>
              </a:rPr>
              <a:t>Zadanie  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Ile procent figury zamalowano?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7" name="" descr="Procenty def zad1.svg"/>
          <p:cNvPicPr/>
          <p:nvPr/>
        </p:nvPicPr>
        <p:blipFill>
          <a:blip r:embed="rId1"/>
          <a:stretch/>
        </p:blipFill>
        <p:spPr>
          <a:xfrm>
            <a:off x="1042920" y="1916280"/>
            <a:ext cx="7272360" cy="28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9E0-AF5E-4AD7-82AF-256B6565752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Skracanie ułamków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Ułamki, które mają w mianowniku 100, możemy skracać do najprostszej posta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4360" y="2637000"/>
            <a:ext cx="1595520" cy="2496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635280" y="3141720"/>
            <a:ext cx="3143520" cy="1973160"/>
          </a:xfrm>
          <a:prstGeom prst="wedgeRoundRectCallout">
            <a:avLst>
              <a:gd name="adj1" fmla="val 70907"/>
              <a:gd name="adj2" fmla="val -48550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Zauważyłam, ż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25% to ćwiar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50% to połow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75% to trzy ćwiartki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100% to cał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505320"/>
            <a:ext cx="182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0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81080" y="3505320"/>
                <a:ext cx="114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905120" y="426708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05120" y="3295800"/>
                <a:ext cx="99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5120" y="5181480"/>
                <a:ext cx="838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E2F-C994-4481-922F-7D69BE4302DB}" type="slidenum">
              <a:t>13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‰  </a:t>
            </a: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PROM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Jeden promil danej wielkości oznacza jej tysięczną część.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 ‰ 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p.     5 ‰ =                     p ‰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00720" y="3213000"/>
                <a:ext cx="7142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35280" y="4437000"/>
                <a:ext cx="779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659640" y="4365720"/>
                <a:ext cx="8445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D13-A232-4496-A21F-846AD472905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cc"/>
                </a:solidFill>
                <a:latin typeface="Monotype Corsiva"/>
              </a:rPr>
              <a:t>Zależność między procentami a promilami.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71640" y="2852280"/>
            <a:ext cx="4176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‰= 0,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0‰=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Plik:Promil.png"/>
          <p:cNvPicPr/>
          <p:nvPr/>
        </p:nvPicPr>
        <p:blipFill>
          <a:blip r:embed="rId1"/>
          <a:stretch/>
        </p:blipFill>
        <p:spPr>
          <a:xfrm>
            <a:off x="5508720" y="3500280"/>
            <a:ext cx="29718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CAB5-882C-4ADD-B2DF-CE512257A0A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Zamiana ułamków na procent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Times New Roman"/>
              </a:rPr>
              <a:t>Niektóre ułamki w postaci zwykłej można rozszerzyć do mianownika 100 i potem zamienić na proc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5280" y="2895480"/>
                <a:ext cx="26672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800600" y="2895480"/>
                <a:ext cx="2590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5D7-F1E6-412F-B46B-1DA70A61D94E}" type="slidenum">
              <a:t>16</a:t>
            </a:fld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Oczywiście nie każdy ułamek zwykły da się rozszerzyć do mianownika 100. Wówczas należy zastosować sposób drugi.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692280"/>
            <a:ext cx="2468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posób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2664000" cy="26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327-0DCE-4AD1-A415-687BB3765A7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140360" y="4292640"/>
                <a:ext cx="407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40360" y="907920"/>
            <a:ext cx="4343400" cy="2016360"/>
          </a:xfrm>
          <a:prstGeom prst="wedgeRoundRectCallout">
            <a:avLst>
              <a:gd name="adj1" fmla="val -79314"/>
              <a:gd name="adj2" fmla="val 9999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Gdy procenty chcesz utworzyć, przez 100 % musisz mnożyć</a:t>
            </a:r>
            <a:r>
              <a:rPr b="1" i="1" lang="pl-PL" sz="3200" spc="-1" strike="noStrike">
                <a:solidFill>
                  <a:srgbClr val="ff0000"/>
                </a:solidFill>
                <a:latin typeface="Monotype Corsiva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3860640"/>
            <a:ext cx="54594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1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Zamień liczbę         na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16000" y="5373720"/>
                <a:ext cx="7056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D45-3900-4BE6-8591-410562B1A0E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zykła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47640" y="1798560"/>
            <a:ext cx="69120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08A-12EB-4996-AB65-C1610E72FFA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Spis treśc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Obraz,Plakat - Rabais, redukcja, promocje ou soldes"/>
          <p:cNvPicPr/>
          <p:nvPr/>
        </p:nvPicPr>
        <p:blipFill>
          <a:blip r:embed="rId1"/>
          <a:stretch/>
        </p:blipFill>
        <p:spPr>
          <a:xfrm>
            <a:off x="5958000" y="1557360"/>
            <a:ext cx="2717640" cy="295128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763640" y="170028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, promile i ułam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116000" y="234936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na wykresa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1619280" y="299736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aki to proc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1187280" y="364500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dwyżki i obniż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2050920" y="429264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 a pienią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3132000" y="494172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i kalkula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8" action="ppaction://hlinksldjump"/>
          </p:cNvPr>
          <p:cNvSpPr/>
          <p:nvPr/>
        </p:nvSpPr>
        <p:spPr>
          <a:xfrm>
            <a:off x="4500720" y="558972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iczby, procenty i życi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391-0020-483A-B886-16FC35F9E43A}" type="slidenum">
              <a:t>2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miana procentu na ułamek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rocenty zamieniamy na ułamki zwykłe pisząc w liczniku liczbę procentów, a w mianowniku 1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óźniej oczywiście można taki ułamek skrócić, lub zamienić na ułamek miesz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564000" y="3068640"/>
            <a:ext cx="410364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9B6-C5E1-4A15-A9FD-27B445CCED4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21164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procent zamienić na liczbę, należy liczbę wyrażającą procent podzielić przez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49440" y="3716280"/>
            <a:ext cx="4708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2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pisz w postaci ułamka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19280" y="5084640"/>
                <a:ext cx="5184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1185-AF0C-48D3-BB64-139012A46E5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zamienić procenty na ułamek dziesiętny, wystarczy przesunąć przecinek o dwa miejsca w lewo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47344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487-A326-4D99-912D-D63B4D75270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6" name="" descr="Procenty."/>
          <p:cNvPicPr/>
          <p:nvPr/>
        </p:nvPicPr>
        <p:blipFill>
          <a:blip r:embed="rId1"/>
          <a:stretch/>
        </p:blipFill>
        <p:spPr>
          <a:xfrm>
            <a:off x="1042920" y="2060640"/>
            <a:ext cx="7620120" cy="679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608120" y="2772720"/>
            <a:ext cx="592632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procenty na ułamk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Procenty."/>
          <p:cNvPicPr/>
          <p:nvPr/>
        </p:nvPicPr>
        <p:blipFill>
          <a:blip r:embed="rId2"/>
          <a:stretch/>
        </p:blipFill>
        <p:spPr>
          <a:xfrm>
            <a:off x="971640" y="4653000"/>
            <a:ext cx="7632720" cy="576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87280" y="476280"/>
            <a:ext cx="71280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ułamki na procent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6948360" y="573408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F653-DBAC-46B8-A90E-D7417D7C2CD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00000" y="2205000"/>
            <a:ext cx="784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 na wykresach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625-6D66-4CB3-A99A-E1FDEA65E64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Wiele danych podawanych jest w procentach, dzięki temu możemy je w łatwiejszy sposób analizować i porównywać. Najbardziej czytelnym i efektownym sposobem przedstawiania danych wyrażonych w procentach są diagramy procent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C:\Users\Wolf\AppData\Local\Microsoft\Windows\Temporary Internet Files\Content.IE5\VAQPINRK\MC900290890[1].wmf"/>
          <p:cNvPicPr/>
          <p:nvPr/>
        </p:nvPicPr>
        <p:blipFill>
          <a:blip r:embed="rId1"/>
          <a:stretch/>
        </p:blipFill>
        <p:spPr>
          <a:xfrm>
            <a:off x="5940360" y="4149720"/>
            <a:ext cx="2371680" cy="2071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Wolf\AppData\Local\Microsoft\Windows\Temporary Internet Files\Content.IE5\T6PLSMCI\MC900431584[1].png"/>
          <p:cNvPicPr/>
          <p:nvPr/>
        </p:nvPicPr>
        <p:blipFill>
          <a:blip r:embed="rId2"/>
          <a:stretch/>
        </p:blipFill>
        <p:spPr>
          <a:xfrm>
            <a:off x="1403280" y="371628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08000" y="76500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26E-5C81-4279-83B4-0D05AED77B8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1628640"/>
            <a:ext cx="777240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y diagramów: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punkt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lin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4941720"/>
            <a:ext cx="129564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9417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5562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548640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53006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4508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ko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2665440" cy="1530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2664000" cy="1347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2286000" cy="1554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3095640" cy="18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7F8-4D4B-4AB5-8201-9325F79782D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99"/>
                </a:solidFill>
                <a:latin typeface="Times New Roman"/>
              </a:rPr>
              <a:t>W sadzie o powierzchni 1 ha rośnie 3000 drzew w tym 40% jabłoni, 25% grusz, 15% śliw, 10% wiśni i 10% czereśni. Informacje te można przedstawić za pomocą różnego rodzaju diagramów procentowych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619280" y="1989000"/>
            <a:ext cx="3139920" cy="1923840"/>
            <a:chOff x="1619280" y="1989000"/>
            <a:chExt cx="3139920" cy="1923840"/>
          </a:xfrm>
        </p:grpSpPr>
        <p:grpSp>
          <p:nvGrpSpPr>
            <p:cNvPr id="234" name=""/>
            <p:cNvGrpSpPr/>
            <p:nvPr/>
          </p:nvGrpSpPr>
          <p:grpSpPr>
            <a:xfrm>
              <a:off x="1619280" y="2050200"/>
              <a:ext cx="867960" cy="168120"/>
              <a:chOff x="1619280" y="2050200"/>
              <a:chExt cx="867960" cy="168120"/>
            </a:xfrm>
          </p:grpSpPr>
          <p:sp>
            <p:nvSpPr>
              <p:cNvPr id="235" name=""/>
              <p:cNvSpPr/>
              <p:nvPr/>
            </p:nvSpPr>
            <p:spPr>
              <a:xfrm>
                <a:off x="161928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949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72440" y="2050200"/>
                <a:ext cx="1616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4524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2272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498760" y="2050200"/>
              <a:ext cx="867960" cy="168120"/>
              <a:chOff x="2498760" y="2050200"/>
              <a:chExt cx="867960" cy="168120"/>
            </a:xfrm>
          </p:grpSpPr>
          <p:sp>
            <p:nvSpPr>
              <p:cNvPr id="241" name=""/>
              <p:cNvSpPr/>
              <p:nvPr/>
            </p:nvSpPr>
            <p:spPr>
              <a:xfrm>
                <a:off x="249876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733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5084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25800" y="2050200"/>
                <a:ext cx="16488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0220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619280" y="2230560"/>
              <a:ext cx="867960" cy="168480"/>
              <a:chOff x="1619280" y="2230560"/>
              <a:chExt cx="867960" cy="168480"/>
            </a:xfrm>
          </p:grpSpPr>
          <p:sp>
            <p:nvSpPr>
              <p:cNvPr id="247" name=""/>
              <p:cNvSpPr/>
              <p:nvPr/>
            </p:nvSpPr>
            <p:spPr>
              <a:xfrm>
                <a:off x="161928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949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72440" y="2230560"/>
                <a:ext cx="1616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4524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2272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498760" y="2230560"/>
              <a:ext cx="867960" cy="168480"/>
              <a:chOff x="2498760" y="2230560"/>
              <a:chExt cx="867960" cy="168480"/>
            </a:xfrm>
          </p:grpSpPr>
          <p:sp>
            <p:nvSpPr>
              <p:cNvPr id="253" name=""/>
              <p:cNvSpPr/>
              <p:nvPr/>
            </p:nvSpPr>
            <p:spPr>
              <a:xfrm>
                <a:off x="249876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733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5084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25800" y="2230560"/>
                <a:ext cx="16488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0220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619280" y="2411640"/>
              <a:ext cx="867960" cy="166680"/>
              <a:chOff x="1619280" y="2411640"/>
              <a:chExt cx="867960" cy="166680"/>
            </a:xfrm>
          </p:grpSpPr>
          <p:sp>
            <p:nvSpPr>
              <p:cNvPr id="259" name=""/>
              <p:cNvSpPr/>
              <p:nvPr/>
            </p:nvSpPr>
            <p:spPr>
              <a:xfrm>
                <a:off x="161928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949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72440" y="2411640"/>
                <a:ext cx="1616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4524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32272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98760" y="2411640"/>
              <a:ext cx="867960" cy="166680"/>
              <a:chOff x="2498760" y="2411640"/>
              <a:chExt cx="867960" cy="166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9876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733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5084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25800" y="2411640"/>
                <a:ext cx="16488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0220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619280" y="2590920"/>
              <a:ext cx="867960" cy="165960"/>
              <a:chOff x="1619280" y="2590920"/>
              <a:chExt cx="867960" cy="165960"/>
            </a:xfrm>
          </p:grpSpPr>
          <p:sp>
            <p:nvSpPr>
              <p:cNvPr id="271" name=""/>
              <p:cNvSpPr/>
              <p:nvPr/>
            </p:nvSpPr>
            <p:spPr>
              <a:xfrm>
                <a:off x="161928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949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72440" y="2590920"/>
                <a:ext cx="1616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4524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2272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498760" y="2590920"/>
              <a:ext cx="867960" cy="165960"/>
              <a:chOff x="2498760" y="2590920"/>
              <a:chExt cx="867960" cy="165960"/>
            </a:xfrm>
          </p:grpSpPr>
          <p:sp>
            <p:nvSpPr>
              <p:cNvPr id="277" name=""/>
              <p:cNvSpPr/>
              <p:nvPr/>
            </p:nvSpPr>
            <p:spPr>
              <a:xfrm>
                <a:off x="249876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733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5084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25800" y="2590920"/>
                <a:ext cx="16488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0220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619280" y="2950920"/>
              <a:ext cx="867960" cy="165600"/>
              <a:chOff x="1619280" y="2950920"/>
              <a:chExt cx="867960" cy="165600"/>
            </a:xfrm>
          </p:grpSpPr>
          <p:sp>
            <p:nvSpPr>
              <p:cNvPr id="283" name=""/>
              <p:cNvSpPr/>
              <p:nvPr/>
            </p:nvSpPr>
            <p:spPr>
              <a:xfrm>
                <a:off x="161928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949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72440" y="2950920"/>
                <a:ext cx="1616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4524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32272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498760" y="2770200"/>
              <a:ext cx="867960" cy="167040"/>
              <a:chOff x="2498760" y="2770200"/>
              <a:chExt cx="867960" cy="167040"/>
            </a:xfrm>
          </p:grpSpPr>
          <p:sp>
            <p:nvSpPr>
              <p:cNvPr id="289" name=""/>
              <p:cNvSpPr/>
              <p:nvPr/>
            </p:nvSpPr>
            <p:spPr>
              <a:xfrm>
                <a:off x="249876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733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5084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25800" y="2770200"/>
                <a:ext cx="16488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0220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619280" y="2770200"/>
              <a:ext cx="867960" cy="167040"/>
              <a:chOff x="1619280" y="2770200"/>
              <a:chExt cx="867960" cy="167040"/>
            </a:xfrm>
          </p:grpSpPr>
          <p:sp>
            <p:nvSpPr>
              <p:cNvPr id="295" name=""/>
              <p:cNvSpPr/>
              <p:nvPr/>
            </p:nvSpPr>
            <p:spPr>
              <a:xfrm>
                <a:off x="161928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949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72440" y="277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4524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2272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9280" y="3130200"/>
              <a:ext cx="867960" cy="167040"/>
              <a:chOff x="1619280" y="3130200"/>
              <a:chExt cx="867960" cy="167040"/>
            </a:xfrm>
          </p:grpSpPr>
          <p:sp>
            <p:nvSpPr>
              <p:cNvPr id="301" name=""/>
              <p:cNvSpPr/>
              <p:nvPr/>
            </p:nvSpPr>
            <p:spPr>
              <a:xfrm>
                <a:off x="161928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9496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72440" y="313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4524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272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498760" y="2950920"/>
              <a:ext cx="867960" cy="165600"/>
              <a:chOff x="2498760" y="2950920"/>
              <a:chExt cx="867960" cy="165600"/>
            </a:xfrm>
          </p:grpSpPr>
          <p:sp>
            <p:nvSpPr>
              <p:cNvPr id="307" name=""/>
              <p:cNvSpPr/>
              <p:nvPr/>
            </p:nvSpPr>
            <p:spPr>
              <a:xfrm>
                <a:off x="249876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733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084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25800" y="2950920"/>
                <a:ext cx="16488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0220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498760" y="3130200"/>
              <a:ext cx="867960" cy="167040"/>
              <a:chOff x="2498760" y="3130200"/>
              <a:chExt cx="867960" cy="167040"/>
            </a:xfrm>
          </p:grpSpPr>
          <p:sp>
            <p:nvSpPr>
              <p:cNvPr id="313" name=""/>
              <p:cNvSpPr/>
              <p:nvPr/>
            </p:nvSpPr>
            <p:spPr>
              <a:xfrm>
                <a:off x="249876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73360" y="3130200"/>
                <a:ext cx="16596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5084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25800" y="3130200"/>
                <a:ext cx="16488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02200" y="3130200"/>
                <a:ext cx="16452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619280" y="3310920"/>
              <a:ext cx="867960" cy="165600"/>
              <a:chOff x="1619280" y="3310920"/>
              <a:chExt cx="867960" cy="165600"/>
            </a:xfrm>
          </p:grpSpPr>
          <p:sp>
            <p:nvSpPr>
              <p:cNvPr id="319" name=""/>
              <p:cNvSpPr/>
              <p:nvPr/>
            </p:nvSpPr>
            <p:spPr>
              <a:xfrm>
                <a:off x="161928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949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72440" y="3310920"/>
                <a:ext cx="1616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4524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2272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98760" y="3310920"/>
              <a:ext cx="867960" cy="165600"/>
              <a:chOff x="2498760" y="3310920"/>
              <a:chExt cx="867960" cy="165600"/>
            </a:xfrm>
          </p:grpSpPr>
          <p:sp>
            <p:nvSpPr>
              <p:cNvPr id="325" name=""/>
              <p:cNvSpPr/>
              <p:nvPr/>
            </p:nvSpPr>
            <p:spPr>
              <a:xfrm>
                <a:off x="249876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733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85084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025800" y="3310920"/>
                <a:ext cx="16488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220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498760" y="3669480"/>
              <a:ext cx="867960" cy="168120"/>
              <a:chOff x="2498760" y="3669480"/>
              <a:chExt cx="867960" cy="168120"/>
            </a:xfrm>
          </p:grpSpPr>
          <p:sp>
            <p:nvSpPr>
              <p:cNvPr id="331" name=""/>
              <p:cNvSpPr/>
              <p:nvPr/>
            </p:nvSpPr>
            <p:spPr>
              <a:xfrm>
                <a:off x="249876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6733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5084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025800" y="3669480"/>
                <a:ext cx="16488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220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8760" y="3490200"/>
              <a:ext cx="867960" cy="167040"/>
              <a:chOff x="2498760" y="3490200"/>
              <a:chExt cx="867960" cy="167040"/>
            </a:xfrm>
          </p:grpSpPr>
          <p:sp>
            <p:nvSpPr>
              <p:cNvPr id="337" name=""/>
              <p:cNvSpPr/>
              <p:nvPr/>
            </p:nvSpPr>
            <p:spPr>
              <a:xfrm>
                <a:off x="249876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6733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5084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25800" y="3490200"/>
                <a:ext cx="16488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220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619280" y="3490200"/>
              <a:ext cx="867960" cy="167040"/>
              <a:chOff x="1619280" y="3490200"/>
              <a:chExt cx="867960" cy="167040"/>
            </a:xfrm>
          </p:grpSpPr>
          <p:sp>
            <p:nvSpPr>
              <p:cNvPr id="343" name=""/>
              <p:cNvSpPr/>
              <p:nvPr/>
            </p:nvSpPr>
            <p:spPr>
              <a:xfrm>
                <a:off x="161928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949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972440" y="3490200"/>
                <a:ext cx="1616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14524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32272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619280" y="3669480"/>
              <a:ext cx="867960" cy="168120"/>
              <a:chOff x="1619280" y="3669480"/>
              <a:chExt cx="867960" cy="168120"/>
            </a:xfrm>
          </p:grpSpPr>
          <p:sp>
            <p:nvSpPr>
              <p:cNvPr id="349" name=""/>
              <p:cNvSpPr/>
              <p:nvPr/>
            </p:nvSpPr>
            <p:spPr>
              <a:xfrm>
                <a:off x="161928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949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2440" y="3669480"/>
                <a:ext cx="1616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14524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2272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3621240" y="2360880"/>
              <a:ext cx="171360" cy="173160"/>
            </a:xfrm>
            <a:prstGeom prst="rect">
              <a:avLst/>
            </a:prstGeom>
            <a:solidFill>
              <a:srgbClr val="221304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21240" y="2670120"/>
              <a:ext cx="171360" cy="1746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21240" y="2982600"/>
              <a:ext cx="171360" cy="172800"/>
            </a:xfrm>
            <a:prstGeom prst="rect">
              <a:avLst/>
            </a:prstGeom>
            <a:solidFill>
              <a:srgbClr val="3694b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1240" y="3352680"/>
              <a:ext cx="171360" cy="174600"/>
            </a:xfrm>
            <a:prstGeom prst="rect">
              <a:avLst/>
            </a:prstGeom>
            <a:solidFill>
              <a:srgbClr val="ff33ff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21240" y="3663360"/>
              <a:ext cx="171360" cy="174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44800" y="1989000"/>
              <a:ext cx="48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85040" y="2272680"/>
              <a:ext cx="88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jabło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84680" y="258624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grus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4680" y="2919600"/>
              <a:ext cx="62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śli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5040" y="32659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wi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6120" y="3576960"/>
              <a:ext cx="97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czere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5" name=""/>
          <p:cNvGraphicFramePr/>
          <p:nvPr/>
        </p:nvGraphicFramePr>
        <p:xfrm>
          <a:off x="5168880" y="2057400"/>
          <a:ext cx="2844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2057400"/>
                    <a:ext cx="2844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700360" y="3860640"/>
          <a:ext cx="4968720" cy="23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860640"/>
                    <a:ext cx="496872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C4F-4788-4F6E-A35C-731B19D2E5F3}" type="slidenum">
              <a:t>2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763640" y="2924280"/>
          <a:ext cx="60199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924280"/>
                    <a:ext cx="6019920" cy="271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729612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Times New Roman"/>
              </a:rPr>
              <a:t>a) jaki smak lodów cieszył się największym powodzeniem? </a:t>
            </a:r>
            <a:br>
              <a:rPr sz="2000"/>
            </a:br>
            <a:r>
              <a:rPr b="1" i="1" lang="pl-PL" sz="2000" spc="-1" strike="noStrike">
                <a:solidFill>
                  <a:srgbClr val="ff9900"/>
                </a:solidFill>
                <a:latin typeface="Times New Roman"/>
              </a:rPr>
              <a:t>b) ile litrów lodów każdego rodzaju sprzedano? </a:t>
            </a:r>
            <a:br>
              <a:rPr sz="2000"/>
            </a:br>
            <a:r>
              <a:rPr b="1" i="1" lang="pl-PL" sz="2000" spc="-1" strike="noStrike">
                <a:solidFill>
                  <a:srgbClr val="008080"/>
                </a:solidFill>
                <a:latin typeface="Times New Roman"/>
              </a:rPr>
              <a:t>c) o ile więcej litrów sprzedano lodów waniliowych niż wiśniowych?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476280"/>
            <a:ext cx="7129800" cy="167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W budce z lodami sprzedano 120 litrów lod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Na podstawie wykresu odpowiedz na pytania: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B54-978E-469E-8A96-CA3F91144088}" type="slidenum">
              <a:t>28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Times New Roman"/>
              </a:rPr>
              <a:t>czekolado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99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9900"/>
                </a:solidFill>
                <a:latin typeface="Times New Roman"/>
              </a:rPr>
              <a:t>18 l;  30 l; 24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8080"/>
                </a:solidFill>
                <a:latin typeface="Times New Roman"/>
              </a:rPr>
              <a:t>o 6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08160" y="765000"/>
            <a:ext cx="4286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E2F-8F98-4517-946F-D9E80DB919B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916280"/>
            <a:ext cx="7991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, promile i ułamki.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CAD-96E0-4E0D-8C83-A4016CE57DC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600200" y="692280"/>
            <a:ext cx="700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łóżmy, że rok kalendarzowy ma 360 dni. Diagram przedstawia podział roku kalendarz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               </a:t>
            </a:r>
            <a:r>
              <a:rPr b="1" lang="pl-PL" sz="2400" spc="-1" strike="noStrike">
                <a:solidFill>
                  <a:srgbClr val="a1bd69"/>
                </a:solidFill>
                <a:latin typeface="Times New Roman"/>
              </a:rPr>
              <a:t>Odpowiedz na pytania: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Monotype Corsiva"/>
              </a:rPr>
              <a:t>a) ile dni trwają zajęcia lekcyjne, a ile wakacje?</a:t>
            </a:r>
            <a:br>
              <a:rPr sz="2400"/>
            </a:br>
            <a:r>
              <a:rPr b="1" lang="pl-PL" sz="2400" spc="-1" strike="noStrike">
                <a:solidFill>
                  <a:srgbClr val="800000"/>
                </a:solidFill>
                <a:latin typeface="Monotype Corsiva"/>
              </a:rPr>
              <a:t>b) </a:t>
            </a:r>
            <a:r>
              <a:rPr b="1" lang="pl-PL" sz="2400" spc="-1" strike="noStrike">
                <a:solidFill>
                  <a:srgbClr val="660066"/>
                </a:solidFill>
                <a:latin typeface="Monotype Corsiva"/>
              </a:rPr>
              <a:t>przez ile dni przebywasz poza szkołą?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Monotype Corsiva"/>
              </a:rPr>
              <a:t>c) jakim procentem zajęć lekcyjnych są wakac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331280" y="3068640"/>
            <a:ext cx="6525360" cy="2807280"/>
            <a:chOff x="1331280" y="3068640"/>
            <a:chExt cx="6525360" cy="2807280"/>
          </a:xfrm>
        </p:grpSpPr>
        <p:sp>
          <p:nvSpPr>
            <p:cNvPr id="379" name=""/>
            <p:cNvSpPr/>
            <p:nvPr/>
          </p:nvSpPr>
          <p:spPr>
            <a:xfrm>
              <a:off x="1331280" y="3068640"/>
              <a:ext cx="24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632560" y="3468600"/>
              <a:ext cx="2224080" cy="397440"/>
              <a:chOff x="5632560" y="3468600"/>
              <a:chExt cx="2224080" cy="397440"/>
            </a:xfrm>
          </p:grpSpPr>
          <p:sp>
            <p:nvSpPr>
              <p:cNvPr id="381" name=""/>
              <p:cNvSpPr/>
              <p:nvPr/>
            </p:nvSpPr>
            <p:spPr>
              <a:xfrm>
                <a:off x="5995080" y="346860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Zajęcia szkol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32560" y="3544920"/>
                <a:ext cx="220320" cy="221760"/>
              </a:xfrm>
              <a:prstGeom prst="rect">
                <a:avLst/>
              </a:prstGeom>
              <a:gradFill rotWithShape="0">
                <a:gsLst>
                  <a:gs pos="0">
                    <a:srgbClr val="221304"/>
                  </a:gs>
                  <a:gs pos="100000">
                    <a:srgbClr val="00ff66"/>
                  </a:gs>
                </a:gsLst>
                <a:lin ang="13500000"/>
              </a:gra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2703600" y="3538800"/>
              <a:ext cx="4743720" cy="2337120"/>
              <a:chOff x="2703600" y="3538800"/>
              <a:chExt cx="4743720" cy="233712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2703600" y="3538800"/>
                <a:ext cx="2320920" cy="2337120"/>
                <a:chOff x="2703600" y="3538800"/>
                <a:chExt cx="2320920" cy="233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038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9368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1701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703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3372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5705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8038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370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036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1036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4038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9368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1701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703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372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5705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8038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70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7036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1036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4038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9368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1701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703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3372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705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8038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6370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7036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036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4038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68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1701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8703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3372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5705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8038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6370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7036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1036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4038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9368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1701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8703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3372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705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8038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6370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7036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1036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038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9368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1701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8703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3372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5705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038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370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7036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1036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4038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9368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1701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8703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372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5705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8038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6370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7036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036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4038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9368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1701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8703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3372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705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8038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6370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7036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1036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4038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9368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1701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8703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3372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5705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038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6370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7036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1036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038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9368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1701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8703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3372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705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038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6370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7036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1036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632560" y="4016880"/>
                <a:ext cx="1814760" cy="397440"/>
                <a:chOff x="5632560" y="4016880"/>
                <a:chExt cx="1814760" cy="3974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632560" y="4093560"/>
                  <a:ext cx="21996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994360" y="4016880"/>
                  <a:ext cx="1452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Poza szkoł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632560" y="4487040"/>
                <a:ext cx="1433880" cy="397440"/>
                <a:chOff x="5632560" y="4487040"/>
                <a:chExt cx="1433880" cy="3974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632560" y="4563720"/>
                  <a:ext cx="22032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918400" y="4487040"/>
                  <a:ext cx="1148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akac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5A4-3B95-4966-BE48-CB03E904FD7A}" type="slidenum">
              <a:t>30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6320" y="2682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 CE"/>
              </a:rPr>
              <a:t>b)  108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41840" y="35002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 CE"/>
              </a:rPr>
              <a:t>c) 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44920" y="189072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Times New Roman CE"/>
              </a:rPr>
              <a:t>a)  180 dni; 72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116000" y="34354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857-DECA-44CE-A13A-BF578047E535}" type="slidenum">
              <a:t>31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danie 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Uczniowie klas pierwszych pew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imnazjum przedstawili swoje preferen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zorów na ubraniach w postaci diagram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edstawionego poniż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3816360" cy="19447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042920" y="4665600"/>
            <a:ext cx="7489800" cy="1922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 podstawie diagramu określ, które zdanie jest fałszyw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BA2-FFC3-4280-B0DE-C21D95647A8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762012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0% uczniów lubi inne desenie niż kratki, kropki i pas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mniej niż połowy uczniów są krop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cej niż połowa uczniów lubi ubrania we wzor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więcej niż połowy uczniów są kratki lub pas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489744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AFE-88F8-426D-A146-BC29A6CA356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cc66"/>
                </a:solidFill>
                <a:latin typeface="Times New Roman"/>
              </a:rPr>
              <a:t>Diagram procentowy przedstawia wyniki wyborów prezesa klubu sportowego, który liczy 800 członków.</a:t>
            </a:r>
            <a:br>
              <a:rPr sz="2400"/>
            </a:br>
            <a:br>
              <a:rPr sz="2400"/>
            </a:br>
            <a:r>
              <a:rPr b="1" i="1" lang="pl-PL" sz="2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i="1" lang="pl-PL" sz="2400" spc="-1" strike="noStrike">
                <a:solidFill>
                  <a:srgbClr val="ff3300"/>
                </a:solidFill>
                <a:latin typeface="Monotype Corsiva"/>
              </a:rPr>
              <a:t>) Ilu członków klubu nie wzięło udziału w głosowaniu?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b) O ilu wyborców więcej głosowało na pana Piotra niż na 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pana Karola?</a:t>
            </a:r>
            <a:br>
              <a:rPr sz="2400"/>
            </a:br>
            <a:r>
              <a:rPr b="1" i="1" lang="pl-PL" sz="2400" spc="-1" strike="noStrike">
                <a:solidFill>
                  <a:srgbClr val="cccc00"/>
                </a:solidFill>
                <a:latin typeface="Monotype Corsiva"/>
              </a:rPr>
              <a:t>c) Czy L. Pan Karol wygrałby wybory gdyby przekonał do siebie połowę nie biorących udziału w głosowaniu?</a:t>
            </a:r>
            <a:br>
              <a:rPr sz="24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908000" y="3213000"/>
          <a:ext cx="617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617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C50-358F-419D-9D7F-E01DA2ADE17A}" type="slidenum">
              <a:t>34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0080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14200" y="2349360"/>
            <a:ext cx="2858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a) 16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94200" y="3573360"/>
            <a:ext cx="30290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b) o 8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4360" y="4581360"/>
            <a:ext cx="1469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c) 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12000" y="692280"/>
            <a:ext cx="2884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21156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5BA-8D0A-42C6-8012-ABAE44BDDC6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3024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Marysia, która bardzo lub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owoce i sery, z pirami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ybrała sobie taki zesta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dzienn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6 porcji - chleb, ryż, mak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jarzy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4 porcje - owo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mleko, jogurt, 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2 porcje - mięso, jajka, drób, ryb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 sumie mamy 6+3+4+3+2 =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porcji. Sześć porcji przypada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chleb, ryż i makaron. Ile to procent 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≈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0,33 = 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Procenty piramida.gif"/>
          <p:cNvPicPr/>
          <p:nvPr/>
        </p:nvPicPr>
        <p:blipFill>
          <a:blip r:embed="rId1"/>
          <a:stretch/>
        </p:blipFill>
        <p:spPr>
          <a:xfrm>
            <a:off x="3708360" y="1773360"/>
            <a:ext cx="4896000" cy="43765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\frac{6}{18} "/>
          <p:cNvPicPr/>
          <p:nvPr/>
        </p:nvPicPr>
        <p:blipFill>
          <a:blip r:embed="rId2"/>
          <a:stretch/>
        </p:blipFill>
        <p:spPr>
          <a:xfrm>
            <a:off x="1763640" y="5589720"/>
            <a:ext cx="314280" cy="6476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476360" y="476280"/>
            <a:ext cx="65516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dstawmy dane z piramidy zdrowego odżywiania w postaci pro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E36-1903-4A97-BAC3-F9A5F013A66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3673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ane te przedstaw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iagramie procentowym. Dołącz dane o Twojej szk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yjmij, że dotyczą one lat zwykłych (365 dn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Procenty flagi dni.gif"/>
          <p:cNvPicPr/>
          <p:nvPr/>
        </p:nvPicPr>
        <p:blipFill>
          <a:blip r:embed="rId1"/>
          <a:stretch/>
        </p:blipFill>
        <p:spPr>
          <a:xfrm>
            <a:off x="4643280" y="1989000"/>
            <a:ext cx="4246560" cy="3894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187280" y="404640"/>
            <a:ext cx="741708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rzystając z  ilustracji odczytaj ile godzin i 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ni spędzają uczniowie w szk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EB2-3C6C-416A-BE0A-C7EF9525910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41749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 domowe nr 1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kończ procentowy diagr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zedstawiający zdr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, wybrany przez Mary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domowe nr 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Wybierz dla Ciebie najleps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 jedzenia, który będ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godny z piramidą zdr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odżywiania. Przedstaw go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ocentowym diagramie.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Procenty def piramida.svg"/>
          <p:cNvPicPr/>
          <p:nvPr/>
        </p:nvPicPr>
        <p:blipFill>
          <a:blip r:embed="rId1"/>
          <a:stretch/>
        </p:blipFill>
        <p:spPr>
          <a:xfrm>
            <a:off x="4859280" y="1413000"/>
            <a:ext cx="3889440" cy="4163760"/>
          </a:xfrm>
          <a:prstGeom prst="rect">
            <a:avLst/>
          </a:prstGeom>
          <a:ln w="0">
            <a:noFill/>
          </a:ln>
        </p:spPr>
      </p:pic>
      <p:sp>
        <p:nvSpPr>
          <p:cNvPr id="525" name="">
            <a:hlinkClick r:id="rId2" action="ppaction://hlinksldjump"/>
          </p:cNvPr>
          <p:cNvSpPr/>
          <p:nvPr/>
        </p:nvSpPr>
        <p:spPr>
          <a:xfrm>
            <a:off x="6877080" y="5877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B47-8971-4C0B-8358-52EC9AD5B16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76360" y="2565360"/>
            <a:ext cx="64803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aki to procen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9" name="" descr="Obraz,Plakat - Okres sprzeda&amp;zdot;y"/>
          <p:cNvPicPr/>
          <p:nvPr/>
        </p:nvPicPr>
        <p:blipFill>
          <a:blip r:embed="rId1"/>
          <a:stretch/>
        </p:blipFill>
        <p:spPr>
          <a:xfrm>
            <a:off x="3203640" y="4005360"/>
            <a:ext cx="2952720" cy="196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A97-A4F6-4354-B6B1-ED98B945F00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Na pewno każdy z Was spotkał się z pojęc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procentu, nie tylko w szkole, ale przede wszystk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w życiu codziennym. Jeśli się uważnie rozejrzym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to na każdym kroku dostrzegamy lub słyszy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słowo „procen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D71-B364-4C3A-A36C-26E5069A0E1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66ff"/>
                </a:solidFill>
                <a:latin typeface="Monotype Corsiva"/>
              </a:rPr>
              <a:t>Jakim procentem I liczby jest liczba II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obliczyć, jakim procentem liczby 20 jest liczba 3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należy : 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najpierw ustalić, jaką częścią liczby 20 jest liczba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a następnie zapisać tę część jako procent: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× 100% = 15 %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252360" y="-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211640" y="3213000"/>
                <a:ext cx="5065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771640" y="4365720"/>
                <a:ext cx="549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 rot="5400000">
            <a:off x="7344360" y="5049000"/>
            <a:ext cx="158436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7020000" y="3357720"/>
          <a:ext cx="1295280" cy="266004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116000" y="500544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F94-713B-4061-A354-A9571A641E4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414036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jakim procen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jednej liczby jest druga licz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należy drugą liczbę podzielić przez pierwszą i otrzymany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iloraz wyrazić w procentach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50160" y="3716280"/>
            <a:ext cx="60498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Jakim procentem liczby 45 jest liczba 9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476360" y="4941720"/>
                <a:ext cx="6624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C72-DF15-4409-B523-8C96F26F745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Na parkingu stoi 12 samochodów, 3 cz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i 9 białych. Podaj ile </a:t>
            </a:r>
            <a:r>
              <a:rPr b="1" i="1" lang="pl-PL" sz="3200" spc="-1" strike="noStrike">
                <a:solidFill>
                  <a:srgbClr val="0033cc"/>
                </a:solidFill>
                <a:latin typeface="Monotype Corsiva"/>
              </a:rPr>
              <a:t>procent</a:t>
            </a: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 wszyst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samochodów stanowią samochody cz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79280" y="620640"/>
            <a:ext cx="19836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procentow"/>
          <p:cNvPicPr/>
          <p:nvPr/>
        </p:nvPicPr>
        <p:blipFill>
          <a:blip r:embed="rId1"/>
          <a:stretch/>
        </p:blipFill>
        <p:spPr>
          <a:xfrm>
            <a:off x="1835280" y="3860640"/>
            <a:ext cx="4824360" cy="16081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F84D-5B63-42B5-B6B6-6DFEA9B7D04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8900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otrzymał po roku oszczędz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200 zł odsetek od 5000 zł, jakie włożył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roczną lokatę. Jak była oprocento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lokat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7080" y="620640"/>
            <a:ext cx="21405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00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42480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A8E-43FE-4B4E-AEDB-AE6C188C2931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2349360"/>
            <a:ext cx="774396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Lokata była oprocentowana 4% w skali ro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116000" y="692280"/>
                <a:ext cx="6840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314352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800-613C-4F59-B9CB-62DD385B8FA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67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Filip na 70 rzutów do kosza trafia tyl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14 razy. Jaką procentową skute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miał Filip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7640" y="692280"/>
            <a:ext cx="2943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6264360" cy="24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F77-F27C-4ADC-8EFF-200E127F6E4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76360" y="1844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Filip miał 20 % skutecznoś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476360" y="692280"/>
                <a:ext cx="676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2585880" cy="25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2F3-6C43-4BE0-A5B3-C5D3E0B8DAE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e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Podstawowym składnikiem ciała ludzki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jest woda. Ciało człowieka o masie 52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zawiera około 33,8 kg wody. Jaki proc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masy ciała ludzkiego stanowi woda 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4CE-B1F7-464C-9E2D-3E929D7F239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40000" y="1700280"/>
            <a:ext cx="5545080" cy="2043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Woda stanowi  65 % masy ciała ludzkie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344680" y="549360"/>
                <a:ext cx="47419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,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8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2735280" cy="20671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2303280" cy="3036600"/>
          </a:xfrm>
          <a:prstGeom prst="rect">
            <a:avLst/>
          </a:prstGeom>
          <a:ln w="0">
            <a:noFill/>
          </a:ln>
        </p:spPr>
      </p:pic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680400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DA9-D4C4-4B6B-B769-0356EB9E5D3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26920" y="3068640"/>
            <a:ext cx="77774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dwyżki i obniżki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4" name="" descr="Obraz,Plakat - Promocje -50%"/>
          <p:cNvPicPr/>
          <p:nvPr/>
        </p:nvPicPr>
        <p:blipFill>
          <a:blip r:embed="rId1"/>
          <a:stretch/>
        </p:blipFill>
        <p:spPr>
          <a:xfrm>
            <a:off x="378000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Obraz,Plakat - Promocje -10%"/>
          <p:cNvPicPr/>
          <p:nvPr/>
        </p:nvPicPr>
        <p:blipFill>
          <a:blip r:embed="rId2"/>
          <a:stretch/>
        </p:blipFill>
        <p:spPr>
          <a:xfrm>
            <a:off x="6227640" y="404640"/>
            <a:ext cx="2449800" cy="24498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Obraz,Plakat Réduction Etykieta"/>
          <p:cNvPicPr/>
          <p:nvPr/>
        </p:nvPicPr>
        <p:blipFill>
          <a:blip r:embed="rId3"/>
          <a:stretch/>
        </p:blipFill>
        <p:spPr>
          <a:xfrm>
            <a:off x="971640" y="333360"/>
            <a:ext cx="2952720" cy="23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DC6-F40B-41A3-92E3-7BC2E24DBC2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3960720" cy="12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Zastosowanie procentów </a:t>
            </a:r>
            <a:br>
              <a:rPr sz="4000"/>
            </a:b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 życiu codziennym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wycinki prasowe dotyczące wybor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ulotki sklepowe o promocjach lub rabata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skład procentowy danego produkt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743280" cy="2732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42920" y="4797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659640" y="5157720"/>
            <a:ext cx="1944720" cy="13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940360" y="1773360"/>
            <a:ext cx="133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ktur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 rot="1941600">
            <a:off x="3419640" y="4365720"/>
            <a:ext cx="1514160" cy="22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tykie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 rot="20536200">
            <a:off x="5508720" y="4653000"/>
            <a:ext cx="3124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gony z kasy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900-738C-49ED-B3E3-EB289318322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Procenty spotkasz wszędzie - w sklepach, bankach, w gazetach, </a:t>
            </a:r>
            <a:br>
              <a:rPr sz="2400"/>
            </a:b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na giełdzie, u jubilera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88" name="" descr="Procenty rower2.jpg"/>
          <p:cNvPicPr/>
          <p:nvPr/>
        </p:nvPicPr>
        <p:blipFill>
          <a:blip r:embed="rId1"/>
          <a:stretch/>
        </p:blipFill>
        <p:spPr>
          <a:xfrm>
            <a:off x="5796000" y="1413000"/>
            <a:ext cx="2857320" cy="215244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097440" cy="25812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https://www.santanderconsumer.pl/files/GFX/lokaty/940x500_lokata_direct_internet_4,65_24.jpg"/>
          <p:cNvPicPr/>
          <p:nvPr/>
        </p:nvPicPr>
        <p:blipFill>
          <a:blip r:embed="rId3"/>
          <a:stretch/>
        </p:blipFill>
        <p:spPr>
          <a:xfrm>
            <a:off x="1042920" y="3429000"/>
            <a:ext cx="4824360" cy="2565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Procenty buty1.jpg"/>
          <p:cNvPicPr/>
          <p:nvPr/>
        </p:nvPicPr>
        <p:blipFill>
          <a:blip r:embed="rId4"/>
          <a:stretch/>
        </p:blipFill>
        <p:spPr>
          <a:xfrm>
            <a:off x="4140360" y="2205000"/>
            <a:ext cx="2857320" cy="37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B67-FA73-45B9-B699-49B0B01EEFD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Obliczanie procentu danej liczby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zamieniamy </a:t>
            </a:r>
            <a:r>
              <a:rPr b="1" i="1" lang="pl-PL" sz="3600" spc="-1" strike="noStrike">
                <a:solidFill>
                  <a:srgbClr val="ff0000"/>
                </a:solidFill>
                <a:latin typeface="Monotype Corsiva"/>
              </a:rPr>
              <a:t>procent</a:t>
            </a: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 na ułam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ułamek mnożymy przez liczb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procenty"/>
          <p:cNvPicPr/>
          <p:nvPr/>
        </p:nvPicPr>
        <p:blipFill>
          <a:blip r:embed="rId1"/>
          <a:stretch/>
        </p:blipFill>
        <p:spPr>
          <a:xfrm>
            <a:off x="1476360" y="299736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procent"/>
          <p:cNvPicPr/>
          <p:nvPr/>
        </p:nvPicPr>
        <p:blipFill>
          <a:blip r:embed="rId2"/>
          <a:stretch/>
        </p:blipFill>
        <p:spPr>
          <a:xfrm>
            <a:off x="1476360" y="4508640"/>
            <a:ext cx="2592360" cy="1250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2594160" cy="25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D86-224E-4880-8F6D-D7C39FC80AC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4356000" y="907920"/>
            <a:ext cx="4127760" cy="2376720"/>
          </a:xfrm>
          <a:prstGeom prst="wedgeRoundRectCallout">
            <a:avLst>
              <a:gd name="adj1" fmla="val -86078"/>
              <a:gd name="adj2" fmla="val 90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Monotype Corsiva"/>
              </a:rPr>
              <a:t>Aby obliczyć procent danej liczby, należy tę liczbę pomnożyć przez ten pro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92360" y="3860640"/>
            <a:ext cx="4572000" cy="181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 15% liczb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88560" y="5084640"/>
            <a:ext cx="7357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15% · 2000= 0,15 · 2000 =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F46-4B9A-4474-9FD6-01F16D9E9263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92360" y="692280"/>
            <a:ext cx="4572000" cy="3445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Oblicz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) 15% liczby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b) 7% liczby 12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2314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C9F-9075-4579-9CB8-46CCA41403DA}" type="slidenum">
              <a:t>53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0896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sportowym ogłosz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iętnastoprocentową obniżkę c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cześniej  piłka kosztowała 8 zł, a parasol 24 zł. Ile teraz kosztują te tow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867280" y="260280"/>
            <a:ext cx="1584360" cy="158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261612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29671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076720" y="3284640"/>
                <a:ext cx="509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1258920" y="33980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  <a:ea typeface="Calibri"/>
              </a:rPr>
              <a:t>Piłka: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   15% • 8 =                               =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20" y="269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84720" y="335664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•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 =</a:t>
            </a: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88000" y="34992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-1,2=</a:t>
            </a:r>
            <a:r>
              <a:rPr b="0" lang="pl-PL" sz="2400" spc="-1" strike="noStrike">
                <a:solidFill>
                  <a:srgbClr val="003399"/>
                </a:solidFill>
                <a:latin typeface="Bookman Old Style"/>
                <a:ea typeface="Calibri"/>
              </a:rPr>
              <a:t>6,8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08360" y="3213000"/>
                <a:ext cx="560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1258200" y="4148640"/>
            <a:ext cx="69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100% - 15% = 85%          85%•8 = 0,85•8=6,8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77560" y="4649760"/>
            <a:ext cx="728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</a:rPr>
              <a:t>Parasol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15% • 24 = 0,15•24=3,6         24-3,6=20,4 zł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85%•24=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3080" y="5659920"/>
            <a:ext cx="78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Piłka kosztuje 6,80 zł, a parasol 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EE2-DABA-47FB-B19B-8EB9BC70B9A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65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tyczniu pensja pana Macieja wynosi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2300 zł. W lipcu przewidziano pięcioprocentową podwyżkę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an Maciej  będzie zarabiał od trzeciego kwartał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5720" y="3251880"/>
            <a:ext cx="8928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5%•2300=0,05•2300=115 zł.        2300+115=</a:t>
            </a:r>
            <a:r>
              <a:rPr b="0" lang="pl-PL" sz="2800" spc="-1" strike="noStrike">
                <a:solidFill>
                  <a:srgbClr val="0033cc"/>
                </a:solidFill>
                <a:latin typeface="Monotype Corsiva"/>
              </a:rPr>
              <a:t>2415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lub   100%+5%=105%          105% • 2300 = 1,05•2300=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202680" y="4651560"/>
            <a:ext cx="90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Monotype Corsiva"/>
              </a:rPr>
              <a:t>Odpowiedź: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 trzeciego kwartału tzn. od lipca pan Maci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będzie zarabiał 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940360" y="404640"/>
            <a:ext cx="2665440" cy="17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AE0-BD2C-48B9-BF72-1C9D639A55E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16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uty kosztowały 300 zł, staniały najpier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o 20%, a potem jeszcze o 1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te buty kosztują obecn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60320" y="3209760"/>
            <a:ext cx="7304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80% •  300 = 0,8 • 300 = 240 zł. - cena po 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90% • 240 = 0,9 • 240 = 216 zł. - cena po I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08000" y="3266280"/>
            <a:ext cx="69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Każda kolejna obniżka (podwyżka) ce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tego samego towaru jest już liczo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z innej kwot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Obecnie buty kosztują 216 z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1843200" cy="22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A28-1216-479A-AA56-1AE1F4413E8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Zadania dodatkowe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1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. 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30 uczniów, dziewczęta stanowią 40% całej klasy, ilu jest chłopc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400" spc="-1" strike="noStrike">
                <a:solidFill>
                  <a:srgbClr val="0033cc"/>
                </a:solidFill>
                <a:latin typeface="Monotype Corsiva"/>
              </a:rPr>
              <a:t>2.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W chórze 8 osób śpiewało basem, a o 25% więcej osób śpiewało altem. Ile osób śpiewało al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6156360" y="404640"/>
            <a:ext cx="2448000" cy="163044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639" name="">
            <a:hlinkClick r:id="rId3" action="ppaction://hlinksldjump"/>
          </p:cNvPr>
          <p:cNvSpPr/>
          <p:nvPr/>
        </p:nvSpPr>
        <p:spPr>
          <a:xfrm>
            <a:off x="6948360" y="587700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0E6-CF58-4946-A914-5F4C5A8D82CE}" type="slidenum">
              <a:t>57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76360" y="2133720"/>
            <a:ext cx="720108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 a pieniądz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3143160" cy="20923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259056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11B-B107-4BA6-933B-66FFF37EB3A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Łatwo jest obliczyć liczbę, gdy znamy jej 50%, 25% czy 10%. Cała liczba to przecież 100%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50% procent liczby wynosi 6, to cała liczba jest dwa razy większa, czyli 1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25% liczby to 7, wówczas szukaną liczbę obliczamy wykonując mnożenie 7 </a:t>
            </a:r>
            <a:r>
              <a:rPr b="1" lang="pl-PL" sz="2800" spc="-1" strike="noStrike" baseline="30000">
                <a:solidFill>
                  <a:srgbClr val="009900"/>
                </a:solidFill>
                <a:latin typeface="Monotype Corsiva"/>
              </a:rPr>
              <a:t>.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4 = 28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Liczba, której 10% wynosi 3, wówczas szukana liczba jest dziesięć razy większa, czyli 30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110-1E7C-4B52-BA86-85A25AF81DB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773000"/>
            <a:ext cx="4572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śród ułamków duże znaczenie, zwłaszc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 życiu codziennym, mają ułamk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o mianowniku 100. Ułam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te nazywają się procentam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Procent oznaczamy symbolem</a:t>
            </a:r>
            <a:br>
              <a:rPr sz="3200"/>
            </a:br>
            <a:r>
              <a:rPr b="1" i="1" lang="pl-PL" sz="8000" spc="-1" strike="noStrike">
                <a:solidFill>
                  <a:srgbClr val="cc0099"/>
                </a:solidFill>
                <a:latin typeface="Monotype Corsiva"/>
              </a:rPr>
              <a:t>%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1844640"/>
            <a:ext cx="257004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800" spc="-1" strike="noStrike">
                <a:solidFill>
                  <a:srgbClr val="ff0000"/>
                </a:solidFill>
                <a:latin typeface="Monotype Corsiva"/>
              </a:rPr>
              <a:t>%</a:t>
            </a:r>
            <a:r>
              <a:rPr b="1" i="1" lang="pl-PL" sz="96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367-5885-4C4F-AABD-1AB16C13D08C}" type="slidenum">
              <a:t>6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Aby obliczyć liczbę, gdy dany jest jej proc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35280" y="3789360"/>
            <a:ext cx="59576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 liczbę, której 2% jest równ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6985080" cy="1224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995480" cy="25909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427640" y="1557360"/>
            <a:ext cx="4093920" cy="2087640"/>
          </a:xfrm>
          <a:prstGeom prst="wedgeRoundRectCallout">
            <a:avLst>
              <a:gd name="adj1" fmla="val -91333"/>
              <a:gd name="adj2" fmla="val -741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Wystarczy podzielić 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przez podany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934-B0A5-400B-AB3B-9DE4D96DCAC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58920" y="1052640"/>
            <a:ext cx="7242120" cy="13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Oblicz liczbę której 5% wynosi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25880" y="2421000"/>
            <a:ext cx="6095520" cy="259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30 : 5% = 30 : 0,05 = 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Drugi sposó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1% tej liczby wynosi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Stąd 100% = 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352872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5D50-10FB-4554-91AC-6B544B870AF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a1bd6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% jest równ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5% jest równe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0 % jest równe 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14800" y="765000"/>
            <a:ext cx="6354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najdź liczby, który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81952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7FC-592B-48A9-B7DF-11399638AA55}" type="slidenum">
              <a:t>62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portmonetce po zakupach zostało 45 zł, co stanow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5% sumy, jaka w niej była przed zakupami. Ile pienięd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yło w portmonetce przed zakupam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 rot="20670000">
            <a:off x="5148000" y="3284280"/>
            <a:ext cx="2232000" cy="17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201-8444-44B3-9B55-9D841F6B445F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Rozwiązanie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45:15%=45:0,15=3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32000" y="4149720"/>
            <a:ext cx="5257800" cy="10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 rot="20670000">
            <a:off x="6156000" y="549000"/>
            <a:ext cx="2376360" cy="18698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116000" y="3860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dpowiedź: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Przed zakupami w portmonetce było 3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1F5-76DB-4A90-BD52-5923A9B82A16}" type="slidenum">
              <a:t>64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7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6201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założył w banku lokatę oprocentowan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skali roku na 6%. Ile pieniędzy ulokował jeśli po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otrzymał z banku 13250 złotych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6% - oprocent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106% - kwota z odsetk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20371200">
            <a:off x="5651280" y="4005000"/>
            <a:ext cx="2447640" cy="1295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111-878F-40A2-9D43-3ED207001DA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7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Rozwiąz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325000 : 106% = 1325000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•        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=              = 125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9900"/>
                </a:solidFill>
                <a:latin typeface="Monotype Corsiva"/>
              </a:rPr>
              <a:t>Odpowiedź: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ulokował w bank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wotę 12500zł.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940360" y="549360"/>
            <a:ext cx="22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20425800">
            <a:off x="4572720" y="836280"/>
            <a:ext cx="2538360" cy="117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 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76360" y="2997360"/>
            <a:ext cx="590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6156360" y="2276640"/>
                <a:ext cx="5605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132000" y="3429000"/>
                <a:ext cx="122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2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44B-A483-46F4-873E-83888610697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aca w grupach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Ile pieniędzy należy wpłacić do banku na 11%, jeśli wiadomo, że po upływie roku klient dostał 55 zł. odsetek?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hipermarkecie AS można było kupić owoce w 6% promocji. Cena bananów była o 0,30zł. mniejsza od początkowej. Ile kosztowały one na początku?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i Kasia kupowała wieczorem na targu dwa koszyki jagód. Sprzedawca z powodu późnej pory obniżył ich cenę o 10%. Pani Kasia zapłaciła 19,80zł. Ile przedtem kosztował koszyczek jagó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4FE-56E5-4DAD-B57D-13DEFD6F9D7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15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leży wpłacić do banku 500zł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 początku banany kosztowały 5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Koszyczek jagód kosztował na początku 11z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1187280" y="3933720"/>
            <a:ext cx="259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097440" cy="212580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 rot="18664200">
            <a:off x="6659280" y="549000"/>
            <a:ext cx="1708200" cy="1708200"/>
          </a:xfrm>
          <a:prstGeom prst="rect">
            <a:avLst/>
          </a:prstGeom>
          <a:ln w="0">
            <a:noFill/>
          </a:ln>
        </p:spPr>
      </p:pic>
      <p:sp>
        <p:nvSpPr>
          <p:cNvPr id="689" name="">
            <a:hlinkClick r:id="rId4" action="ppaction://hlinksldjump"/>
          </p:cNvPr>
          <p:cNvSpPr/>
          <p:nvPr/>
        </p:nvSpPr>
        <p:spPr>
          <a:xfrm>
            <a:off x="673272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01F-2C5A-4663-9805-A75E26EAB83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71640" y="1989000"/>
            <a:ext cx="763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  kalkulator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3BA-5077-4394-89A9-125C58D7EB5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439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odany </a:t>
            </a:r>
            <a:r>
              <a:rPr b="1" lang="pl-PL" sz="2800" spc="-1" strike="noStrike">
                <a:solidFill>
                  <a:srgbClr val="0000cc"/>
                </a:solidFill>
                <a:latin typeface="Monotype Corsiva"/>
              </a:rPr>
              <a:t>prostokąt podzielono na 100 małych prostokątów – każdy taki prostokącik oznacza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148360" y="3284640"/>
          <a:ext cx="2514600" cy="2131920"/>
        </p:xfrm>
        <a:graphic>
          <a:graphicData uri="http://schemas.openxmlformats.org/drawingml/2006/table">
            <a:tbl>
              <a:tblPr/>
              <a:tblGrid>
                <a:gridCol w="250920"/>
                <a:gridCol w="252360"/>
                <a:gridCol w="250920"/>
                <a:gridCol w="252360"/>
                <a:gridCol w="250920"/>
                <a:gridCol w="250920"/>
                <a:gridCol w="252360"/>
                <a:gridCol w="250560"/>
                <a:gridCol w="252720"/>
                <a:gridCol w="2505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bf0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11280" y="4149720"/>
                <a:ext cx="1828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778-FDB5-46CC-A590-868D76FCAED6}" type="slidenum">
              <a:t>7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ykorzystanie kalkulatora do obliczeń procentowych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Zapoznaj się ze sposobami wykonyw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obliczeń procentowych przy pomo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kalkulatora, a następnie samodziel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wykonaj obli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995640" y="321300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22B-98A4-4790-8965-AEE9BB6B32B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 20% z liczby 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) Liczbę 80 powiększ o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2665440" cy="48600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2737080" cy="5000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5076720" y="3573360"/>
            <a:ext cx="3672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Liczba wprowad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Końcowy wynik wyświetl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312480" cy="2588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12480" cy="24444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312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E47-D1F6-4EFF-9D7A-3DED4380E92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) Liczbę 80 zmniejsz 0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) Jakim procentem liczby 80 jest liczba 2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84360" y="3645000"/>
            <a:ext cx="6264360" cy="2014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            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Liczba wprowadzona 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Końcowy wynik wyświetlony 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312840" cy="2444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3635280" y="5300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4"/>
          <a:stretch/>
        </p:blipFill>
        <p:spPr>
          <a:xfrm>
            <a:off x="1116000" y="2421000"/>
            <a:ext cx="3097080" cy="565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5"/>
          <a:stretch/>
        </p:blipFill>
        <p:spPr>
          <a:xfrm>
            <a:off x="1187280" y="3645000"/>
            <a:ext cx="302436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551-DEB7-4CB8-A516-21B3A861D7FC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36800" y="1989000"/>
            <a:ext cx="48848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15% z liczby 25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94280" y="2997360"/>
            <a:ext cx="55857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0,6% z liczby 3000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10640" y="4149720"/>
            <a:ext cx="6704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60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04A-A3DF-4546-B416-20E9DE2AB20E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89920" y="1916280"/>
            <a:ext cx="726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16,8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35000" y="2997360"/>
            <a:ext cx="6718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mniejsz o 20% liczbę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4360" y="4149720"/>
            <a:ext cx="78372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jakim procentem liczby 15 jest liczba 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F79-9E53-4983-B8CB-5951AEF0D13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łaszcz kosztował 280zł. Ile kosztuje ten płaszcz po 30% obniż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Książka, która kosztowała 36 zł, podrożała o 15%. Ile kosztuje tera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Rower kosztował 540 zł. Po obniżce kosztuje 459zł. O ile procent obniżono cen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 sklepu zakupiono 120kg. jabłek, z czego sprzedano 117kg. Ile procent jabłek nie sprzeda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68360" y="692280"/>
            <a:ext cx="5183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a dla gr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5"/>
          <a:stretch/>
        </p:blipFill>
        <p:spPr>
          <a:xfrm>
            <a:off x="6732720" y="5229360"/>
            <a:ext cx="1512720" cy="11509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076720" y="4076640"/>
            <a:ext cx="1079640" cy="6685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7451640" y="3068640"/>
            <a:ext cx="936720" cy="70344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 rot="19172400">
            <a:off x="7380000" y="404640"/>
            <a:ext cx="906480" cy="136692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 txBox="1"/>
          <p:nvPr/>
        </p:nvSpPr>
        <p:spPr>
          <a:xfrm>
            <a:off x="8028000" y="260280"/>
            <a:ext cx="790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-30%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7020000" y="3213000"/>
            <a:ext cx="5619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15%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EDB-C13A-4836-AEB0-DBF30862B43F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ani Nowak marzy o tym, aby utrzymywać się z odsetek bankowych. Jaką kwotę musiałaby wpłacić na roczną lokatę oprocentowaną 5%, aby co roku otrzymywać odsetki w wysokości 18000z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2372040" cy="28069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805760" y="765000"/>
            <a:ext cx="50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바탕"/>
              </a:rPr>
              <a:t>Zadania dla grup c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426-3740-43CE-A0D6-F5CF7D50CE27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łaszcz kosztuje 196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siążka kosztuje 41,4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nę roweru obniżono o 1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ie sprzedano 15% jabł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ni Nowak musiałaby wpłacić 3600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979640" y="4292640"/>
            <a:ext cx="1469880" cy="22176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6156360" y="4437000"/>
            <a:ext cx="2087640" cy="12924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3"/>
          <a:stretch/>
        </p:blipFill>
        <p:spPr>
          <a:xfrm>
            <a:off x="3995640" y="4437000"/>
            <a:ext cx="1871640" cy="14223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4"/>
          <a:stretch/>
        </p:blipFill>
        <p:spPr>
          <a:xfrm>
            <a:off x="6877080" y="1773360"/>
            <a:ext cx="1701720" cy="20145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5"/>
          <a:stretch/>
        </p:blipFill>
        <p:spPr>
          <a:xfrm rot="21161400">
            <a:off x="5724000" y="404640"/>
            <a:ext cx="2089440" cy="156852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rId6" action="ppaction://hlinksldjump"/>
          </p:cNvPr>
          <p:cNvSpPr/>
          <p:nvPr/>
        </p:nvSpPr>
        <p:spPr>
          <a:xfrm>
            <a:off x="665964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B23-E225-47D1-A842-BD754A2EF91D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Obraz,Plakat - obroty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1476360" y="1916280"/>
            <a:ext cx="7056360" cy="13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iczby, procenty i życie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E5C-F384-4CAB-97D5-F85FAE72F03E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6197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Według danych GUS powierzchnia Polski, wynoszą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31,3 mln ha, jest  w głównej mierze wykorzystywana p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produkcję rolniczą oraz pokryta przez lasy. Wedłu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ewidencji geodezyjnej z 1 stycznia 2003r. użytki rol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i leśne, stanowiące tzw. użytki biotyczne, zajmowa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koło 91% powierzchni kra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132000" y="692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908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62B-AF81-40CE-8CC6-2DE125C25F84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340000" y="836640"/>
          <a:ext cx="5410080" cy="5175360"/>
        </p:xfrm>
        <a:graphic>
          <a:graphicData uri="http://schemas.openxmlformats.org/drawingml/2006/table">
            <a:tbl>
              <a:tblPr/>
              <a:tblGrid>
                <a:gridCol w="541440"/>
                <a:gridCol w="541080"/>
                <a:gridCol w="540000"/>
                <a:gridCol w="541080"/>
                <a:gridCol w="541440"/>
                <a:gridCol w="541440"/>
                <a:gridCol w="541440"/>
                <a:gridCol w="539640"/>
                <a:gridCol w="496800"/>
                <a:gridCol w="5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 flipV="1">
            <a:off x="1476360" y="47628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332000" y="2133360"/>
            <a:ext cx="107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692360" y="4292280"/>
            <a:ext cx="1224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93080" y="2997360"/>
            <a:ext cx="10778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211280" y="765000"/>
            <a:ext cx="431640" cy="115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907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450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19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0" y="34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efde3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0280"/>
            <a:ext cx="792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26028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773360"/>
            <a:ext cx="792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4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2708280"/>
            <a:ext cx="685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86064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D5B-050C-4871-9037-41CE8B63488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milionów hektarów zajmują użytk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iotycz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powierzchni Polski zajmują pozostałe tereny? Jaka               to powierzchn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Lasy pod koniec 2002 roku stanowiły 28,5% powierzchni Polski. Ile  to milionów hektar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igl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liści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śród lasów iglastych dominują lasy sosnowe i modrzewiowe.                   Ile hektarów zajmują tereny porośnięte sosnami i modrzewia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rocent kraju zajmują buki i olc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332000" y="620640"/>
            <a:ext cx="38876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 c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5796000" y="260280"/>
            <a:ext cx="2979720" cy="25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75F-96A7-4C5E-AA8A-AB4B90619AE8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ybiera się na wycieczkę z Krakowa (2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o Barcelony (2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. Chłopiec pamiętał, że ob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iejscowości leżą po tej sam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stronie południka 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Krakowie jest godzina 9: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czasu słonecznego, któ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ędzie godzina w tym samy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omencie w Barcelon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Plik:Cadran solaire St Marys Basilica 01 AB.jpg"/>
          <p:cNvPicPr/>
          <p:nvPr/>
        </p:nvPicPr>
        <p:blipFill>
          <a:blip r:embed="rId1"/>
          <a:stretch/>
        </p:blipFill>
        <p:spPr>
          <a:xfrm>
            <a:off x="5435640" y="2781360"/>
            <a:ext cx="290844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9E2-8D3D-473D-A211-459AA932B6C3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ama Jurka kupiła synowi bilet na samolot w 2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omocji. Zaoszczędziła 128zł. Ile zapłaciłaby kobiet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dyby cena biletu nie była obniżo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 rot="20237400">
            <a:off x="5003640" y="3141360"/>
            <a:ext cx="296100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521-BF36-4C9C-85FC-1A7E7D0392E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393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Dzień wcześniej Jurek poszedł na zakupy do poblisk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sklepu. Chciał kupić sobie na drogę trzy soki owoc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były właśnie ciekawe obniżki. Zainteresowa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chłopca wzbudziła następująca promocj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Times New Roman"/>
              </a:rPr>
              <a:t>2,20zł.                                             1,80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Który sok powinien wybrać Jurek aby zaoszczędzić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ą sumę zapłaci  w sklep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781440" cy="1081080"/>
          </a:xfrm>
          <a:prstGeom prst="rect">
            <a:avLst/>
          </a:prstGeom>
          <a:ln w="0">
            <a:noFill/>
          </a:ln>
        </p:spPr>
      </p:pic>
      <p:pic>
        <p:nvPicPr>
          <p:cNvPr id="764" name="irc_mi" descr=""/>
          <p:cNvPicPr/>
          <p:nvPr/>
        </p:nvPicPr>
        <p:blipFill>
          <a:blip r:embed="rId2"/>
          <a:stretch/>
        </p:blipFill>
        <p:spPr>
          <a:xfrm>
            <a:off x="1476360" y="3429000"/>
            <a:ext cx="1584360" cy="1398600"/>
          </a:xfrm>
          <a:prstGeom prst="rect">
            <a:avLst/>
          </a:prstGeom>
          <a:ln w="0">
            <a:noFill/>
          </a:ln>
        </p:spPr>
      </p:pic>
      <p:pic>
        <p:nvPicPr>
          <p:cNvPr id="765" name="irc_mi" descr=""/>
          <p:cNvPicPr/>
          <p:nvPr/>
        </p:nvPicPr>
        <p:blipFill>
          <a:blip r:embed="rId3"/>
          <a:stretch/>
        </p:blipFill>
        <p:spPr>
          <a:xfrm>
            <a:off x="5724360" y="3284640"/>
            <a:ext cx="1508400" cy="150804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 txBox="1"/>
          <p:nvPr/>
        </p:nvSpPr>
        <p:spPr>
          <a:xfrm rot="741000">
            <a:off x="2623680" y="329832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3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7" name=""/>
          <p:cNvSpPr txBox="1"/>
          <p:nvPr/>
        </p:nvSpPr>
        <p:spPr>
          <a:xfrm rot="1188600">
            <a:off x="7019640" y="306864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2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D55-45D5-49EA-B836-918417AAE80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raz z rodzicami musi dojechać samochodem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rakowskie lotnisko Balice. Mają do pokonania tras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20km. Tata Jurka zwykle jedzie ze średnią prędkości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80km/h. Samolot startuje o godzinie 9:00. O któr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najpóźniej powinni wyjechać aby Jurek nie spóźnił si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iorąc pod uwagę 20 minutową odpraw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4859280" y="682560"/>
            <a:ext cx="3745080" cy="20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E41-AEF1-4CA9-8437-8D14B13B35A6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gadka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Janek stanowi 20% swojej rodziny, 40% je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rodziny to dorośli, 60% stanowią dziec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60% to kobiety, a 40% to mężczyźn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Ile sióstr ma Jane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44160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89C-8053-463A-8030-4B5FD301C842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71640" y="1752120"/>
            <a:ext cx="79214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emaks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chomikuj.pl/mabram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h.edu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1"/>
              </a:rPr>
              <a:t>http://wiki.wolnepodreczniki.pl/Matematyka:Gimnazjum/Procenty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2"/>
              </a:rPr>
              <a:t>www.fajslawice.internetdsl.pl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3"/>
              </a:rPr>
              <a:t>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4"/>
              </a:rPr>
              <a:t>pgf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5"/>
              </a:rPr>
              <a:t>/mat/prezentacje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Monotype Corsiva"/>
              </a:rPr>
              <a:t>pl.wikipedia.org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476360" y="404640"/>
            <a:ext cx="6913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ateriały pochodzą z Platformy Edukacyjnej Port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02DA-7C5F-42EB-80C2-96996FA84E8B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16360" y="2276640"/>
            <a:ext cx="28080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009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028680" cy="3097080"/>
          </a:xfrm>
          <a:prstGeom prst="rect">
            <a:avLst/>
          </a:prstGeom>
          <a:ln w="0">
            <a:noFill/>
          </a:ln>
        </p:spPr>
      </p:pic>
      <p:sp>
        <p:nvSpPr>
          <p:cNvPr id="781" name="">
            <a:hlinkClick r:id="rId2" action="ppaction://hlinksldjump"/>
          </p:cNvPr>
          <p:cNvSpPr/>
          <p:nvPr/>
        </p:nvSpPr>
        <p:spPr>
          <a:xfrm>
            <a:off x="6732720" y="616572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9B7-0331-4B81-8FEE-318E3FC44F23}" type="slidenum">
              <a:t>87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Procenty definicja.svg"/>
          <p:cNvPicPr/>
          <p:nvPr/>
        </p:nvPicPr>
        <p:blipFill>
          <a:blip r:embed="rId1"/>
          <a:stretch/>
        </p:blipFill>
        <p:spPr>
          <a:xfrm>
            <a:off x="1332000" y="1700280"/>
            <a:ext cx="6912000" cy="425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33920" y="691200"/>
            <a:ext cx="7553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Na obrazku widzisz 100 kredek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849-4A35-4530-9957-336CEB6A506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atyka</cp:lastModifiedBy>
  <dcterms:modified xsi:type="dcterms:W3CDTF">2013-04-07T16:03:31Z</dcterms:modified>
  <cp:revision>278</cp:revision>
  <dc:subject/>
  <dc:title>Prezentacja programu PowerPoint</dc:title>
</cp:coreProperties>
</file>