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DD2FF-38D5-4213-B3D7-3F11389A5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20D85-93C8-43FD-8156-64B6905F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49658-D484-4734-93F6-1DA645D2B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69D02-9469-461F-9AC2-64086293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4863-1F60-4327-9B91-D96E36D6E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5BE0-3C39-4BAA-82E9-FDA1F2D5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786B-0351-4E14-B16B-F2E7D264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4A38-63B2-4BD5-B114-183BFC2A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B4D9-5E2B-4ED4-A16E-6FFE7155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A77F-4784-4810-9180-A78CFB63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9466-B852-4364-8433-1B4EA2C3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83AFB-4650-4772-BD7C-105E01BC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C460-DB26-42C2-8081-70DAF783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916D-07CB-4F2B-8035-A1B6B461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E76A-0F06-43B2-B6CE-33F913D8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CE9A-797E-4FF2-81A2-BFFC5904C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E601-D6D7-435E-B68E-F7ED5163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950BA-762D-4C2E-A4BE-D5BCFB08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E8980-6F4C-4DBF-AD4A-49F9B6FD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27ECA-C1E2-44AC-95F5-2783F552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FBE84-DC4C-4D37-938A-827A54AA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EA99F-BEF1-451A-B90B-EF522973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37893-6F07-48A0-900D-A968A392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423D4-7645-400D-AE01-5C0967D2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6913-5728-4AF7-86E1-59EB1CCD03B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7E4B-2F40-4370-B33A-C81AC62E34F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Działania na ułamkach dziesiętnych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Mnożenie ułamków dziesiętnych przez 10, 100, 1000, ...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zy mnożeniu ułamka dziesiętnego przez 10, 100, 1000, przesuwamy przecinek odpowiednio o 1, 2, 3 miejsca w praw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Na podstawie rysunku uzupełnij zapis :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63640" y="3141720"/>
            <a:ext cx="5415120" cy="2259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979640" y="1916280"/>
            <a:ext cx="48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0,02 zł · 10 = ...... z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nożenie</a:t>
            </a:r>
            <a:br>
              <a:rPr sz="42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,2 · 10 = 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,51 · 10 = 125,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,223 · 100 = 522,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,7 · 100 = 7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,0046 · 1000 = 4,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,5 · 1000 = 35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nożenie ułamków dziesiętnych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nożąc dwa ułamki dziesiętne, wykonujemy działania tak, jak na liczbach naturalnych,              a w otrzymanym wyniku oddzielamy przecinkiem (licząc od prawej strony) tyle cyfr, il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ło łącznie po przecinku w obu czynnika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lgorytm mnożenia liczb dziesiętnych możemy podzielić na następujące etapy: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1" name="" descr="Plik:Liczby dziesietne11.svg"/>
          <p:cNvPicPr/>
          <p:nvPr/>
        </p:nvPicPr>
        <p:blipFill>
          <a:blip r:embed="rId1"/>
          <a:stretch/>
        </p:blipFill>
        <p:spPr>
          <a:xfrm>
            <a:off x="684360" y="2060640"/>
            <a:ext cx="7777080" cy="28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6696000" cy="2743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195640" y="692280"/>
            <a:ext cx="52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nożąc ułamki podpisujemy j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 ten sposób, aby ostatnia cyfra jednego ułamka była pod ostatnią cyfrą drugiego ułamk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rzykła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6048360" cy="308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Dzielenie ułamków dziesiętnych przez 10, 100, 1000, ..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zy dzieleniu ułamka dziesiętnego przez 10, 100, 1000, przesuwamy przecinek odpowiednio o 1, 2, 3 miejsca w lew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zieleni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3,4 : 10 = 2,3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,39 : 10 =0,13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12,3 : 100 =8,12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,7 : 100 = 0,03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,5 : 1000 =0,009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5 : 1000 = 0,04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zielenie ułamków dziesiętnych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dy obliczamy iloraz dwóch ułamków dziesiętnych, najpierw przesuwamy przecinek            w prawą stronę o tyle miejsc, aby nie było           go w drugiej liczbie (aby dzielnik stał się liczbą naturalną). Następnie wykonujemy dzieleni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iekawostki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Kiedy wykonujemy obliczenia arytmetyczne, często posługujemy się ułamkami dziesiętnymi  i trudno dziś wyobrazić sobie czasy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kiedy w użyciu były tylko ułamki zwykł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Zapis dziesiętny liczb został opracowany w XV wieku przez perskiego matematyka Al-Kaszi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w jego dzie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Miftah al-hisab  (Klucz do arytmetyki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Oddzielenie przecinkiem całości od części dziesiętnych było pomysłem angielskiego matematyka. J. Nepe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Oblicz sposobem pisemnym: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4,43 : 0,3 = 144,3 : 3 =48,1    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                 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        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8,5 : 0,25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850 : 25 = 1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995640" y="1989000"/>
            <a:ext cx="4103640" cy="3881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   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zy dzieleniu ułamka dziesiętnego przez liczbę w wyniku w odpowiednim miejscu                            (nad przecinkiem dzielnej)                      stawiamy przecine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012000" y="2781360"/>
            <a:ext cx="2158920" cy="30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Zadani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Marysia zmierzyła 500 kartek i otrzymała wynik 5,2 cm. Jaką grubość ma jedna kartka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Plik:Dzielenie kartka.jpg"/>
          <p:cNvPicPr/>
          <p:nvPr/>
        </p:nvPicPr>
        <p:blipFill>
          <a:blip r:embed="rId1"/>
          <a:stretch/>
        </p:blipFill>
        <p:spPr>
          <a:xfrm>
            <a:off x="4716360" y="2924280"/>
            <a:ext cx="3743280" cy="292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iteratur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http://wiki.wolnepodreczniki.pl/Matematyka:Gimnazjum/Liczby_wymierne_1#Spos.C3.B3b_rzymsk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         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5075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łamek dziesiętny to ułamek o mianownik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, 100, 1000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łamki dziesiętne zapisuje się bez kreski ułamkowej, ale specjalną funkcję pełni przecinek dziesiętny (w krajach anglosaskich                      kropka), który oddziela                                część całkowitą od części                          ułamkowej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cz&amp;eogon;&amp;sacute;ci dziesi&amp;eogon;tne i u&amp;lstrok;amkowe "/>
          <p:cNvPicPr/>
          <p:nvPr/>
        </p:nvPicPr>
        <p:blipFill>
          <a:blip r:embed="rId1"/>
          <a:stretch/>
        </p:blipFill>
        <p:spPr>
          <a:xfrm>
            <a:off x="6227640" y="2997360"/>
            <a:ext cx="263844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Gdy czytamy liczbę zapisaną w postaci dziesiętnej, patrzymy w jakim rzędzie znajduje się cyfra zapisana jako ostatnia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" descr="Plik:Liczby dziesiet 3.svg"/>
          <p:cNvPicPr/>
          <p:nvPr/>
        </p:nvPicPr>
        <p:blipFill>
          <a:blip r:embed="rId1"/>
          <a:stretch/>
        </p:blipFill>
        <p:spPr>
          <a:xfrm>
            <a:off x="2050920" y="1773360"/>
            <a:ext cx="5329440" cy="379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Pamiętaj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Przy dodawaniu i odejmowaniu ułamków dziesiętnych sposobem pisemnym, należy podpisać je w ten sposób, aby przecinek          był pod przecinkiem, 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jedności pod jednościami, części dziesiąte pod częściami dziesiątymi it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Oblicz sposobem pisemnym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,27 + 3,1 + 8,135 = 17,50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3,2 - 6,366 = 76,83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 przypadku odejmowania, jeżeli odjemna ma mniej miejsc po przecinku niż odjemnik, miejsca te uzupełniamy zerami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372360" y="1773360"/>
            <a:ext cx="1441440" cy="1873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763640" y="2924280"/>
            <a:ext cx="158436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rzykład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7788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Plik:Liczby dziesiet 7.svg"/>
          <p:cNvPicPr/>
          <p:nvPr/>
        </p:nvPicPr>
        <p:blipFill>
          <a:blip r:embed="rId1"/>
          <a:stretch/>
        </p:blipFill>
        <p:spPr>
          <a:xfrm>
            <a:off x="250920" y="3789360"/>
            <a:ext cx="8569080" cy="2084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Plik:Liczby dziesiet 5.svg"/>
          <p:cNvPicPr/>
          <p:nvPr/>
        </p:nvPicPr>
        <p:blipFill>
          <a:blip r:embed="rId2"/>
          <a:stretch/>
        </p:blipFill>
        <p:spPr>
          <a:xfrm>
            <a:off x="1042920" y="1413000"/>
            <a:ext cx="7058160" cy="201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rzykład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879640" cy="2406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500720" y="1916280"/>
            <a:ext cx="2736720" cy="234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Oblicz wartość zakupów.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4248000" cy="2156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076720" y="3284640"/>
            <a:ext cx="2644920" cy="273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8:33:25Z</dcterms:created>
  <dc:creator>x</dc:creator>
  <dc:description/>
  <dc:language>en-US</dc:language>
  <cp:lastModifiedBy>Matematyka</cp:lastModifiedBy>
  <dcterms:modified xsi:type="dcterms:W3CDTF">2013-05-03T19:44:20Z</dcterms:modified>
  <cp:revision>31</cp:revision>
  <dc:subject/>
  <dc:title>Działania na ułamkach dziesiętnych.</dc:title>
</cp:coreProperties>
</file>