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F80-D668-40B0-B8C2-ECCC67C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893-9105-4AEE-8169-03047FA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8AA-82BC-4C78-86E7-A532AC20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FAD-1EEA-455B-A6CF-CC7633CD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0FA-71E1-4407-8E58-B4125BDB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42D1-71A6-4F8A-B2D4-6685F38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CB7-78BB-4D7B-BEF7-C0A28CF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2DA-7987-4031-8E81-7653FD3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041-246F-439E-B252-677FD26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9933-6338-40DA-A15C-CD1593B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F667-829A-4444-AEBC-1152F04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19D-8664-4676-BF0E-4809A76F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397-0309-4041-B1E8-C6F52CD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B16E-851F-4126-8B7B-B0EFEFC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BDF-72F3-45DD-8407-BDFE37E1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8FE-85BE-4A5C-B75D-CB549582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243-C5C4-4927-B35F-C6E41ACF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CCF-6F48-45E3-B224-F90804E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726-9B1E-401B-B46D-8A6858DE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925-F49C-4FFC-A6DC-E5DDD34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7F6-B28C-412E-A1D8-AC3C080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BD6-E3A1-4352-8F07-42B353E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C4E-3FF1-4A4F-B0CD-B5A6AB7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C5D-5856-4164-B6B6-62E9704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EDDB-1F78-4CB4-B010-FFB96186534B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CCC8-3F70-439A-9DCB-07C903597B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88CE-4EAB-4E9D-B882-18B4337918EB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6B28-E79D-404D-9D84-103E5951F0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4360" y="838080"/>
            <a:ext cx="7848360" cy="206892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zymski system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zapisywania licz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408720" cy="3086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9716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B2F-F988-4285-A4A1-34BE7ECCC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apisz w systemie rzymskim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043520" cy="2260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999 =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B5C-AD57-4E82-BB4C-EEEE193E10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99 = MCMXCIX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iczba rzymska składa się z wydzielonych fragmentów, które są równoznaczne z cyframi arabskim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 naszym przykładzie takimi "cyfrowymi fragmentami" były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M - 10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M - 9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XC - 9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X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7FB-1A67-4543-BA70-9884856A2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333360"/>
            <a:ext cx="8642160" cy="126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kie są inne zasady obowiązujące przy tworzeniu liczb systemem rzymski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628640"/>
            <a:ext cx="7315200" cy="1117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ok siebie można zapisać tylko trzy jednakowe znaki I, X, C,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6858000" cy="1117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e wolno powtarzać obok siebie znaków V, L, 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076640"/>
            <a:ext cx="6858000" cy="149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e może być dwóch znaków oznaczających liczby mniejsze bezpośrednio przed znakiem oznaczającym liczbę większ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445000"/>
            <a:ext cx="6858000" cy="82548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Znakami poprzedzającymi znak oznaczający większą liczbę mogą być tylko znaki: I, X, C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25-1EED-40FB-AB87-959D277F66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549360"/>
            <a:ext cx="85122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Zapisz liczby w systemie rzymski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2421000"/>
            <a:ext cx="190476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8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438280"/>
            <a:ext cx="20574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VI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200400"/>
            <a:ext cx="1447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4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2004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C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3962520"/>
            <a:ext cx="213372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16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962520"/>
            <a:ext cx="15238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X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797360"/>
            <a:ext cx="1676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65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479736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LX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661000"/>
            <a:ext cx="18288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99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5661000"/>
            <a:ext cx="28800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MXCIX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5B6-FD3B-4C25-A26D-D721ED604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476280"/>
            <a:ext cx="83678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Odczytaj liczby zapisane w systemie rzymskim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514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21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IX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2004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CXLVI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886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45720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XCI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572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9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5257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M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A7B-F54A-4E39-B33C-E872F41FAE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609480"/>
            <a:ext cx="83628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dzisiaj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133720"/>
            <a:ext cx="6553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zapisywaniu dat i wiek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6688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  XI 19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3500280"/>
            <a:ext cx="73152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numeracji ważnych rocz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403848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V Konkurs Chopinow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941720"/>
            <a:ext cx="72388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imionach kolejnych król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562720"/>
            <a:ext cx="609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ygmunt III W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0DA-3D20-4115-82A0-2D9B4C4928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0920" y="533520"/>
            <a:ext cx="858816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jeszcze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209680"/>
            <a:ext cx="793116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oznaczania godzin na zega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3640" y="3357720"/>
            <a:ext cx="579132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rzy numeracji rozdział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365720"/>
            <a:ext cx="64008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 tablicach pamiątk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5562720"/>
            <a:ext cx="7777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 inskrypcjach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napis wyryty w twardym materiale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E46-3D8C-41DB-AF81-AA48161BDE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UWAG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 pomocą dostępnych znaków można zapisać liczby od 1 do 3999, gdyż nie istnieją znaki dla liczb większych od 1000.   Większe liczby można zapisywać poprzez umieszczenie ich między dwoma znakami |, co oznacza liczbę stukrotnie większą. Innym znakiem pełniącym podobną funkcję jest nadkreślenie oznaczające pomnożenie przez 10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E3F-738E-460A-8B0A-74504FF00E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609480"/>
            <a:ext cx="7238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609480"/>
            <a:ext cx="84391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systemem rzymsk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iększ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0920" y="2276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I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6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3962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CIV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0 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952880"/>
            <a:ext cx="820872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w pionowych kreskach zwiększają  swoją wartość  stu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BDC-4915-499C-BAAC-13BA50338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8080"/>
            <a:ext cx="79898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jeszcze większe liczby systemem rzymski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227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XX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8195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195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124080"/>
            <a:ext cx="43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V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39625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876920"/>
            <a:ext cx="828036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podkreślone u góry zwiększają swoją wartość tysiąc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2492280"/>
            <a:ext cx="1079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3284640"/>
            <a:ext cx="79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38520" y="2205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068640"/>
            <a:ext cx="20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505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91080" y="38703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 00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459-5DA1-489B-84E8-8E5594461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857160" y="4429080"/>
            <a:ext cx="4033800" cy="2214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f45"/>
                </a:solidFill>
                <a:latin typeface="Arial"/>
                <a:ea typeface="Arial"/>
              </a:rPr>
              <a:t>CYFRY RZYMSKIE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706400"/>
          <a:ext cx="8640720" cy="232272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1080"/>
                <a:gridCol w="1368360"/>
                <a:gridCol w="1224000"/>
                <a:gridCol w="16560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L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5429160" y="4429080"/>
            <a:ext cx="26431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2F3-CDDF-47F1-AEFA-0826AD28C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a z podręcznikiem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yka z plusem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Ćwiczenie A str 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 1,2,3/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5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Verdana"/>
              </a:rPr>
              <a:t>dla chętnych na kartkach: zad.6,7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81F-C45A-4EBA-A7F2-618F594DA5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124000" y="1125360"/>
            <a:ext cx="6324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chodzi od słowa centum = 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352680"/>
            <a:ext cx="5943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pochodzi od słowa  mille = 1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2080" y="674640"/>
            <a:ext cx="785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8160" y="3284640"/>
            <a:ext cx="878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957-C402-4CA4-AF47-806950EE1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765000"/>
            <a:ext cx="68580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systemem rzymskim zapisać inn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895480"/>
            <a:ext cx="7488360" cy="22294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ystarczy dodawać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ub odejmować znak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1D1-0F69-4C6D-877A-AA28A79178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04640"/>
            <a:ext cx="83707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dodawania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2060640"/>
            <a:ext cx="468144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=  (V + I)  =  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6668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5640" y="2781360"/>
            <a:ext cx="5562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  =  (X + I)  =  X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350028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  =  (L + X)  =  L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4221000"/>
            <a:ext cx="60962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 =  (C + X)  =  C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5084640"/>
            <a:ext cx="640080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0  =  (D + C)  = 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5877000"/>
            <a:ext cx="54864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0  =  (M + C)  =  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008-79EA-4070-8B20-003163D2B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0"/>
            <a:ext cx="80838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odejmowania 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1773360"/>
            <a:ext cx="678204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 =  (V – 1)  = 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56536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 =  (X – I)  = 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9640" y="3357720"/>
            <a:ext cx="632448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  =  (L – X)  =  X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4149720"/>
            <a:ext cx="64771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  =  (C – X)  =  X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7242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941720"/>
            <a:ext cx="670572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0  =  (D – C)  =  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734080"/>
            <a:ext cx="6781680" cy="752040"/>
          </a:xfrm>
          <a:prstGeom prst="rect">
            <a:avLst/>
          </a:prstGeom>
          <a:solidFill>
            <a:srgbClr val="9ac2c0"/>
          </a:solidFill>
          <a:ln w="9360">
            <a:solidFill>
              <a:srgbClr val="c4c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0  =  (M – C)  =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BE9-7125-4D11-99E6-C411609A0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5627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D3A-87DA-484D-9785-DA38691B29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VII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7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I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1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29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XL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14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D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419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9D1-F085-4C33-A8D5-2F97E6C486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 CC L XX VI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500 + 2 • 100) +(50 + 2 •10) + (5 + 3 • 1) = 778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3284640"/>
            <a:ext cx="8207280" cy="94752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pl-PL" sz="3600" spc="-1" strike="noStrike">
                <a:solidFill>
                  <a:srgbClr val="ffffff"/>
                </a:solidFill>
                <a:latin typeface="Verdana"/>
              </a:rPr>
              <a:t>M CM L XXX IX</a:t>
            </a: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3 •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=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869000"/>
            <a:ext cx="7921440" cy="947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M CCC L 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(3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= 23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E32-E62B-4062-A570-3E0507D93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29:06Z</dcterms:created>
  <dc:creator>Elżbieta Salwa</dc:creator>
  <dc:description/>
  <dc:language>en-US</dc:language>
  <cp:lastModifiedBy>Matematyka</cp:lastModifiedBy>
  <dcterms:modified xsi:type="dcterms:W3CDTF">2014-01-03T15:03:54Z</dcterms:modified>
  <cp:revision>99</cp:revision>
  <dc:subject>prezentacja z matematyki dla klas 4 - 6 szkoły podstawowej</dc:subject>
  <dc:title>Prezentacja programu PowerPoint</dc:title>
</cp:coreProperties>
</file>