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C2C-4731-4CDF-94A7-A28BF137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C33-EE4F-483A-8E94-18D86343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19885-5E82-4D5F-938E-E8C66073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E030A-B0EC-4BBB-B492-0803F241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E25F2-3377-4D2A-9AFA-F2ED7A59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2418B-DAD1-4AAF-BA87-E98ADC51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84391-7CBD-45DB-9C97-BD4026E7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6F3EE-98CA-4D99-9BD3-CCE01D61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05399-46A9-4AA6-84BA-DD047A59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91E5A-4120-4176-BB21-36503BEB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2DE73-A1D0-4664-8B9B-86F4D788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2B209-C87F-4E3A-9B7B-11694AF2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D64-DFD0-4451-8644-5BA8D839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D72EA-0AC0-4B6B-A33B-E703A1A1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10B1F-7DBD-4E99-BF99-639FB503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0606E-C4AC-471B-AD0B-B5F242C5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AAE88-37A7-4C9A-9431-D8D3AB4F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F16AD-E4BA-49E7-9D98-62CCC8C4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197CA-E34B-4A64-85BF-C3CD0C7C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B430B-73A4-4B4B-BE6D-553A270D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B9601-BFFD-4DD4-BB50-03CAA36D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182FF-F457-481F-9298-1A53B3CC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37319-780D-457D-9B05-9F114CD4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F41-91B0-4C8B-AA0D-E14D330E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B96B7-46D4-4614-8012-9786E54C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3FB3E-071B-4F3D-9255-FDA96BE5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40863-1649-4481-AA13-F279854C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0AD40-59D6-46C1-B086-8088E6C6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DCED5-3CB6-4DCB-A3E3-277CA0B3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753EB-FF01-4945-83CA-C6192D8F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B1199-86A5-4A16-B715-A72B854F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B4E92-A0C7-4B1D-9435-1D80B7EA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937E2-B94E-4BF6-A32E-FA4095BD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84D05-6666-45F5-92A4-D89F8716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14AA-55EA-4220-8FF0-DCEFEE43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55D6D-5F4C-4D37-9EB9-60423A51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9D8FE-0E01-41E2-A34E-99B443B2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309FF-7C61-48F8-8AED-58A31CF5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C30FC-886E-4835-ACBC-94041CB3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A4E94-957D-45F9-B5E4-E4340972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9327C-CE65-4069-950C-776156A3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DEA3D-EB5E-418D-BFF2-2444E6FB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F5CD7-68C6-4FF6-8D63-F6629886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87319-0BD1-409A-8442-BD492E77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49C48-8A90-40CE-B9CC-DFAA58D7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41C0-E7BF-4968-A247-6C25BC5C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5A024-1118-43BA-AA88-0FC05377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ABEAF-E4F4-4BD7-97BC-879FC0EF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AA102-B2B3-4D44-850C-76554F24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AFAEB-BD18-4428-9620-6EDBB75A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C4912-9702-4BFB-8086-7485957F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DA51-84E9-45D5-AD6C-316486C6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30E0-1594-4C19-9F24-35F8EC75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D862-3E66-4B28-8FE0-04704629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3FA8-4300-4216-A7ED-A7E6BB41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5B23-3CCB-40B1-BFE0-ECDC0E27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CB7-7CB4-43E9-BFDB-134A5A65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CD40-A6D1-414F-878B-CC6D15D8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A2C6-70D8-4325-88F5-FDA938C8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CE35-E08F-42B6-883D-E5031170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094E-0C3C-44C8-973B-98959A5B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ECA1-5F75-47F2-AE05-88E8B267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CFBC3-B92C-4D2D-9755-02E7E976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6597-548F-4E77-863D-6309FBB0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C72D-EACB-4588-A181-783B20A2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AECFC-3EE9-4226-B273-47FD8C00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45068-1C2D-4DD4-BD10-C8923E23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91C-47BB-4B82-88A7-DAD7E32B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AC23-19ED-47C9-9348-229E809F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6A01-3134-41EA-A4C4-DBD7A2E7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5688-1AF0-4611-8DF3-17E4C744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F18BE-4585-46E7-9BE4-0022F631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72CA-52FA-4218-A86E-1683CEB9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91EA1-E028-48CE-A21B-50C40AE9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E7D71-B61D-480F-9E4C-8B0BEC87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013DF-B387-4E9D-92F2-463D297B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9F4A-4A85-4616-B856-562E9350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BF3A6-A73A-412C-9FEB-E7ADE46B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279-0885-48A8-9F9E-9402432F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159B7-CDF7-464B-8064-AA4DD2C1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C8A7A-7AE3-4428-93E9-5F67A255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E715-F666-45F4-ACB9-D12B1E7E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5043-AB55-466B-886F-6F41E81A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17716-2447-4A6D-946A-0144CF72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4EA09-70BA-450A-8EE1-71DD1B42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A5D99-389B-41FD-BFAA-C31E74CC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11693-634C-46DA-BACE-BC7F1B77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9EED-4462-4293-B245-69DC2339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FE6DE-B9C6-4AB8-968D-7579A10D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F78-925C-4D3F-8D6A-FCDB060F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C17EC-FB6F-4A89-81E7-1B44BA5A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A5A23-0BF4-4B8D-87AA-F4CB7B49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690C5-4020-4187-8835-6908579A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4D14A-7322-4EFD-B52F-12920A05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B4E50-63EB-495F-A44D-5CE05E57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64EF7-3018-4A92-B6AD-0C1A0E1E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F826B-49A7-4631-B632-8C427173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BB177-3A6D-40DE-9C46-F537A7DA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BD8FB-A86C-49A7-B8F3-E7D4DBBE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A8F08-24F5-4803-B900-98FDD6D1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E8B-8033-48C4-BD07-4E37EE85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50064-1B72-4622-B0AF-727407AB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2E3F6-F707-4C19-8235-B199E00A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4EA40-9452-4936-9541-9803F8A6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4D3A4-7090-41F1-A372-DB314DBF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61A8D-1A7A-4B4D-987E-5882CDE1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600D9-F006-468E-A09D-09C59997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40782-42FB-422E-8F5F-9A857608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FD1C9-675F-4E4D-9065-880E1192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1D8A1-ABB9-4B31-80B4-87A70467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CDD06-FAFA-4655-AC8A-3F9043D8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5C2-8D77-4700-83D8-60E8FA54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6BEB-F082-43D8-8FE5-ABEBD583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57751-4C13-41AA-B152-C32A8441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DA733-EFF9-441E-8A05-18FFDDA9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07D89-C060-4176-BFCE-22A24EF7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BD7C2-65E3-4153-A482-BBFA3614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EAB52-04B6-4D0C-93B2-06444C73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EEFE2-CBAE-40E8-A183-F7003861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E16E0-821E-47A7-A821-B5CBEE16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83BFC-57B1-4266-8C9C-B9EFE8D6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8B365-70F6-4FB2-B5B4-182DC159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C15-C295-4D06-8AF6-835072A1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E18C1-AC66-4F3F-AA5A-07BCCEF2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24101-236A-4A60-A495-1E0719B6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69A64-C4F8-487C-B3CF-F3A1C253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15D45-F5B8-4E04-A87B-AF2509C8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57115-93B6-4C52-83D4-42DAC214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CDC57-DF41-4309-B6CD-2E43556E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96733-DC22-4F64-902E-323E404E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0BA18-23B1-4A09-A3F6-A5EDCDFF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26E91-E894-49BC-8B75-3B09A314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E479A-429A-476B-B7FB-6C116A02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681-FF60-47BA-91A9-89E768DD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AFC4E-3439-49D5-8625-A8947703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FBA34-564B-4D00-A32F-4248F239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5FDA1-CB2A-4779-95BD-9E0FBC1B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D5102-5787-4054-B8AC-B41949EA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394F2-461C-4F25-B8A6-2EC35189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AD24D-6FD8-4509-9F67-E7DF03DB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DE411-FF3B-4944-98C9-B977CE85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71682-F9B2-44AF-8F3D-2D437D8A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0436C-940B-47AD-9B31-9494FCBB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1691A-E7C3-4A19-A328-EF70BFFF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E4A9-7EC8-4C9B-AEE2-FE87280132D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6C7E-6B0C-4159-A16B-70757566843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5A08-E22F-48EB-BEED-51DB5D48EBF3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868D-24F3-4EC3-A16D-FA609C15D821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3AB8-7391-4033-A566-4018837AD84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E045-653B-45A6-95CB-EBAF1DFF0D7C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991D-31F0-482A-A2CA-A423C36B5F61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42EA-204F-4727-B23F-B32740EE15A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C669-E763-4523-BF1E-3BFC1322CB0B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E5EA-D898-447C-832C-3B029210FDE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A626-2647-40BE-BA87-B2A7457A4F9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E475-C6D8-4A15-A460-E97899E2D8A8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&amp;esrc=s&amp;frm=1&amp;source=images&amp;cd=&amp;cad=rja&amp;docid=x3O5PxcZ9wWfUM&amp;tbnid=JHO74gw_xqNUDM:&amp;ved=0CAUQjRw&amp;url=http%3A%2F%2Fwww.cauchy.pl%2Fmatura%2Fp_2006_11_p%2F5%2Findex.php&amp;ei=-qCaUcP2JcfnswbJ84GoBg&amp;bvm=bv.46751780,d.Yms&amp;psig=AFQjCNFssyByw83TLltqo_bdrGcZk9xnLA&amp;ust=1369174614896921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4055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Symetrie w układzie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rostokąt 4"/>
          <p:cNvSpPr/>
          <p:nvPr/>
        </p:nvSpPr>
        <p:spPr>
          <a:xfrm>
            <a:off x="1187280" y="404640"/>
            <a:ext cx="756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y mają równe drugie współrzędne, a pierwsze współrzędne 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i P’=(-x,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y, to punktem symetrycznym do niego względem osi y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początku układu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Prostokąt 2"/>
          <p:cNvSpPr/>
          <p:nvPr/>
        </p:nvSpPr>
        <p:spPr>
          <a:xfrm>
            <a:off x="1042920" y="3213000"/>
            <a:ext cx="7561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początku układu współrzędny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29" name="Elipsa 24"/>
          <p:cNvSpPr/>
          <p:nvPr/>
        </p:nvSpPr>
        <p:spPr>
          <a:xfrm>
            <a:off x="4454640" y="1052640"/>
            <a:ext cx="46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25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lipsa 26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27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Elipsa 28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Elipsa 29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Łącznik prosty 30"/>
          <p:cNvSpPr/>
          <p:nvPr/>
        </p:nvSpPr>
        <p:spPr>
          <a:xfrm>
            <a:off x="4211640" y="1089000"/>
            <a:ext cx="550800" cy="2664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Elipsa 31"/>
          <p:cNvSpPr/>
          <p:nvPr/>
        </p:nvSpPr>
        <p:spPr>
          <a:xfrm>
            <a:off x="471636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Łącznik prosty 32"/>
          <p:cNvSpPr/>
          <p:nvPr/>
        </p:nvSpPr>
        <p:spPr>
          <a:xfrm flipH="1">
            <a:off x="3924000" y="1628640"/>
            <a:ext cx="1103400" cy="1513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Elipsa 33"/>
          <p:cNvSpPr/>
          <p:nvPr/>
        </p:nvSpPr>
        <p:spPr>
          <a:xfrm>
            <a:off x="392436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Łącznik prosty 34"/>
          <p:cNvSpPr/>
          <p:nvPr/>
        </p:nvSpPr>
        <p:spPr>
          <a:xfrm flipH="1" flipV="1">
            <a:off x="3459240" y="1884240"/>
            <a:ext cx="2031840" cy="1044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Elipsa 35"/>
          <p:cNvSpPr/>
          <p:nvPr/>
        </p:nvSpPr>
        <p:spPr>
          <a:xfrm>
            <a:off x="3419640" y="1844640"/>
            <a:ext cx="4572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Łącznik prosty 36"/>
          <p:cNvSpPr/>
          <p:nvPr/>
        </p:nvSpPr>
        <p:spPr>
          <a:xfrm flipV="1">
            <a:off x="3708360" y="1341000"/>
            <a:ext cx="1584360" cy="2158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Elipsa 37"/>
          <p:cNvSpPr/>
          <p:nvPr/>
        </p:nvSpPr>
        <p:spPr>
          <a:xfrm>
            <a:off x="5292720" y="1268280"/>
            <a:ext cx="442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Elipsa 38"/>
          <p:cNvSpPr/>
          <p:nvPr/>
        </p:nvSpPr>
        <p:spPr>
          <a:xfrm flipH="1">
            <a:off x="291636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Łącznik prosty 39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ole tekstowe 40"/>
          <p:cNvSpPr/>
          <p:nvPr/>
        </p:nvSpPr>
        <p:spPr>
          <a:xfrm>
            <a:off x="541800" y="4437000"/>
            <a:ext cx="759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początku układu współrzęd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ą punkty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Łącznik prosty 55"/>
          <p:cNvSpPr/>
          <p:nvPr/>
        </p:nvSpPr>
        <p:spPr>
          <a:xfrm flipH="1" flipV="1">
            <a:off x="4460400" y="1091880"/>
            <a:ext cx="39960" cy="2624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Elipsa 59"/>
          <p:cNvSpPr/>
          <p:nvPr/>
        </p:nvSpPr>
        <p:spPr>
          <a:xfrm>
            <a:off x="4454640" y="371628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rostokąt 63" descr=""/>
          <p:cNvPicPr/>
          <p:nvPr/>
        </p:nvPicPr>
        <p:blipFill>
          <a:blip r:embed="rId2"/>
          <a:stretch/>
        </p:blipFill>
        <p:spPr>
          <a:xfrm>
            <a:off x="2249640" y="4979880"/>
            <a:ext cx="4627440" cy="2067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"/>
          <p:cNvSpPr/>
          <p:nvPr/>
        </p:nvSpPr>
        <p:spPr>
          <a:xfrm>
            <a:off x="999720" y="356400"/>
            <a:ext cx="7326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spółrzędne punktów symetrycznych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zględem początku układu współrzędnych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 P’=(-x,-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2314"/>
                </a:solidFill>
                <a:latin typeface="Gill Sans MT"/>
              </a:rPr>
              <a:t>Pomysły zadań i ćwiczeń zostały zaczerpnięte z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Prostokąt 2"/>
          <p:cNvSpPr/>
          <p:nvPr/>
        </p:nvSpPr>
        <p:spPr>
          <a:xfrm>
            <a:off x="1042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matematyka.opracowania.pl/gimnazjum/symetrie_w_uk%C5%82adzie_wsp%C3%B3%C5%82rz%C4%99dnyc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rostokąt 3"/>
          <p:cNvSpPr/>
          <p:nvPr/>
        </p:nvSpPr>
        <p:spPr>
          <a:xfrm>
            <a:off x="1042920" y="2276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mana6.pl/tablice_matematyczne/liceum/geometria_analityczna/62-uklad_wspolrze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rostokąt 4"/>
          <p:cNvSpPr/>
          <p:nvPr/>
        </p:nvSpPr>
        <p:spPr>
          <a:xfrm>
            <a:off x="1024200" y="2997360"/>
            <a:ext cx="45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h.edu.pl/uklad-kartezja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rostokąt 5"/>
          <p:cNvSpPr/>
          <p:nvPr/>
        </p:nvSpPr>
        <p:spPr>
          <a:xfrm>
            <a:off x="1008000" y="3357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iki.wolnepodreczniki.pl/Matematyka:Gimnazjum/Kartezja%C5%84ski_uk%C5%82ad_wsp%C3%B3%C5%82rz%C4%99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572314"/>
                </a:solidFill>
                <a:latin typeface="Gill Sans MT"/>
              </a:rPr>
              <a:t>Prostokątny układ współrzędny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ole tekstowe 9"/>
          <p:cNvSpPr/>
          <p:nvPr/>
        </p:nvSpPr>
        <p:spPr>
          <a:xfrm>
            <a:off x="1042920" y="36464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Ćwiczen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kreśl położenie Multik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10"/>
          <p:cNvSpPr/>
          <p:nvPr/>
        </p:nvSpPr>
        <p:spPr>
          <a:xfrm>
            <a:off x="1042920" y="14130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czego służ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układ współrzędny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C:\Users\temp\Desktop\PPWK_Wloclawek_A4.jpg"/>
          <p:cNvPicPr/>
          <p:nvPr/>
        </p:nvPicPr>
        <p:blipFill>
          <a:blip r:embed="rId1"/>
          <a:stretch/>
        </p:blipFill>
        <p:spPr>
          <a:xfrm>
            <a:off x="4427640" y="1284120"/>
            <a:ext cx="4427280" cy="5384880"/>
          </a:xfrm>
          <a:prstGeom prst="rect">
            <a:avLst/>
          </a:prstGeom>
          <a:ln w="0">
            <a:noFill/>
          </a:ln>
        </p:spPr>
      </p:pic>
      <p:sp>
        <p:nvSpPr>
          <p:cNvPr id="563" name="pole tekstowe 5"/>
          <p:cNvSpPr/>
          <p:nvPr/>
        </p:nvSpPr>
        <p:spPr>
          <a:xfrm>
            <a:off x="1698480" y="551664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dpowied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3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8"/>
          <p:cNvSpPr/>
          <p:nvPr/>
        </p:nvSpPr>
        <p:spPr>
          <a:xfrm>
            <a:off x="890280" y="256716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kł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Tesco leży w kwadracie 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rostokąt 2"/>
          <p:cNvSpPr/>
          <p:nvPr/>
        </p:nvSpPr>
        <p:spPr>
          <a:xfrm>
            <a:off x="104292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określenia położenia punktu na płaszczyźnie używamy prostokątnego układu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9"/>
          <p:cNvSpPr/>
          <p:nvPr/>
        </p:nvSpPr>
        <p:spPr>
          <a:xfrm>
            <a:off x="1042920" y="98100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ostokątny układ współrzędnych tworzą dwie prostopadłe osie liczbowe, które dzielą płaszczyznę na cztery ćwiartki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 przecięcia się osi nazywamy początkiem układu współrzę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"/>
          <p:cNvPicPr/>
          <p:nvPr/>
        </p:nvPicPr>
        <p:blipFill>
          <a:blip r:embed="rId4"/>
          <a:stretch/>
        </p:blipFill>
        <p:spPr>
          <a:xfrm>
            <a:off x="3852720" y="981000"/>
            <a:ext cx="4748400" cy="44085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8"/>
          <p:cNvSpPr/>
          <p:nvPr/>
        </p:nvSpPr>
        <p:spPr>
          <a:xfrm>
            <a:off x="1150920" y="5292000"/>
            <a:ext cx="77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ierwszą liczbą  jest  współrzędna x, którą odczytujemy na osi poziomej x (oś odcięty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rugą liczbą jest współrzędna y, którą odczytujemy na osi pionowej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ś rzędnych)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rostokąt 13"/>
          <p:cNvSpPr/>
          <p:nvPr/>
        </p:nvSpPr>
        <p:spPr>
          <a:xfrm>
            <a:off x="1042920" y="375120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ołożenie punktu w układzie współrzędnych określamy za pomocą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pl-PL" sz="1800" spc="-1" strike="noStrike">
                <a:solidFill>
                  <a:srgbClr val="000000"/>
                </a:solidFill>
                <a:latin typeface="Gill Sans MT"/>
              </a:rPr>
              <a:t>P=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http://www.matmana6.pl/zdjecia/szkola_srednia/geometria_analityczna/uklad_wspolrzednych_6.png"/>
          <p:cNvPicPr/>
          <p:nvPr/>
        </p:nvPicPr>
        <p:blipFill>
          <a:blip r:embed="rId1"/>
          <a:stretch/>
        </p:blipFill>
        <p:spPr>
          <a:xfrm>
            <a:off x="2914560" y="262080"/>
            <a:ext cx="3962520" cy="3273120"/>
          </a:xfrm>
          <a:prstGeom prst="rect">
            <a:avLst/>
          </a:prstGeom>
          <a:ln w="0">
            <a:noFill/>
          </a:ln>
        </p:spPr>
      </p:pic>
      <p:sp>
        <p:nvSpPr>
          <p:cNvPr id="571" name="Prostokąt 4"/>
          <p:cNvSpPr/>
          <p:nvPr/>
        </p:nvSpPr>
        <p:spPr>
          <a:xfrm>
            <a:off x="1042920" y="36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pasuj do punktów ich współrzę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B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5"/>
          <p:cNvSpPr/>
          <p:nvPr/>
        </p:nvSpPr>
        <p:spPr>
          <a:xfrm>
            <a:off x="992520" y="189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Ćwiczen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Grupa 5" descr=""/>
          <p:cNvPicPr/>
          <p:nvPr/>
        </p:nvPicPr>
        <p:blipFill>
          <a:blip r:embed="rId2"/>
          <a:stretch/>
        </p:blipFill>
        <p:spPr>
          <a:xfrm>
            <a:off x="184140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4" name="Grupa 8" descr=""/>
          <p:cNvPicPr/>
          <p:nvPr/>
        </p:nvPicPr>
        <p:blipFill>
          <a:blip r:embed="rId3"/>
          <a:stretch/>
        </p:blipFill>
        <p:spPr>
          <a:xfrm>
            <a:off x="184140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75" name="Grupa 14" descr=""/>
          <p:cNvPicPr/>
          <p:nvPr/>
        </p:nvPicPr>
        <p:blipFill>
          <a:blip r:embed="rId4"/>
          <a:stretch/>
        </p:blipFill>
        <p:spPr>
          <a:xfrm>
            <a:off x="1841400" y="421812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6" name="Grupa 17" descr=""/>
          <p:cNvPicPr/>
          <p:nvPr/>
        </p:nvPicPr>
        <p:blipFill>
          <a:blip r:embed="rId5"/>
          <a:stretch/>
        </p:blipFill>
        <p:spPr>
          <a:xfrm>
            <a:off x="42670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7" name="Grupa 20" descr=""/>
          <p:cNvPicPr/>
          <p:nvPr/>
        </p:nvPicPr>
        <p:blipFill>
          <a:blip r:embed="rId6"/>
          <a:stretch/>
        </p:blipFill>
        <p:spPr>
          <a:xfrm>
            <a:off x="4290840" y="4870440"/>
            <a:ext cx="1665360" cy="811080"/>
          </a:xfrm>
          <a:prstGeom prst="rect">
            <a:avLst/>
          </a:prstGeom>
          <a:ln w="0">
            <a:noFill/>
          </a:ln>
        </p:spPr>
      </p:pic>
      <p:pic>
        <p:nvPicPr>
          <p:cNvPr id="578" name="Grupa 23" descr=""/>
          <p:cNvPicPr/>
          <p:nvPr/>
        </p:nvPicPr>
        <p:blipFill>
          <a:blip r:embed="rId7"/>
          <a:stretch/>
        </p:blipFill>
        <p:spPr>
          <a:xfrm>
            <a:off x="4290840" y="4218120"/>
            <a:ext cx="1665360" cy="817560"/>
          </a:xfrm>
          <a:prstGeom prst="rect">
            <a:avLst/>
          </a:prstGeom>
          <a:ln w="0">
            <a:noFill/>
          </a:ln>
        </p:spPr>
      </p:pic>
      <p:pic>
        <p:nvPicPr>
          <p:cNvPr id="579" name="Grupa 26" descr=""/>
          <p:cNvPicPr/>
          <p:nvPr/>
        </p:nvPicPr>
        <p:blipFill>
          <a:blip r:embed="rId8"/>
          <a:stretch/>
        </p:blipFill>
        <p:spPr>
          <a:xfrm>
            <a:off x="66628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80" name="Grupa 29" descr=""/>
          <p:cNvPicPr/>
          <p:nvPr/>
        </p:nvPicPr>
        <p:blipFill>
          <a:blip r:embed="rId9"/>
          <a:stretch/>
        </p:blipFill>
        <p:spPr>
          <a:xfrm>
            <a:off x="666288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81" name="Grupa 32" descr=""/>
          <p:cNvPicPr/>
          <p:nvPr/>
        </p:nvPicPr>
        <p:blipFill>
          <a:blip r:embed="rId10"/>
          <a:stretch/>
        </p:blipFill>
        <p:spPr>
          <a:xfrm>
            <a:off x="6662880" y="4218120"/>
            <a:ext cx="1670040" cy="817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rostokąt 6"/>
          <p:cNvSpPr/>
          <p:nvPr/>
        </p:nvSpPr>
        <p:spPr>
          <a:xfrm>
            <a:off x="1041480" y="2622600"/>
            <a:ext cx="76341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osi 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http://www.cauchy.pl/matura/p_2006_11_p/5/uklad_wspolrzednyc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pic>
        <p:nvPicPr>
          <p:cNvPr id="585" name="Prostokąt 7" descr=""/>
          <p:cNvPicPr/>
          <p:nvPr/>
        </p:nvPicPr>
        <p:blipFill>
          <a:blip r:embed="rId3"/>
          <a:stretch/>
        </p:blipFill>
        <p:spPr>
          <a:xfrm>
            <a:off x="2828880" y="4748040"/>
            <a:ext cx="4619520" cy="2067120"/>
          </a:xfrm>
          <a:prstGeom prst="rect">
            <a:avLst/>
          </a:prstGeom>
          <a:ln w="0">
            <a:noFill/>
          </a:ln>
        </p:spPr>
      </p:pic>
      <p:sp>
        <p:nvSpPr>
          <p:cNvPr id="586" name="Elipsa 10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lipsa 11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lipsa 12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lipsa 13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Elipsa 14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lipsa 15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Łącznik prosty 17"/>
          <p:cNvSpPr/>
          <p:nvPr/>
        </p:nvSpPr>
        <p:spPr>
          <a:xfrm>
            <a:off x="4492800" y="1114560"/>
            <a:ext cx="7920" cy="2601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Elipsa 18"/>
          <p:cNvSpPr/>
          <p:nvPr/>
        </p:nvSpPr>
        <p:spPr>
          <a:xfrm>
            <a:off x="4454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Łącznik prosty 20"/>
          <p:cNvSpPr/>
          <p:nvPr/>
        </p:nvSpPr>
        <p:spPr>
          <a:xfrm flipH="1">
            <a:off x="4211640" y="1063800"/>
            <a:ext cx="6480" cy="26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Elipsa 21"/>
          <p:cNvSpPr/>
          <p:nvPr/>
        </p:nvSpPr>
        <p:spPr>
          <a:xfrm>
            <a:off x="4211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Łącznik prosty 23"/>
          <p:cNvSpPr/>
          <p:nvPr/>
        </p:nvSpPr>
        <p:spPr>
          <a:xfrm flipH="1">
            <a:off x="5003640" y="1617840"/>
            <a:ext cx="6480" cy="1595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Elipsa 24"/>
          <p:cNvSpPr/>
          <p:nvPr/>
        </p:nvSpPr>
        <p:spPr>
          <a:xfrm>
            <a:off x="500364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Łącznik prosty 30"/>
          <p:cNvSpPr/>
          <p:nvPr/>
        </p:nvSpPr>
        <p:spPr>
          <a:xfrm flipV="1">
            <a:off x="5573880" y="1844640"/>
            <a:ext cx="6120" cy="109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ipsa 33"/>
          <p:cNvSpPr/>
          <p:nvPr/>
        </p:nvSpPr>
        <p:spPr>
          <a:xfrm>
            <a:off x="5533920" y="184464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Łącznik prosty 35"/>
          <p:cNvSpPr/>
          <p:nvPr/>
        </p:nvSpPr>
        <p:spPr>
          <a:xfrm flipV="1">
            <a:off x="3700440" y="1341360"/>
            <a:ext cx="7920" cy="209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36"/>
          <p:cNvSpPr/>
          <p:nvPr/>
        </p:nvSpPr>
        <p:spPr>
          <a:xfrm>
            <a:off x="3662280" y="1268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rostokąt 37"/>
          <p:cNvSpPr/>
          <p:nvPr/>
        </p:nvSpPr>
        <p:spPr>
          <a:xfrm>
            <a:off x="1246680" y="443880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x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rostokąt 3"/>
          <p:cNvSpPr/>
          <p:nvPr/>
        </p:nvSpPr>
        <p:spPr>
          <a:xfrm>
            <a:off x="1116000" y="189000"/>
            <a:ext cx="7128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Gill Sans MT"/>
              </a:rPr>
              <a:t>Uwag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x mają równe pierwsze współrzędne, a drugie współrzędne są liczbami przeciwnymi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P’=(x,-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x, to punktem symetrycznym do niego względem osi x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772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3900"/>
            </a:b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względem osi 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rostokąt 2"/>
          <p:cNvSpPr/>
          <p:nvPr/>
        </p:nvSpPr>
        <p:spPr>
          <a:xfrm>
            <a:off x="1403280" y="2921040"/>
            <a:ext cx="7416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danie 2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07" name="Elipsa 5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lipsa 6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lipsa 7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lipsa 8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lipsa 9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Elipsa 10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Łącznik prosty 13"/>
          <p:cNvSpPr/>
          <p:nvPr/>
        </p:nvSpPr>
        <p:spPr>
          <a:xfrm>
            <a:off x="4211640" y="1089000"/>
            <a:ext cx="550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14"/>
          <p:cNvSpPr/>
          <p:nvPr/>
        </p:nvSpPr>
        <p:spPr>
          <a:xfrm>
            <a:off x="4716360" y="1052640"/>
            <a:ext cx="46080" cy="7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Łącznik prosty 15"/>
          <p:cNvSpPr/>
          <p:nvPr/>
        </p:nvSpPr>
        <p:spPr>
          <a:xfrm flipH="1">
            <a:off x="3995640" y="1617840"/>
            <a:ext cx="1014480" cy="1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lipsa 16"/>
          <p:cNvSpPr/>
          <p:nvPr/>
        </p:nvSpPr>
        <p:spPr>
          <a:xfrm>
            <a:off x="3924360" y="155736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Łącznik prosty 17"/>
          <p:cNvSpPr/>
          <p:nvPr/>
        </p:nvSpPr>
        <p:spPr>
          <a:xfrm flipH="1">
            <a:off x="3425400" y="2935440"/>
            <a:ext cx="2148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Elipsa 18"/>
          <p:cNvSpPr/>
          <p:nvPr/>
        </p:nvSpPr>
        <p:spPr>
          <a:xfrm>
            <a:off x="3419640" y="2924280"/>
            <a:ext cx="4572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Łącznik prosty 19"/>
          <p:cNvSpPr/>
          <p:nvPr/>
        </p:nvSpPr>
        <p:spPr>
          <a:xfrm>
            <a:off x="3708360" y="3465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lipsa 20"/>
          <p:cNvSpPr/>
          <p:nvPr/>
        </p:nvSpPr>
        <p:spPr>
          <a:xfrm>
            <a:off x="5219640" y="342900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Elipsa 29"/>
          <p:cNvSpPr/>
          <p:nvPr/>
        </p:nvSpPr>
        <p:spPr>
          <a:xfrm>
            <a:off x="287028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Łącznik prosty 30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rostokąt 33"/>
          <p:cNvSpPr/>
          <p:nvPr/>
        </p:nvSpPr>
        <p:spPr>
          <a:xfrm>
            <a:off x="1116000" y="43671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y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rostokąt 34" descr=""/>
          <p:cNvPicPr/>
          <p:nvPr/>
        </p:nvPicPr>
        <p:blipFill>
          <a:blip r:embed="rId2"/>
          <a:stretch/>
        </p:blipFill>
        <p:spPr>
          <a:xfrm>
            <a:off x="2073240" y="4681440"/>
            <a:ext cx="4619520" cy="2060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8:39:31Z</dcterms:created>
  <dc:creator>temp</dc:creator>
  <dc:description/>
  <dc:language>en-US</dc:language>
  <cp:lastModifiedBy>Ania</cp:lastModifiedBy>
  <dcterms:modified xsi:type="dcterms:W3CDTF">2013-05-27T20:44:52Z</dcterms:modified>
  <cp:revision>58</cp:revision>
  <dc:subject/>
  <dc:title>Symetrie w układzie współrzędnych</dc:title>
</cp:coreProperties>
</file>