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B5A-3DB3-4543-81EA-61B2854B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328-C7C6-4DCF-818B-7C732BB1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DBA-1883-4527-919E-38B8C7FA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FC3-99BF-48E8-815B-AAC3C21C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97E40-5D08-4FFF-AF3A-6B39678A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07655-C0C2-4B43-9504-02B3DAB2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775F3-D48D-467F-BCC0-F3D6DD06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660D7-B144-4951-8EB7-54BC6742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90C91-6E76-435B-8F18-374D0528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E89B5-D690-45A3-A285-5EEC59BF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EF891-6A95-4E8A-86CA-4026F601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AB4-314F-442A-8C03-90BA7A21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F01DD-3D18-4C71-A03D-340655F2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89BE2-CF0C-44A5-A439-14180DD6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99448-946B-4C0B-87F1-7E189F6F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14ED9-D38F-492C-9C83-0F3619AF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48333-70A7-43A4-87D1-4AFE1410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590-6541-47E2-B41D-B87CBDBC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A7F-8F20-49F6-AFCD-DBE8A585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F1A-F724-4B58-8EC6-42B962F0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9A1-B138-4B57-8435-EADA0FF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A52-D2BD-4B87-BBA2-04AB6249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104-F355-4F93-94C6-F37DB3A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F78-BE14-45CB-A661-321C27D5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CBE4-8EF3-4237-8575-F1CE28C8B0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005C-4C14-43C4-A797-5833C5E9C4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Obliczenia  na  liczbach  wymiernych  do  rozwiązywania  problemów   w kontekście   praktycznym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44193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Warszawie (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jest godzina 11:00 czasu słonecznego. Oblicz czas słoneczny w tym samym momencie w Moskwie (3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1760" y="32774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0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62520"/>
            <a:ext cx="7620120" cy="10666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ługość geograficzna obu miejscowości jest pod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nawiasach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ykonujemy rysunek pomocnicz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5105160"/>
            <a:ext cx="7162560" cy="685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Moskwie jest godzina  12.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219320"/>
            <a:ext cx="5263920" cy="3948120"/>
            <a:chOff x="685800" y="1219320"/>
            <a:chExt cx="5263920" cy="3948120"/>
          </a:xfrm>
        </p:grpSpPr>
        <p:sp>
          <p:nvSpPr>
            <p:cNvPr id="167" name=""/>
            <p:cNvSpPr/>
            <p:nvPr/>
          </p:nvSpPr>
          <p:spPr>
            <a:xfrm>
              <a:off x="685800" y="1219320"/>
              <a:ext cx="5263920" cy="3948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789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631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508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8120" y="4436280"/>
              <a:ext cx="4093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6600" y="1803960"/>
              <a:ext cx="4093920" cy="438480"/>
            </a:xfrm>
            <a:prstGeom prst="rect">
              <a:avLst/>
            </a:prstGeom>
            <a:solidFill>
              <a:srgbClr val="46341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  21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                   37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6600" y="2973960"/>
              <a:ext cx="7308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3920" y="3851280"/>
              <a:ext cx="2778120" cy="438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rszawa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skw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9920" y="2209680"/>
            <a:ext cx="2819160" cy="1981440"/>
          </a:xfrm>
          <a:prstGeom prst="rect">
            <a:avLst/>
          </a:prstGeom>
          <a:solidFill>
            <a:srgbClr val="00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4min = 64minut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h i 4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ematyka w prakt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irc_mi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2781360" cy="3886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 litr benzyny dorzuca do atmosfery 2,34 kg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dwutlenku węgla). Ile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w ciągu tygodnia dorzuci do atmosfery kierowca, który przez pięć dni w tygodniu dojeżdża do pracy samochodem, pokonując trasę 50 km dziennie przy średnim zużyciu paliwa 14 litrów na 100 k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19884000">
            <a:off x="6400440" y="411444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1905120" cy="18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litrów na 10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litrów na 5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litrów paliwa spali w ciągu 5 d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litr dorzuca 2,34 kg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litrów dorzuci do atmosfe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x 2,34 kg = 81,9 kg 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257800"/>
            <a:ext cx="8382240" cy="510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z kierowca dorzuci do atmosfery około 82 k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20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 Kowalski ma dokonać opłaty za mieszkanie w kwocie 256,54 zł, za telefon 97,76 zł oraz energię elektryczną 56,20 zł. Ma do dyspozycji 500 zł. Czy wystarczy mu pieniędzy na te opłaty? Jeśli tak, to ile otrzyma resz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2590920" cy="1729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936360" cy="1114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307280" y="4343400"/>
            <a:ext cx="160164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752480"/>
            <a:ext cx="152388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,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6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752480"/>
            <a:ext cx="25905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 &lt;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343400"/>
            <a:ext cx="7543800" cy="1143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powied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 te opłaty wystarczy je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iędzy, otrzyma nawet 89,50 zł. resz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819520"/>
            <a:ext cx="3543120" cy="10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 - 410,50 = 89,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043760" y="152280"/>
            <a:ext cx="19764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czas pobytu nad jeziorem Tomek wypożyczy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jak w wypożyczalni A, a Maciek – w wypożyczalni 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tóra z ofert jest korzystniejsza, jeśli chce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pożyczyć kajak na 2 godziny, a która – jeśli n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z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86200"/>
            <a:ext cx="2438640" cy="1676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3886200"/>
            <a:ext cx="2438640" cy="1676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3911760"/>
        </p:xfrm>
        <a:graphic>
          <a:graphicData uri="http://schemas.openxmlformats.org/drawingml/2006/table">
            <a:tbl>
              <a:tblPr/>
              <a:tblGrid>
                <a:gridCol w="914400"/>
                <a:gridCol w="3581280"/>
                <a:gridCol w="3733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zł+2x3=15zł+6zł=21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zł+2x4=12zł+8zł=2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5zł+5x3=15zł+15zł=3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zł+5x4=12+20=32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762120" y="5257800"/>
            <a:ext cx="7467480" cy="8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śli chcemy wypożyczyć kajak na 2h korzystniejsza jest oferta wypożyczalni B, jeśli na 5h oferta wypożyczalni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259092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 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228600"/>
            <a:ext cx="2438280" cy="12952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 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wa kupiła dwie puszki groszku, każda po 3,50 zł za puszkę, oraz 3 paczki kawy. Za wszystko zapłaciła 67,60 zł. Ile kosztowała paczka kaw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343400" y="3276720"/>
            <a:ext cx="1371600" cy="1871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137160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Zadania, które tutaj przedstawiam mają na celu pokazanie  jak ważna jest umiejętność wykorzystania wiedzy z matematyki w różnych sytuacjach praktycznych, wcale niewyszukanych, ale takich zwyczajnych, z którymi możemy spotkać się w życiu codziennym. Wiedza matematyczna nie jest oderwana od rzeczywistości, towarzyszy nam często bez względu czy mamy na to ochotę czy n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50 x 2=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7,60 - 7=60,6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,60 : 3=20,2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zka kawy kosztowała 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jdroższa naklejka w sklepie kosztuje              o 1,7 zł więcej niż najtańsza, a na zakup obu trzeba wydać 2,4 zł. Ile kosztuje najdroższa naklejka w tym sklepi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-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: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+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jdroższa naklejka w tym sklepie koszt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 - 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 : 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 + 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 dla chętny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biornik o pojemności  238 hl jest napełniany wodą z dwóch kranów.                  Z pierwszego woda wypływa z prędkością  200 l/h a z drugiego z prędkością 25 l/min   Ile czasu potrzeba na napełnienie tego zbiornik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Plik:Liczby kropla.gif"/>
          <p:cNvPicPr/>
          <p:nvPr/>
        </p:nvPicPr>
        <p:blipFill>
          <a:blip r:embed="rId1"/>
          <a:stretch/>
        </p:blipFill>
        <p:spPr>
          <a:xfrm>
            <a:off x="7162920" y="426708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Matematyka jest delikatnym kwiatem, który rośnie nie na każdej glebie i zakwita nie wiadomo kiedy i jak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                                       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(Jean Fab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5410080" y="2819520"/>
            <a:ext cx="23968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tematyka jest delikatnym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wiatem, który rośnie nie n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ażdej glebi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zakwita nie wiadomo kiedy i jak.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(Jean Fabre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66880" y="2743200"/>
            <a:ext cx="29480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ONIE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chem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sanie równań reakcji chemicznych jest kluczową umiejętnością w nauce chemii, należy znać symbole pierwiastków, wartościowości, pisać poprawnie wzory związków chemicznych oraz uzgadniać strony reakcji. Uzgadnianie stron reakcji  wiąże się  z dobieraniem  współczynników stechiometrycznych czyli cyfr dzięki, którym jedna strona równania reakcji równa się drugiej stronie równ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apisz równania reakcji chemicznych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ód + woda → wodorotlenek sodu + wodór w postaci gaz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523240"/>
            <a:ext cx="5410080" cy="130356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Na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→   NaOH +  0,5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2 Na + 2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 →  2NaOH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966120"/>
            <a:ext cx="8229600" cy="581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lenek węgla (II) + tlen → tlenek węgla (I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462920"/>
            <a:ext cx="6629400" cy="126612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CO + 0,5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2 CO +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2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fiz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ędkość, droga i gęstość to umiejętności fizyczne, które możemy zrozumieć dzięki wiadomościom nabytym               w czasie lekcji matematyk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y znamy gęstość ciała możemy oszacować jego masę, której bezpośrednio nie możemy zmierzyć. Gęstość to iloraz masy ciała m przez jego objętość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Wzór na g&amp;eogon;sto&amp;sacute;&amp;cacute;"/>
          <p:cNvPicPr/>
          <p:nvPr/>
        </p:nvPicPr>
        <p:blipFill>
          <a:blip r:embed="rId1"/>
          <a:stretch/>
        </p:blipFill>
        <p:spPr>
          <a:xfrm>
            <a:off x="3505320" y="4305240"/>
            <a:ext cx="1743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7617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ętość benzyny  wynosi około 24,3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28800" y="3429000"/>
                <a:ext cx="5029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0,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09480" y="17524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cz objętość benzyny jeżeli jej masa wynosi 17g, a gęstość 0,7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rusza się z prędkości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5 cm/s. W jakim czasie pokona on 250 c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429000"/>
            <a:ext cx="50292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cm : 12,5 cm = 20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614680" cy="17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kona tę drogę w czasie 20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licz prędkość rowerzysty, który przebył drogę 600 dm w czasie 5 minut. Wynik podaj w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657600"/>
            <a:ext cx="2133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600 dm = 6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5 min = 300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86200" y="3657600"/>
                <a:ext cx="35812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38080" y="4952880"/>
            <a:ext cx="7620120" cy="10670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erzysta jechał z prędkością  0,02 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924680" y="3581280"/>
                <a:ext cx="106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og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z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4680" y="2286000"/>
            <a:ext cx="1049400" cy="12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geograf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828800"/>
            <a:ext cx="8229600" cy="2895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ługiwanie się czasem słonecznym to umiejętność             w nauce geografii. Pełen obrót trwa w przybliżeniu              24 godziny. Oznacza to, że na obrót o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iemia potrzebuje 4 minut. Ponieważ Ziemia obraca się                            z zachodu na wschód, na zachód od miejscowości A jest godzina wcześniejsza, na wschód późniejsz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5-10T19:43:1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