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C2F5-B5DC-4E03-8145-ABE271285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0185-5352-4E34-BE54-B245B5C1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019D-2270-4556-A336-D005425ED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9A2A-9CB9-454C-A939-2259708FA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7699-DCC5-41FC-ABE2-DCA3371C1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7C7D-23C4-46E3-8933-C45F22D3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26B4-5797-4D01-BA1F-16A7C3BC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CCB9-4EF4-45F5-8D6C-3A6AC0DC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2329-1499-4A4B-96DD-29449F9D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CE7F-4AAE-438C-9E82-C0521047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BC35-2FFC-4A47-8069-0960E6AE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04C1-FEF6-4B14-90F0-79D76D5F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9EE1-36C6-44B4-9C0E-D3AF891A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445A-E01A-4FC6-8072-DDB2CC93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BA97-4D4B-4348-A21D-7F6414BD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7916-FE7B-423A-94BB-3E3B9E3B7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E1C1-D82D-4F38-9468-4DF398306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E4AA-06C6-4F63-9C35-EFD94600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D8BF-C21F-49A4-A4B4-27985654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B917-36B3-431E-AEE2-053B7C36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6D90-97B7-492D-8AAC-D2BDFC24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8D02-C27B-42C0-844F-8C9F464D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CA27-9FDE-4823-8352-9B168059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E49B-4910-4328-BDDC-B4C66528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414B-1B1A-4FD7-8BDD-00B84BFEFF1D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75BD-2251-41D2-A584-C1F3EEBA25BA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megamatma.pl/uczniowie/powtorka-z-podstawowki/ulamki/ulamki-zwykle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www.megamatma.pl/uczniowie/powtorka-z-podstawowki/ulamki/ulamki-zwykle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03280" y="1557360"/>
            <a:ext cx="5788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UŁAMKI ZWYKŁ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920" y="3500280"/>
            <a:ext cx="738648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odstawowe wiadomości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Rozszerzając lub skracając ułamek nie zmieniamy jego wartości. Dzięki tej własności operacje rozszerzania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i skracania ułamka często wykorzystujemy w działaniach na ułamkach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Każdy ułamek można rozszerzyć, ale nie każdy da się skrócić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050920" y="765000"/>
            <a:ext cx="3673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PAMIĘTAJ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9640" y="22680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73864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Są takie ułamki, których nie da się skrócić (uprościć), takie ułamki nazywamy nieskracalnymi. Ułamki są nieskracalne, wtedy gdy licznik     i mianownik nie mają takich samych dzielników większych od liczby 1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763640" y="4581360"/>
            <a:ext cx="3313080" cy="153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iekawostki historyczn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f1311"/>
                </a:solidFill>
                <a:latin typeface="Arial"/>
              </a:rPr>
              <a:t>Słowo ułamek pochodzi od wywodzącego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f1311"/>
                </a:solidFill>
                <a:latin typeface="Arial"/>
              </a:rPr>
              <a:t>się z łaciny </a:t>
            </a:r>
            <a:r>
              <a:rPr b="0" i="1" lang="pl-PL" sz="2400" spc="-1" strike="noStrike">
                <a:solidFill>
                  <a:srgbClr val="2f1311"/>
                </a:solidFill>
                <a:latin typeface="Arial"/>
              </a:rPr>
              <a:t>fractio</a:t>
            </a:r>
            <a:r>
              <a:rPr b="0" lang="pl-PL" sz="2400" spc="-1" strike="noStrike">
                <a:solidFill>
                  <a:srgbClr val="2f1311"/>
                </a:solidFill>
                <a:latin typeface="Arial"/>
              </a:rPr>
              <a:t>, przekładu z arabskiego                    </a:t>
            </a:r>
            <a:r>
              <a:rPr b="0" i="1" lang="pl-PL" sz="2400" spc="-1" strike="noStrike">
                <a:solidFill>
                  <a:srgbClr val="2f1311"/>
                </a:solidFill>
                <a:latin typeface="Arial"/>
              </a:rPr>
              <a:t>kasr</a:t>
            </a:r>
            <a:r>
              <a:rPr b="0" lang="pl-PL" sz="2400" spc="-1" strike="noStrike">
                <a:solidFill>
                  <a:srgbClr val="2f1311"/>
                </a:solidFill>
                <a:latin typeface="Arial"/>
              </a:rPr>
              <a:t> - złamany, a zatem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f1311"/>
                </a:solidFill>
                <a:latin typeface="Arial"/>
              </a:rPr>
              <a:t>ułamki to liczby złamane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f1311"/>
                </a:solidFill>
                <a:latin typeface="Arial"/>
              </a:rPr>
              <a:t>Ogólne pojęcie stosunku dwóch liczb zostało wprowadzone przez pitagorejczyków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f1311"/>
                </a:solidFill>
                <a:latin typeface="Arial"/>
              </a:rPr>
              <a:t>w VI w. p.n.e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f1311"/>
                </a:solidFill>
                <a:latin typeface="Arial"/>
              </a:rPr>
              <a:t>Poprzedzający ich Babilończycy i Egipcjanie używali jedynie ułamków  z licznikiem 1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iekawostki historyczn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f1311"/>
                </a:solidFill>
                <a:latin typeface="Arial"/>
              </a:rPr>
              <a:t>Współczesny sposób zapisu ułamków pochodzi od matematyków hinduskich, zapisywali oni licznik i mianownik, nie używając jednak kreski rozdzielającej. Dodanie kreski rozdzielającej zawdzięczamy Arabom tłumaczącym dzieła Hindusów. W Europie jako pierwszy w swoich pracach znane do dziś oznaczenie ułamków publikuje włoski matematyk Fibonacci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00240" y="237600"/>
            <a:ext cx="4254480" cy="11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Ułamki zwykłe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Ułamek zwykły to  każde wyrażenie postaci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gdzie 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jest w liczniku (nad kreską ułamkową),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jest w mianowniku (pod kreską ułamkową), liczby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i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muszą być całkowite oraz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różne od zera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3059280" y="2565360"/>
                <a:ext cx="6490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Mianownik wskazuje, na ile jednakowych części podzielono figurę, </a:t>
            </a:r>
            <a:br>
              <a:rPr sz="1800"/>
            </a:b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a licznik - ile tych części zabrano (zamalowano)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 Pamiętaj! Aby odczytać jaka część figury została zamalowana, należy podzielić figurę na RÓWNE CZĘŚCI.</a:t>
            </a:r>
            <a:endParaRPr b="0" lang="en-US" sz="1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201080" cy="1719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826920" y="4076640"/>
            <a:ext cx="5400720" cy="183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Ułamki, w których licznik jest mniejszy od mianownika, to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ułamki właściwe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. Przypominam, że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są one mniejsze od 1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708360" y="4365720"/>
                <a:ext cx="79236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6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" descr="u&amp;lstrok;amek, jeden, &amp;cacute;wier&amp;cacute;"/>
          <p:cNvPicPr/>
          <p:nvPr/>
        </p:nvPicPr>
        <p:blipFill>
          <a:blip r:embed="rId2"/>
          <a:stretch/>
        </p:blipFill>
        <p:spPr>
          <a:xfrm>
            <a:off x="684360" y="5229360"/>
            <a:ext cx="1428480" cy="12286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trzy, &amp;cacute;wier&amp;cacute;, ko&amp;zacute;l&amp;eogon;"/>
          <p:cNvPicPr/>
          <p:nvPr/>
        </p:nvPicPr>
        <p:blipFill>
          <a:blip r:embed="rId3"/>
          <a:stretch/>
        </p:blipFill>
        <p:spPr>
          <a:xfrm>
            <a:off x="5796000" y="3645000"/>
            <a:ext cx="1143000" cy="14284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&amp;cacute;wier&amp;cacute;, ko&amp;zacute;l&amp;eogon;"/>
          <p:cNvPicPr/>
          <p:nvPr/>
        </p:nvPicPr>
        <p:blipFill>
          <a:blip r:embed="rId4"/>
          <a:stretch/>
        </p:blipFill>
        <p:spPr>
          <a:xfrm>
            <a:off x="826920" y="3860640"/>
            <a:ext cx="1181160" cy="14288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3348000" y="3357720"/>
            <a:ext cx="1428840" cy="1066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u&amp;lstrok;amek, trzy, &amp;cacute;wierci"/>
          <p:cNvPicPr/>
          <p:nvPr/>
        </p:nvPicPr>
        <p:blipFill>
          <a:blip r:embed="rId6"/>
          <a:stretch/>
        </p:blipFill>
        <p:spPr>
          <a:xfrm>
            <a:off x="5651640" y="5084640"/>
            <a:ext cx="1428480" cy="122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Ułamek niewłaściwy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- to taki ułamek, w którym licznik jest większy od mianownika lub równy mianownikowi. Ułamki niewłaściwe są większe lub równe 1.</a:t>
            </a:r>
            <a:br>
              <a:rPr sz="3200"/>
            </a:b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=1                 =11              =</a:t>
            </a:r>
            <a:br>
              <a:rPr sz="3200"/>
            </a:b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                                        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5292720" y="4653000"/>
                <a:ext cx="5158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987640" y="4653000"/>
                <a:ext cx="549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611280" y="4581360"/>
                <a:ext cx="5652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60" y="38988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 Black"/>
                <a:ea typeface="Times New Roman"/>
              </a:rPr>
              <a:t> 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960" y="105480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 Black"/>
                <a:ea typeface="Times New Roman"/>
              </a:rPr>
              <a:t> 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6300720" y="4653000"/>
                <a:ext cx="5238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Ułamki niewłaściwe przedstawione           w postaci całości i ułamka właściwego nazywamy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liczbami mieszanymi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68360" y="4076640"/>
            <a:ext cx="7200720" cy="123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ozszerzanie i skracanie.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7386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Ułamek zwykły</a:t>
            </a: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 można rozszerzyć mnożąc licznik i mianownik ułamka przez tę samą liczbę całkowitą różną od zera.</a:t>
            </a:r>
            <a:br>
              <a:rPr sz="2400"/>
            </a:b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Np. </a:t>
            </a:r>
            <a:br>
              <a:rPr sz="2400"/>
            </a:b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                                    =               =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0b854"/>
                </a:solidFill>
                <a:uFillTx/>
                <a:latin typeface="Arial"/>
                <a:hlinkClick r:id="rId4"/>
              </a:rPr>
              <a:t>Ułamek zwykły</a:t>
            </a: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 można skrócić dzieląc licznik              i mianownik ułamka przez ich wspólny dzielnik dodatni.</a:t>
            </a:r>
            <a:br>
              <a:rPr sz="2400"/>
            </a:b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Np. </a:t>
            </a:r>
            <a:br>
              <a:rPr sz="2400"/>
            </a:b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                                      =                 =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724360" y="2852640"/>
                <a:ext cx="460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4427640" y="5084640"/>
                <a:ext cx="792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÷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÷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940360" y="5084640"/>
                <a:ext cx="3938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203640" y="2852640"/>
                <a:ext cx="4204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348000" y="5084640"/>
                <a:ext cx="4190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4284720" y="2852640"/>
                <a:ext cx="684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09:49:19Z</dcterms:created>
  <dc:creator>Matematyka</dc:creator>
  <dc:description/>
  <dc:language>en-US</dc:language>
  <cp:lastModifiedBy>x</cp:lastModifiedBy>
  <dcterms:modified xsi:type="dcterms:W3CDTF">2013-04-16T15:29:43Z</dcterms:modified>
  <cp:revision>37</cp:revision>
  <dc:subject/>
  <dc:title>Mianownik wskazuje, na ile jednakowych części podzielono figurę,  a licznik - ile tych części zabrano (zamalowano)           Pamiętaj! Aby odczytać jaka część figury została zamalowana, należy podzielić figurę na RÓWNE CZĘŚCI.</dc:title>
</cp:coreProperties>
</file>