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D8CE-C18C-41EF-A461-2A3D1B8C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1074-EF7A-4E92-8336-8DE20A7A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736D-41C4-4B58-A98B-D24EBE3A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4139-0BB1-4B97-9A20-23A0AE82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06B7-2755-49AA-B600-D5864578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29EA-0DCF-42ED-8456-EF899887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929C-0598-4227-9F56-C1A4A3E5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EA16-67E1-4F25-A49A-BD85E403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6F97-54BF-4E85-885F-02521613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6905-92C5-4274-89A4-40D07BED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CF36-B647-45CB-B480-D4E6A31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DA5F-F54D-41B7-82F6-77DB408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DA5-C4C5-47BE-9787-166C5706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DE9-2D97-40CC-95F7-7BC28C0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ADF3-DD21-467A-8639-AB7C4C56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1C45-2B48-401A-8796-4C1058E2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788A-97B7-4354-AD06-6F546E20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2355-A8F2-48CC-99FC-0B4F8E5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65C9-9A03-41ED-92B2-5BA96B05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F743-346C-4812-8FE5-4A5F4260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8F65-D446-4A2D-9C1F-5BBBFC2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07EB-6BBD-4CC1-A734-0F8976C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A582-6804-488C-8C55-566DD442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DBDC-3095-41ED-8AD8-C057C5D1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71E8-BC3D-45DE-B164-09E9933E29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E38-8E3F-4288-A192-C3BE9B2CB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Zaokrąglanie liczb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 i szacowanie wyników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lejność wykonywania działań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3640" y="1519920"/>
            <a:ext cx="5376240" cy="29494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Garamond"/>
              </a:rPr>
              <a:t>Przy zaokrąglaniu w miejsce znaku równości ( = ) używa się znaku przybliżenia ( ≈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żeli mówimy, że chcemy zaokrąglić liczbę 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zęści dziesiąt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pozostawiamy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jedną cyfr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(po zaokrągleniu),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częśc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setnych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części tysięczn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3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 tak dalej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12000" y="5373720"/>
                <a:ext cx="1079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5191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ęsto chcemy zaokrąglić liczb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reślając jej rzą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27200" y="2827440"/>
            <a:ext cx="5397480" cy="208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1844640"/>
            <a:ext cx="7775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naturalne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w ułamku dziesiętny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9080" y="2899080"/>
            <a:ext cx="5897880" cy="1834560"/>
            <a:chOff x="1909080" y="2899080"/>
            <a:chExt cx="5897880" cy="1834560"/>
          </a:xfrm>
        </p:grpSpPr>
        <p:sp>
          <p:nvSpPr>
            <p:cNvPr id="140" name=""/>
            <p:cNvSpPr/>
            <p:nvPr/>
          </p:nvSpPr>
          <p:spPr>
            <a:xfrm>
              <a:off x="1909080" y="2899080"/>
              <a:ext cx="5897880" cy="183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                  </a:t>
              </a: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3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pl-PL" sz="2000" spc="-1" strike="noStrike">
                  <a:solidFill>
                    <a:srgbClr val="ff9900"/>
                  </a:solidFill>
                  <a:latin typeface="Arial"/>
                </a:rPr>
                <a:t>4   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5     </a:t>
              </a:r>
              <a:r>
                <a:rPr b="1" lang="pl-PL" sz="2000" spc="-1" strike="noStrike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jedno</a:t>
              </a:r>
              <a:r>
                <a:rPr b="1" lang="pl-PL" sz="1600" spc="-1" strike="noStrike">
                  <a:solidFill>
                    <a:srgbClr val="ff0000"/>
                  </a:solidFill>
                  <a:latin typeface="Arial Narrow"/>
                </a:rPr>
                <a:t>ś</a:t>
              </a: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częś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częś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części  </a:t>
              </a:r>
              <a:r>
                <a:rPr b="1" lang="pl-PL" sz="1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setn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części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10-tysięcz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dziesiąt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tysięczn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433240" y="3292200"/>
              <a:ext cx="65520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612600" y="3292200"/>
              <a:ext cx="26208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30240" y="329220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054400" y="3292200"/>
              <a:ext cx="393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709960" y="3161160"/>
              <a:ext cx="91728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 374,04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53640" cy="446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374,0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374,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7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do dziesiątek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7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174,97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4920" cy="432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   174,9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  17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75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dziesiątek :                17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                       200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4480" y="469800"/>
            <a:ext cx="4484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OWAN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zacowanie to przybliżone określanie wartości jakiejś wielkości  przy stosowaniu uproszczonego mode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 matematyc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oszacować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oznacza określić przybliżoną wartoś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zacowanie stosuje się w wielu naukach                i dziedzinach wiedzy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536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Rolnictwo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rolnictwie szacuje się n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rzewidywaną wielkość zbioró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Handel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handlu szacowanie stosuje się głównie przy określaniu ceny zbywanego towaru, zwłaszcza gdy jest to towar używany,  np. cenę domu lub mieszkania na rynk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tórnym szacuje się na podstawie cen podobnych mieszkań w danym rejonie miasta, popytu na te mieszkanie, atrakcyjnośc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jego położenia, it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etrologia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 metrologii szacuje się głównie niepewność pomiaru i wielkość błędów pomiarowyc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łówny powód stosowania szacowania to fakt, że zwykle nie w pełni znane są wszystkie zjawis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pływające na pomi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znaczków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o 10,50zł można kupić za 50 zł?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 50 zł moż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kupić około 4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naczków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58920" y="3284640"/>
                <a:ext cx="1762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635280" y="3284640"/>
                <a:ext cx="2808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" name="" descr="Stare znaczki pocztowe z ca&amp;lstrok;ego &amp;sacute;wiata Zdj&amp;eogon;cie Seryjne - 3286594"/>
          <p:cNvPicPr/>
          <p:nvPr/>
        </p:nvPicPr>
        <p:blipFill>
          <a:blip r:embed="rId1"/>
          <a:stretch/>
        </p:blipFill>
        <p:spPr>
          <a:xfrm>
            <a:off x="6659640" y="33336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 GŁÓW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bliczanie wartości wyrażeń                              z uwzględnieniem kolejności działań              oraz ich zaokrąglanie i szacowan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najwięcej czekolad po 3,99zł za sztukę można kupić za 20 z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Za 20zł możemy kupić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koło 5 czekol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51280" y="3068640"/>
                <a:ext cx="2505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3068640"/>
                <a:ext cx="1511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589800" y="2852640"/>
            <a:ext cx="2128680" cy="31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ani Jola zaciągnęła kredyt w wysokości 2600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Miesięczna rata wynosi 195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zy pani Jola spłaci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kredyt w ciągu 1 roku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ciągu jednego roku p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ni Jola nie spłaci kredyt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4005360"/>
                <a:ext cx="1800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95640" y="4005360"/>
                <a:ext cx="3600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448000" cy="153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szacuj, ile kilokalorii spalasz podczas jedne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kcji w szkole, jeżeli nauka na siedząco                               w ciągu 1 godziny pochłania 108 kilokalorii.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Odp. Podczas 1 lekcji w szkole spalasz 81 kilokalorii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55640" y="3429000"/>
                <a:ext cx="21607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132000" y="3716280"/>
                <a:ext cx="5400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75860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zy 35zł wystarczy na zakup: 2kg bananów,  3 porcji frytek, 2 soków i 2 bułek z parówk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zacujem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2324160" cy="194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388944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ujem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any: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ytk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łk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dp. 35zł wystarczy na takie zaku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1628640"/>
                <a:ext cx="1655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00360" y="2852640"/>
                <a:ext cx="1727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24000" y="3429000"/>
                <a:ext cx="1584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-46836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24000" y="2205000"/>
                <a:ext cx="17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763640" y="4364640"/>
            <a:ext cx="31687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ZEM: 10+5+9+7=31z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2233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I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37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24720" cy="47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to zwrócić uwagę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że iloczyn nie ma pierwszeństw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orazem, ani sum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óżnicą - że decyduje tut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łącznie kolejność i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stępowania w wyrażeni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70836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Obraz 32" descr="http://t0.gstatic.com/images?q=tbn:ANd9GcSgrHVihyoxk4BIVbWYnWFxH8iHI2Q6cvrSCw3HfmeBtekaKEQ"/>
          <p:cNvPicPr/>
          <p:nvPr/>
        </p:nvPicPr>
        <p:blipFill>
          <a:blip r:embed="rId1"/>
          <a:stretch/>
        </p:blipFill>
        <p:spPr>
          <a:xfrm>
            <a:off x="1116000" y="1844640"/>
            <a:ext cx="691524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094360" cy="29242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72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+ 1 = 9 + 1 =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72 : (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8 + 1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) = 72 : 9 = 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50 - 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5 · 5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= 50 - 25 =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48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· 2 = 6 · 2 =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55640" y="1989000"/>
                <a:ext cx="5329080" cy="29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,7</m:t>
                        </m:r>
                        <m:r>
                          <m:t xml:space="preserve">−</m:t>
                        </m:r>
                        <m:r>
                          <m:t xml:space="preserve">2,3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2,4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3,9</m:t>
                        </m:r>
                      </m:e>
                      <m:e/>
                      <m:e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e>
                      <m:e/>
                      <m:e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anie w matematyc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zybliżanie pewnej liczby do innej, mającej mniej cyfr znaczących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okrąglanie polega na: odrzuceniu lub zastąpieniu zerami pewnej ilości cyfr końcowych danej licz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b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większeniu ostatniej z pozostałych cyfr                   o jeden, jeśli kolejna cyfra liczby pierwotnej była większa lub równa 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ptop, który dzisiaj widziałam w sklepie, kosztuje dokładnie 1899 zł., czyli około 1900 zł. Po zaokrągleniu otrzymujemy cenę mniej dokładną, ale łatwiejszą do zapamiętan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Plik:Liczby laptop.JPG"/>
          <p:cNvPicPr/>
          <p:nvPr/>
        </p:nvPicPr>
        <p:blipFill>
          <a:blip r:embed="rId1"/>
          <a:stretch/>
        </p:blipFill>
        <p:spPr>
          <a:xfrm>
            <a:off x="5724360" y="3068640"/>
            <a:ext cx="322128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20:45:54Z</dcterms:created>
  <dc:creator>Matematyka</dc:creator>
  <dc:description/>
  <dc:language>en-US</dc:language>
  <cp:lastModifiedBy>Matematyka</cp:lastModifiedBy>
  <dcterms:modified xsi:type="dcterms:W3CDTF">2013-05-03T20:38:46Z</dcterms:modified>
  <cp:revision>90</cp:revision>
  <dc:subject/>
  <dc:title>Slajd 1</dc:title>
</cp:coreProperties>
</file>