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A4B-6DEC-4A18-9E3A-D335271D6B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C109-9585-446A-9A5A-3A9842B907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AC4-98F7-4DC4-8152-33503C4F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C1E-8387-4545-A69C-68B0901A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91D-2DF5-4C50-8954-46D276EB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656-A31B-4C1B-A4BC-9AA06C11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BE0-31E6-4445-8D44-67E111EB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794-FD81-4BE8-8C87-3F984EE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F0D-FCF3-4D3D-A1DF-219219C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D3C-24B9-462A-8D3B-58B15AD3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CCA-5641-4401-8A18-E5614F9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86B-DAE2-44E2-99B5-E270BDE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76E-AE27-4DDE-BD85-B4BB848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233-77BF-42D1-8739-2775ADE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F21-B1BE-4F9B-A20B-B6F638E71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wiat-prezentacji.pl/pobieranie" TargetMode="External"/><Relationship Id="rId2" Type="http://schemas.openxmlformats.org/officeDocument/2006/relationships/hyperlink" Target="http://www.interklasa.pl/" TargetMode="External"/><Relationship Id="rId3" Type="http://schemas.openxmlformats.org/officeDocument/2006/relationships/hyperlink" Target="http://www.szkolnictwo.pl/" TargetMode="External"/><Relationship Id="rId4" Type="http://schemas.openxmlformats.org/officeDocument/2006/relationships/hyperlink" Target="http://www.matematyka.opracowania.pl/gimnazjum/" TargetMode="External"/><Relationship Id="rId5" Type="http://schemas.openxmlformats.org/officeDocument/2006/relationships/hyperlink" Target="http://www.matematyka.opracowania.pl/gimnazjum/" TargetMode="External"/><Relationship Id="rId6" Type="http://schemas.openxmlformats.org/officeDocument/2006/relationships/hyperlink" Target="http://www.matematyka.opracowania.pl/gimnazju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ury podob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5300640"/>
            <a:ext cx="411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sa III gimna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medianauka.pl/matematyka/grafika/rysunek147.jpg"/>
          <p:cNvPicPr/>
          <p:nvPr/>
        </p:nvPicPr>
        <p:blipFill>
          <a:blip r:embed="rId2"/>
          <a:stretch/>
        </p:blipFill>
        <p:spPr>
          <a:xfrm>
            <a:off x="468360" y="2924280"/>
            <a:ext cx="482904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796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ójkąt ABC ma boki długości 21 cm, 24 cm i 18 cm.           Jakie długości mają boki trójkąta DEF podobnego do trójkąta ABC w skali  </a:t>
            </a:r>
            <a:r>
              <a:rPr b="0" lang="pl-PL" sz="2800" spc="-1" strike="noStrike">
                <a:solidFill>
                  <a:srgbClr val="800080"/>
                </a:solidFill>
                <a:latin typeface="Calibri"/>
              </a:rPr>
              <a:t>1: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e razy obwód trójkąta DEF jest mniejszy od obwodu trójkąta AB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Aby obliczyć długości boków trójkąta DEF, mnożymy długości boków trójkąta ABC przez skalę podobieństw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p3_1.gif"/>
          <p:cNvPicPr/>
          <p:nvPr/>
        </p:nvPicPr>
        <p:blipFill>
          <a:blip r:embed="rId1"/>
          <a:stretch/>
        </p:blipFill>
        <p:spPr>
          <a:xfrm>
            <a:off x="1258920" y="1773360"/>
            <a:ext cx="66135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p3_2.gif"/>
          <p:cNvPicPr/>
          <p:nvPr/>
        </p:nvPicPr>
        <p:blipFill>
          <a:blip r:embed="rId2"/>
          <a:stretch/>
        </p:blipFill>
        <p:spPr>
          <a:xfrm>
            <a:off x="2700360" y="3500280"/>
            <a:ext cx="31687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5211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ki trójkąta DEF wynoszą: 7cm, 8cm, 6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3 – ciąg dals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czamy teraz obwo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21 cm + 24 cm + 18 cm = 63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7 cm + 8 cm + 6 cm = 2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:  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 63 cm : 21 cm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wód trójkąta DEF jest trzy razy mniejszy                          od obwodu trójkąta A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spostrzeż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naprawdę nie musieliśmy wyliczać obwodów                i dzielić ich przez siebie, wystarczyło spojrzeć na skalę podobieństw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Trójkąt DEF jest podobny do trójkąta ABC w skali 1:3, oznacza to, że trójkąt DEF jest trzy razy mniejszy od trójkąta ABC, a więc jego obwód także jest trzy razy mniej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WAG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264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osunek obwodów figur podobnych jest równy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 – obwód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’ – obwód figury podobnej do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– skala podobieństw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wz_3.gif"/>
          <p:cNvPicPr/>
          <p:nvPr/>
        </p:nvPicPr>
        <p:blipFill>
          <a:blip r:embed="rId1"/>
          <a:stretch/>
        </p:blipFill>
        <p:spPr>
          <a:xfrm>
            <a:off x="4000680" y="3000240"/>
            <a:ext cx="12477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rysowane poniżej wielokąty są podob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większego wiel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mniejszego wielo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cz długości boków oznaczonych liter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5" descr="z1.gif"/>
          <p:cNvPicPr/>
          <p:nvPr/>
        </p:nvPicPr>
        <p:blipFill>
          <a:blip r:embed="rId1"/>
          <a:stretch/>
        </p:blipFill>
        <p:spPr>
          <a:xfrm>
            <a:off x="900000" y="4437000"/>
            <a:ext cx="72583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332000" y="4797000"/>
            <a:ext cx="1008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80000" y="4941720"/>
            <a:ext cx="7938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692280"/>
            <a:ext cx="8329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 większego wielokąta do mniejszego, dzielimy przez siebie długość jednego z boków większego wielokąta przez długość odpowiadającego mu boku z mniejszego wieloką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) Skala podobieństwa mniejszego wielokąta do większego jest liczbą odwrotną do skali obliczonej w podpunkcie a, cz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4" descr="z1_1.gif"/>
          <p:cNvPicPr/>
          <p:nvPr/>
        </p:nvPicPr>
        <p:blipFill>
          <a:blip r:embed="rId1"/>
          <a:stretch/>
        </p:blipFill>
        <p:spPr>
          <a:xfrm>
            <a:off x="1042920" y="321300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11" name="Obraz 5" descr="z1_2.gif"/>
          <p:cNvPicPr/>
          <p:nvPr/>
        </p:nvPicPr>
        <p:blipFill>
          <a:blip r:embed="rId2"/>
          <a:stretch/>
        </p:blipFill>
        <p:spPr>
          <a:xfrm>
            <a:off x="1619280" y="5589720"/>
            <a:ext cx="12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) Aby obliczyć długość boków x i y mnożymy długości odpowiadających im boków z mniejszej figury przez skalę podobieństwa większego wielokąta do mniejszego (powięk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4" descr="z1.gif"/>
          <p:cNvPicPr/>
          <p:nvPr/>
        </p:nvPicPr>
        <p:blipFill>
          <a:blip r:embed="rId1"/>
          <a:stretch/>
        </p:blipFill>
        <p:spPr>
          <a:xfrm>
            <a:off x="500040" y="1214280"/>
            <a:ext cx="7257960" cy="2248200"/>
          </a:xfrm>
          <a:prstGeom prst="rect">
            <a:avLst/>
          </a:prstGeom>
          <a:ln w="0">
            <a:noFill/>
          </a:ln>
        </p:spPr>
      </p:pic>
      <p:pic>
        <p:nvPicPr>
          <p:cNvPr id="115" name="Obraz 6" descr="z1_3.gif"/>
          <p:cNvPicPr/>
          <p:nvPr/>
        </p:nvPicPr>
        <p:blipFill>
          <a:blip r:embed="rId2"/>
          <a:stretch/>
        </p:blipFill>
        <p:spPr>
          <a:xfrm>
            <a:off x="428760" y="5572080"/>
            <a:ext cx="237168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Obraz 7" descr="z1_4.gif"/>
          <p:cNvPicPr/>
          <p:nvPr/>
        </p:nvPicPr>
        <p:blipFill>
          <a:blip r:embed="rId3"/>
          <a:stretch/>
        </p:blipFill>
        <p:spPr>
          <a:xfrm>
            <a:off x="3857760" y="5572080"/>
            <a:ext cx="2562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8"/>
          <p:cNvSpPr/>
          <p:nvPr/>
        </p:nvSpPr>
        <p:spPr>
          <a:xfrm>
            <a:off x="285840" y="107172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długości boków a i b mnożymy odpowiadające im długości boków większego wielokąta przez skalę podobieństwa mniejszego wielokąta do większego (pomniej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6" descr="z1_5.gif"/>
          <p:cNvPicPr/>
          <p:nvPr/>
        </p:nvPicPr>
        <p:blipFill>
          <a:blip r:embed="rId1"/>
          <a:stretch/>
        </p:blipFill>
        <p:spPr>
          <a:xfrm>
            <a:off x="428760" y="3429000"/>
            <a:ext cx="2762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8"/>
          <p:cNvSpPr/>
          <p:nvPr/>
        </p:nvSpPr>
        <p:spPr>
          <a:xfrm>
            <a:off x="42876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na rysunku trójkąty są równoboczne. Jaka jest skala podobieństwa mniejszego trój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ok mniejszego trójkąta jest jednocześnie wysokością większego trójkąta. Jeśli oznaczymy bok większego trójkąta przez a, jego wysokość można wyliczyć ze wzor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6" descr="z2.gif"/>
          <p:cNvPicPr/>
          <p:nvPr/>
        </p:nvPicPr>
        <p:blipFill>
          <a:blip r:embed="rId1"/>
          <a:stretch/>
        </p:blipFill>
        <p:spPr>
          <a:xfrm>
            <a:off x="3429000" y="2714760"/>
            <a:ext cx="2276640" cy="18190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7" descr="z2_1.gif"/>
          <p:cNvPicPr/>
          <p:nvPr/>
        </p:nvPicPr>
        <p:blipFill>
          <a:blip r:embed="rId2"/>
          <a:stretch/>
        </p:blipFill>
        <p:spPr>
          <a:xfrm>
            <a:off x="3500280" y="5786280"/>
            <a:ext cx="1305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428760" y="10717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ami podobnymi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dcin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krę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ie pro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wad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trójką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ównobo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żde dwie figury, które mają taki sam kształt, a różnią się najwyżej wielk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6357960" y="1285920"/>
            <a:ext cx="114300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11"/>
          <p:cNvSpPr/>
          <p:nvPr/>
        </p:nvSpPr>
        <p:spPr>
          <a:xfrm>
            <a:off x="4714920" y="1428840"/>
            <a:ext cx="18572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ipsa 15"/>
          <p:cNvSpPr/>
          <p:nvPr/>
        </p:nvSpPr>
        <p:spPr>
          <a:xfrm>
            <a:off x="6929280" y="2928960"/>
            <a:ext cx="785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7572240" y="1714680"/>
            <a:ext cx="121464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4857840" y="1928880"/>
            <a:ext cx="1071360" cy="10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3938760" y="2367000"/>
            <a:ext cx="71424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0"/>
          <p:cNvSpPr/>
          <p:nvPr/>
        </p:nvSpPr>
        <p:spPr>
          <a:xfrm>
            <a:off x="857160" y="5357880"/>
            <a:ext cx="2357640" cy="42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Łącznik prosty 21"/>
          <p:cNvSpPr/>
          <p:nvPr/>
        </p:nvSpPr>
        <p:spPr>
          <a:xfrm>
            <a:off x="357120" y="5429160"/>
            <a:ext cx="2643120" cy="11430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24"/>
          <p:cNvSpPr/>
          <p:nvPr/>
        </p:nvSpPr>
        <p:spPr>
          <a:xfrm>
            <a:off x="4500720" y="5286240"/>
            <a:ext cx="714240" cy="71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rostokąt 25"/>
          <p:cNvSpPr/>
          <p:nvPr/>
        </p:nvSpPr>
        <p:spPr>
          <a:xfrm>
            <a:off x="5429160" y="5143680"/>
            <a:ext cx="1285920" cy="12855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ójkąt równoramienny 26"/>
          <p:cNvSpPr/>
          <p:nvPr/>
        </p:nvSpPr>
        <p:spPr>
          <a:xfrm>
            <a:off x="7643880" y="4929120"/>
            <a:ext cx="579240" cy="5000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ójkąt równoramienny 27"/>
          <p:cNvSpPr/>
          <p:nvPr/>
        </p:nvSpPr>
        <p:spPr>
          <a:xfrm rot="2064000">
            <a:off x="7770960" y="5516280"/>
            <a:ext cx="993600" cy="85716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8"/>
          <p:cNvSpPr/>
          <p:nvPr/>
        </p:nvSpPr>
        <p:spPr>
          <a:xfrm>
            <a:off x="395280" y="981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alę podobieństwa obliczamy dzieląc długość boku mniejszego trójkąta – h, przez długość boku większego trójkąta –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raz 5" descr="z2_2.gif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obieństwo prostokątó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ymbol zastępczy zawartości 7" descr="wz4.gif"/>
          <p:cNvPicPr/>
          <p:nvPr/>
        </p:nvPicPr>
        <p:blipFill>
          <a:blip r:embed="rId1"/>
          <a:stretch/>
        </p:blipFill>
        <p:spPr>
          <a:xfrm>
            <a:off x="2928960" y="3643200"/>
            <a:ext cx="34765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197000"/>
          <a:ext cx="8248680" cy="2358720"/>
        </p:xfrm>
        <a:graphic>
          <a:graphicData uri="http://schemas.openxmlformats.org/drawingml/2006/table">
            <a:tbl>
              <a:tblPr/>
              <a:tblGrid>
                <a:gridCol w="8248680"/>
              </a:tblGrid>
              <a:tr h="23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y rozstrzygnąć, czy dwa prostokąty są podobne, wystarczy sprawdzić, czy stosunek dwóch prostopadłych boków jednego prostokąta jest równy stosunkowi długości odpowiednich boków drugiego prostoką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8"/>
          <p:cNvSpPr/>
          <p:nvPr/>
        </p:nvSpPr>
        <p:spPr>
          <a:xfrm>
            <a:off x="428760" y="1000080"/>
            <a:ext cx="835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owodnij, że prostokąty o wymiarach: 9cm x 12cm               i 32dm x 24dm są podobne. Jaka jest skala podobieństwa większego prost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2 dm = 32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4 dm = 24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8"/>
          <p:cNvSpPr/>
          <p:nvPr/>
        </p:nvSpPr>
        <p:spPr>
          <a:xfrm>
            <a:off x="428760" y="1000080"/>
            <a:ext cx="8358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wyższa równość świadczy o tym, że dane prostokąty są podob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określa ona jednak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4" descr="z3.gif"/>
          <p:cNvPicPr/>
          <p:nvPr/>
        </p:nvPicPr>
        <p:blipFill>
          <a:blip r:embed="rId1"/>
          <a:stretch/>
        </p:blipFill>
        <p:spPr>
          <a:xfrm>
            <a:off x="468360" y="1628640"/>
            <a:ext cx="253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18"/>
          <p:cNvSpPr/>
          <p:nvPr/>
        </p:nvSpPr>
        <p:spPr>
          <a:xfrm>
            <a:off x="395280" y="981000"/>
            <a:ext cx="8358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zielę długość np. dłuższego boku większego prostokąta przez długość dłuższego boku mniejszego prostokąta, sprowadzając wcześniej długości do wspólnej jednost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79640" y="4437000"/>
                <a:ext cx="25923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78560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obieństwo trójkątów prostokąt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a trójkąty prostokątne są podobne, jeżeli stosunek dług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prostokątnych w jednym trójkącie jest równy stosunk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ługośc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powiedni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zyprostokątnych w drugim trójką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852640"/>
            <a:ext cx="1079280" cy="19432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708280"/>
            <a:ext cx="1584360" cy="2448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Symbol zastępczy tekstu 2"/>
              <p:cNvSpPr txBox="1"/>
              <p:nvPr/>
            </p:nvSpPr>
            <p:spPr>
              <a:xfrm>
                <a:off x="1187280" y="4797360"/>
                <a:ext cx="39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Symbol zastępczy tekstu 2"/>
              <p:cNvSpPr txBox="1"/>
              <p:nvPr/>
            </p:nvSpPr>
            <p:spPr>
              <a:xfrm>
                <a:off x="611280" y="3573360"/>
                <a:ext cx="409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Symbol zastępczy tekstu 2"/>
              <p:cNvSpPr txBox="1"/>
              <p:nvPr/>
            </p:nvSpPr>
            <p:spPr>
              <a:xfrm>
                <a:off x="4859280" y="5084640"/>
                <a:ext cx="412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Symbol zastępczy tekstu 2"/>
              <p:cNvSpPr txBox="1"/>
              <p:nvPr/>
            </p:nvSpPr>
            <p:spPr>
              <a:xfrm>
                <a:off x="3954600" y="3500280"/>
                <a:ext cx="507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5229360"/>
                <a:ext cx="1330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076640" y="479736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443700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0720" y="494172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42920" y="4581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Podobie&amp;nacute;stwo figur.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29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540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żeli dwa trójkąty prostokątne mają po jedny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ącie ostry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ównym, to te trójkąty są podob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4869000"/>
                <a:ext cx="172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w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486900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40360" y="5013360"/>
                <a:ext cx="147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03280" y="1989000"/>
            <a:ext cx="3889440" cy="216072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2592360" cy="144144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1120" y="3576600"/>
            <a:ext cx="43272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6" y="1027"/>
                </a:moveTo>
                <a:arcTo wR="10800" hR="10800" stAng="-3888983" swAng="3236294"/>
                <a:lnTo>
                  <a:pt x="10800" y="10800"/>
                </a:lnTo>
                <a:close/>
              </a:path>
              <a:path fill="none" w="21600" h="21600">
                <a:moveTo>
                  <a:pt x="15396" y="1027"/>
                </a:moveTo>
                <a:arcTo wR="10800" hR="10800" stAng="-3888983" swAng="32362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24000" y="1916280"/>
                <a:ext cx="453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800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64000" y="4076640"/>
                <a:ext cx="39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64000" y="2852640"/>
                <a:ext cx="403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36840" y="24566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36840" y="33296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22042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237560" y="420264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2924280"/>
                <a:ext cx="461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68360" y="2924280"/>
                <a:ext cx="439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800" y="312012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76201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0 = 8 x  / 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12,5 m – szerokość rze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Rzeka ma szerokość 12,5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572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dani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ek i Wacek stoją na przeciwnych brzegach rzeki.                                        Korzystając z danych na rysunku, oblicz szerokość rze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1042920" y="1628640"/>
            <a:ext cx="745812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407664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40720" y="4365720"/>
                <a:ext cx="826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948360" y="4507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rot="2403000">
            <a:off x="5237640" y="3018240"/>
            <a:ext cx="732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5" y="1315"/>
                </a:moveTo>
                <a:arcTo wR="10800" hR="10800" stAng="-3685813" swAng="3992367"/>
                <a:lnTo>
                  <a:pt x="10800" y="10800"/>
                </a:lnTo>
                <a:close/>
              </a:path>
              <a:path fill="none" w="21600" h="21600">
                <a:moveTo>
                  <a:pt x="15965" y="1315"/>
                </a:moveTo>
                <a:arcTo wR="10800" hR="10800" stAng="-3685813" swAng="399236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rot="13043400">
            <a:off x="3757680" y="2736360"/>
            <a:ext cx="73332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0" y="888"/>
                </a:moveTo>
                <a:arcTo wR="10800" hR="10800" stAng="-3995826" swAng="4302380"/>
                <a:lnTo>
                  <a:pt x="10800" y="10800"/>
                </a:lnTo>
                <a:close/>
              </a:path>
              <a:path fill="none" w="21600" h="21600">
                <a:moveTo>
                  <a:pt x="15090" y="888"/>
                </a:moveTo>
                <a:arcTo wR="10800" hR="10800" stAng="-3995826" swAng="430238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ytuł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4"/>
          <p:cNvSpPr/>
          <p:nvPr/>
        </p:nvSpPr>
        <p:spPr>
          <a:xfrm>
            <a:off x="428760" y="7858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7120" y="100008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 wielokąty o takiej samie liczbie boków nazywamy wielokątami podobnymi, jeżeli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ą odpowiednie kąty wewnętrzne rów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sunek odpowiadających sobie boków jest rów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7120" y="321480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ówną stosunkowi długości odpowiadających sobie odcinków figur podobnych nazywamy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lą podobieństw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71" name="pole tekstowe 8"/>
          <p:cNvSpPr/>
          <p:nvPr/>
        </p:nvSpPr>
        <p:spPr>
          <a:xfrm>
            <a:off x="357120" y="5286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obieństwo oznaczamy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(czytaj: figura A jest podobna do figury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dani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zt wysokości 5 m rzuca cień długości 7,5 m. W tym samym czasie w tej samej miejscowości pewien budynek rzuca cień długości 36 m. Jaką wysokość ma ten budyn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3635280" y="1628640"/>
            <a:ext cx="5094360" cy="3364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4941720"/>
            <a:ext cx="4174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7,5 x = 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24 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Budynek ma wysokość 24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6336360" y="3320280"/>
            <a:ext cx="432000" cy="266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494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43700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640" y="4005360"/>
                <a:ext cx="115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la figur podobn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136836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tosunek pól figur podobnych jest równy kwadratowi skali podobień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2/141 podręcznik G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ie figury o polach 7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4,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ą podobne. Jaka jest skala podobieństwa mniejszej z tych figur do większ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284640"/>
                <a:ext cx="39589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55640" y="6017400"/>
            <a:ext cx="7345440" cy="36828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. Skala podobieństwa mniejszej figury do większej wynosi 1: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1/141 -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‘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    w skali 2: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2492280"/>
                <a:ext cx="294300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64000" y="1341360"/>
                <a:ext cx="1548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84720" y="2708280"/>
                <a:ext cx="2160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093080" y="5273640"/>
            <a:ext cx="1655640" cy="1584360"/>
          </a:xfrm>
          <a:prstGeom prst="upArrowCallout">
            <a:avLst>
              <a:gd name="adj1" fmla="val 26127"/>
              <a:gd name="adj2" fmla="val 26125"/>
              <a:gd name="adj3" fmla="val 16667"/>
              <a:gd name="adj4" fmla="val 66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 fig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‘    w skali  6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3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340280"/>
            <a:ext cx="75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leży wykorzystać wz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 skalę podobieńst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kwadrat skali podobieństw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64000" y="3429000"/>
                <a:ext cx="1872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3284640"/>
                <a:ext cx="1655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5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na pl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w rzeczywist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1197000"/>
                <a:ext cx="20732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2205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swiat-prezentacji.pl/pobiera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interklasa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szkolnictwo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matematyka.opracowania.pl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/gimnazjum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ytuł 1"/>
          <p:cNvSpPr/>
          <p:nvPr/>
        </p:nvSpPr>
        <p:spPr>
          <a:xfrm>
            <a:off x="500040" y="-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FIGUR PODOB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5" descr="przyklady figur podobnych_1.gif"/>
          <p:cNvPicPr/>
          <p:nvPr/>
        </p:nvPicPr>
        <p:blipFill>
          <a:blip r:embed="rId1"/>
          <a:stretch/>
        </p:blipFill>
        <p:spPr>
          <a:xfrm>
            <a:off x="2071800" y="714240"/>
            <a:ext cx="60768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428760" y="3214800"/>
            <a:ext cx="8286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ielokąt A’B’C’D’E’ jest podobny do wielokąta ABCDE ponieważ: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mbria Math"/>
              </a:rPr>
              <a:t>∢A = ∢ A’; ∢ B = ∢ B’; ∢ C = ∢C’; ∢ D = ∢ D’; ∢ E = ∢ E’, or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’B’C’D’E’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BCDE w skali k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BCDE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’B’C’D’E’ w skali k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8" descr="wz_1.gif"/>
          <p:cNvPicPr/>
          <p:nvPr/>
        </p:nvPicPr>
        <p:blipFill>
          <a:blip r:embed="rId2"/>
          <a:stretch/>
        </p:blipFill>
        <p:spPr>
          <a:xfrm>
            <a:off x="500040" y="457200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Obraz 9" descr="wz_2.gif"/>
          <p:cNvPicPr/>
          <p:nvPr/>
        </p:nvPicPr>
        <p:blipFill>
          <a:blip r:embed="rId3"/>
          <a:stretch/>
        </p:blipFill>
        <p:spPr>
          <a:xfrm>
            <a:off x="4857840" y="6072120"/>
            <a:ext cx="18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http://matematykatv.pl/newsy_images/757-853.JPG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ytuł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250920" y="98100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ala mówi nam ile razy figury podobne są większe lub mniejsze od siebie. Jest to zawszę liczba dodatnia (k &gt; 0). Jeże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lt; 1 – to figura podobna jest mniejsza od wyjściowej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 – to figura podobna jest identyczna jak fig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wyjścio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 – to figura podobna jest większa od wyjści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jakiej skali kwadr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9 cm jest podobny do kwadra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22,5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kalę podobieństwa obliczamy dzieląc długość boku figury 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, przez długość boku figury EF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4365720"/>
                <a:ext cx="35290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428760" y="785880"/>
            <a:ext cx="82864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a wymiary 5,5 cm x 6,9 cm. Czy 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 wymiarach 38,5 cm x 48,3 cm jest podobny do prostokąt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504d"/>
                </a:solidFill>
                <a:latin typeface="Times New Roman"/>
              </a:rPr>
              <a:t>Dzielimy krótszy bok przez krótszy, a dłuższy przez dłuższy, jeżeli stosunek odpowiednich boków będzie taki sam to prostokąty są podobne, jeśli będzie różny to nie są podob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6" descr="p2.gif"/>
          <p:cNvPicPr/>
          <p:nvPr/>
        </p:nvPicPr>
        <p:blipFill>
          <a:blip r:embed="rId1"/>
          <a:stretch/>
        </p:blipFill>
        <p:spPr>
          <a:xfrm>
            <a:off x="2771640" y="1484280"/>
            <a:ext cx="25210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ole tekstowe 9"/>
          <p:cNvSpPr/>
          <p:nvPr/>
        </p:nvSpPr>
        <p:spPr>
          <a:xfrm>
            <a:off x="684360" y="472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dp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Prostokąt 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jest podobny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do prostokąta 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kala podobieństwa k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3:49Z</dcterms:created>
  <dc:creator>Wolf</dc:creator>
  <dc:description/>
  <dc:language>en-US</dc:language>
  <cp:lastModifiedBy>Matematyka</cp:lastModifiedBy>
  <dcterms:modified xsi:type="dcterms:W3CDTF">2014-03-05T10:59:12Z</dcterms:modified>
  <cp:revision>309</cp:revision>
  <dc:subject/>
  <dc:title>„Matematyka zawiera w sobie nie tylko prawdę, ale i najwyższe piękno – piękno chłodne i surowe, podobne do piękna rzeźby.”</dc:title>
</cp:coreProperties>
</file>