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2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951-8308-4516-83D9-F6E0C156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F28-7806-41A0-B77F-A1394152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1D2-1929-450D-BD8E-A36E5E32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77A-69D5-450D-A8B9-D5874A70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5DA3-9861-4AC4-8390-048E5D2D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A3B2-E4F1-4902-A2B3-46900A4E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BC76-0BC1-4B24-8D86-1F091EC3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6A17-5544-4399-8186-D8FDA840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8677-B241-43B4-BD44-F3A01CC1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22BB-403C-456E-9606-F43DF7B3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6E07-FC02-4A60-B852-D5A7D195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17F-B083-4E55-A8F0-89AC3A5E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75DD-92C4-4C6D-8D3F-D7CB4B5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4A8B-F086-4FD6-B7DD-8755AB3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7692-C6C4-4F5F-B2E2-B379CBC8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82E5-4C76-4832-A119-0A18BED2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7EE5-0DCF-468D-A439-15775A88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E2E-5923-4802-9D53-4854E901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95B-0BEB-4E08-964B-98FB128C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8C7-71D3-4AA3-B829-CC175A53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685-51A8-4717-851A-7993BAF4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3A9-0E3E-4798-937B-B6C27CC3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E98-3C0D-4628-9D14-FBB10A87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61E-AF5E-4A39-BE01-919B33EC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A4A6-A2D8-4CB3-80CD-0AC7938BDD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B165-D254-4DCA-B558-42E6BE1069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38240" y="1981080"/>
            <a:ext cx="9420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33240" y="623880"/>
            <a:ext cx="78775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33240" y="614520"/>
            <a:ext cx="78775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95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18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1322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Plik:Cylinder geometry.svg"/>
          <p:cNvPicPr/>
          <p:nvPr/>
        </p:nvPicPr>
        <p:blipFill>
          <a:blip r:embed="rId2"/>
          <a:stretch/>
        </p:blipFill>
        <p:spPr>
          <a:xfrm>
            <a:off x="7010280" y="457200"/>
            <a:ext cx="1582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OŻ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http://www.megamatma.pl/res/upload/RYSUNKI_DOBRE/gimnazjum/plik_12_6/1.gif"/>
          <p:cNvPicPr/>
          <p:nvPr/>
        </p:nvPicPr>
        <p:blipFill>
          <a:blip r:embed="rId1"/>
          <a:stretch/>
        </p:blipFill>
        <p:spPr>
          <a:xfrm>
            <a:off x="228600" y="1600200"/>
            <a:ext cx="8381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http://www.matematykam.pl/images/133a.jpg"/>
          <p:cNvPicPr/>
          <p:nvPr/>
        </p:nvPicPr>
        <p:blipFill>
          <a:blip r:embed="rId1"/>
          <a:stretch/>
        </p:blipFill>
        <p:spPr>
          <a:xfrm>
            <a:off x="0" y="609480"/>
            <a:ext cx="899172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47520"/>
            <a:ext cx="468648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8388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republika.pl"/>
          <p:cNvPicPr/>
          <p:nvPr/>
        </p:nvPicPr>
        <p:blipFill>
          <a:blip r:embed="rId1"/>
          <a:stretch/>
        </p:blipFill>
        <p:spPr>
          <a:xfrm>
            <a:off x="1663560" y="228600"/>
            <a:ext cx="5302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5241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http://www.pomocedlaszkol.pl/_var/gfx/32d3bd476831fcdac249bf2533af96e7.jpg"/>
          <p:cNvPicPr/>
          <p:nvPr/>
        </p:nvPicPr>
        <p:blipFill>
          <a:blip r:embed="rId1"/>
          <a:stretch/>
        </p:blipFill>
        <p:spPr>
          <a:xfrm>
            <a:off x="152280" y="4572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38080" y="860400"/>
            <a:ext cx="62485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http://www.matmana6.pl/zdjecia/szkola_srednia/geometria_w_przestrzeni_stereometria/graniastoslup_12.png"/>
          <p:cNvPicPr/>
          <p:nvPr/>
        </p:nvPicPr>
        <p:blipFill>
          <a:blip r:embed="rId1"/>
          <a:stretch/>
        </p:blipFill>
        <p:spPr>
          <a:xfrm>
            <a:off x="228600" y="152280"/>
            <a:ext cx="647712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http://www.matmana6.pl/zdjecia/szkola_srednia/geometria_w_przestrzeni_stereometria/graniastoslup_14.png"/>
          <p:cNvPicPr/>
          <p:nvPr/>
        </p:nvPicPr>
        <p:blipFill>
          <a:blip r:embed="rId1"/>
          <a:stretch/>
        </p:blipFill>
        <p:spPr>
          <a:xfrm>
            <a:off x="304920" y="228600"/>
            <a:ext cx="5018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19480" y="804960"/>
            <a:ext cx="450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http://www.matmana6.pl/zdjecia/szkola_srednia/geometria_w_przestrzeni_stereometria/graniastoslup_17.png"/>
          <p:cNvPicPr/>
          <p:nvPr/>
        </p:nvPicPr>
        <p:blipFill>
          <a:blip r:embed="rId1"/>
          <a:stretch/>
        </p:blipFill>
        <p:spPr>
          <a:xfrm>
            <a:off x="304920" y="152280"/>
            <a:ext cx="5970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613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http://static.scholaris.pl/main-file/108/figury-przystajace-i-podobne_64778.jpg"/>
          <p:cNvPicPr/>
          <p:nvPr/>
        </p:nvPicPr>
        <p:blipFill>
          <a:blip r:embed="rId1"/>
          <a:stretch/>
        </p:blipFill>
        <p:spPr>
          <a:xfrm>
            <a:off x="2057400" y="0"/>
            <a:ext cx="49514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4279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443320" y="438120"/>
            <a:ext cx="425736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31520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6862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719280"/>
            <a:ext cx="46958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14480" y="804960"/>
            <a:ext cx="71150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1911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956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7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6674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8:58:56Z</dcterms:created>
  <dc:creator>Matematyka</dc:creator>
  <dc:description/>
  <dc:language>en-US</dc:language>
  <cp:lastModifiedBy>Matematyka</cp:lastModifiedBy>
  <dcterms:modified xsi:type="dcterms:W3CDTF">2014-03-02T20:48:33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