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png" ContentType="image/png"/>
  <Override PartName="/ppt/media/image22.jpeg" ContentType="image/jpeg"/>
  <Override PartName="/ppt/media/image7.png" ContentType="image/png"/>
  <Override PartName="/ppt/media/image34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28.png" ContentType="image/png"/>
  <Override PartName="/ppt/media/image5.png" ContentType="image/png"/>
  <Override PartName="/ppt/media/image35.jpeg" ContentType="image/jpeg"/>
  <Override PartName="/ppt/media/image1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12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5.jpeg" ContentType="image/jpeg"/>
  <Override PartName="/ppt/media/image16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237C-1102-4695-9AAE-9556AE028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9E11-D861-43D9-A514-6B2F7C9E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91EC-5B1C-479F-963B-3C4018657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52F4-0DD2-45FD-96DC-2B6C00324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927D-F6D3-4812-B19F-F647DD599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205D-6BB3-4A19-B276-6C3AAF9E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1D9B-7AA1-4477-81F1-6DBBE888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0DEF0-6E25-4AA5-ABAC-A6BB6EED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6C53-1792-4C2A-BA09-165A93D4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D943-17CF-45E3-90D9-CEBEA0B0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3838E-3B38-420F-8199-2B00A97C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E0D5-CBE5-4703-B48C-A9B3ACA8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06D4-37EA-404B-A33F-48607A8D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B8E5D-8F9B-41F8-802F-8918C35A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0F56-91FE-4601-A8CB-74F4D486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1BBD-A7C2-4A36-9DE6-C302D0F55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AE1E-1207-483A-948F-6CCC73457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2CA6-950F-4D83-B758-9018DF0F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44F6-3E2F-4809-B3E7-98C0B3E0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19A1-63B3-4FB4-BAB2-69C1F8BE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B93E-BB88-4980-BA05-5B0A657E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18B0-D24D-47DA-9585-4571465B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B3F8-9DF0-43CE-9A2A-015D0D7B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0FB8-2482-4C7D-9EF0-131A296D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FC2B-B4CD-4A99-9BAF-AD85AAE0F0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9D02-8159-49F1-B330-1D8C838EF1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-138240" y="1981080"/>
            <a:ext cx="94204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33240" y="623880"/>
            <a:ext cx="787752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33240" y="614520"/>
            <a:ext cx="7877520" cy="56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3959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613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6180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6132240" cy="6858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Plik:Cylinder geometry.svg"/>
          <p:cNvPicPr/>
          <p:nvPr/>
        </p:nvPicPr>
        <p:blipFill>
          <a:blip r:embed="rId2"/>
          <a:stretch/>
        </p:blipFill>
        <p:spPr>
          <a:xfrm>
            <a:off x="7010280" y="457200"/>
            <a:ext cx="15829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13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TOŻE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8" name="" descr="http://www.megamatma.pl/res/upload/RYSUNKI_DOBRE/gimnazjum/plik_12_6/1.gif"/>
          <p:cNvPicPr/>
          <p:nvPr/>
        </p:nvPicPr>
        <p:blipFill>
          <a:blip r:embed="rId1"/>
          <a:stretch/>
        </p:blipFill>
        <p:spPr>
          <a:xfrm>
            <a:off x="228600" y="1600200"/>
            <a:ext cx="83818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http://www.matematykam.pl/images/133a.jpg"/>
          <p:cNvPicPr/>
          <p:nvPr/>
        </p:nvPicPr>
        <p:blipFill>
          <a:blip r:embed="rId1"/>
          <a:stretch/>
        </p:blipFill>
        <p:spPr>
          <a:xfrm>
            <a:off x="0" y="609480"/>
            <a:ext cx="899172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57200" y="47520"/>
            <a:ext cx="4686480" cy="65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583884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republika.pl"/>
          <p:cNvPicPr/>
          <p:nvPr/>
        </p:nvPicPr>
        <p:blipFill>
          <a:blip r:embed="rId1"/>
          <a:stretch/>
        </p:blipFill>
        <p:spPr>
          <a:xfrm>
            <a:off x="1663560" y="228600"/>
            <a:ext cx="5302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452412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5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475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http://www.pomocedlaszkol.pl/_var/gfx/32d3bd476831fcdac249bf2533af96e7.jpg"/>
          <p:cNvPicPr/>
          <p:nvPr/>
        </p:nvPicPr>
        <p:blipFill>
          <a:blip r:embed="rId1"/>
          <a:stretch/>
        </p:blipFill>
        <p:spPr>
          <a:xfrm>
            <a:off x="152280" y="457200"/>
            <a:ext cx="63248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838080" y="860400"/>
            <a:ext cx="624852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http://www.matmana6.pl/zdjecia/szkola_srednia/geometria_w_przestrzeni_stereometria/graniastoslup_12.png"/>
          <p:cNvPicPr/>
          <p:nvPr/>
        </p:nvPicPr>
        <p:blipFill>
          <a:blip r:embed="rId1"/>
          <a:stretch/>
        </p:blipFill>
        <p:spPr>
          <a:xfrm>
            <a:off x="228600" y="152280"/>
            <a:ext cx="6477120" cy="63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http://www.matmana6.pl/zdjecia/szkola_srednia/geometria_w_przestrzeni_stereometria/graniastoslup_14.png"/>
          <p:cNvPicPr/>
          <p:nvPr/>
        </p:nvPicPr>
        <p:blipFill>
          <a:blip r:embed="rId1"/>
          <a:stretch/>
        </p:blipFill>
        <p:spPr>
          <a:xfrm>
            <a:off x="304920" y="228600"/>
            <a:ext cx="50180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319480" y="804960"/>
            <a:ext cx="4505040" cy="52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http://www.matmana6.pl/zdjecia/szkola_srednia/geometria_w_przestrzeni_stereometria/graniastoslup_17.png"/>
          <p:cNvPicPr/>
          <p:nvPr/>
        </p:nvPicPr>
        <p:blipFill>
          <a:blip r:embed="rId1"/>
          <a:stretch/>
        </p:blipFill>
        <p:spPr>
          <a:xfrm>
            <a:off x="304920" y="152280"/>
            <a:ext cx="59706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46134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http://static.scholaris.pl/main-file/108/figury-przystajace-i-podobne_64778.jpg"/>
          <p:cNvPicPr/>
          <p:nvPr/>
        </p:nvPicPr>
        <p:blipFill>
          <a:blip r:embed="rId1"/>
          <a:stretch/>
        </p:blipFill>
        <p:spPr>
          <a:xfrm>
            <a:off x="2057400" y="0"/>
            <a:ext cx="495144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590920" y="152280"/>
            <a:ext cx="42796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2443320" y="438120"/>
            <a:ext cx="425736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7315200" cy="65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752480" y="60948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568620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752480" y="719280"/>
            <a:ext cx="4695840" cy="45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014480" y="804960"/>
            <a:ext cx="7115040" cy="52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4191120" cy="40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395604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370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46674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6T18:58:56Z</dcterms:created>
  <dc:creator>Matematyka</dc:creator>
  <dc:description/>
  <dc:language>en-US</dc:language>
  <cp:lastModifiedBy>Matematyka</cp:lastModifiedBy>
  <dcterms:modified xsi:type="dcterms:W3CDTF">2014-03-02T20:48:33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