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A19-B8C6-498A-B403-056F6E94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58C-C975-452B-BE5F-57A8B10D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1B3-C9A6-440D-80B7-541CFB50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1FD-0ECF-4BAD-8F01-34035249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7AB-BC81-41C0-80DE-55A9CF81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989-DB21-4F0D-8DEC-D121072D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CE7-5A17-4B9E-9896-15AFD79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EA5-E8A2-4902-BBD7-D5A0EFF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C28-3AD9-48D4-A426-2FC4EB4C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0FC-D21A-4929-8234-29B84E5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4FC-C95B-427D-BB0F-4CFEEB0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0CD-E9C5-4FF9-B977-B5C452B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3A0-7CD4-4BA0-81FD-ECCB9787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9/Ar&#228;ometer-thermome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Messung-Restzuckergehalt-eines-Bieres-nach-drei-Tage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23544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13716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y metale o tej samej objętości mają tę samą mas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1981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ż sztabki różnych metali o jednakowych wymiarach. Porównaj wyniki otrzymanych pomiar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9480" y="3429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zaobserwowałe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2120" y="5867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e mają taką samą objętość ale inną masę. Właściwość jaka je od siebie różni to gęst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ęstość (ciężar właściwy)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68360" y="1700280"/>
            <a:ext cx="828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ahoma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ęstością nazywamy stosunek masy ciała do obję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6880" y="4419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– masa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00200" y="3581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19520" y="40384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gęstość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4876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- objęt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79280" y="558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ędzynarodową jednostką gęstości j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osługiwać się można także innymi jednostkam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3343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52388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mieszano ze sobą 7 cieczy o różnej gęstości i różnej barw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óra z cieczy ma największą a która najmniejszą gęstość? Odpowiedź uzasadn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ał stałych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97180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Masę ciał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możemy określić ważąc na wadze np. elektroni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2209680"/>
            <a:ext cx="106668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209680"/>
            <a:ext cx="99072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Y OKREŚLIĆ GĘSTOŚĆ SUBSTANCJI NALEŻY ZNAĆ MASĘ I OBJĘTOŚĆ SUBSTA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048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ętość ciała możemy określ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3526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4290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śli jest to bryła, korzystając ze wzorów na objętość bry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.V=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a sześci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41972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jest to ciało o nieregularnych kształtach to zawieś ciało na nitce i zanurz je w cylindrze miarowym częściowo wypełnionym wodą. Objętość odczytaj jako różnicę objętości po i przed zanurzeniem ciała. Objętość odczytuj zawsze względem menisku górnego lub zawsze względem menisku dolnego, ustawiając oko na wysokości poziomu cieczy w cylindr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2070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e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447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żna zmierzyć areometrem fot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Plik:Aräometer-thermom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447840" cy="562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9051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prostszym wariantem jest (tzw. areometr obciążeniowy) - jest to pusta rurka szklana, której górna wydłużona część zaopatrzona jest w skalę część dolna w postaci bańki wypełniona jest materiałem o dużej gęstości (np. rtęć, śrut itp.), co pozwala na utrzymanie pozycji pionowej przyrządu zanurzonego w ciec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1280" y="533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ując pomiaru gęstości cieczy przy pomocy areometru należy wlać do menzurki pomiarowej badany płyn w ilości pozwalającej na swobodne zanurzenie przyrządu. Następnie wkładamy areometr i na jego skali odczytujemy wynik. Areometry najczęściej kalibrowane są dla temperatury 20 °C, dlatego badany płyn powinien mieć taką właśnie temperatur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311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://pl.wikipedia.org/wiki/Are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21932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fuw.edu.pl/wo/data/prac-fiz-gestos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Źródł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57:32Z</dcterms:created>
  <dc:creator>Toshiba</dc:creator>
  <dc:description/>
  <dc:language>en-US</dc:language>
  <cp:lastModifiedBy>Toshiba</cp:lastModifiedBy>
  <dcterms:modified xsi:type="dcterms:W3CDTF">2013-04-25T10:3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