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AE3-78C5-43AF-8C40-BA5267F8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21B-E957-48A2-9A10-53268BB1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575-2258-4AF1-8D5C-63B32194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A35-9AF6-48F2-AF32-D03DEEFC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F13-E632-48E5-BB4C-FD315D53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B43-6846-41DE-ACD7-4F4D4E2D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5F4-EBE6-486D-8C28-FD34C3E7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BCC-F110-4199-AA8D-30D0048C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8AD-E0E1-49EE-9FA6-D72CD52C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0F4-3048-4563-BE7E-3EBEA26D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41E-29BE-403D-8B5F-E078593A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60C-1719-4BE3-8EF9-B465BDED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AD7E-02AA-403D-9F29-9F59CA315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9/Ar&#228;ometer-thermomet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Messung-Restzuckergehalt-eines-Bieres-nach-drei-Tage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2354400" cy="2514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57200" y="137160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zy metale o tej samej objętości mają tę samą mas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1981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aż sztabki różnych metali o jednakowych wymiarach. Porównaj wyniki otrzymanych pomiar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09480" y="34290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zaobserwowałe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62120" y="58672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e mają taką samą objętość ale inną masę. Właściwość jaka je od siebie różni to gęst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518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ęstość (ciężar właściwy)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68360" y="1700280"/>
            <a:ext cx="8280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ahoma"/>
              </a:rPr>
              <a:t>d=m/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ęstością nazywamy stosunek masy ciała do objętoś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666880" y="4419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– masa substa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600200" y="3581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819520" y="40384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gęstość substa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66880" y="4876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- objęt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79280" y="55897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ędzynarodową jednostką gęstości je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osługiwać się można także innymi jednostkam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/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315200" cy="3343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5335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52388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mieszano ze sobą 7 cieczy o różnej gęstości i różnej barw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638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óra z cieczy ma największą a która najmniejszą gęstość? Odpowiedź uzasadn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miar gęstości ciał stałych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97180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Masę ciał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możemy określić ważąc na wadze np. elektroniczn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99840" y="2209680"/>
            <a:ext cx="1066680" cy="685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2209680"/>
            <a:ext cx="990720" cy="838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238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Y OKREŚLIĆ GĘSTOŚĆ SUBSTANCJI NALEŻY ZNAĆ MASĘ I OBJĘTOŚĆ SUBSTAN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048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ętość ciała możemy określ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33560" y="335268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34290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4648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śli jest to bryła, korzystając ze wzorów na objętość bry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.V=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la sześci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419720"/>
            <a:ext cx="373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śli jest to ciało o nieregularnych kształtach to zawieś ciało na nitce i zanurz je w cylindrze miarowym częściowo wypełnionym wodą. Objętość odczytaj jako różnicę objętości po i przed zanurzeniem ciała. Objętość odczytuj zawsze względem menisku górnego lub zawsze względem menisku dolnego, ustawiając oko na wysokości poziomu cieczy w cylindr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4419720"/>
            <a:ext cx="2070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miar gęstości cie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4479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żna zmierzyć areometrem fot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Plik:Aräometer-thermome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762120"/>
            <a:ext cx="447840" cy="5629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90512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prostszym wariantem jest (tzw. areometr obciążeniowy) - jest to pusta rurka szklana, której górna wydłużona część zaopatrzona jest w skalę część dolna w postaci bańki wypełniona jest materiałem o dużej gęstości (np. rtęć, śrut itp.), co pozwala na utrzymanie pozycji pionowej przyrządu zanurzonego w ciecz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581280" y="53352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ując pomiaru gęstości cieczy przy pomocy areometru należy wlać do menzurki pomiarowej badany płyn w ilości pozwalającej na swobodne zanurzenie przyrządu. Następnie wkładamy areometr i na jego skali odczytujemy wynik. Areometry najczęściej kalibrowane są dla temperatury 20 °C, dlatego badany płyn powinien mieć taką właśnie temperatur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33520"/>
            <a:ext cx="3113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ttp://pl.wikipedia.org/wiki/Are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219320"/>
            <a:ext cx="58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ww.fuw.edu.pl/wo/data/prac-fiz-gestosc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762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Źródł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0:57:32Z</dcterms:created>
  <dc:creator>Toshiba</dc:creator>
  <dc:description/>
  <dc:language>en-US</dc:language>
  <cp:lastModifiedBy>Toshiba</cp:lastModifiedBy>
  <dcterms:modified xsi:type="dcterms:W3CDTF">2013-04-25T10:38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