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AF8-842C-4F13-BF5C-76EFDE7A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963-0FDF-4864-B378-9C5704E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C03-92C7-42BF-A087-0C6D5F59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1A5-CE59-4334-8FDF-6AFC36D3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55A-8F5F-488E-8DD7-E8421896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9B8-6382-477A-83B6-F867F84D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968-6191-454F-A39A-C1DE6756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56C-A7F8-4205-8465-E627F589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E2B-61F3-4DC2-9E33-EC13D65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A98-6449-4D59-A189-073AC215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C9E-A519-47A2-8170-5DC3C1C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385-4F95-4AF1-8556-9C62863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F47C-A5F4-429A-8CFC-79362F6A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amoniak&amp;source=images&amp;cd=&amp;cad=rja&amp;docid=gODwJJY2n654XM&amp;tbnid=tioZJe9hews6ZM:&amp;ved=0CAUQjRw&amp;url=http%3A%2F%2Fgdzie-kupic.byqu.eu%2Fgdzie-kupic-amoniak%2F&amp;ei=8AOBUeS8IcbLtAbp5IG4CQ&amp;psig=AFQjCNF575u97kzYW7nOBYPT30wEq9U9qw&amp;ust=136749600238885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19810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bserwowanie mieszania się wody i denaturatu (CIECZ W CIECZ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ykonani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połowy probówki wlewamy wodę i dolewamy denaturat, mieszamy i obserwuje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413000" cy="193032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173" name="Text Box 3"/>
          <p:cNvSpPr/>
          <p:nvPr/>
        </p:nvSpPr>
        <p:spPr>
          <a:xfrm>
            <a:off x="0" y="260280"/>
            <a:ext cx="81374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0920" y="260280"/>
            <a:ext cx="8497800" cy="320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oria atomistyczno-cząsteczkowej budowy mater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jawiła się w XIX wieku. W 1808 roku John Dalton przedstawił najważniejsze założenia tej te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tego samego pierwiastka chemicznego są identyczne pod względem masy i rozmiar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mają kształt kuli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 jest najmniejszą cząstką pierwiastka chemicznego, która posiada wszystkie cechy tego pierwias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Pierwiastek chemiczny jest zbiorem takich samych ato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łączą się tworząc cząstecz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Związek chemiczny jest zbiorem takich samych cząstec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7302600" y="2565360"/>
            <a:ext cx="1841400" cy="191124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176" name="AutoShape 6"/>
          <p:cNvSpPr/>
          <p:nvPr/>
        </p:nvSpPr>
        <p:spPr>
          <a:xfrm>
            <a:off x="1619280" y="3716280"/>
            <a:ext cx="4246560" cy="2376720"/>
          </a:xfrm>
          <a:prstGeom prst="wedgeEllipseCallout">
            <a:avLst>
              <a:gd name="adj1" fmla="val -52652"/>
              <a:gd name="adj2" fmla="val 3356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24000" bIns="36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kry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grecki  filozof, który wprowadził pojęcie atomu. Przedstawił hipotezę, że świat jest zbudowan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atomów, czyli drobnych, niepodzielnych cząstek               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mate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580000" y="4869000"/>
            <a:ext cx="3564000" cy="1989000"/>
          </a:xfrm>
          <a:prstGeom prst="wedgeEllipseCallout">
            <a:avLst>
              <a:gd name="adj1" fmla="val 33606"/>
              <a:gd name="adj2" fmla="val -6268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John Dalton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– brytyjski nauczyciel chemii, który wprowadził do nowoczesnej chemii hipotezę Demokry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8"/>
          <p:cNvSpPr/>
          <p:nvPr/>
        </p:nvSpPr>
        <p:spPr>
          <a:xfrm>
            <a:off x="468360" y="1557360"/>
            <a:ext cx="8280360" cy="437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taczająca nas materia to świat różnorodnych substancji np. woda, powietrze, drewno, metale. Sprawiają one wrażenie, że mają budowę ciągłą, to znaczy  nie widzimy  w nich poszczególnych elementów. Jednak materia nie jest lita. Zbudowana jest z małych ziarenek, które są w ciągłym, nieustannym ru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6600ff"/>
                </a:solidFill>
                <a:latin typeface="Arial"/>
              </a:rPr>
              <a:t>OTO DOWODY ZIARNISTEJ BUDOWY MATE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fuzja – samorzutne rozprzestrzenianie się cząstek jednej substan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drug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eszanie się dwóch cieczy i towarzyszące im zwykle zmniejszanie się objętości, np. glicerolu z wod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uszczanie ciał stałych w cieczach, np. rozpuszczanie manganianu (VII) potasu w wod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tanu skupienia mate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13800" y="458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ff"/>
                </a:solidFill>
                <a:uFillTx/>
                <a:latin typeface="Arial"/>
              </a:rPr>
              <a:t>Podsum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533520"/>
            <a:ext cx="7326360" cy="4663800"/>
            <a:chOff x="685800" y="533520"/>
            <a:chExt cx="7326360" cy="4663800"/>
          </a:xfrm>
        </p:grpSpPr>
        <p:sp>
          <p:nvSpPr>
            <p:cNvPr id="45" name="Line 11"/>
            <p:cNvSpPr/>
            <p:nvPr/>
          </p:nvSpPr>
          <p:spPr>
            <a:xfrm>
              <a:off x="2081160" y="273996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3"/>
            <p:cNvSpPr/>
            <p:nvPr/>
          </p:nvSpPr>
          <p:spPr>
            <a:xfrm>
              <a:off x="1316160" y="3909960"/>
              <a:ext cx="2503440" cy="1268640"/>
            </a:xfrm>
            <a:prstGeom prst="cloudCallout">
              <a:avLst>
                <a:gd name="adj1" fmla="val 41374"/>
                <a:gd name="adj2" fmla="val -86421"/>
              </a:avLst>
            </a:prstGeom>
            <a:solidFill>
              <a:srgbClr val="c8e3fb"/>
            </a:solidFill>
            <a:ln w="2232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zed zmieszani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5"/>
            <p:cNvSpPr/>
            <p:nvPr/>
          </p:nvSpPr>
          <p:spPr>
            <a:xfrm>
              <a:off x="685800" y="174960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3763"/>
                  </a:solidFill>
                  <a:latin typeface="Arial"/>
                </a:rPr>
                <a:t>denatur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2035080" y="188424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7"/>
            <p:cNvSpPr/>
            <p:nvPr/>
          </p:nvSpPr>
          <p:spPr>
            <a:xfrm>
              <a:off x="911160" y="2558880"/>
              <a:ext cx="10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3763"/>
                  </a:solidFill>
                  <a:latin typeface="Arial"/>
                </a:rPr>
                <a:t>wo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1"/>
            <a:stretch/>
          </p:blipFill>
          <p:spPr>
            <a:xfrm>
              <a:off x="3295800" y="533520"/>
              <a:ext cx="2496960" cy="309564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sp>
          <p:nvSpPr>
            <p:cNvPr id="51" name="Line 24"/>
            <p:cNvSpPr/>
            <p:nvPr/>
          </p:nvSpPr>
          <p:spPr>
            <a:xfrm>
              <a:off x="4016520" y="111924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5"/>
            <p:cNvSpPr/>
            <p:nvPr/>
          </p:nvSpPr>
          <p:spPr>
            <a:xfrm>
              <a:off x="5635440" y="111924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7"/>
            <p:cNvSpPr/>
            <p:nvPr/>
          </p:nvSpPr>
          <p:spPr>
            <a:xfrm>
              <a:off x="5681520" y="4044960"/>
              <a:ext cx="2330640" cy="1152360"/>
            </a:xfrm>
            <a:prstGeom prst="cloudCallout">
              <a:avLst>
                <a:gd name="adj1" fmla="val -68254"/>
                <a:gd name="adj2" fmla="val -114050"/>
              </a:avLst>
            </a:prstGeom>
            <a:solidFill>
              <a:srgbClr val="c8e3fb"/>
            </a:solidFill>
            <a:ln w="2232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 zmieszani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3251160" y="107460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57200" y="556272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NIOSEK: Objętość mieszaniny dwóch cieczy (denaturatu z wodą) jest mniejsza od sumy objętości skład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ZACHODZI ZJAWISKO KONTRAK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bserwowanie zachowania się ciała stałego w ciec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ykonan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zlewki wlewamy wodę i wrzucamy kryształek manganianu (VII) potasu. Prowadzimy obserwacj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wac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254448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ykonanie: otwieramy butelkę z amoniakiem i obserwuje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9718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1295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Badanie rozprzestrzeniania się zapachu amonia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Wniose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chodzi zjawisko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yfuz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zyli samorzutnego mieszania się stykających się substanc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wiadczy to o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ziarnistej budowie materii i ciągłym ruchu cząstecz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 jakich materia jest zbudow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yfuzja zachodzi w gazach, cieczach i ciałach stał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753264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6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OŚWIADCZENIE MODELO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wysokiego cylindra nasyp 1/3 objętości grochu i dosyp równą objętość ziarenek maku. Zaznacz górny pozi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strząsaj zawartością cylindra aż kulki wymieszają się równomiernie. Ponownie zaznacz górny pozi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8080" y="3048120"/>
            <a:ext cx="3438360" cy="3259080"/>
            <a:chOff x="838080" y="3048120"/>
            <a:chExt cx="3438360" cy="3259080"/>
          </a:xfrm>
        </p:grpSpPr>
        <p:sp>
          <p:nvSpPr>
            <p:cNvPr id="71" name="AutoShape 29"/>
            <p:cNvSpPr/>
            <p:nvPr/>
          </p:nvSpPr>
          <p:spPr>
            <a:xfrm>
              <a:off x="838080" y="3067200"/>
              <a:ext cx="1512720" cy="3240000"/>
            </a:xfrm>
            <a:prstGeom prst="can">
              <a:avLst>
                <a:gd name="adj" fmla="val 25000"/>
              </a:avLst>
            </a:prstGeom>
            <a:solidFill>
              <a:srgbClr val="4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0"/>
            <p:cNvSpPr/>
            <p:nvPr/>
          </p:nvSpPr>
          <p:spPr>
            <a:xfrm>
              <a:off x="2765160" y="3048120"/>
              <a:ext cx="1511280" cy="3168720"/>
            </a:xfrm>
            <a:prstGeom prst="can">
              <a:avLst>
                <a:gd name="adj" fmla="val 25000"/>
              </a:avLst>
            </a:prstGeom>
            <a:solidFill>
              <a:srgbClr val="4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92080" y="564048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1396800" y="571176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182880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1396800" y="520848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92080" y="513720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1828800" y="492120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1252440" y="470376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276516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0"/>
            <p:cNvSpPr/>
            <p:nvPr/>
          </p:nvSpPr>
          <p:spPr>
            <a:xfrm>
              <a:off x="3268440" y="571176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1"/>
            <p:cNvSpPr/>
            <p:nvPr/>
          </p:nvSpPr>
          <p:spPr>
            <a:xfrm>
              <a:off x="370044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2"/>
            <p:cNvSpPr/>
            <p:nvPr/>
          </p:nvSpPr>
          <p:spPr>
            <a:xfrm>
              <a:off x="1323720" y="4416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3"/>
            <p:cNvSpPr/>
            <p:nvPr/>
          </p:nvSpPr>
          <p:spPr>
            <a:xfrm>
              <a:off x="1108080" y="463248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4"/>
            <p:cNvSpPr/>
            <p:nvPr/>
          </p:nvSpPr>
          <p:spPr>
            <a:xfrm>
              <a:off x="892080" y="4703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5"/>
            <p:cNvSpPr/>
            <p:nvPr/>
          </p:nvSpPr>
          <p:spPr>
            <a:xfrm>
              <a:off x="1036440" y="4921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6"/>
            <p:cNvSpPr/>
            <p:nvPr/>
          </p:nvSpPr>
          <p:spPr>
            <a:xfrm>
              <a:off x="1757160" y="477684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7"/>
            <p:cNvSpPr/>
            <p:nvPr/>
          </p:nvSpPr>
          <p:spPr>
            <a:xfrm>
              <a:off x="1973160" y="4703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48"/>
            <p:cNvSpPr/>
            <p:nvPr/>
          </p:nvSpPr>
          <p:spPr>
            <a:xfrm>
              <a:off x="2116080" y="4056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9"/>
            <p:cNvSpPr/>
            <p:nvPr/>
          </p:nvSpPr>
          <p:spPr>
            <a:xfrm>
              <a:off x="1612800" y="42721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0"/>
            <p:cNvSpPr/>
            <p:nvPr/>
          </p:nvSpPr>
          <p:spPr>
            <a:xfrm>
              <a:off x="2836800" y="46324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1"/>
            <p:cNvSpPr/>
            <p:nvPr/>
          </p:nvSpPr>
          <p:spPr>
            <a:xfrm>
              <a:off x="1828800" y="448776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1541160" y="4487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2836800" y="5353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3197160" y="556884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3773520" y="5929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1108080" y="432612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7"/>
            <p:cNvSpPr/>
            <p:nvPr/>
          </p:nvSpPr>
          <p:spPr>
            <a:xfrm>
              <a:off x="1333440" y="4146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8"/>
            <p:cNvSpPr/>
            <p:nvPr/>
          </p:nvSpPr>
          <p:spPr>
            <a:xfrm>
              <a:off x="1541160" y="4056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9"/>
            <p:cNvSpPr/>
            <p:nvPr/>
          </p:nvSpPr>
          <p:spPr>
            <a:xfrm>
              <a:off x="1828800" y="42004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892080" y="4487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892080" y="4200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3989160" y="49928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3916080" y="5280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3268440" y="5137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5"/>
            <p:cNvSpPr/>
            <p:nvPr/>
          </p:nvSpPr>
          <p:spPr>
            <a:xfrm>
              <a:off x="3341520" y="5496120"/>
              <a:ext cx="14292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3124080" y="5929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7"/>
            <p:cNvSpPr/>
            <p:nvPr/>
          </p:nvSpPr>
          <p:spPr>
            <a:xfrm>
              <a:off x="3052800" y="456084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3413160" y="535320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3557520" y="54961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3413160" y="4921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4060800" y="5137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4060800" y="54244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3"/>
            <p:cNvSpPr/>
            <p:nvPr/>
          </p:nvSpPr>
          <p:spPr>
            <a:xfrm>
              <a:off x="3484440" y="499284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4"/>
            <p:cNvSpPr/>
            <p:nvPr/>
          </p:nvSpPr>
          <p:spPr>
            <a:xfrm>
              <a:off x="2765160" y="484812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5"/>
            <p:cNvSpPr/>
            <p:nvPr/>
          </p:nvSpPr>
          <p:spPr>
            <a:xfrm>
              <a:off x="3701880" y="455940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3197160" y="441648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2044440" y="4345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197160" y="4848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3125520" y="5353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83"/>
          <p:cNvSpPr/>
          <p:nvPr/>
        </p:nvSpPr>
        <p:spPr>
          <a:xfrm>
            <a:off x="4797360" y="3657600"/>
            <a:ext cx="434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obserwowano zmniejszenie się objętośc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łe kulki zajmują wolne przestrzen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ędzy dużymi kulkami. Analogicz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awisko  zachodzi przy mieszaniu się cieczy i świadczy o różnych rozmiarach ich dro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6"/>
          <p:cNvSpPr/>
          <p:nvPr/>
        </p:nvSpPr>
        <p:spPr>
          <a:xfrm>
            <a:off x="341280" y="1359000"/>
            <a:ext cx="3313080" cy="165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2050920" y="907920"/>
            <a:ext cx="0" cy="20894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539640" y="1557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1042920" y="170028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900000" y="2565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1187280" y="220500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1403280" y="141300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3"/>
          <p:cNvSpPr/>
          <p:nvPr/>
        </p:nvSpPr>
        <p:spPr>
          <a:xfrm>
            <a:off x="1547640" y="2492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4"/>
          <p:cNvSpPr/>
          <p:nvPr/>
        </p:nvSpPr>
        <p:spPr>
          <a:xfrm>
            <a:off x="539640" y="206064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5"/>
          <p:cNvSpPr/>
          <p:nvPr/>
        </p:nvSpPr>
        <p:spPr>
          <a:xfrm>
            <a:off x="219564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6"/>
          <p:cNvSpPr/>
          <p:nvPr/>
        </p:nvSpPr>
        <p:spPr>
          <a:xfrm>
            <a:off x="2268360" y="2421000"/>
            <a:ext cx="289080" cy="288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7"/>
          <p:cNvSpPr/>
          <p:nvPr/>
        </p:nvSpPr>
        <p:spPr>
          <a:xfrm>
            <a:off x="3132000" y="1484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>
            <a:off x="2556000" y="1989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3348000" y="191772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771640" y="2573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3059280" y="220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2700360" y="1557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1619280" y="1773360"/>
            <a:ext cx="28872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81640" y="1359000"/>
            <a:ext cx="3313080" cy="1655640"/>
            <a:chOff x="4481640" y="1359000"/>
            <a:chExt cx="3313080" cy="1655640"/>
          </a:xfrm>
        </p:grpSpPr>
        <p:sp>
          <p:nvSpPr>
            <p:cNvPr id="141" name="Oval 12"/>
            <p:cNvSpPr/>
            <p:nvPr/>
          </p:nvSpPr>
          <p:spPr>
            <a:xfrm>
              <a:off x="5256360" y="263700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7"/>
            <p:cNvSpPr/>
            <p:nvPr/>
          </p:nvSpPr>
          <p:spPr>
            <a:xfrm>
              <a:off x="6985080" y="2708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4481640" y="1359000"/>
              <a:ext cx="3313080" cy="1655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6"/>
            <p:cNvSpPr/>
            <p:nvPr/>
          </p:nvSpPr>
          <p:spPr>
            <a:xfrm>
              <a:off x="7201080" y="234936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7"/>
            <p:cNvSpPr/>
            <p:nvPr/>
          </p:nvSpPr>
          <p:spPr>
            <a:xfrm>
              <a:off x="5112000" y="170028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8"/>
            <p:cNvSpPr/>
            <p:nvPr/>
          </p:nvSpPr>
          <p:spPr>
            <a:xfrm>
              <a:off x="4969080" y="256536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9"/>
            <p:cNvSpPr/>
            <p:nvPr/>
          </p:nvSpPr>
          <p:spPr>
            <a:xfrm>
              <a:off x="6553440" y="191628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0"/>
            <p:cNvSpPr/>
            <p:nvPr/>
          </p:nvSpPr>
          <p:spPr>
            <a:xfrm>
              <a:off x="6193080" y="14842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1"/>
            <p:cNvSpPr/>
            <p:nvPr/>
          </p:nvSpPr>
          <p:spPr>
            <a:xfrm>
              <a:off x="5616720" y="24922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2"/>
            <p:cNvSpPr/>
            <p:nvPr/>
          </p:nvSpPr>
          <p:spPr>
            <a:xfrm>
              <a:off x="6912000" y="2565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3"/>
            <p:cNvSpPr/>
            <p:nvPr/>
          </p:nvSpPr>
          <p:spPr>
            <a:xfrm>
              <a:off x="5616720" y="177336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4"/>
            <p:cNvSpPr/>
            <p:nvPr/>
          </p:nvSpPr>
          <p:spPr>
            <a:xfrm>
              <a:off x="6336000" y="242100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5"/>
            <p:cNvSpPr/>
            <p:nvPr/>
          </p:nvSpPr>
          <p:spPr>
            <a:xfrm>
              <a:off x="4680000" y="141300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6"/>
            <p:cNvSpPr/>
            <p:nvPr/>
          </p:nvSpPr>
          <p:spPr>
            <a:xfrm>
              <a:off x="5832720" y="21337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7"/>
            <p:cNvSpPr/>
            <p:nvPr/>
          </p:nvSpPr>
          <p:spPr>
            <a:xfrm>
              <a:off x="7417080" y="191772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8"/>
            <p:cNvSpPr/>
            <p:nvPr/>
          </p:nvSpPr>
          <p:spPr>
            <a:xfrm>
              <a:off x="4753080" y="1989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9"/>
            <p:cNvSpPr/>
            <p:nvPr/>
          </p:nvSpPr>
          <p:spPr>
            <a:xfrm>
              <a:off x="5112000" y="220500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0"/>
            <p:cNvSpPr/>
            <p:nvPr/>
          </p:nvSpPr>
          <p:spPr>
            <a:xfrm>
              <a:off x="6769080" y="1557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61"/>
            <p:cNvSpPr/>
            <p:nvPr/>
          </p:nvSpPr>
          <p:spPr>
            <a:xfrm>
              <a:off x="7345440" y="148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2"/>
          <p:cNvSpPr/>
          <p:nvPr/>
        </p:nvSpPr>
        <p:spPr>
          <a:xfrm>
            <a:off x="179280" y="18900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chemat procesu dyfuz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3"/>
          <p:cNvSpPr/>
          <p:nvPr/>
        </p:nvSpPr>
        <p:spPr>
          <a:xfrm>
            <a:off x="250920" y="3338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Rys.1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Dwa gazy A i B są zlokalizowane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 oddzielnych obsza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4"/>
          <p:cNvSpPr/>
          <p:nvPr/>
        </p:nvSpPr>
        <p:spPr>
          <a:xfrm>
            <a:off x="4302000" y="329400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Rys.2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Po usunięciu przegrody dzielącej dwa obszary następuje rozprzestrzenianie się cząstek gazu A i cząstek gazu B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 całym naczyn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8"/>
          <p:cNvSpPr/>
          <p:nvPr/>
        </p:nvSpPr>
        <p:spPr>
          <a:xfrm>
            <a:off x="2843280" y="836640"/>
            <a:ext cx="1008000" cy="360360"/>
          </a:xfrm>
          <a:prstGeom prst="wedgeRectCallout">
            <a:avLst>
              <a:gd name="adj1" fmla="val -42439"/>
              <a:gd name="adj2" fmla="val 169824"/>
            </a:avLst>
          </a:prstGeom>
          <a:solidFill>
            <a:srgbClr val="00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9"/>
          <p:cNvSpPr/>
          <p:nvPr/>
        </p:nvSpPr>
        <p:spPr>
          <a:xfrm>
            <a:off x="611280" y="907920"/>
            <a:ext cx="865080" cy="360360"/>
          </a:xfrm>
          <a:prstGeom prst="wedgeRectCallout">
            <a:avLst>
              <a:gd name="adj1" fmla="val 54768"/>
              <a:gd name="adj2" fmla="val 135462"/>
            </a:avLst>
          </a:prstGeom>
          <a:solidFill>
            <a:srgbClr val="00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792000" y="5094360"/>
            <a:ext cx="79138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Dyfuzja zachodzi w gazach, cieczach i ciałach stał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ajszybciej zachodzi w gazach, najwolniej w ciałach stał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Ćwiczenie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edstawiono modele wewnętrznej budowy substancji o różnym stanie skupie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eanalizuj rysunki i wyjaśnij czemu dyfuzja najszybciej zachodzi w gazach, a najwolniej w ciałach stały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95880" y="3860640"/>
            <a:ext cx="1981440" cy="1320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5410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iec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ciało sta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1:17:27Z</dcterms:created>
  <dc:creator>Toshiba</dc:creator>
  <dc:description/>
  <dc:language>en-US</dc:language>
  <cp:lastModifiedBy>Toshiba</cp:lastModifiedBy>
  <dcterms:modified xsi:type="dcterms:W3CDTF">2013-05-01T12:51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