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A91-1800-4F47-8E55-4BEEE095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487-9E3D-4AE9-A4FF-428EA538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F48-C54F-488C-B33C-5500834E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E75-D96E-496C-8534-BAB7A844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036-F712-4CDF-9C9C-4839015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05E-ACF5-480F-A0E6-55726CE4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C09-5DAF-45E4-8D47-61B40EE7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CBC-2EAC-4092-96AF-437A5D4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08D-2ADE-4B27-8708-5E3A3E3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BF8-3F0E-478B-9CFC-45878E31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BF0-829A-4A9A-BC51-5EF82EC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642-7B5A-4E7C-B5A6-3BC6B0B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7CB-1EBE-49AC-BA0A-9967628A0E8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1358640"/>
            <a:ext cx="6678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 u="sng">
                <a:solidFill>
                  <a:srgbClr val="003300"/>
                </a:solidFill>
                <a:uFillTx/>
                <a:latin typeface="Century Gothic"/>
              </a:rPr>
              <a:t>BUDOWA ATOM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MCj02871310000[1]"/>
          <p:cNvPicPr/>
          <p:nvPr/>
        </p:nvPicPr>
        <p:blipFill>
          <a:blip r:embed="rId1"/>
          <a:stretch/>
        </p:blipFill>
        <p:spPr>
          <a:xfrm>
            <a:off x="4211640" y="2403360"/>
            <a:ext cx="4487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Liczba atom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Tahoma"/>
                <a:ea typeface="Arial"/>
              </a:rPr>
              <a:t>Atom pierwiastka chemicznego jest elektrycznie obojętny. Liczba protonów jest równa liczbie elektron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a protonów wchodzących w skład jądra atomowego nazywa się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ą atomow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i oznacza się symbolem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Z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Z</a:t>
            </a: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= ładunek jądra = liczba protonów =</a:t>
            </a:r>
            <a:br>
              <a:rPr sz="2800"/>
            </a:b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liczba elektron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4143240"/>
            <a:ext cx="8424720" cy="23403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iczba mas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a protonów i neutronów (nukleonów) jest nazwa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ą masową i oznacza się ją symbolem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A = liczba protonów + liczba neutron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= nukleony = p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atomo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= p+ = e-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11280" y="260280"/>
            <a:ext cx="2952720" cy="398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umowan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907920"/>
            <a:ext cx="7343640" cy="54835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układ złożony z jądra atomowego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t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budowy atomu wchodzące w skład jądra atomu mające masę równą 1 u i ładunek elementarny dod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u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 jądra atomowego elektrycznie obojętne o masie w przybliżeniu równej masie protonu = 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lek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poruszające się wokół jądra atomowego, posiadające ładunek elementarny ujemny i masę 1840 razy mniejszą od masy prot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atom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liczba protonów 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suma liczby protonów i neutronów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iastek chemicz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zbiór atomów o takiej samej liczbie atom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4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7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Budowa atom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2410910000[1]"/>
          <p:cNvPicPr/>
          <p:nvPr/>
        </p:nvPicPr>
        <p:blipFill>
          <a:blip r:embed="rId1"/>
          <a:stretch/>
        </p:blipFill>
        <p:spPr>
          <a:xfrm>
            <a:off x="341280" y="414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09560" y="2475000"/>
            <a:ext cx="703116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050920" y="1628640"/>
            <a:ext cx="6337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om zbudowany jest z jądra w którym znajdują się proton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neutrony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79280" y="62064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Atom jest najmniejszą ilością pierwiastka zachowującą jego właściwości chem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3528720" cy="3529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5742000" y="5364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Model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3851280" y="3645000"/>
            <a:ext cx="1441440" cy="79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5292720" y="3645000"/>
            <a:ext cx="1727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508720" y="3068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jądro atomu = protony + neu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356000" y="4292640"/>
            <a:ext cx="1008000" cy="576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364000" y="4292640"/>
            <a:ext cx="17290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651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elek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232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harakterystyka cząstek elementarnych budowy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16000" y="2997360"/>
            <a:ext cx="439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4360" y="3068640"/>
            <a:ext cx="799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211640" y="5950080"/>
            <a:ext cx="2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14036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628640"/>
          <a:ext cx="8966160" cy="3856320"/>
        </p:xfrm>
        <a:graphic>
          <a:graphicData uri="http://schemas.openxmlformats.org/drawingml/2006/table">
            <a:tbl>
              <a:tblPr/>
              <a:tblGrid>
                <a:gridCol w="1646280"/>
                <a:gridCol w="2098440"/>
                <a:gridCol w="1943280"/>
                <a:gridCol w="1584360"/>
                <a:gridCol w="169380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zary budowy ato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cząs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bliżona 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arny ładune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8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ądro atom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p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n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łoki elektron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e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" name="AutoShape 49"/>
          <p:cNvSpPr/>
          <p:nvPr/>
        </p:nvSpPr>
        <p:spPr>
          <a:xfrm>
            <a:off x="2771640" y="2708280"/>
            <a:ext cx="71640" cy="9349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5148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771640" y="2990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kle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7"/>
              <p:cNvSpPr txBox="1"/>
              <p:nvPr/>
            </p:nvSpPr>
            <p:spPr>
              <a:xfrm>
                <a:off x="4716360" y="4292640"/>
                <a:ext cx="863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185"/>
          <p:cNvSpPr/>
          <p:nvPr/>
        </p:nvSpPr>
        <p:spPr>
          <a:xfrm>
            <a:off x="6156360" y="436572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7"/>
          <p:cNvSpPr/>
          <p:nvPr/>
        </p:nvSpPr>
        <p:spPr>
          <a:xfrm>
            <a:off x="6948360" y="4076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Rozmieszczenie elektronów </a:t>
            </a:r>
            <a:br>
              <a:rPr sz="4500"/>
            </a:b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w atomi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79280" y="1557360"/>
            <a:ext cx="85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okół jądr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ruszają się z ogromną szybkością lżejsze od niego i ujemnie naładowane elektr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ch ruch daje efekt chmury ładunku ujemnego zwanego powłoką elektronow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85920" y="3968640"/>
            <a:ext cx="3924360" cy="2467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trony walen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564000" y="1628640"/>
            <a:ext cx="50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lektrony powłoki zewnętrznej najsłabiej przyciągane przez jądro są najbardziej ruchliwe. Biorą one udział w reakcjach chemicznych i decydują o właściwościach pierwiast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013360"/>
            <a:ext cx="7056360" cy="177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Nazywamy je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elektronami walencyjnymi, </a:t>
            </a:r>
            <a:br>
              <a:rPr sz="2800"/>
            </a:b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a powłokę na której są rozmieszczone,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powłoką walencyj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765000"/>
            <a:ext cx="1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3500280"/>
            <a:ext cx="50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000240" cy="27972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sp>
        <p:nvSpPr>
          <p:cNvPr id="83" name="Line 8"/>
          <p:cNvSpPr/>
          <p:nvPr/>
        </p:nvSpPr>
        <p:spPr>
          <a:xfrm flipH="1" flipV="1">
            <a:off x="1979640" y="3860640"/>
            <a:ext cx="151272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Powłoki elektronow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68360" y="19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Maksymalna liczba elektronów w danej powłoce wynosi 2n</a:t>
            </a:r>
            <a:r>
              <a:rPr b="0" lang="pl-PL" sz="2400" spc="-1" strike="noStrike" baseline="30000">
                <a:solidFill>
                  <a:srgbClr val="083763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, gdzie </a:t>
            </a:r>
            <a:r>
              <a:rPr b="0" i="1" lang="pl-PL" sz="2400" spc="-1" strike="noStrike">
                <a:solidFill>
                  <a:srgbClr val="083763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 to numer powło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997360"/>
          <a:ext cx="8497800" cy="3566880"/>
        </p:xfrm>
        <a:graphic>
          <a:graphicData uri="http://schemas.openxmlformats.org/drawingml/2006/table">
            <a:tbl>
              <a:tblPr/>
              <a:tblGrid>
                <a:gridCol w="2743200"/>
                <a:gridCol w="2513160"/>
                <a:gridCol w="3241440"/>
              </a:tblGrid>
              <a:tr h="12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umer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azwa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Maksymalna liczba elektronó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1116000" y="4770360"/>
            <a:ext cx="2087640" cy="208764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0"/>
            <a:ext cx="727236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ukle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niki jądra atomowego - protony i neutrony noszą nazwę nukle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Prot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są cząstkami o ładunku dodatnim. Wchodzą w skład jąder każdego atomu. Masa protonu jest równa 1 u, a ładunek jest równy + 1 (elementarny ładunek doda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eutr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Są cząstkami elektrycznie obojętnymi o masie w przybliżeniu równej masie protonu, czyli 1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547640" y="5229360"/>
            <a:ext cx="1152720" cy="115236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979640" y="5661000"/>
            <a:ext cx="360360" cy="36036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90800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132000" y="558972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411280" y="530064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3933720"/>
            <a:ext cx="2376360" cy="734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proszczony model atomu lit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6372360" y="4292640"/>
                <a:ext cx="187164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22"/>
          <p:cNvSpPr/>
          <p:nvPr/>
        </p:nvSpPr>
        <p:spPr>
          <a:xfrm>
            <a:off x="3780000" y="43657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masow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708360" y="57340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atomow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867280" y="4724280"/>
            <a:ext cx="792360" cy="7308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6084720" y="5734080"/>
            <a:ext cx="503280" cy="21600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02:45Z</dcterms:created>
  <dc:creator>krystynamarek</dc:creator>
  <dc:description/>
  <cp:keywords/>
  <dc:language>en-US</dc:language>
  <cp:lastModifiedBy>Toshiba</cp:lastModifiedBy>
  <dcterms:modified xsi:type="dcterms:W3CDTF">2013-05-02T08:16:34Z</dcterms:modified>
  <cp:revision>26</cp:revision>
  <dc:subject/>
  <dc:title>Slaj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5</vt:lpwstr>
  </property>
</Properties>
</file>