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772-EAB9-46D1-A9A9-557A3F8A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C77-5496-4120-959A-3274D0E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967-E6DD-448E-A5D7-4EB8E477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C60-F71C-49BC-84B9-6A31EA49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9D4-8205-40B4-853B-4D0E355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31A-A5FB-4903-8C05-92B7CF8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700-2AE0-4275-A2B5-A74B71AF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BC8-660A-4FC3-BD60-0D52428A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0BB-7AD0-4C9A-A191-1A737F2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76A-A342-4846-BC43-8BD2F48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738-0071-40EF-B8B9-5D28AAB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31B-98BA-4643-A945-9074B75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B708-4BD7-499C-8387-4415DA4B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amoniak&amp;source=images&amp;cd=&amp;cad=rja&amp;docid=gODwJJY2n654XM&amp;tbnid=tioZJe9hews6ZM:&amp;ved=0CAUQjRw&amp;url=http%3A%2F%2Fgdzie-kupic.byqu.eu%2Fgdzie-kupic-amoniak%2F&amp;ei=8AOBUeS8IcbLtAbp5IG4CQ&amp;psig=AFQjCNF575u97kzYW7nOBYPT30wEq9U9qw&amp;ust=136749600238885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mieszania się wody i denaturatu (CIECZ W CIECZ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połowy probówki wlewamy wodę i dolewamy denaturat, mieszamy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6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468360" y="1557360"/>
            <a:ext cx="8280360" cy="437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aczająca nas materia to świat różnorodnych substancji np. woda, powietrze, drewno, metale. Sprawiają one wrażenie, że mają budowę ciągłą, to znaczy  nie widzimy  w nich poszczególnych elementów. Jednak materia nie jest lita. Zbudowana jest z małych ziarenek, które są w ciągłym, nieustannym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OTO DOWODY ZIARNISTEJ BUDOWY MATE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fuzja – samorzutne rozprzestrzenianie się cząstek jednej substan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drug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szanie się dwóch cieczy i towarzyszące im zwykle zmniejszanie się objętości, np. glicerolu z wod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uszczanie ciał stałych w cieczach, np. rozpuszczanie manganianu (VII) potasu w wo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tanu skupienia mat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13800" y="458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533520"/>
            <a:ext cx="7326360" cy="4663800"/>
            <a:chOff x="685800" y="533520"/>
            <a:chExt cx="7326360" cy="4663800"/>
          </a:xfrm>
        </p:grpSpPr>
        <p:sp>
          <p:nvSpPr>
            <p:cNvPr id="45" name="Line 11"/>
            <p:cNvSpPr/>
            <p:nvPr/>
          </p:nvSpPr>
          <p:spPr>
            <a:xfrm>
              <a:off x="2081160" y="273996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3"/>
            <p:cNvSpPr/>
            <p:nvPr/>
          </p:nvSpPr>
          <p:spPr>
            <a:xfrm>
              <a:off x="1316160" y="3909960"/>
              <a:ext cx="2503440" cy="1268640"/>
            </a:xfrm>
            <a:prstGeom prst="cloudCallout">
              <a:avLst>
                <a:gd name="adj1" fmla="val 41374"/>
                <a:gd name="adj2" fmla="val -86421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zed zmieszani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5"/>
            <p:cNvSpPr/>
            <p:nvPr/>
          </p:nvSpPr>
          <p:spPr>
            <a:xfrm>
              <a:off x="685800" y="174960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denatu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035080" y="188424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7"/>
            <p:cNvSpPr/>
            <p:nvPr/>
          </p:nvSpPr>
          <p:spPr>
            <a:xfrm>
              <a:off x="911160" y="255888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w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1"/>
            <a:stretch/>
          </p:blipFill>
          <p:spPr>
            <a:xfrm>
              <a:off x="3295800" y="533520"/>
              <a:ext cx="2496960" cy="309564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51" name="Line 24"/>
            <p:cNvSpPr/>
            <p:nvPr/>
          </p:nvSpPr>
          <p:spPr>
            <a:xfrm>
              <a:off x="4016520" y="111924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>
              <a:off x="5635440" y="111924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7"/>
            <p:cNvSpPr/>
            <p:nvPr/>
          </p:nvSpPr>
          <p:spPr>
            <a:xfrm>
              <a:off x="5681520" y="4044960"/>
              <a:ext cx="2330640" cy="1152360"/>
            </a:xfrm>
            <a:prstGeom prst="cloudCallout">
              <a:avLst>
                <a:gd name="adj1" fmla="val -68254"/>
                <a:gd name="adj2" fmla="val -114050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 zmieszani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3251160" y="107460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5627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NIOSEK: Objętość mieszaniny dwóch cieczy (denaturatu z wodą) jest mniejsza od sumy objętości skład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ZACHODZI ZJAWISKO KONTRA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zachowania się ciała stałego w ciec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lewki wlewamy wodę i wrzucamy kryształek manganianu (VII) potasu. Prowadzimy obserwacj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wac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54448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: otwieramy butelkę z amoniakiem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971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295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danie rozprzestrzeniania się zapachu amoni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Wnios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dzi zjawisk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zyli samorzutnego mieszania się stykających się substanc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wiadczy to 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ziarnistej budowie materii i ciągłym ruchu cząstecz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 jakich materia jest zbudow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a zachodzi w gazach, cieczach i ciałach stał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532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OŚWIADCZENIE MODEL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wysokiego cylindra nasyp 1/3 objętości grochu i dosyp równą objętość ziarenek maku.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strząsaj zawartością cylindra aż kulki wymieszają się równomiernie. Ponownie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048120"/>
            <a:ext cx="3438360" cy="3259080"/>
            <a:chOff x="838080" y="3048120"/>
            <a:chExt cx="3438360" cy="3259080"/>
          </a:xfrm>
        </p:grpSpPr>
        <p:sp>
          <p:nvSpPr>
            <p:cNvPr id="71" name="AutoShape 29"/>
            <p:cNvSpPr/>
            <p:nvPr/>
          </p:nvSpPr>
          <p:spPr>
            <a:xfrm>
              <a:off x="838080" y="3067200"/>
              <a:ext cx="1512720" cy="324000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0"/>
            <p:cNvSpPr/>
            <p:nvPr/>
          </p:nvSpPr>
          <p:spPr>
            <a:xfrm>
              <a:off x="2765160" y="3048120"/>
              <a:ext cx="1511280" cy="316872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92080" y="5640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139680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182880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1396800" y="520848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92080" y="51372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1828800" y="492120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1252440" y="470376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276516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326844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1"/>
            <p:cNvSpPr/>
            <p:nvPr/>
          </p:nvSpPr>
          <p:spPr>
            <a:xfrm>
              <a:off x="370044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2"/>
            <p:cNvSpPr/>
            <p:nvPr/>
          </p:nvSpPr>
          <p:spPr>
            <a:xfrm>
              <a:off x="1323720" y="441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3"/>
            <p:cNvSpPr/>
            <p:nvPr/>
          </p:nvSpPr>
          <p:spPr>
            <a:xfrm>
              <a:off x="1108080" y="463248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89208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1036440" y="4921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6"/>
            <p:cNvSpPr/>
            <p:nvPr/>
          </p:nvSpPr>
          <p:spPr>
            <a:xfrm>
              <a:off x="1757160" y="4776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197316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211608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9"/>
            <p:cNvSpPr/>
            <p:nvPr/>
          </p:nvSpPr>
          <p:spPr>
            <a:xfrm>
              <a:off x="1612800" y="4272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0"/>
            <p:cNvSpPr/>
            <p:nvPr/>
          </p:nvSpPr>
          <p:spPr>
            <a:xfrm>
              <a:off x="2836800" y="46324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1"/>
            <p:cNvSpPr/>
            <p:nvPr/>
          </p:nvSpPr>
          <p:spPr>
            <a:xfrm>
              <a:off x="1828800" y="448776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154116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283680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3197160" y="5568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3773520" y="5929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1108080" y="432612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7"/>
            <p:cNvSpPr/>
            <p:nvPr/>
          </p:nvSpPr>
          <p:spPr>
            <a:xfrm>
              <a:off x="1333440" y="414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8"/>
            <p:cNvSpPr/>
            <p:nvPr/>
          </p:nvSpPr>
          <p:spPr>
            <a:xfrm>
              <a:off x="154116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1828800" y="4200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89208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892080" y="4200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3989160" y="49928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3916080" y="5280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3268440" y="5137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5"/>
            <p:cNvSpPr/>
            <p:nvPr/>
          </p:nvSpPr>
          <p:spPr>
            <a:xfrm>
              <a:off x="3341520" y="5496120"/>
              <a:ext cx="14292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3124080" y="5929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7"/>
            <p:cNvSpPr/>
            <p:nvPr/>
          </p:nvSpPr>
          <p:spPr>
            <a:xfrm>
              <a:off x="3052800" y="456084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3413160" y="53532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3557520" y="5496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3413160" y="4921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4060800" y="5137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4060800" y="5424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3"/>
            <p:cNvSpPr/>
            <p:nvPr/>
          </p:nvSpPr>
          <p:spPr>
            <a:xfrm>
              <a:off x="3484440" y="499284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4"/>
            <p:cNvSpPr/>
            <p:nvPr/>
          </p:nvSpPr>
          <p:spPr>
            <a:xfrm>
              <a:off x="2765160" y="484812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3701880" y="45594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3197160" y="4416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2044440" y="4345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197160" y="4848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312552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3"/>
          <p:cNvSpPr/>
          <p:nvPr/>
        </p:nvSpPr>
        <p:spPr>
          <a:xfrm>
            <a:off x="4797360" y="3657600"/>
            <a:ext cx="434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bserwowano zmniejszenie się objętośc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łe kulki zajmują wolne przestrze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ędzy dużymi kulkami. Analogicz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awisko  zachodzi przy mieszaniu się cieczy i świadczy o różnych rozmiarach ich dr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6"/>
          <p:cNvSpPr/>
          <p:nvPr/>
        </p:nvSpPr>
        <p:spPr>
          <a:xfrm>
            <a:off x="341280" y="1359000"/>
            <a:ext cx="3313080" cy="16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050920" y="907920"/>
            <a:ext cx="0" cy="20894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3964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1042920" y="170028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900000" y="2565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1187280" y="220500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1403280" y="1413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>
            <a:off x="1547640" y="2492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>
            <a:off x="539640" y="206064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5"/>
          <p:cNvSpPr/>
          <p:nvPr/>
        </p:nvSpPr>
        <p:spPr>
          <a:xfrm>
            <a:off x="219564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6"/>
          <p:cNvSpPr/>
          <p:nvPr/>
        </p:nvSpPr>
        <p:spPr>
          <a:xfrm>
            <a:off x="2268360" y="2421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7"/>
          <p:cNvSpPr/>
          <p:nvPr/>
        </p:nvSpPr>
        <p:spPr>
          <a:xfrm>
            <a:off x="3132000" y="1484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556000" y="1989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3348000" y="191772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771640" y="2573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3059280" y="220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270036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1619280" y="1773360"/>
            <a:ext cx="28872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81640" y="1359000"/>
            <a:ext cx="3313080" cy="1655640"/>
            <a:chOff x="4481640" y="1359000"/>
            <a:chExt cx="3313080" cy="1655640"/>
          </a:xfrm>
        </p:grpSpPr>
        <p:sp>
          <p:nvSpPr>
            <p:cNvPr id="141" name="Oval 12"/>
            <p:cNvSpPr/>
            <p:nvPr/>
          </p:nvSpPr>
          <p:spPr>
            <a:xfrm>
              <a:off x="5256360" y="2637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6985080" y="2708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4481640" y="1359000"/>
              <a:ext cx="3313080" cy="1655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6"/>
            <p:cNvSpPr/>
            <p:nvPr/>
          </p:nvSpPr>
          <p:spPr>
            <a:xfrm>
              <a:off x="7201080" y="2349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7"/>
            <p:cNvSpPr/>
            <p:nvPr/>
          </p:nvSpPr>
          <p:spPr>
            <a:xfrm>
              <a:off x="5112000" y="1700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8"/>
            <p:cNvSpPr/>
            <p:nvPr/>
          </p:nvSpPr>
          <p:spPr>
            <a:xfrm>
              <a:off x="4969080" y="2565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9"/>
            <p:cNvSpPr/>
            <p:nvPr/>
          </p:nvSpPr>
          <p:spPr>
            <a:xfrm>
              <a:off x="6553440" y="1916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0"/>
            <p:cNvSpPr/>
            <p:nvPr/>
          </p:nvSpPr>
          <p:spPr>
            <a:xfrm>
              <a:off x="6193080" y="1484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1"/>
            <p:cNvSpPr/>
            <p:nvPr/>
          </p:nvSpPr>
          <p:spPr>
            <a:xfrm>
              <a:off x="5616720" y="2492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6912000" y="2565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3"/>
            <p:cNvSpPr/>
            <p:nvPr/>
          </p:nvSpPr>
          <p:spPr>
            <a:xfrm>
              <a:off x="5616720" y="17733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4"/>
            <p:cNvSpPr/>
            <p:nvPr/>
          </p:nvSpPr>
          <p:spPr>
            <a:xfrm>
              <a:off x="6336000" y="2421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680000" y="1413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6"/>
            <p:cNvSpPr/>
            <p:nvPr/>
          </p:nvSpPr>
          <p:spPr>
            <a:xfrm>
              <a:off x="5832720" y="2133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7"/>
            <p:cNvSpPr/>
            <p:nvPr/>
          </p:nvSpPr>
          <p:spPr>
            <a:xfrm>
              <a:off x="7417080" y="191772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8"/>
            <p:cNvSpPr/>
            <p:nvPr/>
          </p:nvSpPr>
          <p:spPr>
            <a:xfrm>
              <a:off x="4753080" y="1989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9"/>
            <p:cNvSpPr/>
            <p:nvPr/>
          </p:nvSpPr>
          <p:spPr>
            <a:xfrm>
              <a:off x="5112000" y="220500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0"/>
            <p:cNvSpPr/>
            <p:nvPr/>
          </p:nvSpPr>
          <p:spPr>
            <a:xfrm>
              <a:off x="6769080" y="1557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61"/>
            <p:cNvSpPr/>
            <p:nvPr/>
          </p:nvSpPr>
          <p:spPr>
            <a:xfrm>
              <a:off x="7345440" y="148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2"/>
          <p:cNvSpPr/>
          <p:nvPr/>
        </p:nvSpPr>
        <p:spPr>
          <a:xfrm>
            <a:off x="179280" y="1890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chemat procesu dyfu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3"/>
          <p:cNvSpPr/>
          <p:nvPr/>
        </p:nvSpPr>
        <p:spPr>
          <a:xfrm>
            <a:off x="250920" y="3338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1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Dwa gazy A i B są zlokalizowane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oddzielnych obsza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4302000" y="329400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2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Po usunięciu przegrody dzielącej dwa obszary następuje rozprzestrzenianie się cząstek gazu A i cząstek gazu B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całym naczy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>
            <a:off x="2843280" y="836640"/>
            <a:ext cx="1008000" cy="360360"/>
          </a:xfrm>
          <a:prstGeom prst="wedgeRectCallout">
            <a:avLst>
              <a:gd name="adj1" fmla="val -42439"/>
              <a:gd name="adj2" fmla="val 169824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9"/>
          <p:cNvSpPr/>
          <p:nvPr/>
        </p:nvSpPr>
        <p:spPr>
          <a:xfrm>
            <a:off x="611280" y="907920"/>
            <a:ext cx="865080" cy="360360"/>
          </a:xfrm>
          <a:prstGeom prst="wedgeRectCallout">
            <a:avLst>
              <a:gd name="adj1" fmla="val 54768"/>
              <a:gd name="adj2" fmla="val 135462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92000" y="5094360"/>
            <a:ext cx="7913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Dyfuzja zachodzi w gazach, cieczach i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ajszybciej zachodzi w gazach, najwolniej w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Ćwiczenie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dstawiono modele wewnętrznej budowy substancji o różnym stanie skupie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analizuj rysunki i wyjaśnij czemu dyfuzja najszybciej zachodzi w gazach, a najwolniej w ciałach stały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95880" y="3860640"/>
            <a:ext cx="1981440" cy="1320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410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iec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ciało sta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1:17:27Z</dcterms:created>
  <dc:creator>Toshiba</dc:creator>
  <dc:description/>
  <dc:language>en-US</dc:language>
  <cp:lastModifiedBy>Toshiba</cp:lastModifiedBy>
  <dcterms:modified xsi:type="dcterms:W3CDTF">2013-05-01T12:51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