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30.jpeg" ContentType="image/jpeg"/>
  <Override PartName="/ppt/media/image35.wmf" ContentType="image/x-wmf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02F-0DAF-4506-BC42-DF147324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094-ADE9-4403-BBD3-E1EED1C0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3B4-9D94-4C82-93EB-3D7E41DE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A08-BDF9-4A81-A3E5-21B3D08F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7982-DBE9-463E-8231-088BE2D3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2E2F-3FC4-4B5B-A6DE-259C82C4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E380-925B-4E25-BE22-490824B5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923-0704-40B5-B8C5-6F690D6B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1E90-A1A0-4CF8-8C02-21C93CB7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FDE1-F028-4074-A7CE-26B1FD8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4FAC-37F8-4D17-9363-13A847AD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7CF-22C9-41C2-A3A8-F2203934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F565-D381-4B5F-9F06-ED1FA27E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9D6B-FCE9-400F-8B17-19A36712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0FC8-CB55-4833-BC09-ED390403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0813-8CA6-4E65-BD8B-8233C7D4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5F32-2D54-47FD-8434-C639FB79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777-CEFA-4B5B-AC1F-A9348E5D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2FF-436F-4868-92E3-4756769F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014-9586-4047-802A-5A250E7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CD6-6F9C-4FC1-B09E-B621F05C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7FE-053A-4191-9483-08E1256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03A-59E6-44C6-8B58-83387C2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4DD-C8B3-4696-B61F-8B09CD6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0E46-0037-4D3D-B908-7D9444A011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4E0C-45CF-4AAD-A43B-08E8277F56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Izotopy" TargetMode="External"/><Relationship Id="rId2" Type="http://schemas.openxmlformats.org/officeDocument/2006/relationships/hyperlink" Target="http://www.google.pl/search?q=izotopy&amp;hl=pl&amp;source=lnms&amp;tbm=isch&amp;sa=X&amp;ei=pzV9Ud_6KMaWO43xgfAN&amp;sqi=2&amp;ved=0CAcQ_AUoAQ&amp;biw=1366&amp;bih=599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5700600" cy="23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urier New"/>
              </a:rPr>
              <a:t>IZOTOP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01120" y="836640"/>
            <a:ext cx="58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iwo” do produkcji energii –elektrownie jądr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032000" cy="264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2941560"/>
            <a:ext cx="435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68360" y="476280"/>
          <a:ext cx="2819520" cy="63324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YW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84360" y="981000"/>
            <a:ext cx="759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cja broni masowego raż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ń tą po raz pierwszy zastosowano w czasie II wojny światowej. Pierwszymi ofiarami byli mieszkańcy Hiroszimy i Nagasaki. Bomby jądrowe zrobione są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znacznej części z trotylu. W czasie wybuchu cały ładunek zamienia się w gazy osiągające temperaturę 1000000 stopni Celsjusza. Promieniowanie cieplne rozprzestrzenia się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prędkością 300 tys. Kilometrów na sekundę (prędkość światła) niszcząc wszystko na swojej drodze. Ta broń w rękach człowieka jest czymś najniebezpieczniejszym na świeci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457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egatywnie działają na organizm człowie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skutki promieniowania zależą od pochłoniętej dawki) np. powodując białaczkę, kataraktę, chorobę popromien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867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UWAG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KOLEJNY SLAJD ZAWIERA ZDJĘ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DRASTYCZ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68200"/>
            <a:ext cx="3456000" cy="232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792520" cy="2881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37450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ostokąt 5" descr=""/>
          <p:cNvPicPr/>
          <p:nvPr/>
        </p:nvPicPr>
        <p:blipFill>
          <a:blip r:embed="rId1"/>
          <a:stretch/>
        </p:blipFill>
        <p:spPr>
          <a:xfrm>
            <a:off x="1587600" y="309600"/>
            <a:ext cx="5968800" cy="1073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 atomowa jest to średnia masa atomowa  danego pierwiastka chemicznego, z uwzględnieniem jego składu izotop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 atomowa danego pierwiastka chemicznego jest średnią masą (mat) wynikającą z zawartości procentowej pierwiast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przykład chlor stanowi mieszaninę dwóch izotopów: 75,53 %  35Cl i 24,47 % 37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280600" y="3716280"/>
            <a:ext cx="4434120" cy="623880"/>
            <a:chOff x="2280600" y="3716280"/>
            <a:chExt cx="4434120" cy="623880"/>
          </a:xfrm>
        </p:grpSpPr>
        <p:sp>
          <p:nvSpPr>
            <p:cNvPr id="187" name="Rectangle 3"/>
            <p:cNvSpPr/>
            <p:nvPr/>
          </p:nvSpPr>
          <p:spPr>
            <a:xfrm>
              <a:off x="2280600" y="3754800"/>
              <a:ext cx="76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3043080" y="3716280"/>
            <a:ext cx="3671640" cy="6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3080" y="3716280"/>
                      <a:ext cx="367164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0" name="Rectangle 4"/>
          <p:cNvSpPr/>
          <p:nvPr/>
        </p:nvSpPr>
        <p:spPr>
          <a:xfrm>
            <a:off x="757440" y="4728600"/>
            <a:ext cx="7497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t</a:t>
            </a:r>
            <a:r>
              <a:rPr b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średnia masa atom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…., 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zawartość procentowa poszczególnych izotop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…, 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- masy atomowe poszczególnych izoto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331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Ćwiczeni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1268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na miedź jest mieszaniną dwóch izotopów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 i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. Oblicz skład procentowy mieszaniny wiedząc, że masa atomowa miedzi wynosi 63,55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63160" y="2565360"/>
            <a:ext cx="4434120" cy="623880"/>
            <a:chOff x="2063160" y="2565360"/>
            <a:chExt cx="4434120" cy="623880"/>
          </a:xfrm>
        </p:grpSpPr>
        <p:sp>
          <p:nvSpPr>
            <p:cNvPr id="194" name="Rectangle 3"/>
            <p:cNvSpPr/>
            <p:nvPr/>
          </p:nvSpPr>
          <p:spPr>
            <a:xfrm>
              <a:off x="2063160" y="2603880"/>
              <a:ext cx="76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2825640" y="2565360"/>
            <a:ext cx="3671640" cy="62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25640" y="2565360"/>
                      <a:ext cx="367164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pl.wikipedia.org/wiki/Iz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www.google.pl/search?q=izotopy&amp;hl=pl&amp;source=lnms&amp;tbm=isch&amp;sa=X&amp;ei=pzV9Ud_6KMaWO43xgfAN&amp;sqi=2&amp;ved=0CAcQ_AUoAQ&amp;biw=1366&amp;bih=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OTOPY – CO TO JES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704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ą to atomy, które w jądrze mają taką samą liczbę protonów (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 różnią się liczbą neutronów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98900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29080" y="1609560"/>
            <a:ext cx="302436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ZYKŁADY IZOTOP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16836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316836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651640" y="4508640"/>
            <a:ext cx="3168360" cy="9190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upa 33"/>
          <p:cNvGrpSpPr/>
          <p:nvPr/>
        </p:nvGrpSpPr>
        <p:grpSpPr>
          <a:xfrm>
            <a:off x="324000" y="852480"/>
            <a:ext cx="4751280" cy="6003720"/>
            <a:chOff x="324000" y="852480"/>
            <a:chExt cx="4751280" cy="6003720"/>
          </a:xfrm>
        </p:grpSpPr>
        <p:pic>
          <p:nvPicPr>
            <p:cNvPr id="106" name="Prostokąt 6" descr=""/>
            <p:cNvPicPr/>
            <p:nvPr/>
          </p:nvPicPr>
          <p:blipFill>
            <a:blip r:embed="rId4"/>
            <a:stretch/>
          </p:blipFill>
          <p:spPr>
            <a:xfrm>
              <a:off x="1139040" y="852480"/>
              <a:ext cx="3936240" cy="101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upa 20"/>
            <p:cNvGrpSpPr/>
            <p:nvPr/>
          </p:nvGrpSpPr>
          <p:grpSpPr>
            <a:xfrm>
              <a:off x="1467720" y="1859400"/>
              <a:ext cx="1456920" cy="1264320"/>
              <a:chOff x="1467720" y="1859400"/>
              <a:chExt cx="1456920" cy="1264320"/>
            </a:xfrm>
          </p:grpSpPr>
          <p:sp>
            <p:nvSpPr>
              <p:cNvPr id="108" name="Elipsa 7"/>
              <p:cNvSpPr/>
              <p:nvPr/>
            </p:nvSpPr>
            <p:spPr>
              <a:xfrm>
                <a:off x="1467720" y="1859400"/>
                <a:ext cx="1265040" cy="12643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Elipsa 10"/>
              <p:cNvGrpSpPr/>
              <p:nvPr/>
            </p:nvGrpSpPr>
            <p:grpSpPr>
              <a:xfrm>
                <a:off x="1884240" y="2308320"/>
                <a:ext cx="428400" cy="438840"/>
                <a:chOff x="1884240" y="2308320"/>
                <a:chExt cx="428400" cy="438840"/>
              </a:xfrm>
            </p:grpSpPr>
            <p:pic>
              <p:nvPicPr>
                <p:cNvPr id="110" name="Elipsa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84240" y="2308320"/>
                  <a:ext cx="428400" cy="43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1993680" y="2411280"/>
                  <a:ext cx="21312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Elipsa 13"/>
              <p:cNvGrpSpPr/>
              <p:nvPr/>
            </p:nvGrpSpPr>
            <p:grpSpPr>
              <a:xfrm>
                <a:off x="2537280" y="2340360"/>
                <a:ext cx="387360" cy="406800"/>
                <a:chOff x="2537280" y="2340360"/>
                <a:chExt cx="387360" cy="406800"/>
              </a:xfrm>
            </p:grpSpPr>
            <p:pic>
              <p:nvPicPr>
                <p:cNvPr id="113" name="Elipsa 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37280" y="2340360"/>
                  <a:ext cx="38736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"/>
                <p:cNvSpPr/>
                <p:nvPr/>
              </p:nvSpPr>
              <p:spPr>
                <a:xfrm>
                  <a:off x="2647800" y="2465280"/>
                  <a:ext cx="17028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upa 21"/>
            <p:cNvGrpSpPr/>
            <p:nvPr/>
          </p:nvGrpSpPr>
          <p:grpSpPr>
            <a:xfrm>
              <a:off x="1531080" y="3440160"/>
              <a:ext cx="1330200" cy="1264320"/>
              <a:chOff x="1531080" y="3440160"/>
              <a:chExt cx="1330200" cy="1264320"/>
            </a:xfrm>
          </p:grpSpPr>
          <p:sp>
            <p:nvSpPr>
              <p:cNvPr id="116" name="Elipsa 8"/>
              <p:cNvSpPr/>
              <p:nvPr/>
            </p:nvSpPr>
            <p:spPr>
              <a:xfrm>
                <a:off x="1547280" y="3440160"/>
                <a:ext cx="1314000" cy="12643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Elipsa 11"/>
              <p:cNvGrpSpPr/>
              <p:nvPr/>
            </p:nvGrpSpPr>
            <p:grpSpPr>
              <a:xfrm>
                <a:off x="1859400" y="3823200"/>
                <a:ext cx="439560" cy="438840"/>
                <a:chOff x="1859400" y="3823200"/>
                <a:chExt cx="439560" cy="438840"/>
              </a:xfrm>
            </p:grpSpPr>
            <p:pic>
              <p:nvPicPr>
                <p:cNvPr id="118" name="Elipsa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859400" y="3823200"/>
                  <a:ext cx="439560" cy="43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1968480" y="3929040"/>
                  <a:ext cx="221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Elipsa 14"/>
              <p:cNvGrpSpPr/>
              <p:nvPr/>
            </p:nvGrpSpPr>
            <p:grpSpPr>
              <a:xfrm>
                <a:off x="1531080" y="3475080"/>
                <a:ext cx="402480" cy="406800"/>
                <a:chOff x="1531080" y="3475080"/>
                <a:chExt cx="402480" cy="406800"/>
              </a:xfrm>
            </p:grpSpPr>
            <p:pic>
              <p:nvPicPr>
                <p:cNvPr id="121" name="Elipsa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31080" y="3475080"/>
                  <a:ext cx="40248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>
                  <a:off x="1646640" y="3603240"/>
                  <a:ext cx="17676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Elipsa 16"/>
              <p:cNvGrpSpPr/>
              <p:nvPr/>
            </p:nvGrpSpPr>
            <p:grpSpPr>
              <a:xfrm>
                <a:off x="2182320" y="3849840"/>
                <a:ext cx="412920" cy="411840"/>
                <a:chOff x="2182320" y="3849840"/>
                <a:chExt cx="412920" cy="411840"/>
              </a:xfrm>
            </p:grpSpPr>
            <p:pic>
              <p:nvPicPr>
                <p:cNvPr id="124" name="Elipsa 1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82320" y="3849840"/>
                  <a:ext cx="41292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2281320" y="3928680"/>
                  <a:ext cx="221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upa 22"/>
            <p:cNvGrpSpPr/>
            <p:nvPr/>
          </p:nvGrpSpPr>
          <p:grpSpPr>
            <a:xfrm>
              <a:off x="1531080" y="4831200"/>
              <a:ext cx="1330200" cy="1327680"/>
              <a:chOff x="1531080" y="4831200"/>
              <a:chExt cx="1330200" cy="1327680"/>
            </a:xfrm>
          </p:grpSpPr>
          <p:sp>
            <p:nvSpPr>
              <p:cNvPr id="127" name="Elipsa 9"/>
              <p:cNvSpPr/>
              <p:nvPr/>
            </p:nvSpPr>
            <p:spPr>
              <a:xfrm>
                <a:off x="1531080" y="4972320"/>
                <a:ext cx="1330200" cy="118656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Elipsa 12"/>
              <p:cNvGrpSpPr/>
              <p:nvPr/>
            </p:nvGrpSpPr>
            <p:grpSpPr>
              <a:xfrm>
                <a:off x="1969920" y="5333400"/>
                <a:ext cx="444960" cy="411840"/>
                <a:chOff x="1969920" y="5333400"/>
                <a:chExt cx="444960" cy="411840"/>
              </a:xfrm>
            </p:grpSpPr>
            <p:pic>
              <p:nvPicPr>
                <p:cNvPr id="129" name="Elipsa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69920" y="5333400"/>
                  <a:ext cx="44496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>
                  <a:off x="2084040" y="54309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Elipsa 15"/>
              <p:cNvGrpSpPr/>
              <p:nvPr/>
            </p:nvGrpSpPr>
            <p:grpSpPr>
              <a:xfrm>
                <a:off x="2023560" y="4831200"/>
                <a:ext cx="407520" cy="381600"/>
                <a:chOff x="2023560" y="4831200"/>
                <a:chExt cx="407520" cy="381600"/>
              </a:xfrm>
            </p:grpSpPr>
            <p:pic>
              <p:nvPicPr>
                <p:cNvPr id="132" name="Elipsa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23560" y="4831200"/>
                  <a:ext cx="407520" cy="38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>
                  <a:off x="2138040" y="4947840"/>
                  <a:ext cx="179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Elipsa 18"/>
              <p:cNvGrpSpPr/>
              <p:nvPr/>
            </p:nvGrpSpPr>
            <p:grpSpPr>
              <a:xfrm>
                <a:off x="1857600" y="5594760"/>
                <a:ext cx="418320" cy="386640"/>
                <a:chOff x="1857600" y="5594760"/>
                <a:chExt cx="418320" cy="386640"/>
              </a:xfrm>
            </p:grpSpPr>
            <p:pic>
              <p:nvPicPr>
                <p:cNvPr id="135" name="Elipsa 1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857600" y="5594760"/>
                  <a:ext cx="4183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>
                  <a:off x="1957680" y="56685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Elipsa 19"/>
              <p:cNvGrpSpPr/>
              <p:nvPr/>
            </p:nvGrpSpPr>
            <p:grpSpPr>
              <a:xfrm>
                <a:off x="2174040" y="5594760"/>
                <a:ext cx="418320" cy="386640"/>
                <a:chOff x="2174040" y="5594760"/>
                <a:chExt cx="418320" cy="386640"/>
              </a:xfrm>
            </p:grpSpPr>
            <p:pic>
              <p:nvPicPr>
                <p:cNvPr id="138" name="Elipsa 1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174040" y="5594760"/>
                  <a:ext cx="4183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>
                  <a:off x="2274120" y="56685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Prostokąt zaokrąglony 23"/>
            <p:cNvSpPr/>
            <p:nvPr/>
          </p:nvSpPr>
          <p:spPr>
            <a:xfrm>
              <a:off x="3115080" y="23018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zaokrąglony 24"/>
            <p:cNvSpPr/>
            <p:nvPr/>
          </p:nvSpPr>
          <p:spPr>
            <a:xfrm>
              <a:off x="3115080" y="37562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zaokrąglony 25"/>
            <p:cNvSpPr/>
            <p:nvPr/>
          </p:nvSpPr>
          <p:spPr>
            <a:xfrm>
              <a:off x="3115080" y="52736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rostokąt 26" descr=""/>
            <p:cNvPicPr/>
            <p:nvPr/>
          </p:nvPicPr>
          <p:blipFill>
            <a:blip r:embed="rId14"/>
            <a:stretch/>
          </p:blipFill>
          <p:spPr>
            <a:xfrm>
              <a:off x="3369960" y="1767600"/>
              <a:ext cx="118512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rostokąt 27" descr=""/>
            <p:cNvPicPr/>
            <p:nvPr/>
          </p:nvPicPr>
          <p:blipFill>
            <a:blip r:embed="rId15"/>
            <a:stretch/>
          </p:blipFill>
          <p:spPr>
            <a:xfrm>
              <a:off x="3187800" y="3218040"/>
              <a:ext cx="15606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rostokąt 28" descr=""/>
            <p:cNvPicPr/>
            <p:nvPr/>
          </p:nvPicPr>
          <p:blipFill>
            <a:blip r:embed="rId16"/>
            <a:stretch/>
          </p:blipFill>
          <p:spPr>
            <a:xfrm>
              <a:off x="3375360" y="4727520"/>
              <a:ext cx="1099080" cy="63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Elipsa 29"/>
            <p:cNvGrpSpPr/>
            <p:nvPr/>
          </p:nvGrpSpPr>
          <p:grpSpPr>
            <a:xfrm>
              <a:off x="324000" y="5594760"/>
              <a:ext cx="444960" cy="438840"/>
              <a:chOff x="324000" y="5594760"/>
              <a:chExt cx="444960" cy="438840"/>
            </a:xfrm>
          </p:grpSpPr>
          <p:pic>
            <p:nvPicPr>
              <p:cNvPr id="147" name="Elipsa 29" descr=""/>
              <p:cNvPicPr/>
              <p:nvPr/>
            </p:nvPicPr>
            <p:blipFill>
              <a:blip r:embed="rId17"/>
              <a:stretch/>
            </p:blipFill>
            <p:spPr>
              <a:xfrm>
                <a:off x="324000" y="5594760"/>
                <a:ext cx="44496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437400" y="5699160"/>
                <a:ext cx="2239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pole tekstowe 30"/>
            <p:cNvSpPr/>
            <p:nvPr/>
          </p:nvSpPr>
          <p:spPr>
            <a:xfrm>
              <a:off x="708120" y="5527800"/>
              <a:ext cx="1773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t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eutr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lektr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Elipsa 31"/>
            <p:cNvGrpSpPr/>
            <p:nvPr/>
          </p:nvGrpSpPr>
          <p:grpSpPr>
            <a:xfrm>
              <a:off x="339840" y="6001560"/>
              <a:ext cx="417960" cy="411840"/>
              <a:chOff x="339840" y="6001560"/>
              <a:chExt cx="417960" cy="411840"/>
            </a:xfrm>
          </p:grpSpPr>
          <p:pic>
            <p:nvPicPr>
              <p:cNvPr id="151" name="Elipsa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339840" y="6001560"/>
                <a:ext cx="41796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37040" y="6078600"/>
                <a:ext cx="2239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Elipsa 32"/>
            <p:cNvGrpSpPr/>
            <p:nvPr/>
          </p:nvGrpSpPr>
          <p:grpSpPr>
            <a:xfrm>
              <a:off x="377280" y="6322680"/>
              <a:ext cx="407520" cy="406800"/>
              <a:chOff x="377280" y="6322680"/>
              <a:chExt cx="407520" cy="406800"/>
            </a:xfrm>
          </p:grpSpPr>
          <p:pic>
            <p:nvPicPr>
              <p:cNvPr id="154" name="Elipsa 32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7280" y="6322680"/>
                <a:ext cx="407520" cy="4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491040" y="6448680"/>
                <a:ext cx="17928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435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OTOPY TLEN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len posiada trzy trwałe izotopy nie promieniotwórc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600360" cy="81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987640" y="5373720"/>
            <a:ext cx="3600360" cy="79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42920" y="422100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Oraz trzy sztucznie otrzymywane izot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25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Palatino Linotype"/>
              </a:rPr>
              <a:t>RODZAJE IZOTOPÓ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wał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stabiln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o takie atomy, których jądra nie ulegają samorzutnym przemianom w i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mieniotwórcze (radioizotop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trwał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ą to atomy ulegające samorzutnym przemianom jądr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zotopy występujące w przyrodz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ztucz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trzymane przez człowieka na drodze przemian promieniotwórczych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otopy promieniotwórcze, radioizotopy – odmiany pierwiastków, których jądra atomów są niestabilne i samorzutnie ulegają przemianie promieniotwórczej. W wyniku tej przemiany powstają inne atomy, cząstki elementarne, a także uwalniana jest energia w postaci promieniowania gamma i energii kinetycznej produktów przemi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otopy promieniotwórcze charakteryzuje czas połowicznego rozpadu, tj. średni czas, po którym połowa jąder danego pierwiastka (izotopu) ulegnie przemianie. Czas połowicznego rozpadu nie zależy od otoczenia chemicznego atomu izo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izotopy wykazują aktywność promieniotwórcz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ytuł 1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0483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ytuł 1" descr=""/>
          <p:cNvPicPr/>
          <p:nvPr/>
        </p:nvPicPr>
        <p:blipFill>
          <a:blip r:embed="rId1"/>
          <a:stretch/>
        </p:blipFill>
        <p:spPr>
          <a:xfrm>
            <a:off x="826920" y="-24300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55640" y="1700280"/>
          <a:ext cx="2587680" cy="504720"/>
        </p:xfrm>
        <a:graphic>
          <a:graphicData uri="http://schemas.openxmlformats.org/drawingml/2006/table">
            <a:tbl>
              <a:tblPr/>
              <a:tblGrid>
                <a:gridCol w="25876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YTYW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39640" y="2349360"/>
            <a:ext cx="49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zotopy mogą służyć do diagnostyki stanu technicznego i wykrywania wad urządzeń przemysłowych, nawet w trudno dostępnych miejscach np. czujnik dy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eltrox.pl/zdjecia/czujki/czujnik_czaduADR.jpg"/>
          <p:cNvPicPr/>
          <p:nvPr/>
        </p:nvPicPr>
        <p:blipFill>
          <a:blip r:embed="rId2"/>
          <a:stretch/>
        </p:blipFill>
        <p:spPr>
          <a:xfrm>
            <a:off x="5580000" y="19162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4581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używane do sterylizacji żywności (niszczy pasożyty i pleśnie, dzięki czemu możliwe jest jej długie przechowywani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medycynie np. do diagnostyki i terapii</a:t>
            </a:r>
            <a:r>
              <a:rPr b="1" lang="pl-PL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chorzeń nowotworowych, np. używany w bombie kobaltowej – urządzeniu stosowanym w medycynie do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dalnego napromieniowania chorych tkanek pacjenta, do badań tarczycy.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www.radioszczecin.pl/public/39/8463.jpg"/>
          <p:cNvPicPr/>
          <p:nvPr/>
        </p:nvPicPr>
        <p:blipFill>
          <a:blip r:embed="rId1"/>
          <a:stretch/>
        </p:blipFill>
        <p:spPr>
          <a:xfrm>
            <a:off x="1314360" y="2062080"/>
            <a:ext cx="6353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zastosowano jako zegar archeologiczny, bo umożliwia datowanie znalezisk archeologicznych i paleontologicznych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fotopolska.eu/foto/219/219751.jpg"/>
          <p:cNvPicPr/>
          <p:nvPr/>
        </p:nvPicPr>
        <p:blipFill>
          <a:blip r:embed="rId1"/>
          <a:stretch/>
        </p:blipFill>
        <p:spPr>
          <a:xfrm>
            <a:off x="1692360" y="1341360"/>
            <a:ext cx="5199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1:23:48Z</dcterms:created>
  <dc:creator>oliwia</dc:creator>
  <dc:description/>
  <dc:language>en-US</dc:language>
  <cp:lastModifiedBy>Toshiba</cp:lastModifiedBy>
  <dcterms:modified xsi:type="dcterms:W3CDTF">2013-04-28T14:45:21Z</dcterms:modified>
  <cp:revision>7</cp:revision>
  <dc:subject/>
  <dc:title>IZOTOPY</dc:title>
</cp:coreProperties>
</file>