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DBD-BF92-4786-A854-291DC0F1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475-63D3-490D-AED6-FC3CE060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4955-7F39-47C3-B4ED-297131B7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4C3-5251-42AC-8B17-787D7AB8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C579-1A86-452C-9AF6-3170D533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CC0-E43B-4E79-A87B-D5828512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EF0E-CFCD-41B2-96F1-9D768917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FEE-0BF8-4830-B67A-AA6BFD32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D9A-C48B-4A42-9681-A7BB924D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6EDB-6B80-4D59-A65D-6183C09A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3F6-7523-4DA4-80E2-261A468E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AECE-3886-44DB-B1FF-653CBBB8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81A0-365B-4B3D-960C-2224F7FD4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danie substan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4382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suchej probówce umieszczono cukier, następnie probówkę ogrz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2830320" cy="3657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267080" y="3124080"/>
            <a:ext cx="40388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wacje: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niosek: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wacj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 ściankach probówk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jawiły się kropelki cieczy a na dn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ówki powstała czarna substanc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niose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d wpływem ogrzewania cuki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ę rozłożył. Powstały substancj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s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kier jest substancją złożon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zyl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WIĄZKIEM CHEMICZN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danie substan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7432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probówce umieszczono siarkę, ogrzewano ją, a następnie ostudz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3886200" cy="3030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00600" y="4038480"/>
            <a:ext cx="35053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wacje: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nioski:……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serwacj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rzana siarka zmienia tylk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 skupienia. Nie powstaje inn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c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niosek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arka to substancja prosta, której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 da się rozłożyć na substanc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s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ie substancje nazywam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ERWIASTK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457200" y="817560"/>
            <a:ext cx="8381520" cy="5292360"/>
            <a:chOff x="457200" y="817560"/>
            <a:chExt cx="8381520" cy="5292360"/>
          </a:xfrm>
        </p:grpSpPr>
        <p:cxnSp>
          <p:nvCxnSpPr>
            <p:cNvPr id="54" name="_s9261"/>
            <p:cNvCxnSpPr>
              <a:stCxn id="55" idx="1"/>
              <a:endCxn id="56" idx="2"/>
            </p:cNvCxnSpPr>
            <p:nvPr/>
          </p:nvCxnSpPr>
          <p:spPr>
            <a:xfrm rot="10800000">
              <a:off x="3747960" y="3307320"/>
              <a:ext cx="299880" cy="62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9259"/>
            <p:cNvCxnSpPr>
              <a:stCxn id="58" idx="1"/>
              <a:endCxn id="59" idx="2"/>
            </p:cNvCxnSpPr>
            <p:nvPr/>
          </p:nvCxnSpPr>
          <p:spPr>
            <a:xfrm rot="10800000">
              <a:off x="2552040" y="4241160"/>
              <a:ext cx="298080" cy="155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9257"/>
            <p:cNvCxnSpPr>
              <a:stCxn id="61" idx="1"/>
              <a:endCxn id="59" idx="2"/>
            </p:cNvCxnSpPr>
            <p:nvPr/>
          </p:nvCxnSpPr>
          <p:spPr>
            <a:xfrm rot="10800000">
              <a:off x="2552040" y="4241160"/>
              <a:ext cx="298080" cy="62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9255"/>
            <p:cNvCxnSpPr>
              <a:stCxn id="59" idx="1"/>
              <a:endCxn id="63" idx="2"/>
            </p:cNvCxnSpPr>
            <p:nvPr/>
          </p:nvCxnSpPr>
          <p:spPr>
            <a:xfrm rot="10800000">
              <a:off x="1354680" y="3307320"/>
              <a:ext cx="299880" cy="62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9253"/>
            <p:cNvCxnSpPr>
              <a:stCxn id="65" idx="0"/>
              <a:endCxn id="66" idx="2"/>
            </p:cNvCxnSpPr>
            <p:nvPr/>
          </p:nvCxnSpPr>
          <p:spPr>
            <a:xfrm flipV="1" rot="16200000">
              <a:off x="7261560" y="2006280"/>
              <a:ext cx="311760" cy="1046520"/>
            </a:xfrm>
            <a:prstGeom prst="bentConnector3">
              <a:avLst>
                <a:gd name="adj1" fmla="val 374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9251"/>
            <p:cNvCxnSpPr>
              <a:stCxn id="68" idx="0"/>
              <a:endCxn id="66" idx="2"/>
            </p:cNvCxnSpPr>
            <p:nvPr/>
          </p:nvCxnSpPr>
          <p:spPr>
            <a:xfrm flipH="1" flipV="1" rot="5400000">
              <a:off x="6213960" y="2005560"/>
              <a:ext cx="311760" cy="1048320"/>
            </a:xfrm>
            <a:prstGeom prst="bentConnector3">
              <a:avLst>
                <a:gd name="adj1" fmla="val 374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9249"/>
            <p:cNvCxnSpPr>
              <a:stCxn id="56" idx="0"/>
              <a:endCxn id="70" idx="2"/>
            </p:cNvCxnSpPr>
            <p:nvPr/>
          </p:nvCxnSpPr>
          <p:spPr>
            <a:xfrm flipV="1" rot="16200000">
              <a:off x="2993760" y="1930320"/>
              <a:ext cx="311760" cy="1198080"/>
            </a:xfrm>
            <a:prstGeom prst="bentConnector3">
              <a:avLst>
                <a:gd name="adj1" fmla="val 374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9247"/>
            <p:cNvCxnSpPr>
              <a:stCxn id="63" idx="0"/>
              <a:endCxn id="70" idx="2"/>
            </p:cNvCxnSpPr>
            <p:nvPr/>
          </p:nvCxnSpPr>
          <p:spPr>
            <a:xfrm flipH="1" flipV="1" rot="5400000">
              <a:off x="1797120" y="1931400"/>
              <a:ext cx="311760" cy="1196280"/>
            </a:xfrm>
            <a:prstGeom prst="bentConnector3">
              <a:avLst>
                <a:gd name="adj1" fmla="val 374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9242"/>
            <p:cNvCxnSpPr>
              <a:stCxn id="66" idx="0"/>
              <a:endCxn id="73" idx="2"/>
            </p:cNvCxnSpPr>
            <p:nvPr/>
          </p:nvCxnSpPr>
          <p:spPr>
            <a:xfrm flipV="1" rot="16200000">
              <a:off x="5652000" y="508320"/>
              <a:ext cx="311760" cy="2173680"/>
            </a:xfrm>
            <a:prstGeom prst="bentConnector3">
              <a:avLst>
                <a:gd name="adj1" fmla="val 372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9241"/>
            <p:cNvCxnSpPr>
              <a:stCxn id="70" idx="0"/>
              <a:endCxn id="73" idx="2"/>
            </p:cNvCxnSpPr>
            <p:nvPr/>
          </p:nvCxnSpPr>
          <p:spPr>
            <a:xfrm flipH="1" flipV="1" rot="5400000">
              <a:off x="3480120" y="510120"/>
              <a:ext cx="311760" cy="2170800"/>
            </a:xfrm>
            <a:prstGeom prst="bentConnector3">
              <a:avLst>
                <a:gd name="adj1" fmla="val 372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3" name="_s9237"/>
            <p:cNvSpPr/>
            <p:nvPr/>
          </p:nvSpPr>
          <p:spPr>
            <a:xfrm>
              <a:off x="3823200" y="81756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te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9238"/>
            <p:cNvSpPr/>
            <p:nvPr/>
          </p:nvSpPr>
          <p:spPr>
            <a:xfrm>
              <a:off x="1652760" y="175140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BSTANC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9239"/>
            <p:cNvSpPr/>
            <p:nvPr/>
          </p:nvSpPr>
          <p:spPr>
            <a:xfrm>
              <a:off x="5994000" y="175140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ESZANI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9246"/>
            <p:cNvSpPr/>
            <p:nvPr/>
          </p:nvSpPr>
          <p:spPr>
            <a:xfrm>
              <a:off x="457200" y="268524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S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9248"/>
            <p:cNvSpPr/>
            <p:nvPr/>
          </p:nvSpPr>
          <p:spPr>
            <a:xfrm>
              <a:off x="2850480" y="268524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ŁOŻ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9250"/>
            <p:cNvSpPr/>
            <p:nvPr/>
          </p:nvSpPr>
          <p:spPr>
            <a:xfrm>
              <a:off x="4946400" y="268524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EDNOROD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9252"/>
            <p:cNvSpPr/>
            <p:nvPr/>
          </p:nvSpPr>
          <p:spPr>
            <a:xfrm>
              <a:off x="7042320" y="268524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IEJEDNOROD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9254"/>
            <p:cNvSpPr/>
            <p:nvPr/>
          </p:nvSpPr>
          <p:spPr>
            <a:xfrm>
              <a:off x="1654560" y="3619440"/>
              <a:ext cx="17946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IERWIAST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MI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9256"/>
            <p:cNvSpPr/>
            <p:nvPr/>
          </p:nvSpPr>
          <p:spPr>
            <a:xfrm>
              <a:off x="2850480" y="4553280"/>
              <a:ext cx="179388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T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9258"/>
            <p:cNvSpPr/>
            <p:nvPr/>
          </p:nvSpPr>
          <p:spPr>
            <a:xfrm>
              <a:off x="2850480" y="5487480"/>
              <a:ext cx="179388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IEMET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9260"/>
            <p:cNvSpPr/>
            <p:nvPr/>
          </p:nvSpPr>
          <p:spPr>
            <a:xfrm>
              <a:off x="4048200" y="3619440"/>
              <a:ext cx="179388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WIĄZ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MI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9:12:12Z</dcterms:created>
  <dc:creator>Toshiba</dc:creator>
  <dc:description/>
  <dc:language>en-US</dc:language>
  <cp:lastModifiedBy>Toshiba</cp:lastModifiedBy>
  <dcterms:modified xsi:type="dcterms:W3CDTF">2013-04-14T19:47:2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