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4CF-F5B3-442E-B284-1F45C5DA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E8F-C251-40A8-A9AC-85CD625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8E6-1372-444A-9CAC-D2B4D7C5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2E8-DA0E-4A8A-AF43-AE53545A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F896-8D80-4E77-A96B-62B28B38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9CA-5469-45FD-95DD-C491A45A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910B-306C-4DDD-90B6-652EA86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168-D3A6-4F5B-8785-DCEFAD24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03DC-7C78-460A-ADBC-52D590C6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F59B-1B37-41F9-89AA-A015713B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9B8-698B-46CD-8604-6544861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275-3CA1-4791-9556-41D7070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CB8-165B-4ADE-B757-BAF83FC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E401-CE89-4D80-9698-8F8BC65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309-EF15-4E2C-BB6A-18D4A79C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0C3-D05D-407B-AC2F-EE8470E2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C849-C4A7-46FB-9EC5-02C0669C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7C6-9076-42FC-818C-4C1295E1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A25-0746-422C-838C-5B18AE0D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A5C-7078-46E9-85C0-BE83A50C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D47-FE48-4671-A666-D8C711F7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66D-6F63-4608-A23C-3C99ACF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0A5-9BB9-4A2F-A56B-925884A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1F6-9982-4FD1-B6D7-C6E8550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67A-5E24-4BAE-BF31-4160B22EF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F5E-9E71-4629-AB9A-43D79D56A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Izotopy" TargetMode="External"/><Relationship Id="rId2" Type="http://schemas.openxmlformats.org/officeDocument/2006/relationships/hyperlink" Target="http://www.google.pl/search?q=izotopy&amp;hl=pl&amp;source=lnms&amp;tbm=isch&amp;sa=X&amp;ei=pzV9Ud_6KMaWO43xgfAN&amp;sqi=2&amp;ved=0CAcQ_AUoAQ&amp;biw=1366&amp;bih=59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570060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urier New"/>
              </a:rPr>
              <a:t>IZOTOP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1120" y="836640"/>
            <a:ext cx="58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iwo” do produkcji energii –elektrownie jąd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032000" cy="26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2941560"/>
            <a:ext cx="435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476280"/>
          <a:ext cx="2819520" cy="6332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84360" y="981000"/>
            <a:ext cx="759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cja broni masowego raż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ń tą po raz pierwszy zastosowano w czasie II wojny światowej. Pierwszymi ofiarami byli mieszkańcy Hiroszimy i Nagasaki. Bomby jądrowe zrobione są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znacznej części z trotylu. W czasie wybuchu cały ładunek zamienia się w gazy osiągające temperaturę 1000000 stopni Celsjusza. Promieniowanie cieplne rozprzestrzenia si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rędkością 300 tys. Kilometrów na sekundę (prędkość światła) niszcząc wszystko na swojej drodze. Ta broń w rękach człowieka jest czymś najniebezpieczniejszym na świeci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457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gatywnie działają na organizm człowie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skutki promieniowania zależą od pochłoniętej dawki) np. powodując białaczkę, kataraktę, chorobę popromien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86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UWAG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KOLEJNY SLAJD ZAWIERA ZDJĘ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DRASTYCZ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682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792520" cy="28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7450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5" descr=""/>
          <p:cNvPicPr/>
          <p:nvPr/>
        </p:nvPicPr>
        <p:blipFill>
          <a:blip r:embed="rId1"/>
          <a:stretch/>
        </p:blipFill>
        <p:spPr>
          <a:xfrm>
            <a:off x="1587600" y="309600"/>
            <a:ext cx="5968800" cy="1073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jest to średnia masa atomowa  danego pierwiastka chemicznego, z uwzględnieniem jego składu izotop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danego pierwiastka chemicznego jest średnią masą (mat) wynikającą z zawartości procentowej pierwias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rzykład chlor stanowi mieszaninę dwóch izotopów: 75,53 %  35Cl i 24,47 % 37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0600" y="3716280"/>
            <a:ext cx="4434120" cy="623880"/>
            <a:chOff x="2280600" y="3716280"/>
            <a:chExt cx="4434120" cy="623880"/>
          </a:xfrm>
        </p:grpSpPr>
        <p:sp>
          <p:nvSpPr>
            <p:cNvPr id="187" name="Rectangle 3"/>
            <p:cNvSpPr/>
            <p:nvPr/>
          </p:nvSpPr>
          <p:spPr>
            <a:xfrm>
              <a:off x="2280600" y="375480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3043080" y="3716280"/>
            <a:ext cx="3671640" cy="6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3080" y="371628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Rectangle 4"/>
          <p:cNvSpPr/>
          <p:nvPr/>
        </p:nvSpPr>
        <p:spPr>
          <a:xfrm>
            <a:off x="757440" y="4728600"/>
            <a:ext cx="7497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t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średnia masa atom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…., 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zawartość procentowa poszczególnych izotop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…,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- masy atomowe poszczególnych izoto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331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Ćwiczeni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126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na miedź jest mieszaniną dwóch izotopów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. Oblicz skład procentowy mieszaniny wiedząc, że masa atomowa miedzi wynosi 63,55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63160" y="2565360"/>
            <a:ext cx="4434120" cy="623880"/>
            <a:chOff x="2063160" y="2565360"/>
            <a:chExt cx="4434120" cy="623880"/>
          </a:xfrm>
        </p:grpSpPr>
        <p:sp>
          <p:nvSpPr>
            <p:cNvPr id="194" name="Rectangle 3"/>
            <p:cNvSpPr/>
            <p:nvPr/>
          </p:nvSpPr>
          <p:spPr>
            <a:xfrm>
              <a:off x="2063160" y="260388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2825640" y="2565360"/>
            <a:ext cx="367164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5640" y="256536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pl.wikipedia.org/wiki/Iz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google.pl/search?q=izotopy&amp;hl=pl&amp;source=lnms&amp;tbm=isch&amp;sa=X&amp;ei=pzV9Ud_6KMaWO43xgfAN&amp;sqi=2&amp;ved=0CAcQ_AUoAQ&amp;biw=1366&amp;bih=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OTOPY – CO TO J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70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ą to atomy, które w jądrze mają taką samą liczbę protonów (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óżnią się liczbą neutronów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29080" y="1609560"/>
            <a:ext cx="302436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ZYKŁADY IZOTOP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16836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16836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3168360" cy="919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a 33"/>
          <p:cNvGrpSpPr/>
          <p:nvPr/>
        </p:nvGrpSpPr>
        <p:grpSpPr>
          <a:xfrm>
            <a:off x="324000" y="852480"/>
            <a:ext cx="4751280" cy="6003720"/>
            <a:chOff x="324000" y="852480"/>
            <a:chExt cx="4751280" cy="6003720"/>
          </a:xfrm>
        </p:grpSpPr>
        <p:pic>
          <p:nvPicPr>
            <p:cNvPr id="106" name="Prostokąt 6" descr=""/>
            <p:cNvPicPr/>
            <p:nvPr/>
          </p:nvPicPr>
          <p:blipFill>
            <a:blip r:embed="rId4"/>
            <a:stretch/>
          </p:blipFill>
          <p:spPr>
            <a:xfrm>
              <a:off x="1139040" y="852480"/>
              <a:ext cx="3936240" cy="101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upa 20"/>
            <p:cNvGrpSpPr/>
            <p:nvPr/>
          </p:nvGrpSpPr>
          <p:grpSpPr>
            <a:xfrm>
              <a:off x="1467720" y="1859400"/>
              <a:ext cx="1456920" cy="1264320"/>
              <a:chOff x="1467720" y="1859400"/>
              <a:chExt cx="1456920" cy="1264320"/>
            </a:xfrm>
          </p:grpSpPr>
          <p:sp>
            <p:nvSpPr>
              <p:cNvPr id="108" name="Elipsa 7"/>
              <p:cNvSpPr/>
              <p:nvPr/>
            </p:nvSpPr>
            <p:spPr>
              <a:xfrm>
                <a:off x="1467720" y="1859400"/>
                <a:ext cx="126504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Elipsa 10"/>
              <p:cNvGrpSpPr/>
              <p:nvPr/>
            </p:nvGrpSpPr>
            <p:grpSpPr>
              <a:xfrm>
                <a:off x="1884240" y="2308320"/>
                <a:ext cx="428400" cy="438840"/>
                <a:chOff x="1884240" y="2308320"/>
                <a:chExt cx="428400" cy="438840"/>
              </a:xfrm>
            </p:grpSpPr>
            <p:pic>
              <p:nvPicPr>
                <p:cNvPr id="110" name="Elipsa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4240" y="2308320"/>
                  <a:ext cx="42840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1993680" y="2411280"/>
                  <a:ext cx="213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Elipsa 13"/>
              <p:cNvGrpSpPr/>
              <p:nvPr/>
            </p:nvGrpSpPr>
            <p:grpSpPr>
              <a:xfrm>
                <a:off x="2537280" y="2340360"/>
                <a:ext cx="387360" cy="406800"/>
                <a:chOff x="2537280" y="2340360"/>
                <a:chExt cx="387360" cy="406800"/>
              </a:xfrm>
            </p:grpSpPr>
            <p:pic>
              <p:nvPicPr>
                <p:cNvPr id="113" name="Elipsa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37280" y="2340360"/>
                  <a:ext cx="38736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2647800" y="2465280"/>
                  <a:ext cx="17028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upa 21"/>
            <p:cNvGrpSpPr/>
            <p:nvPr/>
          </p:nvGrpSpPr>
          <p:grpSpPr>
            <a:xfrm>
              <a:off x="1531080" y="3440160"/>
              <a:ext cx="1330200" cy="1264320"/>
              <a:chOff x="1531080" y="3440160"/>
              <a:chExt cx="1330200" cy="1264320"/>
            </a:xfrm>
          </p:grpSpPr>
          <p:sp>
            <p:nvSpPr>
              <p:cNvPr id="116" name="Elipsa 8"/>
              <p:cNvSpPr/>
              <p:nvPr/>
            </p:nvSpPr>
            <p:spPr>
              <a:xfrm>
                <a:off x="1547280" y="3440160"/>
                <a:ext cx="131400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Elipsa 11"/>
              <p:cNvGrpSpPr/>
              <p:nvPr/>
            </p:nvGrpSpPr>
            <p:grpSpPr>
              <a:xfrm>
                <a:off x="1859400" y="3823200"/>
                <a:ext cx="439560" cy="438840"/>
                <a:chOff x="1859400" y="3823200"/>
                <a:chExt cx="439560" cy="438840"/>
              </a:xfrm>
            </p:grpSpPr>
            <p:pic>
              <p:nvPicPr>
                <p:cNvPr id="118" name="Elipsa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9400" y="3823200"/>
                  <a:ext cx="43956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1968480" y="392904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Elipsa 14"/>
              <p:cNvGrpSpPr/>
              <p:nvPr/>
            </p:nvGrpSpPr>
            <p:grpSpPr>
              <a:xfrm>
                <a:off x="1531080" y="3475080"/>
                <a:ext cx="402480" cy="406800"/>
                <a:chOff x="1531080" y="3475080"/>
                <a:chExt cx="402480" cy="406800"/>
              </a:xfrm>
            </p:grpSpPr>
            <p:pic>
              <p:nvPicPr>
                <p:cNvPr id="121" name="Elipsa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31080" y="3475080"/>
                  <a:ext cx="40248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1646640" y="3603240"/>
                  <a:ext cx="1767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Elipsa 16"/>
              <p:cNvGrpSpPr/>
              <p:nvPr/>
            </p:nvGrpSpPr>
            <p:grpSpPr>
              <a:xfrm>
                <a:off x="2182320" y="3849840"/>
                <a:ext cx="412920" cy="411840"/>
                <a:chOff x="2182320" y="3849840"/>
                <a:chExt cx="412920" cy="411840"/>
              </a:xfrm>
            </p:grpSpPr>
            <p:pic>
              <p:nvPicPr>
                <p:cNvPr id="124" name="Elipsa 1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2320" y="3849840"/>
                  <a:ext cx="4129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2281320" y="392868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upa 22"/>
            <p:cNvGrpSpPr/>
            <p:nvPr/>
          </p:nvGrpSpPr>
          <p:grpSpPr>
            <a:xfrm>
              <a:off x="1531080" y="4831200"/>
              <a:ext cx="1330200" cy="1327680"/>
              <a:chOff x="1531080" y="4831200"/>
              <a:chExt cx="1330200" cy="1327680"/>
            </a:xfrm>
          </p:grpSpPr>
          <p:sp>
            <p:nvSpPr>
              <p:cNvPr id="127" name="Elipsa 9"/>
              <p:cNvSpPr/>
              <p:nvPr/>
            </p:nvSpPr>
            <p:spPr>
              <a:xfrm>
                <a:off x="1531080" y="4972320"/>
                <a:ext cx="1330200" cy="118656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Elipsa 12"/>
              <p:cNvGrpSpPr/>
              <p:nvPr/>
            </p:nvGrpSpPr>
            <p:grpSpPr>
              <a:xfrm>
                <a:off x="1969920" y="5333400"/>
                <a:ext cx="444960" cy="411840"/>
                <a:chOff x="1969920" y="5333400"/>
                <a:chExt cx="444960" cy="411840"/>
              </a:xfrm>
            </p:grpSpPr>
            <p:pic>
              <p:nvPicPr>
                <p:cNvPr id="129" name="Elipsa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69920" y="5333400"/>
                  <a:ext cx="44496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2084040" y="54309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Elipsa 15"/>
              <p:cNvGrpSpPr/>
              <p:nvPr/>
            </p:nvGrpSpPr>
            <p:grpSpPr>
              <a:xfrm>
                <a:off x="2023560" y="4831200"/>
                <a:ext cx="407520" cy="381600"/>
                <a:chOff x="2023560" y="4831200"/>
                <a:chExt cx="407520" cy="381600"/>
              </a:xfrm>
            </p:grpSpPr>
            <p:pic>
              <p:nvPicPr>
                <p:cNvPr id="132" name="Elipsa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23560" y="4831200"/>
                  <a:ext cx="4075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2138040" y="4947840"/>
                  <a:ext cx="179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Elipsa 18"/>
              <p:cNvGrpSpPr/>
              <p:nvPr/>
            </p:nvGrpSpPr>
            <p:grpSpPr>
              <a:xfrm>
                <a:off x="1857600" y="5594760"/>
                <a:ext cx="418320" cy="386640"/>
                <a:chOff x="1857600" y="5594760"/>
                <a:chExt cx="418320" cy="386640"/>
              </a:xfrm>
            </p:grpSpPr>
            <p:pic>
              <p:nvPicPr>
                <p:cNvPr id="135" name="Elipsa 1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85760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195768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Elipsa 19"/>
              <p:cNvGrpSpPr/>
              <p:nvPr/>
            </p:nvGrpSpPr>
            <p:grpSpPr>
              <a:xfrm>
                <a:off x="2174040" y="5594760"/>
                <a:ext cx="418320" cy="386640"/>
                <a:chOff x="2174040" y="5594760"/>
                <a:chExt cx="418320" cy="386640"/>
              </a:xfrm>
            </p:grpSpPr>
            <p:pic>
              <p:nvPicPr>
                <p:cNvPr id="138" name="Elipsa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7404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27412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Prostokąt zaokrąglony 23"/>
            <p:cNvSpPr/>
            <p:nvPr/>
          </p:nvSpPr>
          <p:spPr>
            <a:xfrm>
              <a:off x="3115080" y="23018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zaokrąglony 24"/>
            <p:cNvSpPr/>
            <p:nvPr/>
          </p:nvSpPr>
          <p:spPr>
            <a:xfrm>
              <a:off x="3115080" y="37562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zaokrąglony 25"/>
            <p:cNvSpPr/>
            <p:nvPr/>
          </p:nvSpPr>
          <p:spPr>
            <a:xfrm>
              <a:off x="3115080" y="52736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rostokąt 26" descr=""/>
            <p:cNvPicPr/>
            <p:nvPr/>
          </p:nvPicPr>
          <p:blipFill>
            <a:blip r:embed="rId14"/>
            <a:stretch/>
          </p:blipFill>
          <p:spPr>
            <a:xfrm>
              <a:off x="3369960" y="1767600"/>
              <a:ext cx="11851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rostokąt 27" descr=""/>
            <p:cNvPicPr/>
            <p:nvPr/>
          </p:nvPicPr>
          <p:blipFill>
            <a:blip r:embed="rId15"/>
            <a:stretch/>
          </p:blipFill>
          <p:spPr>
            <a:xfrm>
              <a:off x="3187800" y="3218040"/>
              <a:ext cx="15606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rostokąt 28" descr=""/>
            <p:cNvPicPr/>
            <p:nvPr/>
          </p:nvPicPr>
          <p:blipFill>
            <a:blip r:embed="rId16"/>
            <a:stretch/>
          </p:blipFill>
          <p:spPr>
            <a:xfrm>
              <a:off x="3375360" y="4727520"/>
              <a:ext cx="1099080" cy="6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Elipsa 29"/>
            <p:cNvGrpSpPr/>
            <p:nvPr/>
          </p:nvGrpSpPr>
          <p:grpSpPr>
            <a:xfrm>
              <a:off x="324000" y="5594760"/>
              <a:ext cx="444960" cy="438840"/>
              <a:chOff x="324000" y="5594760"/>
              <a:chExt cx="444960" cy="438840"/>
            </a:xfrm>
          </p:grpSpPr>
          <p:pic>
            <p:nvPicPr>
              <p:cNvPr id="147" name="Elipsa 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4000" y="5594760"/>
                <a:ext cx="4449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7400" y="569916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30"/>
            <p:cNvSpPr/>
            <p:nvPr/>
          </p:nvSpPr>
          <p:spPr>
            <a:xfrm>
              <a:off x="708120" y="5527800"/>
              <a:ext cx="1773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t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utr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ektr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Elipsa 31"/>
            <p:cNvGrpSpPr/>
            <p:nvPr/>
          </p:nvGrpSpPr>
          <p:grpSpPr>
            <a:xfrm>
              <a:off x="339840" y="6001560"/>
              <a:ext cx="417960" cy="411840"/>
              <a:chOff x="339840" y="6001560"/>
              <a:chExt cx="417960" cy="411840"/>
            </a:xfrm>
          </p:grpSpPr>
          <p:pic>
            <p:nvPicPr>
              <p:cNvPr id="151" name="Elipsa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339840" y="6001560"/>
                <a:ext cx="41796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37040" y="607860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Elipsa 32"/>
            <p:cNvGrpSpPr/>
            <p:nvPr/>
          </p:nvGrpSpPr>
          <p:grpSpPr>
            <a:xfrm>
              <a:off x="377280" y="6322680"/>
              <a:ext cx="407520" cy="406800"/>
              <a:chOff x="377280" y="6322680"/>
              <a:chExt cx="407520" cy="406800"/>
            </a:xfrm>
          </p:grpSpPr>
          <p:pic>
            <p:nvPicPr>
              <p:cNvPr id="154" name="Elipsa 32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7280" y="6322680"/>
                <a:ext cx="40752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91040" y="6448680"/>
                <a:ext cx="1792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435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OTOPY TL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len posiada trzy trwałe izotopy nie promieniotwórc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60036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87640" y="5373720"/>
            <a:ext cx="3600360" cy="79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42920" y="42210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Oraz trzy sztucznie otrzymywane izot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25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Palatino Linotype"/>
              </a:rPr>
              <a:t>RODZAJE IZOTOPÓ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wał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stabiln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 takie atomy, których jądra nie ulegają samorzutnym przemianom w i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ieniotwórcze (radioizotop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trwał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ą to atomy ulegające samorzutnym przemianom jądr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zotopy występujące w przyrod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ztucz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rzymane przez człowieka na drodze przemian promieniotwórczych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, radioizotopy – odmiany pierwiastków, których jądra atomów są niestabilne i samorzutnie ulegają przemianie promieniotwórczej. W wyniku tej przemiany powstają inne atomy, cząstki elementarne, a także uwalniana jest energia w postaci promieniowania gamma i energii kinetycznej produktów przemi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 charakteryzuje czas połowicznego rozpadu, tj. średni czas, po którym połowa jąder danego pierwiastka (izotopu) ulegnie przemianie. Czas połowicznego rozpadu nie zależy od otoczenia chemicznego atomu izo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zotopy wykazują aktywność promieniotwór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ytuł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048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ytuł 1" descr=""/>
          <p:cNvPicPr/>
          <p:nvPr/>
        </p:nvPicPr>
        <p:blipFill>
          <a:blip r:embed="rId1"/>
          <a:stretch/>
        </p:blipFill>
        <p:spPr>
          <a:xfrm>
            <a:off x="826920" y="-24300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55640" y="1700280"/>
          <a:ext cx="2587680" cy="504720"/>
        </p:xfrm>
        <a:graphic>
          <a:graphicData uri="http://schemas.openxmlformats.org/drawingml/2006/table">
            <a:tbl>
              <a:tblPr/>
              <a:tblGrid>
                <a:gridCol w="25876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Y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39640" y="2349360"/>
            <a:ext cx="49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otopy mogą służyć do diagnostyki stanu technicznego i wykrywania wad urządzeń przemysłowych, nawet w trudno dostępnych miejscach np. czujnik dy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eltrox.pl/zdjecia/czujki/czujnik_czaduADR.jpg"/>
          <p:cNvPicPr/>
          <p:nvPr/>
        </p:nvPicPr>
        <p:blipFill>
          <a:blip r:embed="rId2"/>
          <a:stretch/>
        </p:blipFill>
        <p:spPr>
          <a:xfrm>
            <a:off x="5580000" y="19162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4581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używane do sterylizacji żywności (niszczy pasożyty i pleśnie, dzięki czemu możliwe jest jej długie przechowywani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medycynie np. do diagnostyki i terapii</a:t>
            </a: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chorzeń nowotworowych, np. używany w bombie kobaltowej – urządzeniu stosowanym w medycynie do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dalnego napromieniowania chorych tkanek pacjenta, do badań tarczycy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radioszczecin.pl/public/39/8463.jpg"/>
          <p:cNvPicPr/>
          <p:nvPr/>
        </p:nvPicPr>
        <p:blipFill>
          <a:blip r:embed="rId1"/>
          <a:stretch/>
        </p:blipFill>
        <p:spPr>
          <a:xfrm>
            <a:off x="1314360" y="2062080"/>
            <a:ext cx="635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astosowano jako zegar archeologiczny, bo umożliwia datowanie znalezisk archeologicznych i paleontologicznych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fotopolska.eu/foto/219/219751.jpg"/>
          <p:cNvPicPr/>
          <p:nvPr/>
        </p:nvPicPr>
        <p:blipFill>
          <a:blip r:embed="rId1"/>
          <a:stretch/>
        </p:blipFill>
        <p:spPr>
          <a:xfrm>
            <a:off x="1692360" y="13413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1:23:48Z</dcterms:created>
  <dc:creator>oliwia</dc:creator>
  <dc:description/>
  <dc:language>en-US</dc:language>
  <cp:lastModifiedBy>Toshiba</cp:lastModifiedBy>
  <dcterms:modified xsi:type="dcterms:W3CDTF">2013-04-28T14:45:21Z</dcterms:modified>
  <cp:revision>7</cp:revision>
  <dc:subject/>
  <dc:title>IZOTOPY</dc:title>
</cp:coreProperties>
</file>