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BE8-0B34-484B-8A01-E4388B28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B3E-5AEA-44EF-AB7E-DAA6F258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EA5-DD05-4015-B775-3ED3B96F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051-3F68-4A43-9345-5806813F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D15-9532-47D6-93F7-E307AF29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12F-5259-41A6-B5A0-874B18BA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1FA-DFE7-45A8-B62E-96DAD462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1FF-821E-433E-BB53-83ABB4B1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7DD-CEED-4DBC-AFFE-5C08E37F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7E3-8CB0-4C6A-8D65-5093B58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032-E546-479C-BAC4-E623EB8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1AB-F54B-430D-A0D6-B58570F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AF3-80A3-4EE5-BC5B-8D55AE965DD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6280" y="1358640"/>
            <a:ext cx="6678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 u="sng">
                <a:solidFill>
                  <a:srgbClr val="003300"/>
                </a:solidFill>
                <a:uFillTx/>
                <a:latin typeface="Century Gothic"/>
              </a:rPr>
              <a:t>BUDOWA ATOM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MCj02871310000[1]"/>
          <p:cNvPicPr/>
          <p:nvPr/>
        </p:nvPicPr>
        <p:blipFill>
          <a:blip r:embed="rId1"/>
          <a:stretch/>
        </p:blipFill>
        <p:spPr>
          <a:xfrm>
            <a:off x="4211640" y="2403360"/>
            <a:ext cx="44877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89000"/>
            <a:ext cx="91440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ahoma"/>
                <a:ea typeface="Arial"/>
              </a:rPr>
              <a:t>Liczba atom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Tahoma"/>
                <a:ea typeface="Arial"/>
              </a:rPr>
              <a:t>Atom pierwiastka chemicznego jest elektrycznie obojętny. Liczba protonów jest równa liczbie elektron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Liczba protonów wchodzących w skład jądra atomowego nazywa się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liczbą atomową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i oznacza się symbolem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pl-PL" sz="2800" spc="-1" strike="noStrike">
                <a:solidFill>
                  <a:srgbClr val="ff0000"/>
                </a:solidFill>
                <a:latin typeface="Tahoma"/>
                <a:ea typeface="Arial"/>
              </a:rPr>
              <a:t>Z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Z</a:t>
            </a:r>
            <a:r>
              <a:rPr b="0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 = ładunek jądra = liczba protonów =</a:t>
            </a:r>
            <a:br>
              <a:rPr sz="2800"/>
            </a:br>
            <a:r>
              <a:rPr b="0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 liczba elektron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50920" y="4143240"/>
            <a:ext cx="8424720" cy="23403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iczba mas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uma protonów i neutronów (nukleonów) jest nazwan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czbą masową i oznacza się ją symbolem 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A = liczba protonów + liczba neutron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iczba mas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= nukleony = p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+ n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iczba atomow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= p+ = e-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11280" y="260280"/>
            <a:ext cx="2952720" cy="3988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sumowan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907920"/>
            <a:ext cx="7343640" cy="54835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układ złożony z jądra atomowego oraz z krążących wokół jądra elektr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t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elementarne budowy atomu wchodzące w skład jądra atomu mające masę równą 1 u i ładunek elementarny doda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eutr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 jądra atomowego elektrycznie obojętne o masie w przybliżeniu równej masie protonu = 1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lektr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elementarne poruszające się wokół jądra atomowego, posiadające ładunek elementarny ujemny i masę 1840 razy mniejszą od masy proto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a atom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liczba protonów  w jądrze atom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a mas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suma liczby protonów i neutronów w jądrze atom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iastek chemicz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zbiór atomów o takiej samej liczbie atomow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413000" cy="193032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44" name="Text Box 3"/>
          <p:cNvSpPr/>
          <p:nvPr/>
        </p:nvSpPr>
        <p:spPr>
          <a:xfrm>
            <a:off x="0" y="260280"/>
            <a:ext cx="81374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50920" y="260280"/>
            <a:ext cx="8497800" cy="320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eoria atomistyczno-cząsteczkowej budowy materi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ojawiła się w XIX wieku. W 1808 roku John Dalton przedstawił najważniejsze założenia tej te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tego samego pierwiastka chemicznego są identyczne pod względem masy i rozmiar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mają kształt kulis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 jest najmniejszą cząstką pierwiastka chemicznego, która posiada wszystkie cechy tego pierwias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Pierwiastek chemiczny jest zbiorem takich samych atom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łączą się tworząc cząstecz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Związek chemiczny jest zbiorem takich samych cząstec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7302600" y="2565360"/>
            <a:ext cx="1841400" cy="191124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47" name="AutoShape 6"/>
          <p:cNvSpPr/>
          <p:nvPr/>
        </p:nvSpPr>
        <p:spPr>
          <a:xfrm>
            <a:off x="1619280" y="3716280"/>
            <a:ext cx="4246560" cy="2376720"/>
          </a:xfrm>
          <a:prstGeom prst="wedgeEllipseCallout">
            <a:avLst>
              <a:gd name="adj1" fmla="val -52652"/>
              <a:gd name="adj2" fmla="val 3356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24000" bIns="36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emokryt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– grecki  filozof, który wprowadził pojęcie atomu. Przedstawił hipotezę, że świat jest zbudowany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 atomów, czyli drobnych, niepodzielnych cząstek                    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mate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5580000" y="4869000"/>
            <a:ext cx="3564000" cy="1989000"/>
          </a:xfrm>
          <a:prstGeom prst="wedgeEllipseCallout">
            <a:avLst>
              <a:gd name="adj1" fmla="val 33606"/>
              <a:gd name="adj2" fmla="val -6268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John Dalton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– brytyjski nauczyciel chemii, który wprowadził do nowoczesnej chemii hipotezę Demokry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900" spc="-1" strike="noStrike">
                <a:solidFill>
                  <a:srgbClr val="083763"/>
                </a:solidFill>
                <a:latin typeface="Arial"/>
              </a:rPr>
              <a:t>Budowa atom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Cj02410910000[1]"/>
          <p:cNvPicPr/>
          <p:nvPr/>
        </p:nvPicPr>
        <p:blipFill>
          <a:blip r:embed="rId1"/>
          <a:stretch/>
        </p:blipFill>
        <p:spPr>
          <a:xfrm>
            <a:off x="341280" y="414360"/>
            <a:ext cx="144000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709560" y="2475000"/>
            <a:ext cx="703116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050920" y="1628640"/>
            <a:ext cx="6337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om zbudowany jest z jądra w którym znajdują się proton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neutrony oraz z krążących wokół jądra elektr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79280" y="62064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Arial"/>
              </a:rPr>
              <a:t>Atom jest najmniejszą ilością pierwiastka zachowującą jego właściwości chemi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3528720" cy="3529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5742000" y="5364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Arial"/>
              </a:rPr>
              <a:t>Model at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3851280" y="3645000"/>
            <a:ext cx="1441440" cy="792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5292720" y="3645000"/>
            <a:ext cx="17272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508720" y="3068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jądro atomu = protony + neut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4356000" y="4292640"/>
            <a:ext cx="1008000" cy="57636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364000" y="4292640"/>
            <a:ext cx="17290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651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elekt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280" y="232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harakterystyka cząstek elementarnych budowy at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116000" y="2997360"/>
            <a:ext cx="4392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4360" y="3068640"/>
            <a:ext cx="799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211640" y="5950080"/>
            <a:ext cx="2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14036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1628640"/>
          <a:ext cx="8966160" cy="3856320"/>
        </p:xfrm>
        <a:graphic>
          <a:graphicData uri="http://schemas.openxmlformats.org/drawingml/2006/table">
            <a:tbl>
              <a:tblPr/>
              <a:tblGrid>
                <a:gridCol w="1646280"/>
                <a:gridCol w="2098440"/>
                <a:gridCol w="1943280"/>
                <a:gridCol w="1584360"/>
                <a:gridCol w="169380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zary budowy ato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cząs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bliżona m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arny ładunek elektryc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8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ądro atom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 p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n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u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łoki elektron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e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8" name="AutoShape 49"/>
          <p:cNvSpPr/>
          <p:nvPr/>
        </p:nvSpPr>
        <p:spPr>
          <a:xfrm>
            <a:off x="2771640" y="2708280"/>
            <a:ext cx="71640" cy="93492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514836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2771640" y="29908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kle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7"/>
              <p:cNvSpPr txBox="1"/>
              <p:nvPr/>
            </p:nvSpPr>
            <p:spPr>
              <a:xfrm>
                <a:off x="4716360" y="4292640"/>
                <a:ext cx="863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Line 185"/>
          <p:cNvSpPr/>
          <p:nvPr/>
        </p:nvSpPr>
        <p:spPr>
          <a:xfrm>
            <a:off x="6156360" y="436572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7"/>
          <p:cNvSpPr/>
          <p:nvPr/>
        </p:nvSpPr>
        <p:spPr>
          <a:xfrm>
            <a:off x="6948360" y="4076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83763"/>
                </a:solidFill>
                <a:latin typeface="Arial"/>
              </a:rPr>
              <a:t>Rozmieszczenie elektronów </a:t>
            </a:r>
            <a:br>
              <a:rPr sz="4500"/>
            </a:br>
            <a:r>
              <a:rPr b="0" lang="pl-PL" sz="4500" spc="-1" strike="noStrike">
                <a:solidFill>
                  <a:srgbClr val="083763"/>
                </a:solidFill>
                <a:latin typeface="Arial"/>
              </a:rPr>
              <a:t>w atomi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79280" y="1557360"/>
            <a:ext cx="85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okół jądr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ruszają się z ogromną szybkością lżejsze od niego i ujemnie naładowane elektr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ch ruch daje efekt chmury ładunku ujemnego zwanego powłoką elektronow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185920" y="3968640"/>
            <a:ext cx="3924360" cy="2467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lektrony walencyj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564000" y="1628640"/>
            <a:ext cx="50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lektrony powłoki zewnętrznej najsłabiej przyciągane przez jądro są najbardziej ruchliwe. Biorą one udział w reakcjach chemicznych i decydują o właściwościach pierwiast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5013360"/>
            <a:ext cx="7056360" cy="177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Nazywamy je 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ahoma"/>
              </a:rPr>
              <a:t>elektronami walencyjnymi, </a:t>
            </a:r>
            <a:br>
              <a:rPr sz="2800"/>
            </a:b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a powłokę na której są rozmieszczone, 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ahoma"/>
              </a:rPr>
              <a:t>powłoką walencyj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765000"/>
            <a:ext cx="17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24000" y="3500280"/>
            <a:ext cx="50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000240" cy="27972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sp>
        <p:nvSpPr>
          <p:cNvPr id="83" name="Line 8"/>
          <p:cNvSpPr/>
          <p:nvPr/>
        </p:nvSpPr>
        <p:spPr>
          <a:xfrm flipH="1" flipV="1">
            <a:off x="1979640" y="3860640"/>
            <a:ext cx="151272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900" spc="-1" strike="noStrike">
                <a:solidFill>
                  <a:srgbClr val="083763"/>
                </a:solidFill>
                <a:latin typeface="Arial"/>
              </a:rPr>
              <a:t>Powłoki elektronow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68360" y="19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Maksymalna liczba elektronów w danej powłoce wynosi 2n</a:t>
            </a:r>
            <a:r>
              <a:rPr b="0" lang="pl-PL" sz="2400" spc="-1" strike="noStrike" baseline="30000">
                <a:solidFill>
                  <a:srgbClr val="083763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, gdzie </a:t>
            </a:r>
            <a:r>
              <a:rPr b="0" i="1" lang="pl-PL" sz="2400" spc="-1" strike="noStrike">
                <a:solidFill>
                  <a:srgbClr val="083763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 to numer powło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2997360"/>
          <a:ext cx="8497800" cy="3566880"/>
        </p:xfrm>
        <a:graphic>
          <a:graphicData uri="http://schemas.openxmlformats.org/drawingml/2006/table">
            <a:tbl>
              <a:tblPr/>
              <a:tblGrid>
                <a:gridCol w="2743200"/>
                <a:gridCol w="2513160"/>
                <a:gridCol w="3241440"/>
              </a:tblGrid>
              <a:tr h="12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Numer powło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Nazwa powło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Maksymalna liczba elektronó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1116000" y="4770360"/>
            <a:ext cx="2087640" cy="2087640"/>
          </a:xfrm>
          <a:prstGeom prst="ellipse">
            <a:avLst/>
          </a:prstGeom>
          <a:solidFill>
            <a:srgbClr val="4fffff"/>
          </a:solidFill>
          <a:ln w="5724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26920" y="0"/>
            <a:ext cx="727236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Nukle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ładniki jądra atomowego - protony i neutrony noszą nazwę nukle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Proto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są cząstkami o ładunku dodatnim. Wchodzą w skład jąder każdego atomu. Masa protonu jest równa 1 u, a ładunek jest równy + 1 (elementarny ładunek dodat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Neutr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Są cząstkami elektrycznie obojętnymi o masie w przybliżeniu równej masie protonu, czyli 1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1547640" y="5229360"/>
            <a:ext cx="1152720" cy="115236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1979640" y="5661000"/>
            <a:ext cx="360360" cy="360360"/>
          </a:xfrm>
          <a:prstGeom prst="ellipse">
            <a:avLst/>
          </a:prstGeom>
          <a:solidFill>
            <a:srgbClr val="4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908000" y="566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3132000" y="5589720"/>
            <a:ext cx="14472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1619280" y="6093000"/>
            <a:ext cx="14436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411280" y="5300640"/>
            <a:ext cx="14472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0" y="3933720"/>
            <a:ext cx="2376360" cy="734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proszczony model atomu lit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0"/>
              <p:cNvSpPr txBox="1"/>
              <p:nvPr/>
            </p:nvSpPr>
            <p:spPr>
              <a:xfrm>
                <a:off x="6372360" y="4292640"/>
                <a:ext cx="187164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22"/>
          <p:cNvSpPr/>
          <p:nvPr/>
        </p:nvSpPr>
        <p:spPr>
          <a:xfrm>
            <a:off x="3780000" y="436572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Liczba masow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708360" y="57340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Liczba atomowa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867280" y="4724280"/>
            <a:ext cx="792360" cy="73080"/>
          </a:xfrm>
          <a:prstGeom prst="line">
            <a:avLst/>
          </a:prstGeom>
          <a:ln w="57240">
            <a:solidFill>
              <a:srgbClr val="0837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6084720" y="5734080"/>
            <a:ext cx="503280" cy="216000"/>
          </a:xfrm>
          <a:prstGeom prst="line">
            <a:avLst/>
          </a:prstGeom>
          <a:ln w="57240">
            <a:solidFill>
              <a:srgbClr val="0837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02:45Z</dcterms:created>
  <dc:creator>krystynamarek</dc:creator>
  <dc:description/>
  <cp:keywords/>
  <dc:language>en-US</dc:language>
  <cp:lastModifiedBy>Toshiba</cp:lastModifiedBy>
  <dcterms:modified xsi:type="dcterms:W3CDTF">2013-05-02T08:16:34Z</dcterms:modified>
  <cp:revision>26</cp:revision>
  <dc:subject/>
  <dc:title>Slaj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5</vt:lpwstr>
  </property>
</Properties>
</file>