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6D74-C124-44B6-8417-9A5D816E3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F22F-57B5-4B25-8C77-102530A0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5387-BC0E-4520-9AD4-E177F2C42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370F-8044-4F65-96B1-DF8DF93E7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9499-2073-4122-9CCD-A0903AC8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1A78-DAFC-4403-BA09-A17953AC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2E46-2E70-4564-A827-196E0FDA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755E-AFE4-4097-8B4F-9A87423E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CAB0-540C-4294-AC66-CCAB9C53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D15B-86BD-45A7-B881-DCF444CE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6805-B892-4524-903E-A416F2F0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C532-663B-4948-8669-49E0304F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E861-E98C-4706-B3A1-150EB62EC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ciaga.pl/tekst/54927-55-stopy_metali" TargetMode="External"/><Relationship Id="rId2" Type="http://schemas.openxmlformats.org/officeDocument/2006/relationships/hyperlink" Target="http://www.sciaga.pl/tekst/54927-55-stopy_metali" TargetMode="External"/><Relationship Id="rId3" Type="http://schemas.openxmlformats.org/officeDocument/2006/relationships/hyperlink" Target="http://www.sciaga.pl/tekst/54927-55-stopy_metali" TargetMode="External"/><Relationship Id="rId4" Type="http://schemas.openxmlformats.org/officeDocument/2006/relationships/hyperlink" Target="http://x02.szkolnictwo.pl/Metale_niemetale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401400"/>
            <a:ext cx="6993000" cy="617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Stop metali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79280" y="1197000"/>
            <a:ext cx="8675640" cy="51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st mieszaniną dwóch lub większej ilości metali lub metalu z innymi pierwiastkami niemetalicznymi, doprowadzoną do temperatury powyżej temperatury topnienia, a następnie schłodzon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py mają inne właściwości niż metale, z których one powstał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eratura topnienia stopów  jest na ogół niższa niż temperatura metali, z których je otrzymano. Mają również inną twardość, wytrzymałość i ciągliwoś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łoto i srebro jako pierwiastki są zbyt miękkie, aby służyły do wyrobu biżuterii. Dlatego stosuje się ich stopy z innymi metalami głównie z miedzi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"/>
          <p:cNvSpPr/>
          <p:nvPr/>
        </p:nvSpPr>
        <p:spPr>
          <a:xfrm>
            <a:off x="2916360" y="1052640"/>
            <a:ext cx="345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uraluminium  to stop zawierający głównie glin, oraz dodatki stopowe: zwykle miedź (2.0-4.9 %), mangan (0.3-1.0 %), magnez (0.15-1.8 %), często także krzem, żelazo i inne w łącznej ilości ok. 6 do 8%, przeznaczony do przeróbki plastycznej. Zastosowanie: m.in. w lotnictwie do części konstrukcyj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743200" y="5240160"/>
            <a:ext cx="331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rąz jest stopem zawierającym miedź i cynę. Jest stosowany do odlewania dzwonów, pomników i rzeź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6300720" y="4221000"/>
            <a:ext cx="2411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osiądz to stop miedzi i cynku. Ma zastosowanie przy wyrobie części maszyn, armatury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przedmiotów ozdob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2590920" cy="1733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4360" y="33336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rzykłady zastosowań stopów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516720" y="206064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900000" y="3933720"/>
            <a:ext cx="1752840" cy="26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2543040" cy="25718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3454560" y="991440"/>
            <a:ext cx="568944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tal – stop żelaza z niewielką ilością węgla (około 2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tal obok żelaza i węgla zawiera zwykle również inne składniki np. chrom, nikiel, mangan, wolfram, miedź, molibden, tytan.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859280" y="3429000"/>
            <a:ext cx="352908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karoserie samochod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pokrycia dachu i elewacj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puszki do konser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r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konstrukcje budowl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elementy meb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wiatraki (elektrownie wiatrow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statki i platformy morsk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16000" y="393372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zykłady zastosowań stal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539640" y="620640"/>
            <a:ext cx="8353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Zad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p Monela zawiera 70% niklu i 30% miedzi. Oblicz ile niklu i miedzi potrzeba do otrzymania 250 g stop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533520" y="2362320"/>
            <a:ext cx="7777080" cy="41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ane:                                                                                Szuka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wartość 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niklu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= 70%                                                        m 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niklu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wartość 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miedzi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= 30%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 miedzi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asa 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stopu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  s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) =250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ozwiązan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Arial"/>
              </a:rPr>
              <a:t>niklu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=                    = 175g                      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Arial"/>
              </a:rPr>
              <a:t>miedz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=                  =75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dpowiedź: Do otrzymania 250g stopu Monela potrzeba 175 g niklu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i 75 g miedz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8"/>
              <p:cNvSpPr txBox="1"/>
              <p:nvPr/>
            </p:nvSpPr>
            <p:spPr>
              <a:xfrm>
                <a:off x="1600200" y="4724280"/>
                <a:ext cx="8859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10"/>
              <p:cNvSpPr txBox="1"/>
              <p:nvPr/>
            </p:nvSpPr>
            <p:spPr>
              <a:xfrm>
                <a:off x="5943600" y="4724280"/>
                <a:ext cx="8636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Źródł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sciaga.pl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tekst/54927-55-stopy_met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x02.szkolnictwo.pl/Metale_niemet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16:34:54Z</dcterms:created>
  <dc:creator>Toshiba</dc:creator>
  <dc:description/>
  <dc:language>en-US</dc:language>
  <cp:lastModifiedBy>Toshiba</cp:lastModifiedBy>
  <dcterms:modified xsi:type="dcterms:W3CDTF">2013-05-05T18:58:5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