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9728-1F25-424A-AD34-CEA67F50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6703-C763-4D94-B973-7DD0DB51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D04-2E96-4C6C-B783-63C34EBE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8AC8-9C90-48B3-BD5F-03BF0A66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67D0-2455-432B-B4EB-132025AA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494-A1EA-4D36-A978-4CC81B63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A4BD-AE25-41E1-A120-5E977B82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99B9-CDCE-4FE1-8046-7AE0B624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49F-2D56-4FC5-8F5D-38C68A2F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FF95-38CE-4DE7-AD50-9C919C09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068C-ACB6-4DF4-B8EF-1CAE903D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BB26-9AF0-44B0-8602-F11F0681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D419-7B3B-4AFB-B7D2-B128AD802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9/Ar&#228;ometer-thermometer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l.wikipedia.org/wiki/Plik:Messung-Restzuckergehalt-eines-Bieres-nach-drei-Tagen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886200" y="3200400"/>
            <a:ext cx="2354400" cy="25146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457200" y="137160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zy metale o tej samej objętości mają tę samą mas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57200" y="19810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waż sztabki różnych metali o jednakowych wymiarach. Porównaj wyniki otrzymanych pomiar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09480" y="342900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 zaobserwowałeś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762120" y="586728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e mają taką samą objętość ale inną masę. Właściwość jaka je od siebie różni to gęst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518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ęstość (ciężar właściwy)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468360" y="1700280"/>
            <a:ext cx="8280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ahoma"/>
              </a:rPr>
              <a:t>d=m/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ęstością nazywamy stosunek masy ciała do objętoś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666880" y="44197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– masa substan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600200" y="3581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819520" y="403848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gęstość substan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666880" y="4876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- objętoś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79280" y="558972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ędzynarodową jednostką gęstości je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Posługiwać się można także innymi jednostkami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/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315200" cy="3343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52480" y="5335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523880"/>
            <a:ext cx="678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mieszano ze sobą 7 cieczy o różnej gęstości i różnej barw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5638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tóra z cieczy ma największą a która najmniejszą gęstość? Odpowiedź uzasadni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omiar gęstości ciał stałych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971800"/>
            <a:ext cx="182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Masę ciała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możemy określić ważąc na wadze np. elektroniczn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599840" y="2209680"/>
            <a:ext cx="1066680" cy="6858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2209680"/>
            <a:ext cx="990720" cy="838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5238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Y OKREŚLIĆ GĘSTOŚĆ SUBSTANCJI NALEŻY ZNAĆ MASĘ I OBJĘTOŚĆ SUBSTAN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0481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ętość ciała możemy określ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733560" y="335268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342900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46483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śli jest to bryła, korzystając ze wzorów na objętość bry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.V=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la sześci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4419720"/>
            <a:ext cx="3733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eśli jest to ciało o nieregularnych kształtach to zawieś ciało na nitce i zanurz je w cylindrze miarowym częściowo wypełnionym wodą. Objętość odczytaj jako różnicę objętości po i przed zanurzeniem ciała. Objętość odczytuj zawsze względem menisku górnego lub zawsze względem menisku dolnego, ustawiając oko na wysokości poziomu cieczy w cylindrz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4419720"/>
            <a:ext cx="20700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miar gęstości cie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14479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żna zmierzyć areometrem fot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Plik:Aräometer-thermome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762120"/>
            <a:ext cx="447840" cy="5629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6248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t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1905120"/>
            <a:ext cx="403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prostszym wariantem jest (tzw. areometr obciążeniowy) - jest to pusta rurka szklana, której górna wydłużona część zaopatrzona jest w skalę część dolna w postaci bańki wypełniona jest materiałem o dużej gęstości (np. rtęć, śrut itp.), co pozwala na utrzymanie pozycji pionowej przyrządu zanurzonego w ciecz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581280" y="53352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ując pomiaru gęstości cieczy przy pomocy areometru należy wlać do menzurki pomiarowej badany płyn w ilości pozwalającej na swobodne zanurzenie przyrządu. Następnie wkładamy areometr i na jego skali odczytujemy wynik. Areometry najczęściej kalibrowane są dla temperatury 20 °C, dlatego badany płyn powinien mieć taką właśnie temperatur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533520"/>
            <a:ext cx="3113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http://pl.wikipedia.org/wiki/Areome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219320"/>
            <a:ext cx="58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ww.fuw.edu.pl/wo/data/prac-fiz-gestosc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762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Źródł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0:57:32Z</dcterms:created>
  <dc:creator>Toshiba</dc:creator>
  <dc:description/>
  <dc:language>en-US</dc:language>
  <cp:lastModifiedBy>Toshiba</cp:lastModifiedBy>
  <dcterms:modified xsi:type="dcterms:W3CDTF">2013-04-25T10:38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