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D018-C317-4D62-8960-93A054C5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F85C-96E7-43D5-A668-E9EDB98F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6016-4B00-4EF6-A807-F3D51C54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93D1-C03C-41FA-AA6F-4168DED5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674-8653-4334-A924-D675E21B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BB27-C394-48F9-9A5C-DDC445FB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6552-997B-46A8-BA1D-EC9B9F3A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938-06D0-44C5-9CAC-1510E415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36B7-1FB4-4EEC-A132-DB6199C0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7AC-BF18-43E5-AC47-5C4ACEE6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D4FE-7BC7-442B-85F8-C784FF5F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BD5-5B4D-434D-ADDC-F29C8FD1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7565-5758-4295-9D80-83083293418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6280" y="1358640"/>
            <a:ext cx="66787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 u="sng">
                <a:solidFill>
                  <a:srgbClr val="003300"/>
                </a:solidFill>
                <a:uFillTx/>
                <a:latin typeface="Century Gothic"/>
              </a:rPr>
              <a:t>BUDOWA ATOM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2" descr="MCj02871310000[1]"/>
          <p:cNvPicPr/>
          <p:nvPr/>
        </p:nvPicPr>
        <p:blipFill>
          <a:blip r:embed="rId1"/>
          <a:stretch/>
        </p:blipFill>
        <p:spPr>
          <a:xfrm>
            <a:off x="4211640" y="2403360"/>
            <a:ext cx="448776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189000"/>
            <a:ext cx="914400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ahoma"/>
                <a:ea typeface="Arial"/>
              </a:rPr>
              <a:t>Liczba atomo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83763"/>
                </a:solidFill>
                <a:latin typeface="Tahoma"/>
                <a:ea typeface="Arial"/>
              </a:rPr>
              <a:t>Atom pierwiastka chemicznego jest elektrycznie obojętny. Liczba protonów jest równa liczbie elektron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Liczba protonów wchodzących w skład jądra atomowego nazywa się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liczbą atomową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i oznacza się symbolem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pl-PL" sz="2800" spc="-1" strike="noStrike">
                <a:solidFill>
                  <a:srgbClr val="ff0000"/>
                </a:solidFill>
                <a:latin typeface="Tahoma"/>
                <a:ea typeface="Arial"/>
              </a:rPr>
              <a:t>Z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83763"/>
                </a:solidFill>
                <a:latin typeface="Tahoma"/>
                <a:ea typeface="Arial"/>
              </a:rPr>
              <a:t>Z</a:t>
            </a:r>
            <a:r>
              <a:rPr b="0" lang="pl-PL" sz="2800" spc="-1" strike="noStrike">
                <a:solidFill>
                  <a:srgbClr val="083763"/>
                </a:solidFill>
                <a:latin typeface="Tahoma"/>
                <a:ea typeface="Arial"/>
              </a:rPr>
              <a:t> = ładunek jądra = liczba protonów =</a:t>
            </a:r>
            <a:br>
              <a:rPr sz="2800"/>
            </a:br>
            <a:r>
              <a:rPr b="0" lang="pl-PL" sz="2800" spc="-1" strike="noStrike">
                <a:solidFill>
                  <a:srgbClr val="083763"/>
                </a:solidFill>
                <a:latin typeface="Tahoma"/>
                <a:ea typeface="Arial"/>
              </a:rPr>
              <a:t> liczba elektron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50920" y="4143240"/>
            <a:ext cx="8424720" cy="234036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Liczba mas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uma protonów i neutronów (nukleonów) jest nazwana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iczbą masową i oznacza się ją symbolem 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A = liczba protonów + liczba neutron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liczba masow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= nukleony = p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+ n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8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liczba atomow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= p+ = e-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611280" y="260280"/>
            <a:ext cx="2952720" cy="398880"/>
          </a:xfrm>
          <a:prstGeom prst="rect">
            <a:avLst/>
          </a:prstGeom>
          <a:solidFill>
            <a:srgbClr val="4f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sumowan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68360" y="907920"/>
            <a:ext cx="7343640" cy="5483520"/>
          </a:xfrm>
          <a:prstGeom prst="rect">
            <a:avLst/>
          </a:prstGeom>
          <a:solidFill>
            <a:srgbClr val="c9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to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układ złożony z jądra atomowego oraz z krążących wokół jądra elektron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t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cząstki elementarne budowy atomu wchodzące w skład jądra atomu mające masę równą 1 u i ładunek elementarny dodat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eutr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cząstki  jądra atomowego elektrycznie obojętne o masie w przybliżeniu równej masie protonu = 1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Elektr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cząstki elementarne poruszające się wokół jądra atomowego, posiadające ładunek elementarny ujemny i masę 1840 razy mniejszą od masy proto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czba atomow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liczba protonów  w jądrze atomow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czba masow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- suma liczby protonów i neutronów w jądrze atomow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ierwiastek chemicz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zbiór atomów o takiej samej liczbie atomow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79280" y="4005360"/>
            <a:ext cx="1413000" cy="1930320"/>
          </a:xfrm>
          <a:prstGeom prst="rect">
            <a:avLst/>
          </a:prstGeom>
          <a:ln w="57240">
            <a:solidFill>
              <a:srgbClr val="06686d"/>
            </a:solidFill>
            <a:miter/>
          </a:ln>
        </p:spPr>
      </p:pic>
      <p:sp>
        <p:nvSpPr>
          <p:cNvPr id="44" name="Text Box 3"/>
          <p:cNvSpPr/>
          <p:nvPr/>
        </p:nvSpPr>
        <p:spPr>
          <a:xfrm>
            <a:off x="0" y="260280"/>
            <a:ext cx="813744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50920" y="260280"/>
            <a:ext cx="8497800" cy="320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eoria atomistyczno-cząsteczkowej budowy materii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ojawiła się w XIX wieku. W 1808 roku John Dalton przedstawił najważniejsze założenia tej teor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603a1"/>
                </a:solidFill>
                <a:latin typeface="Arial"/>
              </a:rPr>
              <a:t>Atomy tego samego pierwiastka chemicznego są identyczne pod względem masy i rozmiar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603a1"/>
                </a:solidFill>
                <a:latin typeface="Arial"/>
              </a:rPr>
              <a:t>Atomy mają kształt kulis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603a1"/>
                </a:solidFill>
                <a:latin typeface="Arial"/>
              </a:rPr>
              <a:t>Atom jest najmniejszą cząstką pierwiastka chemicznego, która posiada wszystkie cechy tego pierwiast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603a1"/>
                </a:solidFill>
                <a:latin typeface="Arial"/>
              </a:rPr>
              <a:t>Pierwiastek chemiczny jest zbiorem takich samych atom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603a1"/>
                </a:solidFill>
                <a:latin typeface="Arial"/>
              </a:rPr>
              <a:t>Atomy łączą się tworząc cząstecz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603a1"/>
                </a:solidFill>
                <a:latin typeface="Arial"/>
              </a:rPr>
              <a:t>Związek chemiczny jest zbiorem takich samych cząstecz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7302600" y="2565360"/>
            <a:ext cx="1841400" cy="1911240"/>
          </a:xfrm>
          <a:prstGeom prst="rect">
            <a:avLst/>
          </a:prstGeom>
          <a:ln w="57240">
            <a:solidFill>
              <a:srgbClr val="06686d"/>
            </a:solidFill>
            <a:miter/>
          </a:ln>
        </p:spPr>
      </p:pic>
      <p:sp>
        <p:nvSpPr>
          <p:cNvPr id="47" name="AutoShape 6"/>
          <p:cNvSpPr/>
          <p:nvPr/>
        </p:nvSpPr>
        <p:spPr>
          <a:xfrm>
            <a:off x="1619280" y="3716280"/>
            <a:ext cx="4246560" cy="2376720"/>
          </a:xfrm>
          <a:prstGeom prst="wedgeEllipseCallout">
            <a:avLst>
              <a:gd name="adj1" fmla="val -52652"/>
              <a:gd name="adj2" fmla="val 33569"/>
            </a:avLst>
          </a:prstGeom>
          <a:solidFill>
            <a:srgbClr val="91c6f7"/>
          </a:solidFill>
          <a:ln w="22320">
            <a:solidFill>
              <a:srgbClr val="066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24000" bIns="36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emokryt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– grecki  filozof, który wprowadził pojęcie atomu. Przedstawił hipotezę, że świat jest zbudowany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 atomów, czyli drobnych, niepodzielnych cząstek                    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  mater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5580000" y="4869000"/>
            <a:ext cx="3564000" cy="1989000"/>
          </a:xfrm>
          <a:prstGeom prst="wedgeEllipseCallout">
            <a:avLst>
              <a:gd name="adj1" fmla="val 33606"/>
              <a:gd name="adj2" fmla="val -62689"/>
            </a:avLst>
          </a:prstGeom>
          <a:solidFill>
            <a:srgbClr val="91c6f7"/>
          </a:solidFill>
          <a:ln w="22320">
            <a:solidFill>
              <a:srgbClr val="066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John Dalton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 – brytyjski nauczyciel chemii, który wprowadził do nowoczesnej chemii hipotezę Demokry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900" spc="-1" strike="noStrike">
                <a:solidFill>
                  <a:srgbClr val="083763"/>
                </a:solidFill>
                <a:latin typeface="Arial"/>
              </a:rPr>
              <a:t>Budowa atom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MCj02410910000[1]"/>
          <p:cNvPicPr/>
          <p:nvPr/>
        </p:nvPicPr>
        <p:blipFill>
          <a:blip r:embed="rId1"/>
          <a:stretch/>
        </p:blipFill>
        <p:spPr>
          <a:xfrm>
            <a:off x="341280" y="414360"/>
            <a:ext cx="1440000" cy="143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2"/>
          <a:stretch/>
        </p:blipFill>
        <p:spPr>
          <a:xfrm>
            <a:off x="709560" y="2475000"/>
            <a:ext cx="7031160" cy="4267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2050920" y="1628640"/>
            <a:ext cx="633744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tom zbudowany jest z jądra w którym znajdują się protony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i neutrony oraz z krążących wokół jądra elektron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179280" y="620640"/>
            <a:ext cx="813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83763"/>
                </a:solidFill>
                <a:latin typeface="Arial"/>
              </a:rPr>
              <a:t>Atom jest najmniejszą ilością pierwiastka zachowującą jego właściwości chemicz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835280" y="2852640"/>
            <a:ext cx="3528720" cy="35290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55" name="Text Box 5"/>
          <p:cNvSpPr/>
          <p:nvPr/>
        </p:nvSpPr>
        <p:spPr>
          <a:xfrm>
            <a:off x="5742000" y="5364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83763"/>
                </a:solidFill>
                <a:latin typeface="Arial"/>
              </a:rPr>
              <a:t>Model ato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 flipH="1">
            <a:off x="3851280" y="3645000"/>
            <a:ext cx="1441440" cy="792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5292720" y="3645000"/>
            <a:ext cx="172728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508720" y="3068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3763"/>
                </a:solidFill>
                <a:latin typeface="Arial"/>
              </a:rPr>
              <a:t>jądro atomu = protony + neutr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>
            <a:off x="4356000" y="4292640"/>
            <a:ext cx="1008000" cy="57636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5364000" y="4292640"/>
            <a:ext cx="172908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5651640" y="393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3763"/>
                </a:solidFill>
                <a:latin typeface="Arial"/>
              </a:rPr>
              <a:t>elektr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6280" y="232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harakterystyka cząstek elementarnych budowy ato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116000" y="2997360"/>
            <a:ext cx="4392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84360" y="3068640"/>
            <a:ext cx="799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211640" y="5950080"/>
            <a:ext cx="289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140360" y="59500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8000" y="1628640"/>
          <a:ext cx="8966160" cy="3856320"/>
        </p:xfrm>
        <a:graphic>
          <a:graphicData uri="http://schemas.openxmlformats.org/drawingml/2006/table">
            <a:tbl>
              <a:tblPr/>
              <a:tblGrid>
                <a:gridCol w="1646280"/>
                <a:gridCol w="2098440"/>
                <a:gridCol w="1943280"/>
                <a:gridCol w="1584360"/>
                <a:gridCol w="1693800"/>
              </a:tblGrid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zary budowy ato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cząst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2ff16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ybliżona m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arny ładunek elektrycz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8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ądro atomo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n</a:t>
                      </a:r>
                      <a:br>
                        <a:rPr sz="1800"/>
                      </a:br>
                      <a:br>
                        <a:rPr sz="1800"/>
                      </a:b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on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, p</a:t>
                      </a:r>
                      <a:r>
                        <a:rPr b="1" lang="pl-P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pl-P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, n</a:t>
                      </a:r>
                      <a:r>
                        <a:rPr b="1" lang="pl-P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pl-P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2ff1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u</a:t>
                      </a:r>
                      <a:br>
                        <a:rPr sz="2800"/>
                      </a:br>
                      <a:br>
                        <a:rPr sz="2800"/>
                      </a:b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br>
                        <a:rPr sz="2800"/>
                      </a:br>
                      <a:br>
                        <a:rPr sz="2800"/>
                      </a:b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58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łoki elektrono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kt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e</a:t>
                      </a:r>
                      <a:r>
                        <a:rPr b="1" lang="pl-P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2ff1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br>
                        <a:rPr sz="2000"/>
                      </a:b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8" name="AutoShape 49"/>
          <p:cNvSpPr/>
          <p:nvPr/>
        </p:nvSpPr>
        <p:spPr>
          <a:xfrm>
            <a:off x="2771640" y="2708280"/>
            <a:ext cx="71640" cy="934920"/>
          </a:xfrm>
          <a:custGeom>
            <a:avLst/>
            <a:gdLst>
              <a:gd name="textAreaLeft" fmla="*/ 0 w 71640"/>
              <a:gd name="textAreaRight" fmla="*/ 25920 w 7164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0"/>
          <p:cNvSpPr/>
          <p:nvPr/>
        </p:nvSpPr>
        <p:spPr>
          <a:xfrm>
            <a:off x="514836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1"/>
          <p:cNvSpPr/>
          <p:nvPr/>
        </p:nvSpPr>
        <p:spPr>
          <a:xfrm>
            <a:off x="2771640" y="29908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ukle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57"/>
              <p:cNvSpPr txBox="1"/>
              <p:nvPr/>
            </p:nvSpPr>
            <p:spPr>
              <a:xfrm>
                <a:off x="4716360" y="4292640"/>
                <a:ext cx="8636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Line 185"/>
          <p:cNvSpPr/>
          <p:nvPr/>
        </p:nvSpPr>
        <p:spPr>
          <a:xfrm>
            <a:off x="6156360" y="436572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7"/>
          <p:cNvSpPr/>
          <p:nvPr/>
        </p:nvSpPr>
        <p:spPr>
          <a:xfrm>
            <a:off x="6948360" y="407664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500" spc="-1" strike="noStrike">
                <a:solidFill>
                  <a:srgbClr val="083763"/>
                </a:solidFill>
                <a:latin typeface="Arial"/>
              </a:rPr>
              <a:t>Rozmieszczenie elektronów </a:t>
            </a:r>
            <a:br>
              <a:rPr sz="4500"/>
            </a:br>
            <a:r>
              <a:rPr b="0" lang="pl-PL" sz="4500" spc="-1" strike="noStrike">
                <a:solidFill>
                  <a:srgbClr val="083763"/>
                </a:solidFill>
                <a:latin typeface="Arial"/>
              </a:rPr>
              <a:t>w atomi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79280" y="1557360"/>
            <a:ext cx="8569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okół jądr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oruszają się z ogromną szybkością lżejsze od niego i ujemnie naładowane elektro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Ich ruch daje efekt chmury ładunku ujemnego zwanego powłoką elektronow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185920" y="3968640"/>
            <a:ext cx="3924360" cy="24670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Elektrony walencyj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564000" y="1628640"/>
            <a:ext cx="504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Elektrony powłoki zewnętrznej najsłabiej przyciągane przez jądro są najbardziej ruchliwe. Biorą one udział w reakcjach chemicznych i decydują o właściwościach pierwiastk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68360" y="5013360"/>
            <a:ext cx="7056360" cy="177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Nazywamy je </a:t>
            </a:r>
            <a:r>
              <a:rPr b="1" lang="pl-PL" sz="2800" spc="-1" strike="noStrike" baseline="-25000">
                <a:solidFill>
                  <a:srgbClr val="000000"/>
                </a:solidFill>
                <a:latin typeface="Tahoma"/>
              </a:rPr>
              <a:t>elektronami walencyjnymi, </a:t>
            </a:r>
            <a:br>
              <a:rPr sz="2800"/>
            </a:b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a powłokę na której są rozmieszczone, </a:t>
            </a:r>
            <a:r>
              <a:rPr b="1" lang="pl-PL" sz="2800" spc="-1" strike="noStrike" baseline="-25000">
                <a:solidFill>
                  <a:srgbClr val="000000"/>
                </a:solidFill>
                <a:latin typeface="Tahoma"/>
              </a:rPr>
              <a:t>powłoką walencyjn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765000"/>
            <a:ext cx="17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324000" y="3500280"/>
            <a:ext cx="502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000240" cy="279720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sp>
        <p:nvSpPr>
          <p:cNvPr id="83" name="Line 8"/>
          <p:cNvSpPr/>
          <p:nvPr/>
        </p:nvSpPr>
        <p:spPr>
          <a:xfrm flipH="1" flipV="1">
            <a:off x="1979640" y="3860640"/>
            <a:ext cx="1512720" cy="1224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900" spc="-1" strike="noStrike">
                <a:solidFill>
                  <a:srgbClr val="083763"/>
                </a:solidFill>
                <a:latin typeface="Arial"/>
              </a:rPr>
              <a:t>Powłoki elektronow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68360" y="1916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83763"/>
                </a:solidFill>
                <a:latin typeface="Tahoma"/>
              </a:rPr>
              <a:t>Maksymalna liczba elektronów w danej powłoce wynosi 2n</a:t>
            </a:r>
            <a:r>
              <a:rPr b="0" lang="pl-PL" sz="2400" spc="-1" strike="noStrike" baseline="30000">
                <a:solidFill>
                  <a:srgbClr val="083763"/>
                </a:solidFill>
                <a:latin typeface="Tahoma"/>
              </a:rPr>
              <a:t>2</a:t>
            </a:r>
            <a:r>
              <a:rPr b="0" lang="pl-PL" sz="2400" spc="-1" strike="noStrike">
                <a:solidFill>
                  <a:srgbClr val="083763"/>
                </a:solidFill>
                <a:latin typeface="Tahoma"/>
              </a:rPr>
              <a:t>, gdzie </a:t>
            </a:r>
            <a:r>
              <a:rPr b="0" i="1" lang="pl-PL" sz="2400" spc="-1" strike="noStrike">
                <a:solidFill>
                  <a:srgbClr val="083763"/>
                </a:solidFill>
                <a:latin typeface="Tahoma"/>
              </a:rPr>
              <a:t>n</a:t>
            </a:r>
            <a:r>
              <a:rPr b="0" lang="pl-PL" sz="2400" spc="-1" strike="noStrike">
                <a:solidFill>
                  <a:srgbClr val="083763"/>
                </a:solidFill>
                <a:latin typeface="Tahoma"/>
              </a:rPr>
              <a:t> to numer powło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5280" y="2997360"/>
          <a:ext cx="8497800" cy="3566880"/>
        </p:xfrm>
        <a:graphic>
          <a:graphicData uri="http://schemas.openxmlformats.org/drawingml/2006/table">
            <a:tbl>
              <a:tblPr/>
              <a:tblGrid>
                <a:gridCol w="2743200"/>
                <a:gridCol w="2513160"/>
                <a:gridCol w="3241440"/>
              </a:tblGrid>
              <a:tr h="123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83763"/>
                          </a:solidFill>
                          <a:latin typeface="Arial"/>
                        </a:rPr>
                        <a:t>Numer powłok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83763"/>
                          </a:solidFill>
                          <a:latin typeface="Arial"/>
                        </a:rPr>
                        <a:t>Nazwa powłok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83763"/>
                          </a:solidFill>
                          <a:latin typeface="Arial"/>
                        </a:rPr>
                        <a:t>Maksymalna liczba elektronó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7"/>
          <p:cNvSpPr/>
          <p:nvPr/>
        </p:nvSpPr>
        <p:spPr>
          <a:xfrm>
            <a:off x="1116000" y="4770360"/>
            <a:ext cx="2087640" cy="2087640"/>
          </a:xfrm>
          <a:prstGeom prst="ellipse">
            <a:avLst/>
          </a:prstGeom>
          <a:solidFill>
            <a:srgbClr val="4fffff"/>
          </a:solidFill>
          <a:ln w="5724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826920" y="0"/>
            <a:ext cx="7272360" cy="40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cc0000"/>
                </a:solidFill>
                <a:uFillTx/>
                <a:latin typeface="Arial"/>
              </a:rPr>
              <a:t>Nukle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kładniki jądra atomowego - protony i neutrony noszą nazwę nukleon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cc0000"/>
                </a:solidFill>
                <a:uFillTx/>
                <a:latin typeface="Arial"/>
              </a:rPr>
              <a:t>Proto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83763"/>
                </a:solidFill>
                <a:latin typeface="Arial"/>
              </a:rPr>
              <a:t>są cząstkami o ładunku dodatnim. Wchodzą w skład jąder każdego atomu. Masa protonu jest równa 1 u, a ładunek jest równy + 1 (elementarny ładunek dodat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cc0000"/>
                </a:solidFill>
                <a:uFillTx/>
                <a:latin typeface="Arial"/>
              </a:rPr>
              <a:t>Neutr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3763"/>
                </a:solidFill>
                <a:latin typeface="Arial"/>
              </a:rPr>
              <a:t>Są cząstkami elektrycznie obojętnymi o masie w przybliżeniu równej masie protonu, czyli 1 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"/>
          <p:cNvSpPr/>
          <p:nvPr/>
        </p:nvSpPr>
        <p:spPr>
          <a:xfrm>
            <a:off x="1547640" y="5229360"/>
            <a:ext cx="1152720" cy="1152360"/>
          </a:xfrm>
          <a:prstGeom prst="ellipse">
            <a:avLst/>
          </a:prstGeom>
          <a:solidFill>
            <a:srgbClr val="00ffff"/>
          </a:solidFill>
          <a:ln w="5724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8"/>
          <p:cNvSpPr/>
          <p:nvPr/>
        </p:nvSpPr>
        <p:spPr>
          <a:xfrm>
            <a:off x="1979640" y="5661000"/>
            <a:ext cx="360360" cy="360360"/>
          </a:xfrm>
          <a:prstGeom prst="ellipse">
            <a:avLst/>
          </a:prstGeom>
          <a:solidFill>
            <a:srgbClr val="4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908000" y="566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3132000" y="5589720"/>
            <a:ext cx="144720" cy="144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1619280" y="6093000"/>
            <a:ext cx="144360" cy="144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411280" y="5300640"/>
            <a:ext cx="144720" cy="144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0" y="3933720"/>
            <a:ext cx="2376360" cy="7340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proszczony model atomu litu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0"/>
              <p:cNvSpPr txBox="1"/>
              <p:nvPr/>
            </p:nvSpPr>
            <p:spPr>
              <a:xfrm>
                <a:off x="6372360" y="4292640"/>
                <a:ext cx="187164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L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Text Box 22"/>
          <p:cNvSpPr/>
          <p:nvPr/>
        </p:nvSpPr>
        <p:spPr>
          <a:xfrm>
            <a:off x="3780000" y="436572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83763"/>
                </a:solidFill>
                <a:latin typeface="Arial"/>
              </a:rPr>
              <a:t>Liczba masowa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3"/>
          <p:cNvSpPr/>
          <p:nvPr/>
        </p:nvSpPr>
        <p:spPr>
          <a:xfrm>
            <a:off x="3708360" y="573408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83763"/>
                </a:solidFill>
                <a:latin typeface="Arial"/>
              </a:rPr>
              <a:t>Liczba atomowa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4"/>
          <p:cNvSpPr/>
          <p:nvPr/>
        </p:nvSpPr>
        <p:spPr>
          <a:xfrm>
            <a:off x="5867280" y="4724280"/>
            <a:ext cx="792360" cy="73080"/>
          </a:xfrm>
          <a:prstGeom prst="line">
            <a:avLst/>
          </a:prstGeom>
          <a:ln w="57240">
            <a:solidFill>
              <a:srgbClr val="08376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6"/>
          <p:cNvSpPr/>
          <p:nvPr/>
        </p:nvSpPr>
        <p:spPr>
          <a:xfrm flipV="1">
            <a:off x="6084720" y="5734080"/>
            <a:ext cx="503280" cy="216000"/>
          </a:xfrm>
          <a:prstGeom prst="line">
            <a:avLst/>
          </a:prstGeom>
          <a:ln w="57240">
            <a:solidFill>
              <a:srgbClr val="08376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5:02:45Z</dcterms:created>
  <dc:creator>krystynamarek</dc:creator>
  <dc:description/>
  <cp:keywords/>
  <dc:language>en-US</dc:language>
  <cp:lastModifiedBy>Toshiba</cp:lastModifiedBy>
  <dcterms:modified xsi:type="dcterms:W3CDTF">2013-05-02T08:16:34Z</dcterms:modified>
  <cp:revision>26</cp:revision>
  <dc:subject/>
  <dc:title>Slajd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5</vt:lpwstr>
  </property>
</Properties>
</file>