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429-E266-4410-97D0-2FCB6250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F802-D35E-4AE4-8A3A-0A2FD80D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467-778C-46F3-9292-C66E976A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9284-433D-42DE-BBA2-7C4B4A44F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5AC-F351-489A-8333-FE009B42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5F82-F566-4F7F-810A-0DC1CBD5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DDD8-0B5F-466A-AD1E-276DF0A2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BB8B-DC1F-4311-B7A6-49CE573B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49A2-A092-4D89-8032-8B8EDC38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DF21-991A-4B69-BE7E-60E33C1B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429-25D6-47B9-9DDB-8B3BB4AB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AB8-DF90-46B3-A439-B68B30FD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411D-DE99-4678-B17D-202EDD762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9/99/Ar&#228;ometer-thermometer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l.wikipedia.org/wiki/Plik:Messung-Restzuckergehalt-eines-Bieres-nach-drei-Tagen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886200" y="3200400"/>
            <a:ext cx="2354400" cy="25146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457200" y="137160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zy metale o tej samej objętości mają tę samą masę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57200" y="19810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waż sztabki różnych metali o jednakowych wymiarach. Porównaj wyniki otrzymanych pomiar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09480" y="342900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 zaobserwowałeś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62120" y="586728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e mają taką samą objętość ale inną masę. Właściwość jaka je od siebie różni to gęst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8518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ęstość (ciężar właściwy)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68360" y="1700280"/>
            <a:ext cx="8280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0000"/>
                </a:solidFill>
                <a:latin typeface="Tahoma"/>
              </a:rPr>
              <a:t>d=m/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ęstością nazywamy stosunek masy ciała do objętoś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666880" y="44197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– masa substan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600200" y="35812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dz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819520" y="403848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– gęstość substan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66880" y="487692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 - objęt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79280" y="55897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ędzynarodową jednostką gęstości je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Posługiwać się można także innymi jednostkam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/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/d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7315200" cy="3343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2480" y="53352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świadczeni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523880"/>
            <a:ext cx="6781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mieszano ze sobą 7 cieczy o różnej gęstości i różnej barw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5638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tóra z cieczy ma największą a która najmniejszą gęstość? Odpowiedź uzasadni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miar gęstości ciał stałych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2971800"/>
            <a:ext cx="182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Masę ciała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możemy określić ważąc na wadze np. elektroniczn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599840" y="2209680"/>
            <a:ext cx="1066680" cy="685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86400" y="2209680"/>
            <a:ext cx="990720" cy="8384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5238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Y OKREŚLIĆ GĘSTOŚĆ SUBSTANCJI NALEŻY ZNAĆ MASĘ I OBJĘTOŚĆ SUBSTAN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0481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ętość ciała możemy określi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733560" y="3352680"/>
            <a:ext cx="990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342900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4648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śli jest to bryła, korzystając ze wzorów na objętość bry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.V=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la sześci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4419720"/>
            <a:ext cx="3733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śli jest to ciało o nieregularnych kształtach to zawieś ciało na nitce i zanurz je w cylindrze miarowym częściowo wypełnionym wodą. Objętość odczytaj jako różnicę objętości po i przed zanurzeniem ciała. Objętość odczytuj zawsze względem menisku górnego lub zawsze względem menisku dolnego, ustawiając oko na wysokości poziomu cieczy w cylindrze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4419720"/>
            <a:ext cx="20700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miar gęstości ciec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14479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żna zmierzyć areometrem fot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Plik:Aräometer-thermome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762120"/>
            <a:ext cx="447840" cy="5629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6248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t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190512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jprostszym wariantem jest (tzw. areometr obciążeniowy) - jest to pusta rurka szklana, której górna wydłużona część zaopatrzona jest w skalę część dolna w postaci bańki wypełniona jest materiałem o dużej gęstości (np. rtęć, śrut itp.), co pozwala na utrzymanie pozycji pionowej przyrządu zanurzonego w ciecz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581280" y="53352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onując pomiaru gęstości cieczy przy pomocy areometru należy wlać do menzurki pomiarowej badany płyn w ilości pozwalającej na swobodne zanurzenie przyrządu. Następnie wkładamy areometr i na jego skali odczytujemy wynik. Areometry najczęściej kalibrowane są dla temperatury 20 °C, dlatego badany płyn powinien mieć taką właśnie temperatur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533520"/>
            <a:ext cx="3113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75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http://pl.wikipedia.org/wiki/Areome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1219320"/>
            <a:ext cx="58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ww.fuw.edu.pl/wo/data/prac-fiz-gestosc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762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Źródł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0:57:32Z</dcterms:created>
  <dc:creator>Toshiba</dc:creator>
  <dc:description/>
  <dc:language>en-US</dc:language>
  <cp:lastModifiedBy>Toshiba</cp:lastModifiedBy>
  <dcterms:modified xsi:type="dcterms:W3CDTF">2013-04-25T10:38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